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CB5-146A-4724-A213-B99724B7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DCA-3945-4164-9E16-D518370A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C9C-94C6-4FA9-98A4-2DE3D897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ACD-781F-48EE-A50C-0707930F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91F-52CA-46A4-8C9A-B212D5ED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FA2-6ECB-46A0-AD5C-30B02190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5C2-92B0-44EF-92AD-E5D6DC8B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8CC-C146-42FA-9783-759F3A0F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F43-3A25-40AD-AE25-7F8391F3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3E4-5689-43B8-B0E1-4678538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974-0BFB-4289-9FB9-785E902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D70-11BA-47D0-B39A-EB978DF1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63D-383B-444D-8EAD-468AD99D7D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809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35053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95680" y="30481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25909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22096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14479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25909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0" y="40384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6576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0" y="37339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648320" y="34290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648320" y="32004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43400" y="2133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13716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76720" y="13716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200400" y="1828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76720" y="2133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20040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20040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3526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30481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5909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981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114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0" y="50292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47242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441972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5257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4952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4648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3434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39625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36576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3276720"/>
            <a:ext cx="457200" cy="53316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971800"/>
            <a:ext cx="457200" cy="53352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2743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9320" y="2438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50532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3200400"/>
            <a:ext cx="457200" cy="45720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26668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23623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1055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48006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0400" y="41911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388620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3581280"/>
            <a:ext cx="457200" cy="38124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3276720"/>
            <a:ext cx="457200" cy="380880"/>
          </a:xfrm>
          <a:prstGeom prst="cube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809880"/>
            <a:ext cx="457200" cy="38124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0400" y="2971800"/>
            <a:ext cx="457200" cy="380880"/>
          </a:xfrm>
          <a:prstGeom prst="cube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4:58:13Z</dcterms:created>
  <dc:creator>xyfkwt</dc:creator>
  <dc:description/>
  <dc:language>en-US</dc:language>
  <cp:lastModifiedBy>xyfkwt</cp:lastModifiedBy>
  <dcterms:modified xsi:type="dcterms:W3CDTF">2001-06-21T10:31:06Z</dcterms:modified>
  <cp:revision>3</cp:revision>
  <dc:subject/>
  <dc:title>PowerPoint 演示文稿</dc:title>
</cp:coreProperties>
</file>