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9.jpeg" ContentType="image/jpeg"/>
  <Override PartName="/ppt/media/image3.gif" ContentType="image/gif"/>
  <Override PartName="/ppt/media/image11.wmf" ContentType="image/x-wmf"/>
  <Override PartName="/ppt/media/image12.png" ContentType="image/pn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0EC1-EDDA-4D76-BD54-91FC87EC7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BD1C-3E43-4D98-908E-280443A6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9BB0-0109-4AE2-B22B-A8A9BA881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1DBF-4D5D-4223-A77F-3EE6D75E2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14D7-C8D0-4AA6-AD24-B3A7DD9F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4646-ED1A-4EF3-9069-2F222564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CCBA-A614-42EF-B4DA-076B3AA3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293E-6EAA-4434-AAE1-31F9E0AC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CF31-505A-44E9-A3A7-39B9A75F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1264-E1BA-44F7-8425-B96429EB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2290-82D3-4953-B161-1D229D07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C472-208C-4F74-9745-838242A1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FB9C-E4BF-4FEF-A5FB-E25E0DE027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28436;&#31034;&#25991;&#31295;2.ppt" TargetMode="External"/><Relationship Id="rId2" Type="http://schemas.openxmlformats.org/officeDocument/2006/relationships/image" Target="../media/image7.gif"/><Relationship Id="rId3" Type="http://schemas.openxmlformats.org/officeDocument/2006/relationships/hyperlink" Target="file:///&#28436;&#31034;&#25991;&#31295;2.ppt" TargetMode="External"/><Relationship Id="rId4" Type="http://schemas.openxmlformats.org/officeDocument/2006/relationships/hyperlink" Target="file:///&#28436;&#31034;&#25991;&#31295;2.ppt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8380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WS_102" descr=""/>
          <p:cNvPicPr/>
          <p:nvPr/>
        </p:nvPicPr>
        <p:blipFill>
          <a:blip r:embed="rId1"/>
          <a:stretch/>
        </p:blipFill>
        <p:spPr>
          <a:xfrm>
            <a:off x="2057400" y="2819520"/>
            <a:ext cx="5334120" cy="3684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05120" y="68580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位数加一位数（进位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167652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九年义务教育六年制小学教科书第二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43828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22860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阚文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66680" y="1447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752480" y="2438280"/>
            <a:ext cx="594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30+(5+5)=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24480" y="2438280"/>
            <a:ext cx="175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2" name="A3_019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3352680" cy="3505320"/>
          </a:xfrm>
          <a:prstGeom prst="rect">
            <a:avLst/>
          </a:prstGeom>
          <a:ln w="0">
            <a:noFill/>
          </a:ln>
        </p:spPr>
      </p:pic>
      <p:pic>
        <p:nvPicPr>
          <p:cNvPr id="73" name="A3_019" descr=""/>
          <p:cNvPicPr/>
          <p:nvPr/>
        </p:nvPicPr>
        <p:blipFill>
          <a:blip r:embed="rId3"/>
          <a:stretch/>
        </p:blipFill>
        <p:spPr>
          <a:xfrm>
            <a:off x="6172200" y="0"/>
            <a:ext cx="3352680" cy="3505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 rot="5400000">
            <a:off x="2739240" y="3278160"/>
            <a:ext cx="3048120" cy="1523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学新课了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-533520" y="990720"/>
            <a:ext cx="9372600" cy="5333760"/>
            <a:chOff x="-533520" y="990720"/>
            <a:chExt cx="9372600" cy="5333760"/>
          </a:xfrm>
        </p:grpSpPr>
        <p:pic>
          <p:nvPicPr>
            <p:cNvPr id="76" name="RT_003" descr=""/>
            <p:cNvPicPr/>
            <p:nvPr/>
          </p:nvPicPr>
          <p:blipFill>
            <a:blip r:embed="rId1"/>
            <a:stretch/>
          </p:blipFill>
          <p:spPr>
            <a:xfrm>
              <a:off x="-533520" y="990720"/>
              <a:ext cx="464832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4572000" y="1752480"/>
              <a:ext cx="426708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r>
                <a:rPr b="1" lang="zh-CN" sz="8000" spc="-1" strike="noStrike">
                  <a:solidFill>
                    <a:srgbClr val="000000"/>
                  </a:solidFill>
                  <a:latin typeface="Times New Roman"/>
                </a:rPr>
                <a:t>加</a:t>
              </a:r>
              <a:r>
                <a:rPr b="1" lang="zh-CN" sz="8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8000" spc="-1" strike="noStrike">
                  <a:solidFill>
                    <a:srgbClr val="000000"/>
                  </a:solidFill>
                  <a:latin typeface="Times New Roman"/>
                </a:rPr>
                <a:t>得多少？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-304920" y="762120"/>
            <a:ext cx="7696440" cy="5333760"/>
            <a:chOff x="-304920" y="762120"/>
            <a:chExt cx="7696440" cy="5333760"/>
          </a:xfrm>
        </p:grpSpPr>
        <p:pic>
          <p:nvPicPr>
            <p:cNvPr id="79" name="RT_003" descr=""/>
            <p:cNvPicPr/>
            <p:nvPr/>
          </p:nvPicPr>
          <p:blipFill>
            <a:blip r:embed="rId1"/>
            <a:stretch/>
          </p:blipFill>
          <p:spPr>
            <a:xfrm>
              <a:off x="-304920" y="762120"/>
              <a:ext cx="464832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4267080" y="1447920"/>
              <a:ext cx="312444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r>
                <a:rPr b="1" lang="zh-CN" sz="8000" spc="-1" strike="noStrike">
                  <a:solidFill>
                    <a:srgbClr val="000000"/>
                  </a:solidFill>
                  <a:latin typeface="Times New Roman"/>
                </a:rPr>
                <a:t>加</a:t>
              </a:r>
              <a:r>
                <a:rPr b="1" lang="zh-CN" sz="8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8000" spc="-1" strike="noStrike">
                  <a:solidFill>
                    <a:srgbClr val="000000"/>
                  </a:solidFill>
                  <a:latin typeface="Times New Roman"/>
                </a:rPr>
                <a:t>呢？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19320" y="5257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4952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4648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43434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0384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19320" y="37339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34290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0481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2743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2438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51814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48769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45720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09680" y="42670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962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3657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3352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3048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2743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2438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0040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0040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3581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00400" y="32767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4340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RX_02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0"/>
            <a:ext cx="3047760" cy="640080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2438280" y="-304920"/>
            <a:ext cx="3276720" cy="2819160"/>
            <a:chOff x="2438280" y="-304920"/>
            <a:chExt cx="3276720" cy="2819160"/>
          </a:xfrm>
        </p:grpSpPr>
        <p:sp>
          <p:nvSpPr>
            <p:cNvPr id="115" name=""/>
            <p:cNvSpPr/>
            <p:nvPr/>
          </p:nvSpPr>
          <p:spPr>
            <a:xfrm>
              <a:off x="2438280" y="-304920"/>
              <a:ext cx="3276720" cy="2819160"/>
            </a:xfrm>
            <a:prstGeom prst="cloudCallout">
              <a:avLst>
                <a:gd name="adj1" fmla="val -38810"/>
                <a:gd name="adj2" fmla="val 6999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95480" y="-304920"/>
              <a:ext cx="2743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000000"/>
                  </a:solidFill>
                  <a:latin typeface="Times New Roman"/>
                </a:rPr>
                <a:t>怎么办？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438280" y="-304920"/>
            <a:ext cx="3276720" cy="2819160"/>
            <a:chOff x="2438280" y="-304920"/>
            <a:chExt cx="3276720" cy="2819160"/>
          </a:xfrm>
        </p:grpSpPr>
        <p:sp>
          <p:nvSpPr>
            <p:cNvPr id="118" name=""/>
            <p:cNvSpPr/>
            <p:nvPr/>
          </p:nvSpPr>
          <p:spPr>
            <a:xfrm>
              <a:off x="2438280" y="-304920"/>
              <a:ext cx="3276720" cy="2819160"/>
            </a:xfrm>
            <a:prstGeom prst="cloudCallout">
              <a:avLst>
                <a:gd name="adj1" fmla="val -38810"/>
                <a:gd name="adj2" fmla="val 6999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5480" y="-304920"/>
              <a:ext cx="2743200" cy="13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>
            <a:hlinkClick r:id="rId3"/>
          </p:cNvPr>
          <p:cNvSpPr/>
          <p:nvPr/>
        </p:nvSpPr>
        <p:spPr>
          <a:xfrm>
            <a:off x="3048120" y="3808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我是这样想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4"/>
          </p:cNvPr>
          <p:cNvSpPr/>
          <p:nvPr/>
        </p:nvSpPr>
        <p:spPr>
          <a:xfrm>
            <a:off x="822960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219320" y="5257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4952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4648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43434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40384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36576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335268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30481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27432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19320" y="2514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51814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09680" y="48769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45720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09680" y="42670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09680" y="3962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09680" y="3657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09680" y="3352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3048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2743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2438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040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0040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00400" y="3581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3352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304812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27432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00400" y="2438280"/>
            <a:ext cx="457200" cy="38124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50292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48320" y="4724280"/>
            <a:ext cx="457200" cy="38124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200400" y="0"/>
            <a:ext cx="5638680" cy="6400800"/>
            <a:chOff x="3200400" y="0"/>
            <a:chExt cx="5638680" cy="6400800"/>
          </a:xfrm>
        </p:grpSpPr>
        <p:grpSp>
          <p:nvGrpSpPr>
            <p:cNvPr id="155" name=""/>
            <p:cNvGrpSpPr/>
            <p:nvPr/>
          </p:nvGrpSpPr>
          <p:grpSpPr>
            <a:xfrm>
              <a:off x="3200400" y="0"/>
              <a:ext cx="2895480" cy="2819520"/>
              <a:chOff x="3200400" y="0"/>
              <a:chExt cx="2895480" cy="2819520"/>
            </a:xfrm>
          </p:grpSpPr>
          <p:sp>
            <p:nvSpPr>
              <p:cNvPr id="156" name=""/>
              <p:cNvSpPr/>
              <p:nvPr/>
            </p:nvSpPr>
            <p:spPr>
              <a:xfrm>
                <a:off x="3200400" y="0"/>
                <a:ext cx="2895480" cy="2819520"/>
              </a:xfrm>
              <a:prstGeom prst="wedgeEllipseCallout">
                <a:avLst>
                  <a:gd name="adj1" fmla="val -16939"/>
                  <a:gd name="adj2" fmla="val 62949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657600" y="533520"/>
                <a:ext cx="1600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真不错！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8" name="RX_020" descr=""/>
            <p:cNvPicPr/>
            <p:nvPr/>
          </p:nvPicPr>
          <p:blipFill>
            <a:blip r:embed="rId1"/>
            <a:stretch/>
          </p:blipFill>
          <p:spPr>
            <a:xfrm>
              <a:off x="5791320" y="0"/>
              <a:ext cx="3047760" cy="6400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3200400" y="0"/>
            <a:ext cx="5638680" cy="6553080"/>
            <a:chOff x="3200400" y="0"/>
            <a:chExt cx="5638680" cy="6553080"/>
          </a:xfrm>
        </p:grpSpPr>
        <p:pic>
          <p:nvPicPr>
            <p:cNvPr id="160" name="RX_018" descr=""/>
            <p:cNvPicPr/>
            <p:nvPr/>
          </p:nvPicPr>
          <p:blipFill>
            <a:blip r:embed="rId1"/>
            <a:stretch/>
          </p:blipFill>
          <p:spPr>
            <a:xfrm>
              <a:off x="5410080" y="304920"/>
              <a:ext cx="342900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3200400" y="0"/>
              <a:ext cx="2895480" cy="2819520"/>
            </a:xfrm>
            <a:prstGeom prst="wedgeEllipseCallout">
              <a:avLst>
                <a:gd name="adj1" fmla="val -16939"/>
                <a:gd name="adj2" fmla="val 62949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457200"/>
              <a:ext cx="2286000" cy="192240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想：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加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得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，再算什么？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09480" y="2590920"/>
            <a:ext cx="2895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27+5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56840" y="3429000"/>
            <a:ext cx="1143360" cy="1219320"/>
            <a:chOff x="456840" y="3429000"/>
            <a:chExt cx="1143360" cy="1219320"/>
          </a:xfrm>
        </p:grpSpPr>
        <p:sp>
          <p:nvSpPr>
            <p:cNvPr id="165" name=""/>
            <p:cNvSpPr/>
            <p:nvPr/>
          </p:nvSpPr>
          <p:spPr>
            <a:xfrm flipH="1">
              <a:off x="456840" y="3429000"/>
              <a:ext cx="609480" cy="12193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43000" y="3429000"/>
              <a:ext cx="457200" cy="12193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304920" y="457200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45720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600200" y="3429000"/>
            <a:ext cx="609480" cy="1523880"/>
            <a:chOff x="1600200" y="3429000"/>
            <a:chExt cx="609480" cy="1523880"/>
          </a:xfrm>
        </p:grpSpPr>
        <p:sp>
          <p:nvSpPr>
            <p:cNvPr id="170" name=""/>
            <p:cNvSpPr/>
            <p:nvPr/>
          </p:nvSpPr>
          <p:spPr>
            <a:xfrm>
              <a:off x="2209680" y="3429000"/>
              <a:ext cx="0" cy="1523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00200" y="4952880"/>
              <a:ext cx="609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286000" y="464832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43200" y="25909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M_04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j0174035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1932120" cy="28306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809880" y="1447920"/>
            <a:ext cx="2514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做练习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3520" y="304920"/>
            <a:ext cx="22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填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8120" y="160020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12+9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81480" y="160020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34120" y="236232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666520" y="2362320"/>
            <a:ext cx="1981800" cy="914400"/>
            <a:chOff x="2666520" y="2362320"/>
            <a:chExt cx="1981800" cy="914400"/>
          </a:xfrm>
        </p:grpSpPr>
        <p:sp>
          <p:nvSpPr>
            <p:cNvPr id="182" name=""/>
            <p:cNvSpPr/>
            <p:nvPr/>
          </p:nvSpPr>
          <p:spPr>
            <a:xfrm flipH="1">
              <a:off x="2666520" y="2438280"/>
              <a:ext cx="838440" cy="68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05320" y="2514600"/>
              <a:ext cx="533160" cy="68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38480" y="3200400"/>
              <a:ext cx="609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48320" y="2362320"/>
              <a:ext cx="0" cy="914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1981080" y="3048120"/>
            <a:ext cx="762120" cy="761760"/>
          </a:xfrm>
          <a:prstGeom prst="rect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05320" y="3276720"/>
            <a:ext cx="609480" cy="838080"/>
          </a:xfrm>
          <a:prstGeom prst="rect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8320" y="3124080"/>
            <a:ext cx="609480" cy="838440"/>
          </a:xfrm>
          <a:prstGeom prst="rect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81080" y="31240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81280" y="335268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48320" y="312408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57800" y="152388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33520" y="304920"/>
            <a:ext cx="22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填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8120" y="160020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24+8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4120" y="236232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666520" y="2362320"/>
            <a:ext cx="1981800" cy="914400"/>
            <a:chOff x="2666520" y="2362320"/>
            <a:chExt cx="1981800" cy="914400"/>
          </a:xfrm>
        </p:grpSpPr>
        <p:sp>
          <p:nvSpPr>
            <p:cNvPr id="197" name=""/>
            <p:cNvSpPr/>
            <p:nvPr/>
          </p:nvSpPr>
          <p:spPr>
            <a:xfrm flipH="1">
              <a:off x="2666520" y="2438280"/>
              <a:ext cx="838440" cy="68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505320" y="2514600"/>
              <a:ext cx="533160" cy="68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038480" y="3200400"/>
              <a:ext cx="609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48320" y="2362320"/>
              <a:ext cx="0" cy="914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2057400" y="3048120"/>
            <a:ext cx="762120" cy="761760"/>
          </a:xfrm>
          <a:prstGeom prst="rect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05320" y="3276720"/>
            <a:ext cx="609480" cy="838080"/>
          </a:xfrm>
          <a:prstGeom prst="rect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648320" y="3124080"/>
            <a:ext cx="609480" cy="838440"/>
          </a:xfrm>
          <a:prstGeom prst="rect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30481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32767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32004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81480" y="152388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G00629_" descr=""/>
          <p:cNvPicPr/>
          <p:nvPr/>
        </p:nvPicPr>
        <p:blipFill>
          <a:blip r:embed="rId1"/>
          <a:stretch/>
        </p:blipFill>
        <p:spPr>
          <a:xfrm>
            <a:off x="5943600" y="-228600"/>
            <a:ext cx="3198960" cy="4343400"/>
          </a:xfrm>
          <a:prstGeom prst="rect">
            <a:avLst/>
          </a:prstGeom>
          <a:ln w="0">
            <a:noFill/>
          </a:ln>
        </p:spPr>
      </p:pic>
      <p:pic>
        <p:nvPicPr>
          <p:cNvPr id="49" name="AG00612_" descr=""/>
          <p:cNvPicPr/>
          <p:nvPr/>
        </p:nvPicPr>
        <p:blipFill>
          <a:blip r:embed="rId2"/>
          <a:stretch/>
        </p:blipFill>
        <p:spPr>
          <a:xfrm>
            <a:off x="0" y="1828800"/>
            <a:ext cx="5181480" cy="5029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304920"/>
            <a:ext cx="25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黑体"/>
              </a:rPr>
              <a:t>复习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304920"/>
            <a:ext cx="22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填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8120" y="160020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5+35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4120" y="236232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57400" y="3048120"/>
            <a:ext cx="762120" cy="761760"/>
          </a:xfrm>
          <a:prstGeom prst="rect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276720"/>
            <a:ext cx="609480" cy="838080"/>
          </a:xfrm>
          <a:prstGeom prst="rect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3124080"/>
            <a:ext cx="609480" cy="838440"/>
          </a:xfrm>
          <a:prstGeom prst="rect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133720" y="31240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05320" y="335268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24280" y="3200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257800" y="14479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124080" y="2362320"/>
            <a:ext cx="1524240" cy="990360"/>
            <a:chOff x="3124080" y="2362320"/>
            <a:chExt cx="1524240" cy="990360"/>
          </a:xfrm>
        </p:grpSpPr>
        <p:sp>
          <p:nvSpPr>
            <p:cNvPr id="219" name=""/>
            <p:cNvSpPr/>
            <p:nvPr/>
          </p:nvSpPr>
          <p:spPr>
            <a:xfrm>
              <a:off x="4648320" y="2362320"/>
              <a:ext cx="0" cy="914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3809520" y="2362320"/>
              <a:ext cx="381240" cy="914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3124080" y="2362320"/>
              <a:ext cx="609840" cy="990360"/>
              <a:chOff x="3124080" y="2362320"/>
              <a:chExt cx="609840" cy="990360"/>
            </a:xfrm>
          </p:grpSpPr>
          <p:sp>
            <p:nvSpPr>
              <p:cNvPr id="222" name=""/>
              <p:cNvSpPr/>
              <p:nvPr/>
            </p:nvSpPr>
            <p:spPr>
              <a:xfrm>
                <a:off x="3124080" y="2362320"/>
                <a:ext cx="0" cy="99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124080" y="3276720"/>
                <a:ext cx="6098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33520" y="304920"/>
            <a:ext cx="22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填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48120" y="160020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9+22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3429000"/>
            <a:ext cx="761760" cy="762120"/>
          </a:xfrm>
          <a:prstGeom prst="rect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3276720"/>
            <a:ext cx="609480" cy="838080"/>
          </a:xfrm>
          <a:prstGeom prst="rect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48320" y="3124080"/>
            <a:ext cx="609480" cy="838440"/>
          </a:xfrm>
          <a:prstGeom prst="rect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38280" y="350532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81280" y="327672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48320" y="312408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57800" y="152388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276720" y="2362320"/>
            <a:ext cx="2895480" cy="914400"/>
            <a:chOff x="3276720" y="2362320"/>
            <a:chExt cx="2895480" cy="914400"/>
          </a:xfrm>
        </p:grpSpPr>
        <p:sp>
          <p:nvSpPr>
            <p:cNvPr id="234" name=""/>
            <p:cNvSpPr/>
            <p:nvPr/>
          </p:nvSpPr>
          <p:spPr>
            <a:xfrm>
              <a:off x="5334120" y="2362320"/>
              <a:ext cx="838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3276720" y="2362320"/>
              <a:ext cx="1676160" cy="914400"/>
              <a:chOff x="3276720" y="2362320"/>
              <a:chExt cx="1676160" cy="914400"/>
            </a:xfrm>
          </p:grpSpPr>
          <p:sp>
            <p:nvSpPr>
              <p:cNvPr id="236" name=""/>
              <p:cNvSpPr/>
              <p:nvPr/>
            </p:nvSpPr>
            <p:spPr>
              <a:xfrm>
                <a:off x="4267080" y="2362320"/>
                <a:ext cx="685800" cy="6858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3886200" y="2438280"/>
                <a:ext cx="380880" cy="838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3276720" y="2438280"/>
                <a:ext cx="685800" cy="838440"/>
                <a:chOff x="3276720" y="2438280"/>
                <a:chExt cx="685800" cy="83844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3276720" y="2438280"/>
                  <a:ext cx="0" cy="8384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276720" y="3276720"/>
                  <a:ext cx="68580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80880" y="3808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看图填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3657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505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914400" y="3505320"/>
            <a:ext cx="6172200" cy="304560"/>
            <a:chOff x="914400" y="3505320"/>
            <a:chExt cx="6172200" cy="304560"/>
          </a:xfrm>
        </p:grpSpPr>
        <p:sp>
          <p:nvSpPr>
            <p:cNvPr id="245" name=""/>
            <p:cNvSpPr/>
            <p:nvPr/>
          </p:nvSpPr>
          <p:spPr>
            <a:xfrm>
              <a:off x="914400" y="3809880"/>
              <a:ext cx="6172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914400" y="3581280"/>
              <a:ext cx="0" cy="228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066680" y="36572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19320" y="36572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71600" y="36572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238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676520" y="36572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28800" y="36572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81080" y="36572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33720" y="36572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86000" y="36572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438280" y="3505320"/>
              <a:ext cx="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590920" y="36572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743200" y="36572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95480" y="36572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48120" y="36572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040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352680" y="36572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505320" y="36572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57600" y="36572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09880" y="36572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038480" y="3505320"/>
              <a:ext cx="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91120" y="36572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43400" y="36572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95680" y="36572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48320" y="36572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800600" y="358128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952880" y="36572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105520" y="36572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257800" y="36572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10080" y="36572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62720" y="3505320"/>
              <a:ext cx="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791320" y="36572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43600" y="36572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095880" y="36572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48520" y="36572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838080" y="3657600"/>
            <a:ext cx="5029200" cy="581400"/>
            <a:chOff x="838080" y="3657600"/>
            <a:chExt cx="5029200" cy="581400"/>
          </a:xfrm>
        </p:grpSpPr>
        <p:sp>
          <p:nvSpPr>
            <p:cNvPr id="282" name=""/>
            <p:cNvSpPr/>
            <p:nvPr/>
          </p:nvSpPr>
          <p:spPr>
            <a:xfrm>
              <a:off x="838080" y="36576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133720" y="37339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09880" y="3733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57800" y="37339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86" name=""/>
          <p:cNvCxnSpPr>
            <a:stCxn id="282" idx="0"/>
            <a:endCxn id="274" idx="0"/>
          </p:cNvCxnSpPr>
          <p:nvPr/>
        </p:nvCxnSpPr>
        <p:spPr>
          <a:xfrm flipH="1" rot="16200000">
            <a:off x="3142440" y="1543680"/>
            <a:ext cx="2160" cy="42296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57240">
            <a:solidFill>
              <a:srgbClr val="ff0066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4" idx="0"/>
            <a:endCxn id="278" idx="0"/>
          </p:cNvCxnSpPr>
          <p:nvPr/>
        </p:nvCxnSpPr>
        <p:spPr>
          <a:xfrm flipH="1" rot="16200000">
            <a:off x="5599800" y="3315240"/>
            <a:ext cx="2160" cy="68652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57240">
            <a:solidFill>
              <a:srgbClr val="ff0066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1752480" y="46483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      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　　     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45720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449568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629400" y="44956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457200" y="2209680"/>
            <a:ext cx="1600200" cy="3124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3520" y="24382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3+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3520" y="304812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8+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373392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44+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449568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76+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209680"/>
            <a:ext cx="762120" cy="3124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23623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29718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19520" y="365760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19520" y="441972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05520" y="2286000"/>
            <a:ext cx="1447560" cy="2971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467480" y="2286000"/>
            <a:ext cx="685800" cy="3048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304920"/>
            <a:ext cx="243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连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181480" y="2438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5+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81480" y="31240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42+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81480" y="388620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9+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57800" y="464832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46+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467480" y="23623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467480" y="30481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467480" y="39625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67480" y="47242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52480" y="2666880"/>
            <a:ext cx="1067040" cy="60984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1600200" y="2666520"/>
            <a:ext cx="1371600" cy="76212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00200" y="4114800"/>
            <a:ext cx="1295280" cy="53352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752480" y="4114440"/>
            <a:ext cx="1447920" cy="76212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324480" y="2666880"/>
            <a:ext cx="1295640" cy="60984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324480" y="3505320"/>
            <a:ext cx="1371600" cy="76176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6248520" y="2895120"/>
            <a:ext cx="1447560" cy="121932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553080" y="5029200"/>
            <a:ext cx="106704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685800" y="762120"/>
            <a:ext cx="220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口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362320" y="2133720"/>
            <a:ext cx="464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15+5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95680" y="213372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762120"/>
            <a:ext cx="220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口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2362320" y="2133720"/>
            <a:ext cx="464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46+6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nextslide"/>
          </p:cNvPr>
          <p:cNvSpPr/>
          <p:nvPr/>
        </p:nvSpPr>
        <p:spPr>
          <a:xfrm>
            <a:off x="4419720" y="213372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685800" y="762120"/>
            <a:ext cx="220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口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362320" y="2133720"/>
            <a:ext cx="464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59+9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0" y="22096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762120"/>
            <a:ext cx="220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口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62320" y="2133720"/>
            <a:ext cx="464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39+5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95680" y="22860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0" y="220968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85800" y="762120"/>
            <a:ext cx="220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口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62320" y="2133720"/>
            <a:ext cx="464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6+54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648320" y="213372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685800" y="762120"/>
            <a:ext cx="220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口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362320" y="2133720"/>
            <a:ext cx="464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8+48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724280" y="22096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8120" y="2133720"/>
            <a:ext cx="259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7+9=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15238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447920"/>
            <a:ext cx="2743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2057400"/>
            <a:ext cx="182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85800" y="762120"/>
            <a:ext cx="220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口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362320" y="2133720"/>
            <a:ext cx="464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63+9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0" y="20574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685800" y="762120"/>
            <a:ext cx="220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口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362320" y="2133720"/>
            <a:ext cx="464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45+7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0" y="198108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CO011" descr=""/>
          <p:cNvPicPr/>
          <p:nvPr/>
        </p:nvPicPr>
        <p:blipFill>
          <a:blip r:embed="rId1"/>
          <a:stretch/>
        </p:blipFill>
        <p:spPr>
          <a:xfrm>
            <a:off x="3962520" y="1447920"/>
            <a:ext cx="4367160" cy="48765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 rot="20320200">
            <a:off x="457200" y="457200"/>
            <a:ext cx="4044960" cy="23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文鼎中特广告体"/>
              </a:rPr>
              <a:t>真聪明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文鼎中特广告体"/>
              </a:rPr>
              <a:t>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文鼎中特广告体"/>
              <a:ea typeface="文鼎中特广告体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438280" y="2438280"/>
            <a:ext cx="358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10000"/>
                </a:solidFill>
                <a:latin typeface="Times New Roman"/>
              </a:rPr>
              <a:t>8+4=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2438280"/>
            <a:ext cx="144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971800" y="2514600"/>
            <a:ext cx="25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3+8=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5880" y="13716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2514600"/>
            <a:ext cx="14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11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438280" y="2666880"/>
            <a:ext cx="358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20+15=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19920" y="2590920"/>
            <a:ext cx="190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133720" y="2514600"/>
            <a:ext cx="358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16+50=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47080" y="1752480"/>
            <a:ext cx="77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2514600"/>
            <a:ext cx="222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6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09680" y="2362320"/>
            <a:ext cx="358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50+20=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38680" y="236232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00200" y="228600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20+(7+5)=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2286000"/>
            <a:ext cx="129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5T14:44:05Z</dcterms:created>
  <dc:creator>阚文婷</dc:creator>
  <dc:description/>
  <dc:language>en-US</dc:language>
  <cp:lastModifiedBy>xyfkwt</cp:lastModifiedBy>
  <dcterms:modified xsi:type="dcterms:W3CDTF">2001-06-25T12:47:12Z</dcterms:modified>
  <cp:revision>27</cp:revision>
  <dc:subject/>
  <dc:title>两位数加一位数（进位）</dc:title>
</cp:coreProperties>
</file>