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79B2-8E28-4261-9BA4-727361AC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F84-D136-4FD8-BC8E-34E936E7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C1FCE-52DB-4839-A952-0C4780A9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7C8E8-9F56-400D-8E28-DD7FEDF0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21433-FEED-4C38-BF8E-A7AF9434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3B158-861C-44B6-9047-7CC52403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11F50-E1F1-430D-9236-CC869104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5D92D-C4CE-4983-93F3-72E3D2EC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1FF70-6BDC-4A01-BFEC-014D9E61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41863-2BDD-4A95-B44B-29090316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5E3A7-B169-4622-B8FD-09E3E734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799B5-6CCA-4E66-A5A4-53CD658A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0D2-6D4F-460E-A6AD-BA967D97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AEC44-B099-44C5-B886-37B8D8C8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EFDF0-BCFD-486B-A88B-66CC0FD6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24558-9E1E-42DF-A151-046002F8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449D9-F922-43E1-8FA2-614820BE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B6C2E-7A4F-4F51-A1B0-860F1A4D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57C9F-E237-446A-818E-E340CF90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91358-2DC6-4584-AAB9-6E4242AB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D8935-C2D1-4625-80FC-59427C91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5C294-30FB-4422-9B4B-BAF4F574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A2969-B249-44D5-A5ED-971BA02E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874-1F3B-4008-9DEC-CD3EB087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54BEF-C571-4C8D-92E3-B811CAF2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75AD2-1C45-4EA7-81E1-7D2C9612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5CDFE-141A-48B1-8E5B-E13EA11F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BD519-9751-4FE2-9416-7765E8E9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C7276-8C89-47E2-B71A-2BBD6D1D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A8B1F-5906-499E-9ABA-24CB14BE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CC8C2-1FE9-4D80-B45F-57180F3C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B5869-B90F-4ACB-9890-525303A3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82610-7ABC-4E78-830C-AD540BD8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8B515-D8A3-4B6E-A854-69615241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AF9A-B67F-4606-8A06-75787EA3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A30C6-E8B1-4F69-BDED-FA049651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0BE32-C7B7-4FD9-9422-3423F693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A85FF-2738-4EE2-B637-A2704550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405EA-0745-44FD-9A5C-D8BBD78D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5F9DF-FAA9-4DBD-BA97-BA14136A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AEFCB-AECA-45D1-B31E-F76BDB47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A89F1-88B9-4962-8903-BFE3DED9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24ACE-2132-4E4A-BE46-59CE29EE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DD4C1-D15C-4331-AB08-59F01A8F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F49B9-7AF1-462E-8725-EEE5ECDE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F8C2-9C40-468F-99D9-C160802E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69445-6215-4A4B-B3F0-50EF1D25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27D3F-B88E-4731-A24D-5E6B1A2F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B1B7D-EDE0-4FC5-8B5D-059CE6A7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DC9F6-5C4F-4A68-AC5E-30B799BF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474CB-3A51-4935-8E58-742B26C2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1A29-37DD-4717-AB29-2E680CF9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94DF-4985-4D21-894E-50B5AD0F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8250-146B-4621-AF3A-469F7BC4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9873-D3BB-4D7D-A6C9-2631F66A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D9B1-42AE-4414-89FA-DBC4A8D5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2D2F-952F-4C3E-9BD0-94F9A617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5FEC-6FA4-41EC-AE1F-C341ACF6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8BCA-3CA2-49E4-AB89-F280E491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74B6-F345-426F-857F-EE867C1C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6D7A-D4BA-4F89-9D60-5661514F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3029-1A1C-4009-BE4A-B8A4D271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0DCA3-51F8-4D87-81F9-DF1AB226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E724C-B560-4102-A0C7-8B19583F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35FBD-BBEC-4A46-B941-D2B65858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3379D-C7D2-46EE-846C-BB07866D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D402B-8515-4749-9E2E-5001D9C3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B268-6DD9-43AA-8897-56959495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39169-2544-451C-A8A9-7B43AD81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A47DD-593C-4740-93A0-3E785DFA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45693-6A87-40BD-9075-C57EAF82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85F5F-D59C-4391-97CE-741ACF7A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8339C-E71F-456B-A535-08D42BAF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BFDC4-1B57-434F-A865-10D50834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4FFE3-D933-4B1D-BE50-C87A58DA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10609-482D-4106-AF26-87AAC892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ED463-76B3-44ED-B7A5-E96D6090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BA313-B0F4-4F10-8EAC-FEC2A1B6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14B-F23B-416B-9AD1-595179C1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A5EBB-A2A4-4209-A5E2-C067D538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85673-6F17-4C37-BDC5-D113EA8A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F01FA-1D11-428C-B299-23C14B07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70E77-33C8-4423-9D70-911F6D29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F3DDA-5079-4B4F-B45B-DC995B95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5454C-1CD5-489E-B678-3E1BF726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6B067-E06C-4EAF-8F55-DD4C1231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4C497-7C03-44A1-9254-EC088576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427BD-2C6E-4533-AD8E-934AAB13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80C69-BBC8-4400-A924-3CD35B01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24B6-CFB3-435F-A025-750DD620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D476F-7A2A-44BD-8CA5-E63439AD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C09B5-BBB6-454C-85AF-0FC44DE3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0CE9F-F713-4C9C-AC82-4AC01882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FDBF1-3636-44BA-9EF7-2CBB75F5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8C80A-007A-4AFD-B6E8-DF882C4B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B2EC8-CB42-44FA-896D-4EFBD8B6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BDA26-A9FE-40C8-97BF-E0A15A5A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2C46A-65C6-40CA-A037-22A32094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9721B-B37F-4551-B1D4-7D4A897A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2188D-BD91-4267-9B06-72004A49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E4A-5109-4CCF-89F1-D8091BCC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66808-714E-407D-872F-0D1E24CF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6B1FA-EA53-4AD1-BDAC-3874722C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64FC4-C866-49D3-8056-0DB3AD2D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7C39B-AE45-4C2D-A526-5C268356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1FC42-5AC9-4004-A827-9145B085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09C9E-F669-400A-A56E-09508D18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F00C5-6423-47FD-A1F6-E5B6A657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FF3C0-9926-4C5D-A484-9F51C405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B4DC5-5226-4600-9CC8-7AE3B837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16896-CA28-401A-B299-2C414773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A23-B3C5-4D1E-97C7-0A0CBE27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B4B76-D6ED-43F1-B563-9AC9E1B1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C1139-6833-4001-B904-F9D6322E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6B00B-39EA-4805-978A-5CB648E8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69CDD-928F-456B-8812-A24F21EA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A14A8-C9CF-4439-BB22-42245AA3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0E94E-23A0-4379-8452-9512D839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27BC0-7C78-4F52-BE64-E01A007F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C23E7-0CB7-4B16-A39A-04055240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BAF7D-0AFC-4B17-A175-E408F9C3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2814A-AB90-457E-8B36-8123D636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62A-C631-4059-B86D-A0AD843B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54172-52F3-4F61-BB74-B02AD9EF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47B07-5BA4-4C19-8228-5B06DA2E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16AB6-3837-46D1-B5E3-0D8F989D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584C0-4389-43BA-87C2-E2CA5C20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6A81E-EB53-4DDB-9E31-7ACBC452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9D1DE-C731-43E9-9629-DB01333D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B29B2-FCA3-408A-B3D5-0C458DEA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8771E-9DD3-46B1-96EB-C06104E9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62949-90D1-44BB-B41C-1F962C49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ED760-ED7A-4996-B56A-70A7DA0C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960B-0A94-4892-A9B2-CC7CC757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9B161-8C9F-4211-8FA9-86C813FF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B4B4D-07D5-44E2-A371-3878945F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950E7-CF96-4B87-84B5-925D86DF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1D796-FAB2-4BE8-9CB1-F5144167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CC449-6C6B-4813-A272-8AE8AA71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E34AB-DB74-4C0F-9AC5-FAF0D423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55CF7-02F0-4D61-A441-CFE38DEC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65718-DCAE-4081-ADF9-85130DA3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60F99-AB35-4B29-BCEB-B9E2909C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B8183-5207-4283-BC29-53B06530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5408-485F-48EC-B142-99906A8C8C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187D-2324-4429-BC4A-54A0DB12FB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B2BA-2A2A-4472-AFC7-6633122668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2B95-AA94-4812-84E8-2ACE35DFB6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7067-5558-49C3-AA77-BCE7CCB06E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37C3-2CE8-4EA6-82E7-9176250C5C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D5CF-77EC-45BA-9C7C-0B8E856520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261B-7D65-4268-8B45-809B76DC6C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D03A-ECDA-4DA2-AFC8-CA44269E78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16CE-5300-49D7-98D3-13691EFB43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E618-80B6-408A-BF0E-DB3008A333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A5EB-F653-46E7-84BA-60B7000397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ongen.com/art/twdg/dxzysh/img/td0209b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460760" y="3117600"/>
            <a:ext cx="3803760" cy="9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504444"/>
                </a:solidFill>
                <a:latin typeface="楷体"/>
                <a:ea typeface="楷体"/>
              </a:rPr>
              <a:t>第</a:t>
            </a:r>
            <a:r>
              <a:rPr b="0" lang="zh-CN" sz="7200" spc="-1" strike="noStrike">
                <a:solidFill>
                  <a:srgbClr val="504444"/>
                </a:solidFill>
                <a:latin typeface="楷体"/>
                <a:ea typeface="楷体"/>
              </a:rPr>
              <a:t>10</a:t>
            </a:r>
            <a:r>
              <a:rPr b="0" lang="zh-CN" sz="7200" spc="-1" strike="noStrike">
                <a:solidFill>
                  <a:srgbClr val="504444"/>
                </a:solidFill>
                <a:latin typeface="楷体"/>
                <a:ea typeface="楷体"/>
              </a:rPr>
              <a:t>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1143000" y="9144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用科学记数法表示下列各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361800" y="1905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69600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； 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00000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； 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-5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361800" y="3765600"/>
            <a:ext cx="878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思路分析：科学记数法表示形式为：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a×10</a:t>
            </a:r>
            <a:r>
              <a:rPr b="1" lang="en-US" sz="2800" spc="-1" strike="noStrike" baseline="30000">
                <a:solidFill>
                  <a:srgbClr val="333399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，要看把原数变成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时小数点移动了多少位，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的值与小数点移动的位数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1258920" y="61920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1447920" y="15508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指数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什么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有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1447920" y="2514600"/>
            <a:ext cx="68421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数与原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个数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1616040" y="303516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96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6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1616040" y="3552840"/>
            <a:ext cx="53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10000000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942840" y="4376880"/>
            <a:ext cx="68421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数等于原数的整数位数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852480" y="914400"/>
            <a:ext cx="716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下列用科学记数法表示的数，它的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143000" y="2300400"/>
            <a:ext cx="7086600" cy="582480"/>
            <a:chOff x="1143000" y="2300400"/>
            <a:chExt cx="7086600" cy="582480"/>
          </a:xfrm>
        </p:grpSpPr>
        <p:sp>
          <p:nvSpPr>
            <p:cNvPr id="560" name="Text Box 4"/>
            <p:cNvSpPr/>
            <p:nvPr/>
          </p:nvSpPr>
          <p:spPr>
            <a:xfrm>
              <a:off x="1143000" y="2362320"/>
              <a:ext cx="708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3.8×                    (2)5.007 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1" name="Object 5"/>
                <p:cNvSpPr txBox="1"/>
                <p:nvPr/>
              </p:nvSpPr>
              <p:spPr>
                <a:xfrm>
                  <a:off x="2895480" y="2319480"/>
                  <a:ext cx="68580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2" name="Object 6"/>
                <p:cNvSpPr txBox="1"/>
                <p:nvPr/>
              </p:nvSpPr>
              <p:spPr>
                <a:xfrm>
                  <a:off x="6300720" y="2300400"/>
                  <a:ext cx="65412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3" name="Rectangle 7"/>
          <p:cNvSpPr/>
          <p:nvPr/>
        </p:nvSpPr>
        <p:spPr>
          <a:xfrm>
            <a:off x="852480" y="3630600"/>
            <a:ext cx="76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思路分析：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的值与小数点移动的位数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51032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同学们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能否自己尝试探索出表示大数的简单方法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发挥你的聪明才智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试试看怎么样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1138680" y="3573360"/>
            <a:ext cx="33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 300 000 000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5553360" y="3573360"/>
            <a:ext cx="141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.3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1285560" y="4159080"/>
            <a:ext cx="32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96 000 000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285560" y="4807080"/>
            <a:ext cx="32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 000 000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5435640" y="4149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6.96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5487840" y="5445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.61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9"/>
          <p:cNvSpPr/>
          <p:nvPr/>
        </p:nvSpPr>
        <p:spPr>
          <a:xfrm>
            <a:off x="971640" y="5445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1 000 000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5487840" y="47941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81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１．用科学记数法表示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00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２．一个正常人的平均心跳速率约为每分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一年大约跳多少次？用科学记数法表示这个结果，一个正常人一生心跳次数能达到１亿次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5977080" y="184464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=1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70120" y="184464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=1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3137040" y="184464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=1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1101600" y="39448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70×60×24×365=3.6792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1108080" y="620640"/>
            <a:ext cx="7810560" cy="31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１．请用科学记数法表示下列各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（１）水星的半径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0 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（２）木星的赤道半径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1 400 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（３）地球上的陆地面积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9 000 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395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3449520" y="2855880"/>
            <a:ext cx="17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.4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3257640" y="37958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7.14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043080" y="48560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.49×10</a:t>
            </a:r>
            <a:r>
              <a:rPr b="1" lang="en-US" sz="2800" spc="-1" strike="noStrike" baseline="38000">
                <a:solidFill>
                  <a:srgbClr val="ff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700"/>
                            </p:stCondLst>
                            <p:childTnLst>
                              <p:par>
                                <p:cTn id="3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600"/>
                            </p:stCondLst>
                            <p:childTnLst>
                              <p:par>
                                <p:cTn id="3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3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2700"/>
                            </p:stCondLst>
                            <p:childTnLst>
                              <p:par>
                                <p:cTn id="3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5"/>
          <p:cNvSpPr/>
          <p:nvPr/>
        </p:nvSpPr>
        <p:spPr>
          <a:xfrm>
            <a:off x="277920" y="1414440"/>
            <a:ext cx="88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２．下列用科学记数法表示的数，原来各是什么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１）北京故宫的占地面积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2×1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２）人体中约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红细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３）全球每年大约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77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水从海洋和陆地转化为大气中的水汽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2978280" y="2254320"/>
            <a:ext cx="17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72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2189160" y="3078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5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2013120" y="44956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77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4" descr="照片 003"/>
          <p:cNvPicPr/>
          <p:nvPr/>
        </p:nvPicPr>
        <p:blipFill>
          <a:blip r:embed="rId1"/>
          <a:stretch/>
        </p:blipFill>
        <p:spPr>
          <a:xfrm>
            <a:off x="1206360" y="503280"/>
            <a:ext cx="6873840" cy="2306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7"/>
          <p:cNvSpPr/>
          <p:nvPr/>
        </p:nvSpPr>
        <p:spPr>
          <a:xfrm>
            <a:off x="530280" y="2809800"/>
            <a:ext cx="8292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１）天安门广场大约可以容纳多少位受检阅的官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1415880" y="3249720"/>
            <a:ext cx="28814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.25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468360" y="4149720"/>
            <a:ext cx="5832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4000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.25=176000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952560" y="4782960"/>
            <a:ext cx="36003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=1.76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932040" y="291960"/>
            <a:ext cx="18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b8d8"/>
                </a:solidFill>
                <a:latin typeface="Arial"/>
              </a:rPr>
              <a:t>随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825480" y="1589040"/>
            <a:ext cx="42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堂练习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P64 1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895320" y="304920"/>
            <a:ext cx="20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b8d8"/>
                </a:solidFill>
                <a:latin typeface="Arial"/>
              </a:rPr>
              <a:t>课堂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706320" y="1616040"/>
            <a:ext cx="740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强调什么是科学记数法，以及为什么学习科学记数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突出科学记数法中字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规定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幂指数与原数整数数位数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b8d8"/>
                </a:solidFill>
                <a:latin typeface="Arial"/>
              </a:rPr>
              <a:t>教学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646200" y="1125360"/>
            <a:ext cx="804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识与能力目标：借助学生所熟悉的事物进一步体会大数，并会用科学计数法表示大数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与方法目标：通过收集数据、整理数据、分析数据的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培养学生应用数学的意识和能力；培养学生与人合作，并能与人交流思维的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感态度与价值观要求：培养学生观察、分析、归纳及运算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857160" y="304920"/>
            <a:ext cx="23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b8d8"/>
                </a:solidFill>
                <a:latin typeface="Arial"/>
              </a:rPr>
              <a:t>课后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1182600" y="1762200"/>
            <a:ext cx="68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做题：习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15  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做题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907920" y="306360"/>
            <a:ext cx="189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b8d8"/>
                </a:solidFill>
                <a:latin typeface="Arial"/>
              </a:rPr>
              <a:t>导入新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892080" y="1363680"/>
            <a:ext cx="758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添加学生课前完成‘导学’作业中的典型成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2" descr="21世纪教育网 -- 中国最大型、最专业的中小学教育资源门户网站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422360" y="2027160"/>
            <a:ext cx="2314440" cy="15033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21世纪教育网 -- 中国最大型、最专业的中小学教育资源门户网站"/>
          <p:cNvPicPr/>
          <p:nvPr/>
        </p:nvPicPr>
        <p:blipFill>
          <a:blip r:embed="rId2"/>
          <a:stretch/>
        </p:blipFill>
        <p:spPr>
          <a:xfrm>
            <a:off x="5097600" y="2027160"/>
            <a:ext cx="2070000" cy="160812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6"/>
          <p:cNvSpPr/>
          <p:nvPr/>
        </p:nvSpPr>
        <p:spPr>
          <a:xfrm>
            <a:off x="334800" y="3800520"/>
            <a:ext cx="847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六次人口普查时，中国人口约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370 000 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太阳的半径约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96 000 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光的速度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00000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457200" y="762120"/>
            <a:ext cx="59436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牛郎和织女的故事，大家都耳熟能详，传说每年的七月初七它们俩会见一次面，这是真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3" descr="银河两岸的织女星和牛郎星。图中左下方的那颗亮星就是牛郎星，图中右侧偏中上的那颗亮星就是织女星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3000" y="1219320"/>
            <a:ext cx="2210040" cy="373356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4"/>
          <p:cNvSpPr/>
          <p:nvPr/>
        </p:nvSpPr>
        <p:spPr>
          <a:xfrm>
            <a:off x="457200" y="22003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实，这不过是人们的美好愿望罢了。牛郎星和织女星相距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光年之遥，就算没有银河阻隔，俩人要想见上一面，也只能是在梦中了！他们想打个电话互相问好，这个长途电话单程就得１６年！可见，天空中的牛郎织女两颗星是不可能“相会”的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282600" y="176832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一年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，光的速度为每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11280" y="2637000"/>
            <a:ext cx="8024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5×24 ×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0 ×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00×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15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4"/>
          <p:cNvSpPr/>
          <p:nvPr/>
        </p:nvSpPr>
        <p:spPr>
          <a:xfrm>
            <a:off x="825480" y="4199040"/>
            <a:ext cx="2971800" cy="1523880"/>
          </a:xfrm>
          <a:prstGeom prst="cloudCallout">
            <a:avLst>
              <a:gd name="adj1" fmla="val 52402"/>
              <a:gd name="adj2" fmla="val -79791"/>
            </a:avLst>
          </a:prstGeom>
          <a:solidFill>
            <a:srgbClr val="a7c6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个结果你有何想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5"/>
          <p:cNvSpPr/>
          <p:nvPr/>
        </p:nvSpPr>
        <p:spPr>
          <a:xfrm>
            <a:off x="4746600" y="4199040"/>
            <a:ext cx="3048120" cy="1295280"/>
          </a:xfrm>
          <a:prstGeom prst="cloudCallout">
            <a:avLst>
              <a:gd name="adj1" fmla="val -24532"/>
              <a:gd name="adj2" fmla="val -800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如何表示这个数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1917720" y="446040"/>
            <a:ext cx="47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光年到底有多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755640" y="1338120"/>
            <a:ext cx="7921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填空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    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3600360" y="1305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3250800" y="196056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3930480" y="299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3251160" y="25779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0 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3178080" y="315900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00 0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3251160" y="3868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 000 00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1019160" y="5160960"/>
            <a:ext cx="691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0"/>
          <p:cNvSpPr/>
          <p:nvPr/>
        </p:nvSpPr>
        <p:spPr>
          <a:xfrm>
            <a:off x="714240" y="5518080"/>
            <a:ext cx="729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1"/>
          <p:cNvSpPr/>
          <p:nvPr/>
        </p:nvSpPr>
        <p:spPr>
          <a:xfrm>
            <a:off x="641520" y="4913280"/>
            <a:ext cx="729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2"/>
          <p:cNvSpPr/>
          <p:nvPr/>
        </p:nvSpPr>
        <p:spPr>
          <a:xfrm>
            <a:off x="641520" y="4573440"/>
            <a:ext cx="757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点拨：通过我们仔细观察后发现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次幂，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后面就有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个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428760" y="1881360"/>
            <a:ext cx="28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 300 000 000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6207480" y="1881360"/>
            <a:ext cx="16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=1.3×10</a:t>
            </a:r>
            <a:r>
              <a:rPr b="1" lang="en-US" sz="2800" spc="-1" strike="noStrike" baseline="38000">
                <a:solidFill>
                  <a:srgbClr val="ff0066"/>
                </a:solidFill>
                <a:latin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72760" y="3105000"/>
            <a:ext cx="31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10 000 000 00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423360" y="4257720"/>
            <a:ext cx="246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 000 00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5291280" y="4257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3×10</a:t>
            </a:r>
            <a:r>
              <a:rPr b="1" lang="en-US" sz="2800" spc="-1" strike="noStrike" baseline="38000">
                <a:solidFill>
                  <a:srgbClr val="00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未知"/>
          <p:cNvSpPr/>
          <p:nvPr/>
        </p:nvSpPr>
        <p:spPr>
          <a:xfrm rot="300000">
            <a:off x="755640" y="2313000"/>
            <a:ext cx="2055960" cy="34596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682560" y="2673360"/>
            <a:ext cx="304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106200" y="2529000"/>
            <a:ext cx="39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小数点向左移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4068720" y="1736640"/>
            <a:ext cx="20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3132000" y="1881360"/>
            <a:ext cx="34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3×10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2"/>
          <p:cNvGrpSpPr/>
          <p:nvPr/>
        </p:nvGrpSpPr>
        <p:grpSpPr>
          <a:xfrm>
            <a:off x="4282920" y="2384280"/>
            <a:ext cx="2084400" cy="736200"/>
            <a:chOff x="4282920" y="2384280"/>
            <a:chExt cx="2084400" cy="736200"/>
          </a:xfrm>
        </p:grpSpPr>
        <p:sp>
          <p:nvSpPr>
            <p:cNvPr id="530" name="未知"/>
            <p:cNvSpPr/>
            <p:nvPr/>
          </p:nvSpPr>
          <p:spPr>
            <a:xfrm>
              <a:off x="4282920" y="2384280"/>
              <a:ext cx="1796760" cy="215640"/>
            </a:xfrm>
            <a:prstGeom prst="pie">
              <a:avLst/>
            </a:pr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14"/>
            <p:cNvSpPr/>
            <p:nvPr/>
          </p:nvSpPr>
          <p:spPr>
            <a:xfrm>
              <a:off x="4480920" y="2599920"/>
              <a:ext cx="188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有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9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个</a:t>
              </a:r>
              <a:r>
                <a:rPr b="1" lang="en-US" sz="2800" spc="-1" strike="noStrike">
                  <a:solidFill>
                    <a:srgbClr val="cc0000"/>
                  </a:solidFill>
                  <a:latin typeface="宋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 Box 15"/>
          <p:cNvSpPr/>
          <p:nvPr/>
        </p:nvSpPr>
        <p:spPr>
          <a:xfrm>
            <a:off x="3277440" y="3176640"/>
            <a:ext cx="35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6.1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×1000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未知"/>
          <p:cNvSpPr/>
          <p:nvPr/>
        </p:nvSpPr>
        <p:spPr>
          <a:xfrm rot="300000">
            <a:off x="682200" y="3607920"/>
            <a:ext cx="2632320" cy="33516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179280" y="3537000"/>
            <a:ext cx="39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数点向左移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18"/>
          <p:cNvGrpSpPr/>
          <p:nvPr/>
        </p:nvGrpSpPr>
        <p:grpSpPr>
          <a:xfrm>
            <a:off x="4788000" y="3608280"/>
            <a:ext cx="2518920" cy="760680"/>
            <a:chOff x="4788000" y="3608280"/>
            <a:chExt cx="2518920" cy="760680"/>
          </a:xfrm>
        </p:grpSpPr>
        <p:sp>
          <p:nvSpPr>
            <p:cNvPr id="536" name="未知"/>
            <p:cNvSpPr/>
            <p:nvPr/>
          </p:nvSpPr>
          <p:spPr>
            <a:xfrm>
              <a:off x="4788000" y="3608280"/>
              <a:ext cx="2172240" cy="239040"/>
            </a:xfrm>
            <a:prstGeom prst="pie">
              <a:avLst/>
            </a:pr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20"/>
            <p:cNvSpPr/>
            <p:nvPr/>
          </p:nvSpPr>
          <p:spPr>
            <a:xfrm>
              <a:off x="5027040" y="3848400"/>
              <a:ext cx="227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有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1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个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21"/>
          <p:cNvSpPr/>
          <p:nvPr/>
        </p:nvSpPr>
        <p:spPr>
          <a:xfrm>
            <a:off x="7000560" y="317664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6.1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×10</a:t>
            </a:r>
            <a:r>
              <a:rPr b="1" lang="en-US" sz="2800" spc="-1" strike="noStrike" baseline="30000">
                <a:solidFill>
                  <a:srgbClr val="0000ff"/>
                </a:solidFill>
                <a:latin typeface="宋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2"/>
          <p:cNvSpPr/>
          <p:nvPr/>
        </p:nvSpPr>
        <p:spPr>
          <a:xfrm>
            <a:off x="2351880" y="4257720"/>
            <a:ext cx="26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3×1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3"/>
          <p:cNvSpPr/>
          <p:nvPr/>
        </p:nvSpPr>
        <p:spPr>
          <a:xfrm>
            <a:off x="1341360" y="878040"/>
            <a:ext cx="65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我们可以用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幂表示一些大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1743120" y="681840"/>
            <a:ext cx="529092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5×  _______=3 50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 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科学记数法表示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01×_______=301 000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1 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科学记数法表示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1×  _______=8 100 000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 100 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科学记数法表示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3197160" y="482760"/>
            <a:ext cx="25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科学记数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206280" y="1901520"/>
            <a:ext cx="8772480" cy="28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般地，一个大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数可以表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成                         的形式，其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是正整数，这种记数方法叫做科学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数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5"/>
              <p:cNvSpPr txBox="1"/>
              <p:nvPr/>
            </p:nvSpPr>
            <p:spPr>
              <a:xfrm>
                <a:off x="915840" y="2603520"/>
                <a:ext cx="15732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46" name="Rectangle 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7"/>
              <p:cNvSpPr txBox="1"/>
              <p:nvPr/>
            </p:nvSpPr>
            <p:spPr>
              <a:xfrm>
                <a:off x="2873520" y="2755800"/>
                <a:ext cx="22190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8"/>
              <p:cNvSpPr txBox="1"/>
              <p:nvPr/>
            </p:nvSpPr>
            <p:spPr>
              <a:xfrm>
                <a:off x="915840" y="3567240"/>
                <a:ext cx="4302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1:16:14Z</dcterms:created>
  <dc:creator> </dc:creator>
  <dc:description> </dc:description>
  <cp:keywords/>
  <dc:language>en-US</dc:language>
  <cp:lastModifiedBy>Bonny</cp:lastModifiedBy>
  <dcterms:modified xsi:type="dcterms:W3CDTF">2015-11-03T08:26:17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