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0E3-D0CD-443A-B07D-F0F4D498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803-9422-4426-B84B-854D07FA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046-FA08-4D60-8814-28E54FB3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DCE-058B-44BF-969E-B7EC84AA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ADF-5A84-4754-AD85-CCEB4FE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9A1-B95D-45F3-8F18-157321AF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2EE-BBBA-4329-A58E-0C6490C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A77-21E9-4662-86B4-4171AB2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7C8-542A-4C1E-91E9-50A879AC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2B0-2729-4A8F-823A-7C1D16C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BA8-71F0-4E64-AB03-76709F69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E52-4180-403B-9573-F681767F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9C0E-D57A-43DE-85CA-1C129AF629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" y="549360"/>
            <a:ext cx="9144000" cy="5976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0920" y="2708280"/>
            <a:ext cx="2521080" cy="1728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2708280"/>
            <a:ext cx="2520720" cy="1728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44720" y="1413000"/>
            <a:ext cx="7315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14.2</a:t>
            </a: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三角形全等的判定</a:t>
            </a: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(HL)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2138400" y="2492280"/>
            <a:ext cx="5616000" cy="3168720"/>
            <a:chOff x="2138400" y="2492280"/>
            <a:chExt cx="5616000" cy="3168720"/>
          </a:xfrm>
        </p:grpSpPr>
        <p:sp>
          <p:nvSpPr>
            <p:cNvPr id="228" name=""/>
            <p:cNvSpPr/>
            <p:nvPr/>
          </p:nvSpPr>
          <p:spPr>
            <a:xfrm>
              <a:off x="2138400" y="388764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43200" y="368568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4520" y="376740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7680" y="3996720"/>
              <a:ext cx="7502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24080" y="515556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63720" y="249228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400480" y="2697120"/>
            <a:ext cx="4674600" cy="2674440"/>
            <a:chOff x="2400480" y="2697120"/>
            <a:chExt cx="4674600" cy="2674440"/>
          </a:xfrm>
        </p:grpSpPr>
        <p:grpSp>
          <p:nvGrpSpPr>
            <p:cNvPr id="235" name=""/>
            <p:cNvGrpSpPr/>
            <p:nvPr/>
          </p:nvGrpSpPr>
          <p:grpSpPr>
            <a:xfrm>
              <a:off x="2400480" y="2697120"/>
              <a:ext cx="3088080" cy="1339200"/>
              <a:chOff x="2400480" y="2697120"/>
              <a:chExt cx="3088080" cy="13392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2400480" y="2697120"/>
                <a:ext cx="3088080" cy="1339200"/>
                <a:chOff x="2400480" y="2697120"/>
                <a:chExt cx="3088080" cy="1339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488560" y="2697120"/>
                  <a:ext cx="0" cy="133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2400480" y="4036320"/>
                  <a:ext cx="30880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2400480" y="2697120"/>
                  <a:ext cx="3088080" cy="133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208840" y="3791520"/>
                <a:ext cx="255240" cy="222840"/>
                <a:chOff x="5208840" y="3791520"/>
                <a:chExt cx="255240" cy="222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208840" y="3791520"/>
                  <a:ext cx="0" cy="2228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08840" y="379152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3987000" y="4032360"/>
              <a:ext cx="3088080" cy="1339200"/>
              <a:chOff x="3987000" y="4032360"/>
              <a:chExt cx="3088080" cy="13392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3987000" y="4032360"/>
                <a:ext cx="3088080" cy="1339200"/>
                <a:chOff x="3987000" y="4032360"/>
                <a:chExt cx="3088080" cy="1339200"/>
              </a:xfrm>
            </p:grpSpPr>
            <p:sp>
              <p:nvSpPr>
                <p:cNvPr id="245" name=""/>
                <p:cNvSpPr/>
                <p:nvPr/>
              </p:nvSpPr>
              <p:spPr>
                <a:xfrm flipV="1">
                  <a:off x="3987000" y="4032360"/>
                  <a:ext cx="0" cy="133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87000" y="4032360"/>
                  <a:ext cx="30880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3987000" y="4032360"/>
                  <a:ext cx="3088080" cy="1339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011480" y="4054320"/>
                <a:ext cx="255240" cy="222840"/>
                <a:chOff x="4011480" y="4054320"/>
                <a:chExt cx="255240" cy="22284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4266720" y="4054320"/>
                  <a:ext cx="0" cy="2228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4011480" y="427716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1" name=""/>
          <p:cNvSpPr/>
          <p:nvPr/>
        </p:nvSpPr>
        <p:spPr>
          <a:xfrm>
            <a:off x="611280" y="133992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CD, BF⊥AC,DE⊥AC,AE=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995640" y="2708280"/>
            <a:ext cx="1440000" cy="26654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73520" y="4006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280" y="358920"/>
            <a:ext cx="34578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变式训练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55640" y="133992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CD, BF⊥AC,DE⊥AC,AE=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想想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85080" y="4005360"/>
            <a:ext cx="750960" cy="50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71640" y="3073320"/>
            <a:ext cx="7049160" cy="3021120"/>
            <a:chOff x="971640" y="3073320"/>
            <a:chExt cx="7049160" cy="3021120"/>
          </a:xfrm>
        </p:grpSpPr>
        <p:sp>
          <p:nvSpPr>
            <p:cNvPr id="258" name=""/>
            <p:cNvSpPr/>
            <p:nvPr/>
          </p:nvSpPr>
          <p:spPr>
            <a:xfrm>
              <a:off x="5002200" y="5589360"/>
              <a:ext cx="74952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71640" y="4468680"/>
              <a:ext cx="75096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51280" y="4370400"/>
              <a:ext cx="75096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76800" y="3979800"/>
              <a:ext cx="7495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97320" y="3073320"/>
              <a:ext cx="7495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835440" y="3146400"/>
              <a:ext cx="274680" cy="1229400"/>
              <a:chOff x="3835440" y="3146400"/>
              <a:chExt cx="274680" cy="12294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35440" y="4154040"/>
                <a:ext cx="255240" cy="221760"/>
                <a:chOff x="3835440" y="4154040"/>
                <a:chExt cx="255240" cy="2217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835440" y="4154040"/>
                  <a:ext cx="0" cy="221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835440" y="415404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4110120" y="3146400"/>
                <a:ext cx="0" cy="122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203440" y="4362840"/>
              <a:ext cx="274680" cy="1229400"/>
              <a:chOff x="5203440" y="4362840"/>
              <a:chExt cx="274680" cy="12294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5222880" y="4362840"/>
                <a:ext cx="255240" cy="221760"/>
                <a:chOff x="5222880" y="4362840"/>
                <a:chExt cx="255240" cy="22176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478120" y="4362840"/>
                  <a:ext cx="0" cy="221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>
                  <a:off x="5222880" y="458460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 flipV="1">
                <a:off x="5203440" y="4368600"/>
                <a:ext cx="0" cy="122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368960" y="4398840"/>
              <a:ext cx="74916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31000" y="3126600"/>
              <a:ext cx="523440" cy="123336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303920" y="3121200"/>
              <a:ext cx="3367080" cy="1261800"/>
              <a:chOff x="1303920" y="3121200"/>
              <a:chExt cx="3367080" cy="1261800"/>
            </a:xfrm>
          </p:grpSpPr>
          <p:sp>
            <p:nvSpPr>
              <p:cNvPr id="276" name=""/>
              <p:cNvSpPr/>
              <p:nvPr/>
            </p:nvSpPr>
            <p:spPr>
              <a:xfrm flipV="1">
                <a:off x="1320480" y="3121200"/>
                <a:ext cx="2822040" cy="125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1303920" y="4376160"/>
                <a:ext cx="3367080" cy="6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 flipH="1" flipV="1">
              <a:off x="4670640" y="4394880"/>
              <a:ext cx="523440" cy="123336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4653720" y="4371840"/>
              <a:ext cx="3367080" cy="1261800"/>
              <a:chOff x="4653720" y="4371840"/>
              <a:chExt cx="3367080" cy="12618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5182200" y="4377240"/>
                <a:ext cx="2822040" cy="125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4653720" y="4371840"/>
                <a:ext cx="3367080" cy="6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46080" y="358920"/>
            <a:ext cx="34560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变式训练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5076720" cy="33354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91280" y="1916280"/>
            <a:ext cx="3744720" cy="2160360"/>
          </a:xfrm>
          <a:prstGeom prst="irregularSeal2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议一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0920" y="1050840"/>
            <a:ext cx="53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有两个长度相同的滑梯，左边滑梯的高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右边滑梯水平方向的长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等，两个滑梯的倾斜角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F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大小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4267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BC+∠DFE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080" y="142920"/>
            <a:ext cx="3456000" cy="9367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联系实际 综合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76920" cy="28148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648320" y="762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△DE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398920" y="1628640"/>
            <a:ext cx="3745080" cy="968400"/>
            <a:chOff x="5398920" y="1628640"/>
            <a:chExt cx="3745080" cy="968400"/>
          </a:xfrm>
        </p:grpSpPr>
        <p:sp>
          <p:nvSpPr>
            <p:cNvPr id="291" name=""/>
            <p:cNvSpPr/>
            <p:nvPr/>
          </p:nvSpPr>
          <p:spPr>
            <a:xfrm>
              <a:off x="5398920" y="1628640"/>
              <a:ext cx="37450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C=EF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=D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3280" y="1773000"/>
              <a:ext cx="144720" cy="7192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8720 h 719280"/>
                <a:gd name="textAreaBottom" fmla="*/ 70056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853160" y="297180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△ABC≌Rt△DEF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21240" y="3657600"/>
            <a:ext cx="3722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=∠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等三角形对应角相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4724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∵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+∠DFE=90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541008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C+∠DFE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684360" y="620640"/>
            <a:ext cx="6133320" cy="1910160"/>
            <a:chOff x="684360" y="620640"/>
            <a:chExt cx="6133320" cy="1910160"/>
          </a:xfrm>
        </p:grpSpPr>
        <p:sp>
          <p:nvSpPr>
            <p:cNvPr id="298" name=""/>
            <p:cNvSpPr txBox="1"/>
            <p:nvPr/>
          </p:nvSpPr>
          <p:spPr>
            <a:xfrm>
              <a:off x="684360" y="620640"/>
              <a:ext cx="1938600" cy="553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隶书"/>
                </a:rPr>
                <a:t>小结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 rot="21463800">
              <a:off x="1227600" y="1602360"/>
              <a:ext cx="5575680" cy="818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这节课你学到了什么？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971640" y="2637000"/>
            <a:ext cx="748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直角三角形是特殊的三角形，所以不仅有一般三角形的判定全等的方法，而且还有直角三角形特殊的判定方法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--“H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个直角三角形中，由于有直角相等的隐含条件，所以只须找两个条件即可（两个条件中至少有一个条件是一对对应边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0000" y="1990800"/>
            <a:ext cx="7920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课后体会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完判定全等三角形的条件后，你                                                                   有什么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116000" y="112392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课后作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1454040" y="4119480"/>
            <a:ext cx="5997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华文中宋"/>
                <a:ea typeface="华文中宋"/>
              </a:rPr>
              <a:t>P</a:t>
            </a:r>
            <a:r>
              <a:rPr b="1" lang="zh-CN" sz="6000" spc="-1" strike="noStrike" baseline="-25000">
                <a:solidFill>
                  <a:srgbClr val="0000cc"/>
                </a:solidFill>
                <a:latin typeface="华文中宋"/>
                <a:ea typeface="华文中宋"/>
              </a:rPr>
              <a:t>109</a:t>
            </a:r>
            <a:r>
              <a:rPr b="1" lang="zh-CN" sz="6000" spc="-1" strike="noStrike">
                <a:solidFill>
                  <a:srgbClr val="0000cc"/>
                </a:solidFill>
                <a:latin typeface="华文中宋"/>
                <a:ea typeface="华文中宋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华文中宋"/>
                <a:ea typeface="华文中宋"/>
              </a:rPr>
              <a:t>练习 </a:t>
            </a:r>
            <a:r>
              <a:rPr b="1" lang="zh-CN" sz="6000" spc="-1" strike="noStrike">
                <a:solidFill>
                  <a:srgbClr val="0000cc"/>
                </a:solidFill>
                <a:latin typeface="华文中宋"/>
                <a:ea typeface="华文中宋"/>
              </a:rPr>
              <a:t>1,2,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11280" y="1625760"/>
            <a:ext cx="7632720" cy="2990880"/>
            <a:chOff x="611280" y="1625760"/>
            <a:chExt cx="7632720" cy="2990880"/>
          </a:xfrm>
        </p:grpSpPr>
        <p:sp>
          <p:nvSpPr>
            <p:cNvPr id="84" name=""/>
            <p:cNvSpPr/>
            <p:nvPr/>
          </p:nvSpPr>
          <p:spPr>
            <a:xfrm>
              <a:off x="611280" y="1625760"/>
              <a:ext cx="76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如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:△ABC≌△DEF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指出它们的对应角、对应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486160" y="2560320"/>
              <a:ext cx="3287160" cy="2056320"/>
              <a:chOff x="2486160" y="2560320"/>
              <a:chExt cx="3287160" cy="2056320"/>
            </a:xfrm>
          </p:grpSpPr>
          <p:sp>
            <p:nvSpPr>
              <p:cNvPr id="86" name=""/>
              <p:cNvSpPr/>
              <p:nvPr/>
            </p:nvSpPr>
            <p:spPr>
              <a:xfrm>
                <a:off x="2843280" y="2920680"/>
                <a:ext cx="1873080" cy="1297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564000" y="2920680"/>
                <a:ext cx="1873080" cy="12970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65800" y="25603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86160" y="2560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86160" y="41446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49800" y="42177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29080" y="4217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437080" y="41590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755640" y="4724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我们已经学过判定全等三角形的方法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08560" y="2292480"/>
            <a:ext cx="232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——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——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C——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——∠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——∠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B——∠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5372280"/>
            <a:ext cx="77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SS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AS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S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、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AS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3360" y="430200"/>
            <a:ext cx="34560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复习旧知 引入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11280" y="3429000"/>
            <a:ext cx="7921080" cy="2485440"/>
            <a:chOff x="611280" y="3429000"/>
            <a:chExt cx="7921080" cy="2485440"/>
          </a:xfrm>
        </p:grpSpPr>
        <p:sp>
          <p:nvSpPr>
            <p:cNvPr id="99" name=""/>
            <p:cNvSpPr/>
            <p:nvPr/>
          </p:nvSpPr>
          <p:spPr>
            <a:xfrm>
              <a:off x="1046880" y="3818880"/>
              <a:ext cx="3270240" cy="17917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1118880" y="4988880"/>
              <a:ext cx="544320" cy="7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846440" y="4988880"/>
              <a:ext cx="544320" cy="7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2574000" y="4988880"/>
              <a:ext cx="544320" cy="7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4606920" y="3429000"/>
              <a:ext cx="3269520" cy="2179440"/>
              <a:chOff x="4606920" y="3429000"/>
              <a:chExt cx="3269520" cy="2179440"/>
            </a:xfrm>
          </p:grpSpPr>
          <p:sp>
            <p:nvSpPr>
              <p:cNvPr id="104" name=""/>
              <p:cNvSpPr/>
              <p:nvPr/>
            </p:nvSpPr>
            <p:spPr>
              <a:xfrm rot="10800000">
                <a:off x="4606920" y="3817080"/>
                <a:ext cx="3269520" cy="17913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71520" y="3429000"/>
                <a:ext cx="544320" cy="77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96920" y="3429000"/>
                <a:ext cx="544680" cy="77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23040" y="3429000"/>
                <a:ext cx="544320" cy="77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684720" y="342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90920" y="5454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5454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52400" y="537732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2760" y="3818880"/>
              <a:ext cx="57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52400" y="350604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71640" y="1268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如图，舞台背景的形状是两个直角三角形，工作人员想知道这两个直角三角形是否全等，但两个三角形都有一条直角边被花盆遮住无法测量</a:t>
            </a:r>
            <a:r>
              <a:rPr b="1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你能帮他想个办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200" y="403200"/>
            <a:ext cx="3456000" cy="9367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创设情景 引入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116000" y="549360"/>
            <a:ext cx="6551280" cy="1866240"/>
            <a:chOff x="1116000" y="549360"/>
            <a:chExt cx="6551280" cy="1866240"/>
          </a:xfrm>
        </p:grpSpPr>
        <p:sp>
          <p:nvSpPr>
            <p:cNvPr id="117" name=""/>
            <p:cNvSpPr/>
            <p:nvPr/>
          </p:nvSpPr>
          <p:spPr>
            <a:xfrm>
              <a:off x="1476000" y="820080"/>
              <a:ext cx="2704680" cy="12441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1535760" y="1632600"/>
              <a:ext cx="450360" cy="5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2137680" y="1632600"/>
              <a:ext cx="450360" cy="5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739240" y="1632600"/>
              <a:ext cx="450360" cy="54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4420800" y="549360"/>
              <a:ext cx="2704320" cy="1513800"/>
              <a:chOff x="4420800" y="549360"/>
              <a:chExt cx="2704320" cy="1513800"/>
            </a:xfrm>
          </p:grpSpPr>
          <p:sp>
            <p:nvSpPr>
              <p:cNvPr id="122" name=""/>
              <p:cNvSpPr/>
              <p:nvPr/>
            </p:nvSpPr>
            <p:spPr>
              <a:xfrm rot="10800000">
                <a:off x="4420800" y="818640"/>
                <a:ext cx="2704320" cy="12441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84160" y="549360"/>
                <a:ext cx="450360" cy="54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3920" y="549360"/>
                <a:ext cx="450720" cy="54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4400" y="549360"/>
                <a:ext cx="450360" cy="54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1176840" y="549360"/>
              <a:ext cx="3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1880" y="1955880"/>
              <a:ext cx="3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1955880"/>
              <a:ext cx="3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89200" y="190332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60080" y="819000"/>
              <a:ext cx="48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89200" y="60264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5640" y="2492280"/>
            <a:ext cx="7416720" cy="94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方法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直尺量出斜边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B, A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长度，再用量角器量出其中一个锐角（如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∠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 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的大小，若它们对应相等，据根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（       ）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以证明两直角三角形是全等的。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华文中宋"/>
                <a:ea typeface="华文中宋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4437000"/>
            <a:ext cx="748836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方法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用直尺量出不被遮住的直角边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C, A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长度，再用量角器量出其中一个锐角（如∠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∠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的大小，若它们对应相等，据根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（       ）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以证明两直角三角形是全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3284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A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3440" y="5159520"/>
            <a:ext cx="10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11280" y="1484280"/>
            <a:ext cx="7200360" cy="2198160"/>
            <a:chOff x="611280" y="1484280"/>
            <a:chExt cx="7200360" cy="2198160"/>
          </a:xfrm>
        </p:grpSpPr>
        <p:sp>
          <p:nvSpPr>
            <p:cNvPr id="137" name=""/>
            <p:cNvSpPr/>
            <p:nvPr/>
          </p:nvSpPr>
          <p:spPr>
            <a:xfrm>
              <a:off x="1007280" y="1818720"/>
              <a:ext cx="2972520" cy="15375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1072800" y="2823120"/>
              <a:ext cx="495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734120" y="2823120"/>
              <a:ext cx="495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2395440" y="2823120"/>
              <a:ext cx="495000" cy="66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4243680" y="1484280"/>
              <a:ext cx="2972160" cy="1870560"/>
              <a:chOff x="4243680" y="1484280"/>
              <a:chExt cx="2972160" cy="1870560"/>
            </a:xfrm>
          </p:grpSpPr>
          <p:sp>
            <p:nvSpPr>
              <p:cNvPr id="142" name=""/>
              <p:cNvSpPr/>
              <p:nvPr/>
            </p:nvSpPr>
            <p:spPr>
              <a:xfrm rot="10800000">
                <a:off x="4243680" y="1816920"/>
                <a:ext cx="2972160" cy="15375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02440" y="1484280"/>
                <a:ext cx="495000" cy="66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61600" y="1484280"/>
                <a:ext cx="495360" cy="66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1480" y="1484280"/>
                <a:ext cx="495000" cy="66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"/>
            <p:cNvSpPr/>
            <p:nvPr/>
          </p:nvSpPr>
          <p:spPr>
            <a:xfrm>
              <a:off x="678240" y="14842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47120" y="32227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280" y="3222720"/>
              <a:ext cx="3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86040" y="3157920"/>
              <a:ext cx="525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A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47320" y="181764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B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86040" y="1550160"/>
              <a:ext cx="525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中宋"/>
                  <a:ea typeface="华文中宋"/>
                </a:rPr>
                <a:t>C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华文中宋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11280" y="54936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如果他只带了一个卷尺，能完成这个任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3645000"/>
            <a:ext cx="5256360" cy="2592360"/>
          </a:xfrm>
          <a:prstGeom prst="cloudCallout">
            <a:avLst>
              <a:gd name="adj1" fmla="val -14722"/>
              <a:gd name="adj2" fmla="val 22810"/>
            </a:avLst>
          </a:prstGeom>
          <a:solidFill>
            <a:srgbClr val="ffff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他只能测直角边和斜边了，只满足斜边和一条直角边对应相等的两个直角三角形能全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1449360"/>
            <a:ext cx="92901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画一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意画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△AC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使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﹦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再画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△A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﹦∠C</a:t>
            </a:r>
            <a:r>
              <a:rPr b="1" lang="en-US" sz="2400" spc="-1" strike="noStrike" baseline="54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﹦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﹦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你能试着画出来吗？与小组交流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0" y="404640"/>
            <a:ext cx="3456000" cy="93528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动手实践 探索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411280" y="3930480"/>
            <a:ext cx="3643560" cy="2404440"/>
            <a:chOff x="2411280" y="3930480"/>
            <a:chExt cx="3643560" cy="2404440"/>
          </a:xfrm>
        </p:grpSpPr>
        <p:sp>
          <p:nvSpPr>
            <p:cNvPr id="157" name=""/>
            <p:cNvSpPr/>
            <p:nvPr/>
          </p:nvSpPr>
          <p:spPr>
            <a:xfrm>
              <a:off x="2842920" y="4290480"/>
              <a:ext cx="2973600" cy="15375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11280" y="39304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4000" y="5875200"/>
              <a:ext cx="3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11280" y="5730840"/>
              <a:ext cx="33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932360" y="33336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29440" y="21337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4160" y="2495520"/>
            <a:ext cx="86738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=∠C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射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圆心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半径画弧，交射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 baseline="52000">
                <a:solidFill>
                  <a:srgbClr val="000000"/>
                </a:solidFill>
                <a:latin typeface="Arial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所作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2360" y="5230800"/>
            <a:ext cx="8748720" cy="13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把画好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△A′C′B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△A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全等吗？你能发现什么规律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4360" y="333360"/>
            <a:ext cx="3641040" cy="2404440"/>
            <a:chOff x="684360" y="333360"/>
            <a:chExt cx="3641040" cy="2404440"/>
          </a:xfrm>
        </p:grpSpPr>
        <p:grpSp>
          <p:nvGrpSpPr>
            <p:cNvPr id="166" name=""/>
            <p:cNvGrpSpPr/>
            <p:nvPr/>
          </p:nvGrpSpPr>
          <p:grpSpPr>
            <a:xfrm>
              <a:off x="684360" y="333360"/>
              <a:ext cx="3641040" cy="2404440"/>
              <a:chOff x="684360" y="333360"/>
              <a:chExt cx="3641040" cy="2404440"/>
            </a:xfrm>
          </p:grpSpPr>
          <p:sp>
            <p:nvSpPr>
              <p:cNvPr id="167" name=""/>
              <p:cNvSpPr/>
              <p:nvPr/>
            </p:nvSpPr>
            <p:spPr>
              <a:xfrm>
                <a:off x="1116000" y="693360"/>
                <a:ext cx="2971800" cy="153756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4360" y="33336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94920" y="2278080"/>
                <a:ext cx="33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4360" y="2133720"/>
                <a:ext cx="33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063440" y="1772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003640" y="189000"/>
            <a:ext cx="4040280" cy="2189880"/>
            <a:chOff x="5003640" y="189000"/>
            <a:chExt cx="4040280" cy="2189880"/>
          </a:xfrm>
        </p:grpSpPr>
        <p:sp>
          <p:nvSpPr>
            <p:cNvPr id="173" name=""/>
            <p:cNvSpPr/>
            <p:nvPr/>
          </p:nvSpPr>
          <p:spPr>
            <a:xfrm>
              <a:off x="5003640" y="191916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C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36000" y="2132640"/>
              <a:ext cx="338400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14000" y="1616400"/>
              <a:ext cx="5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436000" y="332280"/>
              <a:ext cx="36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37080" y="189000"/>
              <a:ext cx="5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7960" y="1684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8316360" y="18432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740000">
            <a:off x="5289480" y="334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549360"/>
            <a:ext cx="302580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1280" y="620640"/>
            <a:ext cx="8281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直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全等的判定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ff"/>
                </a:solidFill>
                <a:uFillTx/>
                <a:latin typeface="Arial"/>
              </a:rPr>
              <a:t>斜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一条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Arial"/>
              </a:rPr>
              <a:t>直角边分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等的两个直角三角形全等。简记为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斜边、直角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或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35120" y="2492280"/>
            <a:ext cx="7641720" cy="2964240"/>
            <a:chOff x="735120" y="2492280"/>
            <a:chExt cx="7641720" cy="2964240"/>
          </a:xfrm>
        </p:grpSpPr>
        <p:sp>
          <p:nvSpPr>
            <p:cNvPr id="184" name=""/>
            <p:cNvSpPr/>
            <p:nvPr/>
          </p:nvSpPr>
          <p:spPr>
            <a:xfrm>
              <a:off x="735120" y="2492280"/>
              <a:ext cx="764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图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C⊥B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D⊥A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C﹦B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求证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C﹦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5870160" y="3355920"/>
              <a:ext cx="2499480" cy="2100600"/>
              <a:chOff x="5870160" y="3355920"/>
              <a:chExt cx="2499480" cy="21006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870160" y="3355920"/>
                <a:ext cx="2499480" cy="2100600"/>
                <a:chOff x="5870160" y="3355920"/>
                <a:chExt cx="2499480" cy="210060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6130440" y="3706920"/>
                  <a:ext cx="1978560" cy="1749600"/>
                  <a:chOff x="6130440" y="3706920"/>
                  <a:chExt cx="1978560" cy="17496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8902200">
                    <a:off x="6267240" y="4078800"/>
                    <a:ext cx="1704240" cy="100512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12652800">
                    <a:off x="6267240" y="4078440"/>
                    <a:ext cx="1704240" cy="1005480"/>
                  </a:xfrm>
                  <a:prstGeom prst="rtTriangle">
                    <a:avLst/>
                  </a:prstGeom>
                  <a:solidFill>
                    <a:srgbClr val="ffffff">
                      <a:alpha val="92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5870160" y="436104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19720" y="436104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19600" y="33559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455160" y="33559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 flipV="1">
                <a:off x="6118920" y="4008240"/>
                <a:ext cx="96408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611280" y="2924280"/>
            <a:ext cx="4752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证明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⊥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⊥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是直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763640" y="4365720"/>
            <a:ext cx="5788080" cy="862560"/>
            <a:chOff x="1763640" y="4365720"/>
            <a:chExt cx="5788080" cy="862560"/>
          </a:xfrm>
        </p:grpSpPr>
        <p:sp>
          <p:nvSpPr>
            <p:cNvPr id="197" name=""/>
            <p:cNvSpPr/>
            <p:nvPr/>
          </p:nvSpPr>
          <p:spPr>
            <a:xfrm>
              <a:off x="1763640" y="4365720"/>
              <a:ext cx="5788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=BA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=B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8000" y="4437000"/>
              <a:ext cx="223920" cy="638280"/>
            </a:xfrm>
            <a:custGeom>
              <a:avLst/>
              <a:gdLst>
                <a:gd name="textAreaLeft" fmla="*/ 143280 w 223920"/>
                <a:gd name="textAreaRight" fmla="*/ 224280 w 223920"/>
                <a:gd name="textAreaTop" fmla="*/ 16560 h 638280"/>
                <a:gd name="textAreaBottom" fmla="*/ 62172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150920" y="5157720"/>
            <a:ext cx="349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ABC≌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BAD (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HL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∴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﹦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4560" y="390852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 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ABC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 </a:t>
            </a: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BAD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280" y="287280"/>
            <a:ext cx="34578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总结规律 运用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195640" y="2565360"/>
            <a:ext cx="5616000" cy="3168720"/>
            <a:chOff x="2195640" y="2565360"/>
            <a:chExt cx="5616000" cy="3168720"/>
          </a:xfrm>
        </p:grpSpPr>
        <p:sp>
          <p:nvSpPr>
            <p:cNvPr id="203" name=""/>
            <p:cNvSpPr/>
            <p:nvPr/>
          </p:nvSpPr>
          <p:spPr>
            <a:xfrm>
              <a:off x="2195640" y="396072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00440" y="375876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61760" y="384048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34920" y="4069800"/>
              <a:ext cx="7502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81320" y="522864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20960" y="2565360"/>
              <a:ext cx="749880" cy="50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400120" y="2696760"/>
            <a:ext cx="4674600" cy="2674800"/>
            <a:chOff x="2400120" y="2696760"/>
            <a:chExt cx="4674600" cy="2674800"/>
          </a:xfrm>
        </p:grpSpPr>
        <p:grpSp>
          <p:nvGrpSpPr>
            <p:cNvPr id="210" name=""/>
            <p:cNvGrpSpPr/>
            <p:nvPr/>
          </p:nvGrpSpPr>
          <p:grpSpPr>
            <a:xfrm>
              <a:off x="2400120" y="2696760"/>
              <a:ext cx="3088800" cy="1339920"/>
              <a:chOff x="2400120" y="2696760"/>
              <a:chExt cx="3088800" cy="133992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2400120" y="2696760"/>
                <a:ext cx="3088800" cy="1339920"/>
                <a:chOff x="2400120" y="2696760"/>
                <a:chExt cx="3088800" cy="1339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88920" y="2697120"/>
                  <a:ext cx="0" cy="133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400120" y="4036680"/>
                  <a:ext cx="30884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2400480" y="2696760"/>
                  <a:ext cx="3088440" cy="1339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209200" y="3791880"/>
                <a:ext cx="255240" cy="222840"/>
                <a:chOff x="5209200" y="3791880"/>
                <a:chExt cx="255240" cy="2228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209200" y="3791880"/>
                  <a:ext cx="0" cy="2228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09200" y="3791880"/>
                  <a:ext cx="2552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3985920" y="4032360"/>
              <a:ext cx="3088800" cy="1339200"/>
              <a:chOff x="3985920" y="4032360"/>
              <a:chExt cx="3088800" cy="133920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3985920" y="4032360"/>
                <a:ext cx="0" cy="1339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85920" y="4032360"/>
                <a:ext cx="3088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985920" y="4032360"/>
                <a:ext cx="3088800" cy="1339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06800" y="4054680"/>
              <a:ext cx="254880" cy="222120"/>
              <a:chOff x="4006800" y="4054680"/>
              <a:chExt cx="254880" cy="22212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4261680" y="4054680"/>
                <a:ext cx="0" cy="222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06800" y="4276800"/>
                <a:ext cx="2548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611280" y="1268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CD, BF⊥AC,DE⊥AC,AE=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F=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80" y="358920"/>
            <a:ext cx="3456000" cy="9349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02:56:14Z</dcterms:created>
  <dc:creator>微软用户</dc:creator>
  <dc:description/>
  <cp:keywords/>
  <dc:language>en-US</dc:language>
  <cp:lastModifiedBy>User</cp:lastModifiedBy>
  <dcterms:modified xsi:type="dcterms:W3CDTF">2015-09-11T08:09:59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