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308-59D8-4BA6-9164-BDE543AE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7019-7629-43A0-92E3-741399E6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1AC9-FE12-437F-9D3A-4FBE4964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43E-31E9-4F29-BF6F-717EE6EE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253-D8A9-4B4D-9F73-DC659A59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407A-32B8-48CA-B83A-7B0C56D8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F6A-D1CF-4E95-97A3-7101BA1E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004B-DD82-4B12-B11E-D20BC82B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B78-C382-4955-9495-E20AE404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719C-98ED-43AC-AAD5-12A79F26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B2A-5CFD-48E5-842A-2B0A59BF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06F9-8954-4E4D-A0C9-F81FC9D8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F664-822D-4CCB-B35A-C0F6DDC14F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12320" y="119700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99ff"/>
                </a:solidFill>
                <a:latin typeface="Arial"/>
              </a:rPr>
              <a:t>七年级数学湘教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8280" y="3165480"/>
            <a:ext cx="230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99"/>
                </a:solidFill>
                <a:latin typeface="Arial"/>
              </a:rPr>
              <a:t>有理数的乘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1555920"/>
            <a:ext cx="2087640" cy="936360"/>
          </a:xfrm>
          <a:prstGeom prst="rect">
            <a:avLst/>
          </a:prstGeom>
          <a:solidFill>
            <a:srgbClr val="ccec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1268280"/>
            <a:ext cx="2087640" cy="287640"/>
          </a:xfrm>
          <a:prstGeom prst="rect">
            <a:avLst/>
          </a:prstGeom>
          <a:solidFill>
            <a:srgbClr val="66cc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981000"/>
            <a:ext cx="2087640" cy="287280"/>
          </a:xfrm>
          <a:prstGeom prst="rect">
            <a:avLst/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692280"/>
            <a:ext cx="2087640" cy="287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404640"/>
            <a:ext cx="2087640" cy="28764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四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060640"/>
            <a:ext cx="2087640" cy="0"/>
          </a:xfrm>
          <a:prstGeom prst="line">
            <a:avLst/>
          </a:prstGeom>
          <a:ln w="936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276640"/>
            <a:ext cx="2087640" cy="0"/>
          </a:xfrm>
          <a:prstGeom prst="line">
            <a:avLst/>
          </a:prstGeom>
          <a:ln w="936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1843200"/>
            <a:ext cx="2087640" cy="0"/>
          </a:xfrm>
          <a:prstGeom prst="line">
            <a:avLst/>
          </a:prstGeom>
          <a:ln w="936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765000"/>
            <a:ext cx="792000" cy="865440"/>
          </a:xfrm>
          <a:prstGeom prst="upArrow">
            <a:avLst>
              <a:gd name="adj1" fmla="val 39074"/>
              <a:gd name="adj2" fmla="val 68988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1628640"/>
            <a:ext cx="208764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03640" y="1341360"/>
            <a:ext cx="2087640" cy="287280"/>
          </a:xfrm>
          <a:prstGeom prst="rect">
            <a:avLst/>
          </a:prstGeom>
          <a:solidFill>
            <a:srgbClr val="66cc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四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1052640"/>
            <a:ext cx="2087640" cy="287280"/>
          </a:xfrm>
          <a:prstGeom prst="rect">
            <a:avLst/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765000"/>
            <a:ext cx="2087640" cy="287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476280"/>
            <a:ext cx="2087640" cy="2872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2133720"/>
            <a:ext cx="2087640" cy="0"/>
          </a:xfrm>
          <a:prstGeom prst="line">
            <a:avLst/>
          </a:prstGeom>
          <a:ln w="936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03640" y="2349360"/>
            <a:ext cx="2087640" cy="0"/>
          </a:xfrm>
          <a:prstGeom prst="line">
            <a:avLst/>
          </a:prstGeom>
          <a:ln w="936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03640" y="1916280"/>
            <a:ext cx="2087640" cy="0"/>
          </a:xfrm>
          <a:prstGeom prst="line">
            <a:avLst/>
          </a:prstGeom>
          <a:ln w="936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48360" y="549360"/>
            <a:ext cx="792360" cy="1008000"/>
          </a:xfrm>
          <a:prstGeom prst="downArrow">
            <a:avLst>
              <a:gd name="adj1" fmla="val 42685"/>
              <a:gd name="adj2" fmla="val 72494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1371600" cy="495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95640" y="1916280"/>
            <a:ext cx="828720" cy="628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443640" y="1916280"/>
            <a:ext cx="828720" cy="628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547640" y="1989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5796000" y="20606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9280" y="2781360"/>
            <a:ext cx="896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甲水库的水位每天升高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厘米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乙水库的水位每天下降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厘米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,4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天后甲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乙水库的水位的总变化量各是多少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03480" y="-36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835280" y="189000"/>
            <a:ext cx="5616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议一议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"/>
          <p:cNvSpPr/>
          <p:nvPr/>
        </p:nvSpPr>
        <p:spPr>
          <a:xfrm>
            <a:off x="1274400" y="1214280"/>
            <a:ext cx="217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-3)×4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-3)×3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-3)×2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-3)×1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-3)×0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4520" y="1254240"/>
            <a:ext cx="1060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27160" y="47894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6160" y="4876920"/>
            <a:ext cx="30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一个因数减小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时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积怎样变化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00200" y="152280"/>
            <a:ext cx="561672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6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猜一猜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7" name=""/>
          <p:cNvSpPr/>
          <p:nvPr/>
        </p:nvSpPr>
        <p:spPr>
          <a:xfrm>
            <a:off x="5086080" y="1219320"/>
            <a:ext cx="329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-3)×(-1)=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-3)×(-2)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-3)×(-3)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-3)×(-4)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001000" y="1219320"/>
            <a:ext cx="86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4419720"/>
            <a:ext cx="5051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观察上述算式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你能总结出有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数的乘法法则吗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26920" y="476280"/>
            <a:ext cx="66978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有理数乘法</a:t>
            </a: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(multiplication)</a:t>
            </a: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法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484280"/>
            <a:ext cx="7704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两数相乘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同号得正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异号得负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绝对值相乘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任何数与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相乘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积仍为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0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749680" y="3108240"/>
          <a:ext cx="3644640" cy="641520"/>
        </p:xfrm>
        <a:graphic>
          <a:graphicData uri="http://schemas.openxmlformats.org/drawingml/2006/table">
            <a:tbl>
              <a:tblPr/>
              <a:tblGrid>
                <a:gridCol w="3231720"/>
                <a:gridCol w="4129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4000" y="5300640"/>
            <a:ext cx="83534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11720" y="-6480"/>
            <a:ext cx="8553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(-4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×5                (2)   (-5)×(-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(3 )  (-     )×(-     )      (4)  (-3)×(-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666880" y="1523880"/>
                <a:ext cx="648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114800" y="1523880"/>
                <a:ext cx="64764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153280" y="1600200"/>
                <a:ext cx="571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1219320" y="3429000"/>
            <a:ext cx="721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乘积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两个有理数</a:t>
            </a:r>
            <a:r>
              <a:rPr b="0" lang="zh-CN" sz="4000" spc="-1" strike="noStrike">
                <a:solidFill>
                  <a:srgbClr val="99cc00"/>
                </a:solidFill>
                <a:latin typeface="Arial"/>
              </a:rPr>
              <a:t>互为倒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例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-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,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-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733920" y="3962520"/>
                <a:ext cx="4953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800600" y="3962520"/>
                <a:ext cx="4953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095880" y="4038480"/>
                <a:ext cx="4194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79080" y="325440"/>
            <a:ext cx="6093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填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Arial"/>
              </a:rPr>
              <a:t>Х2Х3Х4=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Arial"/>
              </a:rPr>
              <a:t>(-1)Х2Х3Х4=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Arial"/>
              </a:rPr>
              <a:t>(-1)Х(-2)Х3Х4=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Arial"/>
              </a:rPr>
              <a:t>(-1)Х(-2)Х(-3)Х4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Arial"/>
              </a:rPr>
              <a:t>(-1)Х(-2)Х(-3)Х(-4)=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84480" y="4572000"/>
            <a:ext cx="495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观察上述算式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你发现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个有理数相乘时硧定积的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号的方法吗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429000" y="228600"/>
            <a:ext cx="18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试一试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1439640" y="1798560"/>
            <a:ext cx="5153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计算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(-4)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Arial"/>
              </a:rPr>
              <a:t>×5×(-0.25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Arial"/>
              </a:rPr>
              <a:t>(-   )×(-   )×(-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048120" y="3200400"/>
                <a:ext cx="49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95680" y="3276720"/>
                <a:ext cx="4953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429000" y="457200"/>
            <a:ext cx="1828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结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0" name=""/>
          <p:cNvSpPr/>
          <p:nvPr/>
        </p:nvSpPr>
        <p:spPr>
          <a:xfrm>
            <a:off x="2478960" y="2103480"/>
            <a:ext cx="4677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通过本节课的学习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你有哪些收获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还有什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疑惑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49840" y="22366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</a:rPr>
              <a:t>再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13:14:56Z</dcterms:created>
  <dc:creator>zn</dc:creator>
  <dc:description/>
  <dc:language>en-US</dc:language>
  <cp:lastModifiedBy>世纪星图-虫媒花店</cp:lastModifiedBy>
  <dcterms:modified xsi:type="dcterms:W3CDTF">2006-10-03T16:41:52Z</dcterms:modified>
  <cp:revision>19</cp:revision>
  <dc:subject/>
  <dc:title>幻灯片 1</dc:title>
</cp:coreProperties>
</file>