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move the slide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EF46-445F-4B49-8815-E41EF09D74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数学网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数学网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E39E7-DD4F-44B0-BD52-A29CF049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E7578-AF69-456A-B09A-F9EEEAE6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D47BC-0C5D-4B47-A32E-EF132275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E311C-C040-4045-B46F-764F88CE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10CC7-0EEF-4F7F-9381-E63883D0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2D95A-8472-40FC-BCED-A124BFDB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AF4B8-998B-41A7-9B36-5B7C1E48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54644-FFC4-498A-8EF8-758B8FAE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AA595-50E4-473B-B6FF-1F9C1FA1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7B34C-E9BE-47E0-BA43-281A385B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8A1F9-1566-4921-976B-0F551875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7037F-E8CE-4758-968D-AE0F4386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6209A-75B3-4744-8AF9-A38F9822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887BA-B45A-474E-AC50-73F75E4A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061AD-18DB-44FE-9021-94A7CC9F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3A5BD-426A-4F22-B39F-B2B2FF73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373FA-01E6-472C-89CA-E8AE2E94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D4889-323E-4C79-B00E-8B46690E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2C20C-04C1-4D22-B421-5C67974D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A7B61-85E5-46DC-A24B-5EBC0164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5DF28-5744-4E14-86DF-A1584FE6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693B0-7D13-47A7-BE67-5379EC9B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7AD9F-1DCA-4F22-8188-5E34CC41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B2E59-329A-4503-BD4D-E9965D7C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5247B-CFBC-4E5A-A9B3-6F54E37A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47288-B62F-4A57-9E6D-0ECAA1A7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58F6C-CC65-416F-A663-EDFCD1C1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DADC9-AC3C-4A71-A83F-88F7D260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A57AF-653B-49EC-9334-CCBBE90E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D6737-0C0E-409E-87E9-6C0B8ADD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346B-BD19-4A0D-B460-3EAD637E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99ECC-D8AB-46D4-8909-CF4202EB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C702F-8351-4297-A712-8FB68C3F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1C73B-0CD7-4591-8701-B27B78DA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35B22-C2EB-4F81-BF84-B7249E57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5C315-4EBC-4C4A-8238-CA994F8A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6AB4C-0216-4ED4-9D92-29440CA3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49F1F-200D-426B-BAE7-C5242651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F8024-F38F-49A8-BC7A-2CC3222B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34AD2-7F82-4BF5-A4BB-9F240531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D5AD4-B5AB-4E32-89A7-DB9C66C3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62E-504C-498C-A4B3-710308FF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662BC-DB55-4A3E-94AF-C00E028E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0F436-744F-4B87-A523-AD84A9BD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234C8-B2EF-4ABD-BE1E-156F6A81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CE55E-14C6-43A3-A1F9-4C0A4C7B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91121-B815-4730-94B4-CDC5A506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3C9DB-2C8F-4A76-892A-E24939CE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22A66-D3C9-477E-B99A-4CD65C17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85D49-45CE-480F-8DAC-C1A752D7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A8992-81F7-493E-B8F5-119458D6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B9C4D-4BC7-45B1-AA43-2D64FB92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684-CE58-4F3D-879D-CA952D08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02D4C-C28A-430D-86B7-76D10056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1BB8A-D6B8-4048-AC49-E3CAC29A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DC3DF-3953-4BD4-83C3-D0883490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B3585-F1DE-4EB6-A182-7773DEF4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E1D20-EEC9-45DC-A5FA-1959EED2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30062-AA39-4734-96DA-6ACCF9AF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9F65E-4F48-40E5-95B6-F3897AFF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B0BC-5EB7-4A9A-BEF2-0D042BF0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502-3FCF-419A-88E9-7FA6FB8C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117-A981-4029-856E-D5A5B591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C40E-5437-49E9-B6E8-C7813403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F165-1357-4021-82DC-4251D504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9D4-A075-4598-9597-1695DF03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EFF-342A-4DE2-A26A-FC7731D9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EAA-A91E-4076-853A-138A894F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5FC-DA15-4236-8159-68B8B416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18C8-A269-4B6C-83DA-BCBDEDC6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724A-1BEE-4C5D-99CF-2988C169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0739-E8B6-4BAD-B354-0C34FB3E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9116-45AC-4EF1-8215-670982FF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105C-C3DD-4614-9A20-90DDB783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FD24-31D2-4D19-B778-DAB3BFCC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549C-ABF1-4976-BACD-18420D41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ED20-8467-4B31-90C8-1E2987A6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3914-608F-43C6-91F7-D0790B37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F515-04A8-458B-A312-A6B1EBE3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37B9-E3CB-4A64-898C-A353FB82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EF3E-7C7C-407D-AB5C-1B6E79C6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BC6FC-7808-465F-9C2A-BDB05979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28F78-28BB-4252-BCCF-A19FA071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7643D-18B7-4ABC-AD9F-B601F1AA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76628-387F-483F-B0E6-E2AFDDEC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70CEC-6BDF-4273-B7C8-94240E8F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9EFCB-426A-49E1-8BAC-A08E7262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A74C3-644B-4E33-8836-5122A45A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E7B5-B09E-43FD-A933-369CF7AA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20596-C916-4F6A-A973-197C2BCD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4B848-8AB3-4AE6-B4A6-0906EE57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0E109-A579-442E-88BF-C516FD48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263DD-97D1-455A-B827-48228F69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95182-A7B1-43F0-937E-15421B85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89310-0BFC-4167-A40D-B43B387A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ACB0A-16FD-44FD-9067-993597CD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555A3-F45B-454F-8D0C-BD2EAD33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00E4C-740A-4BD3-B2D3-B142B1D3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1CB48-89CD-479C-9AFE-1F456140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12064-B4B1-455A-B0FB-735569A3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06A5E-D6B8-4D0E-9780-D4AB7F5A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AAA1D-9815-4E16-A326-67541EE6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2D23D-3031-4930-9655-FB86C131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59852-7028-4CFB-80B9-F590FC02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B7A7D-5299-4042-BA84-C87D1AE0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A1341-D189-4592-BC6E-B7B11C84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A3722-B419-4145-B047-29AF463A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616DF-2AA6-46FB-919F-1ABAD7BC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BEC85-C026-4EB6-871C-AF3C22D6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69FC9-0D39-42D3-804B-253F7B3B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D20FC-41F5-4D68-9DE7-64219B11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E2227-D362-4A73-AA5E-36E49037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17141-851A-41B3-8CD1-DF4856D5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4C01B-2698-426C-AA9B-066B6822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35552-BE43-4C92-A099-73BAF759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5CB1A-5645-4755-BBA5-D2714581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B46C4-8E27-474B-9467-6AF19536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A921E-14E1-4F19-950A-EC65EAC6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78118-97EB-48EB-B92F-C4C3ED22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79F33-90AB-4BA5-AFD4-6BB40626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64F16-7EC0-483F-BBBF-1C2746CB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DFBA0-1DBB-434E-8EC5-022AB83B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EA449-E20F-454B-AA6B-17324E26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D9668-A664-4406-A9F0-F9097DCE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6152C-46CA-4282-A0A7-0186B8AF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82B88-C505-4C17-828F-36F6DD3F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AF35E-7999-48FA-9FEE-7F6FFB71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B3BA5-368E-4417-9E4B-DDF90F78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28519-DA1F-44A2-97F5-1B83627B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02596-2350-420F-8990-2DD43CBD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F9DF8-4E55-4593-B476-C1D8698E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87ABD-4F24-409C-83E3-3BFE50B8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D1059-39D0-4D43-8E50-D157E76F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0223B-CEB8-4C59-B5C7-8B952B2A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052CC-4D11-4680-AE51-D6C90E17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A40E4-DFE7-437E-9827-DC3B972A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27762-B183-4C62-9723-23355E55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7187F-E699-477B-B8AE-52726093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B76D4-26B2-4307-A11E-E7A16EC3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F4362-539D-4B4B-BAD0-70B62C14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D9627-FDF7-4CBE-B315-EE7A1C48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5881B-A065-4787-AFBC-ADBB5658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F1024-0504-4DB0-B86D-03B08FB4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DAFDA-DBB9-40ED-B3B5-8DA5DBE3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87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673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9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738D-EA4D-46C6-9659-0EAE796D9E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32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90D5-3B20-4FC4-8A6D-366C89C3A929}" type="slidenum">
              <a:rPr b="0" lang="en-US" sz="1200" spc="-1" strike="noStrike">
                <a:solidFill>
                  <a:srgbClr val="ffffff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77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5307-DE98-47A6-947F-526C207356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522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4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D186-22E2-47F9-BB2E-770E60C550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7C62-6256-4655-8163-D9044A46028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6" descr=""/>
          <p:cNvPicPr/>
          <p:nvPr/>
        </p:nvPicPr>
        <p:blipFill>
          <a:blip r:embed="rId3"/>
          <a:stretch/>
        </p:blipFill>
        <p:spPr>
          <a:xfrm>
            <a:off x="-6480" y="5205240"/>
            <a:ext cx="1481400" cy="1659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BC08-4016-4C54-994B-FE833A6E82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120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618E-D9B3-4F7A-B3E3-60E9342CAF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6" descr=""/>
          <p:cNvPicPr/>
          <p:nvPr/>
        </p:nvPicPr>
        <p:blipFill>
          <a:blip r:embed="rId3"/>
          <a:stretch/>
        </p:blipFill>
        <p:spPr>
          <a:xfrm>
            <a:off x="7473960" y="-6480"/>
            <a:ext cx="1676520" cy="23716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DA3A-7856-4CE5-987C-13E639CF0A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矩形 6"/>
          <p:cNvGrpSpPr/>
          <p:nvPr/>
        </p:nvGrpSpPr>
        <p:grpSpPr>
          <a:xfrm>
            <a:off x="-6480" y="-6480"/>
            <a:ext cx="665280" cy="6870960"/>
            <a:chOff x="-6480" y="-6480"/>
            <a:chExt cx="665280" cy="6870960"/>
          </a:xfrm>
        </p:grpSpPr>
        <p:pic>
          <p:nvPicPr>
            <p:cNvPr id="207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652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0" y="0"/>
              <a:ext cx="655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E56A-6C86-4D15-9E34-7F6AABCBE7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矩形 6"/>
          <p:cNvGrpSpPr/>
          <p:nvPr/>
        </p:nvGrpSpPr>
        <p:grpSpPr>
          <a:xfrm>
            <a:off x="-6480" y="-6480"/>
            <a:ext cx="652680" cy="6870960"/>
            <a:chOff x="-6480" y="-6480"/>
            <a:chExt cx="652680" cy="6870960"/>
          </a:xfrm>
        </p:grpSpPr>
        <p:pic>
          <p:nvPicPr>
            <p:cNvPr id="252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52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0" y="0"/>
              <a:ext cx="6415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35B9-136E-49DA-B9F3-8CD8075375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297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5C89-96AD-493B-915F-307D98DE39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42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F9BE-C21F-443B-BEB8-C8D87D78EA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3"/>
          <p:cNvSpPr/>
          <p:nvPr/>
        </p:nvSpPr>
        <p:spPr>
          <a:xfrm>
            <a:off x="755640" y="1700280"/>
            <a:ext cx="80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8868"/>
                </a:solidFill>
                <a:latin typeface="Arial"/>
              </a:rPr>
              <a:t>1.3 </a:t>
            </a:r>
            <a:r>
              <a:rPr b="0" lang="zh-CN" sz="6000" spc="-1" strike="noStrike">
                <a:solidFill>
                  <a:srgbClr val="268868"/>
                </a:solidFill>
                <a:latin typeface="Arial"/>
              </a:rPr>
              <a:t>有理数大小的比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Rectangle 2" descr=""/>
          <p:cNvPicPr/>
          <p:nvPr/>
        </p:nvPicPr>
        <p:blipFill>
          <a:blip r:embed="rId1"/>
          <a:stretch/>
        </p:blipFill>
        <p:spPr>
          <a:xfrm>
            <a:off x="2639880" y="665280"/>
            <a:ext cx="2730600" cy="10411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1361880" y="2747880"/>
            <a:ext cx="5840280" cy="617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两个负数，绝对值大的反而小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6659640" y="4437000"/>
            <a:ext cx="1434960" cy="1841400"/>
          </a:xfrm>
          <a:prstGeom prst="rect">
            <a:avLst/>
          </a:prstGeom>
          <a:ln w="0">
            <a:noFill/>
          </a:ln>
        </p:spPr>
      </p:pic>
      <p:sp>
        <p:nvSpPr>
          <p:cNvPr id="637" name="AutoShape 6"/>
          <p:cNvSpPr/>
          <p:nvPr/>
        </p:nvSpPr>
        <p:spPr>
          <a:xfrm flipH="1">
            <a:off x="2986920" y="4292640"/>
            <a:ext cx="3529080" cy="1081080"/>
          </a:xfrm>
          <a:prstGeom prst="cloudCallout">
            <a:avLst>
              <a:gd name="adj1" fmla="val -41861"/>
              <a:gd name="adj2" fmla="val 75254"/>
            </a:avLst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定要记住啊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6983280" cy="194472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5"/>
          <p:cNvSpPr/>
          <p:nvPr/>
        </p:nvSpPr>
        <p:spPr>
          <a:xfrm>
            <a:off x="900000" y="907920"/>
            <a:ext cx="7056720" cy="1191240"/>
          </a:xfrm>
          <a:prstGeom prst="rect">
            <a:avLst/>
          </a:prstGeom>
          <a:solidFill>
            <a:srgbClr val="f900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根据这个规定，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|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|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因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|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|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在数轴上分别划划出表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表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如下图，我们看到，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左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Rectangle 4" descr=""/>
          <p:cNvPicPr/>
          <p:nvPr/>
        </p:nvPicPr>
        <p:blipFill>
          <a:blip r:embed="rId1"/>
          <a:stretch/>
        </p:blipFill>
        <p:spPr>
          <a:xfrm>
            <a:off x="30240" y="755640"/>
            <a:ext cx="5906880" cy="93996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395280" y="1988640"/>
            <a:ext cx="8229600" cy="13971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在以向右为正方向的数轴上的两点，右边的点表示的数比左边的点表示的数大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pic>
        <p:nvPicPr>
          <p:cNvPr id="642" name="Picture 6" descr=""/>
          <p:cNvPicPr/>
          <p:nvPr/>
        </p:nvPicPr>
        <p:blipFill>
          <a:blip r:embed="rId2"/>
          <a:stretch/>
        </p:blipFill>
        <p:spPr>
          <a:xfrm>
            <a:off x="324000" y="4292640"/>
            <a:ext cx="1523880" cy="184140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7"/>
          <p:cNvSpPr/>
          <p:nvPr/>
        </p:nvSpPr>
        <p:spPr>
          <a:xfrm>
            <a:off x="2556000" y="4702320"/>
            <a:ext cx="2592360" cy="914400"/>
          </a:xfrm>
          <a:prstGeom prst="borderCallout1">
            <a:avLst>
              <a:gd name="adj1" fmla="val 18750"/>
              <a:gd name="adj2" fmla="val -8333"/>
              <a:gd name="adj3" fmla="val 108333"/>
              <a:gd name="adj4" fmla="val -25842"/>
            </a:avLst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你明白了吗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4"/>
          <p:cNvSpPr/>
          <p:nvPr/>
        </p:nvSpPr>
        <p:spPr>
          <a:xfrm>
            <a:off x="1042920" y="1197000"/>
            <a:ext cx="7489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我们已经知道，正数可以比较大小，例如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＞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＞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我们还知道，正数都大于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，负数都小于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那么，一个正数于一个负数能比较大小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两个负数能比较大小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4788000" y="765000"/>
            <a:ext cx="3671640" cy="554544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576" name="Text Box 6"/>
          <p:cNvSpPr/>
          <p:nvPr/>
        </p:nvSpPr>
        <p:spPr>
          <a:xfrm>
            <a:off x="971640" y="1484280"/>
            <a:ext cx="3240000" cy="1894320"/>
          </a:xfrm>
          <a:prstGeom prst="rect">
            <a:avLst/>
          </a:prstGeom>
          <a:solidFill>
            <a:srgbClr val="507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珠穆朗玛峰，高度比海平面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84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吐鲁番盆地，高度比海平面底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若海平面的高度为零度，则它们的高度分别如何表示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它们两个那个高啊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4"/>
          <p:cNvSpPr/>
          <p:nvPr/>
        </p:nvSpPr>
        <p:spPr>
          <a:xfrm>
            <a:off x="1403280" y="2205000"/>
            <a:ext cx="6696000" cy="1513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珠穆朗玛峰的海拔高度可以表示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84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吐鲁番盆地的海拔高度可以表示为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1476360" y="4365720"/>
            <a:ext cx="6264360" cy="1191240"/>
          </a:xfrm>
          <a:prstGeom prst="rect">
            <a:avLst/>
          </a:prstGeom>
          <a:solidFill>
            <a:srgbClr val="e4f3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那么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84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谁大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答案：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84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9"/>
          <p:cNvSpPr/>
          <p:nvPr/>
        </p:nvSpPr>
        <p:spPr>
          <a:xfrm>
            <a:off x="826920" y="907920"/>
            <a:ext cx="7561440" cy="1081080"/>
          </a:xfrm>
          <a:custGeom>
            <a:avLst/>
            <a:gdLst>
              <a:gd name="textAreaLeft" fmla="*/ 1726200 w 7561440"/>
              <a:gd name="textAreaRight" fmla="*/ 5835240 w 756144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900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当然是珠穆朗玛峰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4"/>
          <p:cNvGrpSpPr/>
          <p:nvPr/>
        </p:nvGrpSpPr>
        <p:grpSpPr>
          <a:xfrm>
            <a:off x="5364000" y="765000"/>
            <a:ext cx="2953080" cy="5635440"/>
            <a:chOff x="5364000" y="765000"/>
            <a:chExt cx="2953080" cy="5635440"/>
          </a:xfrm>
        </p:grpSpPr>
        <p:pic>
          <p:nvPicPr>
            <p:cNvPr id="581" name="Picture 5" descr="1"/>
            <p:cNvPicPr/>
            <p:nvPr/>
          </p:nvPicPr>
          <p:blipFill>
            <a:blip r:embed="rId1"/>
            <a:stretch/>
          </p:blipFill>
          <p:spPr>
            <a:xfrm>
              <a:off x="5364000" y="765000"/>
              <a:ext cx="2953080" cy="56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Line 6"/>
            <p:cNvSpPr/>
            <p:nvPr/>
          </p:nvSpPr>
          <p:spPr>
            <a:xfrm>
              <a:off x="6479640" y="4567680"/>
              <a:ext cx="0" cy="9504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7"/>
            <p:cNvSpPr/>
            <p:nvPr/>
          </p:nvSpPr>
          <p:spPr>
            <a:xfrm>
              <a:off x="6413760" y="5412240"/>
              <a:ext cx="131040" cy="211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8"/>
            <p:cNvSpPr/>
            <p:nvPr/>
          </p:nvSpPr>
          <p:spPr>
            <a:xfrm>
              <a:off x="7267320" y="5201280"/>
              <a:ext cx="0" cy="3168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9"/>
            <p:cNvSpPr/>
            <p:nvPr/>
          </p:nvSpPr>
          <p:spPr>
            <a:xfrm>
              <a:off x="7201440" y="5412240"/>
              <a:ext cx="131040" cy="211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Text Box 10"/>
          <p:cNvSpPr/>
          <p:nvPr/>
        </p:nvSpPr>
        <p:spPr>
          <a:xfrm>
            <a:off x="755640" y="1052640"/>
            <a:ext cx="3600360" cy="2478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白天的气温零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晚上气温零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若零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用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表示，那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零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℃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5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个高啊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1" descr="j0195812"/>
          <p:cNvPicPr/>
          <p:nvPr/>
        </p:nvPicPr>
        <p:blipFill>
          <a:blip r:embed="rId2"/>
          <a:stretch/>
        </p:blipFill>
        <p:spPr>
          <a:xfrm flipH="1">
            <a:off x="610920" y="4292640"/>
            <a:ext cx="1773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4"/>
          <p:cNvSpPr/>
          <p:nvPr/>
        </p:nvSpPr>
        <p:spPr>
          <a:xfrm>
            <a:off x="900000" y="2205000"/>
            <a:ext cx="7848720" cy="1513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理由嘛，我们感觉零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零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1476360" y="4365720"/>
            <a:ext cx="6264360" cy="1191240"/>
          </a:xfrm>
          <a:prstGeom prst="rect">
            <a:avLst/>
          </a:prstGeom>
          <a:solidFill>
            <a:srgbClr val="e4f3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那么，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5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谁大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答案：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900000" y="765000"/>
            <a:ext cx="7561440" cy="1081440"/>
          </a:xfrm>
          <a:custGeom>
            <a:avLst/>
            <a:gdLst>
              <a:gd name="textAreaLeft" fmla="*/ 1726200 w 7561440"/>
              <a:gd name="textAreaRight" fmla="*/ 5835240 w 7561440"/>
              <a:gd name="textAreaTop" fmla="*/ 246960 h 1081440"/>
              <a:gd name="textAreaBottom" fmla="*/ 834480 h 10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900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然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5℃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Rectangle 2" descr=""/>
          <p:cNvPicPr/>
          <p:nvPr/>
        </p:nvPicPr>
        <p:blipFill>
          <a:blip r:embed="rId1"/>
          <a:stretch/>
        </p:blipFill>
        <p:spPr>
          <a:xfrm>
            <a:off x="2639880" y="554040"/>
            <a:ext cx="3175200" cy="99360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 txBox="1"/>
          <p:nvPr/>
        </p:nvSpPr>
        <p:spPr>
          <a:xfrm>
            <a:off x="395280" y="2133360"/>
            <a:ext cx="8229600" cy="1252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前面我们已经知道，正数都大于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0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，而负数都小于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0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，也就是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0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大于负数，由此看出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1619280" y="3789360"/>
            <a:ext cx="5400720" cy="1079640"/>
          </a:xfrm>
          <a:prstGeom prst="rect">
            <a:avLst/>
          </a:prstGeom>
          <a:solidFill>
            <a:srgbClr val="f900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正数大于一切负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20"/>
          <p:cNvGrpSpPr/>
          <p:nvPr/>
        </p:nvGrpSpPr>
        <p:grpSpPr>
          <a:xfrm>
            <a:off x="5003640" y="1484280"/>
            <a:ext cx="3889080" cy="4752720"/>
            <a:chOff x="5003640" y="1484280"/>
            <a:chExt cx="3889080" cy="4752720"/>
          </a:xfrm>
        </p:grpSpPr>
        <p:grpSp>
          <p:nvGrpSpPr>
            <p:cNvPr id="595" name="Group 19"/>
            <p:cNvGrpSpPr/>
            <p:nvPr/>
          </p:nvGrpSpPr>
          <p:grpSpPr>
            <a:xfrm>
              <a:off x="5003640" y="1484280"/>
              <a:ext cx="3473280" cy="4752720"/>
              <a:chOff x="5003640" y="1484280"/>
              <a:chExt cx="3473280" cy="4752720"/>
            </a:xfrm>
          </p:grpSpPr>
          <p:sp>
            <p:nvSpPr>
              <p:cNvPr id="596" name="Rectangle 18"/>
              <p:cNvSpPr/>
              <p:nvPr/>
            </p:nvSpPr>
            <p:spPr>
              <a:xfrm>
                <a:off x="5047920" y="1626840"/>
                <a:ext cx="3317400" cy="4610160"/>
              </a:xfrm>
              <a:prstGeom prst="rect">
                <a:avLst/>
              </a:prstGeom>
              <a:gradFill rotWithShape="0">
                <a:gsLst>
                  <a:gs pos="0">
                    <a:srgbClr val="b1cced"/>
                  </a:gs>
                  <a:gs pos="100000">
                    <a:srgbClr val="0000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4"/>
              <p:cNvSpPr/>
              <p:nvPr/>
            </p:nvSpPr>
            <p:spPr>
              <a:xfrm>
                <a:off x="5003640" y="1626840"/>
                <a:ext cx="3473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5"/>
              <p:cNvSpPr/>
              <p:nvPr/>
            </p:nvSpPr>
            <p:spPr>
              <a:xfrm>
                <a:off x="5003640" y="1484280"/>
                <a:ext cx="3317040" cy="29376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6"/>
              <p:cNvSpPr/>
              <p:nvPr/>
            </p:nvSpPr>
            <p:spPr>
              <a:xfrm>
                <a:off x="7693200" y="1626840"/>
                <a:ext cx="0" cy="461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7"/>
              <p:cNvSpPr/>
              <p:nvPr/>
            </p:nvSpPr>
            <p:spPr>
              <a:xfrm>
                <a:off x="7693200" y="3470400"/>
                <a:ext cx="223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8"/>
              <p:cNvSpPr/>
              <p:nvPr/>
            </p:nvSpPr>
            <p:spPr>
              <a:xfrm>
                <a:off x="7693200" y="4463640"/>
                <a:ext cx="223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2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6796080" y="3115440"/>
                <a:ext cx="896040" cy="651960"/>
              </a:xfrm>
              <a:prstGeom prst="rect">
                <a:avLst/>
              </a:prstGeom>
              <a:ln w="38160">
                <a:solidFill>
                  <a:srgbClr val="ff0000"/>
                </a:solidFill>
                <a:miter/>
              </a:ln>
            </p:spPr>
          </p:pic>
          <p:pic>
            <p:nvPicPr>
              <p:cNvPr id="603" name="Picture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6796080" y="4108680"/>
                <a:ext cx="896040" cy="651960"/>
              </a:xfrm>
              <a:prstGeom prst="rect">
                <a:avLst/>
              </a:prstGeom>
              <a:ln w="57240">
                <a:solidFill>
                  <a:srgbClr val="ffff66"/>
                </a:solidFill>
                <a:miter/>
              </a:ln>
            </p:spPr>
          </p:pic>
          <p:sp>
            <p:nvSpPr>
              <p:cNvPr id="604" name="Line 14"/>
              <p:cNvSpPr/>
              <p:nvPr/>
            </p:nvSpPr>
            <p:spPr>
              <a:xfrm flipH="1">
                <a:off x="6168240" y="3470400"/>
                <a:ext cx="1524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15"/>
              <p:cNvSpPr/>
              <p:nvPr/>
            </p:nvSpPr>
            <p:spPr>
              <a:xfrm flipH="1">
                <a:off x="5362200" y="4463640"/>
                <a:ext cx="2330640" cy="0"/>
              </a:xfrm>
              <a:prstGeom prst="line">
                <a:avLst/>
              </a:prstGeom>
              <a:ln w="38160">
                <a:solidFill>
                  <a:srgbClr val="ffff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16"/>
              <p:cNvSpPr/>
              <p:nvPr/>
            </p:nvSpPr>
            <p:spPr>
              <a:xfrm>
                <a:off x="6302880" y="1626840"/>
                <a:ext cx="0" cy="1843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17"/>
              <p:cNvSpPr/>
              <p:nvPr/>
            </p:nvSpPr>
            <p:spPr>
              <a:xfrm>
                <a:off x="5586480" y="1626840"/>
                <a:ext cx="0" cy="2836800"/>
              </a:xfrm>
              <a:prstGeom prst="line">
                <a:avLst/>
              </a:prstGeom>
              <a:ln w="381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Text Box 9"/>
            <p:cNvSpPr/>
            <p:nvPr/>
          </p:nvSpPr>
          <p:spPr>
            <a:xfrm>
              <a:off x="7872840" y="3259080"/>
              <a:ext cx="95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5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10"/>
            <p:cNvSpPr/>
            <p:nvPr/>
          </p:nvSpPr>
          <p:spPr>
            <a:xfrm>
              <a:off x="7936200" y="425088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8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 Box 21"/>
          <p:cNvSpPr/>
          <p:nvPr/>
        </p:nvSpPr>
        <p:spPr>
          <a:xfrm>
            <a:off x="1116000" y="981000"/>
            <a:ext cx="3527280" cy="2113200"/>
          </a:xfrm>
          <a:prstGeom prst="rect">
            <a:avLst/>
          </a:prstGeom>
          <a:solidFill>
            <a:srgbClr val="e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海平面的高度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美人鱼在大海里游弋，美人鱼甲（红色）在海平面下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美人鱼乙（黄色）在海平面下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问：那个美人鱼的位置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22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1523880" cy="1841760"/>
          </a:xfrm>
          <a:prstGeom prst="rect">
            <a:avLst/>
          </a:prstGeom>
          <a:ln w="0">
            <a:noFill/>
          </a:ln>
        </p:spPr>
      </p:pic>
      <p:sp>
        <p:nvSpPr>
          <p:cNvPr id="612" name="AutoShape 23"/>
          <p:cNvSpPr/>
          <p:nvPr/>
        </p:nvSpPr>
        <p:spPr>
          <a:xfrm>
            <a:off x="1835280" y="4653000"/>
            <a:ext cx="2089080" cy="863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4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1511280" cy="1930680"/>
          </a:xfrm>
          <a:prstGeom prst="rect">
            <a:avLst/>
          </a:prstGeom>
          <a:ln w="0">
            <a:noFill/>
          </a:ln>
        </p:spPr>
      </p:pic>
      <p:sp>
        <p:nvSpPr>
          <p:cNvPr id="614" name="AutoShape 6"/>
          <p:cNvSpPr/>
          <p:nvPr/>
        </p:nvSpPr>
        <p:spPr>
          <a:xfrm>
            <a:off x="1690560" y="3648240"/>
            <a:ext cx="2737080" cy="1438200"/>
          </a:xfrm>
          <a:prstGeom prst="wedgeEllipseCallout">
            <a:avLst>
              <a:gd name="adj1" fmla="val -43736"/>
              <a:gd name="adj2" fmla="val 69976"/>
            </a:avLst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美人鱼乙的位置低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9"/>
          <p:cNvGrpSpPr/>
          <p:nvPr/>
        </p:nvGrpSpPr>
        <p:grpSpPr>
          <a:xfrm>
            <a:off x="5003640" y="1484280"/>
            <a:ext cx="3473640" cy="4752720"/>
            <a:chOff x="5003640" y="1484280"/>
            <a:chExt cx="3473640" cy="4752720"/>
          </a:xfrm>
        </p:grpSpPr>
        <p:sp>
          <p:nvSpPr>
            <p:cNvPr id="616" name="Rectangle 10"/>
            <p:cNvSpPr/>
            <p:nvPr/>
          </p:nvSpPr>
          <p:spPr>
            <a:xfrm>
              <a:off x="5047920" y="1626840"/>
              <a:ext cx="3317760" cy="4610160"/>
            </a:xfrm>
            <a:prstGeom prst="rect">
              <a:avLst/>
            </a:prstGeom>
            <a:gradFill rotWithShape="0">
              <a:gsLst>
                <a:gs pos="0">
                  <a:srgbClr val="b1cced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1"/>
            <p:cNvSpPr/>
            <p:nvPr/>
          </p:nvSpPr>
          <p:spPr>
            <a:xfrm>
              <a:off x="5003640" y="1626840"/>
              <a:ext cx="347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2"/>
            <p:cNvSpPr/>
            <p:nvPr/>
          </p:nvSpPr>
          <p:spPr>
            <a:xfrm>
              <a:off x="5003640" y="1484280"/>
              <a:ext cx="3317400" cy="2937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3"/>
            <p:cNvSpPr/>
            <p:nvPr/>
          </p:nvSpPr>
          <p:spPr>
            <a:xfrm>
              <a:off x="7693560" y="1626840"/>
              <a:ext cx="0" cy="4610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4"/>
            <p:cNvSpPr/>
            <p:nvPr/>
          </p:nvSpPr>
          <p:spPr>
            <a:xfrm>
              <a:off x="7693560" y="3470400"/>
              <a:ext cx="223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5"/>
            <p:cNvSpPr/>
            <p:nvPr/>
          </p:nvSpPr>
          <p:spPr>
            <a:xfrm>
              <a:off x="7693560" y="4463640"/>
              <a:ext cx="223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2" name="Picture 16" descr=""/>
            <p:cNvPicPr/>
            <p:nvPr/>
          </p:nvPicPr>
          <p:blipFill>
            <a:blip r:embed="rId2"/>
            <a:stretch/>
          </p:blipFill>
          <p:spPr>
            <a:xfrm>
              <a:off x="6796080" y="3115440"/>
              <a:ext cx="896400" cy="6519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623" name="Picture 17" descr=""/>
            <p:cNvPicPr/>
            <p:nvPr/>
          </p:nvPicPr>
          <p:blipFill>
            <a:blip r:embed="rId3"/>
            <a:stretch/>
          </p:blipFill>
          <p:spPr>
            <a:xfrm>
              <a:off x="6796080" y="4108680"/>
              <a:ext cx="896400" cy="651960"/>
            </a:xfrm>
            <a:prstGeom prst="rect">
              <a:avLst/>
            </a:prstGeom>
            <a:ln w="57240">
              <a:solidFill>
                <a:srgbClr val="ffff66"/>
              </a:solidFill>
              <a:miter/>
            </a:ln>
          </p:spPr>
        </p:pic>
        <p:sp>
          <p:nvSpPr>
            <p:cNvPr id="624" name="Line 18"/>
            <p:cNvSpPr/>
            <p:nvPr/>
          </p:nvSpPr>
          <p:spPr>
            <a:xfrm flipH="1">
              <a:off x="6168240" y="3470400"/>
              <a:ext cx="15246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9"/>
            <p:cNvSpPr/>
            <p:nvPr/>
          </p:nvSpPr>
          <p:spPr>
            <a:xfrm flipH="1">
              <a:off x="5361840" y="4463640"/>
              <a:ext cx="2331000" cy="0"/>
            </a:xfrm>
            <a:prstGeom prst="line">
              <a:avLst/>
            </a:prstGeom>
            <a:ln w="381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20"/>
            <p:cNvSpPr/>
            <p:nvPr/>
          </p:nvSpPr>
          <p:spPr>
            <a:xfrm>
              <a:off x="6303240" y="1626840"/>
              <a:ext cx="0" cy="184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1"/>
            <p:cNvSpPr/>
            <p:nvPr/>
          </p:nvSpPr>
          <p:spPr>
            <a:xfrm>
              <a:off x="5586480" y="1626840"/>
              <a:ext cx="0" cy="283680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Text Box 22"/>
          <p:cNvSpPr/>
          <p:nvPr/>
        </p:nvSpPr>
        <p:spPr>
          <a:xfrm>
            <a:off x="7872480" y="3259080"/>
            <a:ext cx="9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7935840" y="425124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8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4"/>
          <p:cNvSpPr/>
          <p:nvPr/>
        </p:nvSpPr>
        <p:spPr>
          <a:xfrm>
            <a:off x="755640" y="836640"/>
            <a:ext cx="3384720" cy="642600"/>
          </a:xfrm>
          <a:prstGeom prst="rect">
            <a:avLst/>
          </a:prstGeom>
          <a:solidFill>
            <a:srgbClr val="e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从右图中我们可以看到，红线段的长度为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米，黄线段的长度为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米，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米大于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米，所以美人鱼乙的位置更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6"/>
          <p:cNvSpPr/>
          <p:nvPr/>
        </p:nvSpPr>
        <p:spPr>
          <a:xfrm>
            <a:off x="5867280" y="234936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7"/>
          <p:cNvSpPr/>
          <p:nvPr/>
        </p:nvSpPr>
        <p:spPr>
          <a:xfrm>
            <a:off x="5148360" y="306864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8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8"/>
          <p:cNvSpPr/>
          <p:nvPr/>
        </p:nvSpPr>
        <p:spPr>
          <a:xfrm>
            <a:off x="755640" y="2421000"/>
            <a:ext cx="3600360" cy="924480"/>
          </a:xfrm>
          <a:prstGeom prst="rect">
            <a:avLst/>
          </a:prstGeom>
          <a:solidFill>
            <a:srgbClr val="e5f5a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en-US" sz="1800" spc="-1" strike="noStrike">
                <a:solidFill>
                  <a:srgbClr val="268868"/>
                </a:solidFill>
                <a:latin typeface="Arial"/>
              </a:rPr>
              <a:t>|</a:t>
            </a:r>
            <a:r>
              <a:rPr b="1" lang="zh-CN" sz="1800" spc="-1" strike="noStrike">
                <a:solidFill>
                  <a:srgbClr val="268868"/>
                </a:solidFill>
                <a:latin typeface="Arial"/>
              </a:rPr>
              <a:t>－</a:t>
            </a:r>
            <a:r>
              <a:rPr b="1" lang="en-US" sz="1800" spc="-1" strike="noStrike">
                <a:solidFill>
                  <a:srgbClr val="268868"/>
                </a:solidFill>
                <a:latin typeface="Arial"/>
              </a:rPr>
              <a:t>50|</a:t>
            </a:r>
            <a:r>
              <a:rPr b="1" lang="zh-CN" sz="1800" spc="-1" strike="noStrike">
                <a:solidFill>
                  <a:srgbClr val="268868"/>
                </a:solidFill>
                <a:latin typeface="Arial"/>
              </a:rPr>
              <a:t>＝</a:t>
            </a:r>
            <a:r>
              <a:rPr b="1" lang="en-US" sz="1800" spc="-1" strike="noStrike">
                <a:solidFill>
                  <a:srgbClr val="268868"/>
                </a:solidFill>
                <a:latin typeface="Arial"/>
              </a:rPr>
              <a:t>50</a:t>
            </a:r>
            <a:r>
              <a:rPr b="1" lang="zh-CN" sz="1800" spc="-1" strike="noStrike">
                <a:solidFill>
                  <a:srgbClr val="268868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268868"/>
                </a:solidFill>
                <a:latin typeface="Arial"/>
              </a:rPr>
              <a:t>|</a:t>
            </a:r>
            <a:r>
              <a:rPr b="1" lang="zh-CN" sz="1800" spc="-1" strike="noStrike">
                <a:solidFill>
                  <a:srgbClr val="268868"/>
                </a:solidFill>
                <a:latin typeface="Arial"/>
              </a:rPr>
              <a:t>－</a:t>
            </a:r>
            <a:r>
              <a:rPr b="1" lang="en-US" sz="1800" spc="-1" strike="noStrike">
                <a:solidFill>
                  <a:srgbClr val="268868"/>
                </a:solidFill>
                <a:latin typeface="Arial"/>
              </a:rPr>
              <a:t>80|</a:t>
            </a:r>
            <a:r>
              <a:rPr b="1" lang="zh-CN" sz="1800" spc="-1" strike="noStrike">
                <a:solidFill>
                  <a:srgbClr val="268868"/>
                </a:solidFill>
                <a:latin typeface="Arial"/>
              </a:rPr>
              <a:t>＝</a:t>
            </a:r>
            <a:r>
              <a:rPr b="1" lang="en-US" sz="1800" spc="-1" strike="noStrike">
                <a:solidFill>
                  <a:srgbClr val="268868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8868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268868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268868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268868"/>
                </a:solidFill>
                <a:latin typeface="Arial"/>
              </a:rPr>
              <a:t>80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1:19:31Z</dcterms:created>
  <dc:creator>12999数学网 www.12999.com</dc:creator>
  <dc:description>教学资源网</dc:description>
  <cp:keywords>教学资源网</cp:keywords>
  <dc:language>en-US</dc:language>
  <cp:lastModifiedBy>微软用户</cp:lastModifiedBy>
  <dcterms:modified xsi:type="dcterms:W3CDTF">2012-07-21T02:16:51Z</dcterms:modified>
  <cp:revision>1</cp:revision>
  <dc:subject>12999数学网 www.12999.com</dc:subject>
  <dc:title>12999数学网 www.12999.com</dc:title>
</cp:coreProperties>
</file>