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move the slide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60B9-A19C-46B6-9E2E-2800734BC4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33B9B-6D56-40D4-863F-493E8642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1AB73-3998-47F7-9269-2C85FEE0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59A61-C7D9-4F7D-B4FB-3CDC75ED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C3B56-1EAE-4A87-8D85-87D50A5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50B0A-A63E-4DA1-9B54-E14D3E3B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5E3A1-F5B5-489A-A0DF-5307ABE2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C35D7-9A59-4DDB-9401-C9A46A8D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820C2-6DC7-4D68-9EBA-74BC098F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3B2AF-995C-43DA-917D-66005DA0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4063F-C4FA-4B57-B961-4435ADA1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7D3D2-D711-4745-B197-29A1F310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54769-9384-44C0-B5B3-DA8B4B3D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EF5B0-6C48-4EC3-A6E0-EE885FD2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EB872-5AA1-4EC1-A6E0-F116818A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6ECAA-2340-48EE-AEE2-C779784A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15B62-621C-41FC-9DC7-BCE18E1D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30904-6A65-4406-A918-DCDFBAE8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EADDA-A6C1-4B99-B04D-8E3F649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585A4-4715-4183-ACA2-E2AABF8C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DA13F-2C3D-4C92-AD02-F2705026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4C496-648C-4D93-9B9C-8C512784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DF55A-D3C3-430E-AE1B-4C9C0781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0DB7D-0285-4DA1-A689-C3003307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A28EC-C761-48F2-9153-098145A2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4A918-E906-44FE-B7B4-ABB5E333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AF2E2-5604-45C2-BC19-54880BCD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03E7B-F177-4A76-A3EF-9FAD8A30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0A23F-A1D7-4DBB-80F5-A52D161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F2C3B-A166-42E1-ABC9-840E5991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3C64A-4D56-459A-8791-BE9A8CCD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AA6-229C-4BF8-B34F-F5F98327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BA8F0-1CA5-4DAB-B565-95C25B39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D34D7-110F-49F4-B42B-C01CDCBE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F59B1-8B15-4A00-B3A0-B9F6C850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578D4-7918-42DE-9CD1-AEEC61CA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CE709-B5EE-4387-B3DA-07CE7AD6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42018-E578-48B7-B6EB-24E57E37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8BBB7-4D49-4CFB-8F86-24BA6C82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DCEEB-04ED-4240-A8AF-90C51064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1F13C-D90C-4507-9DCA-3037DC31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25633-640D-4FE8-AC0D-675AD5CC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DCC-2FFF-45EE-94DF-3A226787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23E15-A018-435D-894B-07EF44F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91495-A665-4B6F-9405-5A0B288E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712F0-EDF5-4159-B0B0-2519A7EC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EAEB4-527E-47B4-B3E4-855992B1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FC347-8576-40AC-A35C-D4A4F28E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95C98-0DC8-4A23-8727-822F75D8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900E3-9056-4D22-91DA-55CBF209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EC1C9-AF31-4891-BE41-A88B630E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9C89F-B892-46F2-B203-A4753E56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BF1A5-90F7-435A-9447-C22A52F3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043-B406-4ECE-A8F6-41930B65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35823-EB4F-4E99-B003-37499D48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0F98E-4207-4B13-B35E-A3D51EDA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6C865-B915-4FE2-815F-54AE3E30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A71A8-5972-437C-A068-8565F7DC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D54E9-CF14-471B-AECF-2E104E5A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53509-85F2-4227-B49A-E435D171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D8AFF-7841-4997-935A-331A4B0B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74D-A0FF-4A38-A517-D0724C05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622-645C-48D0-BED7-874EDDA3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677-7D5E-4DF4-915A-757D9813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5D5-A288-485C-9F90-4941B740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D7B-C64A-4B79-A857-9C54CE0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FE1-5937-4F75-AB1C-69C60D73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DDA-BFE5-4A8A-BBE4-9AED748A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6D5-91FA-4B37-A04C-EDB43332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D0E-1508-4E9C-82F8-C3372BAF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179E-CF9C-4637-B085-BCFE88B3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0A7B-1ADB-41E1-9900-E10DC64C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E342-69AC-4866-B53F-A42D1BE8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6399-832E-438E-9CB9-3555E5AE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05DA-D0A5-41D2-BF3A-007CEA6E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FE2D-A5D3-4455-B0D2-8C704CE1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3982-9757-4504-B342-245BC4D0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51CC-F884-4839-B0C1-48AE089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C6E5-6E93-4EE3-9CCF-19EAE0E8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4BA8-A65F-47BA-9233-BB810E42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4C0C-24C9-49FB-AD0A-2A7D7F7E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3971-A961-42B3-ADE9-C3606943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11C9-408B-46A9-834D-ADFAADC4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C1F6-76BA-4E7D-B046-1292ECCB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9AC9-828C-478D-94D0-2D02C752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FFA7-424F-4C65-845A-DA950E9E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C058-A6C1-4623-BA75-96FAC87C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4A2E-8397-4267-97A9-0EEB9FA2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0793-5345-49C5-BEDB-B395AB39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4F89-207A-44C9-AB80-C7D22627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80B9-CE99-4830-8AC3-2C1DEBC6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2EECF-392F-4BB4-9110-B77A3C10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F688-C242-4262-8E2F-6B02F952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BF30-C264-461C-B011-B96B79A2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E168A-F754-46ED-A735-AB1AB775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2FD37-DFFD-4A1F-B648-8533CCED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63E68-1FB5-4AE9-A696-EE97DF1E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5A4E-9FE9-4B63-BB0D-38024F50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EDA7-CCA0-4724-ABE4-F5506AEC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F4D94-0256-4EC5-A579-214B3A7A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8413-5BC3-4C30-BAD5-C289693A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669C5-2E13-45E1-B665-F9E8C333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C7B73-5660-40D8-B0EB-070FDCB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B82F-A0FC-40FA-8223-B5785E9E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B293E-E37B-4C29-9650-16415064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18E4C-543D-4768-91D4-2DAEB418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1CEDF-28E3-46F7-AFF8-6A12AD8F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FB39C-7111-444F-A08D-FC3B832B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9EB2-1B0B-4A8F-BB84-2B459839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9C2FD-A855-4AE1-A156-098AB37A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197CA-9F87-4E88-90FD-3F36EBE7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6CE2A-14A9-449C-AD05-62404A72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C4C4C-4FC2-4B9A-9481-94C1D4D0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4B4E-5DEC-4B7B-B09C-B50433F7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4EC72-A192-4A89-AF16-6A2A5880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68CB-868E-49CB-8C5E-8634C3FD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A19AD-48B8-421B-9543-217F1E4D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60DFF-D065-4E73-9A3D-24406ED9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8766-D7F1-4E06-AC5C-C8CA55B0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8EA5A-6123-43BF-8077-422A9E20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31AC-E6B4-40F7-881C-46200F71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4AB1D-5E0A-4D0A-BEED-04A6F0AA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CE404-BD3F-41B2-9E6D-50C612F2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4DA5A-A14C-4149-8763-E7DDF64D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0A11A-57DA-4781-97DF-D5A81ECA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55E9C-4069-4A56-A8AB-995554F8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E4DB1-F50D-4A0C-AC0C-FF2A776E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33985-0A1C-4737-B4CC-0F273C7A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FB75F-EDF6-43AA-8257-03BEF80D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B71FB-024F-4CC0-832E-70119B38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7C080-2F6D-4311-8ADB-703AC36B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88C97-61D1-460B-BAB7-456B926F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7C31D-231A-4CC4-B0DD-2F888FDA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DE3E3-A22B-46B0-888C-0BE8FE1C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BCAE0-81F6-457E-8386-8A19F2DA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CA9D0-B89A-414A-83C3-12F2038D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C330E-0A90-4F45-A68B-BE5DB41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2E72-1E9E-4C43-9F92-5AA4BA57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544E8-8F45-4F0D-BC98-1E34B35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8824-EB6A-40B1-8072-018119D0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8DF22-FCF9-47DA-8267-45CC292E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FB8AF-89DD-4251-B075-BA32CEC6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28F7B-B5C2-4852-A88F-885A6DD0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CFE64-68F2-4BA3-809B-3E825322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C612C-ACD7-4CAF-875F-ED239244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87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AEA0-4115-4B60-B2AA-ED259288ED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32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4054-A163-4713-9B58-EC719D17560B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77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4C9E-E27F-47A9-86AF-014854CDE0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522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4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8FA4-8B01-4961-AAA2-B4A28BE039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45A0-AB86-425F-85D6-FAD6B6BD625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2909-8BE7-4FDE-97A6-6078312409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12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4831-0B8C-4FF6-8638-EE720D994D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A8D1-D317-4B46-AD26-F0D08E3E27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207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A679-0184-4D4E-9616-C3277FE59B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52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99D1-8014-4BC9-AE56-F46119F8F5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97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F68B-9331-4917-B87C-955BAABC43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42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CC07-FCC7-4CC5-B18D-74A8AD9372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3"/>
          <p:cNvSpPr/>
          <p:nvPr/>
        </p:nvSpPr>
        <p:spPr>
          <a:xfrm>
            <a:off x="755640" y="170028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8868"/>
                </a:solidFill>
                <a:latin typeface="Arial"/>
              </a:rPr>
              <a:t>1.3 </a:t>
            </a:r>
            <a:r>
              <a:rPr b="0" lang="zh-CN" sz="6000" spc="-1" strike="noStrike">
                <a:solidFill>
                  <a:srgbClr val="268868"/>
                </a:solidFill>
                <a:latin typeface="Arial"/>
              </a:rPr>
              <a:t>有理数大小的比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2639880" y="665280"/>
            <a:ext cx="2730600" cy="10411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1361880" y="2747880"/>
            <a:ext cx="5840280" cy="61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两个负数，绝对值大的反而小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6659640" y="4437000"/>
            <a:ext cx="1434960" cy="184140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6"/>
          <p:cNvSpPr/>
          <p:nvPr/>
        </p:nvSpPr>
        <p:spPr>
          <a:xfrm flipH="1">
            <a:off x="2986920" y="4292640"/>
            <a:ext cx="3529080" cy="1081080"/>
          </a:xfrm>
          <a:prstGeom prst="cloudCallout">
            <a:avLst>
              <a:gd name="adj1" fmla="val -41861"/>
              <a:gd name="adj2" fmla="val 75254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定要记住啊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83280" cy="194472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5"/>
          <p:cNvSpPr/>
          <p:nvPr/>
        </p:nvSpPr>
        <p:spPr>
          <a:xfrm>
            <a:off x="900000" y="907920"/>
            <a:ext cx="7056720" cy="1191240"/>
          </a:xfrm>
          <a:prstGeom prst="rect">
            <a:avLst/>
          </a:prstGeom>
          <a:solidFill>
            <a:srgbClr val="f90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这个规定，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因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|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数轴上分别划划出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如下图，我们看到，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左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Rectangle 4" descr=""/>
          <p:cNvPicPr/>
          <p:nvPr/>
        </p:nvPicPr>
        <p:blipFill>
          <a:blip r:embed="rId1"/>
          <a:stretch/>
        </p:blipFill>
        <p:spPr>
          <a:xfrm>
            <a:off x="30240" y="755640"/>
            <a:ext cx="5906880" cy="93996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395280" y="1988640"/>
            <a:ext cx="8229600" cy="1397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在以向右为正方向的数轴上的两点，右边的点表示的数比左边的点表示的数大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642" name="Picture 6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1523880" cy="18414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7"/>
          <p:cNvSpPr/>
          <p:nvPr/>
        </p:nvSpPr>
        <p:spPr>
          <a:xfrm>
            <a:off x="2556000" y="4702320"/>
            <a:ext cx="2592360" cy="914400"/>
          </a:xfrm>
          <a:prstGeom prst="borderCallout1">
            <a:avLst>
              <a:gd name="adj1" fmla="val 18750"/>
              <a:gd name="adj2" fmla="val -8333"/>
              <a:gd name="adj3" fmla="val 108333"/>
              <a:gd name="adj4" fmla="val -25842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彩云"/>
              </a:rPr>
              <a:t>你明白了吗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4"/>
          <p:cNvSpPr/>
          <p:nvPr/>
        </p:nvSpPr>
        <p:spPr>
          <a:xfrm>
            <a:off x="1042920" y="1197000"/>
            <a:ext cx="7489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们已经知道，正数可以比较大小，例如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们还知道，正数都大于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负数都小于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那么，一个正数于一个负数能比较大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两个负数能比较大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3671640" cy="554544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576" name="Text Box 6"/>
          <p:cNvSpPr/>
          <p:nvPr/>
        </p:nvSpPr>
        <p:spPr>
          <a:xfrm>
            <a:off x="971640" y="1484280"/>
            <a:ext cx="3240000" cy="1894320"/>
          </a:xfrm>
          <a:prstGeom prst="rect">
            <a:avLst/>
          </a:prstGeom>
          <a:solidFill>
            <a:srgbClr val="507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珠穆朗玛峰，高度比海平面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4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吐鲁番盆地，高度比海平面底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若海平面的高度为零度，则它们的高度分别如何表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它们两个那个高啊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1403280" y="2205000"/>
            <a:ext cx="6696000" cy="15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珠穆朗玛峰的海拔高度可以表示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84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吐鲁番盆地的海拔高度可以表示为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476360" y="4365720"/>
            <a:ext cx="6264360" cy="1191240"/>
          </a:xfrm>
          <a:prstGeom prst="rect">
            <a:avLst/>
          </a:prstGeom>
          <a:solidFill>
            <a:srgbClr val="e4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那么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84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谁大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案：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84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826920" y="907920"/>
            <a:ext cx="7561440" cy="1081080"/>
          </a:xfrm>
          <a:custGeom>
            <a:avLst/>
            <a:gdLst>
              <a:gd name="textAreaLeft" fmla="*/ 1726200 w 7561440"/>
              <a:gd name="textAreaRight" fmla="*/ 5835240 w 756144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90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当然是珠穆朗玛峰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4"/>
          <p:cNvGrpSpPr/>
          <p:nvPr/>
        </p:nvGrpSpPr>
        <p:grpSpPr>
          <a:xfrm>
            <a:off x="5364000" y="765000"/>
            <a:ext cx="2953080" cy="5635440"/>
            <a:chOff x="5364000" y="765000"/>
            <a:chExt cx="2953080" cy="5635440"/>
          </a:xfrm>
        </p:grpSpPr>
        <p:pic>
          <p:nvPicPr>
            <p:cNvPr id="581" name="Picture 5" descr="1"/>
            <p:cNvPicPr/>
            <p:nvPr/>
          </p:nvPicPr>
          <p:blipFill>
            <a:blip r:embed="rId1"/>
            <a:stretch/>
          </p:blipFill>
          <p:spPr>
            <a:xfrm>
              <a:off x="5364000" y="765000"/>
              <a:ext cx="2953080" cy="56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Line 6"/>
            <p:cNvSpPr/>
            <p:nvPr/>
          </p:nvSpPr>
          <p:spPr>
            <a:xfrm>
              <a:off x="6479640" y="4567680"/>
              <a:ext cx="0" cy="9504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7"/>
            <p:cNvSpPr/>
            <p:nvPr/>
          </p:nvSpPr>
          <p:spPr>
            <a:xfrm>
              <a:off x="6413760" y="5412240"/>
              <a:ext cx="131040" cy="211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8"/>
            <p:cNvSpPr/>
            <p:nvPr/>
          </p:nvSpPr>
          <p:spPr>
            <a:xfrm>
              <a:off x="7267320" y="5201280"/>
              <a:ext cx="0" cy="3168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9"/>
            <p:cNvSpPr/>
            <p:nvPr/>
          </p:nvSpPr>
          <p:spPr>
            <a:xfrm>
              <a:off x="7201440" y="5412240"/>
              <a:ext cx="131040" cy="2113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10"/>
          <p:cNvSpPr/>
          <p:nvPr/>
        </p:nvSpPr>
        <p:spPr>
          <a:xfrm>
            <a:off x="755640" y="1052640"/>
            <a:ext cx="3600360" cy="247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天的气温零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晚上气温零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若零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用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表示，那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零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℃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5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个高啊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1" descr="j0195812"/>
          <p:cNvPicPr/>
          <p:nvPr/>
        </p:nvPicPr>
        <p:blipFill>
          <a:blip r:embed="rId2"/>
          <a:stretch/>
        </p:blipFill>
        <p:spPr>
          <a:xfrm flipH="1">
            <a:off x="610920" y="4292640"/>
            <a:ext cx="1773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900000" y="2205000"/>
            <a:ext cx="7848720" cy="15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理由嘛，我们感觉零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零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1476360" y="4365720"/>
            <a:ext cx="6264360" cy="1191240"/>
          </a:xfrm>
          <a:prstGeom prst="rect">
            <a:avLst/>
          </a:prstGeom>
          <a:solidFill>
            <a:srgbClr val="e4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那么，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5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谁大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案：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900000" y="765000"/>
            <a:ext cx="7561440" cy="1081440"/>
          </a:xfrm>
          <a:custGeom>
            <a:avLst/>
            <a:gdLst>
              <a:gd name="textAreaLeft" fmla="*/ 1726200 w 7561440"/>
              <a:gd name="textAreaRight" fmla="*/ 5835240 w 7561440"/>
              <a:gd name="textAreaTop" fmla="*/ 246960 h 1081440"/>
              <a:gd name="textAreaBottom" fmla="*/ 834480 h 10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90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5℃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Rectangle 2" descr=""/>
          <p:cNvPicPr/>
          <p:nvPr/>
        </p:nvPicPr>
        <p:blipFill>
          <a:blip r:embed="rId1"/>
          <a:stretch/>
        </p:blipFill>
        <p:spPr>
          <a:xfrm>
            <a:off x="2639880" y="554040"/>
            <a:ext cx="3175200" cy="9936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 txBox="1"/>
          <p:nvPr/>
        </p:nvSpPr>
        <p:spPr>
          <a:xfrm>
            <a:off x="395280" y="2133360"/>
            <a:ext cx="8229600" cy="1252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前面我们已经知道，正数都大于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，而负数都小于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，也就是</a:t>
            </a: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Goudy Old Style"/>
              </a:rPr>
              <a:t>大于负数，由此看出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619280" y="3789360"/>
            <a:ext cx="5400720" cy="1079640"/>
          </a:xfrm>
          <a:prstGeom prst="rect">
            <a:avLst/>
          </a:prstGeom>
          <a:solidFill>
            <a:srgbClr val="f90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正数大于一切负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0"/>
          <p:cNvGrpSpPr/>
          <p:nvPr/>
        </p:nvGrpSpPr>
        <p:grpSpPr>
          <a:xfrm>
            <a:off x="5003640" y="1484280"/>
            <a:ext cx="3889080" cy="4752720"/>
            <a:chOff x="5003640" y="1484280"/>
            <a:chExt cx="3889080" cy="4752720"/>
          </a:xfrm>
        </p:grpSpPr>
        <p:grpSp>
          <p:nvGrpSpPr>
            <p:cNvPr id="595" name="Group 19"/>
            <p:cNvGrpSpPr/>
            <p:nvPr/>
          </p:nvGrpSpPr>
          <p:grpSpPr>
            <a:xfrm>
              <a:off x="5003640" y="1484280"/>
              <a:ext cx="3473280" cy="4752720"/>
              <a:chOff x="5003640" y="1484280"/>
              <a:chExt cx="3473280" cy="4752720"/>
            </a:xfrm>
          </p:grpSpPr>
          <p:sp>
            <p:nvSpPr>
              <p:cNvPr id="596" name="Rectangle 18"/>
              <p:cNvSpPr/>
              <p:nvPr/>
            </p:nvSpPr>
            <p:spPr>
              <a:xfrm>
                <a:off x="5047920" y="1626840"/>
                <a:ext cx="3317400" cy="4610160"/>
              </a:xfrm>
              <a:prstGeom prst="rect">
                <a:avLst/>
              </a:prstGeom>
              <a:gradFill rotWithShape="0">
                <a:gsLst>
                  <a:gs pos="0">
                    <a:srgbClr val="b1cced"/>
                  </a:gs>
                  <a:gs pos="100000">
                    <a:srgbClr val="0000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4"/>
              <p:cNvSpPr/>
              <p:nvPr/>
            </p:nvSpPr>
            <p:spPr>
              <a:xfrm>
                <a:off x="5003640" y="1626840"/>
                <a:ext cx="347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"/>
              <p:cNvSpPr/>
              <p:nvPr/>
            </p:nvSpPr>
            <p:spPr>
              <a:xfrm>
                <a:off x="5003640" y="1484280"/>
                <a:ext cx="3317040" cy="2937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6"/>
              <p:cNvSpPr/>
              <p:nvPr/>
            </p:nvSpPr>
            <p:spPr>
              <a:xfrm>
                <a:off x="7693200" y="1626840"/>
                <a:ext cx="0" cy="461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7"/>
              <p:cNvSpPr/>
              <p:nvPr/>
            </p:nvSpPr>
            <p:spPr>
              <a:xfrm>
                <a:off x="7693200" y="3470400"/>
                <a:ext cx="22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8"/>
              <p:cNvSpPr/>
              <p:nvPr/>
            </p:nvSpPr>
            <p:spPr>
              <a:xfrm>
                <a:off x="7693200" y="4463640"/>
                <a:ext cx="22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2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796080" y="3115440"/>
                <a:ext cx="896040" cy="651960"/>
              </a:xfrm>
              <a:prstGeom prst="rect">
                <a:avLst/>
              </a:prstGeom>
              <a:ln w="38160">
                <a:solidFill>
                  <a:srgbClr val="ff0000"/>
                </a:solidFill>
                <a:miter/>
              </a:ln>
            </p:spPr>
          </p:pic>
          <p:pic>
            <p:nvPicPr>
              <p:cNvPr id="603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6796080" y="4108680"/>
                <a:ext cx="896040" cy="651960"/>
              </a:xfrm>
              <a:prstGeom prst="rect">
                <a:avLst/>
              </a:prstGeom>
              <a:ln w="57240">
                <a:solidFill>
                  <a:srgbClr val="ffff66"/>
                </a:solidFill>
                <a:miter/>
              </a:ln>
            </p:spPr>
          </p:pic>
          <p:sp>
            <p:nvSpPr>
              <p:cNvPr id="604" name="Line 14"/>
              <p:cNvSpPr/>
              <p:nvPr/>
            </p:nvSpPr>
            <p:spPr>
              <a:xfrm flipH="1">
                <a:off x="6168240" y="3470400"/>
                <a:ext cx="1524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15"/>
              <p:cNvSpPr/>
              <p:nvPr/>
            </p:nvSpPr>
            <p:spPr>
              <a:xfrm flipH="1">
                <a:off x="5362200" y="4463640"/>
                <a:ext cx="2330640" cy="0"/>
              </a:xfrm>
              <a:prstGeom prst="line">
                <a:avLst/>
              </a:prstGeom>
              <a:ln w="38160">
                <a:solidFill>
                  <a:srgbClr val="ffff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6"/>
              <p:cNvSpPr/>
              <p:nvPr/>
            </p:nvSpPr>
            <p:spPr>
              <a:xfrm>
                <a:off x="6302880" y="1626840"/>
                <a:ext cx="0" cy="1843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7"/>
              <p:cNvSpPr/>
              <p:nvPr/>
            </p:nvSpPr>
            <p:spPr>
              <a:xfrm>
                <a:off x="5586480" y="1626840"/>
                <a:ext cx="0" cy="2836800"/>
              </a:xfrm>
              <a:prstGeom prst="line">
                <a:avLst/>
              </a:prstGeom>
              <a:ln w="381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Text Box 9"/>
            <p:cNvSpPr/>
            <p:nvPr/>
          </p:nvSpPr>
          <p:spPr>
            <a:xfrm>
              <a:off x="7872840" y="325908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5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10"/>
            <p:cNvSpPr/>
            <p:nvPr/>
          </p:nvSpPr>
          <p:spPr>
            <a:xfrm>
              <a:off x="7936200" y="42508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8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21"/>
          <p:cNvSpPr/>
          <p:nvPr/>
        </p:nvSpPr>
        <p:spPr>
          <a:xfrm>
            <a:off x="1116000" y="981000"/>
            <a:ext cx="3527280" cy="2113200"/>
          </a:xfrm>
          <a:prstGeom prst="rect">
            <a:avLst/>
          </a:prstGeom>
          <a:solidFill>
            <a:srgbClr val="e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海平面的高度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美人鱼在大海里游弋，美人鱼甲（红色）在海平面下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美人鱼乙（黄色）在海平面下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问：那个美人鱼的位置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2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1523880" cy="1841760"/>
          </a:xfrm>
          <a:prstGeom prst="rect">
            <a:avLst/>
          </a:prstGeom>
          <a:ln w="0">
            <a:noFill/>
          </a:ln>
        </p:spPr>
      </p:pic>
      <p:sp>
        <p:nvSpPr>
          <p:cNvPr id="612" name="AutoShape 23"/>
          <p:cNvSpPr/>
          <p:nvPr/>
        </p:nvSpPr>
        <p:spPr>
          <a:xfrm>
            <a:off x="1835280" y="4653000"/>
            <a:ext cx="2089080" cy="863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511280" cy="1930680"/>
          </a:xfrm>
          <a:prstGeom prst="rect">
            <a:avLst/>
          </a:prstGeom>
          <a:ln w="0">
            <a:noFill/>
          </a:ln>
        </p:spPr>
      </p:pic>
      <p:sp>
        <p:nvSpPr>
          <p:cNvPr id="614" name="AutoShape 6"/>
          <p:cNvSpPr/>
          <p:nvPr/>
        </p:nvSpPr>
        <p:spPr>
          <a:xfrm>
            <a:off x="1690560" y="3648240"/>
            <a:ext cx="2737080" cy="1438200"/>
          </a:xfrm>
          <a:prstGeom prst="wedgeEllipseCallout">
            <a:avLst>
              <a:gd name="adj1" fmla="val -43736"/>
              <a:gd name="adj2" fmla="val 69976"/>
            </a:avLst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人鱼乙的位置低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9"/>
          <p:cNvGrpSpPr/>
          <p:nvPr/>
        </p:nvGrpSpPr>
        <p:grpSpPr>
          <a:xfrm>
            <a:off x="5003640" y="1484280"/>
            <a:ext cx="3473640" cy="4752720"/>
            <a:chOff x="5003640" y="1484280"/>
            <a:chExt cx="3473640" cy="4752720"/>
          </a:xfrm>
        </p:grpSpPr>
        <p:sp>
          <p:nvSpPr>
            <p:cNvPr id="616" name="Rectangle 10"/>
            <p:cNvSpPr/>
            <p:nvPr/>
          </p:nvSpPr>
          <p:spPr>
            <a:xfrm>
              <a:off x="5047920" y="1626840"/>
              <a:ext cx="3317760" cy="4610160"/>
            </a:xfrm>
            <a:prstGeom prst="rect">
              <a:avLst/>
            </a:prstGeom>
            <a:gradFill rotWithShape="0">
              <a:gsLst>
                <a:gs pos="0">
                  <a:srgbClr val="b1cced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1"/>
            <p:cNvSpPr/>
            <p:nvPr/>
          </p:nvSpPr>
          <p:spPr>
            <a:xfrm>
              <a:off x="5003640" y="1626840"/>
              <a:ext cx="347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>
              <a:off x="5003640" y="1484280"/>
              <a:ext cx="3317400" cy="2937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3"/>
            <p:cNvSpPr/>
            <p:nvPr/>
          </p:nvSpPr>
          <p:spPr>
            <a:xfrm>
              <a:off x="7693560" y="1626840"/>
              <a:ext cx="0" cy="4610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4"/>
            <p:cNvSpPr/>
            <p:nvPr/>
          </p:nvSpPr>
          <p:spPr>
            <a:xfrm>
              <a:off x="7693560" y="3470400"/>
              <a:ext cx="22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>
              <a:off x="7693560" y="4463640"/>
              <a:ext cx="22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Picture 16" descr=""/>
            <p:cNvPicPr/>
            <p:nvPr/>
          </p:nvPicPr>
          <p:blipFill>
            <a:blip r:embed="rId2"/>
            <a:stretch/>
          </p:blipFill>
          <p:spPr>
            <a:xfrm>
              <a:off x="6796080" y="3115440"/>
              <a:ext cx="896400" cy="6519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623" name="Picture 17" descr=""/>
            <p:cNvPicPr/>
            <p:nvPr/>
          </p:nvPicPr>
          <p:blipFill>
            <a:blip r:embed="rId3"/>
            <a:stretch/>
          </p:blipFill>
          <p:spPr>
            <a:xfrm>
              <a:off x="6796080" y="4108680"/>
              <a:ext cx="896400" cy="651960"/>
            </a:xfrm>
            <a:prstGeom prst="rect">
              <a:avLst/>
            </a:prstGeom>
            <a:ln w="57240">
              <a:solidFill>
                <a:srgbClr val="ffff66"/>
              </a:solidFill>
              <a:miter/>
            </a:ln>
          </p:spPr>
        </p:pic>
        <p:sp>
          <p:nvSpPr>
            <p:cNvPr id="624" name="Line 18"/>
            <p:cNvSpPr/>
            <p:nvPr/>
          </p:nvSpPr>
          <p:spPr>
            <a:xfrm flipH="1">
              <a:off x="6168240" y="3470400"/>
              <a:ext cx="15246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9"/>
            <p:cNvSpPr/>
            <p:nvPr/>
          </p:nvSpPr>
          <p:spPr>
            <a:xfrm flipH="1">
              <a:off x="5361840" y="4463640"/>
              <a:ext cx="2331000" cy="0"/>
            </a:xfrm>
            <a:prstGeom prst="line">
              <a:avLst/>
            </a:prstGeom>
            <a:ln w="381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0"/>
            <p:cNvSpPr/>
            <p:nvPr/>
          </p:nvSpPr>
          <p:spPr>
            <a:xfrm>
              <a:off x="6303240" y="1626840"/>
              <a:ext cx="0" cy="184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1"/>
            <p:cNvSpPr/>
            <p:nvPr/>
          </p:nvSpPr>
          <p:spPr>
            <a:xfrm>
              <a:off x="5586480" y="1626840"/>
              <a:ext cx="0" cy="283680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 Box 22"/>
          <p:cNvSpPr/>
          <p:nvPr/>
        </p:nvSpPr>
        <p:spPr>
          <a:xfrm>
            <a:off x="7872480" y="3259080"/>
            <a:ext cx="9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7935840" y="425124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755640" y="836640"/>
            <a:ext cx="3384720" cy="642600"/>
          </a:xfrm>
          <a:prstGeom prst="rect">
            <a:avLst/>
          </a:prstGeom>
          <a:solidFill>
            <a:srgbClr val="e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从右图中我们可以看到，红线段的长度为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米，黄线段的长度为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米，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米大于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米，所以美人鱼乙的位置更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6"/>
          <p:cNvSpPr/>
          <p:nvPr/>
        </p:nvSpPr>
        <p:spPr>
          <a:xfrm>
            <a:off x="5867280" y="234936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7"/>
          <p:cNvSpPr/>
          <p:nvPr/>
        </p:nvSpPr>
        <p:spPr>
          <a:xfrm>
            <a:off x="5148360" y="306864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8"/>
          <p:cNvSpPr/>
          <p:nvPr/>
        </p:nvSpPr>
        <p:spPr>
          <a:xfrm>
            <a:off x="755640" y="2421000"/>
            <a:ext cx="3600360" cy="924480"/>
          </a:xfrm>
          <a:prstGeom prst="rect">
            <a:avLst/>
          </a:prstGeom>
          <a:solidFill>
            <a:srgbClr val="e5f5a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|</a:t>
            </a:r>
            <a:r>
              <a:rPr b="1" lang="zh-CN" sz="1800" spc="-1" strike="noStrike">
                <a:solidFill>
                  <a:srgbClr val="268868"/>
                </a:solidFill>
                <a:latin typeface="Arial"/>
              </a:rPr>
              <a:t>－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50|</a:t>
            </a:r>
            <a:r>
              <a:rPr b="1" lang="zh-CN" sz="1800" spc="-1" strike="noStrike">
                <a:solidFill>
                  <a:srgbClr val="268868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50</a:t>
            </a:r>
            <a:r>
              <a:rPr b="1" lang="zh-CN" sz="1800" spc="-1" strike="noStrike">
                <a:solidFill>
                  <a:srgbClr val="268868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|</a:t>
            </a:r>
            <a:r>
              <a:rPr b="1" lang="zh-CN" sz="1800" spc="-1" strike="noStrike">
                <a:solidFill>
                  <a:srgbClr val="268868"/>
                </a:solidFill>
                <a:latin typeface="Arial"/>
              </a:rPr>
              <a:t>－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80|</a:t>
            </a:r>
            <a:r>
              <a:rPr b="1" lang="zh-CN" sz="1800" spc="-1" strike="noStrike">
                <a:solidFill>
                  <a:srgbClr val="268868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8868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268868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268868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268868"/>
                </a:solidFill>
                <a:latin typeface="Arial"/>
              </a:rPr>
              <a:t>8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1:19:31Z</dcterms:created>
  <dc:creator>12999数学网 www.12999.com</dc:creator>
  <dc:description>教学资源网</dc:description>
  <cp:keywords>教学资源网</cp:keywords>
  <dc:language>en-US</dc:language>
  <cp:lastModifiedBy>微软用户</cp:lastModifiedBy>
  <dcterms:modified xsi:type="dcterms:W3CDTF">2012-07-21T02:16:51Z</dcterms:modified>
  <cp:revision>1</cp:revision>
  <dc:subject>12999数学网 www.12999.com</dc:subject>
  <dc:title>12999数学网 www.12999.com</dc:title>
</cp:coreProperties>
</file>