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gif" ContentType="image/gif"/>
  <Override PartName="/ppt/media/image15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E3E3-8C52-42CC-8E94-9E2B7374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8CBE-9C9C-49D6-84BD-4CC78C1D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A6B7-6494-47FC-A994-CA618A86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C173-7D53-4429-BF95-210C2DBD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BEF4-DC88-4C5B-BBFC-92E8285D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773B-51E5-4942-86CA-904B640C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215E-D30C-4C5E-B2FE-D11B1017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CFCF-DE5A-4A41-A662-FF6B20C7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B56A-016B-4401-9D5D-8F31C598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B0D8-DC6F-44D0-B6D1-DC247E5E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32AD-363E-4E98-87EB-3FC2D8C3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A004-6E37-4384-87A4-50311C46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7584-5864-4F46-9F11-25CB6BFE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998C-E54D-4239-AB94-CF9B31CE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4635-89BF-435B-A3BA-3FAA9BEB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FF6A-FAC6-4D20-9B56-F429282C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1269-5269-4450-A9CA-FFE6B6BE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DDAB4-3C74-4459-BA83-91654BEC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5D556-CD4C-47A9-B1B8-A96E01E3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BA980-ED7C-4DD6-851E-4F87098B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C9AFE-214C-458B-BE51-1D0DF2DA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6E919-817E-4F9D-9DDA-B5DB7BFD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46FB-F494-43C1-8E36-A047B3DB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8C711-F5FB-4BDB-9538-FC49278F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E8B34-7534-4762-A80D-E697E10C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F471D-28C8-4AF2-92BB-0DB31397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388B8-E134-46C9-B268-A047ACD6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8AAA6-00C0-491E-BBCD-ADBCAA75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28383-303F-4A45-AAAB-EDE8043F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FCFF2-1E82-461D-8360-EE992594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79A5B-9FE8-4B40-9311-F78CDEB4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B9481-699D-4C99-A072-92D2465A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A2B4F-30F5-4693-BB31-B6C8204E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94ED-5589-4B68-AEF3-ED1AFE51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25CA7-436E-42E4-9835-AC27B2B7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AD475-B194-4682-BFA8-A5072030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93349-C476-456A-A46C-3BE2105C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ED2AC-2D7F-4F40-B320-F4284D9B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FC40C-843C-4609-9C52-5168905B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8FCDA-5E86-458C-B8BB-38AE1245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3E5D9-6BFB-45B7-84E0-4297D825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7BEB1-ADA7-499D-A851-1C31DF86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F1A40-2C46-44E2-8391-16A2A893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62153-CCE4-40F4-B713-782EDB94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0547-17E8-4B05-B574-BB4689D5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7F371-9BEB-4A39-B886-7C2ABE38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11299-C70E-4871-A83E-21A31F9A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1C5EB-0E5B-4CB4-B4E5-3703B633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692E0-4958-499F-9E32-4161643A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138FA-E9D6-42C5-8FAA-2FDA275C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F7B0F-4587-4D5D-853F-45E6F6B7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15CBF-8ABB-42BD-A8B7-6ED4C319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269D8-F7D3-43FA-A8E9-65A9556D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E864C-056A-4D52-A0AB-B0D27A62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E0183-A406-40EA-B4E1-92CAA35F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BE8-EBF4-440D-90C7-398C183A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E564E-B15B-491E-B088-1FF31FBC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4B959-273B-44BE-9488-A986FFB2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F599B-3C0E-40A7-A7EC-7973C69E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AA59F-E0F9-4709-BDF6-1532C1A2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F9A29-FF1B-448C-90B9-1A8B2957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75ECC-D6A6-4FD5-AD66-7DA2C0A8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F2427-4F79-4059-A372-D3360F34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0499F-8C23-47AA-8BD7-54E394D4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39A18-C36E-4C43-AF1C-84CD7CFD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3199A-1A7B-4B9A-8134-96594B6D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B452-799B-493C-BB60-A87AFBD5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EFE6D-E1CA-4FDC-8BC8-04F19928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4CD7E-C72B-41E9-B558-108C2BD5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90D05-703A-40C1-BFAA-A5FCB4BB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89891-7CE9-46AD-A12F-93380892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BDC44-C637-46E8-A8CF-DF158B74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49957-C7C4-4A69-9778-C0635D69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AFCDF-3C04-42B6-9A72-14F4D8FC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FACEE-512D-4864-A7E3-82FA609F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F6A99-D349-4F19-9885-A09D92FB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C364F-9C34-4595-A935-87A19567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1893-B0BD-4B79-8533-4FD543FF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414DA-BE6F-43F6-AAC9-21A9DDCB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73F35-0DA6-423A-B9CA-44ACD62C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93832-2087-48CC-A0F8-94F5739D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515A2-CE9D-4836-9197-7523F7D3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8E3A8-8B7A-4B6E-90AA-E37A22D8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DCDF-F789-4D8F-8475-DAA595E2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ed3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aed3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763120" y="0"/>
            <a:ext cx="380880" cy="3268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1EF5-24B1-49DE-A943-D92CCA954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0" y="4705200"/>
            <a:ext cx="8537400" cy="215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ed3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7416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2916000" y="6337080"/>
            <a:ext cx="158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4571640" y="63370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7947000" y="633708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7E7C-1AF3-476F-A789-1BD2FA1BF5F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aed3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73080" y="836280"/>
            <a:ext cx="90360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763120" y="0"/>
            <a:ext cx="380880" cy="326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553080"/>
          </a:xfrm>
          <a:prstGeom prst="rect">
            <a:avLst/>
          </a:prstGeom>
          <a:gradFill rotWithShape="0">
            <a:gsLst>
              <a:gs pos="0">
                <a:srgbClr val="231d97"/>
              </a:gs>
              <a:gs pos="100000">
                <a:srgbClr val="78a1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6200" y="620640"/>
            <a:ext cx="820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2916000" y="6337080"/>
            <a:ext cx="158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4571640" y="63370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7947000" y="633708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25B0-AE3E-4E44-A62A-E939EEDDD62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324480"/>
            <a:ext cx="91440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61f5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0"/>
            <a:ext cx="9144000" cy="494172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8640" y="1603080"/>
            <a:ext cx="8226720" cy="3087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42960" indent="-247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88920" indent="-198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84200" indent="-199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778040" indent="-19692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B363-E5FD-4582-A2E3-2A320AB31E63}" type="slidenum"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4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5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1659-53F2-4789-867E-BD6729CF325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  <a:p>
            <a:pPr lvl="1" marL="395280"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a0c6ea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a0c6ea"/>
              </a:solidFill>
              <a:latin typeface="Arial"/>
            </a:endParaRPr>
          </a:p>
          <a:p>
            <a:pPr lvl="2" marL="790560" algn="ctr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184400" algn="ctr"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4" marL="1581120" algn="ctr">
              <a:spcBef>
                <a:spcPts val="2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5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6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90840" y="0"/>
            <a:ext cx="7553160" cy="6846840"/>
          </a:xfrm>
          <a:prstGeom prst="rect">
            <a:avLst/>
          </a:prstGeom>
          <a:solidFill>
            <a:srgbClr val="c0c0c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69920" y="276120"/>
            <a:ext cx="671544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969920" y="1598760"/>
            <a:ext cx="671688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1" marL="727200" indent="-2793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2" marL="1119240" indent="-22392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3" marL="1566720" indent="-2235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4" marL="2014560" indent="-223920">
              <a:spcBef>
                <a:spcPts val="476"/>
              </a:spcBef>
              <a:buClr>
                <a:srgbClr val="009999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5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6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6641-1292-4A79-9F0A-58AF074E80B7}" type="slidenum"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EE77-9227-4AA7-BCB1-77B53F6E11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828800" y="2514600"/>
            <a:ext cx="61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Arial"/>
                <a:ea typeface="仿宋"/>
              </a:rPr>
              <a:t>5.3</a:t>
            </a:r>
            <a:r>
              <a:rPr b="1" lang="zh-CN" sz="3200" spc="-1" strike="noStrike">
                <a:solidFill>
                  <a:srgbClr val="061f5b"/>
                </a:solidFill>
                <a:latin typeface="Arial"/>
                <a:ea typeface="仿宋"/>
              </a:rPr>
              <a:t>　图形变换的简单应用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 rot="5400000">
            <a:off x="228240" y="22096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 rot="16200000">
            <a:off x="1905120" y="5335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 flipH="1" rot="5400000">
            <a:off x="228240" y="53316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457200" y="4267080"/>
            <a:ext cx="24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解：方案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11160" y="5137200"/>
            <a:ext cx="68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）将（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）方案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的图形摆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个在一起即可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09480" y="1711440"/>
            <a:ext cx="8305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61f5b"/>
                </a:solidFill>
                <a:latin typeface="黑体"/>
                <a:ea typeface="黑体"/>
              </a:rPr>
              <a:t>    </a:t>
            </a:r>
            <a:r>
              <a:rPr b="1" lang="zh-CN" sz="2200" spc="-1" strike="noStrike">
                <a:solidFill>
                  <a:srgbClr val="061f5b"/>
                </a:solidFill>
                <a:latin typeface="Times New Roman"/>
                <a:ea typeface="黑体"/>
              </a:rPr>
              <a:t>下图中只能用其中一部分平移可以得到的是</a:t>
            </a:r>
            <a:r>
              <a:rPr b="1" lang="zh-CN" sz="2200" spc="-1" strike="noStrike">
                <a:solidFill>
                  <a:srgbClr val="061f5b"/>
                </a:solidFill>
                <a:latin typeface="Arial"/>
              </a:rPr>
              <a:t>（        ）</a:t>
            </a:r>
            <a:r>
              <a:rPr b="1" lang="en-US" sz="2200" spc="-1" strike="noStrike">
                <a:solidFill>
                  <a:srgbClr val="061f5b"/>
                </a:solidFill>
                <a:latin typeface="宋体"/>
              </a:rPr>
              <a:t>.</a:t>
            </a:r>
            <a:endParaRPr b="0" lang="en-US" sz="22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828800" y="4343400"/>
            <a:ext cx="6172200" cy="1222200"/>
            <a:chOff x="1828800" y="4343400"/>
            <a:chExt cx="6172200" cy="1222200"/>
          </a:xfrm>
        </p:grpSpPr>
        <p:sp>
          <p:nvSpPr>
            <p:cNvPr id="364" name=""/>
            <p:cNvSpPr/>
            <p:nvPr/>
          </p:nvSpPr>
          <p:spPr>
            <a:xfrm>
              <a:off x="2209680" y="4365720"/>
              <a:ext cx="5791320" cy="11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轴对称、平移不改变图形的形状和大小</a:t>
              </a:r>
              <a:r>
                <a:rPr b="1" lang="en-US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.</a:t>
              </a:r>
              <a:endParaRPr b="0" lang="en-US" sz="22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平移前后图形对应点连线平行且相等，</a:t>
              </a:r>
              <a:endParaRPr b="0" lang="en-US" sz="22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故选</a:t>
              </a:r>
              <a:r>
                <a:rPr b="1" lang="en-US" sz="22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B.</a:t>
              </a:r>
              <a:endParaRPr b="0" lang="en-US" sz="22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28800" y="4343400"/>
              <a:ext cx="457200" cy="457200"/>
            </a:xfrm>
            <a:custGeom>
              <a:avLst/>
              <a:gdLst>
                <a:gd name="textAreaLeft" fmla="*/ 104760 w 457200"/>
                <a:gd name="textAreaRight" fmla="*/ 352440 w 457200"/>
                <a:gd name="textAreaTop" fmla="*/ 104760 h 457200"/>
                <a:gd name="textAreaBottom" fmla="*/ 3524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61f5b"/>
                  </a:solidFill>
                  <a:latin typeface="Arial"/>
                </a:rPr>
                <a:t>解</a:t>
              </a:r>
              <a:endParaRPr b="0" lang="en-US" sz="22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6400800" y="187308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828800" y="2286000"/>
            <a:ext cx="5562720" cy="1834200"/>
            <a:chOff x="1828800" y="2286000"/>
            <a:chExt cx="5562720" cy="1834200"/>
          </a:xfrm>
        </p:grpSpPr>
        <p:pic>
          <p:nvPicPr>
            <p:cNvPr id="368" name="" descr=""/>
            <p:cNvPicPr/>
            <p:nvPr/>
          </p:nvPicPr>
          <p:blipFill>
            <a:blip r:embed="rId1"/>
            <a:stretch/>
          </p:blipFill>
          <p:spPr>
            <a:xfrm>
              <a:off x="1828800" y="2286000"/>
              <a:ext cx="5486400" cy="161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9" name=""/>
            <p:cNvGrpSpPr/>
            <p:nvPr/>
          </p:nvGrpSpPr>
          <p:grpSpPr>
            <a:xfrm>
              <a:off x="1828800" y="3654360"/>
              <a:ext cx="5562720" cy="465840"/>
              <a:chOff x="1828800" y="3654360"/>
              <a:chExt cx="5562720" cy="465840"/>
            </a:xfrm>
          </p:grpSpPr>
          <p:sp>
            <p:nvSpPr>
              <p:cNvPr id="370" name=""/>
              <p:cNvSpPr/>
              <p:nvPr/>
            </p:nvSpPr>
            <p:spPr>
              <a:xfrm>
                <a:off x="6095880" y="3654360"/>
                <a:ext cx="1295640" cy="4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61f5b"/>
                    </a:solidFill>
                    <a:latin typeface="Times New Roman"/>
                  </a:rPr>
                  <a:t>D</a:t>
                </a:r>
                <a:endParaRPr b="0" lang="en-US" sz="22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828800" y="3657600"/>
                <a:ext cx="990720" cy="4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61f5b"/>
                    </a:solidFill>
                    <a:latin typeface="Times New Roman"/>
                  </a:rPr>
                  <a:t>A</a:t>
                </a:r>
                <a:endParaRPr b="0" lang="en-US" sz="22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124080" y="3654360"/>
                <a:ext cx="1067040" cy="4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61f5b"/>
                    </a:solidFill>
                    <a:latin typeface="Times New Roman"/>
                  </a:rPr>
                  <a:t>B</a:t>
                </a:r>
                <a:endParaRPr b="0" lang="en-US" sz="22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267080" y="3657600"/>
                <a:ext cx="1447920" cy="4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61f5b"/>
                    </a:solidFill>
                    <a:latin typeface="Times New Roman"/>
                  </a:rPr>
                  <a:t>C</a:t>
                </a:r>
                <a:endParaRPr b="0" lang="en-US" sz="22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</p:grp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1790640" cy="5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1676520" y="4191120"/>
            <a:ext cx="6172200" cy="853200"/>
            <a:chOff x="1676520" y="4191120"/>
            <a:chExt cx="6172200" cy="853200"/>
          </a:xfrm>
        </p:grpSpPr>
        <p:sp>
          <p:nvSpPr>
            <p:cNvPr id="376" name=""/>
            <p:cNvSpPr/>
            <p:nvPr/>
          </p:nvSpPr>
          <p:spPr>
            <a:xfrm>
              <a:off x="2057400" y="4213080"/>
              <a:ext cx="5791320" cy="83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圆弧与扇形的对称轴是过弧中点和圆心的直线</a:t>
              </a:r>
              <a:r>
                <a:rPr b="1" lang="en-US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角的对称轴是角平分线所在的直线</a:t>
              </a:r>
              <a:r>
                <a:rPr b="1" lang="en-US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菱形和等腰梯形是轴对称图形</a:t>
              </a:r>
              <a:r>
                <a:rPr b="1" lang="en-US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.</a:t>
              </a:r>
              <a:endParaRPr b="0" lang="en-US" sz="22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76520" y="4191120"/>
              <a:ext cx="457200" cy="456840"/>
            </a:xfrm>
            <a:custGeom>
              <a:avLst/>
              <a:gdLst>
                <a:gd name="textAreaLeft" fmla="*/ 104760 w 457200"/>
                <a:gd name="textAreaRight" fmla="*/ 352440 w 457200"/>
                <a:gd name="textAreaTop" fmla="*/ 104760 h 456840"/>
                <a:gd name="textAreaBottom" fmla="*/ 35208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61f5b"/>
                  </a:solidFill>
                  <a:latin typeface="Arial"/>
                </a:rPr>
                <a:t>解</a:t>
              </a:r>
              <a:endParaRPr b="0" lang="en-US" sz="22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838080" y="1711440"/>
            <a:ext cx="8305920" cy="2256120"/>
            <a:chOff x="838080" y="1711440"/>
            <a:chExt cx="8305920" cy="2256120"/>
          </a:xfrm>
        </p:grpSpPr>
        <p:sp>
          <p:nvSpPr>
            <p:cNvPr id="379" name=""/>
            <p:cNvSpPr/>
            <p:nvPr/>
          </p:nvSpPr>
          <p:spPr>
            <a:xfrm>
              <a:off x="838080" y="1711440"/>
              <a:ext cx="83059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如图，下列几何图形中，一定是轴对称图形的有</a:t>
              </a:r>
              <a:r>
                <a:rPr b="1" lang="zh-CN" sz="2200" spc="-1" strike="noStrike">
                  <a:solidFill>
                    <a:srgbClr val="061f5b"/>
                  </a:solidFill>
                  <a:latin typeface="Arial"/>
                </a:rPr>
                <a:t>（        ）</a:t>
              </a:r>
              <a:r>
                <a:rPr b="1" lang="en-US" sz="2200" spc="-1" strike="noStrike">
                  <a:solidFill>
                    <a:srgbClr val="061f5b"/>
                  </a:solidFill>
                  <a:latin typeface="宋体"/>
                </a:rPr>
                <a:t>.</a:t>
              </a:r>
              <a:endParaRPr b="0" lang="en-US" sz="22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43000" y="3504960"/>
              <a:ext cx="701028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61f5b"/>
                  </a:solidFill>
                  <a:latin typeface="Times New Roman"/>
                </a:rPr>
                <a:t>A.2</a:t>
              </a:r>
              <a:r>
                <a:rPr b="1" lang="zh-CN" sz="22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个</a:t>
              </a:r>
              <a:r>
                <a:rPr b="1" lang="en-US" sz="2200" spc="-1" strike="noStrike">
                  <a:solidFill>
                    <a:srgbClr val="061f5b"/>
                  </a:solidFill>
                  <a:latin typeface="Times New Roman"/>
                </a:rPr>
                <a:t>                    </a:t>
              </a:r>
              <a:r>
                <a:rPr b="1" lang="en-US" sz="2200" spc="-1" strike="noStrike">
                  <a:solidFill>
                    <a:srgbClr val="061f5b"/>
                  </a:solidFill>
                  <a:latin typeface="Times New Roman"/>
                </a:rPr>
                <a:t>B.3</a:t>
              </a:r>
              <a:r>
                <a:rPr b="1" lang="zh-CN" sz="22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个</a:t>
              </a:r>
              <a:r>
                <a:rPr b="1" lang="en-US" sz="2200" spc="-1" strike="noStrike">
                  <a:solidFill>
                    <a:srgbClr val="061f5b"/>
                  </a:solidFill>
                  <a:latin typeface="Times New Roman"/>
                </a:rPr>
                <a:t>                 </a:t>
              </a:r>
              <a:r>
                <a:rPr b="1" lang="en-US" sz="2200" spc="-1" strike="noStrike">
                  <a:solidFill>
                    <a:srgbClr val="061f5b"/>
                  </a:solidFill>
                  <a:latin typeface="Times New Roman"/>
                </a:rPr>
                <a:t>C.4</a:t>
              </a:r>
              <a:r>
                <a:rPr b="1" lang="zh-CN" sz="22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个</a:t>
              </a:r>
              <a:r>
                <a:rPr b="1" lang="en-US" sz="2200" spc="-1" strike="noStrike">
                  <a:solidFill>
                    <a:srgbClr val="061f5b"/>
                  </a:solidFill>
                  <a:latin typeface="Times New Roman"/>
                </a:rPr>
                <a:t>                 </a:t>
              </a:r>
              <a:r>
                <a:rPr b="1" lang="en-US" sz="2200" spc="-1" strike="noStrike">
                  <a:solidFill>
                    <a:srgbClr val="061f5b"/>
                  </a:solidFill>
                  <a:latin typeface="Times New Roman"/>
                </a:rPr>
                <a:t>D.5</a:t>
              </a:r>
              <a:r>
                <a:rPr b="1" lang="zh-CN" sz="22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个</a:t>
              </a:r>
              <a:endParaRPr b="0" lang="en-US" sz="22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381" name="" descr=""/>
            <p:cNvPicPr/>
            <p:nvPr/>
          </p:nvPicPr>
          <p:blipFill>
            <a:blip r:embed="rId1"/>
            <a:stretch/>
          </p:blipFill>
          <p:spPr>
            <a:xfrm>
              <a:off x="1371600" y="2341440"/>
              <a:ext cx="6164280" cy="116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2" name=""/>
          <p:cNvSpPr/>
          <p:nvPr/>
        </p:nvSpPr>
        <p:spPr>
          <a:xfrm>
            <a:off x="6629400" y="182880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1790640" cy="5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676520" y="1965240"/>
            <a:ext cx="5333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.</a:t>
            </a:r>
            <a:r>
              <a:rPr b="1" lang="en-US" sz="25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什么样的图形叫轴对称图形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？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676520" y="2666880"/>
            <a:ext cx="7010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2.</a:t>
            </a:r>
            <a:r>
              <a:rPr b="1" lang="en-US" sz="25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什么样的图形变换叫轴对称变换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（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轴反射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）？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76520" y="3413160"/>
            <a:ext cx="4952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.</a:t>
            </a:r>
            <a:r>
              <a:rPr b="1" lang="en-US" sz="25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轴对称变换有哪些性质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？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76520" y="4114800"/>
            <a:ext cx="510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4.</a:t>
            </a:r>
            <a:r>
              <a:rPr b="1" lang="en-US" sz="25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什么样的图形变换叫旋转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？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76520" y="4784760"/>
            <a:ext cx="4419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5.</a:t>
            </a:r>
            <a:r>
              <a:rPr b="1" lang="en-US" sz="25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旋转有哪些性质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？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8194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38080" y="3352680"/>
            <a:ext cx="1447920" cy="457200"/>
          </a:xfrm>
          <a:prstGeom prst="rect">
            <a:avLst/>
          </a:prstGeom>
          <a:solidFill>
            <a:srgbClr val="ffff8f"/>
          </a:solidFill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Arial"/>
                <a:ea typeface="黑体"/>
              </a:rPr>
              <a:t>图形变换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971800" y="3200400"/>
            <a:ext cx="1752480" cy="914400"/>
          </a:xfrm>
          <a:prstGeom prst="rect">
            <a:avLst/>
          </a:prstGeom>
          <a:solidFill>
            <a:srgbClr val="ffff8f"/>
          </a:solidFill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Arial"/>
                <a:ea typeface="黑体"/>
              </a:rPr>
              <a:t>轴对称变换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Arial"/>
                <a:ea typeface="黑体"/>
              </a:rPr>
              <a:t>（轴反射）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71800" y="1828800"/>
            <a:ext cx="914400" cy="457200"/>
          </a:xfrm>
          <a:prstGeom prst="rect">
            <a:avLst/>
          </a:prstGeom>
          <a:solidFill>
            <a:srgbClr val="ffff8f"/>
          </a:solidFill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Arial"/>
                <a:ea typeface="黑体"/>
              </a:rPr>
              <a:t>平移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5029200"/>
            <a:ext cx="914400" cy="457200"/>
          </a:xfrm>
          <a:prstGeom prst="rect">
            <a:avLst/>
          </a:prstGeom>
          <a:solidFill>
            <a:srgbClr val="ffff8f"/>
          </a:solidFill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Arial"/>
                <a:ea typeface="黑体"/>
              </a:rPr>
              <a:t>旋转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705720" y="3276720"/>
            <a:ext cx="1752480" cy="761760"/>
          </a:xfrm>
          <a:prstGeom prst="rect">
            <a:avLst/>
          </a:prstGeom>
          <a:solidFill>
            <a:srgbClr val="ffff8f"/>
          </a:solidFill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Arial"/>
                <a:ea typeface="黑体"/>
              </a:rPr>
              <a:t>图形变换的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Arial"/>
                <a:ea typeface="黑体"/>
              </a:rPr>
              <a:t>简单应用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800600" y="3657600"/>
            <a:ext cx="19051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62520" y="5257800"/>
            <a:ext cx="3657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0120" y="4114800"/>
            <a:ext cx="0" cy="11430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361960" y="2057400"/>
            <a:ext cx="609840" cy="3200400"/>
            <a:chOff x="2361960" y="2057400"/>
            <a:chExt cx="609840" cy="3200400"/>
          </a:xfrm>
        </p:grpSpPr>
        <p:sp>
          <p:nvSpPr>
            <p:cNvPr id="399" name=""/>
            <p:cNvSpPr/>
            <p:nvPr/>
          </p:nvSpPr>
          <p:spPr>
            <a:xfrm>
              <a:off x="2667240" y="3657600"/>
              <a:ext cx="0" cy="16002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361960" y="3657600"/>
              <a:ext cx="60948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667240" y="5257800"/>
              <a:ext cx="3045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667240" y="2057400"/>
              <a:ext cx="0" cy="160020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2667240" y="2057400"/>
              <a:ext cx="304560" cy="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 flipH="1">
            <a:off x="3962520" y="2057400"/>
            <a:ext cx="3657600" cy="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20120" y="2057400"/>
            <a:ext cx="0" cy="121932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8194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066680" y="192096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.</a:t>
            </a:r>
            <a:r>
              <a:rPr b="1" lang="en-US" sz="25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轴对称变换（轴反射）可以看做是将图形沿直线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（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对称轴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）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翻折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80°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066680" y="2895480"/>
            <a:ext cx="701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2.</a:t>
            </a:r>
            <a:r>
              <a:rPr b="1" lang="en-US" sz="25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旋转是将图形上每一个点绕平面内一个定点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（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旋转中心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）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旋转同一个角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66680" y="3946680"/>
            <a:ext cx="7315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.</a:t>
            </a:r>
            <a:r>
              <a:rPr b="1" lang="en-US" sz="25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轴对称变换、旋转不改变图形的形状和大小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8194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图片 2" descr="c3bebc432473f29708cd2752a57d107c.jpg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732720"/>
          </a:xfrm>
          <a:prstGeom prst="rect">
            <a:avLst/>
          </a:prstGeom>
          <a:ln w="0">
            <a:noFill/>
          </a:ln>
        </p:spPr>
      </p:pic>
      <p:pic>
        <p:nvPicPr>
          <p:cNvPr id="412" name="图片 1" descr="6a819a4096491ff90623c57b0dd773ec.gif"/>
          <p:cNvPicPr/>
          <p:nvPr/>
        </p:nvPicPr>
        <p:blipFill>
          <a:blip r:embed="rId2"/>
          <a:stretch/>
        </p:blipFill>
        <p:spPr>
          <a:xfrm>
            <a:off x="0" y="125280"/>
            <a:ext cx="1446120" cy="1446480"/>
          </a:xfrm>
          <a:prstGeom prst="rect">
            <a:avLst/>
          </a:prstGeom>
          <a:ln w="0">
            <a:noFill/>
          </a:ln>
        </p:spPr>
      </p:pic>
      <p:sp>
        <p:nvSpPr>
          <p:cNvPr id="413" name="矩形 3"/>
          <p:cNvSpPr/>
          <p:nvPr/>
        </p:nvSpPr>
        <p:spPr>
          <a:xfrm>
            <a:off x="3650040" y="571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微软雅黑"/>
              </a:rPr>
              <a:t>谢谢！</a:t>
            </a:r>
            <a:endParaRPr b="0" lang="en-US" sz="54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685800"/>
            <a:ext cx="7467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欣赏下列图案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（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如图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）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，说出它们分别是由哪个基础图形经过怎样的变换得到的，在图中把基础图形标出来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（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或把基础图形画出来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）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191120" cy="21178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6400800" y="1752480"/>
            <a:ext cx="2577960" cy="25783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4343400" y="4038480"/>
            <a:ext cx="2349360" cy="2349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0" y="76320"/>
            <a:ext cx="2048040" cy="723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255680" y="464652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61f5b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61f5b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61f5b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332840" y="4514760"/>
            <a:ext cx="12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61f5b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61f5b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61f5b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03640" y="642132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61f5b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61f5b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61f5b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4191120" cy="21160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152280" y="4800600"/>
            <a:ext cx="1444680" cy="163044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609480" y="2742840"/>
            <a:ext cx="3733920" cy="1562040"/>
            <a:chOff x="609480" y="2742840"/>
            <a:chExt cx="3733920" cy="1562040"/>
          </a:xfrm>
        </p:grpSpPr>
        <p:sp>
          <p:nvSpPr>
            <p:cNvPr id="318" name=""/>
            <p:cNvSpPr/>
            <p:nvPr/>
          </p:nvSpPr>
          <p:spPr>
            <a:xfrm flipH="1" flipV="1">
              <a:off x="609120" y="2742480"/>
              <a:ext cx="3733920" cy="1562040"/>
            </a:xfrm>
            <a:prstGeom prst="wedgeRoundRectCallout">
              <a:avLst>
                <a:gd name="adj1" fmla="val 36305"/>
                <a:gd name="adj2" fmla="val -77337"/>
                <a:gd name="adj3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bbe0e3"/>
                  </a:solidFill>
                  <a:latin typeface="黑体"/>
                  <a:ea typeface="黑体"/>
                </a:rPr>
                <a:t>图</a:t>
              </a:r>
              <a:r>
                <a:rPr b="1" lang="zh-CN" sz="2500" spc="-1" strike="noStrike">
                  <a:solidFill>
                    <a:srgbClr val="bbe0e3"/>
                  </a:solidFill>
                  <a:latin typeface="宋体"/>
                </a:rPr>
                <a:t>（</a:t>
              </a:r>
              <a:r>
                <a:rPr b="1" lang="zh-CN" sz="2500" spc="-1" strike="noStrike">
                  <a:solidFill>
                    <a:srgbClr val="bbe0e3"/>
                  </a:solidFill>
                  <a:latin typeface="Times New Roman"/>
                </a:rPr>
                <a:t>1</a:t>
              </a:r>
              <a:r>
                <a:rPr b="1" lang="zh-CN" sz="2500" spc="-1" strike="noStrike">
                  <a:solidFill>
                    <a:srgbClr val="bbe0e3"/>
                  </a:solidFill>
                  <a:latin typeface="宋体"/>
                </a:rPr>
                <a:t>）</a:t>
              </a:r>
              <a:r>
                <a:rPr b="1" lang="zh-CN" sz="2500" spc="-1" strike="noStrike">
                  <a:solidFill>
                    <a:srgbClr val="bbe0e3"/>
                  </a:solidFill>
                  <a:latin typeface="黑体"/>
                  <a:ea typeface="黑体"/>
                </a:rPr>
                <a:t>是由正方形图案   作平移得到的</a:t>
              </a:r>
              <a:r>
                <a:rPr b="1" lang="zh-CN" sz="2500" spc="-1" strike="noStrike">
                  <a:solidFill>
                    <a:srgbClr val="bbe0e3"/>
                  </a:solidFill>
                  <a:latin typeface="Times New Roman"/>
                  <a:ea typeface="黑体"/>
                </a:rPr>
                <a:t>.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3"/>
            <a:stretch/>
          </p:blipFill>
          <p:spPr>
            <a:xfrm>
              <a:off x="1218960" y="350532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"/>
          <p:cNvSpPr/>
          <p:nvPr/>
        </p:nvSpPr>
        <p:spPr>
          <a:xfrm>
            <a:off x="6376680" y="2895480"/>
            <a:ext cx="8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bbe0e3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bbe0e3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52280" y="4800600"/>
            <a:ext cx="1444680" cy="16304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5867280" y="685800"/>
            <a:ext cx="2578320" cy="257796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609480" y="2742840"/>
            <a:ext cx="3733920" cy="1562040"/>
            <a:chOff x="609480" y="2742840"/>
            <a:chExt cx="3733920" cy="1562040"/>
          </a:xfrm>
        </p:grpSpPr>
        <p:sp>
          <p:nvSpPr>
            <p:cNvPr id="324" name=""/>
            <p:cNvSpPr/>
            <p:nvPr/>
          </p:nvSpPr>
          <p:spPr>
            <a:xfrm flipH="1" flipV="1">
              <a:off x="609120" y="2742480"/>
              <a:ext cx="3733920" cy="1562040"/>
            </a:xfrm>
            <a:prstGeom prst="wedgeRoundRectCallout">
              <a:avLst>
                <a:gd name="adj1" fmla="val 36305"/>
                <a:gd name="adj2" fmla="val -77337"/>
                <a:gd name="adj3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bbe0e3"/>
                  </a:solidFill>
                  <a:latin typeface="黑体"/>
                  <a:ea typeface="黑体"/>
                </a:rPr>
                <a:t>图</a:t>
              </a:r>
              <a:r>
                <a:rPr b="1" lang="zh-CN" sz="2500" spc="-1" strike="noStrike">
                  <a:solidFill>
                    <a:srgbClr val="bbe0e3"/>
                  </a:solidFill>
                  <a:latin typeface="宋体"/>
                </a:rPr>
                <a:t>（</a:t>
              </a:r>
              <a:r>
                <a:rPr b="1" lang="zh-CN" sz="2500" spc="-1" strike="noStrike">
                  <a:solidFill>
                    <a:srgbClr val="bbe0e3"/>
                  </a:solidFill>
                  <a:latin typeface="Times New Roman"/>
                </a:rPr>
                <a:t>2</a:t>
              </a:r>
              <a:r>
                <a:rPr b="1" lang="zh-CN" sz="2500" spc="-1" strike="noStrike">
                  <a:solidFill>
                    <a:srgbClr val="bbe0e3"/>
                  </a:solidFill>
                  <a:latin typeface="宋体"/>
                </a:rPr>
                <a:t>）</a:t>
              </a:r>
              <a:r>
                <a:rPr b="1" lang="zh-CN" sz="2500" spc="-1" strike="noStrike">
                  <a:solidFill>
                    <a:srgbClr val="bbe0e3"/>
                  </a:solidFill>
                  <a:latin typeface="黑体"/>
                  <a:ea typeface="黑体"/>
                </a:rPr>
                <a:t>是由图  作轴对称变换得到的</a:t>
              </a:r>
              <a:r>
                <a:rPr b="1" lang="zh-CN" sz="2500" spc="-1" strike="noStrike">
                  <a:solidFill>
                    <a:srgbClr val="bbe0e3"/>
                  </a:solidFill>
                  <a:latin typeface="Times New Roman"/>
                  <a:ea typeface="黑体"/>
                </a:rPr>
                <a:t>.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325" name="" descr=""/>
            <p:cNvPicPr/>
            <p:nvPr/>
          </p:nvPicPr>
          <p:blipFill>
            <a:blip r:embed="rId3"/>
            <a:stretch/>
          </p:blipFill>
          <p:spPr>
            <a:xfrm>
              <a:off x="2971800" y="2971800"/>
              <a:ext cx="30960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"/>
          <p:cNvSpPr/>
          <p:nvPr/>
        </p:nvSpPr>
        <p:spPr>
          <a:xfrm>
            <a:off x="6757920" y="3505320"/>
            <a:ext cx="8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bbe0e3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bbe0e3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52280" y="4800600"/>
            <a:ext cx="1444680" cy="1630440"/>
          </a:xfrm>
          <a:prstGeom prst="rect">
            <a:avLst/>
          </a:prstGeom>
          <a:ln w="0">
            <a:noFill/>
          </a:ln>
        </p:spPr>
      </p:pic>
      <p:grpSp>
        <p:nvGrpSpPr>
          <p:cNvPr id="328" name=""/>
          <p:cNvGrpSpPr/>
          <p:nvPr/>
        </p:nvGrpSpPr>
        <p:grpSpPr>
          <a:xfrm>
            <a:off x="304560" y="1600200"/>
            <a:ext cx="4647960" cy="2819520"/>
            <a:chOff x="304560" y="1600200"/>
            <a:chExt cx="4647960" cy="2819520"/>
          </a:xfrm>
        </p:grpSpPr>
        <p:sp>
          <p:nvSpPr>
            <p:cNvPr id="329" name=""/>
            <p:cNvSpPr/>
            <p:nvPr/>
          </p:nvSpPr>
          <p:spPr>
            <a:xfrm flipH="1" flipV="1">
              <a:off x="303840" y="1600200"/>
              <a:ext cx="4647960" cy="2819520"/>
            </a:xfrm>
            <a:prstGeom prst="wedgeRoundRectCallout">
              <a:avLst>
                <a:gd name="adj1" fmla="val 31625"/>
                <a:gd name="adj2" fmla="val -61430"/>
                <a:gd name="adj3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be0e3"/>
                  </a:solidFill>
                  <a:latin typeface="黑体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bbe0e3"/>
                  </a:solidFill>
                  <a:latin typeface="黑体"/>
                  <a:ea typeface="黑体"/>
                </a:rPr>
                <a:t>图</a:t>
              </a:r>
              <a:r>
                <a:rPr b="1" lang="en-US" sz="2400" spc="-1" strike="noStrike">
                  <a:solidFill>
                    <a:srgbClr val="bbe0e3"/>
                  </a:solidFill>
                  <a:latin typeface="宋体"/>
                </a:rPr>
                <a:t>(</a:t>
              </a:r>
              <a:r>
                <a:rPr b="1" lang="en-US" sz="2400" spc="-1" strike="noStrike">
                  <a:solidFill>
                    <a:srgbClr val="bbe0e3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bbe0e3"/>
                  </a:solidFill>
                  <a:latin typeface="宋体"/>
                </a:rPr>
                <a:t>)</a:t>
              </a:r>
              <a:r>
                <a:rPr b="1" lang="zh-CN" sz="2400" spc="-1" strike="noStrike">
                  <a:solidFill>
                    <a:srgbClr val="bbe0e3"/>
                  </a:solidFill>
                  <a:latin typeface="黑体"/>
                  <a:ea typeface="黑体"/>
                </a:rPr>
                <a:t>是中华人民共和国香港特别行政区区徽，可由一个紫荆花瓣    绕中心点</a:t>
              </a:r>
              <a:r>
                <a:rPr b="1" i="1" lang="en-US" sz="2400" spc="-1" strike="noStrike">
                  <a:solidFill>
                    <a:srgbClr val="bbe0e3"/>
                  </a:solidFill>
                  <a:latin typeface="Times New Roman"/>
                  <a:ea typeface="黑体"/>
                </a:rPr>
                <a:t>O</a:t>
              </a:r>
              <a:r>
                <a:rPr b="1" lang="zh-CN" sz="2400" spc="-1" strike="noStrike">
                  <a:solidFill>
                    <a:srgbClr val="bbe0e3"/>
                  </a:solidFill>
                  <a:latin typeface="黑体"/>
                  <a:ea typeface="黑体"/>
                </a:rPr>
                <a:t>按顺时针方向依次旋转</a:t>
              </a:r>
              <a:r>
                <a:rPr b="1" lang="en-US" sz="2400" spc="-1" strike="noStrike">
                  <a:solidFill>
                    <a:srgbClr val="bbe0e3"/>
                  </a:solidFill>
                  <a:latin typeface="Times New Roman"/>
                  <a:ea typeface="黑体"/>
                </a:rPr>
                <a:t>72</a:t>
              </a:r>
              <a:r>
                <a:rPr b="1" lang="en-US" sz="2400" spc="-1" strike="noStrike" baseline="30000">
                  <a:solidFill>
                    <a:srgbClr val="bbe0e3"/>
                  </a:solidFill>
                  <a:latin typeface="Times New Roman"/>
                  <a:ea typeface="黑体"/>
                </a:rPr>
                <a:t>°</a:t>
              </a:r>
              <a:r>
                <a:rPr b="1" lang="zh-CN" sz="2400" spc="-1" strike="noStrike">
                  <a:solidFill>
                    <a:srgbClr val="bbe0e3"/>
                  </a:solidFill>
                  <a:latin typeface="Times New Roman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bbe0e3"/>
                  </a:solidFill>
                  <a:latin typeface="Times New Roman"/>
                  <a:ea typeface="黑体"/>
                </a:rPr>
                <a:t>144</a:t>
              </a:r>
              <a:r>
                <a:rPr b="1" lang="en-US" sz="2400" spc="-1" strike="noStrike" baseline="30000">
                  <a:solidFill>
                    <a:srgbClr val="bbe0e3"/>
                  </a:solidFill>
                  <a:latin typeface="Times New Roman"/>
                  <a:ea typeface="黑体"/>
                </a:rPr>
                <a:t>°</a:t>
              </a:r>
              <a:r>
                <a:rPr b="1" lang="zh-CN" sz="2400" spc="-1" strike="noStrike">
                  <a:solidFill>
                    <a:srgbClr val="bbe0e3"/>
                  </a:solidFill>
                  <a:latin typeface="Times New Roman"/>
                  <a:ea typeface="黑体"/>
                </a:rPr>
                <a:t>， </a:t>
              </a:r>
              <a:r>
                <a:rPr b="1" lang="en-US" sz="2400" spc="-1" strike="noStrike">
                  <a:solidFill>
                    <a:srgbClr val="bbe0e3"/>
                  </a:solidFill>
                  <a:latin typeface="Times New Roman"/>
                  <a:ea typeface="黑体"/>
                </a:rPr>
                <a:t>216</a:t>
              </a:r>
              <a:r>
                <a:rPr b="1" lang="en-US" sz="2400" spc="-1" strike="noStrike" baseline="30000">
                  <a:solidFill>
                    <a:srgbClr val="bbe0e3"/>
                  </a:solidFill>
                  <a:latin typeface="Times New Roman"/>
                  <a:ea typeface="黑体"/>
                </a:rPr>
                <a:t>°</a:t>
              </a:r>
              <a:r>
                <a:rPr b="1" lang="zh-CN" sz="2400" spc="-1" strike="noStrike">
                  <a:solidFill>
                    <a:srgbClr val="bbe0e3"/>
                  </a:solidFill>
                  <a:latin typeface="Times New Roman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bbe0e3"/>
                  </a:solidFill>
                  <a:latin typeface="Times New Roman"/>
                  <a:ea typeface="黑体"/>
                </a:rPr>
                <a:t>288</a:t>
              </a:r>
              <a:r>
                <a:rPr b="1" lang="en-US" sz="2400" spc="-1" strike="noStrike" baseline="30000">
                  <a:solidFill>
                    <a:srgbClr val="bbe0e3"/>
                  </a:solidFill>
                  <a:latin typeface="Times New Roman"/>
                  <a:ea typeface="黑体"/>
                </a:rPr>
                <a:t>°</a:t>
              </a:r>
              <a:r>
                <a:rPr b="1" lang="zh-CN" sz="2400" spc="-1" strike="noStrike">
                  <a:solidFill>
                    <a:srgbClr val="bbe0e3"/>
                  </a:solidFill>
                  <a:latin typeface="黑体"/>
                  <a:ea typeface="黑体"/>
                </a:rPr>
                <a:t>而得到</a:t>
              </a:r>
              <a:r>
                <a:rPr b="1" lang="en-US" sz="2400" spc="-1" strike="noStrike">
                  <a:solidFill>
                    <a:srgbClr val="bbe0e3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330" name="" descr=""/>
            <p:cNvPicPr/>
            <p:nvPr/>
          </p:nvPicPr>
          <p:blipFill>
            <a:blip r:embed="rId2"/>
            <a:stretch/>
          </p:blipFill>
          <p:spPr>
            <a:xfrm>
              <a:off x="1904760" y="2773440"/>
              <a:ext cx="336240" cy="57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6172200" y="685800"/>
            <a:ext cx="2349360" cy="23493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7062480" y="3429000"/>
            <a:ext cx="8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bbe0e3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bbe0e3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371600" y="1355760"/>
            <a:ext cx="7086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以图的右边缘所在的直线为轴，将该图形向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黑体"/>
                <a:ea typeface="黑体"/>
              </a:rPr>
              <a:t>   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右作轴对称变换，再绕中心</a:t>
            </a:r>
            <a:r>
              <a:rPr b="1" i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O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按顺时针方向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黑体"/>
                <a:ea typeface="黑体"/>
              </a:rPr>
              <a:t>   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旋转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80°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，所得到的图形是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（   ）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447920" y="3276720"/>
            <a:ext cx="6262560" cy="1503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221940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1066680" y="2514600"/>
            <a:ext cx="6781680" cy="1693440"/>
            <a:chOff x="1066680" y="2514600"/>
            <a:chExt cx="6781680" cy="1693440"/>
          </a:xfrm>
        </p:grpSpPr>
        <p:sp>
          <p:nvSpPr>
            <p:cNvPr id="337" name=""/>
            <p:cNvSpPr/>
            <p:nvPr/>
          </p:nvSpPr>
          <p:spPr>
            <a:xfrm>
              <a:off x="1066680" y="2514600"/>
              <a:ext cx="6781680" cy="16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9999"/>
                  </a:solidFill>
                  <a:latin typeface="黑体"/>
                  <a:ea typeface="黑体"/>
                </a:rPr>
                <a:t>分析  </a:t>
              </a: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  将图以右边缘所在的直线为轴作轴对称变换，得到图    ，再绕中心</a:t>
              </a:r>
              <a:r>
                <a:rPr b="1" i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O</a:t>
              </a: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按顺时针方向旋转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180°</a:t>
              </a: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，得到图     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.     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，所以选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A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338" name="" descr=""/>
            <p:cNvPicPr/>
            <p:nvPr/>
          </p:nvPicPr>
          <p:blipFill>
            <a:blip r:embed="rId1"/>
            <a:stretch/>
          </p:blipFill>
          <p:spPr>
            <a:xfrm>
              <a:off x="3504960" y="3124080"/>
              <a:ext cx="53352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4267080" y="3657600"/>
              <a:ext cx="53352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1523880" y="533520"/>
            <a:ext cx="6262920" cy="15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43000" y="1295280"/>
            <a:ext cx="457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下图是一种正方形的瓷砖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90720" y="1828800"/>
            <a:ext cx="7086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（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</a:rPr>
              <a:t>1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）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请用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4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块所给瓷砖拼一个正方形图案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（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至少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黑体"/>
                <a:ea typeface="黑体"/>
              </a:rPr>
              <a:t>    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设计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种不同的图案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）；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90720" y="2743200"/>
            <a:ext cx="7086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（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</a:rPr>
              <a:t>2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）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如果给你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6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块这样的正方形瓷砖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，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要求设计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黑体"/>
                <a:ea typeface="黑体"/>
              </a:rPr>
              <a:t>    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的图案为轴对称图形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，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你可以设计出来吗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？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858000" y="41911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207972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52280" y="4495680"/>
            <a:ext cx="24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解：方案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 flipH="1" rot="5400000">
            <a:off x="4952520" y="228564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 rot="5400000">
            <a:off x="1905120" y="53316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 rot="16200000">
            <a:off x="6629400" y="60912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6629400" y="22860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 rot="5400000">
            <a:off x="4952520" y="60912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 rot="16200000">
            <a:off x="226800" y="218556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 flipH="1" rot="5400000">
            <a:off x="212400" y="51192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5262480" y="4483080"/>
            <a:ext cx="24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解：方案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6T03:03:16Z</dcterms:created>
  <dc:creator/>
  <dc:description/>
  <dc:language>en-US</dc:language>
  <cp:lastModifiedBy>admin</cp:lastModifiedBy>
  <dcterms:modified xsi:type="dcterms:W3CDTF">2014-11-28T08:53:20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