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10.png" ContentType="image/png"/>
  <Override PartName="/ppt/media/image18.wmf" ContentType="image/x-wmf"/>
  <Override PartName="/ppt/media/image5.jpeg" ContentType="image/jpeg"/>
  <Override PartName="/ppt/media/image11.wmf" ContentType="image/x-wmf"/>
  <Override PartName="/ppt/media/image26.png" ContentType="image/png"/>
  <Override PartName="/ppt/media/image6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30.jpeg" ContentType="image/jpeg"/>
  <Override PartName="/ppt/media/image15.png" ContentType="image/png"/>
  <Override PartName="/ppt/media/image3.wmf" ContentType="image/x-wmf"/>
  <Override PartName="/ppt/media/image9.jpeg" ContentType="image/jpeg"/>
  <Override PartName="/ppt/media/image23.wmf" ContentType="image/x-wmf"/>
  <Override PartName="/ppt/media/image7.jpeg" ContentType="image/jpeg"/>
  <Override PartName="/ppt/media/image1.wmf" ContentType="image/x-wmf"/>
  <Override PartName="/ppt/media/image14.png" ContentType="image/png"/>
  <Override PartName="/ppt/media/image16.png" ContentType="image/png"/>
  <Override PartName="/ppt/media/image20.wmf" ContentType="image/x-wmf"/>
  <Override PartName="/ppt/media/image17.png" ContentType="image/png"/>
  <Override PartName="/ppt/media/image19.wmf" ContentType="image/x-wmf"/>
  <Override PartName="/ppt/media/image21.wmf" ContentType="image/x-wmf"/>
  <Override PartName="/ppt/media/image22.wmf" ContentType="image/x-wmf"/>
  <Override PartName="/ppt/media/image31.gif" ContentType="image/gif"/>
  <Override PartName="/ppt/media/image24.png" ContentType="image/png"/>
  <Override PartName="/ppt/media/image2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D7F7-C6FA-4372-9F28-6F501E27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1E68-0484-4BAD-BAB3-1EB9808F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69240-1EDB-418A-8614-18814552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E55E1-429D-4006-9770-D149CCAC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E9D00-4150-4A75-9485-52B10940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F32B6-413F-472C-8509-9D919C0A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608AD-BF78-4650-8CAF-42F7F3A0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0FED2-05A5-403D-8F1F-CBCB0A24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9EBBD-7C8A-40A4-9640-71C0ADA0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ABC8D-528B-4CEB-A839-8E1DAA65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1B5BB-4F07-4263-9B93-E6B6A0D0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56690-17CF-4565-BAA2-80754E0B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DF21-F8F7-4B36-BF73-00C8D5DD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58338-16A1-498A-8DE0-DD4859E3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3461C-9FD3-4A1E-8EF8-CCA6E827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63F3C-3028-403A-B224-14EFEA6F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1AB85-7032-46E6-8C0D-F20C6501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F6775-F3E2-4B02-9215-4BEB8509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3BCA3-B799-4DB9-8E97-87AFD0CD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C9862-2F84-470B-9164-944C12FD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43E76-B31C-4CF2-9592-B4DB66B1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A4456-CC06-4F28-8209-FFE286A1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66004-A2A9-4D05-B48E-C30B5F2F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4B66-F4E0-405C-8C25-52967A87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A2A44-5934-495A-BD2E-4FEA7200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6FF3E-CF34-4171-95FE-72DDB8DE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6A673-FB9D-4F9F-80BD-D51552A0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92FEB-0751-40E9-870C-F75D6C00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28F75-0802-4C72-A6B5-95AF6EEE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C6708-0066-47AA-85CB-010AA025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3892C-02C5-48A4-805D-78615242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62D7F-BB24-45F3-85E1-34496EB2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E0498-5083-4B55-BE7F-2314A9FD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5EB90-084F-453C-A467-4F31371C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977A-4992-453F-AC09-BD956694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643AC9-2C4A-47C9-BAC9-9925BC98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EED21-FAC6-470B-82C1-E141C081E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40895-CB4B-4E1C-8F8F-56413A8B1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8A66-DA0E-40AD-A4D5-1732C9A7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A207-E51C-49DD-83E9-2A7AB279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6DAC-A779-4E1B-BCB7-10908C0F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4DB7-1A85-4577-9938-793DE79B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F74A-3F8A-47ED-945D-CD416650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876E-9C3C-4B72-A8DB-79A568FD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6AC7-2E5A-4DDB-8FE6-E27B9FDB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884B-9062-4CA5-A92F-894415F6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2CEA-9E24-4779-97FE-F692EBED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C516-210C-4509-8895-E21C9614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D41F-D231-4CB0-8CC1-BDB9D734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6521-C9D5-4480-AB75-B44E5082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85BC1-17B9-4077-A75D-54B4076E9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10D64-5865-4C61-949B-088217DA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78357-AC9A-4A9C-83C2-40BC44EF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A9871-F053-443F-90A9-91B697E3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E590A-CB35-4F95-B272-96460B95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8FE2-AC0A-4FE5-8C12-D2505A56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F7A3E-1132-4409-AA8E-AD77F530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331B5-2E80-4285-934C-3D500145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00297-DA6A-4BA3-960A-0743599D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DD1E4-1654-4D4E-9146-52B04D96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D1B5F-38C0-4789-AC16-9482B911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5BB16-5CF8-4AEC-9442-8C06E01B0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3F71A-BBE2-463E-B13F-DAAB69405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3D28-3B52-4CE0-A395-C7D58370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6018E-6E02-4447-9EC6-BFF18BF22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EA7A-DB64-456B-845E-2FFE8738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27E57-FF33-4A93-B21A-935BD9F6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29AA2-5387-41FB-B9CE-2EC55C4E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4F6D6-CAE1-4912-A441-B2224385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E3118-FEBB-48A6-82BC-BAAC1C28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61B0D-2FE9-4053-9F4D-5602D338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2A68A-2ADF-44F0-AA85-33069B56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9D07F-D52B-47F2-917D-0A2C0B91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F33A7-9207-485F-BED9-AA2D039B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49779-8FAC-477E-A94A-35C53973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B7248-172F-4C2F-AD14-38784E473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3848-8C42-4632-90ED-833036BB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DDBE1-B8BE-4B52-A42D-F2B53CA92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131D0-DCBB-4F06-9E2F-FE5754C56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0B3EE-1213-4EA5-8C11-DB1E3331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32C76-8B46-4A29-9E5C-C1D5EBAF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8EBE6-6225-4A3B-810B-5E105144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C1036-9049-4DAD-9A64-0506C0FC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97821-67BC-4E4C-BCBC-88911970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9A9C0-B3F5-4A1B-B7C2-18BA01B3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E0C2C-74E0-47EC-A69D-0AA30EB6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C7C14-9DFF-45CD-BA3E-2F530479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F631-D069-4F94-96AA-64F34FCF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E8128-806A-4F3A-B885-83169CFE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6A142-BD10-499F-9194-AE0FF125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5F3B3-E4E6-4A92-9BCD-B02CCDDA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25DF4-E328-4BF5-872A-F972A5CE4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5FC0F-2FC7-4C35-BB58-9F6A2F8F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3DE59-B9C6-4EDF-B771-009D3ECF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D9EE0-DA5C-4CA8-BBF7-6EE1AC3E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E952E-A09D-4EC6-9DC7-146308E7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B4B3B-05D6-4CBD-9561-AA1096FD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684CF-7A5B-4C44-8DED-CC31DD16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9E6A-9380-415A-9B21-2807D6AA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88759-B4C1-48F7-9C07-8277ABFC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A3B6B-98CC-41BA-858A-792030EE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7EEEB-E604-4690-B5AE-E41661C0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E36EF-6228-4DE5-B183-536C50910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742A7-5FAA-4ED4-BAEE-ACB33AAD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CC0B5-48FF-434A-8682-57BE52BB7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3FD1C-D66B-4E0E-BE1C-D4BB2724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4C694-5230-44F6-9D57-5CFEE988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0105F-4428-4F8D-9AFE-054C6E53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F46E5-6A5E-4D9D-A3EB-DCEFF5F7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4E54-5600-49DC-B249-E75B56BE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718BA-DE64-4DE4-8638-887504F7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3DA06-A8F4-4BF5-9E6F-FC70BD5A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8F4E2-4FB1-4498-AF7B-3C8A8AFD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B5A37-1174-4405-8EE8-1BFF5D0D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E20C9-BA6F-4AE2-98FE-4484EF9D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66BF9-7723-45E0-8983-B6DDDEF3D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53EBD-F841-41A6-B054-F769A5DCE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69CE2-F135-4F90-A766-2A4D3BBE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4D940-F15B-435E-9ED2-ABA0C1FB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9FB73-3DF0-4D59-B1D7-57268825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ed3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92360" y="189000"/>
            <a:ext cx="7416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2916000" y="6337080"/>
            <a:ext cx="1584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4571640" y="63370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947000" y="6337080"/>
            <a:ext cx="116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A200-C945-4605-8027-7F2392EB31E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gradFill rotWithShape="0">
            <a:gsLst>
              <a:gs pos="0">
                <a:srgbClr val="aed3ea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6" name="Picture 8" descr="博今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763120" y="0"/>
            <a:ext cx="380880" cy="3268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9"/>
          <p:cNvSpPr/>
          <p:nvPr/>
        </p:nvSpPr>
        <p:spPr>
          <a:xfrm>
            <a:off x="0" y="6400800"/>
            <a:ext cx="9144000" cy="76320"/>
          </a:xfrm>
          <a:prstGeom prst="rect">
            <a:avLst/>
          </a:prstGeom>
          <a:solidFill>
            <a:srgbClr val="061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61f5b"/>
          </a:solidFill>
          <a:ln w="9360">
            <a:solidFill>
              <a:srgbClr val="061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9" name="Picture 11" descr="3"/>
          <p:cNvPicPr/>
          <p:nvPr/>
        </p:nvPicPr>
        <p:blipFill>
          <a:blip r:embed="rId3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1590840" y="0"/>
            <a:ext cx="7553160" cy="6846840"/>
          </a:xfrm>
          <a:prstGeom prst="rect">
            <a:avLst/>
          </a:prstGeom>
          <a:solidFill>
            <a:srgbClr val="c0c0c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69920" y="276120"/>
            <a:ext cx="6715440" cy="113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969920" y="1598760"/>
            <a:ext cx="671688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476"/>
              </a:spcBef>
              <a:buClr>
                <a:srgbClr val="009999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1" marL="727200" indent="-279360">
              <a:spcBef>
                <a:spcPts val="476"/>
              </a:spcBef>
              <a:buClr>
                <a:srgbClr val="009999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2" marL="1119240" indent="-223920">
              <a:spcBef>
                <a:spcPts val="476"/>
              </a:spcBef>
              <a:buClr>
                <a:srgbClr val="009999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3" marL="1566720" indent="-223560">
              <a:spcBef>
                <a:spcPts val="476"/>
              </a:spcBef>
              <a:buClr>
                <a:srgbClr val="009999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4" marL="2014560" indent="-223920">
              <a:spcBef>
                <a:spcPts val="476"/>
              </a:spcBef>
              <a:buClr>
                <a:srgbClr val="009999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5" marL="201456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6" marL="201456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5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6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7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2DC1-EB81-4398-A0DD-AEF02BE1A05D}" type="slidenum"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B70B-E466-4947-8B59-7D18582A34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2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6400800"/>
            <a:ext cx="9144000" cy="76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31d97"/>
              </a:gs>
              <a:gs pos="100000">
                <a:srgbClr val="78a1e4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50" name="Picture 6" descr="3"/>
          <p:cNvPicPr/>
          <p:nvPr/>
        </p:nvPicPr>
        <p:blipFill>
          <a:blip r:embed="rId2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1492-A0C7-4836-A825-5351B357DE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12"/>
          <p:cNvSpPr/>
          <p:nvPr/>
        </p:nvSpPr>
        <p:spPr>
          <a:xfrm>
            <a:off x="76320" y="5791320"/>
            <a:ext cx="914400" cy="914400"/>
          </a:xfrm>
          <a:prstGeom prst="ellipse">
            <a:avLst/>
          </a:prstGeom>
          <a:solidFill>
            <a:srgbClr val="99cc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57" name="Picture 13" descr="MCj04164160000[1]"/>
          <p:cNvPicPr/>
          <p:nvPr/>
        </p:nvPicPr>
        <p:blipFill>
          <a:blip r:embed="rId3"/>
          <a:stretch/>
        </p:blipFill>
        <p:spPr>
          <a:xfrm>
            <a:off x="152280" y="5943600"/>
            <a:ext cx="762120" cy="635040"/>
          </a:xfrm>
          <a:prstGeom prst="rect">
            <a:avLst/>
          </a:prstGeom>
          <a:ln w="0">
            <a:noFill/>
          </a:ln>
        </p:spPr>
      </p:pic>
      <p:sp>
        <p:nvSpPr>
          <p:cNvPr id="58" name="Oval 14"/>
          <p:cNvSpPr/>
          <p:nvPr/>
        </p:nvSpPr>
        <p:spPr>
          <a:xfrm>
            <a:off x="2057400" y="5791320"/>
            <a:ext cx="914400" cy="914400"/>
          </a:xfrm>
          <a:prstGeom prst="ellipse">
            <a:avLst/>
          </a:prstGeom>
          <a:solidFill>
            <a:srgbClr val="99cc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9" name="Oval 15"/>
          <p:cNvSpPr/>
          <p:nvPr/>
        </p:nvSpPr>
        <p:spPr>
          <a:xfrm>
            <a:off x="1066680" y="5791320"/>
            <a:ext cx="914400" cy="914400"/>
          </a:xfrm>
          <a:prstGeom prst="ellipse">
            <a:avLst/>
          </a:prstGeom>
          <a:solidFill>
            <a:srgbClr val="99cc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60" name="Picture 16" descr="MCj03536030000[1]"/>
          <p:cNvPicPr/>
          <p:nvPr/>
        </p:nvPicPr>
        <p:blipFill>
          <a:blip r:embed="rId4"/>
          <a:stretch/>
        </p:blipFill>
        <p:spPr>
          <a:xfrm>
            <a:off x="2209680" y="5867280"/>
            <a:ext cx="552600" cy="762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MPj03901240000[1]"/>
          <p:cNvPicPr/>
          <p:nvPr/>
        </p:nvPicPr>
        <p:blipFill>
          <a:blip r:embed="rId5"/>
          <a:stretch/>
        </p:blipFill>
        <p:spPr>
          <a:xfrm>
            <a:off x="1219320" y="6041880"/>
            <a:ext cx="609480" cy="435240"/>
          </a:xfrm>
          <a:prstGeom prst="rect">
            <a:avLst/>
          </a:prstGeom>
          <a:ln w="0">
            <a:noFill/>
          </a:ln>
        </p:spPr>
      </p:pic>
      <p:sp>
        <p:nvSpPr>
          <p:cNvPr id="62" name="Oval 18"/>
          <p:cNvSpPr/>
          <p:nvPr/>
        </p:nvSpPr>
        <p:spPr>
          <a:xfrm>
            <a:off x="7315200" y="5029200"/>
            <a:ext cx="1752480" cy="175248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63" name="Picture 19" descr="MCj04164260000[1]"/>
          <p:cNvPicPr/>
          <p:nvPr/>
        </p:nvPicPr>
        <p:blipFill>
          <a:blip r:embed="rId6"/>
          <a:stretch/>
        </p:blipFill>
        <p:spPr>
          <a:xfrm>
            <a:off x="7467480" y="5407200"/>
            <a:ext cx="1447920" cy="122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0"/>
            <a:ext cx="9144000" cy="6553080"/>
          </a:xfrm>
          <a:prstGeom prst="rect">
            <a:avLst/>
          </a:prstGeom>
          <a:gradFill rotWithShape="0">
            <a:gsLst>
              <a:gs pos="0">
                <a:srgbClr val="231d97"/>
              </a:gs>
              <a:gs pos="100000">
                <a:srgbClr val="78a1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61f5b"/>
          </a:solidFill>
          <a:ln w="9360">
            <a:solidFill>
              <a:srgbClr val="061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0" y="6324480"/>
            <a:ext cx="914400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61f5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2360" y="189000"/>
            <a:ext cx="7416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2916000" y="6337080"/>
            <a:ext cx="1584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ftr" idx="8"/>
          </p:nvPr>
        </p:nvSpPr>
        <p:spPr>
          <a:xfrm>
            <a:off x="4571640" y="63370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sldNum" idx="9"/>
          </p:nvPr>
        </p:nvSpPr>
        <p:spPr>
          <a:xfrm>
            <a:off x="7947000" y="6337080"/>
            <a:ext cx="116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BC47-47E4-4B40-8DA8-55B080B5468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A1D0-5837-4B6A-AB47-9D1A9F6C74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ed3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gradFill rotWithShape="0">
            <a:gsLst>
              <a:gs pos="0">
                <a:srgbClr val="aed3ea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763120" y="0"/>
            <a:ext cx="380880" cy="3268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0" y="6400800"/>
            <a:ext cx="9144000" cy="76320"/>
          </a:xfrm>
          <a:prstGeom prst="rect">
            <a:avLst/>
          </a:prstGeom>
          <a:solidFill>
            <a:srgbClr val="061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61f5b"/>
          </a:solidFill>
          <a:ln w="9360">
            <a:solidFill>
              <a:srgbClr val="061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1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61f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61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61f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0483-9BFE-4DB4-BD6B-30775A1A1E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067280" y="6415920"/>
            <a:ext cx="2412720" cy="71640"/>
          </a:xfrm>
          <a:prstGeom prst="rect">
            <a:avLst/>
          </a:prstGeom>
          <a:solidFill>
            <a:srgbClr val="061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0" y="5759280"/>
            <a:ext cx="5940360" cy="109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4973-AD88-4472-A621-1B6D2D0E4E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0" y="0"/>
            <a:ext cx="9144000" cy="4941720"/>
          </a:xfrm>
          <a:prstGeom prst="rect">
            <a:avLst/>
          </a:prstGeom>
          <a:solidFill>
            <a:srgbClr val="c0c0c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8640" y="1603080"/>
            <a:ext cx="8226720" cy="30877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5200" indent="-295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42960" indent="-2476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88920" indent="-198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84200" indent="-199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778040" indent="-19692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778040" indent="-196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778040" indent="-196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9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0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1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 algn="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9CD1-5BED-4A2C-AC99-74B8FAB5A10D}" type="slidenum"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7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dt" idx="22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ftr" idx="23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sldNum" idx="24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7CAF-1F07-4993-824E-B1C8AF1BD91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  <a:p>
            <a:pPr lvl="1" marL="395280" indent="0"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a0c6ea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a0c6ea"/>
              </a:solidFill>
              <a:latin typeface="Arial"/>
            </a:endParaRPr>
          </a:p>
          <a:p>
            <a:pPr lvl="2" marL="790560" algn="ctr"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184400" algn="ctr"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4" marL="1581120" algn="ctr">
              <a:spcBef>
                <a:spcPts val="24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5" marL="158112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6" marL="158112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8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8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8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9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8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8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2057400" y="1676520"/>
            <a:ext cx="53816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第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章  数据的分析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6.1  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平均数、中位数、众数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6.1.1  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平均数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62320" y="4114800"/>
            <a:ext cx="4794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第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1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课时  平均数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923760" y="1019160"/>
            <a:ext cx="669636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利用计算器计算平均数的步骤：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1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、按下统计键，使计算器进入统计运算模式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2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、一次输入数据，如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x</a:t>
            </a:r>
            <a:r>
              <a:rPr b="0" lang="zh-CN" sz="2500" spc="-1" strike="noStrike" baseline="-25000">
                <a:solidFill>
                  <a:srgbClr val="061f5b"/>
                </a:solidFill>
                <a:latin typeface="Times New Roman"/>
              </a:rPr>
              <a:t>1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,            x</a:t>
            </a:r>
            <a:r>
              <a:rPr b="0" lang="zh-CN" sz="2500" spc="-1" strike="noStrike" baseline="-25000">
                <a:solidFill>
                  <a:srgbClr val="061f5b"/>
                </a:solidFill>
                <a:latin typeface="Times New Roman"/>
              </a:rPr>
              <a:t>2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,            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	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x</a:t>
            </a:r>
            <a:r>
              <a:rPr b="0" lang="zh-CN" sz="2500" spc="-1" strike="noStrike" baseline="-25000">
                <a:solidFill>
                  <a:srgbClr val="061f5b"/>
                </a:solidFill>
                <a:latin typeface="Times New Roman"/>
              </a:rPr>
              <a:t>3                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·····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3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、最后按求平均数的功能键，即可求得所需数值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2209680" y="3124080"/>
            <a:ext cx="838440" cy="36828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868320" cy="38088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3"/>
          <a:stretch/>
        </p:blipFill>
        <p:spPr>
          <a:xfrm>
            <a:off x="4343400" y="2514600"/>
            <a:ext cx="922320" cy="38088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4"/>
          <a:stretch/>
        </p:blipFill>
        <p:spPr>
          <a:xfrm>
            <a:off x="152280" y="304920"/>
            <a:ext cx="1791000" cy="6188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923760" y="4965840"/>
            <a:ext cx="68486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zh-CN" sz="2500" spc="-1" strike="noStrike">
                <a:solidFill>
                  <a:srgbClr val="0000ff"/>
                </a:solidFill>
                <a:latin typeface="Times New Roman"/>
              </a:rPr>
              <a:t>需要提醒的是，不同型号的计算器操作步骤可能不同，操作时需参阅说明书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1331640" cy="121932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990720" y="1523880"/>
            <a:ext cx="72514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       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在一次全校歌咏比赛中，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7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位评委给一个班级的打分分别是：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9.00,8.00,9.10,9.10,9.15,9.00,9.58.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怎么评分比较公正？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914400" y="4267080"/>
            <a:ext cx="7783560" cy="93528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990720" y="3508200"/>
            <a:ext cx="6781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ff"/>
                </a:solidFill>
                <a:latin typeface="Times New Roman"/>
              </a:rPr>
              <a:t>解：计算该班级歌咏比赛的平均分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533520" y="685800"/>
            <a:ext cx="830556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由于在比赛时，评委会受到主观影响，所以评分可能会比较悬殊，为了消除这种极端情况对比赛的影响（即：对平均数的影响），一般会去掉一个最高分和最低分</a:t>
            </a:r>
            <a:endParaRPr b="0" lang="en-US" sz="24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838080" y="2895480"/>
            <a:ext cx="5853240" cy="93528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685800" y="4267080"/>
            <a:ext cx="8031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ff"/>
                </a:solidFill>
                <a:latin typeface="Times New Roman"/>
              </a:rPr>
              <a:t>这个分数才是比较合理反映这个班级最后得分的数值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1905120" cy="63792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1560600" y="1747800"/>
            <a:ext cx="4383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1.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平均数的定义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508040" y="2846520"/>
            <a:ext cx="4383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2.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计算器求平均数的操作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414440" y="4025880"/>
            <a:ext cx="4986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3.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实际生活中怎样在一定程度上消除对平均数的影响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图片 2" descr="c3bebc432473f29708cd2752a57d107c.jpg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732720"/>
          </a:xfrm>
          <a:prstGeom prst="rect">
            <a:avLst/>
          </a:prstGeom>
          <a:ln w="0">
            <a:noFill/>
          </a:ln>
        </p:spPr>
      </p:pic>
      <p:pic>
        <p:nvPicPr>
          <p:cNvPr id="570" name="图片 1" descr="6a819a4096491ff90623c57b0dd773ec.gif"/>
          <p:cNvPicPr/>
          <p:nvPr/>
        </p:nvPicPr>
        <p:blipFill>
          <a:blip r:embed="rId2"/>
          <a:stretch/>
        </p:blipFill>
        <p:spPr>
          <a:xfrm>
            <a:off x="0" y="125280"/>
            <a:ext cx="1446120" cy="1446480"/>
          </a:xfrm>
          <a:prstGeom prst="rect">
            <a:avLst/>
          </a:prstGeom>
          <a:ln w="0">
            <a:noFill/>
          </a:ln>
        </p:spPr>
      </p:pic>
      <p:sp>
        <p:nvSpPr>
          <p:cNvPr id="571" name="矩形 3"/>
          <p:cNvSpPr/>
          <p:nvPr/>
        </p:nvSpPr>
        <p:spPr>
          <a:xfrm>
            <a:off x="3650040" y="5716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微软雅黑"/>
              </a:rPr>
              <a:t>谢谢！</a:t>
            </a:r>
            <a:endParaRPr b="0" lang="en-US" sz="5400" spc="-1" strike="noStrike">
              <a:solidFill>
                <a:srgbClr val="061f5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"/>
          <p:cNvGraphicFramePr/>
          <p:nvPr/>
        </p:nvGraphicFramePr>
        <p:xfrm>
          <a:off x="152280" y="1600200"/>
          <a:ext cx="8945640" cy="1298520"/>
        </p:xfrm>
        <a:graphic>
          <a:graphicData uri="http://schemas.openxmlformats.org/drawingml/2006/table">
            <a:tbl>
              <a:tblPr/>
              <a:tblGrid>
                <a:gridCol w="905040"/>
                <a:gridCol w="863280"/>
                <a:gridCol w="939960"/>
                <a:gridCol w="773280"/>
                <a:gridCol w="815760"/>
                <a:gridCol w="703440"/>
                <a:gridCol w="869760"/>
                <a:gridCol w="752400"/>
                <a:gridCol w="789120"/>
                <a:gridCol w="760320"/>
                <a:gridCol w="773280"/>
              </a:tblGrid>
              <a:tr h="83808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编号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身高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1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6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3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8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4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61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5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7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7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2" name="Text Box 121"/>
          <p:cNvSpPr/>
          <p:nvPr/>
        </p:nvSpPr>
        <p:spPr>
          <a:xfrm>
            <a:off x="1143000" y="5335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一个小组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名同学的身高（单位：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cm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）如下表所示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83" name="Text Box 123"/>
          <p:cNvSpPr/>
          <p:nvPr/>
        </p:nvSpPr>
        <p:spPr>
          <a:xfrm>
            <a:off x="304920" y="3276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1.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计算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名同学身高的平均数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84" name="Text Box 124"/>
          <p:cNvSpPr/>
          <p:nvPr/>
        </p:nvSpPr>
        <p:spPr>
          <a:xfrm>
            <a:off x="380880" y="4343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2.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在数轴上标出表示这些同学的身高及平均数的点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85" name="Text Box 126"/>
          <p:cNvSpPr/>
          <p:nvPr/>
        </p:nvSpPr>
        <p:spPr>
          <a:xfrm>
            <a:off x="228600" y="55627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3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考察表示平均数的点与其他的点的位置关系，你能得出什么结论？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2048040" cy="723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7" name=""/>
          <p:cNvGraphicFramePr/>
          <p:nvPr/>
        </p:nvGraphicFramePr>
        <p:xfrm>
          <a:off x="76320" y="380880"/>
          <a:ext cx="8945280" cy="1298520"/>
        </p:xfrm>
        <a:graphic>
          <a:graphicData uri="http://schemas.openxmlformats.org/drawingml/2006/table">
            <a:tbl>
              <a:tblPr/>
              <a:tblGrid>
                <a:gridCol w="904680"/>
                <a:gridCol w="863280"/>
                <a:gridCol w="939960"/>
                <a:gridCol w="773280"/>
                <a:gridCol w="815760"/>
                <a:gridCol w="703440"/>
                <a:gridCol w="869760"/>
                <a:gridCol w="752400"/>
                <a:gridCol w="789120"/>
                <a:gridCol w="760320"/>
                <a:gridCol w="773280"/>
              </a:tblGrid>
              <a:tr h="83808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编号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身高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1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6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3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8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4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61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5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7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7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838080" y="2362320"/>
          <a:ext cx="746784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46784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箭头 406"/>
          <p:cNvSpPr/>
          <p:nvPr/>
        </p:nvSpPr>
        <p:spPr>
          <a:xfrm>
            <a:off x="2819520" y="4952880"/>
            <a:ext cx="64008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 flipV="1">
            <a:off x="2743200" y="487656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666880" y="4876920"/>
            <a:ext cx="763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 flipV="1">
            <a:off x="2590560" y="4876560"/>
            <a:ext cx="7596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2514600" y="4876920"/>
            <a:ext cx="763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flipV="1">
            <a:off x="2438280" y="4876560"/>
            <a:ext cx="763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2361960" y="4876920"/>
            <a:ext cx="7596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761760" y="4952880"/>
            <a:ext cx="160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43000" y="48769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971800" y="48769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505320" y="48769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038480" y="48769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001000" y="48769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648320" y="48769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181480" y="48769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610480" y="48769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324480" y="48769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715000" y="48769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0" y="48769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467480" y="48769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5867280" y="4343400"/>
          <a:ext cx="438120" cy="4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4343400"/>
                    <a:ext cx="43812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"/>
          <p:cNvSpPr/>
          <p:nvPr/>
        </p:nvSpPr>
        <p:spPr>
          <a:xfrm>
            <a:off x="685800" y="4800600"/>
            <a:ext cx="93024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61f5b"/>
                </a:solidFill>
                <a:latin typeface="仿宋"/>
                <a:ea typeface="仿宋"/>
              </a:rPr>
              <a:t>0</a:t>
            </a:r>
            <a:endParaRPr b="0" lang="en-US" sz="20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438280" y="4800600"/>
            <a:ext cx="93024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61f5b"/>
                </a:solidFill>
                <a:latin typeface="仿宋"/>
                <a:ea typeface="仿宋"/>
              </a:rPr>
              <a:t>150</a:t>
            </a:r>
            <a:endParaRPr b="0" lang="en-US" sz="20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94120" y="4788000"/>
            <a:ext cx="93168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61f5b"/>
                </a:solidFill>
                <a:latin typeface="仿宋"/>
                <a:ea typeface="仿宋"/>
              </a:rPr>
              <a:t>151</a:t>
            </a:r>
            <a:endParaRPr b="0" lang="en-US" sz="20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581280" y="4800600"/>
            <a:ext cx="93024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61f5b"/>
                </a:solidFill>
                <a:latin typeface="仿宋"/>
                <a:ea typeface="仿宋"/>
              </a:rPr>
              <a:t>152</a:t>
            </a:r>
            <a:endParaRPr b="0" lang="en-US" sz="20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46480" y="4800600"/>
            <a:ext cx="93024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61f5b"/>
                </a:solidFill>
                <a:latin typeface="仿宋"/>
                <a:ea typeface="仿宋"/>
              </a:rPr>
              <a:t>153</a:t>
            </a:r>
            <a:endParaRPr b="0" lang="en-US" sz="20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714920" y="4800600"/>
            <a:ext cx="93168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61f5b"/>
                </a:solidFill>
                <a:latin typeface="仿宋"/>
                <a:ea typeface="仿宋"/>
              </a:rPr>
              <a:t>154</a:t>
            </a:r>
            <a:endParaRPr b="0" lang="en-US" sz="20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284800" y="4800600"/>
            <a:ext cx="93168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61f5b"/>
                </a:solidFill>
                <a:latin typeface="仿宋"/>
                <a:ea typeface="仿宋"/>
              </a:rPr>
              <a:t>155</a:t>
            </a:r>
            <a:endParaRPr b="0" lang="en-US" sz="20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842080" y="4800600"/>
            <a:ext cx="93024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61f5b"/>
                </a:solidFill>
                <a:latin typeface="仿宋"/>
                <a:ea typeface="仿宋"/>
              </a:rPr>
              <a:t>156</a:t>
            </a:r>
            <a:endParaRPr b="0" lang="en-US" sz="20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383160" y="4788000"/>
            <a:ext cx="93204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61f5b"/>
                </a:solidFill>
                <a:latin typeface="仿宋"/>
                <a:ea typeface="仿宋"/>
              </a:rPr>
              <a:t>157</a:t>
            </a:r>
            <a:endParaRPr b="0" lang="en-US" sz="20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005600" y="4800600"/>
            <a:ext cx="93204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61f5b"/>
                </a:solidFill>
                <a:latin typeface="仿宋"/>
                <a:ea typeface="仿宋"/>
              </a:rPr>
              <a:t>158</a:t>
            </a:r>
            <a:endParaRPr b="0" lang="en-US" sz="20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548480" y="4788000"/>
            <a:ext cx="93204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61f5b"/>
                </a:solidFill>
                <a:latin typeface="仿宋"/>
                <a:ea typeface="仿宋"/>
              </a:rPr>
              <a:t>159</a:t>
            </a:r>
            <a:endParaRPr b="0" lang="en-US" sz="20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8077320" y="4800600"/>
            <a:ext cx="93168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61f5b"/>
                </a:solidFill>
                <a:latin typeface="仿宋"/>
                <a:ea typeface="仿宋"/>
              </a:rPr>
              <a:t>160</a:t>
            </a:r>
            <a:endParaRPr b="0" lang="en-US" sz="20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534520" y="4800600"/>
            <a:ext cx="93168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61f5b"/>
                </a:solidFill>
                <a:latin typeface="仿宋"/>
                <a:ea typeface="仿宋"/>
              </a:rPr>
              <a:t>161</a:t>
            </a:r>
            <a:endParaRPr b="0" lang="en-US" sz="20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25" name="箭头 455"/>
          <p:cNvSpPr/>
          <p:nvPr/>
        </p:nvSpPr>
        <p:spPr>
          <a:xfrm flipV="1">
            <a:off x="6019920" y="47239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649880" y="715680"/>
            <a:ext cx="2796120" cy="1313280"/>
          </a:xfrm>
          <a:prstGeom prst="wedgeRectCallout">
            <a:avLst>
              <a:gd name="adj1" fmla="val -67851"/>
              <a:gd name="adj2" fmla="val 71481"/>
            </a:avLst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这些点都位于    的两侧，不会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都在平均数的一侧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165888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8" name=""/>
          <p:cNvGraphicFramePr/>
          <p:nvPr/>
        </p:nvGraphicFramePr>
        <p:xfrm>
          <a:off x="2819520" y="914400"/>
          <a:ext cx="438120" cy="4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914400"/>
                    <a:ext cx="43812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 flipH="1">
            <a:off x="4084200" y="3497040"/>
            <a:ext cx="3765240" cy="1313280"/>
          </a:xfrm>
          <a:prstGeom prst="wedgeRectCallout">
            <a:avLst>
              <a:gd name="adj1" fmla="val -69777"/>
              <a:gd name="adj2" fmla="val 71481"/>
            </a:avLst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          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可以作为这组同学身高的代表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值，它反映了这组同学的身高的平均水平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4"/>
          <a:stretch/>
        </p:blipFill>
        <p:spPr>
          <a:xfrm>
            <a:off x="7391520" y="5410080"/>
            <a:ext cx="1406520" cy="137160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5"/>
          <a:stretch/>
        </p:blipFill>
        <p:spPr>
          <a:xfrm>
            <a:off x="76320" y="0"/>
            <a:ext cx="234468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3" name=""/>
          <p:cNvGraphicFramePr/>
          <p:nvPr/>
        </p:nvGraphicFramePr>
        <p:xfrm>
          <a:off x="3505320" y="3657600"/>
          <a:ext cx="438120" cy="460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5320" y="3657600"/>
                    <a:ext cx="43812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2424240" cy="83808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1143000" y="2438280"/>
            <a:ext cx="6413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zh-CN" sz="2500" spc="-1" strike="noStrike">
                <a:solidFill>
                  <a:srgbClr val="0000ff"/>
                </a:solidFill>
                <a:latin typeface="Times New Roman"/>
              </a:rPr>
              <a:t>平均数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作为一组数据的一个代表值，它刻画了这组数据的平均水平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2219040" cy="74304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914400" y="1295280"/>
            <a:ext cx="73184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      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</a:rPr>
              <a:t>例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</a:rPr>
              <a:t>1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  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某农业技术员试种了三个品种的棉花各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10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株，秋收时他清点了这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30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株棉花的结桃数如下表：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457200" y="2590920"/>
          <a:ext cx="8226360" cy="3089160"/>
        </p:xfrm>
        <a:graphic>
          <a:graphicData uri="http://schemas.openxmlformats.org/drawingml/2006/table">
            <a:tbl>
              <a:tblPr/>
              <a:tblGrid>
                <a:gridCol w="1782720"/>
                <a:gridCol w="6443640"/>
              </a:tblGrid>
              <a:tr h="77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棉花品种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结桃数（个）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7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甲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4,   79,   81,    84,   85,    82,    83,   86,    87,    81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乙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5,   84,   89,   79,   81,    91,    79,   76,    82,    84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丙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3,   85,   87,    78,   80,    75,    82,   83,    81,    86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540" name=""/>
          <p:cNvSpPr/>
          <p:nvPr/>
        </p:nvSpPr>
        <p:spPr>
          <a:xfrm>
            <a:off x="914400" y="5791320"/>
            <a:ext cx="3108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哪个品种较好？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990720" y="533520"/>
            <a:ext cx="71564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cc0000"/>
                </a:solidFill>
                <a:latin typeface="Times New Roman"/>
              </a:rPr>
              <a:t>分析：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  </a:t>
            </a:r>
            <a:r>
              <a:rPr b="0" lang="zh-CN" sz="2500" spc="-1" strike="noStrike">
                <a:solidFill>
                  <a:srgbClr val="0000ff"/>
                </a:solidFill>
                <a:latin typeface="Times New Roman"/>
              </a:rPr>
              <a:t>平均数尅作为一组数据的代表值，它刻画了这组数据的平均水平</a:t>
            </a:r>
            <a:r>
              <a:rPr b="0" lang="zh-CN" sz="25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zh-CN" sz="2500" spc="-1" strike="noStrike">
                <a:solidFill>
                  <a:srgbClr val="0000ff"/>
                </a:solidFill>
                <a:latin typeface="Times New Roman"/>
              </a:rPr>
              <a:t>当我们要比较棉花的品种时，可以计算出这些棉花结桃数的平均数，再通过平均数来进行比较</a:t>
            </a:r>
            <a:r>
              <a:rPr b="0" lang="zh-CN" sz="25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4920" y="3657600"/>
            <a:ext cx="8458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解：设甲、乙、丙三个品种的平均结桃数分别为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则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1905120" y="4267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2895480" y="4267080"/>
            <a:ext cx="731880" cy="68580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>
            <a:off x="3733920" y="4267080"/>
            <a:ext cx="731880" cy="68580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>
            <a:off x="609480" y="4952880"/>
            <a:ext cx="855504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15520" cy="9349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228600" y="3276720"/>
            <a:ext cx="8615520" cy="93492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457200" y="4800600"/>
            <a:ext cx="77058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zh-CN" sz="2500" spc="-1" strike="noStrike">
                <a:solidFill>
                  <a:srgbClr val="0000ff"/>
                </a:solidFill>
                <a:latin typeface="Times New Roman"/>
              </a:rPr>
              <a:t>由于甲种棉花的平均结桃数高于其他两个品种的平均结桃数，所以我们可以认为甲种棉花较好</a:t>
            </a:r>
            <a:r>
              <a:rPr b="0" lang="zh-CN" sz="25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4572000" y="838080"/>
            <a:ext cx="4076640" cy="490536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152280" y="1066680"/>
            <a:ext cx="4114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zh-CN" sz="2500" spc="-1" strike="noStrike">
                <a:solidFill>
                  <a:srgbClr val="0000ff"/>
                </a:solidFill>
                <a:latin typeface="Times New Roman"/>
              </a:rPr>
              <a:t>从上面的例题我们可以看出，平均数可以作为刻画一组数据平均水准的代表值，但在计算的过程中我们还可以借助一样工具，大家猜猜是什么？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2T06:06:37Z</dcterms:created>
  <dc:creator/>
  <dc:description/>
  <cp:keywords/>
  <dc:language>en-US</dc:language>
  <cp:lastModifiedBy>徐华昌</cp:lastModifiedBy>
  <dcterms:modified xsi:type="dcterms:W3CDTF">2015-07-29T07:20:53Z</dcterms:modified>
  <cp:revision>13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