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BEF-BE96-4DF7-9ED7-100B7C0F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A3F-790B-4D82-8488-F3CA1F5B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3D350-D473-451B-9FDC-1B395F63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2379E-6061-4BE5-A918-5F014FB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88F6F-92EA-413E-8EB6-E2E1904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E5E74-BFA8-4D19-8295-375D94D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EF925-187F-46BB-A7F9-6824CA7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EDCD6-4BEB-443C-A3E6-770F6E4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C1219-1C84-4230-9C23-1B17478A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B2E2A-8E9E-4A18-9F7D-ED2CB563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4C7FE-CE9A-49A1-B100-FF315236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3BD02-419F-4F35-A5E4-D45C44FE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F55-42D3-4288-8698-324492C5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03AA5-EF25-4A3C-BE3C-3B75368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39E6A-6E21-45F3-98F9-93CADF9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8059F-DA7A-4CBA-ACF9-DA7921DA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BF902-71E7-42BC-9E96-B351C00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00D1-FB96-4228-9B28-AC4CFE2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26B25-E507-4B89-B435-5F5E246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DF9B-06CB-4EE3-A5AC-3F31380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AE6FD-E8E6-478D-8CF3-1646174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61320-CEAE-4F10-B613-C9CE3E65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B6328-D663-4445-9E39-D3820F95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DF4-41BC-4CAE-8DA9-30C9E70E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97769-8D00-4A4B-A06C-E52B8013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4FEF-DFDA-4915-AF47-E27AF056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91FE6-5AE6-42DC-8D94-0883EC99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B17D-73B0-4A17-B355-8407964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8E03B-AFDC-4A36-A041-561A7B3F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FC75-2D19-4219-80AC-A485A2D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1FA51-5D82-45C6-9EC7-A748C24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5C25C-3C18-4A53-8D83-DF9A681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358F-1F72-4494-AB09-006C8AC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01578-E18C-4309-8C66-6110676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20BE-4E9A-43B7-9D72-5843F3CC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68A22-6A20-4D53-89DD-D1A07B25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E0BAA-055F-4811-BA55-6542A629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1579B-4BE8-4CAF-9A29-CC12CFC7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715C2-2FCD-4F4A-A10F-252BAE2D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A1663-E13F-4E3F-BA9B-2FBDB3E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FD6F5-F424-4F10-BB09-6BDA2936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09DA7-CA4B-48D0-B5E1-C7B6A66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86A04-398B-4744-B164-E8C9347C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9D1B1-BFC5-4443-B0F6-8E18B645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154CD-2076-4C87-9899-914D554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CF20-4156-4E49-8E7A-80D550E4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6AAD5-F35F-417C-8E49-9F250B9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767E1-4751-49B5-9CBE-DE257AA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9C517-9E49-4967-8D71-CD64BF19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D23D6-573A-4D16-B39B-4B1C84F8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9DB7D-AFFB-44F4-81C7-1FAE58C0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7A5ED-E7E7-44CE-8D89-F59880BB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5DA1C-07D9-4A7B-B5F3-505F5FCD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B9655-28D3-44F6-B6C5-A2EB23A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D300F-7346-47CD-ADD6-54BFEB2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1E233-D1EF-47C2-8EFD-ACAD36C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3ADD-EBDD-4E04-A362-D3F5CD3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ED64D-E4C2-484A-851F-5704ADA0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09F18-F883-4E0A-9CE5-6A7E99A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47705-C325-407F-87FF-E6F1C2C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1BBDC-C34B-4E52-ABC0-0904B62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FAB79-5590-4AD0-842C-C0EF7D9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3B561-2846-4482-ACA7-3015BC71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608E7-E388-415A-A969-0D78736E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914CF-5D5D-4DFE-B4EF-602E4F80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EA128-BF3D-4310-BEAC-6CF84B0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F7E9D-D758-4602-9F08-5ED869A8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5C8-B5BF-470D-9E11-DCAF158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CF99F-F1F6-4CC8-963B-9569BA18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C2E22-AB1A-4B1E-9422-7DF22A67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F6861-72C4-472F-99F1-47476FB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9DDE5-FF7D-4EEF-84D9-B2D2F28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D8B48-7939-4201-937F-9531A63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AE404-3477-4E54-81CA-A53A51F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8D6ED-CDF1-448F-AE74-BE1F977E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3DDD0-6305-479A-AEB5-3B4BB34F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08C10-99F7-4B6B-BC86-A401D55C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2DA15-A910-4C1A-999A-461D0963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B6FF-2DCE-46D7-A27A-2C4D577B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1DF91-5BF8-4EA8-9375-41782A9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2AC1D-843B-49B1-B02E-1CD1DC9F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079D7-187C-4BC9-80D7-4830230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AA5D3-9713-4110-BF87-13134650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19334-D53A-429B-B6E6-8C858C36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FFDDD-7357-4F66-A586-326EB4B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4AB68-46A0-4C8D-9833-3B2DAB7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187CE-E22C-4428-9FCF-AB52F55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4BB98-2DC8-47E8-8CD2-578FC3E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7C46D-2719-4A0B-8961-C5ABC4D2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C04E-0C75-4F37-9818-EB71199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D20C6-4CD8-4F85-A93A-23220B44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5383-81EB-4BF4-93CE-204571B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3B7-D72F-49FC-B57B-809DEC5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4085-16BD-45DE-9EF3-4AD85D1E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92C-1729-4D2C-B036-A279F466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BB3F-F825-457C-AEF7-57AD98B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018-91EE-4076-BF54-F0D2CDDF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E929-1F7C-4DE5-9C47-9DC808AB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1C76-872F-47C4-BBFD-6C153FA8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AB71-8C27-4DA0-88C8-549BE14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E6A2-F5C7-410E-8090-0B352226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5F59-4F74-4E28-A03F-171DF8B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802C-7666-4E8E-88C2-9B9B808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3AE-057D-4019-BC7C-2F15496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1AF2-9F8B-4D19-BEBF-CF0381D5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A141-5A9D-49B9-A143-D703FE3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BB5B-1DF6-4570-9365-D17F769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6A2E-ACC7-4C43-AE38-6B5A437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9D70-E183-4570-A278-6F729F7F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8213-5523-4D67-9DBD-A8895DAA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B1B5-6F81-42D9-BEB9-328BE48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C5E8-27E6-4310-8C1F-FE2D3BA0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FCD0-A491-4AA8-BA0E-289DDB9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C1A0-0F71-4457-9CF8-CDF87C08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9D7-AE01-4336-AED0-F7740858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7816-B70B-42EF-8B2E-1CC32E62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8F5A-2AD5-4E7C-8AC0-E14B424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519D-0622-4AA4-AAC7-C6B9DA85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EAB8-8CDD-4EDA-BC55-0399CCE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6002-2604-4645-8B3F-91A7BCC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2837-AB10-4319-BF1D-421E87C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3CD0-D611-4623-9F05-34364C06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FD68-AEFC-4220-A6E2-EA3DAEAE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0679-9752-4A6D-94A2-E3A78872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A4AD-F461-40D2-8B8C-1EA46D12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02C-1C3B-46A5-9447-29F0EED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5C48-ED43-43FC-9CA3-EFA5426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4EDC-7E44-40B9-BB97-27B0F96D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4646-C5C0-4E28-B2DF-4026E970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6550-0023-46EE-914D-0023D8EF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E554D-2EA5-424E-85BE-89EA7BB3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502F-E961-4C49-9570-89E951F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D3C7-1A77-47E1-8544-45ED609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31DBE-198D-4288-B9BA-285DC11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727F-9D30-424E-9795-9D4545F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8BB87-9794-4793-89FD-BFDF7FDD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997-4EAD-4F36-A228-09FD7FE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589F-1364-4AB4-8B00-3787B435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C70A-5540-4682-8FE3-70775089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9FE31-9C09-4E44-BA19-BBBFCD15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0C5F-7F4F-41D1-BD74-C97BA381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878E-0907-4804-AC77-319DAF7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2D32-5F8E-42F1-B5D7-1D6054F1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ED2E-A0E9-4282-AB9C-EAEE03B3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0679C-A46A-4C55-AC43-E81F96D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5092-39E2-44E4-B106-DC9D115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C7D7-E54E-4C50-A089-98DF780D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D1A-D2E5-4FFA-A544-95C0DFA3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3422-BD29-498A-9271-D8AFED18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C0FC-18CB-496C-A683-6D45C4E7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5963B-FD93-4DFB-A732-3A8741B0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2036-A4A7-457D-B7E7-ADED0614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1425-E35D-427E-A769-A203407C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364E-1AA3-42A8-978E-4D200B06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7976-9FC8-4D07-B5C0-38013D74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2596A-1955-4DF6-AB7E-83CF3EBE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463C-7ACD-439C-B1B1-0793576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D140-B19D-40DA-9D84-1387255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C50-A050-4499-B2F4-37F9B129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87D19-4EE1-443D-B168-EF8FD12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8589-6DB0-4A56-9101-352FFF1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4A95-D0B2-4633-8DA9-6EBBD64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A0C6-BE58-4F87-9371-B8D6675C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D93A-2339-41F9-A94C-E62C791D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3E30-A52A-434E-9A0B-DD7A11C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AB79-3F9E-4858-A19B-517C3C4C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14DE1-7E8A-42CE-A748-450D50B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7C1F6-6E72-4F56-B4D6-2221F8F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59F83-DE93-4274-A4F4-7217F18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818-719C-4AA3-ADB6-47EA40E9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CE6D-C66A-4437-B8B5-4583CF83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74BE0-C714-4166-A4B1-E327A60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C1EC-3BC2-4107-B0A7-1150C315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59B08-F0F3-4EA0-9215-B10EF21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7B6E8-A9F1-4A9E-96E8-E443DB09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7F765-2C03-4611-92FC-2DA0BAC1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F8927-24FA-4672-8B6B-E85496D0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4D10-92BD-46AD-9C3C-D33A572A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BD2EB-1535-43C7-8CC6-F82BDE4D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2020F-0AC8-44E7-A313-EA698453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429-2D0C-41FC-AF4B-924C92F69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17A8-5847-446F-BE81-22A714D7511C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1F3F-98C9-4542-B1E9-F225C7DE1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0A0-D8DD-466E-86B5-CBDD7E505AA7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3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22E-7C70-403C-B9D1-FB74B6283E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25A-63E1-4708-AA47-B7AD5922B4D9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C384-0FE1-4703-9271-8E8AF19FC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74AB-32B0-42D2-8AB8-B48F698A74FD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2D29-B104-46AE-A90F-1D3A3F7563F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517C-B847-4DA0-AB63-CDDA316A915D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E80D-574F-488E-8183-C9E43473D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357120" indent="-285840">
              <a:spcBef>
                <a:spcPts val="1800"/>
              </a:spcBef>
              <a:buClr>
                <a:srgbClr val="7f7f7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eaf5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eaf5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eaf5f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DB47-BFC0-45B6-93AD-F066D1436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165821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357120" indent="-285840">
              <a:spcBef>
                <a:spcPts val="1800"/>
              </a:spcBef>
              <a:buClr>
                <a:srgbClr val="7f7f7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eaf5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eaf5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eaf5f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1D8-F7CD-4099-A916-BE4355B39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0C04-E3D5-4418-803E-33B5574C924F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5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6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7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A0E-E4AE-400B-8726-A556523D6C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4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916360" y="2637000"/>
            <a:ext cx="28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1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9640" y="1557360"/>
            <a:ext cx="82915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下列这组数据的中位数分别是多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7    5    4    8    5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21  45   36   12   23    30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71640" y="25653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    5    5    7    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4221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   21   23   30  36    45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50920" y="2565360"/>
            <a:ext cx="720720" cy="649440"/>
          </a:xfrm>
          <a:prstGeom prst="ellipse">
            <a:avLst/>
          </a:prstGeom>
          <a:noFill/>
          <a:ln w="57240">
            <a:solidFill>
              <a:srgbClr val="ff66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71640" y="4221000"/>
            <a:ext cx="719280" cy="649440"/>
          </a:xfrm>
          <a:prstGeom prst="ellipse">
            <a:avLst/>
          </a:prstGeom>
          <a:noFill/>
          <a:ln w="57240">
            <a:solidFill>
              <a:srgbClr val="66ff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232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24000" y="119700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  21,14,24,8,9,15,30,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组数据的中位数是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206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   8   9   14   15   21   24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2997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于中间的两个数是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此时这组数据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的平均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3384720" cy="12193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2232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24000" y="105264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某车间工人日加工零件数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755640" y="1917720"/>
          <a:ext cx="7345440" cy="11048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5440"/>
                <a:gridCol w="1224000"/>
                <a:gridCol w="1224000"/>
                <a:gridCol w="122400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"/>
          <p:cNvSpPr/>
          <p:nvPr/>
        </p:nvSpPr>
        <p:spPr>
          <a:xfrm>
            <a:off x="611280" y="3141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工人日加工零件数的中位数是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这个中位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4000" y="39337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这组数据从小到大排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2872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5    6    6    6     7     7     7     7     8      8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5280" y="47260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于中间的两个数都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因此这组数据的中位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5300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估计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于或大于这个中位数的零件数的工人各占一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68360" y="12700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你能说出中位数的意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8360" y="177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位数有什么优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8360" y="23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位数有什么缺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0920" y="29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中位数的意义：中位数把一组数据分成相同数目的两部分，其中一部分都小于或等于中位数，而另一部分都大于或等于中位数，因此，在这一意义上中位数代表了一组数据的“中点”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0920" y="465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位数的优点：一组数据的个数较少时，中位数容易求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4000" y="537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位数的缺点：没有利用数据中的所有信息，有时它可能不是很有效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819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690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68360" y="1701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某经营一家餐馆，下面是该餐馆所有工作人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份的工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280" y="2492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某：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 会计：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厨师甲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 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8360" y="30700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厨师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   杂工甲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杂工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8360" y="3789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员甲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服务员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服务员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048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68360" y="53020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还能想出其他办法来反映这个餐馆的员工的收入的一般水平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116000" y="119700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参观全体员工的平均工资为       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012000" y="981000"/>
                <a:ext cx="431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335640" cy="15843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187280" y="3789360"/>
            <a:ext cx="69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实际上，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3000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元不能代表餐馆员工在这个月收入的一般水平，因为员工除张某外工资最高的厨师甲的月收入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2500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元都小于这个平均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5462640" cy="15843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62080" y="116532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若不计张某的工资，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名员工的月平均工资为下面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47840" y="4368960"/>
            <a:ext cx="63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所以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000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元的月工资不能合理反应该餐馆员工的月收入水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50920" y="765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把这个餐馆中的人员的月收入从小到大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0920" y="170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0,  1000,  1000,  1200,  1500,  1800,  2000,  2500,  1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2492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于中间的数是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这个数来反映该餐馆员工的月收入的水平行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4000" y="34290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员甲工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是在所有员工的工资的正中间，因为恰在四个人的工资比他高，四个人比他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这个数来反映该餐馆员工的月收入的水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5280" y="522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个数叫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0,  1000,  1000,  1200,  1500,  1800,  2000,  2500,  15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组数据的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中位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6836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位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134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一组数据按从小到大的顺序排列，如果数据的个数是奇数，那么位于中间的数称为这组数据的中位数；如果数据的个数是偶数，那么位于中间的两个数的平均数称为这组数据的中位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6720" y="981000"/>
            <a:ext cx="87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求下列两组数据的中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,  11,  13,   10,  17,  16,  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3,  442,  450,   445,  446, 457,  448,  449,   451,  4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4000" y="29257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这组数据从小到大排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55640" y="357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   11,   13,   14,  16 ,  17,   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11280" y="4221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于中间的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4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此这组数据的中位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684360" y="162864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这组数据从小到大排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637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2,  445,   446,   448,  449 , 4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36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于中间的两个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两个数的平均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9 .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因此这组数据的中位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9 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spcBef>
                <a:spcPts val="7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位数把一组数据分成相同数目的两部分，其中一 部分都小于或等于中位数，而另一部分都大于或等于中位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，中位数常用来描述“中间位置”或“中等水平”，但中位数没有利用数据组中所有的信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07:34:13Z</dcterms:created>
  <dc:creator/>
  <dc:description/>
  <dc:language>en-US</dc:language>
  <cp:lastModifiedBy>微软用户</cp:lastModifiedBy>
  <dcterms:modified xsi:type="dcterms:W3CDTF">2014-12-02T01:08:43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