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5.gif" ContentType="image/gif"/>
  <Override PartName="/ppt/media/image8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12.png" ContentType="image/png"/>
  <Override PartName="/ppt/media/image5.jpeg" ContentType="image/jpeg"/>
  <Override PartName="/ppt/media/image20.wmf" ContentType="image/x-wmf"/>
  <Override PartName="/ppt/media/image10.png" ContentType="image/png"/>
  <Override PartName="/ppt/media/image4.wmf" ContentType="image/x-wmf"/>
  <Override PartName="/ppt/media/image24.jpeg" ContentType="image/jpeg"/>
  <Override PartName="/ppt/media/image22.png" ContentType="image/png"/>
  <Override PartName="/ppt/media/image23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C0E-ADC9-4E8F-BF1E-05DE5043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1C1-D872-47D7-9441-E9CD23FD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66E03-85D3-44DB-A281-8F72C9F5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8AFE6-54F1-4D26-AADA-FE486E36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CDB2D-A803-4551-B513-0FAAF76D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B1BA-E788-425C-B474-643B16FE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F11A7-DE53-4883-A315-288E047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2DB8-3A0E-4D19-A30B-7266A238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5F975-CB65-475F-85C7-CD23C579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40A39-566B-4843-9818-2E0F3E36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519C-CEC3-43C4-A6DF-49244E23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DBC8E-C02F-459E-9A76-A87ABF41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910-1422-4DD6-A42A-374819A8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F468E-6F72-461B-B5DF-F0ECC6EE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4B80A-3B41-4B6E-B1C7-50003E10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670E4-0BA5-4EF8-A7DB-5F2453C8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6347A-0056-4150-8C82-F7FE2AC1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5320D-A675-4B29-BF72-0E53B4BB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17D77-DF13-4CFF-BDB4-DA558D9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E5E9D-2B13-4604-8188-C63B40F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B9699-46F2-4E24-B9C6-89941776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8B5E7-40DB-47B2-A14D-99D0E179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69273-94FF-4E74-986A-4F1EE579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933-AC2C-49F1-919C-18DB32F1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38A15-806D-45CA-9658-891122C8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9B732-9EB2-4E6C-B825-A914CEA3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358FE-0E24-44A3-956C-334C7534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BE403-48D4-4C1B-8029-16B250A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BDAAF-9089-4463-894F-B1CB3244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58816-3CB6-450F-AD29-7892B998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EAD24-476D-49E7-8D21-D3FC4BB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EF8B1-8BB1-4894-ACD6-151942B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509FC-83AE-4E44-9D61-5EA9F2F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E116D-9AFA-4109-BB26-D6BCBC0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D30-AB78-40DD-BACF-D927CF26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D30AD-BA27-4071-BECE-687DEA57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AF5D6-EF61-4CA7-9705-5632E0C8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B14CC-CA2B-40E0-9D55-D9527187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A33-1FF8-469C-8BA8-4E8AFB2F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FEB9-784B-4CC5-A4C4-D669B7DC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4AEE-DB2F-4A19-9E5C-FC48BDB5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0504-A8EB-483B-854C-4F9768F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5C65-1612-4D37-A7B7-B68CBA05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D94-1C40-4A67-809E-C40B6A7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667-7A59-4859-A4CC-C1A3C46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646-C3CC-42B4-8085-26AB59F4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F59B-3B77-4E22-A539-D8EBA81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2CD4-331F-4231-A469-DAFA4CA0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2346-CABA-4815-A70A-7D3E1D59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B14E-9FB1-4847-939E-D2A0CA0D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21C8-10CD-4DA5-BD4D-8D8176DE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1C54-CDE7-42D8-B518-338622E2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AB15-011E-4B80-AE5C-CBF8C2C8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A0FE-0FA4-488E-BDD0-0E022792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D1D9-2C5C-43E8-9445-800DDA1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E65-0F8B-4695-BE64-0A673571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7E00-2305-411E-9361-3F8899B0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4D46-D374-4441-BBDC-0FAF474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8580-5ACA-4F53-8EAD-4CDFA752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DEBE-DEC6-4109-A691-B75182AE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0E73-3F28-420D-90C8-6673A57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6114-B9A6-4ECB-8038-6A523C39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0541-5B4A-4E1D-9459-7DF14982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EFA-0ABC-478B-87C5-A96CD530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AFA9-D32C-4356-8238-7B352726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1F1-6CA2-4281-B373-43F272F4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60C6-A3C9-4132-B69C-993B482E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FD10-5C04-4E7D-B998-BDF1B520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F94B2-F7E1-4AB5-9882-90A7835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A96D-F5B8-4E42-80A7-87558A48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AB85-0773-4DF5-97B3-6B45B35D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CC35-3207-4267-B054-C59C2F7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BB2B-BCED-4746-9FBC-89B8521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F6BE-EBD2-4F89-B7BE-434750D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743C-BB70-4875-A4D5-4F369C6F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05B2-9762-464D-B0FE-9E9DA020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82B-9360-49EB-8A1C-28A9A0E8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9AA5-15F4-458A-9AB0-7163B78F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15E2-A0D8-4E3C-A7DA-8D986DA5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B39F-DC1D-4D7A-B126-FD5B9BAC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9102-16E8-4E02-BA2B-0CEAAAC2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9B5A-461D-464F-B140-461F153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1C3BB-B028-4927-BEA9-B9B1AB52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710C-DAF9-438D-91BA-9C97A707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16BE-0BB7-41F7-AFB2-2A79084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C1A1-6430-42A9-98E2-42D0109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B910-13AA-4ADA-9E67-4730266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AAB-572E-4BA2-B81F-7418BDFD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7E0A-13E5-4601-B173-B55EAC6F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6627-D3AC-4676-BC49-D29B7323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1D35-E3CC-4CBC-8EAF-6F373032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49EDB-E389-49CF-843D-C1D047D4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EF17-7F08-4DAD-82B2-AF78BA1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6ED10-07EB-4D3A-8230-D0A4BF22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BA5A-D7D3-45BC-BB48-9AAF8973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C0BE-E6BA-443B-BADA-00C18A7B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1A6C4-12D8-4A08-80CB-209878F5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F61D-3DC6-4745-BDDF-E0E91F7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B9B-3240-4D5B-96E5-01F91BB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AD0FD-B489-4E23-B682-5740C19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25E52-0351-4811-8D94-002D7FF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71A2-24C0-47A6-A3EC-F59F7A2C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F3437-D69E-4FA0-9E45-EDC50115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FADC-2002-4266-888F-10307195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E3D65-72B3-4ED8-AC02-34BC1A35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AD4B-1008-4DAD-BBCD-65034169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5DAB-B77F-4FFC-9CC6-58FD919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6FED1-6D74-487C-A172-02E73E8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0406-E794-448D-9E7B-6EFF4A02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D26-374A-4B9F-939B-0782A31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42C5-7D72-43FE-A5D6-5E055E45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AC139-04D8-44BA-AE0D-B4546664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48BEC-0C47-4910-B18C-AB09D9E9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DE12-DBC1-46D9-8F69-4E888AB9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1A712-2925-4AC8-A9C0-742EBA78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60214-9CE4-41D1-AC64-01333A83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9267B-D289-4E57-8C48-1E7AA7EC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B5E7C-530E-447F-8B4C-FAEAC61F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EE78-07B1-4535-93BE-A783CD8C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72AE-22BA-4375-A3B5-590AF87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BAC6-5A3D-4974-A912-9FDB59C0BDC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" name="Picture 8" descr="博今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9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9" name="Picture 11" descr="3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ABD-D21B-41AF-A301-C14DD47F6E71}" type="slidenum">
              <a:rPr b="0" lang="zh-CN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717C-F8C1-4DA9-B7F2-7326DBF38293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0" name="Picture 6" descr="3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3B2-E36E-4E7D-99C0-7B443BB20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" name="Picture 13" descr="MCj04164160000[1]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58" name="Oval 14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0" name="Picture 16" descr="MCj03536030000[1]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MPj03901240000[1]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62" name="Oval 18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3" name="Picture 19" descr="MCj04164260000[1]"/>
          <p:cNvPicPr/>
          <p:nvPr/>
        </p:nvPicPr>
        <p:blipFill>
          <a:blip r:embed="rId6"/>
          <a:stretch/>
        </p:blipFill>
        <p:spPr>
          <a:xfrm>
            <a:off x="7467480" y="5407200"/>
            <a:ext cx="14479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8F95-8EA6-489C-B976-6FE9DE85FC4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3883-569C-4A41-BA94-F9C0362738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DA2C-9DE6-491F-B007-26747B0F5E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7280" y="6415920"/>
            <a:ext cx="2412720" cy="7164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5759280"/>
            <a:ext cx="594036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9D3A-45E8-44E3-BF2B-A0602D67E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B538-106D-46CB-B23B-C10B44BFFD2B}" type="slidenum"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D6D5-1A9B-4529-8CBC-F21601AB2F2F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9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057400" y="2362320"/>
            <a:ext cx="525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6.1.3  </a:t>
            </a:r>
            <a:r>
              <a:rPr b="1" lang="zh-CN" sz="3200" spc="-1" strike="noStrike">
                <a:solidFill>
                  <a:srgbClr val="061f5b"/>
                </a:solidFill>
                <a:latin typeface="Times New Roman"/>
              </a:rPr>
              <a:t>众数</a:t>
            </a:r>
            <a:endParaRPr b="0" lang="en-US" sz="32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4920" y="5106960"/>
            <a:ext cx="8686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从条形统计图可看出，年龄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队员的人数  最多（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人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，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名队员的年龄的众数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9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3885480" y="1980360"/>
            <a:ext cx="2895480" cy="685800"/>
          </a:xfrm>
          <a:prstGeom prst="wedgeRoundRectCallout">
            <a:avLst>
              <a:gd name="adj1" fmla="val 43472"/>
              <a:gd name="adj2" fmla="val -1138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黑体"/>
              </a:rPr>
              <a:t>出现次数最多的数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666880" y="1946160"/>
            <a:ext cx="4114800" cy="19954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 flipV="1">
            <a:off x="2895480" y="27716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67676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2895480"/>
            <a:ext cx="30492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320" y="83808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1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如图是某青年排球队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名队员年龄情况的统计图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1447920"/>
            <a:ext cx="5257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求这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1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名队员的年龄的众数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"/>
                            </p:stCondLst>
                            <p:childTnLst>
                              <p:par>
                                <p:cTn id="2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8"/>
          <p:cNvSpPr/>
          <p:nvPr/>
        </p:nvSpPr>
        <p:spPr>
          <a:xfrm>
            <a:off x="304920" y="264960"/>
            <a:ext cx="8458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例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某课外小组的同学们在社会实践活动中调查了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户家庭某月的用电量，如下表所示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80880" y="914400"/>
          <a:ext cx="8153280" cy="1349280"/>
        </p:xfrm>
        <a:graphic>
          <a:graphicData uri="http://schemas.openxmlformats.org/drawingml/2006/table">
            <a:tbl>
              <a:tblPr/>
              <a:tblGrid>
                <a:gridCol w="1357200"/>
                <a:gridCol w="1357560"/>
                <a:gridCol w="1358640"/>
                <a:gridCol w="1360440"/>
                <a:gridCol w="1359000"/>
                <a:gridCol w="1360440"/>
              </a:tblGrid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用电量（度）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户数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32"/>
          <p:cNvSpPr/>
          <p:nvPr/>
        </p:nvSpPr>
        <p:spPr>
          <a:xfrm>
            <a:off x="304920" y="2170440"/>
            <a:ext cx="8686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则这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户家庭该月用电量的众数和中位数分别是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(     )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	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    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   C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0    D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 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105520"/>
            <a:ext cx="458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424160" y="3122640"/>
            <a:ext cx="461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例</a:t>
            </a:r>
            <a:r>
              <a:rPr b="1" lang="zh-CN" sz="25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北京今年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月某日部分区县的高气温如下表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28600" y="3581280"/>
          <a:ext cx="8915400" cy="1708200"/>
        </p:xfrm>
        <a:graphic>
          <a:graphicData uri="http://schemas.openxmlformats.org/drawingml/2006/table">
            <a:tbl>
              <a:tblPr/>
              <a:tblGrid>
                <a:gridCol w="1298520"/>
                <a:gridCol w="741240"/>
                <a:gridCol w="736920"/>
                <a:gridCol w="741240"/>
                <a:gridCol w="741240"/>
                <a:gridCol w="739800"/>
                <a:gridCol w="955800"/>
                <a:gridCol w="741240"/>
                <a:gridCol w="738360"/>
                <a:gridCol w="739800"/>
                <a:gridCol w="741240"/>
              </a:tblGrid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区县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兴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通州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谷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顺义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怀柔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门头沟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延庆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昌平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密云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房山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最高气温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9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Rectangle 47"/>
          <p:cNvSpPr/>
          <p:nvPr/>
        </p:nvSpPr>
        <p:spPr>
          <a:xfrm>
            <a:off x="152280" y="5142960"/>
            <a:ext cx="8686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则这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个区县该日最高气温的众数和中位数分别是（    ）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          B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0         C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0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          D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2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，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1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45240" y="2133720"/>
            <a:ext cx="436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12"/>
          <p:cNvSpPr/>
          <p:nvPr/>
        </p:nvSpPr>
        <p:spPr>
          <a:xfrm>
            <a:off x="228600" y="762120"/>
            <a:ext cx="74674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求下面各组数据的众数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9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9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0.9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19880" y="1447920"/>
            <a:ext cx="1084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众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87640" y="2057400"/>
            <a:ext cx="1439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众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9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04920" y="27432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某班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所穿运动服尺码的情况为：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7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8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6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8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90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，穿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95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号码的有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人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穿哪一种尺码衣服的人最多？这个数据称为什么数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1740240" y="5410080"/>
            <a:ext cx="4274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穿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85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号衣服的人最多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en-US" sz="25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这个数据称为众数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73080" y="304920"/>
            <a:ext cx="178776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7"/>
          <p:cNvSpPr/>
          <p:nvPr/>
        </p:nvSpPr>
        <p:spPr>
          <a:xfrm>
            <a:off x="228600" y="609480"/>
            <a:ext cx="866772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．某饮料店为了了解本店一种罐装饮料上半年的销售情况，随机抽查了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天该种饮料的日销售量，结果如下（单位：听）：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．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这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天的平均日销售量是</a:t>
            </a:r>
            <a:r>
              <a:rPr b="1" lang="zh-CN" sz="2800" spc="-1" strike="noStrike" u="sng">
                <a:solidFill>
                  <a:srgbClr val="061f5b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听；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根据上面的计算结果，估计上半年（按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8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天计算）该店能销售这种饮料</a:t>
            </a:r>
            <a:r>
              <a:rPr b="1" lang="zh-CN" sz="2800" spc="-1" strike="noStrike" u="sng">
                <a:solidFill>
                  <a:srgbClr val="061f5b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听．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228600" y="3886200"/>
            <a:ext cx="891540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．下表是一文具店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月份某种铅笔销售情况统计表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观察表中数据可知，众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中位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____</a:t>
            </a:r>
            <a:r>
              <a:rPr b="1" lang="zh-CN" sz="2900" spc="-1" strike="noStrike">
                <a:solidFill>
                  <a:srgbClr val="061f5b"/>
                </a:solidFill>
                <a:latin typeface="Times New Roman"/>
              </a:rPr>
              <a:t>．</a:t>
            </a:r>
            <a:endParaRPr b="0" lang="en-US" sz="29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1" name="Picture 20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6309000" cy="11685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5334480" y="2133720"/>
            <a:ext cx="537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41880" y="3200400"/>
            <a:ext cx="893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43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29200" y="5410080"/>
            <a:ext cx="715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20120" y="5334120"/>
            <a:ext cx="715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790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6"/>
          <p:cNvSpPr/>
          <p:nvPr/>
        </p:nvSpPr>
        <p:spPr>
          <a:xfrm>
            <a:off x="152280" y="685800"/>
            <a:ext cx="8852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一个小组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位同学，其中有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位同学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米跑的成绩在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秒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秒之间，另外一位同学的成绩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秒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你认为用这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位同学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米跑成绩的平均数还是中位数中的哪一个，更能客观反映这个小组的集体成绩，为什么？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8" name="Text Box 21"/>
          <p:cNvSpPr/>
          <p:nvPr/>
        </p:nvSpPr>
        <p:spPr>
          <a:xfrm>
            <a:off x="152280" y="3886200"/>
            <a:ext cx="87645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为筹备班级里的新年晚会，班长对全班同学爱吃哪几种水果作了民意调查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最终买什么水果，该由调查数据的平均数、中位数还是众数决定呢？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57720" y="3048120"/>
            <a:ext cx="709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以用平均数，但有一个特殊值，因此用中位数较客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44320" y="5257800"/>
            <a:ext cx="820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众数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28600" y="152280"/>
            <a:ext cx="234324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综合运用：</a:t>
            </a:r>
            <a:endParaRPr b="1" lang="en-US" sz="2500" spc="-1" strike="noStrike">
              <a:ln w="9360">
                <a:solidFill>
                  <a:srgbClr val="ffff66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Text Box 27"/>
          <p:cNvSpPr/>
          <p:nvPr/>
        </p:nvSpPr>
        <p:spPr>
          <a:xfrm>
            <a:off x="0" y="762120"/>
            <a:ext cx="91440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．小明和小颖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次数学单元测试成绩如下（单位：分）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小明：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9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67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9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6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；小颖：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6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6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89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</a:rPr>
              <a:t>92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</a:rPr>
              <a:t>．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他们都认为自己的成绩比另一位同学好．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）请你分析他们各自的理由；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）你认为谁的成绩更好一些？说明你的理由．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1630440" y="3199320"/>
            <a:ext cx="581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我校七年级某班每位同学都向“希望工程”捐献图书，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捐书情况如下表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33520" y="4343400"/>
          <a:ext cx="7543800" cy="1050840"/>
        </p:xfrm>
        <a:graphic>
          <a:graphicData uri="http://schemas.openxmlformats.org/drawingml/2006/table">
            <a:tbl>
              <a:tblPr/>
              <a:tblGrid>
                <a:gridCol w="839880"/>
                <a:gridCol w="839520"/>
                <a:gridCol w="835200"/>
                <a:gridCol w="843120"/>
                <a:gridCol w="838080"/>
                <a:gridCol w="836640"/>
                <a:gridCol w="839880"/>
                <a:gridCol w="834840"/>
                <a:gridCol w="83664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册数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Rectangle 36"/>
          <p:cNvSpPr/>
          <p:nvPr/>
        </p:nvSpPr>
        <p:spPr>
          <a:xfrm>
            <a:off x="1402200" y="5409360"/>
            <a:ext cx="2914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求捐书册数的中位数和众数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52440" y="2133720"/>
            <a:ext cx="2990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平均数是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6.6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4.2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中位数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众数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92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41800" y="5851440"/>
            <a:ext cx="536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共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人，中位数是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，众数是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7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7"/>
          <p:cNvSpPr/>
          <p:nvPr/>
        </p:nvSpPr>
        <p:spPr>
          <a:xfrm>
            <a:off x="380880" y="3610800"/>
            <a:ext cx="861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如果所有数据出现的次数都一样，那么这组数据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没有众数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没有众数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华文细黑"/>
              </a:rPr>
              <a:t> 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304920" y="838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一般来说，一组数据中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出现次数最多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的数就叫这组数据的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众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的众数是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1" name="Rectangle 29"/>
          <p:cNvSpPr/>
          <p:nvPr/>
        </p:nvSpPr>
        <p:spPr>
          <a:xfrm>
            <a:off x="228600" y="190512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61f5b"/>
                </a:solidFill>
                <a:latin typeface="华文细黑"/>
                <a:ea typeface="华文细黑"/>
              </a:rPr>
              <a:t>   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如果有两个或两个以上个数出现次数都是最多的，那么这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几个数都是这组数据的众数</a:t>
            </a:r>
            <a:r>
              <a:rPr b="1" lang="en-US" sz="24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的众数是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4267080"/>
            <a:ext cx="8686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用众数作为一组数据的代表，着眼于对数据出现的频数的考察，其大小只与这组数据中的部分数据有关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可靠性比较差，但众数不受极端数据的影响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当一组数据中有不少数据多次重复出现时，其众数往往是我们关心的一种统计量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8190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596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332000" y="609480"/>
            <a:ext cx="4225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平均数的计算公式和平均数的作用与特点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640" y="1295280"/>
            <a:ext cx="3927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对于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个数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61f5b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13400" y="1066680"/>
            <a:ext cx="4488840" cy="1081440"/>
            <a:chOff x="3713400" y="1066680"/>
            <a:chExt cx="4488840" cy="1081440"/>
          </a:xfrm>
        </p:grpSpPr>
        <p:grpSp>
          <p:nvGrpSpPr>
            <p:cNvPr id="483" name=""/>
            <p:cNvGrpSpPr/>
            <p:nvPr/>
          </p:nvGrpSpPr>
          <p:grpSpPr>
            <a:xfrm>
              <a:off x="4475160" y="1066680"/>
              <a:ext cx="383400" cy="971640"/>
              <a:chOff x="4475160" y="1066680"/>
              <a:chExt cx="383400" cy="971640"/>
            </a:xfrm>
          </p:grpSpPr>
          <p:sp>
            <p:nvSpPr>
              <p:cNvPr id="484" name=""/>
              <p:cNvSpPr/>
              <p:nvPr/>
            </p:nvSpPr>
            <p:spPr>
              <a:xfrm>
                <a:off x="4475160" y="1066680"/>
                <a:ext cx="38340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60480" y="1566360"/>
                <a:ext cx="228240" cy="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713400" y="1210320"/>
              <a:ext cx="4488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61f5b"/>
                  </a:solidFill>
                  <a:latin typeface="Times New Roman"/>
                </a:rPr>
                <a:t>            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=</a:t>
              </a:r>
              <a:r>
                <a:rPr b="0" lang="zh-CN" sz="2800" spc="-1" strike="noStrike">
                  <a:solidFill>
                    <a:srgbClr val="061f5b"/>
                  </a:solidFill>
                  <a:latin typeface="Times New Roman"/>
                </a:rPr>
                <a:t>    (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+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+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+…+</a:t>
              </a:r>
              <a:r>
                <a:rPr b="1" i="1" lang="zh-CN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i="1" lang="zh-CN" sz="2800" spc="-1" strike="noStrike" baseline="-25000">
                  <a:solidFill>
                    <a:srgbClr val="061f5b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61f5b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008680" y="1066680"/>
              <a:ext cx="378720" cy="1081440"/>
              <a:chOff x="5008680" y="1066680"/>
              <a:chExt cx="378720" cy="1081440"/>
            </a:xfrm>
          </p:grpSpPr>
          <p:sp>
            <p:nvSpPr>
              <p:cNvPr id="488" name=""/>
              <p:cNvSpPr/>
              <p:nvPr/>
            </p:nvSpPr>
            <p:spPr>
              <a:xfrm>
                <a:off x="5008680" y="1066680"/>
                <a:ext cx="3391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61f5b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08680" y="1371600"/>
                <a:ext cx="37872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61f5b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83560" y="1676520"/>
                <a:ext cx="228600" cy="720"/>
              </a:xfrm>
              <a:prstGeom prst="line">
                <a:avLst/>
              </a:prstGeom>
              <a:ln w="34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04920" y="2057400"/>
            <a:ext cx="8915400" cy="1522800"/>
            <a:chOff x="304920" y="2057400"/>
            <a:chExt cx="8915400" cy="1522800"/>
          </a:xfrm>
        </p:grpSpPr>
        <p:sp>
          <p:nvSpPr>
            <p:cNvPr id="492" name=""/>
            <p:cNvSpPr/>
            <p:nvPr/>
          </p:nvSpPr>
          <p:spPr>
            <a:xfrm>
              <a:off x="304920" y="2057400"/>
              <a:ext cx="8915400" cy="871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一组数据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…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i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各个数的权数分别是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，…，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r>
                <a:rPr b="1" i="1" lang="zh-CN" sz="2800" spc="-1" strike="noStrike" baseline="-25000">
                  <a:solidFill>
                    <a:srgbClr val="0000ff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则</a:t>
              </a:r>
              <a:endParaRPr b="0" lang="en-US" sz="2800" spc="-1" strike="noStrike">
                <a:solidFill>
                  <a:srgbClr val="061f5b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863080" y="2895480"/>
              <a:ext cx="3983040" cy="684720"/>
              <a:chOff x="2863080" y="2895480"/>
              <a:chExt cx="3983040" cy="6847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63080" y="2895480"/>
                <a:ext cx="3983040" cy="6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 =x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+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+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3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+…+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n</a:t>
                </a: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0000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71800" y="3124080"/>
                <a:ext cx="253080" cy="3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61f5b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781680" y="2972520"/>
              <a:ext cx="2438280" cy="563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加权平均数</a:t>
              </a:r>
              <a:r>
                <a:rPr b="1" lang="zh-CN" sz="28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.</a:t>
              </a:r>
              <a:endParaRPr b="0" lang="en-US" sz="2800" spc="-1" strike="noStrike">
                <a:solidFill>
                  <a:srgbClr val="061f5b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466800" y="3505320"/>
            <a:ext cx="153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平均数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是一组数据的一个代表值，它刻画了数据组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的平均水平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87760" y="4724280"/>
            <a:ext cx="55605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位数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是一组数据按从小到大顺序排列后，中间位置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的数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中位数常用来描述“中间位置”或“中等水平”，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但中位数没有利用数据组中所有的信息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0480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52280" y="1752480"/>
          <a:ext cx="8569440" cy="1295280"/>
        </p:xfrm>
        <a:graphic>
          <a:graphicData uri="http://schemas.openxmlformats.org/drawingml/2006/table">
            <a:tbl>
              <a:tblPr/>
              <a:tblGrid>
                <a:gridCol w="2162160"/>
                <a:gridCol w="573120"/>
                <a:gridCol w="819000"/>
                <a:gridCol w="549360"/>
                <a:gridCol w="841320"/>
                <a:gridCol w="598680"/>
                <a:gridCol w="936360"/>
                <a:gridCol w="552600"/>
                <a:gridCol w="816120"/>
                <a:gridCol w="720720"/>
              </a:tblGrid>
              <a:tr h="83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鞋的尺码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销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Text Box 121"/>
          <p:cNvSpPr/>
          <p:nvPr/>
        </p:nvSpPr>
        <p:spPr>
          <a:xfrm>
            <a:off x="1143000" y="609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下面是一家鞋店在一段时间内务种尺码男鞋的销售量统计表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2" name="Text Box 122"/>
          <p:cNvSpPr/>
          <p:nvPr/>
        </p:nvSpPr>
        <p:spPr>
          <a:xfrm>
            <a:off x="1522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思考下述问题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3" name="Text Box 123"/>
          <p:cNvSpPr/>
          <p:nvPr/>
        </p:nvSpPr>
        <p:spPr>
          <a:xfrm>
            <a:off x="304920" y="3657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这段时间内共销售了多少双男鞋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4" name="Text Box 124"/>
          <p:cNvSpPr/>
          <p:nvPr/>
        </p:nvSpPr>
        <p:spPr>
          <a:xfrm>
            <a:off x="304920" y="4191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销售量最多的是哪种尺码的鞋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5" name="Text Box 125"/>
          <p:cNvSpPr/>
          <p:nvPr/>
        </p:nvSpPr>
        <p:spPr>
          <a:xfrm>
            <a:off x="304920" y="4800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这个统计表能给鞋店主什么信息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6" name="Text Box 126"/>
          <p:cNvSpPr/>
          <p:nvPr/>
        </p:nvSpPr>
        <p:spPr>
          <a:xfrm>
            <a:off x="228600" y="5334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4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这些问题中，店主最关心的问题是什么</a:t>
            </a:r>
            <a:r>
              <a:rPr b="1" lang="en-US" sz="2800" spc="-1" strike="noStrike">
                <a:solidFill>
                  <a:srgbClr val="061f5b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723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8"/>
          <p:cNvSpPr/>
          <p:nvPr/>
        </p:nvSpPr>
        <p:spPr>
          <a:xfrm flipH="1" flipV="1">
            <a:off x="75960" y="2208960"/>
            <a:ext cx="3657600" cy="2667240"/>
          </a:xfrm>
          <a:prstGeom prst="wedgeRoundRectCallout">
            <a:avLst>
              <a:gd name="adj1" fmla="val 20962"/>
              <a:gd name="adj2" fmla="val -86041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家店销售量最多的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5cm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鞋，店主最关心的就是销售量，所以店主下次进货时可以多进这个尺码的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962520" y="2347200"/>
            <a:ext cx="4876560" cy="649080"/>
          </a:xfrm>
          <a:prstGeom prst="rect">
            <a:avLst/>
          </a:prstGeom>
          <a:solidFill>
            <a:srgbClr val="c0c0c0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一组数据中，出现次数最多的数叫做这组数据的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众数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0" name="Text Box 68"/>
          <p:cNvSpPr/>
          <p:nvPr/>
        </p:nvSpPr>
        <p:spPr>
          <a:xfrm>
            <a:off x="3657600" y="3916080"/>
            <a:ext cx="5181480" cy="1005480"/>
          </a:xfrm>
          <a:prstGeom prst="rect">
            <a:avLst/>
          </a:prstGeom>
          <a:solidFill>
            <a:srgbClr val="c0c0c0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anchorCtr="1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当一组数据中某数据多次重复出现时，常可以用众数作为这组数据的数值的一个代表值</a:t>
            </a:r>
            <a:r>
              <a:rPr b="1" lang="en-US" sz="26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一组数据的众数</a:t>
            </a:r>
            <a:r>
              <a:rPr b="1" lang="zh-CN" sz="2600" spc="-1" strike="noStrike">
                <a:solidFill>
                  <a:srgbClr val="cc0000"/>
                </a:solidFill>
                <a:latin typeface="黑体"/>
                <a:ea typeface="黑体"/>
              </a:rPr>
              <a:t>可以不止一个</a:t>
            </a:r>
            <a:r>
              <a:rPr b="1" lang="en-US" sz="26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1" name="AutoShape 67"/>
          <p:cNvSpPr/>
          <p:nvPr/>
        </p:nvSpPr>
        <p:spPr>
          <a:xfrm flipH="1" flipV="1">
            <a:off x="2513880" y="5562720"/>
            <a:ext cx="5489640" cy="1218960"/>
          </a:xfrm>
          <a:prstGeom prst="wedgeRoundRectCallout">
            <a:avLst>
              <a:gd name="adj1" fmla="val 65643"/>
              <a:gd name="adj2" fmla="val 27578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在上面的问题中，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是鞋的尺码中出现次数最多的数，所以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是这组数据的众数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914400" y="304920"/>
          <a:ext cx="8001000" cy="1647720"/>
        </p:xfrm>
        <a:graphic>
          <a:graphicData uri="http://schemas.openxmlformats.org/drawingml/2006/table">
            <a:tbl>
              <a:tblPr/>
              <a:tblGrid>
                <a:gridCol w="1692360"/>
                <a:gridCol w="576000"/>
                <a:gridCol w="833760"/>
                <a:gridCol w="631800"/>
                <a:gridCol w="933480"/>
                <a:gridCol w="625320"/>
                <a:gridCol w="758880"/>
                <a:gridCol w="538200"/>
                <a:gridCol w="734760"/>
                <a:gridCol w="676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鞋的尺码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4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.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销售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60992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5"/>
          <p:cNvSpPr/>
          <p:nvPr/>
        </p:nvSpPr>
        <p:spPr>
          <a:xfrm>
            <a:off x="2133720" y="152280"/>
            <a:ext cx="7086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某公司全体职工的月工资如下：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09520" y="914400"/>
          <a:ext cx="8782200" cy="1833480"/>
        </p:xfrm>
        <a:graphic>
          <a:graphicData uri="http://schemas.openxmlformats.org/drawingml/2006/table">
            <a:tbl>
              <a:tblPr/>
              <a:tblGrid>
                <a:gridCol w="922320"/>
                <a:gridCol w="1139760"/>
                <a:gridCol w="1386000"/>
                <a:gridCol w="770040"/>
                <a:gridCol w="803160"/>
                <a:gridCol w="855720"/>
                <a:gridCol w="722160"/>
                <a:gridCol w="763560"/>
                <a:gridCol w="711360"/>
                <a:gridCol w="708120"/>
              </a:tblGrid>
              <a:tr h="76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工资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）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经理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副总经理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Text Box 77"/>
          <p:cNvSpPr/>
          <p:nvPr/>
        </p:nvSpPr>
        <p:spPr>
          <a:xfrm>
            <a:off x="533520" y="2819520"/>
            <a:ext cx="8458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试求出该公司月工资数据中的众数、中位数和平均数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3581280"/>
            <a:ext cx="8305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在上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个数据中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出现了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出现的 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数最多，因此这组数据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众数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00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4572000"/>
            <a:ext cx="883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把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个数据按从小到大的顺序排列后，可以 发现位于中间的数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5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因此这组数据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位数是 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219320" y="5791320"/>
            <a:ext cx="2438280" cy="546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576800" y="6095880"/>
            <a:ext cx="3252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组数据的平均数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115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6"/>
          <p:cNvSpPr/>
          <p:nvPr/>
        </p:nvSpPr>
        <p:spPr>
          <a:xfrm>
            <a:off x="380880" y="1295280"/>
            <a:ext cx="876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我们把这组数据的众数、中位数、平均数表示在图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6-2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中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6320" y="380880"/>
            <a:ext cx="26049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752480" y="15228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上例中，你认为用平均数、中位数或众数中的哪一个更能反映该公司的工资水平</a:t>
            </a:r>
            <a:r>
              <a:rPr b="1" lang="zh-CN" sz="28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685440" y="3124080"/>
            <a:ext cx="7238880" cy="1905120"/>
          </a:xfrm>
          <a:prstGeom prst="wedgeRoundRectCallout">
            <a:avLst>
              <a:gd name="adj1" fmla="val 41333"/>
              <a:gd name="adj2" fmla="val -6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bbe0e3"/>
                </a:solidFill>
                <a:latin typeface="黑体"/>
                <a:ea typeface="黑体"/>
              </a:rPr>
              <a:t>工资的平均数</a:t>
            </a:r>
            <a:r>
              <a:rPr b="1" lang="en-US" sz="2800" spc="-1" strike="noStrike">
                <a:solidFill>
                  <a:srgbClr val="bbe0e3"/>
                </a:solidFill>
                <a:latin typeface="Times New Roman"/>
                <a:ea typeface="黑体"/>
              </a:rPr>
              <a:t>3115</a:t>
            </a:r>
            <a:r>
              <a:rPr b="1" lang="en-US" sz="28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bbe0e3"/>
                </a:solidFill>
                <a:latin typeface="黑体"/>
                <a:ea typeface="黑体"/>
              </a:rPr>
              <a:t>偏高，因为大多数员工的工资都达不到这个平均数，用它来作为该公司员工工资的代表值并不合适</a:t>
            </a:r>
            <a:r>
              <a:rPr b="1" lang="en-US" sz="28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685440" y="3124080"/>
            <a:ext cx="7315200" cy="1905120"/>
          </a:xfrm>
          <a:prstGeom prst="wedgeRoundRectCallout">
            <a:avLst>
              <a:gd name="adj1" fmla="val -45398"/>
              <a:gd name="adj2" fmla="val -748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众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00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中位数是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25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，它们代表了大多数人的工资水平，不偏高也不偏低，较能反映工资水平的实际情况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80880" y="1219320"/>
          <a:ext cx="8305920" cy="1833480"/>
        </p:xfrm>
        <a:graphic>
          <a:graphicData uri="http://schemas.openxmlformats.org/drawingml/2006/table">
            <a:tbl>
              <a:tblPr/>
              <a:tblGrid>
                <a:gridCol w="1014480"/>
                <a:gridCol w="1073160"/>
                <a:gridCol w="1189080"/>
                <a:gridCol w="715680"/>
                <a:gridCol w="763920"/>
                <a:gridCol w="709560"/>
                <a:gridCol w="709560"/>
                <a:gridCol w="711000"/>
                <a:gridCol w="709920"/>
                <a:gridCol w="70956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工资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）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副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2362320" cy="6904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7696080" y="5334120"/>
            <a:ext cx="111456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 flipH="1" flipV="1">
            <a:off x="1828080" y="4724280"/>
            <a:ext cx="3048120" cy="1447920"/>
          </a:xfrm>
          <a:prstGeom prst="wedgeRoundRectCallout">
            <a:avLst>
              <a:gd name="adj1" fmla="val 48624"/>
              <a:gd name="adj2" fmla="val -62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公司总经理最关心的是公司月工资的总额，所以他关注的是平均数</a:t>
            </a:r>
            <a:r>
              <a:rPr b="1" lang="en-US" sz="24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3124080" y="4419720"/>
            <a:ext cx="5181840" cy="1676160"/>
          </a:xfrm>
          <a:prstGeom prst="wedgeRoundRectCallout">
            <a:avLst>
              <a:gd name="adj1" fmla="val -36777"/>
              <a:gd name="adj2" fmla="val -57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普通员工关注的是自己的收入在本公司职工群体中的位置，中位数能帮助职工了解自己的工资收入是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中上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还是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中下</a:t>
            </a:r>
            <a:r>
              <a:rPr b="1" lang="zh-CN" sz="2400" spc="-1" strike="noStrike">
                <a:solidFill>
                  <a:srgbClr val="061f5b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水平</a:t>
            </a:r>
            <a:r>
              <a:rPr b="1" lang="en-US" sz="2400" spc="-1" strike="noStrike">
                <a:solidFill>
                  <a:srgbClr val="061f5b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080" y="152280"/>
            <a:ext cx="9142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上例中，对于职工月工资数据的平均数、中位数和众数，你认为该公司总经理、普通员工及应聘者将分别关注哪一个</a:t>
            </a:r>
            <a:r>
              <a:rPr b="1" lang="zh-CN" sz="2800" spc="-1" strike="noStrike">
                <a:solidFill>
                  <a:srgbClr val="061f5b"/>
                </a:solidFill>
                <a:latin typeface="宋体"/>
              </a:rPr>
              <a:t>？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说说你的理由， 并相互交流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447560" y="4495680"/>
            <a:ext cx="4495680" cy="1905120"/>
          </a:xfrm>
          <a:prstGeom prst="wedgeRoundRectCallout">
            <a:avLst>
              <a:gd name="adj1" fmla="val 49023"/>
              <a:gd name="adj2" fmla="val -569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61f5b"/>
                </a:solidFill>
                <a:latin typeface="黑体"/>
                <a:ea typeface="黑体"/>
              </a:rPr>
              <a:t>应聘者关注的是该公司月工资的众数，因为应聘者最想知道的是公司发给大多数员工的工资数，这也是一般的应聘者将会拿到的工资</a:t>
            </a:r>
            <a:r>
              <a:rPr b="1" lang="en-US" sz="24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6320" y="2209680"/>
          <a:ext cx="8610480" cy="1833480"/>
        </p:xfrm>
        <a:graphic>
          <a:graphicData uri="http://schemas.openxmlformats.org/drawingml/2006/table">
            <a:tbl>
              <a:tblPr/>
              <a:tblGrid>
                <a:gridCol w="1052640"/>
                <a:gridCol w="1112760"/>
                <a:gridCol w="1231920"/>
                <a:gridCol w="743040"/>
                <a:gridCol w="790560"/>
                <a:gridCol w="736560"/>
                <a:gridCol w="734760"/>
                <a:gridCol w="736920"/>
                <a:gridCol w="736560"/>
                <a:gridCol w="734760"/>
              </a:tblGrid>
              <a:tr h="76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工资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元）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副总经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)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904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7772400" y="5638680"/>
            <a:ext cx="1114560" cy="10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6"/>
          <p:cNvSpPr/>
          <p:nvPr/>
        </p:nvSpPr>
        <p:spPr>
          <a:xfrm>
            <a:off x="228600" y="738000"/>
            <a:ext cx="8839080" cy="2188080"/>
          </a:xfrm>
          <a:prstGeom prst="rect">
            <a:avLst/>
          </a:prstGeom>
          <a:solidFill>
            <a:srgbClr val="c0c0c0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   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平均数、中位数和众数都是一组数据的代表，它们从不同侧面反映了数据的</a:t>
            </a:r>
            <a:r>
              <a:rPr b="1" lang="zh-CN" sz="2500" spc="-1" strike="noStrike">
                <a:solidFill>
                  <a:srgbClr val="cc0000"/>
                </a:solidFill>
                <a:latin typeface="黑体"/>
                <a:ea typeface="黑体"/>
              </a:rPr>
              <a:t>集中趋势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平均数的计算要用到所有的数据，它能够充分利用数据提供的信息，因此在现实生活中应用较广，但它容易受极端值的影响；中位数对极端值不敏感，但没有利用数据中所有的信息；众数只能反映一组数据中出现次数最多的数据，也没有利用数据中所有的信息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1" name="Text Box 27"/>
          <p:cNvSpPr/>
          <p:nvPr/>
        </p:nvSpPr>
        <p:spPr>
          <a:xfrm>
            <a:off x="1752480" y="33526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  <a:ea typeface="黑体"/>
              </a:rPr>
              <a:t>平均数、中位数和众数分别反映什么？</a:t>
            </a:r>
            <a:r>
              <a:rPr b="1" lang="zh-CN" sz="2600" spc="-1" strike="noStrike">
                <a:solidFill>
                  <a:srgbClr val="061f5b"/>
                </a:solidFill>
                <a:latin typeface="华文细黑"/>
                <a:ea typeface="华文细黑"/>
              </a:rPr>
              <a:t>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2" name="Text Box 26"/>
          <p:cNvSpPr/>
          <p:nvPr/>
        </p:nvSpPr>
        <p:spPr>
          <a:xfrm>
            <a:off x="304920" y="3886200"/>
            <a:ext cx="849924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平均数、中位数和众数都是用来代表一组数据的一些特征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平均数反映一组数据的（          ）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中位数反映一组数据的（          ）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众数反映一组数据的  （          ）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平均水平   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中等水平   </a:t>
            </a:r>
            <a:r>
              <a:rPr b="1" lang="en-US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C</a:t>
            </a:r>
            <a:r>
              <a:rPr b="1" lang="zh-CN" sz="2600" spc="-1" strike="noStrike">
                <a:solidFill>
                  <a:srgbClr val="061f5b"/>
                </a:solidFill>
                <a:latin typeface="Times New Roman"/>
                <a:ea typeface="黑体"/>
              </a:rPr>
              <a:t>．</a:t>
            </a:r>
            <a:r>
              <a:rPr b="1" lang="zh-CN" sz="2600" spc="-1" strike="noStrike">
                <a:solidFill>
                  <a:srgbClr val="061f5b"/>
                </a:solidFill>
                <a:latin typeface="黑体"/>
                <a:ea typeface="黑体"/>
              </a:rPr>
              <a:t>多数水平 </a:t>
            </a:r>
            <a:endParaRPr b="0" lang="en-US" sz="26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3440" y="5105520"/>
            <a:ext cx="436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3080" y="4648320"/>
            <a:ext cx="416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3440" y="4114800"/>
            <a:ext cx="4366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6:06:37Z</dcterms:created>
  <dc:creator/>
  <dc:description/>
  <cp:keywords/>
  <dc:language>en-US</dc:language>
  <cp:lastModifiedBy>徐华昌</cp:lastModifiedBy>
  <dcterms:modified xsi:type="dcterms:W3CDTF">2015-07-29T07:20:31Z</dcterms:modified>
  <cp:revision>1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