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20.gif" ContentType="image/gif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.jpeg" ContentType="image/jpeg"/>
  <Override PartName="/ppt/media/image10.png" ContentType="image/png"/>
  <Override PartName="/ppt/media/image5.wmf" ContentType="image/x-wmf"/>
  <Override PartName="/ppt/media/image19.jpeg" ContentType="image/jpeg"/>
  <Override PartName="/ppt/media/image11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36E7-0A59-48C5-91DF-1AA9B1AC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DC55-0240-4ED9-A918-057BA935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7B28-6FD2-4D20-86F4-DE4980BB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83C8-383A-4B40-BAC7-338819CB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AF46-DB2D-4C01-AC96-3A23E545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B689-D175-4DA8-AA3C-B626E26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2D14-814D-4D62-B8B7-394B1EA6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E842-91A6-4576-81CB-FB5515D0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8C64-C41E-4AFF-8862-37BAED98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D7F1-2856-4ACB-A739-87CACA8A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D167-3F29-42B5-BAD9-281821A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8977-075F-40F9-9CA2-FEB5557E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4329-C3D5-4F34-BF52-CC8CAC33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C1D5-E5C8-4ED5-91EF-80C16414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6A15-6C52-45A7-9636-531D6C28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2E13-484B-43A8-ADBE-F7EF4DB0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480-9195-4538-AEBB-F115B514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67E9-C6D0-4CFB-8ECF-273DF710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FA50-9EDF-4177-9CDA-6F15A900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B9806-5172-4118-8B46-B5913583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9027-9B6D-4DA0-A49B-20EA0022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562C-29AF-489F-966B-3B60D749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3ED1-A841-4A2D-B559-023A26EE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7D2B5-A7A3-4BAF-951C-63501DF0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BE8D-3598-40E1-9031-592167F0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B9DA-496F-4806-8B0F-367DB1DA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3332-8753-435F-B49D-41513B4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82E6-6FE4-4595-8587-DF64B4E2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6CF2-46A8-4908-A220-84089D8F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846A-769D-471B-869B-3CBAF001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93A0-7B6C-47C2-B9F7-C6E70C5F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30CF7-D221-4745-9F39-26A5407A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6371-FEAB-4B25-883B-A384B7B9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1A6A-F62A-47F0-9A2B-7309BB8D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0A5B-17A8-412E-92B0-732FB16E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74AE-176D-4A89-BADF-CFABEC1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2B58-7440-4647-9C20-FC66A7FF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25CF-29B5-40A7-AD12-3CA7C66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38B91-027F-4D50-AB0E-3AAC7A23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B77A-6870-4F34-805B-1559915B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5079-390F-4C4A-B270-06336034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B6B84-39F0-43E3-8F5D-077BB2ED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FE3E-C7F5-4AFE-9A39-E1478516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0B5C-91A3-4859-ADED-92F78647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FF6F-AB68-4A42-B906-4F5389C5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08E2E-7D8E-4719-8294-105BA43E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088F-E48E-4E08-8371-5DBB38CB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BD6DC-2109-4D41-A0C8-EC0145A1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22691-E4D5-4F5C-80D6-82237F9B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447A-54A3-48A7-9801-B13D9585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34C4-2F15-4044-91D0-99524406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A22F-333D-4FF0-A5F8-A39F0015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7C968-EF89-49A4-95E6-5747C5E4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CC84B-16A4-463D-ADAD-FCB4D061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602C-3EB4-4C99-93C5-BC4AD335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7347-7576-4AAB-B025-980E0B4C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EF3E5-9293-4F96-ADC5-759D19CB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2D8DA-3EA4-4F86-98C6-3B81BC7D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A5EB-88F0-4251-A627-2F9CCFC8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4F01-D1B6-46B5-850B-5D03BED1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BB80F-4630-4657-96DF-FAEA76CE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DF892-027D-4E21-99CE-C9A4A969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5A8B8-8EA2-4EFE-A456-86F645B2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9654-1288-4463-BF37-6FA01543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EAF0-0F6D-4550-9C3F-AAFE1FB8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472C-A953-4C89-8A55-87EFEF6C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293AC-6A00-4C14-B73F-F9C2784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ABB3-7D67-48D0-94BE-E73DA296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5F414-E890-41C8-961C-16F23402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177A-6FC1-437A-B943-7BA1EF04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F48E-EC13-4242-81D7-7201F8D8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F338-BDDC-4206-98BE-7D5B9CD3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A859-915E-41B0-B1B8-BCF370A6F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F0CA-63AB-4CDE-BDE0-B7DE1D684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6377-EBDF-4F47-A1CF-8D1882E87974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941E-F92A-4F73-BA0B-FE0B7D6586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1FA2-7541-45FB-A508-79C5BA9AD359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247C-B747-45F8-B98E-8F7535E4D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03640" y="285264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.2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39337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方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越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数据的波动越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越不稳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2565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方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来衡量一批数据的波动大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这组数据偏离平均数的大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59520" y="1125360"/>
            <a:ext cx="6851520" cy="749160"/>
            <a:chOff x="659520" y="1125360"/>
            <a:chExt cx="6851520" cy="749160"/>
          </a:xfrm>
        </p:grpSpPr>
        <p:sp>
          <p:nvSpPr>
            <p:cNvPr id="345" name=""/>
            <p:cNvSpPr/>
            <p:nvPr/>
          </p:nvSpPr>
          <p:spPr>
            <a:xfrm>
              <a:off x="659520" y="1247760"/>
              <a:ext cx="685152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1" lang="en-US" sz="2800" spc="-1" strike="noStrike" baseline="30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[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…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276200" y="1125360"/>
              <a:ext cx="419040" cy="749160"/>
              <a:chOff x="1276200" y="1125360"/>
              <a:chExt cx="419040" cy="749160"/>
            </a:xfrm>
          </p:grpSpPr>
          <p:sp>
            <p:nvSpPr>
              <p:cNvPr id="347" name=""/>
              <p:cNvSpPr/>
              <p:nvPr/>
            </p:nvSpPr>
            <p:spPr>
              <a:xfrm>
                <a:off x="1314360" y="1125360"/>
                <a:ext cx="38088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1276200" y="1353960"/>
                <a:ext cx="380880" cy="520560"/>
                <a:chOff x="1276200" y="1353960"/>
                <a:chExt cx="380880" cy="5205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76200" y="1353960"/>
                  <a:ext cx="380880" cy="520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371600" y="148716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6877080" y="141264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56000" y="134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28720" y="1412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03280" y="14842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1219320"/>
            <a:ext cx="5638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个女声合唱队，各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队员组成，她们的身高为（单位：厘米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队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6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5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5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乙队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79400" y="34290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单从队员的身高考虑，哪队的演出效果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791320" y="1627200"/>
            <a:ext cx="3124080" cy="18018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406440"/>
            <a:ext cx="8351640" cy="5038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）甲队队员的平均身高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乙队的平均身高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甲队队员身高的方差是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乙队队员身高的方差是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780000" y="836640"/>
            <a:ext cx="5148000" cy="757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629080" y="1701720"/>
            <a:ext cx="5146560" cy="755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828720" y="2997360"/>
            <a:ext cx="6635880" cy="1562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755640" y="5013360"/>
            <a:ext cx="6661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16000" y="2133720"/>
            <a:ext cx="7129440" cy="3600360"/>
          </a:xfrm>
          <a:prstGeom prst="cloudCallout">
            <a:avLst>
              <a:gd name="adj1" fmla="val 62208"/>
              <a:gd name="adj2" fmla="val -358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不难算出每个队的平均身高都是</a:t>
            </a: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160</a:t>
            </a:r>
            <a:r>
              <a:rPr b="1" lang="zh-CN" sz="2800" spc="-1" strike="noStrike">
                <a:solidFill>
                  <a:srgbClr val="0000ff"/>
                </a:solidFill>
                <a:latin typeface="仿宋"/>
                <a:ea typeface="仿宋"/>
              </a:rPr>
              <a:t>厘米，但甲队身高波动小，乙队身高波动大，单从身高考虑，甲队比较整齐，演出的效果会好一些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295280" y="12034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差反映的是一组数据哪个方面的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90720" y="1752480"/>
            <a:ext cx="6172200" cy="3048120"/>
            <a:chOff x="990720" y="1752480"/>
            <a:chExt cx="6172200" cy="3048120"/>
          </a:xfrm>
        </p:grpSpPr>
        <p:sp>
          <p:nvSpPr>
            <p:cNvPr id="371" name=""/>
            <p:cNvSpPr/>
            <p:nvPr/>
          </p:nvSpPr>
          <p:spPr>
            <a:xfrm>
              <a:off x="990720" y="1752480"/>
              <a:ext cx="6172200" cy="3048120"/>
            </a:xfrm>
            <a:prstGeom prst="cloudCallout">
              <a:avLst>
                <a:gd name="adj1" fmla="val 48893"/>
                <a:gd name="adj2" fmla="val 59898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2590560"/>
              <a:ext cx="3429000" cy="11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方差反映的是一组数据与其平均数的偏离程度，方差越小，数据越集中；方差越大，数据越分散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236000" y="5157720"/>
            <a:ext cx="14778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76320" y="63504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考察甲、乙两种小麦的长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从中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株苗，测得苗高如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cm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12    13    14    15    10    16   13   11   15   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11    16    17    14    13    19    6     8    10   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哪种小麦长得比较整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6576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数据方差的一般步骤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4360" y="4264200"/>
            <a:ext cx="7921440" cy="520560"/>
          </a:xfrm>
          <a:prstGeom prst="rect">
            <a:avLst/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求数据的平均数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97880" y="488628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利用方差公式求方差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88240" y="5445000"/>
            <a:ext cx="6851520" cy="749160"/>
            <a:chOff x="588240" y="5445000"/>
            <a:chExt cx="6851520" cy="749160"/>
          </a:xfrm>
        </p:grpSpPr>
        <p:sp>
          <p:nvSpPr>
            <p:cNvPr id="379" name=""/>
            <p:cNvSpPr/>
            <p:nvPr/>
          </p:nvSpPr>
          <p:spPr>
            <a:xfrm>
              <a:off x="588240" y="5567400"/>
              <a:ext cx="685152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1" lang="en-US" sz="2800" spc="-1" strike="noStrike" baseline="30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[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…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204920" y="5445000"/>
              <a:ext cx="419040" cy="749160"/>
              <a:chOff x="1204920" y="5445000"/>
              <a:chExt cx="419040" cy="749160"/>
            </a:xfrm>
          </p:grpSpPr>
          <p:sp>
            <p:nvSpPr>
              <p:cNvPr id="381" name=""/>
              <p:cNvSpPr/>
              <p:nvPr/>
            </p:nvSpPr>
            <p:spPr>
              <a:xfrm>
                <a:off x="1243080" y="5445000"/>
                <a:ext cx="38088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1204920" y="5673600"/>
                <a:ext cx="380880" cy="520560"/>
                <a:chOff x="1204920" y="5673600"/>
                <a:chExt cx="380880" cy="5205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204920" y="5673600"/>
                  <a:ext cx="380880" cy="520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300320" y="5806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5" name=""/>
            <p:cNvSpPr/>
            <p:nvPr/>
          </p:nvSpPr>
          <p:spPr>
            <a:xfrm>
              <a:off x="6805800" y="57322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84720" y="56610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57440" y="57322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2000" y="58039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6360" y="117360"/>
            <a:ext cx="1791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5280" y="112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组数据的方差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组数据有什么特点？方差可以是负数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360" y="21337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每个数据都等于这组数据的平均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720" y="2925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可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33520" y="3657600"/>
            <a:ext cx="7390800" cy="835200"/>
            <a:chOff x="533520" y="3657600"/>
            <a:chExt cx="7390800" cy="835200"/>
          </a:xfrm>
        </p:grpSpPr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1676160" y="3657600"/>
              <a:ext cx="6248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33520" y="3809880"/>
              <a:ext cx="91404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6360" y="117360"/>
            <a:ext cx="1791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399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81080" y="226692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甲，乙两名射击手现要挑选一名射击手参加比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若你是教练，你认为挑选哪一位比较适宜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50920" y="620640"/>
            <a:ext cx="4320720" cy="1366560"/>
            <a:chOff x="250920" y="620640"/>
            <a:chExt cx="4320720" cy="1366560"/>
          </a:xfrm>
        </p:grpSpPr>
        <p:sp>
          <p:nvSpPr>
            <p:cNvPr id="277" name=""/>
            <p:cNvSpPr/>
            <p:nvPr/>
          </p:nvSpPr>
          <p:spPr>
            <a:xfrm>
              <a:off x="250920" y="1053720"/>
              <a:ext cx="3404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教练的烦恼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626640" y="620640"/>
              <a:ext cx="945000" cy="13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9000"/>
                      </a:srgbClr>
                    </a:outerShdw>
                  </a:effectLst>
                  <a:latin typeface="宋体"/>
                </a:rPr>
                <a:t>？</a:t>
              </a:r>
              <a:endParaRPr b="0" lang="en-US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0720" y="704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亮和李飞参加射击训练的成绩统计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321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分别计算两名射手的平均成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057480" cy="3716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48040" cy="723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042920" y="150984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亮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,   8,     8,     9,     7,      8,      8,     9,    7,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9920" y="23432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飞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,   8,     7,     7,     8,      9,      10,    7,    9,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98560" y="10587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两人的平均成绩分别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7160" y="2144880"/>
            <a:ext cx="70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如何反映着两组数据与其平均数的偏离程度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36450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谁的成绩比较稳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22400" y="49021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933480" cy="736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187280" y="450864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=(7+8+8+9+7+8+8+9+7+9)÷10=8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16000" y="530208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6+8+7+7+8+9+10+7+9+9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÷10=8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07960" y="4560120"/>
            <a:ext cx="528120" cy="549000"/>
            <a:chOff x="507960" y="4560120"/>
            <a:chExt cx="528120" cy="549000"/>
          </a:xfrm>
        </p:grpSpPr>
        <p:sp>
          <p:nvSpPr>
            <p:cNvPr id="293" name=""/>
            <p:cNvSpPr/>
            <p:nvPr/>
          </p:nvSpPr>
          <p:spPr>
            <a:xfrm>
              <a:off x="528480" y="4641840"/>
              <a:ext cx="266400" cy="1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28800" y="4867200"/>
              <a:ext cx="10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ff"/>
                  </a:solidFill>
                  <a:latin typeface="Arial"/>
                </a:rPr>
                <a:t>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6840" y="45601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960" y="4621320"/>
              <a:ext cx="51120" cy="51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4360" y="4621320"/>
              <a:ext cx="51120" cy="51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96800" y="6059520"/>
            <a:ext cx="68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即两个人的平均成绩相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8278920" cy="2665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790640" cy="523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55640" y="1341360"/>
            <a:ext cx="76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为了直观的看出这两组数据与其平均数的偏离程度，我们用下图来表示数据的分布情况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5661000"/>
            <a:ext cx="77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 fontScale="79000"/>
          </a:bodyPr>
          <a:p>
            <a:pPr marL="232920" indent="0">
              <a:spcBef>
                <a:spcPts val="400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由上面两幅图，可以发现刘亮的射击成绩大多集中在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均成绩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环附近，而李飞的射击成绩与平均成绩的偏差较大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一组数据中的数与这组数据的平均数的偏离程度是数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一个重要特征，它反映了一组数据的离散程度或波动大小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如何找到一个特征值来反映一组数据与其平均数的离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程度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2920" indent="0">
              <a:spcBef>
                <a:spcPts val="601"/>
              </a:spcBef>
              <a:buNone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9640" y="14130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射击成绩与平均成绩的偏差的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2637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射击成绩与平均成绩的偏差的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68360" y="1916280"/>
            <a:ext cx="7559280" cy="593280"/>
            <a:chOff x="468360" y="1916280"/>
            <a:chExt cx="7559280" cy="593280"/>
          </a:xfrm>
        </p:grpSpPr>
        <p:sp>
          <p:nvSpPr>
            <p:cNvPr id="308" name=""/>
            <p:cNvSpPr/>
            <p:nvPr/>
          </p:nvSpPr>
          <p:spPr>
            <a:xfrm>
              <a:off x="468360" y="1989000"/>
              <a:ext cx="737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4920" y="1916280"/>
              <a:ext cx="6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8360" y="3284640"/>
            <a:ext cx="7806960" cy="593640"/>
            <a:chOff x="468360" y="3284640"/>
            <a:chExt cx="7806960" cy="593640"/>
          </a:xfrm>
        </p:grpSpPr>
        <p:sp>
          <p:nvSpPr>
            <p:cNvPr id="311" name=""/>
            <p:cNvSpPr/>
            <p:nvPr/>
          </p:nvSpPr>
          <p:spPr>
            <a:xfrm>
              <a:off x="468360" y="3357720"/>
              <a:ext cx="778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-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1680" y="3284640"/>
              <a:ext cx="59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 txBox="1"/>
          <p:nvPr/>
        </p:nvSpPr>
        <p:spPr>
          <a:xfrm>
            <a:off x="1116000" y="4292640"/>
            <a:ext cx="2041560" cy="78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怎么办？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076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50920" y="443700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299736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0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射击成绩与平均成绩的偏差的平方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371628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射击成绩与平均成绩的偏差的平方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85080" y="2997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4365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17906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1125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述各偏差的平方和的大小还与什么有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1700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与射击次数有关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41120" y="2276640"/>
            <a:ext cx="92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要进一步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各偏差平方的平均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衡量数据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2852640"/>
            <a:ext cx="8877240" cy="1065240"/>
            <a:chOff x="0" y="2852640"/>
            <a:chExt cx="8877240" cy="1065240"/>
          </a:xfrm>
        </p:grpSpPr>
        <p:sp>
          <p:nvSpPr>
            <p:cNvPr id="326" name=""/>
            <p:cNvSpPr/>
            <p:nvPr/>
          </p:nvSpPr>
          <p:spPr>
            <a:xfrm>
              <a:off x="0" y="2852640"/>
              <a:ext cx="887724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设一组数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，各数据与它们的平均数的差的平方分别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那么我们用它们的平均数，即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28880" y="34290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13240" y="3357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00880" y="3357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43880" y="4365720"/>
            <a:ext cx="6851520" cy="749160"/>
            <a:chOff x="443880" y="4365720"/>
            <a:chExt cx="6851520" cy="749160"/>
          </a:xfrm>
        </p:grpSpPr>
        <p:sp>
          <p:nvSpPr>
            <p:cNvPr id="331" name=""/>
            <p:cNvSpPr/>
            <p:nvPr/>
          </p:nvSpPr>
          <p:spPr>
            <a:xfrm>
              <a:off x="443880" y="4488120"/>
              <a:ext cx="6851520" cy="579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1" lang="en-US" sz="2800" spc="-1" strike="noStrike" baseline="30000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     [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＋…＋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060560" y="4365720"/>
              <a:ext cx="419040" cy="749160"/>
              <a:chOff x="1060560" y="4365720"/>
              <a:chExt cx="419040" cy="749160"/>
            </a:xfrm>
          </p:grpSpPr>
          <p:sp>
            <p:nvSpPr>
              <p:cNvPr id="333" name=""/>
              <p:cNvSpPr/>
              <p:nvPr/>
            </p:nvSpPr>
            <p:spPr>
              <a:xfrm>
                <a:off x="1098720" y="4365720"/>
                <a:ext cx="38088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1060560" y="4594320"/>
                <a:ext cx="380880" cy="520560"/>
                <a:chOff x="1060560" y="4594320"/>
                <a:chExt cx="380880" cy="5205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060560" y="4594320"/>
                  <a:ext cx="380880" cy="52056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155960" y="472752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6661440" y="46530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40360" y="45817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13080" y="46530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87640" y="4724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906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29:04Z</dcterms:created>
  <dc:creator/>
  <dc:description/>
  <cp:keywords/>
  <dc:language>en-US</dc:language>
  <cp:lastModifiedBy>徐华昌</cp:lastModifiedBy>
  <dcterms:modified xsi:type="dcterms:W3CDTF">2015-07-29T07:28:49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