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0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29.gif" ContentType="image/gi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3.png" ContentType="image/png"/>
  <Override PartName="/ppt/media/image27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20.wmf" ContentType="image/x-wmf"/>
  <Override PartName="/ppt/media/image19.wmf" ContentType="image/x-wmf"/>
  <Override PartName="/ppt/media/image28.jpeg" ContentType="image/jpeg"/>
  <Override PartName="/ppt/media/image18.png" ContentType="image/png"/>
  <Override PartName="/ppt/media/image25.wmf" ContentType="image/x-wmf"/>
  <Override PartName="/ppt/media/image2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EAF1-F9D4-4816-93A4-D13EB6F50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822816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16240"/>
            <a:ext cx="822816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DC8A-DC81-44F6-937B-7E2BBC00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52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A228-508E-43A5-8673-880FBD81E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280" y="160308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1360" y="160308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1624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280" y="321624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1360" y="321624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115D-C452-4948-9B43-4593376F3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A56F-8459-44DA-9C27-8956AF209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3080"/>
            <a:ext cx="822816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3285-AB56-401D-81AA-FF0AC452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822816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2DE2-BBA3-46E4-9178-5DCD2AC1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47D8-2B85-41E2-A7BB-B1B62400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273F-CD16-4AEF-98F2-702B14E7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228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29E6-1F74-4623-B16E-9DB58EDA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92AC-E4D0-45C9-89A4-2C1E1A0B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3080"/>
            <a:ext cx="822816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C2C9-BF9F-4969-9943-5D1AEED8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352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28EA-814B-4887-A0E9-DE82ACB8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216240"/>
            <a:ext cx="822816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2913-B118-4166-ABF0-8DE13C16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822816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216240"/>
            <a:ext cx="822816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F80D-38D7-409D-991A-C9E9B4CF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352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342A-8913-4B88-A933-04E59C3A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280" y="160308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1360" y="160308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21624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280" y="321624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1360" y="321624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2544-3468-4DC4-B2DB-B2DAE90BB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5F3FB-5052-4953-BBCA-B0734E51E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3080"/>
            <a:ext cx="822816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58F4F-406B-4FB2-AEC7-2224E6C3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822816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14BC2-B055-48F1-8C60-76EA8418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8A33E-4D9F-4443-A2AA-75DE62FB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AF7CC-026C-4DAC-9323-AEEE3057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822816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D2E0-CF2D-4014-A750-6F3AC613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228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4DF73-DF93-4D8C-A1AB-35061776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1903C-A648-475B-ABA0-A24C3CE2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352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61121-5FB7-4BF8-970E-EA9082EA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216240"/>
            <a:ext cx="822816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49746-5F22-4BE8-B147-3F8DF9ED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822816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216240"/>
            <a:ext cx="822816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EBC10-503F-4CED-9B29-4A2D48EA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352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86E50-59AE-4138-AE87-99C60BA70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280" y="160308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1360" y="160308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21624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280" y="321624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1360" y="321624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D5670-38DE-4054-88B2-554999B62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BE52E-AAE0-416B-ADC1-60A0F0C2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3080"/>
            <a:ext cx="822816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987C2-05A9-4AF2-8D74-971C3118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822816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1D5B3-1532-47F0-A342-8C22B737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C195-3F29-4AEC-868E-F11A9105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6C256-B231-48BC-8313-4BB4133B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7FDAA-D4DE-4855-BFEC-480F2BC4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228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CB360-5D8E-4AC9-83C2-DDC2F1C1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B9394-1FBF-4096-A47C-D48FCE8A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52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D972D-C73E-4E8A-A21F-EBCF417B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16240"/>
            <a:ext cx="822816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F7BA8-D2BB-4B7A-85A8-5D54B50E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822816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216240"/>
            <a:ext cx="822816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3E9B2-CB77-4D58-9B38-50E970B0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52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E3BEC-171D-4311-975B-195DD15D9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280" y="160308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1360" y="160308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21624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280" y="321624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1360" y="321624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61F0C-7EB7-426C-9B2E-35E115101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F2634-139A-4E45-905E-FAA2E5CB4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9398-54D8-4FF5-AB05-7151536C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3080"/>
            <a:ext cx="822816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A5DB6-FE31-4DBF-A18A-22E35E2D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822816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AE683-6534-4CF3-8E82-C196ACB7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BB07B-7B58-43A1-BB11-A4375F49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B0F04-2ECB-445D-851D-C62E6386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228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2C905-957C-4F2E-8D0A-E7D41A67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5814A-D7AD-445C-BF20-D8E4A2BD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52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8255B-6C2F-4FD7-99B5-1E835380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216240"/>
            <a:ext cx="822816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6B833-725C-4E00-8F95-671BB2CF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822816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216240"/>
            <a:ext cx="822816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416A4-E1C9-4257-A73B-D467233E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52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21537-9052-4993-A678-D7475F8C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228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A3FC-DA84-4122-AF7D-5F8057B3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280" y="160308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1360" y="160308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21624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280" y="321624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1360" y="321624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D68B1-CDB9-4FDC-8636-654E79B67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14B3-20AD-41D0-A6F7-F0F26BFD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52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FEB8-D165-424F-ABC6-AB149E8D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16240"/>
            <a:ext cx="822816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8C49-80CE-423C-B8A5-362F700F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F:/drops_8-wallpaper-1440x1080.jpgdrops_8-wallpaper-1440x108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4941720"/>
          </a:xfrm>
          <a:prstGeom prst="rect">
            <a:avLst/>
          </a:prstGeom>
          <a:solidFill>
            <a:srgbClr val="c0c0c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3080"/>
            <a:ext cx="822816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marL="316080" indent="-316080">
              <a:spcBef>
                <a:spcPts val="425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-265320">
              <a:spcBef>
                <a:spcPts val="425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058760" indent="-210960">
              <a:spcBef>
                <a:spcPts val="425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3" marL="1482840" indent="-212760">
              <a:spcBef>
                <a:spcPts val="425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4" marL="1905120" indent="-211320">
              <a:spcBef>
                <a:spcPts val="425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5" marL="1905120" indent="-211320">
              <a:spcBef>
                <a:spcPts val="425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6" marL="1905120" indent="-211320">
              <a:spcBef>
                <a:spcPts val="425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243120"/>
            <a:ext cx="2131920" cy="4762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DCAB-DC2C-4DB4-AFE8-A636A2E0AEF6}" type="datetime"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07/29/26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4802-BFAF-421A-B797-100F380C4990}" type="slidenum">
              <a:rPr b="0" lang="zh-CN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F:/drops_8-wallpaper-1440x1080.jpgdrops_8-wallpaper-1440x1080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1590840" y="0"/>
            <a:ext cx="7553160" cy="6845400"/>
          </a:xfrm>
          <a:prstGeom prst="rect">
            <a:avLst/>
          </a:prstGeom>
          <a:solidFill>
            <a:srgbClr val="c0c0c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69920" y="276120"/>
            <a:ext cx="671544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marL="958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969920" y="1596600"/>
            <a:ext cx="671688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499"/>
              </a:spcBef>
              <a:buClr>
                <a:srgbClr val="009999"/>
              </a:buClr>
              <a:buSzPct val="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77960" indent="-298440">
              <a:spcBef>
                <a:spcPts val="499"/>
              </a:spcBef>
              <a:buClr>
                <a:srgbClr val="009999"/>
              </a:buClr>
              <a:buSzPct val="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2" marL="1198440" indent="-239760">
              <a:spcBef>
                <a:spcPts val="499"/>
              </a:spcBef>
              <a:buClr>
                <a:srgbClr val="009999"/>
              </a:buClr>
              <a:buSzPct val="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3" marL="1677960" indent="-239760">
              <a:spcBef>
                <a:spcPts val="499"/>
              </a:spcBef>
              <a:buClr>
                <a:srgbClr val="009999"/>
              </a:buClr>
              <a:buSzPct val="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2157480" indent="-239760">
              <a:spcBef>
                <a:spcPts val="499"/>
              </a:spcBef>
              <a:buClr>
                <a:srgbClr val="009999"/>
              </a:buClr>
              <a:buSzPct val="25000"/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2157480" indent="-23976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2157480" indent="-23976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7200" y="6243120"/>
            <a:ext cx="213192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3004-8164-49ED-B33D-741243E6E815}" type="slidenum">
              <a:rPr b="0" lang="zh-CN" sz="9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marL="958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6600"/>
            <a:ext cx="822816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25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spcBef>
                <a:spcPts val="825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39760">
              <a:spcBef>
                <a:spcPts val="825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7960" indent="-239760">
              <a:spcBef>
                <a:spcPts val="825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39760">
              <a:spcBef>
                <a:spcPts val="825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39760">
              <a:spcBef>
                <a:spcPts val="825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39760">
              <a:spcBef>
                <a:spcPts val="825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7200" y="6243120"/>
            <a:ext cx="213192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F8CE-DC4A-4F87-BC55-B7FD3C08F0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F:/drops_8-wallpaper-1440x1080.jpgdrops_8-wallpaper-1440x1080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1590840" y="0"/>
            <a:ext cx="7553160" cy="6845400"/>
          </a:xfrm>
          <a:prstGeom prst="rect">
            <a:avLst/>
          </a:prstGeom>
          <a:solidFill>
            <a:srgbClr val="c0c0c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69920" y="276120"/>
            <a:ext cx="671544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marL="958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969920" y="1596600"/>
            <a:ext cx="671688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499"/>
              </a:spcBef>
              <a:buClr>
                <a:srgbClr val="009999"/>
              </a:buClr>
              <a:buSzPct val="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77960" indent="-298440">
              <a:spcBef>
                <a:spcPts val="499"/>
              </a:spcBef>
              <a:buClr>
                <a:srgbClr val="009999"/>
              </a:buClr>
              <a:buSzPct val="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2" marL="1198440" indent="-239760">
              <a:spcBef>
                <a:spcPts val="499"/>
              </a:spcBef>
              <a:buClr>
                <a:srgbClr val="009999"/>
              </a:buClr>
              <a:buSzPct val="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3" marL="1677960" indent="-239760">
              <a:spcBef>
                <a:spcPts val="499"/>
              </a:spcBef>
              <a:buClr>
                <a:srgbClr val="009999"/>
              </a:buClr>
              <a:buSzPct val="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2157480" indent="-239760">
              <a:spcBef>
                <a:spcPts val="499"/>
              </a:spcBef>
              <a:buClr>
                <a:srgbClr val="009999"/>
              </a:buClr>
              <a:buSzPct val="25000"/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2157480" indent="-23976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2157480" indent="-23976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7200" y="6243120"/>
            <a:ext cx="213192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2119-2DA0-49CB-958A-A5E183F69DC5}" type="slidenum">
              <a:rPr b="0" lang="zh-CN" sz="9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marL="958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6600"/>
            <a:ext cx="822816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25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spcBef>
                <a:spcPts val="825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39760">
              <a:spcBef>
                <a:spcPts val="825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7960" indent="-239760">
              <a:spcBef>
                <a:spcPts val="825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39760">
              <a:spcBef>
                <a:spcPts val="825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39760">
              <a:spcBef>
                <a:spcPts val="825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39760">
              <a:spcBef>
                <a:spcPts val="825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7200" y="6243120"/>
            <a:ext cx="213192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0E93-FC5B-4430-A170-AC73914522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F:/drops_8-wallpaper-1440x1080.jpgdrops_8-wallpaper-1440x10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4"/>
          <p:cNvSpPr/>
          <p:nvPr/>
        </p:nvSpPr>
        <p:spPr>
          <a:xfrm>
            <a:off x="2714760" y="32860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.2.1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代入消元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2071800" y="17017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章  二元一次方程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1.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二元一次方程组的解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4"/>
          <p:cNvSpPr/>
          <p:nvPr/>
        </p:nvSpPr>
        <p:spPr>
          <a:xfrm>
            <a:off x="642960" y="2214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消去一个未知数（简称为消元），得到一个一元一次方程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762120" y="396252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把其中一个方程的某一个未知数用含有另一个未知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的代数式表示，然后把它代入到另一个方程中，便得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一个一元一次方程，这种解方程叫做代入消元法，简称为代入法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108000" y="3063960"/>
            <a:ext cx="530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消去一个未知数的方法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357120" y="128592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解二元一次方程组的基本思想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图片 5" descr="QQ截图20140828112418.png"/>
          <p:cNvPicPr/>
          <p:nvPr/>
        </p:nvPicPr>
        <p:blipFill>
          <a:blip r:embed="rId1"/>
          <a:stretch/>
        </p:blipFill>
        <p:spPr>
          <a:xfrm>
            <a:off x="0" y="357120"/>
            <a:ext cx="18194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5"/>
          <p:cNvSpPr/>
          <p:nvPr/>
        </p:nvSpPr>
        <p:spPr>
          <a:xfrm>
            <a:off x="2428920" y="28584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用代入法消元法解下列方程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1800360" cy="9968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7"/>
          <p:cNvSpPr/>
          <p:nvPr/>
        </p:nvSpPr>
        <p:spPr>
          <a:xfrm>
            <a:off x="1219320" y="1447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2057400" y="3429000"/>
            <a:ext cx="1066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3962520" y="1219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8"/>
          <p:cNvSpPr/>
          <p:nvPr/>
        </p:nvSpPr>
        <p:spPr>
          <a:xfrm>
            <a:off x="3962520" y="1676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9"/>
          <p:cNvSpPr/>
          <p:nvPr/>
        </p:nvSpPr>
        <p:spPr>
          <a:xfrm>
            <a:off x="928800" y="2428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解：由②得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 = 4 +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y</a:t>
            </a:r>
            <a:r>
              <a:rPr b="0" i="1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0"/>
          <p:cNvSpPr/>
          <p:nvPr/>
        </p:nvSpPr>
        <p:spPr>
          <a:xfrm>
            <a:off x="1071720" y="314316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将③代入①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1"/>
          <p:cNvSpPr/>
          <p:nvPr/>
        </p:nvSpPr>
        <p:spPr>
          <a:xfrm>
            <a:off x="2286000" y="3643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4+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+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=128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2"/>
          <p:cNvSpPr/>
          <p:nvPr/>
        </p:nvSpPr>
        <p:spPr>
          <a:xfrm>
            <a:off x="1214280" y="41432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解 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3"/>
          <p:cNvSpPr/>
          <p:nvPr/>
        </p:nvSpPr>
        <p:spPr>
          <a:xfrm>
            <a:off x="2500200" y="41432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 = 62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4"/>
          <p:cNvSpPr/>
          <p:nvPr/>
        </p:nvSpPr>
        <p:spPr>
          <a:xfrm>
            <a:off x="1214280" y="49291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把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= 6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代入③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5"/>
          <p:cNvSpPr/>
          <p:nvPr/>
        </p:nvSpPr>
        <p:spPr>
          <a:xfrm>
            <a:off x="2357280" y="5357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 = 4+62=66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6"/>
          <p:cNvSpPr/>
          <p:nvPr/>
        </p:nvSpPr>
        <p:spPr>
          <a:xfrm>
            <a:off x="571680" y="5929200"/>
            <a:ext cx="35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因此原方程组的一个解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4286160" y="5786280"/>
            <a:ext cx="121932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图片 32" descr="QQ截图20140828112236.png"/>
          <p:cNvPicPr/>
          <p:nvPr/>
        </p:nvPicPr>
        <p:blipFill>
          <a:blip r:embed="rId3"/>
          <a:stretch/>
        </p:blipFill>
        <p:spPr>
          <a:xfrm>
            <a:off x="285840" y="214200"/>
            <a:ext cx="17906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571840" y="642960"/>
            <a:ext cx="2384280" cy="10717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148360" y="5518080"/>
            <a:ext cx="981000" cy="8384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28"/>
          <p:cNvSpPr/>
          <p:nvPr/>
        </p:nvSpPr>
        <p:spPr>
          <a:xfrm>
            <a:off x="4933800" y="5666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9"/>
          <p:cNvSpPr/>
          <p:nvPr/>
        </p:nvSpPr>
        <p:spPr>
          <a:xfrm>
            <a:off x="4929120" y="1285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0"/>
          <p:cNvSpPr/>
          <p:nvPr/>
        </p:nvSpPr>
        <p:spPr>
          <a:xfrm>
            <a:off x="1733400" y="947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1"/>
          <p:cNvSpPr/>
          <p:nvPr/>
        </p:nvSpPr>
        <p:spPr>
          <a:xfrm>
            <a:off x="2143080" y="22147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解：将②代入①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2"/>
          <p:cNvSpPr/>
          <p:nvPr/>
        </p:nvSpPr>
        <p:spPr>
          <a:xfrm>
            <a:off x="2714760" y="278604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3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+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-1) = 5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3"/>
          <p:cNvSpPr/>
          <p:nvPr/>
        </p:nvSpPr>
        <p:spPr>
          <a:xfrm>
            <a:off x="2500200" y="35002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解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:   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 = 1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4"/>
          <p:cNvSpPr/>
          <p:nvPr/>
        </p:nvSpPr>
        <p:spPr>
          <a:xfrm>
            <a:off x="2428920" y="414324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把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= 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代入②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7"/>
          <p:cNvSpPr/>
          <p:nvPr/>
        </p:nvSpPr>
        <p:spPr>
          <a:xfrm>
            <a:off x="2357280" y="47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解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=1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8"/>
          <p:cNvSpPr/>
          <p:nvPr/>
        </p:nvSpPr>
        <p:spPr>
          <a:xfrm>
            <a:off x="1571760" y="571500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因此原方程组的一个解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1832040" cy="9460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5486400" y="874800"/>
            <a:ext cx="2108160" cy="9381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380880" y="10508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648320" y="1179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3352680" y="8380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3352680" y="1295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7772400" y="87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1"/>
          <p:cNvSpPr/>
          <p:nvPr/>
        </p:nvSpPr>
        <p:spPr>
          <a:xfrm>
            <a:off x="7772400" y="13320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2"/>
          <p:cNvSpPr/>
          <p:nvPr/>
        </p:nvSpPr>
        <p:spPr>
          <a:xfrm>
            <a:off x="457200" y="2057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解：由②得</a:t>
            </a:r>
            <a:r>
              <a:rPr b="0" i="1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b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= 7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－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3</a:t>
            </a:r>
            <a:r>
              <a:rPr b="0" i="1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a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3"/>
          <p:cNvSpPr/>
          <p:nvPr/>
        </p:nvSpPr>
        <p:spPr>
          <a:xfrm>
            <a:off x="914400" y="26668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将③代入①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4"/>
          <p:cNvSpPr/>
          <p:nvPr/>
        </p:nvSpPr>
        <p:spPr>
          <a:xfrm>
            <a:off x="1981080" y="3260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5</a:t>
            </a:r>
            <a:r>
              <a:rPr b="0" i="1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+2(7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－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3</a:t>
            </a:r>
            <a:r>
              <a:rPr b="0" i="1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)=11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5"/>
          <p:cNvSpPr/>
          <p:nvPr/>
        </p:nvSpPr>
        <p:spPr>
          <a:xfrm>
            <a:off x="91440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解 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6"/>
          <p:cNvSpPr/>
          <p:nvPr/>
        </p:nvSpPr>
        <p:spPr>
          <a:xfrm>
            <a:off x="2438280" y="3886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= 3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7"/>
          <p:cNvSpPr/>
          <p:nvPr/>
        </p:nvSpPr>
        <p:spPr>
          <a:xfrm>
            <a:off x="762120" y="44956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把 </a:t>
            </a:r>
            <a:r>
              <a:rPr b="0" i="1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=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代入③，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8"/>
          <p:cNvSpPr/>
          <p:nvPr/>
        </p:nvSpPr>
        <p:spPr>
          <a:xfrm>
            <a:off x="1828800" y="5029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b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= 7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－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3×3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9"/>
          <p:cNvSpPr/>
          <p:nvPr/>
        </p:nvSpPr>
        <p:spPr>
          <a:xfrm>
            <a:off x="228600" y="58672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因此原方程组的一个解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3124080" y="5638680"/>
            <a:ext cx="981360" cy="8384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21"/>
          <p:cNvSpPr/>
          <p:nvPr/>
        </p:nvSpPr>
        <p:spPr>
          <a:xfrm>
            <a:off x="4419720" y="18892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解：由①得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= 3</a:t>
            </a:r>
            <a:r>
              <a:rPr b="0" i="1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m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 +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2"/>
          <p:cNvSpPr/>
          <p:nvPr/>
        </p:nvSpPr>
        <p:spPr>
          <a:xfrm>
            <a:off x="4876920" y="249876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将③代入②，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3"/>
          <p:cNvSpPr/>
          <p:nvPr/>
        </p:nvSpPr>
        <p:spPr>
          <a:xfrm>
            <a:off x="5943600" y="30924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2</a:t>
            </a:r>
            <a:r>
              <a:rPr b="0" i="1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m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+3(3</a:t>
            </a:r>
            <a:r>
              <a:rPr b="0" i="1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m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+1)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－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3=0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4"/>
          <p:cNvSpPr/>
          <p:nvPr/>
        </p:nvSpPr>
        <p:spPr>
          <a:xfrm>
            <a:off x="4952880" y="3718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解 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5"/>
          <p:cNvSpPr/>
          <p:nvPr/>
        </p:nvSpPr>
        <p:spPr>
          <a:xfrm>
            <a:off x="6477120" y="3718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m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 = 0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6"/>
          <p:cNvSpPr/>
          <p:nvPr/>
        </p:nvSpPr>
        <p:spPr>
          <a:xfrm>
            <a:off x="4800600" y="432756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将 </a:t>
            </a:r>
            <a:r>
              <a:rPr b="0" i="1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m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=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代入③，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7"/>
          <p:cNvSpPr/>
          <p:nvPr/>
        </p:nvSpPr>
        <p:spPr>
          <a:xfrm>
            <a:off x="6095880" y="4861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 = 1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8"/>
          <p:cNvSpPr/>
          <p:nvPr/>
        </p:nvSpPr>
        <p:spPr>
          <a:xfrm>
            <a:off x="4495680" y="57913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因此原方程组的一个解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543800" y="5486400"/>
            <a:ext cx="1143000" cy="949320"/>
          </a:xfrm>
          <a:prstGeom prst="rect">
            <a:avLst/>
          </a:prstGeom>
          <a:ln w="0">
            <a:noFill/>
          </a:ln>
        </p:spPr>
      </p:pic>
      <p:grpSp>
        <p:nvGrpSpPr>
          <p:cNvPr id="330" name=""/>
          <p:cNvGrpSpPr/>
          <p:nvPr/>
        </p:nvGrpSpPr>
        <p:grpSpPr>
          <a:xfrm>
            <a:off x="4152960" y="685800"/>
            <a:ext cx="360" cy="5562720"/>
            <a:chOff x="4152960" y="685800"/>
            <a:chExt cx="360" cy="5562720"/>
          </a:xfrm>
        </p:grpSpPr>
        <p:sp>
          <p:nvSpPr>
            <p:cNvPr id="331" name="Line 30"/>
            <p:cNvSpPr/>
            <p:nvPr/>
          </p:nvSpPr>
          <p:spPr>
            <a:xfrm>
              <a:off x="4152960" y="685800"/>
              <a:ext cx="0" cy="5562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4152960" y="685800"/>
              <a:ext cx="360" cy="556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4191120" y="838080"/>
            <a:ext cx="360" cy="5562720"/>
            <a:chOff x="4191120" y="838080"/>
            <a:chExt cx="360" cy="5562720"/>
          </a:xfrm>
        </p:grpSpPr>
        <p:sp>
          <p:nvSpPr>
            <p:cNvPr id="334" name="Line 31"/>
            <p:cNvSpPr/>
            <p:nvPr/>
          </p:nvSpPr>
          <p:spPr>
            <a:xfrm>
              <a:off x="4191120" y="838080"/>
              <a:ext cx="0" cy="5562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4191120" y="838080"/>
              <a:ext cx="360" cy="556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图片 2" descr="c3bebc432473f29708cd2752a57d107c.jpg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732720"/>
          </a:xfrm>
          <a:prstGeom prst="rect">
            <a:avLst/>
          </a:prstGeom>
          <a:ln w="0">
            <a:noFill/>
          </a:ln>
        </p:spPr>
      </p:pic>
      <p:pic>
        <p:nvPicPr>
          <p:cNvPr id="337" name="图片 1" descr="6a819a4096491ff90623c57b0dd773ec.gif"/>
          <p:cNvPicPr/>
          <p:nvPr/>
        </p:nvPicPr>
        <p:blipFill>
          <a:blip r:embed="rId2"/>
          <a:stretch/>
        </p:blipFill>
        <p:spPr>
          <a:xfrm>
            <a:off x="0" y="125280"/>
            <a:ext cx="1446120" cy="1446480"/>
          </a:xfrm>
          <a:prstGeom prst="rect">
            <a:avLst/>
          </a:prstGeom>
          <a:ln w="0">
            <a:noFill/>
          </a:ln>
        </p:spPr>
      </p:pic>
      <p:sp>
        <p:nvSpPr>
          <p:cNvPr id="338" name="矩形 3"/>
          <p:cNvSpPr/>
          <p:nvPr/>
        </p:nvSpPr>
        <p:spPr>
          <a:xfrm>
            <a:off x="3650040" y="5716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微软雅黑"/>
              </a:rPr>
              <a:t>谢谢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6"/>
          <p:cNvSpPr/>
          <p:nvPr/>
        </p:nvSpPr>
        <p:spPr>
          <a:xfrm>
            <a:off x="609480" y="156204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现在我们来解决上节课中１吨水费多少元，１立方米天然气多少元的问题．首先，想一想如何解二元一次方程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317760" y="2552760"/>
          <a:ext cx="66960" cy="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7760" y="2552760"/>
                    <a:ext cx="66960" cy="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AutoShape 16"/>
          <p:cNvSpPr/>
          <p:nvPr/>
        </p:nvSpPr>
        <p:spPr>
          <a:xfrm>
            <a:off x="1905120" y="3848040"/>
            <a:ext cx="6476760" cy="1524240"/>
          </a:xfrm>
          <a:prstGeom prst="cloudCallout">
            <a:avLst>
              <a:gd name="adj1" fmla="val -50587"/>
              <a:gd name="adj2" fmla="val 76666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我会解一元一次方程，可是现在方程①和②都有两个未知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图片 10" descr="QQ截图20140828111124.png"/>
          <p:cNvPicPr/>
          <p:nvPr/>
        </p:nvPicPr>
        <p:blipFill>
          <a:blip r:embed="rId4"/>
          <a:stretch/>
        </p:blipFill>
        <p:spPr>
          <a:xfrm>
            <a:off x="357120" y="642960"/>
            <a:ext cx="2048040" cy="72396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11" descr="QQ截图20140402164657.png"/>
          <p:cNvPicPr/>
          <p:nvPr/>
        </p:nvPicPr>
        <p:blipFill>
          <a:blip r:embed="rId5"/>
          <a:stretch/>
        </p:blipFill>
        <p:spPr>
          <a:xfrm>
            <a:off x="285840" y="5643720"/>
            <a:ext cx="148572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8"/>
          <p:cNvSpPr/>
          <p:nvPr/>
        </p:nvSpPr>
        <p:spPr>
          <a:xfrm>
            <a:off x="0" y="762120"/>
            <a:ext cx="7467480" cy="4343400"/>
          </a:xfrm>
          <a:prstGeom prst="cloudCallout">
            <a:avLst>
              <a:gd name="adj1" fmla="val 43194"/>
              <a:gd name="adj2" fmla="val -48574"/>
            </a:avLst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1116000" y="1486080"/>
            <a:ext cx="5791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方程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微软雅黑"/>
              </a:rPr>
              <a:t>①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和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微软雅黑"/>
              </a:rPr>
              <a:t>②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中的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  <a:ea typeface="微软雅黑"/>
              </a:rPr>
              <a:t>x 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都表示小亮家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月份的天然气费，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  <a:ea typeface="微软雅黑"/>
              </a:rPr>
              <a:t>y 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都表示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月份的水费，因此方程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微软雅黑"/>
              </a:rPr>
              <a:t>②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中的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  <a:ea typeface="微软雅黑"/>
              </a:rPr>
              <a:t>x, y 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分别与方程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微软雅黑"/>
              </a:rPr>
              <a:t>①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中的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微软雅黑"/>
              </a:rPr>
              <a:t>x,y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微软雅黑"/>
              </a:rPr>
              <a:t>相同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由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微软雅黑"/>
              </a:rPr>
              <a:t>②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式可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340000" y="2852640"/>
          <a:ext cx="212724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852640"/>
                    <a:ext cx="212724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Text Box 6"/>
          <p:cNvSpPr/>
          <p:nvPr/>
        </p:nvSpPr>
        <p:spPr>
          <a:xfrm>
            <a:off x="1752480" y="327672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微软雅黑"/>
              </a:rPr>
              <a:t>可以把③代入①式，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674960" y="281952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14"/>
          <p:cNvGrpSpPr/>
          <p:nvPr/>
        </p:nvGrpSpPr>
        <p:grpSpPr>
          <a:xfrm>
            <a:off x="2103480" y="3738600"/>
            <a:ext cx="2956320" cy="566640"/>
            <a:chOff x="2103480" y="3738600"/>
            <a:chExt cx="2956320" cy="566640"/>
          </a:xfrm>
        </p:grpSpPr>
        <mc:AlternateContent>
          <mc:Choice xmlns:a14="http://schemas.microsoft.com/office/drawing/2010/main" Requires="a14">
            <p:sp>
              <p:nvSpPr>
                <p:cNvPr id="227" name=""/>
                <p:cNvSpPr txBox="1"/>
                <p:nvPr/>
              </p:nvSpPr>
              <p:spPr>
                <a:xfrm>
                  <a:off x="2103480" y="3738600"/>
                  <a:ext cx="2382840" cy="56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8" name="Rectangle 10"/>
            <p:cNvSpPr/>
            <p:nvPr/>
          </p:nvSpPr>
          <p:spPr>
            <a:xfrm>
              <a:off x="4674960" y="379404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微软雅黑"/>
                </a:rPr>
                <a:t>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AutoShape 12"/>
          <p:cNvSpPr/>
          <p:nvPr/>
        </p:nvSpPr>
        <p:spPr>
          <a:xfrm>
            <a:off x="1981080" y="5334120"/>
            <a:ext cx="6248520" cy="914400"/>
          </a:xfrm>
          <a:prstGeom prst="cloudCallout">
            <a:avLst>
              <a:gd name="adj1" fmla="val -55101"/>
              <a:gd name="adj2" fmla="val 33504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啊！这个一元一次方程我会解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图片 13" descr="QQ截图20140402164807.png"/>
          <p:cNvPicPr/>
          <p:nvPr/>
        </p:nvPicPr>
        <p:blipFill>
          <a:blip r:embed="rId3"/>
          <a:stretch/>
        </p:blipFill>
        <p:spPr>
          <a:xfrm>
            <a:off x="214200" y="5500800"/>
            <a:ext cx="1714680" cy="106524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14" descr="QQ截图20140402164715.png"/>
          <p:cNvPicPr/>
          <p:nvPr/>
        </p:nvPicPr>
        <p:blipFill>
          <a:blip r:embed="rId4"/>
          <a:stretch/>
        </p:blipFill>
        <p:spPr>
          <a:xfrm>
            <a:off x="7286760" y="285840"/>
            <a:ext cx="11142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380880" y="129528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解方程④，得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微软雅黑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=______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80880" y="24526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的值代入③，得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微软雅黑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=______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357120" y="385776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因此，原方程组的解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3276720" y="112536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微软雅黑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4068720" y="22766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微软雅黑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140360" y="3645000"/>
                <a:ext cx="116352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AutoShape 9"/>
          <p:cNvSpPr/>
          <p:nvPr/>
        </p:nvSpPr>
        <p:spPr>
          <a:xfrm>
            <a:off x="380880" y="1066680"/>
            <a:ext cx="8153640" cy="18288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838080" y="17524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同桌同学讨论，解二元一次方程组的基本想法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990720" y="3581280"/>
            <a:ext cx="7924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微软雅黑"/>
              </a:rPr>
              <a:t>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微软雅黑"/>
              </a:rPr>
              <a:t>消去一个未知数，得到一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微软雅黑"/>
              </a:rPr>
              <a:t>    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微软雅黑"/>
              </a:rPr>
              <a:t>一元一次方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图片 8" descr="QQ截图20140828111313.png"/>
          <p:cNvPicPr/>
          <p:nvPr/>
        </p:nvPicPr>
        <p:blipFill>
          <a:blip r:embed="rId1"/>
          <a:stretch/>
        </p:blipFill>
        <p:spPr>
          <a:xfrm>
            <a:off x="0" y="428760"/>
            <a:ext cx="20764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4"/>
          <p:cNvSpPr/>
          <p:nvPr/>
        </p:nvSpPr>
        <p:spPr>
          <a:xfrm>
            <a:off x="428760" y="1285920"/>
            <a:ext cx="54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1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解二元 一次方程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1643040" y="1928880"/>
                <a:ext cx="24382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3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4" name="Text Box 6"/>
          <p:cNvSpPr/>
          <p:nvPr/>
        </p:nvSpPr>
        <p:spPr>
          <a:xfrm>
            <a:off x="642960" y="3571920"/>
            <a:ext cx="6781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解   由②式得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y=-3x+1.  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把③代入①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3492360" y="4149720"/>
          <a:ext cx="3024360" cy="5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4149720"/>
                    <a:ext cx="302436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Rectangle 15"/>
          <p:cNvSpPr/>
          <p:nvPr/>
        </p:nvSpPr>
        <p:spPr>
          <a:xfrm>
            <a:off x="4455720" y="2060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6"/>
          <p:cNvSpPr/>
          <p:nvPr/>
        </p:nvSpPr>
        <p:spPr>
          <a:xfrm>
            <a:off x="4312080" y="270828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图片 14" descr="QQ截图20141118153031.png"/>
          <p:cNvPicPr/>
          <p:nvPr/>
        </p:nvPicPr>
        <p:blipFill>
          <a:blip r:embed="rId3"/>
          <a:stretch/>
        </p:blipFill>
        <p:spPr>
          <a:xfrm>
            <a:off x="0" y="357120"/>
            <a:ext cx="221940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1"/>
          <p:cNvSpPr/>
          <p:nvPr/>
        </p:nvSpPr>
        <p:spPr>
          <a:xfrm>
            <a:off x="1143000" y="2428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把                       代入②式，得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1143000" y="164304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解得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133720" y="1643040"/>
                <a:ext cx="1216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t xml:space="preserve">5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53" name="Object 10" descr=""/>
          <p:cNvPicPr/>
          <p:nvPr/>
        </p:nvPicPr>
        <p:blipFill>
          <a:blip r:embed="rId1"/>
          <a:stretch/>
        </p:blipFill>
        <p:spPr>
          <a:xfrm>
            <a:off x="1828800" y="2328840"/>
            <a:ext cx="1314360" cy="54144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13"/>
          <p:cNvSpPr/>
          <p:nvPr/>
        </p:nvSpPr>
        <p:spPr>
          <a:xfrm>
            <a:off x="928800" y="37861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因此原方程组的一个解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500720" y="3502080"/>
                <a:ext cx="121896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  <m:r>
                                <m:t xml:space="preserve">a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b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r>
                                <m:t xml:space="preserve">a</m:t>
                              </m:r>
                              <m:r>
                                <m:t xml:space="preserve">+</m:t>
                              </m:r>
                              <m:r>
                                <m:t xml:space="preserve">b</m:t>
                              </m:r>
                              <m:r>
                                <m:t xml:space="preserve">=</m:t>
                              </m:r>
                              <m:r>
                                <m:t xml:space="preserve">7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5435640" y="2349360"/>
                <a:ext cx="44280" cy="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4"/>
          <p:cNvSpPr/>
          <p:nvPr/>
        </p:nvSpPr>
        <p:spPr>
          <a:xfrm>
            <a:off x="500040" y="1071720"/>
            <a:ext cx="508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2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用代入法解方程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Object 5" descr=""/>
          <p:cNvPicPr/>
          <p:nvPr/>
        </p:nvPicPr>
        <p:blipFill>
          <a:blip r:embed="rId1"/>
          <a:stretch/>
        </p:blipFill>
        <p:spPr>
          <a:xfrm>
            <a:off x="2286000" y="1571760"/>
            <a:ext cx="2514600" cy="11430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642960" y="35719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解 从①式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Object 7" descr=""/>
          <p:cNvPicPr/>
          <p:nvPr/>
        </p:nvPicPr>
        <p:blipFill>
          <a:blip r:embed="rId2"/>
          <a:stretch/>
        </p:blipFill>
        <p:spPr>
          <a:xfrm>
            <a:off x="2928960" y="3214800"/>
            <a:ext cx="1623960" cy="1011240"/>
          </a:xfrm>
          <a:prstGeom prst="rect">
            <a:avLst/>
          </a:prstGeom>
          <a:ln w="0">
            <a:noFill/>
          </a:ln>
        </p:spPr>
      </p:pic>
      <p:pic>
        <p:nvPicPr>
          <p:cNvPr id="261" name="Object 14" descr=""/>
          <p:cNvPicPr/>
          <p:nvPr/>
        </p:nvPicPr>
        <p:blipFill>
          <a:blip r:embed="rId3"/>
          <a:stretch/>
        </p:blipFill>
        <p:spPr>
          <a:xfrm>
            <a:off x="4514760" y="3213000"/>
            <a:ext cx="114480" cy="4320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16"/>
          <p:cNvSpPr/>
          <p:nvPr/>
        </p:nvSpPr>
        <p:spPr>
          <a:xfrm>
            <a:off x="5171040" y="16430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7"/>
          <p:cNvSpPr/>
          <p:nvPr/>
        </p:nvSpPr>
        <p:spPr>
          <a:xfrm>
            <a:off x="5171040" y="22860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5171040" y="357192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图片 16" descr="QQ截图20141118153031.png"/>
          <p:cNvPicPr/>
          <p:nvPr/>
        </p:nvPicPr>
        <p:blipFill>
          <a:blip r:embed="rId4"/>
          <a:stretch/>
        </p:blipFill>
        <p:spPr>
          <a:xfrm>
            <a:off x="0" y="0"/>
            <a:ext cx="221940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8"/>
          <p:cNvSpPr/>
          <p:nvPr/>
        </p:nvSpPr>
        <p:spPr>
          <a:xfrm>
            <a:off x="857160" y="164304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把③代入②式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929040" y="1500120"/>
            <a:ext cx="2387520" cy="93204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11"/>
          <p:cNvSpPr/>
          <p:nvPr/>
        </p:nvSpPr>
        <p:spPr>
          <a:xfrm>
            <a:off x="3708360" y="324324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解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y = 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1500120" y="4071960"/>
            <a:ext cx="44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y=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代入③式，得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微软雅黑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=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571680" y="5143680"/>
            <a:ext cx="43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因此原方程组的解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4857840" y="4929120"/>
            <a:ext cx="1447560" cy="9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02:47:00Z</dcterms:created>
  <dc:creator/>
  <dc:description/>
  <cp:keywords/>
  <dc:language>en-US</dc:language>
  <cp:lastModifiedBy>徐华昌</cp:lastModifiedBy>
  <dcterms:modified xsi:type="dcterms:W3CDTF">2015-07-29T06:53:53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