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17.wmf" ContentType="image/x-wmf"/>
  <Override PartName="/ppt/media/image20.wmf" ContentType="image/x-wmf"/>
  <Override PartName="/ppt/media/image9.wmf" ContentType="image/x-wmf"/>
  <Override PartName="/ppt/media/image29.wmf" ContentType="image/x-wmf"/>
  <Override PartName="/ppt/media/image6.wmf" ContentType="image/x-wmf"/>
  <Override PartName="/ppt/media/image5.jpeg" ContentType="image/jpeg"/>
  <Override PartName="/ppt/media/image11.wmf" ContentType="image/x-wmf"/>
  <Override PartName="/ppt/media/image8.png" ContentType="image/png"/>
  <Override PartName="/ppt/media/image12.wmf" ContentType="image/x-wmf"/>
  <Override PartName="/ppt/media/image13.wmf" ContentType="image/x-wmf"/>
  <Override PartName="/ppt/media/image30.wmf" ContentType="image/x-wmf"/>
  <Override PartName="/ppt/media/image35.jpeg" ContentType="image/jpeg"/>
  <Override PartName="/ppt/media/image10.png" ContentType="image/png"/>
  <Override PartName="/ppt/media/image28.wmf" ContentType="image/x-wmf"/>
  <Override PartName="/ppt/media/image34.png" ContentType="image/png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6.gif" ContentType="image/gi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7.jpeg" ContentType="image/jpeg"/>
  <Override PartName="/ppt/media/image14.wmf" ContentType="image/x-wmf"/>
  <Override PartName="/ppt/media/image15.wmf" ContentType="image/x-wmf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0A21-006C-4BCF-842D-537683AF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2FF-6AD9-408F-B0B8-7EB0DFD2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BE5-EDBB-41BE-9356-C716FDF7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8B5-671D-4000-95A7-2657D8DC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071B-0F0F-4914-9A32-9031E4EC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E34E-E591-4C90-9B33-DB159711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A32E-F45C-4771-A9A7-47C411A3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D519-2ADA-41B0-8598-8E4178A1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34E0-9405-4CAD-AE17-DFBD4904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89D0-CB83-4DC9-8DE4-857821AE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28FC-9C2D-4F58-AF1E-9ABC3EE3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6CF-D510-46DB-ABB2-69BED5ED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70F9-FE92-488C-B422-EE169C81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6B62-035F-44AB-B3FC-0E124A5F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B6EE-AF77-4B26-91AF-A6AE433F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6948-211B-41EA-AC81-3C66B619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E5A5-5877-4362-BDDE-E0EB7B0D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391D7-00CD-48E5-9CEA-355F5F18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2B99F-9473-4A66-93D1-9FFCA994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74EE8-2559-4385-9978-3F7DF624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BC09A-4DBE-4D5C-BC4C-4B85A257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1B4F9-9DC6-4621-ADC3-1FEE33C9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008-C98B-4073-B586-081B6C7E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C34AB-12EF-4CE2-A035-9B967524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4F5B2-A599-4DFF-B62C-AABC5CA0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75C20-A4AC-4A79-B6A7-D566B2B3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BC668-6550-45DA-8C5E-81364818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3A411-8835-4E35-839C-EC535053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CB2DD-F424-4063-A4F1-EB4CC2A5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B0E83-B27E-4C10-883E-39CC3DF2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0FB76-DD90-44A4-B135-80A884A0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E2679-6206-4D01-A50B-5F9FD201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F9859-E591-4ACD-9576-88DA05F2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6AF5-9CC2-46DD-B672-65EE7243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35C3F-2532-4C0C-8801-346227E2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3CCE3-C24C-4331-9E56-CB845573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11D7D-F075-4606-80B9-0336390C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B19BB-CC7B-4B88-8101-B25F2A99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FE6B7-DBD4-40DE-8855-DAB01139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7C90E-2546-4F89-A68C-7A6FACEE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DC7FA-D972-47D4-AEA4-1F5DDD58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B3BF8-452A-4E6B-AC79-E8E12FE6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FD12A-A1F7-4FE5-83B7-1D156CDC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5B854-97BA-4250-BAD9-4704B981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B3C-C789-46C0-9BC6-74FC53B3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A7A9C-11FC-4D93-9B3A-1BC9A70D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9E255-2D2A-45F7-ADCA-AA9DEF0F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E9B4E-7C9B-498D-82A6-911294B2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73C08-332D-4111-AEF2-546B859F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CA5F7-79CE-4981-971E-4FF2FF01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F8378-B01A-449B-A3CE-9D801830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E881B-31D0-4E08-B21E-D057E9A6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50502-5E04-4154-96B8-6A6BAB89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38776-7C1F-48AD-801E-8E1A46FA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F1F94-B989-42F6-B7F2-5D2C0E0A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0A7-E7B6-4CB9-B60A-432D15A0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9255E-A0C2-4C03-85A7-AB06DE84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B39C2-D558-4081-8A3A-AE0053C7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46397-5D0E-4019-894B-C0E40015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0365D-0456-40D0-AB08-810A97E4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33DD0-A4E8-42A8-85A9-BA4A07AF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63107-EFA8-477D-8581-0EA01554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B23D9-968C-4B26-B413-C687B362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FCA79-3937-409F-9492-FD674CEC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6F2AA-2F95-4A21-927E-A2B49F61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E25DA-996C-48C4-B542-A5E7EA36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72CC-89E0-497E-A64D-48C85ABB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B9703-A200-4DBD-ADA4-58E0D9A4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1959D-DEAA-4C65-B8FB-36405DC0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44700-A091-45F4-ADFE-4EB80DE5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84B65-9303-41F9-8424-C4A2D3E2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82A01-6660-4EAA-8701-B7D80D38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6EB47-9F06-4165-B2BB-B88024AB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62803-B704-40CA-908F-FE7FCF44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9C4F6-B581-4CD9-BDBE-643AC330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0ED43-6F3A-4E87-9A45-7D1BD10F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8E757-BB2C-4171-AB9E-0EBCFE19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5AAD-5570-4EB9-93BC-E8B379DD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EC03D-34BC-4296-8D71-EA2480C9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5B992-64B4-4F41-9A97-F6947288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AF0C4-15CE-4747-A7C5-9241156C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D6A44-5DB5-4838-85D1-90BF68F4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7227F-F08E-4D00-B748-D121F5E4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CF1EE-A264-40E2-928D-E9E97AC5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D8556-F4E0-4B7E-8BB2-EC120D13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7874A-15D3-4B8C-B0ED-B42C96E4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A839D-94A4-49FA-A77B-A1DF65EB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07391-B9F5-42C2-9998-4026ED75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B2BE-4660-4573-8526-6948112C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C6CF4-AE60-43B3-A1D3-0E2FDEFD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683AC-8DBC-40EB-8D9C-E6D9E176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56509-3DE9-4848-BA21-5BCC0D0A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1BC8D-64C2-4BCA-B0DC-B933ACA5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7648D-C88C-4015-8AC4-ED3B08E3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74EE4-C39F-4504-96D4-6E45C116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E9838-978A-449B-B9AB-45CBD574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2200" indent="-322200">
              <a:spcBef>
                <a:spcPts val="751"/>
              </a:spcBef>
              <a:buClr>
                <a:srgbClr val="061f5b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61f5b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61f5b"/>
              </a:solidFill>
              <a:latin typeface="Arial"/>
            </a:endParaRPr>
          </a:p>
          <a:p>
            <a:pPr lvl="1" marL="696960" indent="-268200">
              <a:spcBef>
                <a:spcPts val="751"/>
              </a:spcBef>
              <a:buClr>
                <a:srgbClr val="061f5b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61f5b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61f5b"/>
              </a:solidFill>
              <a:latin typeface="Arial"/>
            </a:endParaRPr>
          </a:p>
          <a:p>
            <a:pPr lvl="2" marL="1073160" indent="-216000">
              <a:spcBef>
                <a:spcPts val="751"/>
              </a:spcBef>
              <a:buClr>
                <a:srgbClr val="061f5b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61f5b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61f5b"/>
              </a:solidFill>
              <a:latin typeface="Arial"/>
            </a:endParaRPr>
          </a:p>
          <a:p>
            <a:pPr lvl="3" marL="1501920" indent="-214560">
              <a:spcBef>
                <a:spcPts val="751"/>
              </a:spcBef>
              <a:buClr>
                <a:srgbClr val="061f5b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61f5b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61f5b"/>
              </a:solidFill>
              <a:latin typeface="Arial"/>
            </a:endParaRPr>
          </a:p>
          <a:p>
            <a:pPr lvl="4" marL="1930320" indent="-214200">
              <a:spcBef>
                <a:spcPts val="751"/>
              </a:spcBef>
              <a:buClr>
                <a:srgbClr val="061f5b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61f5b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61f5b"/>
              </a:solidFill>
              <a:latin typeface="Arial"/>
            </a:endParaRPr>
          </a:p>
          <a:p>
            <a:pPr lvl="5" marL="1930320" indent="-214200">
              <a:spcBef>
                <a:spcPts val="751"/>
              </a:spcBef>
              <a:buClr>
                <a:srgbClr val="061f5b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61f5b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61f5b"/>
              </a:solidFill>
              <a:latin typeface="Arial"/>
            </a:endParaRPr>
          </a:p>
          <a:p>
            <a:pPr lvl="6" marL="1930320" indent="-214200">
              <a:spcBef>
                <a:spcPts val="751"/>
              </a:spcBef>
              <a:buClr>
                <a:srgbClr val="061f5b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61f5b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4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4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888F-B6BA-45DC-A8B8-C8D9812D2F7C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0" y="5649840"/>
            <a:ext cx="7920000" cy="120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7416720" cy="490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E8A5-C566-45EC-B908-BD7BD5803B8D}" type="slidenum">
              <a:rPr b="0" lang="zh-CN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73080" y="836280"/>
            <a:ext cx="9036000" cy="5289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2200" indent="-322200">
              <a:spcBef>
                <a:spcPts val="550"/>
              </a:spcBef>
              <a:buClr>
                <a:srgbClr val="061f5b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200" spc="-1" strike="noStrike">
                <a:solidFill>
                  <a:srgbClr val="061f5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61f5b"/>
              </a:solidFill>
              <a:latin typeface="Arial"/>
            </a:endParaRPr>
          </a:p>
          <a:p>
            <a:pPr lvl="1" marL="696960" indent="-268200">
              <a:spcBef>
                <a:spcPts val="550"/>
              </a:spcBef>
              <a:buClr>
                <a:srgbClr val="061f5b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200" spc="-1" strike="noStrike">
                <a:solidFill>
                  <a:srgbClr val="061f5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61f5b"/>
              </a:solidFill>
              <a:latin typeface="Arial"/>
            </a:endParaRPr>
          </a:p>
          <a:p>
            <a:pPr lvl="2" marL="1073160" indent="-216000">
              <a:spcBef>
                <a:spcPts val="550"/>
              </a:spcBef>
              <a:buClr>
                <a:srgbClr val="061f5b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200" spc="-1" strike="noStrike">
                <a:solidFill>
                  <a:srgbClr val="061f5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61f5b"/>
              </a:solidFill>
              <a:latin typeface="Arial"/>
            </a:endParaRPr>
          </a:p>
          <a:p>
            <a:pPr lvl="3" marL="1501920" indent="-214560">
              <a:spcBef>
                <a:spcPts val="550"/>
              </a:spcBef>
              <a:buClr>
                <a:srgbClr val="061f5b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200" spc="-1" strike="noStrike">
                <a:solidFill>
                  <a:srgbClr val="061f5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61f5b"/>
              </a:solidFill>
              <a:latin typeface="Arial"/>
            </a:endParaRPr>
          </a:p>
          <a:p>
            <a:pPr lvl="4" marL="1930320" indent="-214200">
              <a:spcBef>
                <a:spcPts val="550"/>
              </a:spcBef>
              <a:buClr>
                <a:srgbClr val="061f5b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200" spc="-1" strike="noStrike">
                <a:solidFill>
                  <a:srgbClr val="061f5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61f5b"/>
              </a:solidFill>
              <a:latin typeface="Arial"/>
            </a:endParaRPr>
          </a:p>
          <a:p>
            <a:pPr lvl="5" marL="1930320" indent="-214200">
              <a:spcBef>
                <a:spcPts val="550"/>
              </a:spcBef>
              <a:buClr>
                <a:srgbClr val="061f5b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200" spc="-1" strike="noStrike">
                <a:solidFill>
                  <a:srgbClr val="061f5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61f5b"/>
              </a:solidFill>
              <a:latin typeface="Arial"/>
            </a:endParaRPr>
          </a:p>
          <a:p>
            <a:pPr lvl="6" marL="1930320" indent="-214200">
              <a:spcBef>
                <a:spcPts val="550"/>
              </a:spcBef>
              <a:buClr>
                <a:srgbClr val="061f5b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200" spc="-1" strike="noStrike">
                <a:solidFill>
                  <a:srgbClr val="061f5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gradFill rotWithShape="0">
            <a:gsLst>
              <a:gs pos="0">
                <a:srgbClr val="231d97"/>
              </a:gs>
              <a:gs pos="100000">
                <a:srgbClr val="78a1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6200" y="622080"/>
            <a:ext cx="8209080" cy="1469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509E-D6CA-46EE-AB38-E66C6BEC37E0}" type="slidenum">
              <a:rPr b="0" lang="zh-CN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324480"/>
            <a:ext cx="91440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61f5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31d97"/>
              </a:gs>
              <a:gs pos="100000">
                <a:srgbClr val="78a1e4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73160" indent="-216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01920" indent="-21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3032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6360"/>
            <a:ext cx="2133720" cy="474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636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6360"/>
            <a:ext cx="2133720" cy="474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6B72-1F27-4718-A158-90BBC5A38BCA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320" y="5792760"/>
            <a:ext cx="914400" cy="9144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52280" y="5943600"/>
            <a:ext cx="762120" cy="635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57400" y="5792760"/>
            <a:ext cx="914400" cy="9144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792760"/>
            <a:ext cx="914400" cy="9144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2209680" y="5867280"/>
            <a:ext cx="552600" cy="763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1219320" y="6041880"/>
            <a:ext cx="609480" cy="435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315200" y="5029200"/>
            <a:ext cx="1752480" cy="175248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7391520" y="5410080"/>
            <a:ext cx="1654200" cy="13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0"/>
            <a:ext cx="9144000" cy="49417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2960" indent="-247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88920" indent="-198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84200" indent="-199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78040" indent="-19692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FBE4-7EDD-4D0F-9128-20B9C1F31520}" type="slidenum"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6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7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8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D4D4-4C69-4A26-921D-DEAA41BDFD1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lvl="1" marL="395280"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a0c6ea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a0c6ea"/>
              </a:solidFill>
              <a:latin typeface="Arial"/>
            </a:endParaRPr>
          </a:p>
          <a:p>
            <a:pPr lvl="2" marL="790560" algn="ctr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184400" algn="ctr"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1581120" algn="ctr">
              <a:spcBef>
                <a:spcPts val="2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5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6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590840" y="0"/>
            <a:ext cx="7553160" cy="684684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969920" y="1598760"/>
            <a:ext cx="671688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1" marL="727200" indent="-2793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3" marL="1566720" indent="-2235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4" marL="2014560" indent="-223920">
              <a:spcBef>
                <a:spcPts val="476"/>
              </a:spcBef>
              <a:buClr>
                <a:srgbClr val="009999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5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6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D768-6F26-49F9-97B6-2BAAF15C901A}" type="slidenum"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B871-9F0B-4B0C-A9A6-2438458F5D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141640" y="2484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1.2.2   </a:t>
            </a: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加减消元法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41640" y="3610080"/>
            <a:ext cx="41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课时  加减消元法（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522360" y="774720"/>
            <a:ext cx="6389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用加减消元法解下列方程组：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2322360" y="1494000"/>
            <a:ext cx="3327480" cy="865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736640" y="253044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: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②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6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41640" y="307008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4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232000" y="3654360"/>
            <a:ext cx="4724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4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代入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得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+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4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97000" y="455292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050920" y="514044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5921280" y="4959360"/>
            <a:ext cx="965160" cy="76212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-15840" y="98280"/>
            <a:ext cx="1787400" cy="5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378160" y="398520"/>
            <a:ext cx="3174840" cy="8650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4281480" y="4600440"/>
            <a:ext cx="914400" cy="7621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2185920" y="135900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: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②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5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816280" y="189864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16280" y="2440080"/>
            <a:ext cx="47242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代入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得 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×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11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816280" y="340344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817720" y="387828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-15840" y="98280"/>
            <a:ext cx="17874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6012000" y="4554360"/>
            <a:ext cx="1092240" cy="12970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2097000" y="1268280"/>
            <a:ext cx="4724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: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②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8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70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3897360" y="3203640"/>
            <a:ext cx="1752480" cy="584280"/>
          </a:xfrm>
          <a:prstGeom prst="rect">
            <a:avLst/>
          </a:prstGeom>
          <a:ln w="0">
            <a:noFill/>
          </a:ln>
        </p:spPr>
      </p:pic>
      <p:grpSp>
        <p:nvGrpSpPr>
          <p:cNvPr id="474" name=""/>
          <p:cNvGrpSpPr/>
          <p:nvPr/>
        </p:nvGrpSpPr>
        <p:grpSpPr>
          <a:xfrm>
            <a:off x="2727360" y="1943280"/>
            <a:ext cx="4724280" cy="628560"/>
            <a:chOff x="2727360" y="1943280"/>
            <a:chExt cx="4724280" cy="628560"/>
          </a:xfrm>
        </p:grpSpPr>
        <p:pic>
          <p:nvPicPr>
            <p:cNvPr id="475" name="" descr=""/>
            <p:cNvPicPr/>
            <p:nvPr/>
          </p:nvPicPr>
          <p:blipFill>
            <a:blip r:embed="rId3"/>
            <a:stretch/>
          </p:blipFill>
          <p:spPr>
            <a:xfrm>
              <a:off x="4998960" y="1987560"/>
              <a:ext cx="78768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2727360" y="1943280"/>
              <a:ext cx="472428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解得 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681280" y="2440080"/>
            <a:ext cx="4724280" cy="674280"/>
            <a:chOff x="2681280" y="2440080"/>
            <a:chExt cx="4724280" cy="674280"/>
          </a:xfrm>
        </p:grpSpPr>
        <p:pic>
          <p:nvPicPr>
            <p:cNvPr id="478" name="" descr=""/>
            <p:cNvPicPr/>
            <p:nvPr/>
          </p:nvPicPr>
          <p:blipFill>
            <a:blip r:embed="rId4"/>
            <a:stretch/>
          </p:blipFill>
          <p:spPr>
            <a:xfrm>
              <a:off x="3085920" y="2531880"/>
              <a:ext cx="78768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2681280" y="2440080"/>
              <a:ext cx="472428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把</a:t>
              </a:r>
              <a:r>
                <a:rPr b="1" i="1" lang="zh-CN" sz="2500" spc="-1" strike="noStrike">
                  <a:solidFill>
                    <a:srgbClr val="0000ff"/>
                  </a:solidFill>
                  <a:latin typeface="Times New Roman"/>
                </a:rPr>
                <a:t>           </a:t>
              </a:r>
              <a:r>
                <a:rPr b="1" lang="zh-CN" sz="2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代入</a:t>
              </a: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</a:rPr>
                <a:t>①</a:t>
              </a:r>
              <a:r>
                <a:rPr b="1" lang="zh-CN" sz="2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，得 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367000" y="3833640"/>
            <a:ext cx="4724280" cy="716040"/>
            <a:chOff x="2367000" y="3833640"/>
            <a:chExt cx="4724280" cy="716040"/>
          </a:xfrm>
        </p:grpSpPr>
        <p:pic>
          <p:nvPicPr>
            <p:cNvPr id="481" name="" descr=""/>
            <p:cNvPicPr/>
            <p:nvPr/>
          </p:nvPicPr>
          <p:blipFill>
            <a:blip r:embed="rId5"/>
            <a:stretch/>
          </p:blipFill>
          <p:spPr>
            <a:xfrm>
              <a:off x="4660920" y="3965400"/>
              <a:ext cx="9777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2367000" y="3833640"/>
              <a:ext cx="472428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解得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2050920" y="4869000"/>
            <a:ext cx="4724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2009520" y="189000"/>
            <a:ext cx="3698640" cy="1019160"/>
            <a:chOff x="2009520" y="189000"/>
            <a:chExt cx="3698640" cy="1019160"/>
          </a:xfrm>
        </p:grpSpPr>
        <p:pic>
          <p:nvPicPr>
            <p:cNvPr id="485" name="" descr=""/>
            <p:cNvPicPr/>
            <p:nvPr/>
          </p:nvPicPr>
          <p:blipFill>
            <a:blip r:embed="rId6"/>
            <a:stretch/>
          </p:blipFill>
          <p:spPr>
            <a:xfrm>
              <a:off x="2771640" y="233280"/>
              <a:ext cx="166536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7"/>
            <a:stretch/>
          </p:blipFill>
          <p:spPr>
            <a:xfrm>
              <a:off x="2816280" y="773280"/>
              <a:ext cx="17096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2637000" y="324000"/>
              <a:ext cx="134640" cy="765000"/>
            </a:xfrm>
            <a:custGeom>
              <a:avLst/>
              <a:gdLst>
                <a:gd name="textAreaLeft" fmla="*/ 86040 w 134640"/>
                <a:gd name="textAreaRight" fmla="*/ 135000 w 134640"/>
                <a:gd name="textAreaTop" fmla="*/ 19800 h 765000"/>
                <a:gd name="textAreaBottom" fmla="*/ 745200 h 7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09520" y="414360"/>
              <a:ext cx="549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61f5b"/>
                  </a:solidFill>
                  <a:latin typeface="Times New Roman"/>
                </a:rPr>
                <a:t>(3)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86600" y="189000"/>
              <a:ext cx="421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20816"/>
                  </a:solidFill>
                  <a:latin typeface="Times New Roman"/>
                </a:rPr>
                <a:t>①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286600" y="684360"/>
              <a:ext cx="421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20816"/>
                  </a:solidFill>
                  <a:latin typeface="Times New Roman"/>
                </a:rPr>
                <a:t>②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pic>
        <p:nvPicPr>
          <p:cNvPr id="491" name="" descr=""/>
          <p:cNvPicPr/>
          <p:nvPr/>
        </p:nvPicPr>
        <p:blipFill>
          <a:blip r:embed="rId8"/>
          <a:stretch/>
        </p:blipFill>
        <p:spPr>
          <a:xfrm>
            <a:off x="-15840" y="98280"/>
            <a:ext cx="17874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890720" y="2813040"/>
            <a:ext cx="21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别相加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6360" y="27068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4000" y="1762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f5b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已知方程组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914560" y="168588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17680" y="130644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f5b"/>
                </a:solidFill>
                <a:latin typeface="Times New Roman"/>
              </a:rPr>
              <a:t>x+3y=17</a:t>
            </a: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217320" y="2220840"/>
            <a:ext cx="16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f5b"/>
                </a:solidFill>
                <a:latin typeface="Times New Roman"/>
              </a:rPr>
              <a:t>2x-3y=6</a:t>
            </a: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145840" y="1839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两个方程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52320" y="2924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就可以消去未知数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908000" y="3429000"/>
            <a:ext cx="5486400" cy="0"/>
            <a:chOff x="1908000" y="3429000"/>
            <a:chExt cx="5486400" cy="0"/>
          </a:xfrm>
        </p:grpSpPr>
        <p:sp>
          <p:nvSpPr>
            <p:cNvPr id="501" name=""/>
            <p:cNvSpPr/>
            <p:nvPr/>
          </p:nvSpPr>
          <p:spPr>
            <a:xfrm>
              <a:off x="7013520" y="34290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08000" y="342900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2377080" y="519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别相减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020000" y="5877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8920" y="4443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f5b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已知方程组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873520" y="4165560"/>
            <a:ext cx="457200" cy="1019160"/>
          </a:xfrm>
          <a:custGeom>
            <a:avLst/>
            <a:gdLst>
              <a:gd name="textAreaLeft" fmla="*/ 292320 w 457200"/>
              <a:gd name="textAreaRight" fmla="*/ 457560 w 457200"/>
              <a:gd name="textAreaTop" fmla="*/ 26280 h 1019160"/>
              <a:gd name="textAreaBottom" fmla="*/ 992880 h 10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381480" y="3824280"/>
            <a:ext cx="20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f5b"/>
                </a:solidFill>
                <a:latin typeface="Times New Roman"/>
              </a:rPr>
              <a:t>25x-7y=16</a:t>
            </a: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327840" y="4775040"/>
            <a:ext cx="21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f5b"/>
                </a:solidFill>
                <a:latin typeface="Times New Roman"/>
              </a:rPr>
              <a:t>25x+6y=10</a:t>
            </a: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637960" y="4394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两个方程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359240" y="53751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就可以消去未知数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087640" y="5877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93080" y="5265720"/>
            <a:ext cx="30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3080" y="53197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296064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只要两边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50920" y="530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只要两边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-15840" y="98280"/>
            <a:ext cx="17874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162000" y="1314360"/>
            <a:ext cx="8466480" cy="2655360"/>
            <a:chOff x="162000" y="1314360"/>
            <a:chExt cx="8466480" cy="2655360"/>
          </a:xfrm>
        </p:grpSpPr>
        <p:sp>
          <p:nvSpPr>
            <p:cNvPr id="518" name=""/>
            <p:cNvSpPr/>
            <p:nvPr/>
          </p:nvSpPr>
          <p:spPr>
            <a:xfrm>
              <a:off x="162000" y="1771560"/>
              <a:ext cx="43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61f5b"/>
                  </a:solidFill>
                  <a:latin typeface="Times New Roman"/>
                </a:rPr>
                <a:t>1.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用加减法解方程组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28720" y="1542960"/>
              <a:ext cx="228240" cy="106704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33640" y="1314360"/>
              <a:ext cx="274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6x+7y=-19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,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①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33640" y="230544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6x-5y=17②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5560" y="1876680"/>
              <a:ext cx="13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应用（   ）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6400" y="2838960"/>
              <a:ext cx="203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A.①-②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消去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14320" y="2838960"/>
              <a:ext cx="29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B.①-②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消去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14920" y="3449160"/>
              <a:ext cx="259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. ②- ①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消去常数项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64120" y="3449160"/>
              <a:ext cx="176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D. 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以上都不对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7948080" y="189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76280" y="4572000"/>
            <a:ext cx="117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方程组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133720" y="426708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283840" y="4038480"/>
            <a:ext cx="19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f5b"/>
                </a:solidFill>
                <a:latin typeface="Times New Roman"/>
              </a:rPr>
              <a:t>3x+2y=13</a:t>
            </a: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360520" y="5105520"/>
            <a:ext cx="15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f5b"/>
                </a:solidFill>
                <a:latin typeface="Times New Roman"/>
              </a:rPr>
              <a:t>3x-2y=5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809880" y="46483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消去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后所得的方程是（  ）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543440" y="468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03280" y="56991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A.6x=8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158920" y="57340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B.6x=18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103640" y="5734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C.6x=5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04000" y="56991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D.x=18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-15840" y="98280"/>
            <a:ext cx="17874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108080" y="549360"/>
            <a:ext cx="75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Arial"/>
              </a:rPr>
              <a:t>指出下列方程组求解过程中有错误步骤，并给予订正：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241280" y="1584360"/>
            <a:ext cx="36738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7x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－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4y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＝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5x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－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4y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＝－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解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:①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－②，得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　　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2x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＝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－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，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　　　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x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＝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0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799080" y="152100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①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524720" y="1413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61f5b"/>
                </a:solidFill>
                <a:latin typeface="Verdana"/>
              </a:rPr>
              <a:t>①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492360" y="270684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468560" y="19890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61f5b"/>
                </a:solidFill>
                <a:latin typeface="Verdana"/>
              </a:rPr>
              <a:t>②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978720" y="227664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②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41280" y="1854360"/>
            <a:ext cx="73080" cy="757080"/>
          </a:xfrm>
          <a:custGeom>
            <a:avLst/>
            <a:gdLst>
              <a:gd name="textAreaLeft" fmla="*/ 46800 w 73080"/>
              <a:gd name="textAreaRight" fmla="*/ 73440 w 73080"/>
              <a:gd name="textAreaTop" fmla="*/ 19440 h 757080"/>
              <a:gd name="textAreaBottom" fmla="*/ 737640 h 7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978440" y="162864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57720" y="1494000"/>
            <a:ext cx="3816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3x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－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4y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＝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14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5x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＋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4y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＝</a:t>
            </a:r>
            <a:r>
              <a:rPr b="0" lang="en-US" sz="2800" spc="-1" strike="noStrike">
                <a:solidFill>
                  <a:srgbClr val="061f5b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f5b"/>
                </a:solidFill>
                <a:latin typeface="Verdana"/>
              </a:rPr>
              <a:t>解　</a:t>
            </a:r>
            <a:r>
              <a:rPr b="0" lang="zh-CN" sz="2800" spc="-1" strike="noStrike">
                <a:solidFill>
                  <a:srgbClr val="061f5b"/>
                </a:solidFill>
                <a:latin typeface="宋体"/>
              </a:rPr>
              <a:t>①－②，得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f5b"/>
                </a:solidFill>
                <a:latin typeface="宋体"/>
              </a:rPr>
              <a:t>　　－</a:t>
            </a:r>
            <a:r>
              <a:rPr b="0" lang="en-US" sz="2800" spc="-1" strike="noStrike">
                <a:solidFill>
                  <a:srgbClr val="061f5b"/>
                </a:solidFill>
                <a:latin typeface="宋体"/>
              </a:rPr>
              <a:t>2x</a:t>
            </a:r>
            <a:r>
              <a:rPr b="0" lang="zh-CN" sz="2800" spc="-1" strike="noStrike">
                <a:solidFill>
                  <a:srgbClr val="061f5b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061f5b"/>
                </a:solidFill>
                <a:latin typeface="宋体"/>
              </a:rPr>
              <a:t>12</a:t>
            </a:r>
            <a:r>
              <a:rPr b="0" lang="zh-CN" sz="2800" spc="-1" strike="noStrike">
                <a:solidFill>
                  <a:srgbClr val="061f5b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f5b"/>
                </a:solidFill>
                <a:latin typeface="宋体"/>
              </a:rPr>
              <a:t>　　　</a:t>
            </a:r>
            <a:r>
              <a:rPr b="0" lang="en-US" sz="2800" spc="-1" strike="noStrike">
                <a:solidFill>
                  <a:srgbClr val="061f5b"/>
                </a:solidFill>
                <a:latin typeface="宋体"/>
              </a:rPr>
              <a:t>x </a:t>
            </a:r>
            <a:r>
              <a:rPr b="0" lang="zh-CN" sz="2800" spc="-1" strike="noStrike">
                <a:solidFill>
                  <a:srgbClr val="061f5b"/>
                </a:solidFill>
                <a:latin typeface="宋体"/>
              </a:rPr>
              <a:t>＝－</a:t>
            </a:r>
            <a:r>
              <a:rPr b="0" lang="en-US" sz="2800" spc="-1" strike="noStrike">
                <a:solidFill>
                  <a:srgbClr val="061f5b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61f5b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332000" y="45990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解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　①－②，得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　　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x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，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　　　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003640" y="4844880"/>
            <a:ext cx="4572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解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　①＋②，得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　　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8x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6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　　　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62000" y="54000"/>
            <a:ext cx="1790640" cy="590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2708280"/>
            <a:ext cx="9144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主要步骤：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976640" y="2168640"/>
            <a:ext cx="93672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42640" y="191628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基本思路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79640" y="5051520"/>
            <a:ext cx="10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写解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979640" y="4400640"/>
            <a:ext cx="16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求解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79640" y="3716280"/>
            <a:ext cx="10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加减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959280" y="19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二元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012000" y="1882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一元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118240" y="189864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加减消元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032360" y="3699000"/>
            <a:ext cx="26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消去一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元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673520" y="4419720"/>
            <a:ext cx="21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求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个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未知数的值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845240" y="5049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写出方程组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863640"/>
            <a:ext cx="81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加减消元法解方程组基本思路是什么？主要步骤有哪些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43280" y="2706840"/>
            <a:ext cx="11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变形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492080" y="2438280"/>
            <a:ext cx="2100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同一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未知数的系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相同或互为相反数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997360" y="3024360"/>
            <a:ext cx="914400" cy="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41640" y="4014720"/>
            <a:ext cx="914400" cy="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222720" y="4734000"/>
            <a:ext cx="698400" cy="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041640" y="5319720"/>
            <a:ext cx="914400" cy="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59133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f5b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二元一次方程组解法有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02720" y="59054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代入法、加减法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0" y="144360"/>
            <a:ext cx="1819440" cy="60984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-15840" y="98280"/>
            <a:ext cx="17874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图片 2" descr="c3bebc432473f29708cd2752a57d107c.jpg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  <p:pic>
        <p:nvPicPr>
          <p:cNvPr id="576" name="图片 1" descr="6a819a4096491ff90623c57b0dd773ec.gif"/>
          <p:cNvPicPr/>
          <p:nvPr/>
        </p:nvPicPr>
        <p:blipFill>
          <a:blip r:embed="rId2"/>
          <a:stretch/>
        </p:blipFill>
        <p:spPr>
          <a:xfrm>
            <a:off x="0" y="125280"/>
            <a:ext cx="1446120" cy="1446480"/>
          </a:xfrm>
          <a:prstGeom prst="rect">
            <a:avLst/>
          </a:prstGeom>
          <a:ln w="0">
            <a:noFill/>
          </a:ln>
        </p:spPr>
      </p:pic>
      <p:sp>
        <p:nvSpPr>
          <p:cNvPr id="577" name="矩形 3"/>
          <p:cNvSpPr/>
          <p:nvPr/>
        </p:nvSpPr>
        <p:spPr>
          <a:xfrm>
            <a:off x="3650040" y="571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谢谢！</a:t>
            </a:r>
            <a:endParaRPr b="0" lang="en-US" sz="54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467000" y="549360"/>
            <a:ext cx="788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、解二元一次方程组的基本思路是什么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67000" y="1222560"/>
            <a:ext cx="18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基本思路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03440" y="1160640"/>
            <a:ext cx="39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消元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61f5b"/>
                </a:solidFill>
                <a:latin typeface="Verdana"/>
              </a:rPr>
              <a:t>二元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2720" y="1463760"/>
            <a:ext cx="93672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83440" y="11095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一元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10400" y="2035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、用代入法解方程的步骤是什么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2360" y="2522520"/>
            <a:ext cx="22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主要步骤：                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710440" y="267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变形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457360" y="37828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代入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367000" y="4842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求解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322360" y="569916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写解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3076560"/>
            <a:ext cx="93672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92360" y="4135320"/>
            <a:ext cx="93672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57720" y="5145120"/>
            <a:ext cx="936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02000" y="6051600"/>
            <a:ext cx="93672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92760" y="2421000"/>
            <a:ext cx="1806480" cy="11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Verdana"/>
              </a:rPr>
              <a:t>用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一个未知数</a:t>
            </a:r>
            <a:r>
              <a:rPr b="1" lang="zh-CN" sz="3200" spc="-1" strike="noStrike">
                <a:solidFill>
                  <a:srgbClr val="061f5b"/>
                </a:solidFill>
                <a:latin typeface="Verdana"/>
              </a:rPr>
              <a:t>的代数式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Verdana"/>
              </a:rPr>
              <a:t>表示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另一个未知数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067360" y="3732120"/>
            <a:ext cx="22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消去一个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元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1960" y="46911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分别求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两个</a:t>
            </a: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未知数的值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42600" y="5497560"/>
            <a:ext cx="18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写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方程组</a:t>
            </a: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的解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-15840" y="54000"/>
            <a:ext cx="2044800" cy="5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76280" y="1044720"/>
            <a:ext cx="243036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怎样解下面的二元一次方程组呢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1640" y="1179360"/>
            <a:ext cx="3371760" cy="1052280"/>
            <a:chOff x="3041640" y="1179360"/>
            <a:chExt cx="3371760" cy="1052280"/>
          </a:xfrm>
        </p:grpSpPr>
        <p:graphicFrame>
          <p:nvGraphicFramePr>
            <p:cNvPr id="382" name=""/>
            <p:cNvGraphicFramePr/>
            <p:nvPr/>
          </p:nvGraphicFramePr>
          <p:xfrm>
            <a:off x="3041640" y="1179360"/>
            <a:ext cx="2802600" cy="1027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1640" y="1179360"/>
                      <a:ext cx="2802600" cy="102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4" name=""/>
            <p:cNvSpPr/>
            <p:nvPr/>
          </p:nvSpPr>
          <p:spPr>
            <a:xfrm>
              <a:off x="5965920" y="125316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20816"/>
                  </a:solidFill>
                  <a:latin typeface="Times New Roman"/>
                </a:rPr>
                <a:t>①</a:t>
              </a:r>
              <a:endParaRPr b="0" lang="en-US" sz="24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65920" y="177192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20816"/>
                  </a:solidFill>
                  <a:latin typeface="Times New Roman"/>
                </a:rPr>
                <a:t>②</a:t>
              </a:r>
              <a:endParaRPr b="0" lang="en-US" sz="24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810440" y="3069000"/>
            <a:ext cx="47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＋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2x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－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）＝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1 +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f5b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727360" y="365436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3610080"/>
            <a:ext cx="133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327720" y="3610080"/>
            <a:ext cx="4478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47000" y="361008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63080" y="4105440"/>
            <a:ext cx="48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左边  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+  ② 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左边  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=  ① 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右边 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+  ②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右边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91000" y="4780080"/>
            <a:ext cx="27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y +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x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－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827360" y="5319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=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206280" y="324000"/>
            <a:ext cx="207648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826920" y="4112280"/>
            <a:ext cx="477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以原方程组的解是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5472000" y="4151160"/>
          <a:ext cx="1967040" cy="17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2000" y="4151160"/>
                    <a:ext cx="1967040" cy="17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3411000" y="39312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61f5b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376360" y="298440"/>
            <a:ext cx="3829320" cy="1510920"/>
            <a:chOff x="2376360" y="298440"/>
            <a:chExt cx="3829320" cy="1510920"/>
          </a:xfrm>
        </p:grpSpPr>
        <p:graphicFrame>
          <p:nvGraphicFramePr>
            <p:cNvPr id="401" name=""/>
            <p:cNvGraphicFramePr/>
            <p:nvPr/>
          </p:nvGraphicFramePr>
          <p:xfrm>
            <a:off x="2376360" y="298440"/>
            <a:ext cx="3245040" cy="151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76360" y="298440"/>
                      <a:ext cx="3245040" cy="151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3" name=""/>
            <p:cNvSpPr/>
            <p:nvPr/>
          </p:nvSpPr>
          <p:spPr>
            <a:xfrm>
              <a:off x="5758200" y="40716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①</a:t>
              </a:r>
              <a:endParaRPr b="0" lang="en-US" sz="24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58920" y="117036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②</a:t>
              </a:r>
              <a:endParaRPr b="0" lang="en-US" sz="24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11280" y="17366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79640" y="2744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代入①，得                 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454280" y="2163600"/>
            <a:ext cx="124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6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799880" y="3359160"/>
            <a:ext cx="12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1.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502000" y="414360"/>
            <a:ext cx="648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如何解下述二元一次方程组？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311640" y="907920"/>
          <a:ext cx="31874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1640" y="907920"/>
                    <a:ext cx="3187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3" name=""/>
          <p:cNvGrpSpPr/>
          <p:nvPr/>
        </p:nvGrpSpPr>
        <p:grpSpPr>
          <a:xfrm>
            <a:off x="927000" y="2079360"/>
            <a:ext cx="2835360" cy="1663560"/>
            <a:chOff x="927000" y="2079360"/>
            <a:chExt cx="2835360" cy="1663560"/>
          </a:xfrm>
        </p:grpSpPr>
        <p:sp>
          <p:nvSpPr>
            <p:cNvPr id="414" name=""/>
            <p:cNvSpPr/>
            <p:nvPr/>
          </p:nvSpPr>
          <p:spPr>
            <a:xfrm flipH="1" flipV="1">
              <a:off x="926640" y="2079000"/>
              <a:ext cx="2835360" cy="1663560"/>
            </a:xfrm>
            <a:prstGeom prst="wedgeRoundRectCallout">
              <a:avLst>
                <a:gd name="adj1" fmla="val 50555"/>
                <a:gd name="adj2" fmla="val -11240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从②得，        ，</a:t>
              </a:r>
              <a:endParaRPr b="0" lang="en-US" sz="20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  </a:t>
              </a:r>
              <a:r>
                <a:rPr b="1" lang="zh-CN" sz="20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再代入①，得</a:t>
              </a:r>
              <a:endParaRPr b="0" lang="en-US" sz="2000" spc="-1" strike="noStrike">
                <a:solidFill>
                  <a:srgbClr val="061f5b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  </a:t>
              </a:r>
              <a:r>
                <a:rPr b="1" lang="zh-CN" sz="20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这就把</a:t>
              </a:r>
              <a:r>
                <a:rPr b="1" i="1" lang="zh-CN" sz="20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x</a:t>
              </a:r>
              <a:r>
                <a:rPr b="1" lang="zh-CN" sz="20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消去了！</a:t>
              </a:r>
              <a:endParaRPr b="0" lang="en-US" sz="20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aphicFrame>
          <p:nvGraphicFramePr>
            <p:cNvPr id="415" name=""/>
            <p:cNvGraphicFramePr/>
            <p:nvPr/>
          </p:nvGraphicFramePr>
          <p:xfrm>
            <a:off x="2187360" y="2079720"/>
            <a:ext cx="979560" cy="41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87360" y="2079720"/>
                      <a:ext cx="97956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"/>
            <p:cNvGraphicFramePr/>
            <p:nvPr/>
          </p:nvGraphicFramePr>
          <p:xfrm>
            <a:off x="1287360" y="2889360"/>
            <a:ext cx="1576440" cy="46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87360" y="2889360"/>
                      <a:ext cx="157644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9" name=""/>
          <p:cNvSpPr/>
          <p:nvPr/>
        </p:nvSpPr>
        <p:spPr>
          <a:xfrm flipH="1" flipV="1">
            <a:off x="4346640" y="2123280"/>
            <a:ext cx="3511440" cy="1754280"/>
          </a:xfrm>
          <a:prstGeom prst="wedgeRoundRectCallout">
            <a:avLst>
              <a:gd name="adj1" fmla="val 64740"/>
              <a:gd name="adj2" fmla="val -9860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f5b"/>
                </a:solidFill>
                <a:latin typeface="黑体"/>
                <a:ea typeface="黑体"/>
              </a:rPr>
              <a:t>她得到的</a:t>
            </a:r>
            <a:r>
              <a:rPr b="1" i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y</a:t>
            </a:r>
            <a:r>
              <a:rPr b="1" lang="zh-CN" sz="2000" spc="-1" strike="noStrike">
                <a:solidFill>
                  <a:srgbClr val="061f5b"/>
                </a:solidFill>
                <a:latin typeface="黑体"/>
                <a:ea typeface="黑体"/>
              </a:rPr>
              <a:t>的方程也就是</a:t>
            </a:r>
            <a:endParaRPr b="0" lang="en-US" sz="2000" spc="-1" strike="noStrike">
              <a:solidFill>
                <a:srgbClr val="061f5b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1f5b"/>
                </a:solidFill>
                <a:latin typeface="宋体"/>
              </a:rPr>
              <a:t>(</a:t>
            </a:r>
            <a:r>
              <a:rPr b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3</a:t>
            </a:r>
            <a:r>
              <a:rPr b="1" i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y</a:t>
            </a:r>
            <a:r>
              <a:rPr b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+17</a:t>
            </a:r>
            <a:r>
              <a:rPr b="1" lang="en-US" sz="2000" spc="-1" strike="noStrike">
                <a:solidFill>
                  <a:srgbClr val="061f5b"/>
                </a:solidFill>
                <a:latin typeface="宋体"/>
              </a:rPr>
              <a:t>)</a:t>
            </a:r>
            <a:r>
              <a:rPr b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+5</a:t>
            </a:r>
            <a:r>
              <a:rPr b="1" i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y</a:t>
            </a:r>
            <a:r>
              <a:rPr b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=9</a:t>
            </a:r>
            <a:r>
              <a:rPr b="1" lang="zh-CN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0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f5b"/>
                </a:solidFill>
                <a:latin typeface="黑体"/>
                <a:ea typeface="黑体"/>
              </a:rPr>
              <a:t>这不就可以直接从②得，               </a:t>
            </a:r>
            <a:endParaRPr b="0" lang="en-US" sz="20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             </a:t>
            </a:r>
            <a:r>
              <a:rPr b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i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x</a:t>
            </a:r>
            <a:r>
              <a:rPr b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=3</a:t>
            </a:r>
            <a:r>
              <a:rPr b="1" i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y</a:t>
            </a:r>
            <a:r>
              <a:rPr b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+17</a:t>
            </a:r>
            <a:r>
              <a:rPr b="1" lang="zh-CN" sz="20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endParaRPr b="0" lang="en-US" sz="20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f5b"/>
                </a:solidFill>
                <a:latin typeface="黑体"/>
                <a:ea typeface="黑体"/>
              </a:rPr>
              <a:t>然后把它代入①吗？</a:t>
            </a:r>
            <a:endParaRPr b="0" lang="en-US" sz="20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4345920" y="4958640"/>
            <a:ext cx="3708360" cy="1397160"/>
          </a:xfrm>
          <a:prstGeom prst="wedgeRoundRectCallout">
            <a:avLst>
              <a:gd name="adj1" fmla="val 64166"/>
              <a:gd name="adj2" fmla="val 540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61f5b"/>
                </a:solidFill>
                <a:latin typeface="黑体"/>
                <a:ea typeface="黑体"/>
              </a:rPr>
              <a:t>方程①和②中都有</a:t>
            </a:r>
            <a:r>
              <a:rPr b="1" lang="zh-CN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i="1" lang="zh-CN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x</a:t>
            </a:r>
            <a:r>
              <a:rPr b="1" lang="zh-CN" sz="20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endParaRPr b="0" lang="en-US" sz="20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f5b"/>
                </a:solidFill>
                <a:latin typeface="黑体"/>
                <a:ea typeface="黑体"/>
              </a:rPr>
              <a:t>为了消去</a:t>
            </a:r>
            <a:r>
              <a:rPr b="1" i="1" lang="zh-CN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x</a:t>
            </a:r>
            <a:r>
              <a:rPr b="1" lang="zh-CN" sz="2000" spc="-1" strike="noStrike">
                <a:solidFill>
                  <a:srgbClr val="061f5b"/>
                </a:solidFill>
                <a:latin typeface="黑体"/>
                <a:ea typeface="黑体"/>
              </a:rPr>
              <a:t>，干脆把方程①减去方程②就可以了！</a:t>
            </a:r>
            <a:endParaRPr b="0" lang="en-US" sz="20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747720" y="4689360"/>
            <a:ext cx="2879640" cy="178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050920" y="59364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解方程组：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2862360" y="1089000"/>
          <a:ext cx="3733560" cy="11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2360" y="1089000"/>
                    <a:ext cx="373356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 flipH="1" flipV="1">
            <a:off x="6396840" y="2032920"/>
            <a:ext cx="2746440" cy="988920"/>
          </a:xfrm>
          <a:prstGeom prst="wedgeRoundRectCallout">
            <a:avLst>
              <a:gd name="adj1" fmla="val 107453"/>
              <a:gd name="adj2" fmla="val 68134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be0e3"/>
                </a:solidFill>
                <a:latin typeface="Times New Roman"/>
                <a:ea typeface="黑体"/>
              </a:rPr>
              <a:t>    </a:t>
            </a:r>
            <a:r>
              <a:rPr b="1" lang="zh-CN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   </a:t>
            </a:r>
            <a:r>
              <a:rPr b="1" lang="zh-CN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两个方程中的未知数</a:t>
            </a:r>
            <a:r>
              <a:rPr b="1" i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y</a:t>
            </a:r>
            <a:r>
              <a:rPr b="1" lang="zh-CN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的系数互为相反数，可以消去</a:t>
            </a:r>
            <a:r>
              <a:rPr b="1" i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y</a:t>
            </a:r>
            <a:r>
              <a:rPr b="1" lang="en-US" sz="20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0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860400" y="2259000"/>
            <a:ext cx="5189400" cy="489960"/>
            <a:chOff x="860400" y="2259000"/>
            <a:chExt cx="5189400" cy="489960"/>
          </a:xfrm>
        </p:grpSpPr>
        <p:sp>
          <p:nvSpPr>
            <p:cNvPr id="427" name=""/>
            <p:cNvSpPr/>
            <p:nvPr/>
          </p:nvSpPr>
          <p:spPr>
            <a:xfrm>
              <a:off x="860400" y="2259000"/>
              <a:ext cx="378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解</a:t>
              </a:r>
              <a:endParaRPr b="0" lang="en-US" sz="26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25520" y="2259000"/>
              <a:ext cx="4724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①</a:t>
              </a:r>
              <a:r>
                <a:rPr b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+</a:t>
              </a:r>
              <a:r>
                <a:rPr b="1" lang="en-US" sz="2500" spc="-1" strike="noStrike">
                  <a:solidFill>
                    <a:srgbClr val="0000ff"/>
                  </a:solidFill>
                  <a:latin typeface="Times New Roman"/>
                </a:rPr>
                <a:t>②</a:t>
              </a:r>
              <a:r>
                <a:rPr b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</a:t>
              </a: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</a:t>
              </a:r>
              <a:r>
                <a:rPr b="1" lang="zh-CN" sz="2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得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2411280" y="2259000"/>
            <a:ext cx="220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 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9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336280" y="3384000"/>
            <a:ext cx="3015000" cy="492120"/>
          </a:xfrm>
          <a:prstGeom prst="wedgeRoundRectCallout">
            <a:avLst>
              <a:gd name="adj1" fmla="val 82699"/>
              <a:gd name="adj2" fmla="val 217092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61f5b"/>
                </a:solidFill>
                <a:latin typeface="Times New Roman"/>
                <a:ea typeface="黑体"/>
              </a:rPr>
              <a:t>7</a:t>
            </a:r>
            <a:r>
              <a:rPr b="1" i="1" lang="en-US" sz="2200" spc="-1" strike="noStrike">
                <a:solidFill>
                  <a:srgbClr val="061f5b"/>
                </a:solidFill>
                <a:latin typeface="Times New Roman"/>
                <a:ea typeface="黑体"/>
              </a:rPr>
              <a:t>x</a:t>
            </a:r>
            <a:r>
              <a:rPr b="1" lang="en-US" sz="2200" spc="-1" strike="noStrike">
                <a:solidFill>
                  <a:srgbClr val="061f5b"/>
                </a:solidFill>
                <a:latin typeface="Times New Roman"/>
                <a:ea typeface="黑体"/>
              </a:rPr>
              <a:t>+3</a:t>
            </a:r>
            <a:r>
              <a:rPr b="1" i="1" lang="en-US" sz="2200" spc="-1" strike="noStrike">
                <a:solidFill>
                  <a:srgbClr val="061f5b"/>
                </a:solidFill>
                <a:latin typeface="Times New Roman"/>
                <a:ea typeface="黑体"/>
              </a:rPr>
              <a:t>y</a:t>
            </a:r>
            <a:r>
              <a:rPr b="1" lang="en-US" sz="2200" spc="-1" strike="noStrike">
                <a:solidFill>
                  <a:srgbClr val="061f5b"/>
                </a:solidFill>
                <a:latin typeface="Times New Roman"/>
                <a:ea typeface="黑体"/>
              </a:rPr>
              <a:t>+</a:t>
            </a:r>
            <a:r>
              <a:rPr b="1" lang="en-US" sz="2200" spc="-1" strike="noStrike">
                <a:solidFill>
                  <a:srgbClr val="061f5b"/>
                </a:solidFill>
                <a:latin typeface="宋体"/>
              </a:rPr>
              <a:t>(</a:t>
            </a:r>
            <a:r>
              <a:rPr b="1" lang="en-US" sz="2200" spc="-1" strike="noStrike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i="1" lang="en-US" sz="2200" spc="-1" strike="noStrike">
                <a:solidFill>
                  <a:srgbClr val="061f5b"/>
                </a:solidFill>
                <a:latin typeface="Times New Roman"/>
                <a:ea typeface="黑体"/>
              </a:rPr>
              <a:t>x</a:t>
            </a:r>
            <a:r>
              <a:rPr b="1" lang="en-US" sz="2200" spc="-1" strike="noStrike">
                <a:solidFill>
                  <a:srgbClr val="061f5b"/>
                </a:solidFill>
                <a:latin typeface="黑体"/>
                <a:ea typeface="黑体"/>
              </a:rPr>
              <a:t>-</a:t>
            </a:r>
            <a:r>
              <a:rPr b="1" lang="en-US" sz="2200" spc="-1" strike="noStrike">
                <a:solidFill>
                  <a:srgbClr val="061f5b"/>
                </a:solidFill>
                <a:latin typeface="Times New Roman"/>
                <a:ea typeface="黑体"/>
              </a:rPr>
              <a:t>3y</a:t>
            </a:r>
            <a:r>
              <a:rPr b="1" lang="en-US" sz="2200" spc="-1" strike="noStrike">
                <a:solidFill>
                  <a:srgbClr val="061f5b"/>
                </a:solidFill>
                <a:latin typeface="宋体"/>
              </a:rPr>
              <a:t>)</a:t>
            </a:r>
            <a:r>
              <a:rPr b="1" lang="en-US" sz="2200" spc="-1" strike="noStrike">
                <a:solidFill>
                  <a:srgbClr val="061f5b"/>
                </a:solidFill>
                <a:latin typeface="Times New Roman"/>
                <a:ea typeface="黑体"/>
              </a:rPr>
              <a:t>=1+8</a:t>
            </a:r>
            <a:r>
              <a:rPr b="1" lang="zh-CN" sz="22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06640" y="293364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解得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 1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27000" y="3564000"/>
            <a:ext cx="4724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代入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       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 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7×1+3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 1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71640" y="455436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解得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 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11280" y="5138640"/>
            <a:ext cx="5410080" cy="1234800"/>
            <a:chOff x="611280" y="5138640"/>
            <a:chExt cx="5410080" cy="1234800"/>
          </a:xfrm>
        </p:grpSpPr>
        <p:sp>
          <p:nvSpPr>
            <p:cNvPr id="435" name=""/>
            <p:cNvSpPr/>
            <p:nvPr/>
          </p:nvSpPr>
          <p:spPr>
            <a:xfrm>
              <a:off x="611280" y="5138640"/>
              <a:ext cx="54100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因此原方程组的一个解是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2109960" y="5610600"/>
                  <a:ext cx="914400" cy="76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27000" y="279360"/>
            <a:ext cx="22194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106640" y="863640"/>
            <a:ext cx="7875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在上面的方程组中，把方程①减去②，或者把方程①与②相加，便消去了一个未知数。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205200" y="2349360"/>
            <a:ext cx="2521080" cy="1438560"/>
          </a:xfrm>
          <a:prstGeom prst="wedgeRoundRectCallout">
            <a:avLst>
              <a:gd name="adj1" fmla="val 39796"/>
              <a:gd name="adj2" fmla="val -127375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300" spc="-1" strike="noStrike">
                <a:solidFill>
                  <a:srgbClr val="061f5b"/>
                </a:solidFill>
                <a:latin typeface="黑体"/>
                <a:ea typeface="黑体"/>
              </a:rPr>
              <a:t>被消去的未知数系数相等或互为相反数</a:t>
            </a:r>
            <a:r>
              <a:rPr b="1" lang="en-US" sz="23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3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357200" y="279360"/>
            <a:ext cx="77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Times New Roman"/>
                <a:ea typeface="黑体"/>
              </a:rPr>
              <a:t>        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 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上面四个方程组中，是如何消去一个未知数的？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727360" y="2438280"/>
            <a:ext cx="628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消去一个未知数的方法是：如果两个方程中有一个未知数的系数相等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(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或互为相反数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)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，那么把这两个方程相减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(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或相加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)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；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22360" y="1763640"/>
            <a:ext cx="70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被消去的未知数的系数有什么特点？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402000" y="4373640"/>
            <a:ext cx="5580000" cy="1139760"/>
          </a:xfrm>
          <a:prstGeom prst="rect">
            <a:avLst/>
          </a:prstGeom>
          <a:solidFill>
            <a:srgbClr val="ffffcc"/>
          </a:solidFill>
          <a:ln w="28440">
            <a:solidFill>
              <a:srgbClr val="cc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这种解二元一次方程组的方法叫做</a:t>
            </a:r>
            <a:r>
              <a:rPr b="1" lang="zh-CN" sz="2500" spc="-1" strike="noStrike">
                <a:solidFill>
                  <a:srgbClr val="ff0066"/>
                </a:solidFill>
                <a:latin typeface="黑体"/>
                <a:ea typeface="黑体"/>
              </a:rPr>
              <a:t>加减消元法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，简称</a:t>
            </a:r>
            <a:r>
              <a:rPr b="1" lang="zh-CN" sz="2500" spc="-1" strike="noStrike">
                <a:solidFill>
                  <a:srgbClr val="ff0066"/>
                </a:solidFill>
                <a:latin typeface="黑体"/>
                <a:ea typeface="黑体"/>
              </a:rPr>
              <a:t>加减法</a:t>
            </a:r>
            <a:r>
              <a:rPr b="1" lang="zh-CN" sz="2500" spc="-1" strike="noStrike">
                <a:solidFill>
                  <a:srgbClr val="bbe0e3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297000" y="4959360"/>
            <a:ext cx="1574640" cy="15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1"/>
          <p:cNvSpPr/>
          <p:nvPr/>
        </p:nvSpPr>
        <p:spPr>
          <a:xfrm>
            <a:off x="571680" y="92880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用加减法解二元一次方程组：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46" name="图片 2" descr="QQ截图20141118153031.png"/>
          <p:cNvPicPr/>
          <p:nvPr/>
        </p:nvPicPr>
        <p:blipFill>
          <a:blip r:embed="rId1"/>
          <a:stretch/>
        </p:blipFill>
        <p:spPr>
          <a:xfrm>
            <a:off x="0" y="0"/>
            <a:ext cx="2219400" cy="7430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2649600" y="1643040"/>
            <a:ext cx="2397240" cy="1150920"/>
          </a:xfrm>
          <a:prstGeom prst="rect">
            <a:avLst/>
          </a:prstGeom>
          <a:ln w="0">
            <a:noFill/>
          </a:ln>
        </p:spPr>
      </p:pic>
      <p:sp>
        <p:nvSpPr>
          <p:cNvPr id="448" name="TextBox 4"/>
          <p:cNvSpPr/>
          <p:nvPr/>
        </p:nvSpPr>
        <p:spPr>
          <a:xfrm>
            <a:off x="642960" y="350028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分析：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1714680" y="3500280"/>
            <a:ext cx="59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两个方程中没有同一个未知数的系数相同或相反，直接加减这两个方程不能消去任一个未知数，但如果把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①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式两边都乘以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，所得方程与方程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②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中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的系数相同，这样就可以用加减法来解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.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50" name="Text Box 15"/>
          <p:cNvSpPr/>
          <p:nvPr/>
        </p:nvSpPr>
        <p:spPr>
          <a:xfrm>
            <a:off x="5929200" y="16714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①</a:t>
            </a:r>
            <a:endParaRPr b="0" lang="en-US" sz="20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51" name="Text Box 16"/>
          <p:cNvSpPr/>
          <p:nvPr/>
        </p:nvSpPr>
        <p:spPr>
          <a:xfrm>
            <a:off x="5929200" y="23572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②</a:t>
            </a:r>
            <a:endParaRPr b="0" lang="en-US" sz="20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176480" y="1562040"/>
            <a:ext cx="596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解：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微软雅黑"/>
              </a:rPr>
              <a:t>①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×3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，得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6x+9y=-33.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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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得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-14y=42,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解得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y=-3.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把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y=-3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代入</a:t>
            </a:r>
            <a:r>
              <a:rPr b="0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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式，得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2x+3×(-3)=-11,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解得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x=-1.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因此原方程的解是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4302000" y="4103640"/>
            <a:ext cx="19782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23:32:55Z</dcterms:created>
  <dc:creator>www.czsx.com.cn</dc:creator>
  <dc:description>www.czsx.com.cn</dc:description>
  <cp:keywords>www.czsx.com.cn</cp:keywords>
  <dc:language>en-US</dc:language>
  <cp:lastModifiedBy>pc</cp:lastModifiedBy>
  <dcterms:modified xsi:type="dcterms:W3CDTF">2014-11-28T02:13:17Z</dcterms:modified>
  <cp:revision>172</cp:revision>
  <dc:subject>www.czsx.com.cn</dc:subject>
  <dc:title>www.czsx.com.c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