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8.gif" ContentType="image/gif"/>
  <Override PartName="/ppt/media/chimes.wav" ContentType="audio/x-wav"/>
  <Override PartName="/ppt/media/type.wav" ContentType="audio/x-wav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7AA-192B-466D-8238-8887F907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AD2-E23D-4104-BD70-DE1B05F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958-7BE7-4D0E-B27E-01FB147A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318-1505-494E-86CE-19126AAE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8D52-9B90-4ECC-8FBD-C0137FA8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B48-7FB9-4942-B695-FDEBAE31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D6BD-257E-4BAB-9ADD-B5461738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4BE1-59A5-4C63-A6FF-2716ACA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E35-6DFB-46BA-9F07-10C5F73E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706-591D-4B89-AA4C-2866495A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4C9B-1169-449A-B064-B982DC3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443-6BF6-4608-8B3F-E5AE740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372-CE6F-4CC3-B173-D7B417E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55D-612A-40E1-836E-28893BE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DB78-A4B7-4CB6-9E5C-4527A757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6911-D287-4C9D-BFE7-08E1CED7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4B2-A42B-4594-BEC0-8F295886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FF64-8346-488A-A8CC-FD384A81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2805-7AFE-400F-AEEC-2D510186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1D4F-432B-4177-B8AA-894A387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EE24-A492-4EAE-95F6-DC960F1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74F4-769B-4B09-ABC5-C56627A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0A1-7314-4601-9AAF-61689156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DAE5-5E76-404E-B7F3-AA88E87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31AA-CA79-47BE-8951-64EA838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7A16-2FF3-4AE9-A7AA-FA3206C6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B2F9-546A-4C8D-987E-564A125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2CF4-8689-4A69-AC6A-280AC90A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46FD-79B5-4D59-A809-10F447E6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AB90-71A0-4E34-93F0-CF119BF6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E358-7525-4515-A177-38DD60FF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2757-BD33-411E-B919-631024E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CF90-3869-428A-AF54-9B798FB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238-11FA-484A-AA0B-852E859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2B5F-A076-4E34-A35A-620038E7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3C0B-8888-42B8-91CE-BD3207C5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DEE5-FD46-4305-A979-B8D1C25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C644-59B2-4A96-B23E-990B9E6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571A-AB0E-4F22-9DC8-3E9B8E8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0145-C896-415F-9053-29BF1FB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C11D-0AFA-4842-8AEC-0270842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F9AD-BAD4-4FA9-B721-EC2783F0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9102-98D6-4E91-9428-0ABCB2B4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A03-28A3-4704-A912-0AD89264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D2F-2D37-4D49-8C85-6FF6B58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B3F-2509-49E6-8C2D-957CABB3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D36-661B-4853-9565-C880EAE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F89-FCD7-43B0-8DD6-5C2E515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3CE-AB4D-4485-8FBC-6706D29C3D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F07-68E7-4755-9A53-BF9EF9B645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3AA0-27A5-4E5B-AB3E-BCAA2841E8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04D3-A8FB-4741-A13D-BBDD335B9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E13CE6-B98D-4374-915F-891261639A53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83064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3132000" y="2276640"/>
            <a:ext cx="5113080" cy="2132280"/>
            <a:chOff x="3132000" y="2276640"/>
            <a:chExt cx="5113080" cy="2132280"/>
          </a:xfrm>
        </p:grpSpPr>
        <p:sp>
          <p:nvSpPr>
            <p:cNvPr id="1013" name=""/>
            <p:cNvSpPr txBox="1"/>
            <p:nvPr/>
          </p:nvSpPr>
          <p:spPr>
            <a:xfrm>
              <a:off x="3132000" y="2276640"/>
              <a:ext cx="466704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32000" y="3644640"/>
              <a:ext cx="511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消元法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84360" y="2349360"/>
            <a:ext cx="2160360" cy="1387440"/>
            <a:chOff x="684360" y="2349360"/>
            <a:chExt cx="2160360" cy="1387440"/>
          </a:xfrm>
        </p:grpSpPr>
        <p:sp>
          <p:nvSpPr>
            <p:cNvPr id="1016" name=""/>
            <p:cNvSpPr/>
            <p:nvPr/>
          </p:nvSpPr>
          <p:spPr>
            <a:xfrm>
              <a:off x="828720" y="3357360"/>
              <a:ext cx="2016000" cy="379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52640" y="2349360"/>
              <a:ext cx="1644480" cy="128124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25640" y="2351160"/>
              <a:ext cx="1670040" cy="13032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52640" y="2351160"/>
              <a:ext cx="1643040" cy="12776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81080" y="2376360"/>
              <a:ext cx="1587600" cy="122868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23920" y="2417760"/>
              <a:ext cx="1500120" cy="114444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3920" y="2415960"/>
              <a:ext cx="1501920" cy="114804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44800" y="2438280"/>
              <a:ext cx="1455480" cy="110484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43000" y="2436840"/>
              <a:ext cx="1459080" cy="110808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4800" y="2743200"/>
              <a:ext cx="1455480" cy="7984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44800" y="2738160"/>
              <a:ext cx="1455480" cy="8049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19400" y="2695320"/>
              <a:ext cx="1089000" cy="223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19400" y="2914560"/>
              <a:ext cx="885600" cy="2052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9400" y="3132000"/>
              <a:ext cx="887400" cy="2052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2874960"/>
              <a:ext cx="266760" cy="35856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41520" y="2874960"/>
              <a:ext cx="14400" cy="35856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90680" y="3495600"/>
              <a:ext cx="192240" cy="5400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89240" y="3494160"/>
              <a:ext cx="19512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92120" y="3514680"/>
              <a:ext cx="190800" cy="3312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90680" y="3512880"/>
              <a:ext cx="192240" cy="367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49520" y="3495600"/>
              <a:ext cx="193680" cy="5400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7720" y="3494160"/>
              <a:ext cx="19548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50960" y="3514680"/>
              <a:ext cx="192240" cy="3312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9520" y="3512880"/>
              <a:ext cx="193680" cy="367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86200" y="3375000"/>
              <a:ext cx="320400" cy="19512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82960" y="3373200"/>
              <a:ext cx="325440" cy="20016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87640" y="3387600"/>
              <a:ext cx="264960" cy="15876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86200" y="3384360"/>
              <a:ext cx="53640" cy="16524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06720" y="3395520"/>
              <a:ext cx="322200" cy="19548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04920" y="3394080"/>
              <a:ext cx="325440" cy="19836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8160" y="3433680"/>
              <a:ext cx="90720" cy="15552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6720" y="3432240"/>
              <a:ext cx="100080" cy="15876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3080" y="3449520"/>
              <a:ext cx="144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16320" y="3449520"/>
              <a:ext cx="12600" cy="3636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7240" y="3413160"/>
              <a:ext cx="301680" cy="17784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7240" y="3411360"/>
              <a:ext cx="303120" cy="18108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0480" y="3417840"/>
              <a:ext cx="128520" cy="17136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27240" y="3425760"/>
              <a:ext cx="114480" cy="16524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40000" y="3557520"/>
              <a:ext cx="50760" cy="3168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0000" y="3570120"/>
              <a:ext cx="52560" cy="208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1720" y="3413160"/>
              <a:ext cx="99720" cy="18576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1720" y="3411360"/>
              <a:ext cx="99720" cy="18756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52880" y="3413160"/>
              <a:ext cx="101520" cy="18576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52880" y="3411360"/>
              <a:ext cx="102960" cy="18900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5760" y="3512880"/>
              <a:ext cx="96840" cy="860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2880" y="3511440"/>
              <a:ext cx="101520" cy="874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4360" y="3301920"/>
              <a:ext cx="539640" cy="3492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24000" y="3247920"/>
              <a:ext cx="106200" cy="11592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81240" y="2631960"/>
              <a:ext cx="612720" cy="66672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44640" y="2636640"/>
              <a:ext cx="50760" cy="6048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9600" y="2639880"/>
              <a:ext cx="139680" cy="16668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00320" y="2647800"/>
              <a:ext cx="583920" cy="64944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1000" y="3330360"/>
              <a:ext cx="42840" cy="4284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6840" y="3309840"/>
              <a:ext cx="60480" cy="4932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6440" y="3257280"/>
              <a:ext cx="63720" cy="4608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29120" y="258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本节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5240" y="29257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.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"/>
          <p:cNvGrpSpPr/>
          <p:nvPr/>
        </p:nvGrpSpPr>
        <p:grpSpPr>
          <a:xfrm>
            <a:off x="179280" y="133200"/>
            <a:ext cx="2476440" cy="691920"/>
            <a:chOff x="179280" y="133200"/>
            <a:chExt cx="2476440" cy="691920"/>
          </a:xfrm>
        </p:grpSpPr>
        <p:sp>
          <p:nvSpPr>
            <p:cNvPr id="1346" name=""/>
            <p:cNvSpPr/>
            <p:nvPr/>
          </p:nvSpPr>
          <p:spPr>
            <a:xfrm>
              <a:off x="179280" y="13320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89600" y="5371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225720" y="174240"/>
              <a:ext cx="518400" cy="518040"/>
              <a:chOff x="225720" y="174240"/>
              <a:chExt cx="518400" cy="51804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260640" y="229680"/>
                <a:ext cx="483480" cy="462600"/>
                <a:chOff x="260640" y="229680"/>
                <a:chExt cx="483480" cy="4626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288360" y="2296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260640" y="291240"/>
                  <a:ext cx="483480" cy="401040"/>
                  <a:chOff x="260640" y="291240"/>
                  <a:chExt cx="483480" cy="401040"/>
                </a:xfrm>
              </p:grpSpPr>
              <p:sp>
                <p:nvSpPr>
                  <p:cNvPr id="1352" name="未知"/>
                  <p:cNvSpPr/>
                  <p:nvPr/>
                </p:nvSpPr>
                <p:spPr>
                  <a:xfrm>
                    <a:off x="260640" y="3934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未知"/>
                  <p:cNvSpPr/>
                  <p:nvPr/>
                </p:nvSpPr>
                <p:spPr>
                  <a:xfrm>
                    <a:off x="260640" y="3582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未知"/>
                  <p:cNvSpPr/>
                  <p:nvPr/>
                </p:nvSpPr>
                <p:spPr>
                  <a:xfrm>
                    <a:off x="294120" y="4194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未知"/>
                  <p:cNvSpPr/>
                  <p:nvPr/>
                </p:nvSpPr>
                <p:spPr>
                  <a:xfrm>
                    <a:off x="416520" y="4806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未知"/>
                  <p:cNvSpPr/>
                  <p:nvPr/>
                </p:nvSpPr>
                <p:spPr>
                  <a:xfrm>
                    <a:off x="406080" y="5731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未知"/>
                  <p:cNvSpPr/>
                  <p:nvPr/>
                </p:nvSpPr>
                <p:spPr>
                  <a:xfrm>
                    <a:off x="311760" y="5691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未知"/>
                  <p:cNvSpPr/>
                  <p:nvPr/>
                </p:nvSpPr>
                <p:spPr>
                  <a:xfrm>
                    <a:off x="563760" y="4885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未知"/>
                  <p:cNvSpPr/>
                  <p:nvPr/>
                </p:nvSpPr>
                <p:spPr>
                  <a:xfrm>
                    <a:off x="532080" y="2912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未知"/>
                  <p:cNvSpPr/>
                  <p:nvPr/>
                </p:nvSpPr>
                <p:spPr>
                  <a:xfrm>
                    <a:off x="547920" y="3096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225720" y="174240"/>
                <a:ext cx="243720" cy="147960"/>
                <a:chOff x="225720" y="174240"/>
                <a:chExt cx="243720" cy="147960"/>
              </a:xfrm>
            </p:grpSpPr>
            <p:sp>
              <p:nvSpPr>
                <p:cNvPr id="1362" name="未知"/>
                <p:cNvSpPr/>
                <p:nvPr/>
              </p:nvSpPr>
              <p:spPr>
                <a:xfrm>
                  <a:off x="225720" y="2358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未知"/>
                <p:cNvSpPr/>
                <p:nvPr/>
              </p:nvSpPr>
              <p:spPr>
                <a:xfrm>
                  <a:off x="296280" y="1742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未知"/>
                <p:cNvSpPr/>
                <p:nvPr/>
              </p:nvSpPr>
              <p:spPr>
                <a:xfrm>
                  <a:off x="398880" y="1926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5" name=""/>
            <p:cNvSpPr txBox="1"/>
            <p:nvPr/>
          </p:nvSpPr>
          <p:spPr>
            <a:xfrm>
              <a:off x="785160" y="1753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训练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02400" y="4579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1330560" y="765000"/>
            <a:ext cx="64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在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，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441080" y="162864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已知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-4=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381440" y="69228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5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7667640" y="1125360"/>
            <a:ext cx="863640" cy="1025280"/>
            <a:chOff x="7667640" y="1125360"/>
            <a:chExt cx="863640" cy="1025280"/>
          </a:xfrm>
        </p:grpSpPr>
        <p:sp>
          <p:nvSpPr>
            <p:cNvPr id="1371" name=""/>
            <p:cNvSpPr/>
            <p:nvPr/>
          </p:nvSpPr>
          <p:spPr>
            <a:xfrm>
              <a:off x="7667640" y="163008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68720" y="1125360"/>
              <a:ext cx="8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x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956360" y="163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3944880" y="1916280"/>
            <a:ext cx="867960" cy="850320"/>
            <a:chOff x="3944880" y="1916280"/>
            <a:chExt cx="867960" cy="850320"/>
          </a:xfrm>
        </p:grpSpPr>
        <p:sp>
          <p:nvSpPr>
            <p:cNvPr id="1375" name=""/>
            <p:cNvSpPr/>
            <p:nvPr/>
          </p:nvSpPr>
          <p:spPr>
            <a:xfrm>
              <a:off x="3944880" y="237024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944880" y="1916280"/>
              <a:ext cx="867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3y+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33240" y="227664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395280" y="2852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若方程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解也是方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则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40436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060000" y="3284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79280" y="400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已知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互为相反数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=_____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；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相等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 _______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8544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900720" y="44388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7381440" y="4221000"/>
            <a:ext cx="384840" cy="1014840"/>
            <a:chOff x="7381440" y="4221000"/>
            <a:chExt cx="384840" cy="1014840"/>
          </a:xfrm>
        </p:grpSpPr>
        <p:sp>
          <p:nvSpPr>
            <p:cNvPr id="1385" name=""/>
            <p:cNvSpPr/>
            <p:nvPr/>
          </p:nvSpPr>
          <p:spPr>
            <a:xfrm>
              <a:off x="7451640" y="4725720"/>
              <a:ext cx="289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8144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81440" y="4654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250920" y="5300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如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+4)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－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那么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=___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=___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597080" y="530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373080" y="5229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1" name=""/>
          <p:cNvGrpSpPr/>
          <p:nvPr/>
        </p:nvGrpSpPr>
        <p:grpSpPr>
          <a:xfrm>
            <a:off x="4716360" y="765000"/>
            <a:ext cx="3246480" cy="1008000"/>
            <a:chOff x="4716360" y="765000"/>
            <a:chExt cx="3246480" cy="1008000"/>
          </a:xfrm>
        </p:grpSpPr>
        <p:sp>
          <p:nvSpPr>
            <p:cNvPr id="1392" name=""/>
            <p:cNvSpPr/>
            <p:nvPr/>
          </p:nvSpPr>
          <p:spPr>
            <a:xfrm>
              <a:off x="5445000" y="765000"/>
              <a:ext cx="25178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+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5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1009440"/>
              <a:ext cx="674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302080" y="1052280"/>
              <a:ext cx="144360" cy="5144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3320 h 514440"/>
                <a:gd name="textAreaBottom" fmla="*/ 50112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468360" y="765000"/>
            <a:ext cx="3389400" cy="935280"/>
            <a:chOff x="468360" y="765000"/>
            <a:chExt cx="3389400" cy="935280"/>
          </a:xfrm>
        </p:grpSpPr>
        <p:sp>
          <p:nvSpPr>
            <p:cNvPr id="1396" name=""/>
            <p:cNvSpPr/>
            <p:nvPr/>
          </p:nvSpPr>
          <p:spPr>
            <a:xfrm>
              <a:off x="1220760" y="1014480"/>
              <a:ext cx="144360" cy="549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32000" y="765000"/>
              <a:ext cx="25257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360" y="1052640"/>
              <a:ext cx="658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611280" y="4581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你认为具有什么特征的方程用代入法比较方便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11280" y="5805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哪个未知数的代数式表示另一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90800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代入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24000" y="2852640"/>
            <a:ext cx="2832120" cy="1025280"/>
            <a:chOff x="324000" y="2852640"/>
            <a:chExt cx="2832120" cy="1025280"/>
          </a:xfrm>
        </p:grpSpPr>
        <p:sp>
          <p:nvSpPr>
            <p:cNvPr id="1403" name=""/>
            <p:cNvSpPr/>
            <p:nvPr/>
          </p:nvSpPr>
          <p:spPr>
            <a:xfrm>
              <a:off x="1336680" y="3141360"/>
              <a:ext cx="73080" cy="5749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03280" y="285264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32000" y="335736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4000" y="3141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356000" y="2637000"/>
            <a:ext cx="3099960" cy="1096560"/>
            <a:chOff x="4356000" y="2637000"/>
            <a:chExt cx="3099960" cy="1096560"/>
          </a:xfrm>
        </p:grpSpPr>
        <p:sp>
          <p:nvSpPr>
            <p:cNvPr id="1408" name=""/>
            <p:cNvSpPr/>
            <p:nvPr/>
          </p:nvSpPr>
          <p:spPr>
            <a:xfrm>
              <a:off x="5368680" y="2968560"/>
              <a:ext cx="72720" cy="575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4760 h 575640"/>
                <a:gd name="textAreaBottom" fmla="*/ 56088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68680" y="321300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56000" y="2997000"/>
              <a:ext cx="136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5427720" y="2637000"/>
              <a:ext cx="1492920" cy="744120"/>
              <a:chOff x="5427720" y="2637000"/>
              <a:chExt cx="1492920" cy="744120"/>
            </a:xfrm>
          </p:grpSpPr>
          <p:grpSp>
            <p:nvGrpSpPr>
              <p:cNvPr id="1412" name=""/>
              <p:cNvGrpSpPr/>
              <p:nvPr/>
            </p:nvGrpSpPr>
            <p:grpSpPr>
              <a:xfrm>
                <a:off x="6018480" y="2637000"/>
                <a:ext cx="390240" cy="744120"/>
                <a:chOff x="6018480" y="2637000"/>
                <a:chExt cx="390240" cy="7441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6030000" y="2637000"/>
                  <a:ext cx="3787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018480" y="297036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050520" y="301320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5427720" y="2751120"/>
                <a:ext cx="149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m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     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7" name=""/>
          <p:cNvGrpSpPr/>
          <p:nvPr/>
        </p:nvGrpSpPr>
        <p:grpSpPr>
          <a:xfrm>
            <a:off x="1332000" y="1700280"/>
            <a:ext cx="1152360" cy="947160"/>
            <a:chOff x="1332000" y="1700280"/>
            <a:chExt cx="1152360" cy="947160"/>
          </a:xfrm>
        </p:grpSpPr>
        <p:sp>
          <p:nvSpPr>
            <p:cNvPr id="1418" name=""/>
            <p:cNvSpPr/>
            <p:nvPr/>
          </p:nvSpPr>
          <p:spPr>
            <a:xfrm>
              <a:off x="1411200" y="1700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32000" y="1985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796000" y="1773360"/>
            <a:ext cx="1152360" cy="947160"/>
            <a:chOff x="5796000" y="1773360"/>
            <a:chExt cx="1152360" cy="947160"/>
          </a:xfrm>
        </p:grpSpPr>
        <p:sp>
          <p:nvSpPr>
            <p:cNvPr id="1421" name=""/>
            <p:cNvSpPr/>
            <p:nvPr/>
          </p:nvSpPr>
          <p:spPr>
            <a:xfrm>
              <a:off x="5875200" y="177336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96000" y="205884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2340000" y="3716280"/>
            <a:ext cx="1152360" cy="947160"/>
            <a:chOff x="2340000" y="3716280"/>
            <a:chExt cx="1152360" cy="947160"/>
          </a:xfrm>
        </p:grpSpPr>
        <p:sp>
          <p:nvSpPr>
            <p:cNvPr id="1424" name=""/>
            <p:cNvSpPr/>
            <p:nvPr/>
          </p:nvSpPr>
          <p:spPr>
            <a:xfrm>
              <a:off x="2419200" y="3716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340000" y="4001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5651640" y="3716280"/>
            <a:ext cx="1152360" cy="947160"/>
            <a:chOff x="5651640" y="3716280"/>
            <a:chExt cx="1152360" cy="947160"/>
          </a:xfrm>
        </p:grpSpPr>
        <p:sp>
          <p:nvSpPr>
            <p:cNvPr id="1427" name=""/>
            <p:cNvSpPr/>
            <p:nvPr/>
          </p:nvSpPr>
          <p:spPr>
            <a:xfrm>
              <a:off x="5730840" y="3716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51640" y="4001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5152680" y="281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你会解下列各方程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79280" y="260280"/>
            <a:ext cx="2476440" cy="691920"/>
            <a:chOff x="179280" y="260280"/>
            <a:chExt cx="2476440" cy="691920"/>
          </a:xfrm>
        </p:grpSpPr>
        <p:sp>
          <p:nvSpPr>
            <p:cNvPr id="1431" name=""/>
            <p:cNvSpPr/>
            <p:nvPr/>
          </p:nvSpPr>
          <p:spPr>
            <a:xfrm>
              <a:off x="179280" y="26028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9600" y="66420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225720" y="301320"/>
              <a:ext cx="518400" cy="518040"/>
              <a:chOff x="225720" y="301320"/>
              <a:chExt cx="518400" cy="51804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260640" y="356760"/>
                <a:ext cx="483480" cy="462600"/>
                <a:chOff x="260640" y="356760"/>
                <a:chExt cx="483480" cy="4626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288360" y="35676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6" name=""/>
                <p:cNvGrpSpPr/>
                <p:nvPr/>
              </p:nvGrpSpPr>
              <p:grpSpPr>
                <a:xfrm>
                  <a:off x="260640" y="418320"/>
                  <a:ext cx="483480" cy="401040"/>
                  <a:chOff x="260640" y="418320"/>
                  <a:chExt cx="483480" cy="401040"/>
                </a:xfrm>
              </p:grpSpPr>
              <p:sp>
                <p:nvSpPr>
                  <p:cNvPr id="1437" name="未知"/>
                  <p:cNvSpPr/>
                  <p:nvPr/>
                </p:nvSpPr>
                <p:spPr>
                  <a:xfrm>
                    <a:off x="260640" y="52056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未知"/>
                  <p:cNvSpPr/>
                  <p:nvPr/>
                </p:nvSpPr>
                <p:spPr>
                  <a:xfrm>
                    <a:off x="260640" y="48528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未知"/>
                  <p:cNvSpPr/>
                  <p:nvPr/>
                </p:nvSpPr>
                <p:spPr>
                  <a:xfrm>
                    <a:off x="294120" y="54648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未知"/>
                  <p:cNvSpPr/>
                  <p:nvPr/>
                </p:nvSpPr>
                <p:spPr>
                  <a:xfrm>
                    <a:off x="416520" y="60768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未知"/>
                  <p:cNvSpPr/>
                  <p:nvPr/>
                </p:nvSpPr>
                <p:spPr>
                  <a:xfrm>
                    <a:off x="406080" y="70020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未知"/>
                  <p:cNvSpPr/>
                  <p:nvPr/>
                </p:nvSpPr>
                <p:spPr>
                  <a:xfrm>
                    <a:off x="311760" y="69624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未知"/>
                  <p:cNvSpPr/>
                  <p:nvPr/>
                </p:nvSpPr>
                <p:spPr>
                  <a:xfrm>
                    <a:off x="563760" y="61560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未知"/>
                  <p:cNvSpPr/>
                  <p:nvPr/>
                </p:nvSpPr>
                <p:spPr>
                  <a:xfrm>
                    <a:off x="532080" y="41832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未知"/>
                  <p:cNvSpPr/>
                  <p:nvPr/>
                </p:nvSpPr>
                <p:spPr>
                  <a:xfrm>
                    <a:off x="547920" y="43668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"/>
              <p:cNvGrpSpPr/>
              <p:nvPr/>
            </p:nvGrpSpPr>
            <p:grpSpPr>
              <a:xfrm>
                <a:off x="225720" y="301320"/>
                <a:ext cx="243720" cy="147960"/>
                <a:chOff x="225720" y="301320"/>
                <a:chExt cx="243720" cy="147960"/>
              </a:xfrm>
            </p:grpSpPr>
            <p:sp>
              <p:nvSpPr>
                <p:cNvPr id="1447" name="未知"/>
                <p:cNvSpPr/>
                <p:nvPr/>
              </p:nvSpPr>
              <p:spPr>
                <a:xfrm>
                  <a:off x="225720" y="36288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未知"/>
                <p:cNvSpPr/>
                <p:nvPr/>
              </p:nvSpPr>
              <p:spPr>
                <a:xfrm>
                  <a:off x="296280" y="30132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未知"/>
                <p:cNvSpPr/>
                <p:nvPr/>
              </p:nvSpPr>
              <p:spPr>
                <a:xfrm>
                  <a:off x="398880" y="31968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"/>
            <p:cNvSpPr txBox="1"/>
            <p:nvPr/>
          </p:nvSpPr>
          <p:spPr>
            <a:xfrm>
              <a:off x="785160" y="30240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能力提升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02400" y="58500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129960" y="765000"/>
            <a:ext cx="3610080" cy="1442880"/>
            <a:chOff x="129960" y="765000"/>
            <a:chExt cx="3610080" cy="1442880"/>
          </a:xfrm>
        </p:grpSpPr>
        <p:sp>
          <p:nvSpPr>
            <p:cNvPr id="1453" name=""/>
            <p:cNvSpPr/>
            <p:nvPr/>
          </p:nvSpPr>
          <p:spPr>
            <a:xfrm>
              <a:off x="901440" y="947880"/>
              <a:ext cx="2838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5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      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043640" y="765000"/>
              <a:ext cx="369000" cy="828360"/>
              <a:chOff x="1043640" y="765000"/>
              <a:chExt cx="369000" cy="828360"/>
            </a:xfrm>
          </p:grpSpPr>
          <p:sp>
            <p:nvSpPr>
              <p:cNvPr id="1455" name=""/>
              <p:cNvSpPr/>
              <p:nvPr/>
            </p:nvSpPr>
            <p:spPr>
              <a:xfrm>
                <a:off x="1065960" y="765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43640" y="11034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64880" y="119700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1043640" y="1379520"/>
              <a:ext cx="369000" cy="828360"/>
              <a:chOff x="1043640" y="1379520"/>
              <a:chExt cx="369000" cy="828360"/>
            </a:xfrm>
          </p:grpSpPr>
          <p:sp>
            <p:nvSpPr>
              <p:cNvPr id="1459" name=""/>
              <p:cNvSpPr/>
              <p:nvPr/>
            </p:nvSpPr>
            <p:spPr>
              <a:xfrm>
                <a:off x="1065960" y="13795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43640" y="17179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64880" y="181152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1669320" y="770040"/>
              <a:ext cx="349560" cy="828000"/>
              <a:chOff x="1669320" y="770040"/>
              <a:chExt cx="349560" cy="828000"/>
            </a:xfrm>
          </p:grpSpPr>
          <p:sp>
            <p:nvSpPr>
              <p:cNvPr id="1463" name=""/>
              <p:cNvSpPr/>
              <p:nvPr/>
            </p:nvSpPr>
            <p:spPr>
              <a:xfrm>
                <a:off x="1692000" y="770040"/>
                <a:ext cx="32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69320" y="110808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90560" y="120168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669320" y="1379520"/>
              <a:ext cx="349560" cy="828360"/>
              <a:chOff x="1669320" y="1379520"/>
              <a:chExt cx="349560" cy="828360"/>
            </a:xfrm>
          </p:grpSpPr>
          <p:sp>
            <p:nvSpPr>
              <p:cNvPr id="1467" name=""/>
              <p:cNvSpPr/>
              <p:nvPr/>
            </p:nvSpPr>
            <p:spPr>
              <a:xfrm>
                <a:off x="1692000" y="1379520"/>
                <a:ext cx="32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669320" y="17179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690560" y="181152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826920" y="1163520"/>
              <a:ext cx="215640" cy="863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9960" y="1341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091040" y="981000"/>
            <a:ext cx="4600080" cy="1025640"/>
            <a:chOff x="4091040" y="981000"/>
            <a:chExt cx="4600080" cy="1025640"/>
          </a:xfrm>
        </p:grpSpPr>
        <p:sp>
          <p:nvSpPr>
            <p:cNvPr id="1473" name=""/>
            <p:cNvSpPr/>
            <p:nvPr/>
          </p:nvSpPr>
          <p:spPr>
            <a:xfrm>
              <a:off x="4884480" y="981000"/>
              <a:ext cx="361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4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=5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            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92400" y="1486080"/>
              <a:ext cx="37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=4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+18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03480" y="1197000"/>
              <a:ext cx="142560" cy="64944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6920 h 649440"/>
                <a:gd name="textAreaBottom" fmla="*/ 63252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91040" y="1235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24000" y="2349360"/>
            <a:ext cx="8280360" cy="922320"/>
            <a:chOff x="324000" y="2349360"/>
            <a:chExt cx="8280360" cy="922320"/>
          </a:xfrm>
        </p:grpSpPr>
        <p:sp>
          <p:nvSpPr>
            <p:cNvPr id="1478" name=""/>
            <p:cNvSpPr/>
            <p:nvPr/>
          </p:nvSpPr>
          <p:spPr>
            <a:xfrm>
              <a:off x="324000" y="2565360"/>
              <a:ext cx="82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方程         的解是     ，求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值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2411280" y="2354040"/>
              <a:ext cx="1514520" cy="917640"/>
              <a:chOff x="2411280" y="2354040"/>
              <a:chExt cx="1514520" cy="917640"/>
            </a:xfrm>
          </p:grpSpPr>
          <p:sp>
            <p:nvSpPr>
              <p:cNvPr id="1480" name=""/>
              <p:cNvSpPr/>
              <p:nvPr/>
            </p:nvSpPr>
            <p:spPr>
              <a:xfrm>
                <a:off x="2469600" y="235404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x+by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445840" y="275112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x+ay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11280" y="2601720"/>
                <a:ext cx="73080" cy="50328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5076720" y="2349360"/>
              <a:ext cx="1012680" cy="825120"/>
              <a:chOff x="5076720" y="2349360"/>
              <a:chExt cx="1012680" cy="825120"/>
            </a:xfrm>
          </p:grpSpPr>
          <p:sp>
            <p:nvSpPr>
              <p:cNvPr id="1484" name=""/>
              <p:cNvSpPr/>
              <p:nvPr/>
            </p:nvSpPr>
            <p:spPr>
              <a:xfrm>
                <a:off x="5154480" y="2349360"/>
                <a:ext cx="93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143320" y="2653920"/>
                <a:ext cx="93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076720" y="25668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973080" y="4149720"/>
            <a:ext cx="7271640" cy="1358640"/>
            <a:chOff x="973080" y="4149720"/>
            <a:chExt cx="7271640" cy="1358640"/>
          </a:xfrm>
        </p:grpSpPr>
        <p:sp>
          <p:nvSpPr>
            <p:cNvPr id="1488" name=""/>
            <p:cNvSpPr/>
            <p:nvPr/>
          </p:nvSpPr>
          <p:spPr>
            <a:xfrm>
              <a:off x="973080" y="4219920"/>
              <a:ext cx="66164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解和方程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解相同，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求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(a+b)</a:t>
              </a:r>
              <a:r>
                <a:rPr b="1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2008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值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2339640" y="4149720"/>
              <a:ext cx="2088720" cy="861840"/>
              <a:chOff x="2339640" y="4149720"/>
              <a:chExt cx="2088720" cy="861840"/>
            </a:xfrm>
          </p:grpSpPr>
          <p:sp>
            <p:nvSpPr>
              <p:cNvPr id="1490" name=""/>
              <p:cNvSpPr/>
              <p:nvPr/>
            </p:nvSpPr>
            <p:spPr>
              <a:xfrm>
                <a:off x="2426760" y="414972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417040" y="449100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339640" y="4303800"/>
                <a:ext cx="144360" cy="576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6156000" y="4149720"/>
              <a:ext cx="2088720" cy="861840"/>
              <a:chOff x="6156000" y="4149720"/>
              <a:chExt cx="2088720" cy="861840"/>
            </a:xfrm>
          </p:grpSpPr>
          <p:sp>
            <p:nvSpPr>
              <p:cNvPr id="1494" name=""/>
              <p:cNvSpPr/>
              <p:nvPr/>
            </p:nvSpPr>
            <p:spPr>
              <a:xfrm>
                <a:off x="6243120" y="414972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233400" y="449100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156000" y="4303800"/>
                <a:ext cx="144360" cy="576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"/>
          <p:cNvGrpSpPr/>
          <p:nvPr/>
        </p:nvGrpSpPr>
        <p:grpSpPr>
          <a:xfrm>
            <a:off x="252360" y="44280"/>
            <a:ext cx="2476440" cy="647640"/>
            <a:chOff x="252360" y="44280"/>
            <a:chExt cx="2476440" cy="647640"/>
          </a:xfrm>
        </p:grpSpPr>
        <p:sp>
          <p:nvSpPr>
            <p:cNvPr id="1498" name=""/>
            <p:cNvSpPr/>
            <p:nvPr/>
          </p:nvSpPr>
          <p:spPr>
            <a:xfrm>
              <a:off x="252360" y="4428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2680" y="50364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298800" y="91080"/>
              <a:ext cx="518400" cy="589320"/>
              <a:chOff x="298800" y="91080"/>
              <a:chExt cx="518400" cy="58932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333720" y="154080"/>
                <a:ext cx="483480" cy="526320"/>
                <a:chOff x="333720" y="154080"/>
                <a:chExt cx="483480" cy="5263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361440" y="15408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333720" y="223920"/>
                  <a:ext cx="483480" cy="456480"/>
                  <a:chOff x="333720" y="223920"/>
                  <a:chExt cx="483480" cy="456480"/>
                </a:xfrm>
              </p:grpSpPr>
              <p:sp>
                <p:nvSpPr>
                  <p:cNvPr id="1504" name="未知"/>
                  <p:cNvSpPr/>
                  <p:nvPr/>
                </p:nvSpPr>
                <p:spPr>
                  <a:xfrm>
                    <a:off x="333720" y="34020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未知"/>
                  <p:cNvSpPr/>
                  <p:nvPr/>
                </p:nvSpPr>
                <p:spPr>
                  <a:xfrm>
                    <a:off x="333720" y="30024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未知"/>
                  <p:cNvSpPr/>
                  <p:nvPr/>
                </p:nvSpPr>
                <p:spPr>
                  <a:xfrm>
                    <a:off x="367200" y="37008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未知"/>
                  <p:cNvSpPr/>
                  <p:nvPr/>
                </p:nvSpPr>
                <p:spPr>
                  <a:xfrm>
                    <a:off x="489600" y="43956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未知"/>
                  <p:cNvSpPr/>
                  <p:nvPr/>
                </p:nvSpPr>
                <p:spPr>
                  <a:xfrm>
                    <a:off x="479160" y="54468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未知"/>
                  <p:cNvSpPr/>
                  <p:nvPr/>
                </p:nvSpPr>
                <p:spPr>
                  <a:xfrm>
                    <a:off x="384840" y="54000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未知"/>
                  <p:cNvSpPr/>
                  <p:nvPr/>
                </p:nvSpPr>
                <p:spPr>
                  <a:xfrm>
                    <a:off x="636840" y="44856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未知"/>
                  <p:cNvSpPr/>
                  <p:nvPr/>
                </p:nvSpPr>
                <p:spPr>
                  <a:xfrm>
                    <a:off x="605160" y="22392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未知"/>
                  <p:cNvSpPr/>
                  <p:nvPr/>
                </p:nvSpPr>
                <p:spPr>
                  <a:xfrm>
                    <a:off x="621000" y="24480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98800" y="91080"/>
                <a:ext cx="243720" cy="168120"/>
                <a:chOff x="298800" y="91080"/>
                <a:chExt cx="243720" cy="168120"/>
              </a:xfrm>
            </p:grpSpPr>
            <p:sp>
              <p:nvSpPr>
                <p:cNvPr id="1514" name="未知"/>
                <p:cNvSpPr/>
                <p:nvPr/>
              </p:nvSpPr>
              <p:spPr>
                <a:xfrm>
                  <a:off x="298800" y="16092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未知"/>
                <p:cNvSpPr/>
                <p:nvPr/>
              </p:nvSpPr>
              <p:spPr>
                <a:xfrm>
                  <a:off x="369360" y="9108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>
                  <a:off x="471960" y="11196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7" name=""/>
            <p:cNvSpPr txBox="1"/>
            <p:nvPr/>
          </p:nvSpPr>
          <p:spPr>
            <a:xfrm>
              <a:off x="858240" y="9216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276920" y="413640"/>
              <a:ext cx="8557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3059280" y="26028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节课我们学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了什么知识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26920" y="1557360"/>
            <a:ext cx="26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元实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797640" y="83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巩固代入消元法，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900000" y="1700280"/>
            <a:ext cx="7632360" cy="1154160"/>
            <a:chOff x="900000" y="1700280"/>
            <a:chExt cx="7632360" cy="1154160"/>
          </a:xfrm>
        </p:grpSpPr>
        <p:sp>
          <p:nvSpPr>
            <p:cNvPr id="1523" name=""/>
            <p:cNvSpPr/>
            <p:nvPr/>
          </p:nvSpPr>
          <p:spPr>
            <a:xfrm>
              <a:off x="900000" y="1986480"/>
              <a:ext cx="324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二元一次方程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142880" y="1700280"/>
              <a:ext cx="12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消 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074480" y="2273040"/>
              <a:ext cx="155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代入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51840" y="1986480"/>
              <a:ext cx="30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一元一次方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50080" y="2125800"/>
              <a:ext cx="1409760" cy="286200"/>
            </a:xfrm>
            <a:custGeom>
              <a:avLst/>
              <a:gdLst>
                <a:gd name="textAreaLeft" fmla="*/ 220320 w 1409760"/>
                <a:gd name="textAreaRight" fmla="*/ 1331280 w 1409760"/>
                <a:gd name="textAreaTop" fmla="*/ 96120 h 286200"/>
                <a:gd name="textAreaBottom" fmla="*/ 190080 h 2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264"/>
                  </a:moveTo>
                  <a:lnTo>
                    <a:pt x="17924" y="7264"/>
                  </a:lnTo>
                  <a:lnTo>
                    <a:pt x="17924" y="0"/>
                  </a:lnTo>
                  <a:lnTo>
                    <a:pt x="21600" y="10800"/>
                  </a:lnTo>
                  <a:lnTo>
                    <a:pt x="17924" y="21600"/>
                  </a:lnTo>
                  <a:lnTo>
                    <a:pt x="17924" y="14336"/>
                  </a:lnTo>
                  <a:lnTo>
                    <a:pt x="3375" y="14336"/>
                  </a:lnTo>
                  <a:close/>
                </a:path>
                <a:path w="21600" h="21600">
                  <a:moveTo>
                    <a:pt x="0" y="7264"/>
                  </a:moveTo>
                  <a:lnTo>
                    <a:pt x="675" y="7264"/>
                  </a:lnTo>
                  <a:lnTo>
                    <a:pt x="675" y="14336"/>
                  </a:lnTo>
                  <a:lnTo>
                    <a:pt x="0" y="14336"/>
                  </a:lnTo>
                  <a:close/>
                </a:path>
                <a:path w="21600" h="21600">
                  <a:moveTo>
                    <a:pt x="1350" y="7264"/>
                  </a:moveTo>
                  <a:lnTo>
                    <a:pt x="2700" y="7264"/>
                  </a:lnTo>
                  <a:lnTo>
                    <a:pt x="2700" y="14336"/>
                  </a:lnTo>
                  <a:lnTo>
                    <a:pt x="1350" y="14336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684360" y="2852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法的一般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403280" y="4076640"/>
            <a:ext cx="6984720" cy="586080"/>
            <a:chOff x="1403280" y="4076640"/>
            <a:chExt cx="6984720" cy="586080"/>
          </a:xfrm>
        </p:grpSpPr>
        <p:sp>
          <p:nvSpPr>
            <p:cNvPr id="1530" name=""/>
            <p:cNvSpPr/>
            <p:nvPr/>
          </p:nvSpPr>
          <p:spPr>
            <a:xfrm>
              <a:off x="1403280" y="4081320"/>
              <a:ext cx="105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即</a:t>
              </a:r>
              <a:r>
                <a:rPr b="0" lang="en-US" sz="3200" spc="-1" strike="noStrike">
                  <a:solidFill>
                    <a:srgbClr val="0000ff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58560" y="4076640"/>
              <a:ext cx="13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变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78280" y="4076640"/>
              <a:ext cx="16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代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531760" y="4076640"/>
              <a:ext cx="13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回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110720" y="4076640"/>
              <a:ext cx="12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写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7672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8404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93056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246348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6384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77656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32200" y="352584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84360" y="4724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能灵活运用适当方法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334600" y="5734080"/>
            <a:ext cx="40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1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2   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8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774960" y="11592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鸡兔同笼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195640" y="54936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有鸡兔同笼，上有三十五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下有九十四足。问鸡兔各几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11280" y="177336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法一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解设有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只鸡，则有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35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只兔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根据题意得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(35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=94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5-23 = 1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答：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鸡，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兔子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79280" y="364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设有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只鸡，有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只兔，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052000" y="5300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考：如何解此方程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79280" y="189000"/>
            <a:ext cx="2476440" cy="736200"/>
            <a:chOff x="179280" y="189000"/>
            <a:chExt cx="2476440" cy="736200"/>
          </a:xfrm>
        </p:grpSpPr>
        <p:sp>
          <p:nvSpPr>
            <p:cNvPr id="1081" name=""/>
            <p:cNvSpPr/>
            <p:nvPr/>
          </p:nvSpPr>
          <p:spPr>
            <a:xfrm>
              <a:off x="179280" y="18900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9600" y="648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225720" y="235800"/>
              <a:ext cx="518400" cy="589320"/>
              <a:chOff x="225720" y="235800"/>
              <a:chExt cx="518400" cy="58932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260640" y="298800"/>
                <a:ext cx="483480" cy="526320"/>
                <a:chOff x="260640" y="298800"/>
                <a:chExt cx="483480" cy="5263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288360" y="298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260640" y="368640"/>
                  <a:ext cx="483480" cy="456480"/>
                  <a:chOff x="260640" y="368640"/>
                  <a:chExt cx="483480" cy="456480"/>
                </a:xfrm>
              </p:grpSpPr>
              <p:sp>
                <p:nvSpPr>
                  <p:cNvPr id="1087" name="未知"/>
                  <p:cNvSpPr/>
                  <p:nvPr/>
                </p:nvSpPr>
                <p:spPr>
                  <a:xfrm>
                    <a:off x="260640" y="484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260640" y="444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294120" y="514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416520" y="584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>
                    <a:off x="406080" y="689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>
                    <a:off x="311760" y="684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>
                    <a:off x="563760" y="593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未知"/>
                  <p:cNvSpPr/>
                  <p:nvPr/>
                </p:nvSpPr>
                <p:spPr>
                  <a:xfrm>
                    <a:off x="532080" y="368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未知"/>
                  <p:cNvSpPr/>
                  <p:nvPr/>
                </p:nvSpPr>
                <p:spPr>
                  <a:xfrm>
                    <a:off x="547920" y="389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225720" y="235800"/>
                <a:ext cx="243720" cy="168120"/>
                <a:chOff x="225720" y="235800"/>
                <a:chExt cx="243720" cy="168120"/>
              </a:xfrm>
            </p:grpSpPr>
            <p:sp>
              <p:nvSpPr>
                <p:cNvPr id="1097" name="未知"/>
                <p:cNvSpPr/>
                <p:nvPr/>
              </p:nvSpPr>
              <p:spPr>
                <a:xfrm>
                  <a:off x="225720" y="305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未知"/>
                <p:cNvSpPr/>
                <p:nvPr/>
              </p:nvSpPr>
              <p:spPr>
                <a:xfrm>
                  <a:off x="296280" y="235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未知"/>
                <p:cNvSpPr/>
                <p:nvPr/>
              </p:nvSpPr>
              <p:spPr>
                <a:xfrm>
                  <a:off x="398880" y="256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0" name=""/>
            <p:cNvSpPr txBox="1"/>
            <p:nvPr/>
          </p:nvSpPr>
          <p:spPr>
            <a:xfrm>
              <a:off x="785160" y="236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复习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02400" y="558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627280" y="4149720"/>
            <a:ext cx="1715040" cy="947160"/>
            <a:chOff x="2627280" y="4149720"/>
            <a:chExt cx="1715040" cy="947160"/>
          </a:xfrm>
        </p:grpSpPr>
        <p:sp>
          <p:nvSpPr>
            <p:cNvPr id="1103" name=""/>
            <p:cNvSpPr/>
            <p:nvPr/>
          </p:nvSpPr>
          <p:spPr>
            <a:xfrm>
              <a:off x="2707920" y="4149720"/>
              <a:ext cx="163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+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9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27280" y="4435560"/>
              <a:ext cx="144720" cy="50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24000" y="1413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35280" y="14191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由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可得：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00000" y="213372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5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：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042920" y="342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解方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116000" y="400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987640" y="260280"/>
            <a:ext cx="2752920" cy="947160"/>
            <a:chOff x="2987640" y="260280"/>
            <a:chExt cx="2752920" cy="947160"/>
          </a:xfrm>
        </p:grpSpPr>
        <p:sp>
          <p:nvSpPr>
            <p:cNvPr id="1111" name=""/>
            <p:cNvSpPr/>
            <p:nvPr/>
          </p:nvSpPr>
          <p:spPr>
            <a:xfrm>
              <a:off x="3098880" y="260280"/>
              <a:ext cx="264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+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35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94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87640" y="54612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4687200" y="13413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405400" y="213372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(35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=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471000" y="1346040"/>
            <a:ext cx="4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344440" y="2060640"/>
            <a:ext cx="4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12720" y="33577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589760" y="4581360"/>
            <a:ext cx="4350600" cy="1373760"/>
            <a:chOff x="1589760" y="4581360"/>
            <a:chExt cx="4350600" cy="1373760"/>
          </a:xfrm>
        </p:grpSpPr>
        <p:grpSp>
          <p:nvGrpSpPr>
            <p:cNvPr id="1119" name=""/>
            <p:cNvGrpSpPr/>
            <p:nvPr/>
          </p:nvGrpSpPr>
          <p:grpSpPr>
            <a:xfrm>
              <a:off x="4788000" y="4581360"/>
              <a:ext cx="1152360" cy="1373760"/>
              <a:chOff x="4788000" y="4581360"/>
              <a:chExt cx="1152360" cy="137376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67200" y="4581360"/>
                <a:ext cx="10731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23      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88000" y="4867200"/>
                <a:ext cx="144360" cy="5050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5080"/>
                  <a:gd name="textAreaBottom" fmla="*/ 49212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1589760" y="4798800"/>
              <a:ext cx="26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250920" y="476280"/>
            <a:ext cx="5255640" cy="963720"/>
            <a:chOff x="250920" y="476280"/>
            <a:chExt cx="5255640" cy="963720"/>
          </a:xfrm>
        </p:grpSpPr>
        <p:sp>
          <p:nvSpPr>
            <p:cNvPr id="1124" name=""/>
            <p:cNvSpPr/>
            <p:nvPr/>
          </p:nvSpPr>
          <p:spPr>
            <a:xfrm>
              <a:off x="250920" y="763560"/>
              <a:ext cx="26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77840" y="476280"/>
              <a:ext cx="25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x –y =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77840" y="919440"/>
              <a:ext cx="22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x -8 y = 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08000" y="692280"/>
              <a:ext cx="69480" cy="59832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15480 h 598320"/>
                <a:gd name="textAreaBottom" fmla="*/ 58284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4897080" y="476280"/>
              <a:ext cx="609480" cy="952200"/>
              <a:chOff x="4897080" y="476280"/>
              <a:chExt cx="609480" cy="952200"/>
            </a:xfrm>
          </p:grpSpPr>
          <p:sp>
            <p:nvSpPr>
              <p:cNvPr id="1129" name=""/>
              <p:cNvSpPr/>
              <p:nvPr/>
            </p:nvSpPr>
            <p:spPr>
              <a:xfrm>
                <a:off x="4897080" y="4762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</a:rPr>
                  <a:t>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897080" y="907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1" name=""/>
          <p:cNvGrpSpPr/>
          <p:nvPr/>
        </p:nvGrpSpPr>
        <p:grpSpPr>
          <a:xfrm>
            <a:off x="5724360" y="404640"/>
            <a:ext cx="3419640" cy="1152360"/>
            <a:chOff x="5724360" y="404640"/>
            <a:chExt cx="3419640" cy="1152360"/>
          </a:xfrm>
        </p:grpSpPr>
        <p:sp>
          <p:nvSpPr>
            <p:cNvPr id="1132" name=""/>
            <p:cNvSpPr/>
            <p:nvPr/>
          </p:nvSpPr>
          <p:spPr>
            <a:xfrm>
              <a:off x="5724360" y="404640"/>
              <a:ext cx="3419640" cy="1152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27600" y="576000"/>
              <a:ext cx="3416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用代入法解二元一次方程组的一般步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50920" y="1413000"/>
            <a:ext cx="4537080" cy="520560"/>
            <a:chOff x="250920" y="1413000"/>
            <a:chExt cx="4537080" cy="520560"/>
          </a:xfrm>
        </p:grpSpPr>
        <p:sp>
          <p:nvSpPr>
            <p:cNvPr id="1135" name=""/>
            <p:cNvSpPr/>
            <p:nvPr/>
          </p:nvSpPr>
          <p:spPr>
            <a:xfrm>
              <a:off x="250920" y="1413000"/>
              <a:ext cx="30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：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由①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11280" y="1413000"/>
              <a:ext cx="23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 = 3+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 </a:t>
              </a:r>
              <a:r>
                <a:rPr b="1" lang="zh-CN" sz="26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50920" y="371628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③代入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55640" y="4257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6920" y="486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9+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– 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90000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04292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340000" y="2133720"/>
            <a:ext cx="532764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将方程组里的一个方程变形，用含有一个未知数的式子表示另一个未知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1126800" y="2492280"/>
            <a:ext cx="1098720" cy="581400"/>
            <a:chOff x="1126800" y="2492280"/>
            <a:chExt cx="1098720" cy="581400"/>
          </a:xfrm>
        </p:grpSpPr>
        <p:sp>
          <p:nvSpPr>
            <p:cNvPr id="1144" name=""/>
            <p:cNvSpPr/>
            <p:nvPr/>
          </p:nvSpPr>
          <p:spPr>
            <a:xfrm>
              <a:off x="1126800" y="249228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360" y="2708280"/>
              <a:ext cx="533160" cy="152280"/>
            </a:xfrm>
            <a:prstGeom prst="rightArrow">
              <a:avLst>
                <a:gd name="adj1" fmla="val 50000"/>
                <a:gd name="adj2" fmla="val 87530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564000" y="4653000"/>
            <a:ext cx="1008000" cy="720720"/>
            <a:chOff x="3564000" y="4653000"/>
            <a:chExt cx="1008000" cy="720720"/>
          </a:xfrm>
        </p:grpSpPr>
        <p:sp>
          <p:nvSpPr>
            <p:cNvPr id="1147" name=""/>
            <p:cNvSpPr/>
            <p:nvPr/>
          </p:nvSpPr>
          <p:spPr>
            <a:xfrm>
              <a:off x="3792240" y="465300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64000" y="5229360"/>
              <a:ext cx="1008000" cy="144360"/>
            </a:xfrm>
            <a:prstGeom prst="rightArrow">
              <a:avLst>
                <a:gd name="adj1" fmla="val 50000"/>
                <a:gd name="adj2" fmla="val 174564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4716360" y="4292640"/>
            <a:ext cx="4191120" cy="9471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用这个式子代替另一个方程中相应的未知数，得到一个一元一次方程，求得一个未知数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79280" y="115920"/>
            <a:ext cx="2476440" cy="691920"/>
            <a:chOff x="179280" y="115920"/>
            <a:chExt cx="2476440" cy="691920"/>
          </a:xfrm>
        </p:grpSpPr>
        <p:sp>
          <p:nvSpPr>
            <p:cNvPr id="1151" name=""/>
            <p:cNvSpPr/>
            <p:nvPr/>
          </p:nvSpPr>
          <p:spPr>
            <a:xfrm>
              <a:off x="179280" y="11592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9600" y="51984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225720" y="156960"/>
              <a:ext cx="518400" cy="518040"/>
              <a:chOff x="225720" y="156960"/>
              <a:chExt cx="518400" cy="5180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260640" y="212400"/>
                <a:ext cx="483480" cy="462600"/>
                <a:chOff x="260640" y="212400"/>
                <a:chExt cx="483480" cy="462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288360" y="21240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260640" y="273960"/>
                  <a:ext cx="483480" cy="401040"/>
                  <a:chOff x="260640" y="273960"/>
                  <a:chExt cx="483480" cy="401040"/>
                </a:xfrm>
              </p:grpSpPr>
              <p:sp>
                <p:nvSpPr>
                  <p:cNvPr id="1157" name="未知"/>
                  <p:cNvSpPr/>
                  <p:nvPr/>
                </p:nvSpPr>
                <p:spPr>
                  <a:xfrm>
                    <a:off x="260640" y="37620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未知"/>
                  <p:cNvSpPr/>
                  <p:nvPr/>
                </p:nvSpPr>
                <p:spPr>
                  <a:xfrm>
                    <a:off x="260640" y="34092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未知"/>
                  <p:cNvSpPr/>
                  <p:nvPr/>
                </p:nvSpPr>
                <p:spPr>
                  <a:xfrm>
                    <a:off x="294120" y="40212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未知"/>
                  <p:cNvSpPr/>
                  <p:nvPr/>
                </p:nvSpPr>
                <p:spPr>
                  <a:xfrm>
                    <a:off x="416520" y="46332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未知"/>
                  <p:cNvSpPr/>
                  <p:nvPr/>
                </p:nvSpPr>
                <p:spPr>
                  <a:xfrm>
                    <a:off x="406080" y="55584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未知"/>
                  <p:cNvSpPr/>
                  <p:nvPr/>
                </p:nvSpPr>
                <p:spPr>
                  <a:xfrm>
                    <a:off x="311760" y="55188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未知"/>
                  <p:cNvSpPr/>
                  <p:nvPr/>
                </p:nvSpPr>
                <p:spPr>
                  <a:xfrm>
                    <a:off x="563760" y="47124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未知"/>
                  <p:cNvSpPr/>
                  <p:nvPr/>
                </p:nvSpPr>
                <p:spPr>
                  <a:xfrm>
                    <a:off x="532080" y="27396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未知"/>
                  <p:cNvSpPr/>
                  <p:nvPr/>
                </p:nvSpPr>
                <p:spPr>
                  <a:xfrm>
                    <a:off x="547920" y="29232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6" name=""/>
              <p:cNvGrpSpPr/>
              <p:nvPr/>
            </p:nvGrpSpPr>
            <p:grpSpPr>
              <a:xfrm>
                <a:off x="225720" y="156960"/>
                <a:ext cx="243720" cy="147960"/>
                <a:chOff x="225720" y="156960"/>
                <a:chExt cx="243720" cy="147960"/>
              </a:xfrm>
            </p:grpSpPr>
            <p:sp>
              <p:nvSpPr>
                <p:cNvPr id="1167" name="未知"/>
                <p:cNvSpPr/>
                <p:nvPr/>
              </p:nvSpPr>
              <p:spPr>
                <a:xfrm>
                  <a:off x="225720" y="21852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未知"/>
                <p:cNvSpPr/>
                <p:nvPr/>
              </p:nvSpPr>
              <p:spPr>
                <a:xfrm>
                  <a:off x="296280" y="15696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未知"/>
                <p:cNvSpPr/>
                <p:nvPr/>
              </p:nvSpPr>
              <p:spPr>
                <a:xfrm>
                  <a:off x="398880" y="17532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0" name=""/>
            <p:cNvSpPr txBox="1"/>
            <p:nvPr/>
          </p:nvSpPr>
          <p:spPr>
            <a:xfrm>
              <a:off x="785160" y="15804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方法概括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02400" y="44064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250920" y="907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③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14560" y="13399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755640" y="2205000"/>
            <a:ext cx="3998880" cy="939600"/>
            <a:chOff x="755640" y="2205000"/>
            <a:chExt cx="3998880" cy="939600"/>
          </a:xfrm>
        </p:grpSpPr>
        <p:sp>
          <p:nvSpPr>
            <p:cNvPr id="1175" name=""/>
            <p:cNvSpPr/>
            <p:nvPr/>
          </p:nvSpPr>
          <p:spPr>
            <a:xfrm>
              <a:off x="755640" y="2433600"/>
              <a:ext cx="32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3348000" y="2205000"/>
              <a:ext cx="1406520" cy="939600"/>
              <a:chOff x="3348000" y="2205000"/>
              <a:chExt cx="1406520" cy="939600"/>
            </a:xfrm>
          </p:grpSpPr>
          <p:sp>
            <p:nvSpPr>
              <p:cNvPr id="1177" name=""/>
              <p:cNvSpPr/>
              <p:nvPr/>
            </p:nvSpPr>
            <p:spPr>
              <a:xfrm>
                <a:off x="3400560" y="220500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400560" y="259380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348000" y="247644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3780000" y="620640"/>
            <a:ext cx="863280" cy="792000"/>
            <a:chOff x="3780000" y="620640"/>
            <a:chExt cx="863280" cy="792000"/>
          </a:xfrm>
        </p:grpSpPr>
        <p:sp>
          <p:nvSpPr>
            <p:cNvPr id="1181" name=""/>
            <p:cNvSpPr/>
            <p:nvPr/>
          </p:nvSpPr>
          <p:spPr>
            <a:xfrm>
              <a:off x="3935160" y="6206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0000" y="1269720"/>
              <a:ext cx="863280" cy="142920"/>
            </a:xfrm>
            <a:prstGeom prst="rightArrow">
              <a:avLst>
                <a:gd name="adj1" fmla="val 50000"/>
                <a:gd name="adj2" fmla="val 151008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4716360" y="549360"/>
            <a:ext cx="419112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把这个未知数的值代入上面的式子，求得另一个未知数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635280" y="3357720"/>
            <a:ext cx="720720" cy="718920"/>
            <a:chOff x="3635280" y="3357720"/>
            <a:chExt cx="720720" cy="718920"/>
          </a:xfrm>
        </p:grpSpPr>
        <p:sp>
          <p:nvSpPr>
            <p:cNvPr id="1185" name=""/>
            <p:cNvSpPr/>
            <p:nvPr/>
          </p:nvSpPr>
          <p:spPr>
            <a:xfrm>
              <a:off x="3719160" y="335772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35280" y="4005360"/>
              <a:ext cx="720720" cy="71280"/>
            </a:xfrm>
            <a:prstGeom prst="rightArrow">
              <a:avLst>
                <a:gd name="adj1" fmla="val 50000"/>
                <a:gd name="adj2" fmla="val 252778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500720" y="3645000"/>
            <a:ext cx="419076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写出方程组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611520" y="443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用代入法解二元一次方程组的一般步骤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559160" y="5157720"/>
            <a:ext cx="1428120" cy="581400"/>
            <a:chOff x="1559160" y="5157720"/>
            <a:chExt cx="1428120" cy="581400"/>
          </a:xfrm>
        </p:grpSpPr>
        <p:sp>
          <p:nvSpPr>
            <p:cNvPr id="1190" name=""/>
            <p:cNvSpPr/>
            <p:nvPr/>
          </p:nvSpPr>
          <p:spPr>
            <a:xfrm>
              <a:off x="1559160" y="515772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05440" y="5373720"/>
              <a:ext cx="681840" cy="152280"/>
            </a:xfrm>
            <a:prstGeom prst="rightArrow">
              <a:avLst>
                <a:gd name="adj1" fmla="val 50000"/>
                <a:gd name="adj2" fmla="val 111939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3214440" y="5086440"/>
            <a:ext cx="1356120" cy="581400"/>
            <a:chOff x="3214440" y="5086440"/>
            <a:chExt cx="1356120" cy="581400"/>
          </a:xfrm>
        </p:grpSpPr>
        <p:sp>
          <p:nvSpPr>
            <p:cNvPr id="1193" name=""/>
            <p:cNvSpPr/>
            <p:nvPr/>
          </p:nvSpPr>
          <p:spPr>
            <a:xfrm>
              <a:off x="3214440" y="50864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78200" y="5375160"/>
              <a:ext cx="792360" cy="142920"/>
            </a:xfrm>
            <a:prstGeom prst="rightArrow">
              <a:avLst>
                <a:gd name="adj1" fmla="val 50000"/>
                <a:gd name="adj2" fmla="val 138602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4798800" y="5086440"/>
            <a:ext cx="1427400" cy="581400"/>
            <a:chOff x="4798800" y="5086440"/>
            <a:chExt cx="1427400" cy="581400"/>
          </a:xfrm>
        </p:grpSpPr>
        <p:sp>
          <p:nvSpPr>
            <p:cNvPr id="1196" name=""/>
            <p:cNvSpPr/>
            <p:nvPr/>
          </p:nvSpPr>
          <p:spPr>
            <a:xfrm>
              <a:off x="4798800" y="50864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362560" y="5302080"/>
              <a:ext cx="863640" cy="142920"/>
            </a:xfrm>
            <a:prstGeom prst="rightArrow">
              <a:avLst>
                <a:gd name="adj1" fmla="val 50000"/>
                <a:gd name="adj2" fmla="val 151071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6227640" y="5157720"/>
            <a:ext cx="648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468360" y="191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对于方程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可直接将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代入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179280" y="0"/>
            <a:ext cx="2476440" cy="691920"/>
            <a:chOff x="179280" y="0"/>
            <a:chExt cx="2476440" cy="691920"/>
          </a:xfrm>
        </p:grpSpPr>
        <p:sp>
          <p:nvSpPr>
            <p:cNvPr id="1201" name=""/>
            <p:cNvSpPr/>
            <p:nvPr/>
          </p:nvSpPr>
          <p:spPr>
            <a:xfrm>
              <a:off x="179280" y="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9600" y="4039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225720" y="41040"/>
              <a:ext cx="518400" cy="518040"/>
              <a:chOff x="225720" y="41040"/>
              <a:chExt cx="518400" cy="5180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260640" y="96480"/>
                <a:ext cx="483480" cy="462600"/>
                <a:chOff x="260640" y="96480"/>
                <a:chExt cx="483480" cy="4626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88360" y="964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6" name=""/>
                <p:cNvGrpSpPr/>
                <p:nvPr/>
              </p:nvGrpSpPr>
              <p:grpSpPr>
                <a:xfrm>
                  <a:off x="260640" y="158040"/>
                  <a:ext cx="483480" cy="401040"/>
                  <a:chOff x="260640" y="158040"/>
                  <a:chExt cx="483480" cy="401040"/>
                </a:xfrm>
              </p:grpSpPr>
              <p:sp>
                <p:nvSpPr>
                  <p:cNvPr id="1207" name="未知"/>
                  <p:cNvSpPr/>
                  <p:nvPr/>
                </p:nvSpPr>
                <p:spPr>
                  <a:xfrm>
                    <a:off x="260640" y="2602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未知"/>
                  <p:cNvSpPr/>
                  <p:nvPr/>
                </p:nvSpPr>
                <p:spPr>
                  <a:xfrm>
                    <a:off x="260640" y="2250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未知"/>
                  <p:cNvSpPr/>
                  <p:nvPr/>
                </p:nvSpPr>
                <p:spPr>
                  <a:xfrm>
                    <a:off x="294120" y="2862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未知"/>
                  <p:cNvSpPr/>
                  <p:nvPr/>
                </p:nvSpPr>
                <p:spPr>
                  <a:xfrm>
                    <a:off x="416520" y="3474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未知"/>
                  <p:cNvSpPr/>
                  <p:nvPr/>
                </p:nvSpPr>
                <p:spPr>
                  <a:xfrm>
                    <a:off x="406080" y="4399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未知"/>
                  <p:cNvSpPr/>
                  <p:nvPr/>
                </p:nvSpPr>
                <p:spPr>
                  <a:xfrm>
                    <a:off x="311760" y="4359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未知"/>
                  <p:cNvSpPr/>
                  <p:nvPr/>
                </p:nvSpPr>
                <p:spPr>
                  <a:xfrm>
                    <a:off x="563760" y="3553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未知"/>
                  <p:cNvSpPr/>
                  <p:nvPr/>
                </p:nvSpPr>
                <p:spPr>
                  <a:xfrm>
                    <a:off x="532080" y="1580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未知"/>
                  <p:cNvSpPr/>
                  <p:nvPr/>
                </p:nvSpPr>
                <p:spPr>
                  <a:xfrm>
                    <a:off x="547920" y="1764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6" name=""/>
              <p:cNvGrpSpPr/>
              <p:nvPr/>
            </p:nvGrpSpPr>
            <p:grpSpPr>
              <a:xfrm>
                <a:off x="225720" y="41040"/>
                <a:ext cx="243720" cy="147960"/>
                <a:chOff x="225720" y="41040"/>
                <a:chExt cx="243720" cy="147960"/>
              </a:xfrm>
            </p:grpSpPr>
            <p:sp>
              <p:nvSpPr>
                <p:cNvPr id="1217" name="未知"/>
                <p:cNvSpPr/>
                <p:nvPr/>
              </p:nvSpPr>
              <p:spPr>
                <a:xfrm>
                  <a:off x="225720" y="1026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未知"/>
                <p:cNvSpPr/>
                <p:nvPr/>
              </p:nvSpPr>
              <p:spPr>
                <a:xfrm>
                  <a:off x="296280" y="410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未知"/>
                <p:cNvSpPr/>
                <p:nvPr/>
              </p:nvSpPr>
              <p:spPr>
                <a:xfrm>
                  <a:off x="398880" y="594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0" name=""/>
            <p:cNvSpPr txBox="1"/>
            <p:nvPr/>
          </p:nvSpPr>
          <p:spPr>
            <a:xfrm>
              <a:off x="785160" y="421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典例分析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02400" y="3247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651040" y="765000"/>
            <a:ext cx="3994200" cy="1096560"/>
            <a:chOff x="2651040" y="765000"/>
            <a:chExt cx="3994200" cy="1096560"/>
          </a:xfrm>
        </p:grpSpPr>
        <p:sp>
          <p:nvSpPr>
            <p:cNvPr id="1223" name=""/>
            <p:cNvSpPr/>
            <p:nvPr/>
          </p:nvSpPr>
          <p:spPr>
            <a:xfrm>
              <a:off x="3564000" y="836280"/>
              <a:ext cx="308124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1=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1)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6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3638160" y="765000"/>
              <a:ext cx="370440" cy="744120"/>
              <a:chOff x="3638160" y="765000"/>
              <a:chExt cx="370440" cy="744120"/>
            </a:xfrm>
          </p:grpSpPr>
          <p:sp>
            <p:nvSpPr>
              <p:cNvPr id="1225" name=""/>
              <p:cNvSpPr/>
              <p:nvPr/>
            </p:nvSpPr>
            <p:spPr>
              <a:xfrm>
                <a:off x="3649680" y="76500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638160" y="109836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670560" y="1141200"/>
                <a:ext cx="287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492360" y="105228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51040" y="1052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3703680" y="189000"/>
            <a:ext cx="24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590120" y="256536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把①代入②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2484360" y="3141720"/>
            <a:ext cx="3800520" cy="744120"/>
            <a:chOff x="2484360" y="3141720"/>
            <a:chExt cx="3800520" cy="744120"/>
          </a:xfrm>
        </p:grpSpPr>
        <p:sp>
          <p:nvSpPr>
            <p:cNvPr id="1233" name=""/>
            <p:cNvSpPr/>
            <p:nvPr/>
          </p:nvSpPr>
          <p:spPr>
            <a:xfrm>
              <a:off x="2484360" y="3248280"/>
              <a:ext cx="38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2(x+1)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(   +1)=6      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3776400" y="3141720"/>
              <a:ext cx="370440" cy="744120"/>
              <a:chOff x="3776400" y="3141720"/>
              <a:chExt cx="370440" cy="744120"/>
            </a:xfrm>
          </p:grpSpPr>
          <p:sp>
            <p:nvSpPr>
              <p:cNvPr id="1235" name=""/>
              <p:cNvSpPr/>
              <p:nvPr/>
            </p:nvSpPr>
            <p:spPr>
              <a:xfrm>
                <a:off x="3787920" y="314172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76400" y="347508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8800" y="351792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1910160" y="3860640"/>
            <a:ext cx="4285800" cy="744120"/>
            <a:chOff x="1910160" y="3860640"/>
            <a:chExt cx="4285800" cy="744120"/>
          </a:xfrm>
        </p:grpSpPr>
        <p:grpSp>
          <p:nvGrpSpPr>
            <p:cNvPr id="1239" name=""/>
            <p:cNvGrpSpPr/>
            <p:nvPr/>
          </p:nvGrpSpPr>
          <p:grpSpPr>
            <a:xfrm>
              <a:off x="3634920" y="3860640"/>
              <a:ext cx="1008360" cy="744120"/>
              <a:chOff x="3634920" y="3860640"/>
              <a:chExt cx="1008360" cy="7441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3634920" y="3860640"/>
                <a:ext cx="359280" cy="744120"/>
                <a:chOff x="3634920" y="3860640"/>
                <a:chExt cx="359280" cy="74412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635280" y="386064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634920" y="419400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667320" y="42368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4" name=""/>
              <p:cNvSpPr/>
              <p:nvPr/>
            </p:nvSpPr>
            <p:spPr>
              <a:xfrm>
                <a:off x="3903480" y="39751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5456160" y="393372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10160" y="3975120"/>
              <a:ext cx="36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方程③，             即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2384640" y="4724280"/>
            <a:ext cx="31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692360" y="5229360"/>
            <a:ext cx="4575240" cy="939600"/>
            <a:chOff x="1692360" y="5229360"/>
            <a:chExt cx="4575240" cy="939600"/>
          </a:xfrm>
        </p:grpSpPr>
        <p:sp>
          <p:nvSpPr>
            <p:cNvPr id="1249" name=""/>
            <p:cNvSpPr/>
            <p:nvPr/>
          </p:nvSpPr>
          <p:spPr>
            <a:xfrm>
              <a:off x="1692360" y="544500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4861080" y="5229360"/>
              <a:ext cx="1406520" cy="939600"/>
              <a:chOff x="4861080" y="5229360"/>
              <a:chExt cx="1406520" cy="939600"/>
            </a:xfrm>
          </p:grpSpPr>
          <p:sp>
            <p:nvSpPr>
              <p:cNvPr id="1251" name=""/>
              <p:cNvSpPr/>
              <p:nvPr/>
            </p:nvSpPr>
            <p:spPr>
              <a:xfrm>
                <a:off x="4913640" y="522936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13640" y="561816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861080" y="550080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"/>
          <p:cNvGrpSpPr/>
          <p:nvPr/>
        </p:nvGrpSpPr>
        <p:grpSpPr>
          <a:xfrm>
            <a:off x="2146680" y="333360"/>
            <a:ext cx="3993840" cy="1025280"/>
            <a:chOff x="2146680" y="333360"/>
            <a:chExt cx="3993840" cy="1025280"/>
          </a:xfrm>
        </p:grpSpPr>
        <p:sp>
          <p:nvSpPr>
            <p:cNvPr id="1255" name=""/>
            <p:cNvSpPr/>
            <p:nvPr/>
          </p:nvSpPr>
          <p:spPr>
            <a:xfrm>
              <a:off x="3059280" y="333360"/>
              <a:ext cx="308124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3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88000" y="549360"/>
              <a:ext cx="69840" cy="5983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320"/>
                <a:gd name="textAreaBottom" fmla="*/ 58284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46680" y="5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3608640" y="1413000"/>
            <a:ext cx="20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方程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需将某个方程变形再代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20040" y="1989000"/>
            <a:ext cx="4487040" cy="744120"/>
            <a:chOff x="2120040" y="1989000"/>
            <a:chExt cx="4487040" cy="744120"/>
          </a:xfrm>
        </p:grpSpPr>
        <p:sp>
          <p:nvSpPr>
            <p:cNvPr id="1260" name=""/>
            <p:cNvSpPr/>
            <p:nvPr/>
          </p:nvSpPr>
          <p:spPr>
            <a:xfrm>
              <a:off x="2120040" y="206208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由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②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56000" y="2081160"/>
              <a:ext cx="22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        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4860360" y="1989000"/>
              <a:ext cx="359280" cy="744120"/>
              <a:chOff x="4860360" y="1989000"/>
              <a:chExt cx="359280" cy="744120"/>
            </a:xfrm>
          </p:grpSpPr>
          <p:sp>
            <p:nvSpPr>
              <p:cNvPr id="1263" name=""/>
              <p:cNvSpPr/>
              <p:nvPr/>
            </p:nvSpPr>
            <p:spPr>
              <a:xfrm>
                <a:off x="4860720" y="198900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860360" y="232236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892760" y="236520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>
            <a:off x="355680" y="37036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248920" y="2708280"/>
            <a:ext cx="5836320" cy="744120"/>
            <a:chOff x="2248920" y="2708280"/>
            <a:chExt cx="5836320" cy="744120"/>
          </a:xfrm>
        </p:grpSpPr>
        <p:sp>
          <p:nvSpPr>
            <p:cNvPr id="1268" name=""/>
            <p:cNvSpPr/>
            <p:nvPr/>
          </p:nvSpPr>
          <p:spPr>
            <a:xfrm>
              <a:off x="2248920" y="2781360"/>
              <a:ext cx="21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把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代入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4788000" y="2708280"/>
              <a:ext cx="3297240" cy="744120"/>
              <a:chOff x="4788000" y="2708280"/>
              <a:chExt cx="3297240" cy="744120"/>
            </a:xfrm>
          </p:grpSpPr>
          <p:sp>
            <p:nvSpPr>
              <p:cNvPr id="1270" name=""/>
              <p:cNvSpPr/>
              <p:nvPr/>
            </p:nvSpPr>
            <p:spPr>
              <a:xfrm>
                <a:off x="4788000" y="2779920"/>
                <a:ext cx="32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   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+3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13       </a:t>
                </a: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④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5005080" y="2708280"/>
                <a:ext cx="359280" cy="744120"/>
                <a:chOff x="5005080" y="2708280"/>
                <a:chExt cx="359280" cy="74412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005440" y="270828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005080" y="304164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037480" y="30844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5" name=""/>
          <p:cNvGrpSpPr/>
          <p:nvPr/>
        </p:nvGrpSpPr>
        <p:grpSpPr>
          <a:xfrm>
            <a:off x="2124000" y="3429000"/>
            <a:ext cx="4339800" cy="1019880"/>
            <a:chOff x="2124000" y="3429000"/>
            <a:chExt cx="4339800" cy="1019880"/>
          </a:xfrm>
        </p:grpSpPr>
        <p:grpSp>
          <p:nvGrpSpPr>
            <p:cNvPr id="1276" name=""/>
            <p:cNvGrpSpPr/>
            <p:nvPr/>
          </p:nvGrpSpPr>
          <p:grpSpPr>
            <a:xfrm>
              <a:off x="3853800" y="3429000"/>
              <a:ext cx="1257840" cy="766080"/>
              <a:chOff x="3853800" y="3429000"/>
              <a:chExt cx="1257840" cy="7660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853800" y="3429000"/>
                <a:ext cx="53748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925080" y="378432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957480" y="383040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214520" y="3501720"/>
                <a:ext cx="89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5745240" y="350676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24000" y="3501720"/>
              <a:ext cx="3929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方程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，             即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2527200" y="4149720"/>
            <a:ext cx="32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979640" y="4653000"/>
            <a:ext cx="4575240" cy="939600"/>
            <a:chOff x="1979640" y="4653000"/>
            <a:chExt cx="4575240" cy="939600"/>
          </a:xfrm>
        </p:grpSpPr>
        <p:sp>
          <p:nvSpPr>
            <p:cNvPr id="1285" name=""/>
            <p:cNvSpPr/>
            <p:nvPr/>
          </p:nvSpPr>
          <p:spPr>
            <a:xfrm>
              <a:off x="1979640" y="486864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5148360" y="4653000"/>
              <a:ext cx="1406520" cy="939600"/>
              <a:chOff x="5148360" y="4653000"/>
              <a:chExt cx="1406520" cy="939600"/>
            </a:xfrm>
          </p:grpSpPr>
          <p:sp>
            <p:nvSpPr>
              <p:cNvPr id="1287" name=""/>
              <p:cNvSpPr/>
              <p:nvPr/>
            </p:nvSpPr>
            <p:spPr>
              <a:xfrm>
                <a:off x="5200920" y="465300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0920" y="504180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48360" y="492444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根据市场调查，某种消毒液的大瓶装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00g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和小瓶装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50g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两种产品的销售数量（按瓶计算）比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某厂每天生产这种消毒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2.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吨，这些消毒液应该分装大、小瓶两种产品各多少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68360" y="206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设这些消毒液应该分装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大瓶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列方程组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08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解由学生合作完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403280" y="3141720"/>
            <a:ext cx="5111640" cy="1025280"/>
            <a:chOff x="1403280" y="3141720"/>
            <a:chExt cx="5111640" cy="1025280"/>
          </a:xfrm>
        </p:grpSpPr>
        <p:sp>
          <p:nvSpPr>
            <p:cNvPr id="1294" name=""/>
            <p:cNvSpPr/>
            <p:nvPr/>
          </p:nvSpPr>
          <p:spPr>
            <a:xfrm>
              <a:off x="1474920" y="3141720"/>
              <a:ext cx="50400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            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00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50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250000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403280" y="335736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359000" y="4365720"/>
            <a:ext cx="6319440" cy="743760"/>
            <a:chOff x="1359000" y="4365720"/>
            <a:chExt cx="6319440" cy="743760"/>
          </a:xfrm>
        </p:grpSpPr>
        <p:sp>
          <p:nvSpPr>
            <p:cNvPr id="1297" name=""/>
            <p:cNvSpPr/>
            <p:nvPr/>
          </p:nvSpPr>
          <p:spPr>
            <a:xfrm>
              <a:off x="1359000" y="4437000"/>
              <a:ext cx="63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分析：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由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得      代入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，消去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求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419640" y="4365720"/>
              <a:ext cx="1224000" cy="743760"/>
              <a:chOff x="3419640" y="4365720"/>
              <a:chExt cx="1224000" cy="743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3419640" y="445752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  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924000" y="4365720"/>
                <a:ext cx="359280" cy="743760"/>
                <a:chOff x="3924000" y="4365720"/>
                <a:chExt cx="359280" cy="743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924360" y="436572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924000" y="469872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5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956040" y="4741560"/>
                  <a:ext cx="284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95280" y="692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下列方程写成用含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式子表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⑵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8360" y="2492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404720" y="17002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365440" y="162864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-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000240" y="558972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怎样变形、代入简便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79280" y="0"/>
            <a:ext cx="2476440" cy="691920"/>
            <a:chOff x="179280" y="0"/>
            <a:chExt cx="2476440" cy="691920"/>
          </a:xfrm>
        </p:grpSpPr>
        <p:sp>
          <p:nvSpPr>
            <p:cNvPr id="1310" name=""/>
            <p:cNvSpPr/>
            <p:nvPr/>
          </p:nvSpPr>
          <p:spPr>
            <a:xfrm>
              <a:off x="179280" y="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9600" y="4039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225720" y="41040"/>
              <a:ext cx="518400" cy="518040"/>
              <a:chOff x="225720" y="41040"/>
              <a:chExt cx="518400" cy="5180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260640" y="96480"/>
                <a:ext cx="483480" cy="462600"/>
                <a:chOff x="260640" y="96480"/>
                <a:chExt cx="483480" cy="46260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88360" y="964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260640" y="158040"/>
                  <a:ext cx="483480" cy="401040"/>
                  <a:chOff x="260640" y="158040"/>
                  <a:chExt cx="483480" cy="401040"/>
                </a:xfrm>
              </p:grpSpPr>
              <p:sp>
                <p:nvSpPr>
                  <p:cNvPr id="1316" name="未知"/>
                  <p:cNvSpPr/>
                  <p:nvPr/>
                </p:nvSpPr>
                <p:spPr>
                  <a:xfrm>
                    <a:off x="260640" y="2602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未知"/>
                  <p:cNvSpPr/>
                  <p:nvPr/>
                </p:nvSpPr>
                <p:spPr>
                  <a:xfrm>
                    <a:off x="260640" y="2250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未知"/>
                  <p:cNvSpPr/>
                  <p:nvPr/>
                </p:nvSpPr>
                <p:spPr>
                  <a:xfrm>
                    <a:off x="294120" y="2862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未知"/>
                  <p:cNvSpPr/>
                  <p:nvPr/>
                </p:nvSpPr>
                <p:spPr>
                  <a:xfrm>
                    <a:off x="416520" y="3474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未知"/>
                  <p:cNvSpPr/>
                  <p:nvPr/>
                </p:nvSpPr>
                <p:spPr>
                  <a:xfrm>
                    <a:off x="406080" y="4399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未知"/>
                  <p:cNvSpPr/>
                  <p:nvPr/>
                </p:nvSpPr>
                <p:spPr>
                  <a:xfrm>
                    <a:off x="311760" y="4359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未知"/>
                  <p:cNvSpPr/>
                  <p:nvPr/>
                </p:nvSpPr>
                <p:spPr>
                  <a:xfrm>
                    <a:off x="563760" y="3553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未知"/>
                  <p:cNvSpPr/>
                  <p:nvPr/>
                </p:nvSpPr>
                <p:spPr>
                  <a:xfrm>
                    <a:off x="532080" y="1580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未知"/>
                  <p:cNvSpPr/>
                  <p:nvPr/>
                </p:nvSpPr>
                <p:spPr>
                  <a:xfrm>
                    <a:off x="547920" y="1764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225720" y="41040"/>
                <a:ext cx="243720" cy="147960"/>
                <a:chOff x="225720" y="41040"/>
                <a:chExt cx="243720" cy="147960"/>
              </a:xfrm>
            </p:grpSpPr>
            <p:sp>
              <p:nvSpPr>
                <p:cNvPr id="1326" name="未知"/>
                <p:cNvSpPr/>
                <p:nvPr/>
              </p:nvSpPr>
              <p:spPr>
                <a:xfrm>
                  <a:off x="225720" y="1026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>
                  <a:off x="296280" y="410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>
                  <a:off x="398880" y="594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9" name=""/>
            <p:cNvSpPr txBox="1"/>
            <p:nvPr/>
          </p:nvSpPr>
          <p:spPr>
            <a:xfrm>
              <a:off x="785160" y="421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应用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02400" y="3247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35040" y="3141720"/>
            <a:ext cx="2498760" cy="1041120"/>
            <a:chOff x="635040" y="3141720"/>
            <a:chExt cx="2498760" cy="1041120"/>
          </a:xfrm>
        </p:grpSpPr>
        <p:sp>
          <p:nvSpPr>
            <p:cNvPr id="1332" name=""/>
            <p:cNvSpPr/>
            <p:nvPr/>
          </p:nvSpPr>
          <p:spPr>
            <a:xfrm>
              <a:off x="1476360" y="3141720"/>
              <a:ext cx="16574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05080" y="342900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5040" y="3500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5027400" y="3213000"/>
            <a:ext cx="2498760" cy="1041120"/>
            <a:chOff x="5027400" y="3213000"/>
            <a:chExt cx="2498760" cy="1041120"/>
          </a:xfrm>
        </p:grpSpPr>
        <p:sp>
          <p:nvSpPr>
            <p:cNvPr id="1336" name=""/>
            <p:cNvSpPr/>
            <p:nvPr/>
          </p:nvSpPr>
          <p:spPr>
            <a:xfrm>
              <a:off x="5868720" y="3213000"/>
              <a:ext cx="16574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797440" y="350028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27400" y="3571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1332000" y="4292640"/>
            <a:ext cx="1152360" cy="947160"/>
            <a:chOff x="1332000" y="4292640"/>
            <a:chExt cx="1152360" cy="947160"/>
          </a:xfrm>
        </p:grpSpPr>
        <p:sp>
          <p:nvSpPr>
            <p:cNvPr id="1340" name=""/>
            <p:cNvSpPr/>
            <p:nvPr/>
          </p:nvSpPr>
          <p:spPr>
            <a:xfrm>
              <a:off x="1411200" y="429264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332000" y="457812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508720" y="4437000"/>
            <a:ext cx="1152360" cy="947160"/>
            <a:chOff x="5508720" y="4437000"/>
            <a:chExt cx="1152360" cy="947160"/>
          </a:xfrm>
        </p:grpSpPr>
        <p:sp>
          <p:nvSpPr>
            <p:cNvPr id="1343" name=""/>
            <p:cNvSpPr/>
            <p:nvPr/>
          </p:nvSpPr>
          <p:spPr>
            <a:xfrm>
              <a:off x="5587920" y="443700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08720" y="472248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07T01:43:50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