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13.jpeg" ContentType="image/jpeg"/>
  <Override PartName="/ppt/media/image29.wmf" ContentType="image/x-wmf"/>
  <Override PartName="/ppt/media/image6.wmf" ContentType="image/x-wmf"/>
  <Override PartName="/ppt/media/image21.wmf" ContentType="image/x-wmf"/>
  <Override PartName="/ppt/media/image8.gif" ContentType="image/gif"/>
  <Override PartName="/ppt/media/image19.wmf" ContentType="image/x-wmf"/>
  <Override PartName="/ppt/media/image31.wmf" ContentType="image/x-wmf"/>
  <Override PartName="/ppt/media/image7.jpeg" ContentType="image/jpeg"/>
  <Override PartName="/ppt/media/image22.wmf" ContentType="image/x-wmf"/>
  <Override PartName="/ppt/media/image9.gif" ContentType="image/gif"/>
  <Override PartName="/ppt/media/image23.wmf" ContentType="image/x-wmf"/>
  <Override PartName="/ppt/media/image11.jpeg" ContentType="image/jpeg"/>
  <Override PartName="/ppt/media/image30.wmf" ContentType="image/x-wmf"/>
  <Override PartName="/ppt/media/image28.wmf" ContentType="image/x-wmf"/>
  <Override PartName="/ppt/media/image12.jpeg" ContentType="image/jpeg"/>
  <Override PartName="/ppt/media/image4.png" ContentType="image/png"/>
  <Override PartName="/ppt/media/image3.png" ContentType="image/png"/>
  <Override PartName="/ppt/media/image25.wmf" ContentType="image/x-wmf"/>
  <Override PartName="/ppt/media/image5.png" ContentType="image/png"/>
  <Override PartName="/ppt/media/image10.png" ContentType="image/png"/>
  <Override PartName="/ppt/media/image1.jpeg" ContentType="image/jpeg"/>
  <Override PartName="/ppt/media/image15.wmf" ContentType="image/x-wmf"/>
  <Override PartName="/ppt/media/image14.gif" ContentType="image/gif"/>
  <Override PartName="/ppt/media/image17.png" ContentType="image/png"/>
  <Override PartName="/ppt/media/image16.wmf" ContentType="image/x-wmf"/>
  <Override PartName="/ppt/media/image20.png" ContentType="image/png"/>
  <Override PartName="/ppt/media/image2.jpeg" ContentType="image/jpeg"/>
  <Override PartName="/ppt/media/image18.wmf" ContentType="image/x-wmf"/>
  <Override PartName="/ppt/media/image24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33F4-793D-4B1A-8168-CA0EADF4E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6585-6AD0-4C37-BE77-85F3B4E71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07E2-0DB9-4E31-94EE-5ABE26B26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BCC0-116C-4D59-95C8-33021DAF0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7B78B-5959-4AAC-89AE-B45B384D1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841E5-73D6-4588-A985-EDE7E1EB1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049FA-3E6F-403F-AFF1-D2DAA00B3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45D40-D24C-42B6-A650-83F694680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0C8AE-5195-4853-92FB-229411768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835DC-82D4-4625-87C7-21961C4CF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D269D-959A-40AA-87A7-83ED46CB0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96BE-505F-4034-B658-E5A66B42C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7EF91-70D7-4568-9139-C02CB9FEA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D38CF-4145-4B3E-A82B-0C5A13BA2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9ECDA-9C58-4753-AC0D-888A270DF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436BE-F527-433B-9AA3-3A0367273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9D3A8-455F-42FE-8FA9-41A6B99C2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31E9B-D108-49F3-AE06-976873337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9E093-96CC-479E-9341-0D91FF044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12108-2215-4FDF-ACD2-EB368D8F4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40D70-5295-423E-8F10-F5C1BF6EA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E6AF3-60B1-48D6-8EB3-F3EBB01F9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E2B4-A9D3-4155-924E-98069BFF9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70FD2-AF6D-4F3A-863C-2DE2F99EE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BCB36-A258-496B-BF41-8EB7E7718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7F3E1-DE1F-460D-AC2B-631759F62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27F98-87A4-4176-81B1-50CA65DE2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48C63-D15F-493B-A26A-E5DB8E86E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BF121-52B0-49C9-A0FC-A46F75612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DF348-9D7E-44E2-8FBB-19688E345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09763-5CD1-4738-AF69-0A4528B4B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0803D-B6E0-4068-A736-0FAEA02CB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99EED-FF32-40E8-BD6B-13575122F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2EEC-4099-4634-9238-3E9FE42AA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279B1-93F6-4A29-9255-B454F8FB4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3DCF2-D057-4850-9057-133CEEAF7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87655-C0E8-46C3-AD13-631F82445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ED5AF7-EDA9-4A54-B706-979B33757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72C2A-479E-47CC-B39A-FBB5C55F7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E5578-D45F-4F48-9331-6A37811F0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5E182-8823-4864-AF5F-E337234F9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3B8CF-644C-4912-9236-CD3DF76B7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4AD76-CB62-4701-9C87-BFC79B110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EAF2-273B-4D1F-AE71-DC704795D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C8F1-CDC0-442D-BF45-9AAE64CA5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C76D-70BB-4213-9AF0-49A0B6B89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A822-4B14-46CF-B5DE-78C4F0FBE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EA6D-30AD-4F98-8AAB-2D010E1E8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7.jpeg"/><Relationship Id="rId3" Type="http://schemas.openxmlformats.org/officeDocument/2006/relationships/image" Target="../media/image1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80720" y="281160"/>
            <a:ext cx="77612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56CE9-50F9-41C4-96C7-267315A0123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71640" cy="550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333360"/>
            <a:ext cx="9134640" cy="219240"/>
          </a:xfrm>
          <a:custGeom>
            <a:avLst/>
            <a:gdLst/>
            <a:ahLst/>
            <a:rect l="l" t="t" r="r" b="b"/>
            <a:pathLst>
              <a:path w="5754" h="138">
                <a:moveTo>
                  <a:pt x="0" y="138"/>
                </a:moveTo>
                <a:lnTo>
                  <a:pt x="578" y="136"/>
                </a:lnTo>
                <a:lnTo>
                  <a:pt x="720" y="2"/>
                </a:lnTo>
                <a:lnTo>
                  <a:pt x="5754" y="0"/>
                </a:lnTo>
              </a:path>
            </a:pathLst>
          </a:custGeom>
          <a:noFill/>
          <a:ln w="76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6453360"/>
            <a:ext cx="914400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403280" cy="6206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D95DB-0776-48C5-AF7F-5F364BACFB9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0" y="4005360"/>
            <a:ext cx="9163080" cy="819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754200" y="1916280"/>
            <a:ext cx="2376360" cy="2304720"/>
          </a:xfrm>
          <a:prstGeom prst="ellipse">
            <a:avLst/>
          </a:prstGeom>
          <a:gradFill rotWithShape="0">
            <a:gsLst>
              <a:gs pos="0">
                <a:srgbClr val="66ffff">
                  <a:alpha val="70196"/>
                </a:srgbClr>
              </a:gs>
              <a:gs pos="100000">
                <a:srgbClr val="2f757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5920" y="1197000"/>
            <a:ext cx="5867280" cy="6119640"/>
          </a:xfrm>
          <a:prstGeom prst="ellipse">
            <a:avLst/>
          </a:prstGeom>
          <a:gradFill rotWithShape="0">
            <a:gsLst>
              <a:gs pos="0">
                <a:srgbClr val="ffcc00">
                  <a:alpha val="70196"/>
                </a:srgbClr>
              </a:gs>
              <a:gs pos="100000">
                <a:srgbClr val="755e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19640" y="476280"/>
            <a:ext cx="3168720" cy="3384360"/>
          </a:xfrm>
          <a:prstGeom prst="ellipse">
            <a:avLst/>
          </a:prstGeom>
          <a:gradFill rotWithShape="0">
            <a:gsLst>
              <a:gs pos="0">
                <a:srgbClr val="66ff33">
                  <a:alpha val="70196"/>
                </a:srgbClr>
              </a:gs>
              <a:gs pos="100000">
                <a:srgbClr val="2f751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211640" y="1700280"/>
            <a:ext cx="3097080" cy="3097080"/>
          </a:xfrm>
          <a:prstGeom prst="ellipse">
            <a:avLst/>
          </a:prstGeom>
          <a:gradFill rotWithShape="0">
            <a:gsLst>
              <a:gs pos="0">
                <a:srgbClr val="ccff33">
                  <a:alpha val="70196"/>
                </a:srgbClr>
              </a:gs>
              <a:gs pos="100000">
                <a:srgbClr val="5e751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1244520" y="0"/>
            <a:ext cx="7113600" cy="6858000"/>
            <a:chOff x="1244520" y="0"/>
            <a:chExt cx="7113600" cy="6858000"/>
          </a:xfrm>
        </p:grpSpPr>
        <p:sp>
          <p:nvSpPr>
            <p:cNvPr id="56" name=""/>
            <p:cNvSpPr/>
            <p:nvPr/>
          </p:nvSpPr>
          <p:spPr>
            <a:xfrm>
              <a:off x="124452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9216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97324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55292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0372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79760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35812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0" y="3860640"/>
            <a:ext cx="9144000" cy="1479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0" y="2195640"/>
            <a:ext cx="9163080" cy="152280"/>
          </a:xfrm>
          <a:prstGeom prst="rect">
            <a:avLst/>
          </a:prstGeom>
          <a:ln w="0">
            <a:noFill/>
          </a:ln>
        </p:spPr>
      </p:pic>
      <p:grpSp>
        <p:nvGrpSpPr>
          <p:cNvPr id="65" name=""/>
          <p:cNvGrpSpPr/>
          <p:nvPr/>
        </p:nvGrpSpPr>
        <p:grpSpPr>
          <a:xfrm>
            <a:off x="0" y="1814400"/>
            <a:ext cx="9144000" cy="2000160"/>
            <a:chOff x="0" y="1814400"/>
            <a:chExt cx="9144000" cy="2000160"/>
          </a:xfrm>
        </p:grpSpPr>
        <p:sp>
          <p:nvSpPr>
            <p:cNvPr id="66" name=""/>
            <p:cNvSpPr/>
            <p:nvPr/>
          </p:nvSpPr>
          <p:spPr>
            <a:xfrm>
              <a:off x="0" y="1814400"/>
              <a:ext cx="9144000" cy="0"/>
            </a:xfrm>
            <a:prstGeom prst="line">
              <a:avLst/>
            </a:prstGeom>
            <a:ln w="1260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3228840"/>
              <a:ext cx="9144000" cy="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3514680"/>
              <a:ext cx="9144000" cy="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0" y="3814560"/>
              <a:ext cx="9144000" cy="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0" y="2643120"/>
            <a:ext cx="9144000" cy="1143000"/>
          </a:xfrm>
          <a:prstGeom prst="rect">
            <a:avLst/>
          </a:prstGeom>
          <a:solidFill>
            <a:srgbClr val="7c5438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14680"/>
            <a:ext cx="9144000" cy="934920"/>
          </a:xfrm>
          <a:prstGeom prst="rect">
            <a:avLst/>
          </a:prstGeom>
          <a:solidFill>
            <a:srgbClr val="33cc33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0" y="-600120"/>
            <a:ext cx="10980720" cy="4365720"/>
            <a:chOff x="0" y="-600120"/>
            <a:chExt cx="10980720" cy="4365720"/>
          </a:xfrm>
        </p:grpSpPr>
        <p:sp>
          <p:nvSpPr>
            <p:cNvPr id="73" name=""/>
            <p:cNvSpPr/>
            <p:nvPr/>
          </p:nvSpPr>
          <p:spPr>
            <a:xfrm>
              <a:off x="755640" y="3333600"/>
              <a:ext cx="431640" cy="43200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87280" y="3116160"/>
              <a:ext cx="648000" cy="64764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835280" y="2684520"/>
              <a:ext cx="1079280" cy="107928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916360" y="2036880"/>
              <a:ext cx="1726920" cy="172692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492360" y="1701720"/>
              <a:ext cx="2063880" cy="206388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500720" y="1125360"/>
              <a:ext cx="2609640" cy="261000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940360" y="307800"/>
              <a:ext cx="3456000" cy="345600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093080" y="-195480"/>
              <a:ext cx="3887640" cy="388800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765600"/>
              <a:ext cx="9144000" cy="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0" y="-600120"/>
              <a:ext cx="9144000" cy="436572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754200" y="-193680"/>
            <a:ext cx="10225080" cy="3960720"/>
            <a:chOff x="754200" y="-193680"/>
            <a:chExt cx="10225080" cy="3960720"/>
          </a:xfrm>
        </p:grpSpPr>
        <p:sp>
          <p:nvSpPr>
            <p:cNvPr id="84" name=""/>
            <p:cNvSpPr/>
            <p:nvPr/>
          </p:nvSpPr>
          <p:spPr>
            <a:xfrm>
              <a:off x="754200" y="3335400"/>
              <a:ext cx="431640" cy="43164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185840" y="3117960"/>
              <a:ext cx="648000" cy="64764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833840" y="2685960"/>
              <a:ext cx="1079280" cy="107964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914920" y="2038320"/>
              <a:ext cx="1726920" cy="172728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490920" y="1703520"/>
              <a:ext cx="2063880" cy="206352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499280" y="1127160"/>
              <a:ext cx="2609640" cy="260964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38920" y="309600"/>
              <a:ext cx="3456000" cy="345600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091640" y="-193680"/>
              <a:ext cx="3887640" cy="388764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754200" y="3319560"/>
            <a:ext cx="431640" cy="43164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185840" y="3102120"/>
            <a:ext cx="647640" cy="64764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833480" y="2670120"/>
            <a:ext cx="1079640" cy="107964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914560" y="2022480"/>
            <a:ext cx="1727280" cy="172728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490920" y="1687680"/>
            <a:ext cx="2063880" cy="206352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498920" y="1111320"/>
            <a:ext cx="2610000" cy="260964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51280" y="465120"/>
            <a:ext cx="3456000" cy="345600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091280" y="-209520"/>
            <a:ext cx="3888000" cy="388764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47640" y="2778120"/>
            <a:ext cx="7819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31800" y="2747880"/>
            <a:ext cx="7819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40000" y="0"/>
            <a:ext cx="7704000" cy="620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Arial"/>
              </a:rPr>
              <a:t>义务教育课程标准实验教科书数学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1" lang="zh-CN" sz="2300" spc="-1" strike="noStrike">
                <a:solidFill>
                  <a:srgbClr val="ffffff"/>
                </a:solidFill>
                <a:latin typeface="Arial"/>
              </a:rPr>
              <a:t>八年级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1" lang="zh-CN" sz="2300" spc="-1" strike="noStrike">
                <a:solidFill>
                  <a:srgbClr val="ffffff"/>
                </a:solidFill>
                <a:latin typeface="Arial"/>
              </a:rPr>
              <a:t>下册（泰山版）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692280"/>
            <a:ext cx="914400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80720" y="281160"/>
            <a:ext cx="77612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341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BCBB7-4248-4CB9-A04F-D7D7E34801E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71640" cy="5508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0" y="333360"/>
            <a:ext cx="9134640" cy="219240"/>
          </a:xfrm>
          <a:custGeom>
            <a:avLst/>
            <a:gdLst/>
            <a:ahLst/>
            <a:rect l="l" t="t" r="r" b="b"/>
            <a:pathLst>
              <a:path w="5754" h="138">
                <a:moveTo>
                  <a:pt x="0" y="138"/>
                </a:moveTo>
                <a:lnTo>
                  <a:pt x="578" y="136"/>
                </a:lnTo>
                <a:lnTo>
                  <a:pt x="720" y="2"/>
                </a:lnTo>
                <a:lnTo>
                  <a:pt x="5754" y="0"/>
                </a:lnTo>
              </a:path>
            </a:pathLst>
          </a:custGeom>
          <a:noFill/>
          <a:ln w="76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6453360"/>
            <a:ext cx="914400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403280" cy="62064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B2A98-B2EE-426E-B43F-0DFE25446BD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0" y="4005360"/>
            <a:ext cx="9163080" cy="8190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754200" y="1916280"/>
            <a:ext cx="2376360" cy="2304720"/>
          </a:xfrm>
          <a:prstGeom prst="ellipse">
            <a:avLst/>
          </a:prstGeom>
          <a:gradFill rotWithShape="0">
            <a:gsLst>
              <a:gs pos="0">
                <a:srgbClr val="66ffff">
                  <a:alpha val="70196"/>
                </a:srgbClr>
              </a:gs>
              <a:gs pos="100000">
                <a:srgbClr val="2f757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85920" y="1197000"/>
            <a:ext cx="5867280" cy="6119640"/>
          </a:xfrm>
          <a:prstGeom prst="ellipse">
            <a:avLst/>
          </a:prstGeom>
          <a:gradFill rotWithShape="0">
            <a:gsLst>
              <a:gs pos="0">
                <a:srgbClr val="ffcc00">
                  <a:alpha val="70196"/>
                </a:srgbClr>
              </a:gs>
              <a:gs pos="100000">
                <a:srgbClr val="755e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219640" y="476280"/>
            <a:ext cx="3168720" cy="3384360"/>
          </a:xfrm>
          <a:prstGeom prst="ellipse">
            <a:avLst/>
          </a:prstGeom>
          <a:gradFill rotWithShape="0">
            <a:gsLst>
              <a:gs pos="0">
                <a:srgbClr val="66ff33">
                  <a:alpha val="70196"/>
                </a:srgbClr>
              </a:gs>
              <a:gs pos="100000">
                <a:srgbClr val="2f751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11640" y="1700280"/>
            <a:ext cx="3097080" cy="3097080"/>
          </a:xfrm>
          <a:prstGeom prst="ellipse">
            <a:avLst/>
          </a:prstGeom>
          <a:gradFill rotWithShape="0">
            <a:gsLst>
              <a:gs pos="0">
                <a:srgbClr val="ccff33">
                  <a:alpha val="70196"/>
                </a:srgbClr>
              </a:gs>
              <a:gs pos="100000">
                <a:srgbClr val="5e751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244520" y="0"/>
            <a:ext cx="7113600" cy="6858000"/>
            <a:chOff x="1244520" y="0"/>
            <a:chExt cx="7113600" cy="6858000"/>
          </a:xfrm>
        </p:grpSpPr>
        <p:sp>
          <p:nvSpPr>
            <p:cNvPr id="196" name=""/>
            <p:cNvSpPr/>
            <p:nvPr/>
          </p:nvSpPr>
          <p:spPr>
            <a:xfrm>
              <a:off x="124452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89216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97324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55292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00372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9760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35812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3" name="" descr=""/>
          <p:cNvPicPr/>
          <p:nvPr/>
        </p:nvPicPr>
        <p:blipFill>
          <a:blip r:embed="rId5"/>
          <a:stretch/>
        </p:blipFill>
        <p:spPr>
          <a:xfrm>
            <a:off x="0" y="3860640"/>
            <a:ext cx="9144000" cy="1479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6"/>
          <a:stretch/>
        </p:blipFill>
        <p:spPr>
          <a:xfrm>
            <a:off x="0" y="2195640"/>
            <a:ext cx="9163080" cy="152280"/>
          </a:xfrm>
          <a:prstGeom prst="rect">
            <a:avLst/>
          </a:prstGeom>
          <a:ln w="0">
            <a:noFill/>
          </a:ln>
        </p:spPr>
      </p:pic>
      <p:grpSp>
        <p:nvGrpSpPr>
          <p:cNvPr id="205" name=""/>
          <p:cNvGrpSpPr/>
          <p:nvPr/>
        </p:nvGrpSpPr>
        <p:grpSpPr>
          <a:xfrm>
            <a:off x="0" y="1814400"/>
            <a:ext cx="9144000" cy="2000160"/>
            <a:chOff x="0" y="1814400"/>
            <a:chExt cx="9144000" cy="2000160"/>
          </a:xfrm>
        </p:grpSpPr>
        <p:sp>
          <p:nvSpPr>
            <p:cNvPr id="206" name=""/>
            <p:cNvSpPr/>
            <p:nvPr/>
          </p:nvSpPr>
          <p:spPr>
            <a:xfrm>
              <a:off x="0" y="1814400"/>
              <a:ext cx="9144000" cy="0"/>
            </a:xfrm>
            <a:prstGeom prst="line">
              <a:avLst/>
            </a:prstGeom>
            <a:ln w="1260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0" y="3228840"/>
              <a:ext cx="9144000" cy="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0" y="3514680"/>
              <a:ext cx="9144000" cy="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0" y="3814560"/>
              <a:ext cx="9144000" cy="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0" y="2643120"/>
            <a:ext cx="9144000" cy="1143000"/>
          </a:xfrm>
          <a:prstGeom prst="rect">
            <a:avLst/>
          </a:prstGeom>
          <a:solidFill>
            <a:srgbClr val="7c5438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1714680"/>
            <a:ext cx="9144000" cy="934920"/>
          </a:xfrm>
          <a:prstGeom prst="rect">
            <a:avLst/>
          </a:prstGeom>
          <a:solidFill>
            <a:srgbClr val="33cc33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0" y="-600120"/>
            <a:ext cx="10980720" cy="4365720"/>
            <a:chOff x="0" y="-600120"/>
            <a:chExt cx="10980720" cy="4365720"/>
          </a:xfrm>
        </p:grpSpPr>
        <p:sp>
          <p:nvSpPr>
            <p:cNvPr id="213" name=""/>
            <p:cNvSpPr/>
            <p:nvPr/>
          </p:nvSpPr>
          <p:spPr>
            <a:xfrm>
              <a:off x="755640" y="3333600"/>
              <a:ext cx="431640" cy="43200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187280" y="3116160"/>
              <a:ext cx="648000" cy="64764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835280" y="2684520"/>
              <a:ext cx="1079280" cy="107928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916360" y="2036880"/>
              <a:ext cx="1726920" cy="172692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492360" y="1701720"/>
              <a:ext cx="2063880" cy="206388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500720" y="1125360"/>
              <a:ext cx="2609640" cy="261000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940360" y="307800"/>
              <a:ext cx="3456000" cy="345600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093080" y="-195480"/>
              <a:ext cx="3887640" cy="388800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0" y="3765600"/>
              <a:ext cx="9144000" cy="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0" y="-600120"/>
              <a:ext cx="9144000" cy="436572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54200" y="-193680"/>
            <a:ext cx="10225080" cy="3960720"/>
            <a:chOff x="754200" y="-193680"/>
            <a:chExt cx="10225080" cy="3960720"/>
          </a:xfrm>
        </p:grpSpPr>
        <p:sp>
          <p:nvSpPr>
            <p:cNvPr id="224" name=""/>
            <p:cNvSpPr/>
            <p:nvPr/>
          </p:nvSpPr>
          <p:spPr>
            <a:xfrm>
              <a:off x="754200" y="3335400"/>
              <a:ext cx="431640" cy="43164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185840" y="3117960"/>
              <a:ext cx="648000" cy="64764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833840" y="2685960"/>
              <a:ext cx="1079280" cy="107964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914920" y="2038320"/>
              <a:ext cx="1726920" cy="172728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490920" y="1703520"/>
              <a:ext cx="2063880" cy="206352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499280" y="1127160"/>
              <a:ext cx="2609640" cy="260964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938920" y="309600"/>
              <a:ext cx="3456000" cy="345600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091640" y="-193680"/>
              <a:ext cx="3887640" cy="388764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754200" y="3319560"/>
            <a:ext cx="431640" cy="43164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185840" y="3102120"/>
            <a:ext cx="647640" cy="64764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833480" y="2670120"/>
            <a:ext cx="1079640" cy="107964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914560" y="2022480"/>
            <a:ext cx="1727280" cy="172728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490920" y="1687680"/>
            <a:ext cx="2063880" cy="206352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498920" y="1111320"/>
            <a:ext cx="2610000" cy="260964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851280" y="465120"/>
            <a:ext cx="3456000" cy="345600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091280" y="-209520"/>
            <a:ext cx="3888000" cy="388764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47640" y="2778120"/>
            <a:ext cx="7819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31800" y="2747880"/>
            <a:ext cx="7819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440000" y="0"/>
            <a:ext cx="7704000" cy="620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Arial"/>
              </a:rPr>
              <a:t>义务教育课程标准实验教科书数学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1" lang="zh-CN" sz="2300" spc="-1" strike="noStrike">
                <a:solidFill>
                  <a:srgbClr val="ffffff"/>
                </a:solidFill>
                <a:latin typeface="Arial"/>
              </a:rPr>
              <a:t>八年级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1" lang="zh-CN" sz="2300" spc="-1" strike="noStrike">
                <a:solidFill>
                  <a:srgbClr val="ffffff"/>
                </a:solidFill>
                <a:latin typeface="Arial"/>
              </a:rPr>
              <a:t>下册（泰山版）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692280"/>
            <a:ext cx="914400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71640" cy="55080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0" y="333360"/>
            <a:ext cx="9134640" cy="219240"/>
          </a:xfrm>
          <a:custGeom>
            <a:avLst/>
            <a:gdLst/>
            <a:ahLst/>
            <a:rect l="l" t="t" r="r" b="b"/>
            <a:pathLst>
              <a:path w="5754" h="138">
                <a:moveTo>
                  <a:pt x="0" y="138"/>
                </a:moveTo>
                <a:lnTo>
                  <a:pt x="578" y="136"/>
                </a:lnTo>
                <a:lnTo>
                  <a:pt x="720" y="2"/>
                </a:lnTo>
                <a:lnTo>
                  <a:pt x="5754" y="0"/>
                </a:lnTo>
              </a:path>
            </a:pathLst>
          </a:custGeom>
          <a:noFill/>
          <a:ln w="76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6453360"/>
            <a:ext cx="9144000" cy="0"/>
          </a:xfrm>
          <a:prstGeom prst="line">
            <a:avLst/>
          </a:prstGeom>
          <a:ln w="7632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8710560" y="6243480"/>
            <a:ext cx="433440" cy="570240"/>
            <a:chOff x="8710560" y="6243480"/>
            <a:chExt cx="433440" cy="570240"/>
          </a:xfrm>
        </p:grpSpPr>
        <p:grpSp>
          <p:nvGrpSpPr>
            <p:cNvPr id="284" name=""/>
            <p:cNvGrpSpPr/>
            <p:nvPr/>
          </p:nvGrpSpPr>
          <p:grpSpPr>
            <a:xfrm>
              <a:off x="8710560" y="6243480"/>
              <a:ext cx="433440" cy="412920"/>
              <a:chOff x="8710560" y="6243480"/>
              <a:chExt cx="433440" cy="412920"/>
            </a:xfrm>
          </p:grpSpPr>
          <p:sp>
            <p:nvSpPr>
              <p:cNvPr id="285" name=""/>
              <p:cNvSpPr/>
              <p:nvPr/>
            </p:nvSpPr>
            <p:spPr>
              <a:xfrm>
                <a:off x="8738280" y="6269760"/>
                <a:ext cx="382680" cy="386640"/>
              </a:xfrm>
              <a:prstGeom prst="ellipse">
                <a:avLst/>
              </a:prstGeom>
              <a:gradFill rotWithShape="0">
                <a:gsLst>
                  <a:gs pos="0">
                    <a:srgbClr val="003300"/>
                  </a:gs>
                  <a:gs pos="100000">
                    <a:srgbClr val="002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8777520" y="6280920"/>
                <a:ext cx="304200" cy="22752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80000"/>
                    </a:srgbClr>
                  </a:gs>
                  <a:gs pos="100000">
                    <a:srgbClr val="75757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8777880" y="6243480"/>
                <a:ext cx="236160" cy="23832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80000"/>
                    </a:srgbClr>
                  </a:gs>
                  <a:gs pos="100000">
                    <a:srgbClr val="757575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8710560" y="6293160"/>
                <a:ext cx="433440" cy="347760"/>
              </a:xfrm>
              <a:prstGeom prst="ellipse">
                <a:avLst/>
              </a:prstGeom>
              <a:gradFill rotWithShape="0">
                <a:gsLst>
                  <a:gs pos="0">
                    <a:srgbClr val="ffff66">
                      <a:alpha val="60000"/>
                    </a:srgbClr>
                  </a:gs>
                  <a:gs pos="100000">
                    <a:srgbClr val="75752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1A02B33-ECE4-4A85-B81E-DF5D054F848E}" type="slidenum">
                  <a:rPr b="1" lang="zh-CN" sz="1000" spc="-1" strike="noStrike">
                    <a:solidFill>
                      <a:srgbClr val="fc2514"/>
                    </a:solidFill>
                    <a:latin typeface="Arial"/>
                  </a:rPr>
                  <a:t>&lt;number&gt;</a:t>
                </a:fld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9" name=""/>
            <p:cNvSpPr/>
            <p:nvPr/>
          </p:nvSpPr>
          <p:spPr>
            <a:xfrm>
              <a:off x="8757720" y="6707520"/>
              <a:ext cx="341640" cy="1062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0000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0" name="" descr=""/>
          <p:cNvPicPr/>
          <p:nvPr/>
        </p:nvPicPr>
        <p:blipFill>
          <a:blip r:embed="rId3"/>
          <a:stretch/>
        </p:blipFill>
        <p:spPr>
          <a:xfrm>
            <a:off x="0" y="6121440"/>
            <a:ext cx="615960" cy="625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385920" y="1197000"/>
            <a:ext cx="5867280" cy="6119640"/>
          </a:xfrm>
          <a:prstGeom prst="ellipse">
            <a:avLst/>
          </a:prstGeom>
          <a:gradFill rotWithShape="0">
            <a:gsLst>
              <a:gs pos="0">
                <a:srgbClr val="ffcc00">
                  <a:alpha val="70196"/>
                </a:srgbClr>
              </a:gs>
              <a:gs pos="100000">
                <a:srgbClr val="755e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2"/>
          <a:srcRect l="15008" t="0" r="0" b="32751"/>
          <a:stretch/>
        </p:blipFill>
        <p:spPr>
          <a:xfrm>
            <a:off x="0" y="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395280" y="1197000"/>
            <a:ext cx="5867280" cy="6119640"/>
          </a:xfrm>
          <a:prstGeom prst="ellipse">
            <a:avLst/>
          </a:prstGeom>
          <a:gradFill rotWithShape="0">
            <a:gsLst>
              <a:gs pos="0">
                <a:srgbClr val="ffcc00">
                  <a:alpha val="70196"/>
                </a:srgbClr>
              </a:gs>
              <a:gs pos="100000">
                <a:srgbClr val="755e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95280" y="1197000"/>
            <a:ext cx="5867280" cy="6119640"/>
          </a:xfrm>
          <a:prstGeom prst="ellipse">
            <a:avLst/>
          </a:prstGeom>
          <a:gradFill rotWithShape="0">
            <a:gsLst>
              <a:gs pos="0">
                <a:srgbClr val="ffcc00">
                  <a:alpha val="70196"/>
                </a:srgbClr>
              </a:gs>
              <a:gs pos="100000">
                <a:srgbClr val="755e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0" y="0"/>
            <a:ext cx="1403280" cy="62064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54200" y="1916280"/>
            <a:ext cx="2376360" cy="2304720"/>
          </a:xfrm>
          <a:prstGeom prst="ellipse">
            <a:avLst/>
          </a:prstGeom>
          <a:gradFill rotWithShape="0">
            <a:gsLst>
              <a:gs pos="0">
                <a:srgbClr val="66ffff">
                  <a:alpha val="70196"/>
                </a:srgbClr>
              </a:gs>
              <a:gs pos="100000">
                <a:srgbClr val="2f757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219640" y="476280"/>
            <a:ext cx="3168720" cy="3384360"/>
          </a:xfrm>
          <a:prstGeom prst="ellipse">
            <a:avLst/>
          </a:prstGeom>
          <a:gradFill rotWithShape="0">
            <a:gsLst>
              <a:gs pos="0">
                <a:srgbClr val="66ff33">
                  <a:alpha val="70196"/>
                </a:srgbClr>
              </a:gs>
              <a:gs pos="100000">
                <a:srgbClr val="2f751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211640" y="1700280"/>
            <a:ext cx="3097080" cy="3097080"/>
          </a:xfrm>
          <a:prstGeom prst="ellipse">
            <a:avLst/>
          </a:prstGeom>
          <a:gradFill rotWithShape="0">
            <a:gsLst>
              <a:gs pos="0">
                <a:srgbClr val="ccff33">
                  <a:alpha val="70196"/>
                </a:srgbClr>
              </a:gs>
              <a:gs pos="100000">
                <a:srgbClr val="5e751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1244520" y="0"/>
            <a:ext cx="7113600" cy="6858000"/>
            <a:chOff x="1244520" y="0"/>
            <a:chExt cx="7113600" cy="6858000"/>
          </a:xfrm>
        </p:grpSpPr>
        <p:sp>
          <p:nvSpPr>
            <p:cNvPr id="339" name=""/>
            <p:cNvSpPr/>
            <p:nvPr/>
          </p:nvSpPr>
          <p:spPr>
            <a:xfrm>
              <a:off x="124452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89216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97324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55292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00372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79760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35812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6" name="" descr=""/>
          <p:cNvPicPr/>
          <p:nvPr/>
        </p:nvPicPr>
        <p:blipFill>
          <a:blip r:embed="rId4"/>
          <a:stretch/>
        </p:blipFill>
        <p:spPr>
          <a:xfrm>
            <a:off x="0" y="3860640"/>
            <a:ext cx="9144000" cy="14796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5"/>
          <a:stretch/>
        </p:blipFill>
        <p:spPr>
          <a:xfrm>
            <a:off x="0" y="2195640"/>
            <a:ext cx="9163080" cy="152280"/>
          </a:xfrm>
          <a:prstGeom prst="rect">
            <a:avLst/>
          </a:prstGeom>
          <a:ln w="0">
            <a:noFill/>
          </a:ln>
        </p:spPr>
      </p:pic>
      <p:grpSp>
        <p:nvGrpSpPr>
          <p:cNvPr id="348" name=""/>
          <p:cNvGrpSpPr/>
          <p:nvPr/>
        </p:nvGrpSpPr>
        <p:grpSpPr>
          <a:xfrm>
            <a:off x="0" y="1814400"/>
            <a:ext cx="9144000" cy="2000160"/>
            <a:chOff x="0" y="1814400"/>
            <a:chExt cx="9144000" cy="2000160"/>
          </a:xfrm>
        </p:grpSpPr>
        <p:sp>
          <p:nvSpPr>
            <p:cNvPr id="349" name=""/>
            <p:cNvSpPr/>
            <p:nvPr/>
          </p:nvSpPr>
          <p:spPr>
            <a:xfrm>
              <a:off x="0" y="1814400"/>
              <a:ext cx="9144000" cy="0"/>
            </a:xfrm>
            <a:prstGeom prst="line">
              <a:avLst/>
            </a:prstGeom>
            <a:ln w="1260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0" y="3228840"/>
              <a:ext cx="9144000" cy="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0" y="3514680"/>
              <a:ext cx="9144000" cy="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0" y="3814560"/>
              <a:ext cx="9144000" cy="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0" y="2643120"/>
            <a:ext cx="9144000" cy="1143000"/>
          </a:xfrm>
          <a:prstGeom prst="rect">
            <a:avLst/>
          </a:prstGeom>
          <a:solidFill>
            <a:srgbClr val="7c5438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1714680"/>
            <a:ext cx="9144000" cy="934920"/>
          </a:xfrm>
          <a:prstGeom prst="rect">
            <a:avLst/>
          </a:prstGeom>
          <a:solidFill>
            <a:srgbClr val="33cc33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0" y="-600120"/>
            <a:ext cx="10980720" cy="4365720"/>
            <a:chOff x="0" y="-600120"/>
            <a:chExt cx="10980720" cy="4365720"/>
          </a:xfrm>
        </p:grpSpPr>
        <p:sp>
          <p:nvSpPr>
            <p:cNvPr id="356" name=""/>
            <p:cNvSpPr/>
            <p:nvPr/>
          </p:nvSpPr>
          <p:spPr>
            <a:xfrm>
              <a:off x="755640" y="3333600"/>
              <a:ext cx="431640" cy="43200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187280" y="3116160"/>
              <a:ext cx="648000" cy="64764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835280" y="2684520"/>
              <a:ext cx="1079280" cy="107928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916360" y="2036880"/>
              <a:ext cx="1726920" cy="172692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492360" y="1701720"/>
              <a:ext cx="2063880" cy="206388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500720" y="1125360"/>
              <a:ext cx="2609640" cy="261000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940360" y="307800"/>
              <a:ext cx="3456000" cy="345600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093080" y="-195480"/>
              <a:ext cx="3887640" cy="388800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0" y="3765600"/>
              <a:ext cx="9144000" cy="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0" y="-600120"/>
              <a:ext cx="9144000" cy="436572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754200" y="-193680"/>
            <a:ext cx="10225080" cy="3960720"/>
            <a:chOff x="754200" y="-193680"/>
            <a:chExt cx="10225080" cy="3960720"/>
          </a:xfrm>
        </p:grpSpPr>
        <p:sp>
          <p:nvSpPr>
            <p:cNvPr id="367" name=""/>
            <p:cNvSpPr/>
            <p:nvPr/>
          </p:nvSpPr>
          <p:spPr>
            <a:xfrm>
              <a:off x="754200" y="3335400"/>
              <a:ext cx="431640" cy="43164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185840" y="3117960"/>
              <a:ext cx="648000" cy="64764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833840" y="2685960"/>
              <a:ext cx="1079280" cy="107964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914920" y="2038320"/>
              <a:ext cx="1726920" cy="172728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490920" y="1703520"/>
              <a:ext cx="2063880" cy="206352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499280" y="1127160"/>
              <a:ext cx="2609640" cy="260964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938920" y="309600"/>
              <a:ext cx="3456000" cy="345600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091640" y="-193680"/>
              <a:ext cx="3887640" cy="388764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754200" y="3319560"/>
            <a:ext cx="431640" cy="43164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185840" y="3102120"/>
            <a:ext cx="647640" cy="64764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833480" y="2670120"/>
            <a:ext cx="1079640" cy="107964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914560" y="2022480"/>
            <a:ext cx="1727280" cy="172728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490920" y="1687680"/>
            <a:ext cx="2063880" cy="206352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498920" y="1111320"/>
            <a:ext cx="2610000" cy="260964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940360" y="333360"/>
            <a:ext cx="3456000" cy="345600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091280" y="-209520"/>
            <a:ext cx="3888000" cy="388764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47640" y="2778120"/>
            <a:ext cx="7819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31800" y="2747880"/>
            <a:ext cx="7819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403280" y="0"/>
            <a:ext cx="7129440" cy="620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义务教育课程标准实验教科书数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八年级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上册（泰山版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0" y="692280"/>
            <a:ext cx="914400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0" y="4797360"/>
            <a:ext cx="9144000" cy="935280"/>
          </a:xfrm>
          <a:prstGeom prst="rect">
            <a:avLst/>
          </a:prstGeom>
          <a:gradFill rotWithShape="0">
            <a:gsLst>
              <a:gs pos="0">
                <a:srgbClr val="00cc00">
                  <a:alpha val="14117"/>
                </a:srgbClr>
              </a:gs>
              <a:gs pos="100000">
                <a:srgbClr val="0000ff">
                  <a:alpha val="19215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167760" y="2909880"/>
            <a:ext cx="4371120" cy="3480120"/>
            <a:chOff x="167760" y="2909880"/>
            <a:chExt cx="4371120" cy="3480120"/>
          </a:xfrm>
        </p:grpSpPr>
        <p:grpSp>
          <p:nvGrpSpPr>
            <p:cNvPr id="389" name=""/>
            <p:cNvGrpSpPr/>
            <p:nvPr/>
          </p:nvGrpSpPr>
          <p:grpSpPr>
            <a:xfrm>
              <a:off x="1184040" y="2909880"/>
              <a:ext cx="3354840" cy="3198960"/>
              <a:chOff x="1184040" y="2909880"/>
              <a:chExt cx="3354840" cy="3198960"/>
            </a:xfrm>
          </p:grpSpPr>
          <p:sp>
            <p:nvSpPr>
              <p:cNvPr id="390" name=""/>
              <p:cNvSpPr/>
              <p:nvPr/>
            </p:nvSpPr>
            <p:spPr>
              <a:xfrm rot="13340400">
                <a:off x="1462680" y="3573000"/>
                <a:ext cx="2695320" cy="1872000"/>
              </a:xfrm>
              <a:custGeom>
                <a:avLst/>
                <a:gdLst/>
                <a:ahLst/>
                <a:rect l="l" t="t" r="r" b="b"/>
                <a:pathLst>
                  <a:path w="2112" h="1344">
                    <a:moveTo>
                      <a:pt x="0" y="0"/>
                    </a:moveTo>
                    <a:lnTo>
                      <a:pt x="0" y="1344"/>
                    </a:lnTo>
                    <a:lnTo>
                      <a:pt x="21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f2ff">
                  <a:alpha val="50000"/>
                </a:srgbClr>
              </a:solidFill>
              <a:ln w="190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1" name=""/>
              <p:cNvGrpSpPr/>
              <p:nvPr/>
            </p:nvGrpSpPr>
            <p:grpSpPr>
              <a:xfrm>
                <a:off x="2970360" y="4759200"/>
                <a:ext cx="1218240" cy="1302840"/>
                <a:chOff x="2970360" y="4759200"/>
                <a:chExt cx="1218240" cy="1302840"/>
              </a:xfrm>
            </p:grpSpPr>
            <p:grpSp>
              <p:nvGrpSpPr>
                <p:cNvPr id="392" name=""/>
                <p:cNvGrpSpPr/>
                <p:nvPr/>
              </p:nvGrpSpPr>
              <p:grpSpPr>
                <a:xfrm>
                  <a:off x="3263040" y="4974120"/>
                  <a:ext cx="923400" cy="1017360"/>
                  <a:chOff x="3263040" y="4974120"/>
                  <a:chExt cx="923400" cy="1017360"/>
                </a:xfrm>
              </p:grpSpPr>
              <p:sp>
                <p:nvSpPr>
                  <p:cNvPr id="393" name=""/>
                  <p:cNvSpPr/>
                  <p:nvPr/>
                </p:nvSpPr>
                <p:spPr>
                  <a:xfrm flipH="1" flipV="1">
                    <a:off x="4145760" y="4974120"/>
                    <a:ext cx="40680" cy="3672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 flipH="1" flipV="1">
                    <a:off x="4149360" y="500760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 flipH="1" flipV="1">
                    <a:off x="4133520" y="502524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 flipH="1" flipV="1">
                    <a:off x="4118760" y="5041440"/>
                    <a:ext cx="2160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 flipH="1" flipV="1">
                    <a:off x="4102560" y="505908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 flipH="1" flipV="1">
                    <a:off x="4076640" y="5065560"/>
                    <a:ext cx="32760" cy="298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 flipH="1" flipV="1">
                    <a:off x="4071600" y="5092920"/>
                    <a:ext cx="21960" cy="201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 flipH="1" flipV="1">
                    <a:off x="4056840" y="5109120"/>
                    <a:ext cx="21960" cy="201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 flipH="1" flipV="1">
                    <a:off x="4041720" y="5126040"/>
                    <a:ext cx="2160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 flipH="1" flipV="1">
                    <a:off x="4025520" y="514368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 flipH="1" flipV="1">
                    <a:off x="3997080" y="5147640"/>
                    <a:ext cx="35640" cy="3204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 flipH="1" flipV="1">
                    <a:off x="3994920" y="5177520"/>
                    <a:ext cx="2160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 flipH="1" flipV="1">
                    <a:off x="3979800" y="5193720"/>
                    <a:ext cx="21600" cy="201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 flipH="1" flipV="1">
                    <a:off x="3964680" y="5210280"/>
                    <a:ext cx="21960" cy="201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 flipH="1" flipV="1">
                    <a:off x="3938040" y="5217840"/>
                    <a:ext cx="32760" cy="298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 flipH="1" flipV="1">
                    <a:off x="3933720" y="524448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 flipH="1" flipV="1">
                    <a:off x="3917520" y="526212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 flipH="1" flipV="1">
                    <a:off x="3902760" y="527832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 flipH="1" flipV="1">
                    <a:off x="3886920" y="529596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 flipH="1" flipV="1">
                    <a:off x="3848760" y="5291280"/>
                    <a:ext cx="45000" cy="4104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 flipH="1" flipV="1">
                    <a:off x="3857040" y="532872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 flipH="1" flipV="1">
                    <a:off x="3841200" y="5346000"/>
                    <a:ext cx="21600" cy="201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 flipH="1" flipV="1">
                    <a:off x="3825720" y="536292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 flipH="1" flipV="1">
                    <a:off x="3809880" y="538020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 flipH="1" flipV="1">
                    <a:off x="3783960" y="5386680"/>
                    <a:ext cx="32760" cy="298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 flipH="1" flipV="1">
                    <a:off x="3780000" y="541332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 flipH="1" flipV="1">
                    <a:off x="3763800" y="5430600"/>
                    <a:ext cx="21960" cy="201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 flipH="1" flipV="1">
                    <a:off x="3749040" y="5447160"/>
                    <a:ext cx="2160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 flipH="1" flipV="1">
                    <a:off x="3733200" y="546444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 flipH="1" flipV="1">
                    <a:off x="3694680" y="5460120"/>
                    <a:ext cx="45000" cy="4104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 flipH="1" flipV="1">
                    <a:off x="3702240" y="5498640"/>
                    <a:ext cx="2160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 flipH="1" flipV="1">
                    <a:off x="3686760" y="5515200"/>
                    <a:ext cx="21960" cy="201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 flipH="1" flipV="1">
                    <a:off x="3672000" y="5531400"/>
                    <a:ext cx="21960" cy="201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 flipH="1" flipV="1">
                    <a:off x="3645000" y="5539320"/>
                    <a:ext cx="32760" cy="295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 flipH="1" flipV="1">
                    <a:off x="3641040" y="556560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 flipH="1" flipV="1">
                    <a:off x="3625200" y="5583240"/>
                    <a:ext cx="2160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 flipH="1" flipV="1">
                    <a:off x="3610080" y="559944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 flipH="1" flipV="1">
                    <a:off x="3594240" y="561708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 flipH="1" flipV="1">
                    <a:off x="3555720" y="5612760"/>
                    <a:ext cx="45000" cy="4104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 flipH="1" flipV="1">
                    <a:off x="3564000" y="5649840"/>
                    <a:ext cx="21960" cy="201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 flipH="1" flipV="1">
                    <a:off x="3548160" y="566748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 flipH="1" flipV="1">
                    <a:off x="3533040" y="568404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 flipH="1" flipV="1">
                    <a:off x="3517200" y="5701680"/>
                    <a:ext cx="2160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 flipH="1" flipV="1">
                    <a:off x="3491280" y="5707800"/>
                    <a:ext cx="32760" cy="298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 flipH="1" flipV="1">
                    <a:off x="3486960" y="5734440"/>
                    <a:ext cx="21960" cy="201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 flipH="1" flipV="1">
                    <a:off x="3471120" y="5752080"/>
                    <a:ext cx="2160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 flipH="1" flipV="1">
                    <a:off x="3456360" y="5768280"/>
                    <a:ext cx="21600" cy="201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 flipH="1" flipV="1">
                    <a:off x="3440160" y="578592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 flipH="1" flipV="1">
                    <a:off x="3411720" y="5790240"/>
                    <a:ext cx="35280" cy="3204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 flipH="1" flipV="1">
                    <a:off x="3409200" y="582012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 flipH="1" flipV="1">
                    <a:off x="3394440" y="583632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 flipH="1" flipV="1">
                    <a:off x="3379320" y="5852880"/>
                    <a:ext cx="21600" cy="201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 flipH="1" flipV="1">
                    <a:off x="3352320" y="5860800"/>
                    <a:ext cx="32760" cy="295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 flipH="1" flipV="1">
                    <a:off x="3348360" y="588672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 flipH="1" flipV="1">
                    <a:off x="3332520" y="5904360"/>
                    <a:ext cx="2160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 flipH="1" flipV="1">
                    <a:off x="3317400" y="5920920"/>
                    <a:ext cx="2160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 flipH="1" flipV="1">
                    <a:off x="3302280" y="593748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 flipH="1" flipV="1">
                    <a:off x="3263040" y="5933880"/>
                    <a:ext cx="45000" cy="4104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 flipH="1" flipV="1">
                    <a:off x="3271320" y="5971320"/>
                    <a:ext cx="21600" cy="201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52" name=""/>
                <p:cNvSpPr/>
                <p:nvPr/>
              </p:nvSpPr>
              <p:spPr>
                <a:xfrm rot="7940400">
                  <a:off x="2810160" y="5287320"/>
                  <a:ext cx="1538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40000"/>
                      </a:solidFill>
                      <a:latin typeface="Times New Roman"/>
                    </a:rPr>
                    <a:t>0     1      2     3      4      5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3" name=""/>
              <p:cNvGrpSpPr/>
              <p:nvPr/>
            </p:nvGrpSpPr>
            <p:grpSpPr>
              <a:xfrm>
                <a:off x="1431000" y="4244040"/>
                <a:ext cx="1892880" cy="1755720"/>
                <a:chOff x="1431000" y="4244040"/>
                <a:chExt cx="1892880" cy="1755720"/>
              </a:xfrm>
            </p:grpSpPr>
            <p:grpSp>
              <p:nvGrpSpPr>
                <p:cNvPr id="454" name=""/>
                <p:cNvGrpSpPr/>
                <p:nvPr/>
              </p:nvGrpSpPr>
              <p:grpSpPr>
                <a:xfrm>
                  <a:off x="1597320" y="4587480"/>
                  <a:ext cx="1501560" cy="1377720"/>
                  <a:chOff x="1597320" y="4587480"/>
                  <a:chExt cx="1501560" cy="1377720"/>
                </a:xfrm>
              </p:grpSpPr>
              <p:grpSp>
                <p:nvGrpSpPr>
                  <p:cNvPr id="455" name=""/>
                  <p:cNvGrpSpPr/>
                  <p:nvPr/>
                </p:nvGrpSpPr>
                <p:grpSpPr>
                  <a:xfrm>
                    <a:off x="1628280" y="4635000"/>
                    <a:ext cx="1470600" cy="1330200"/>
                    <a:chOff x="1628280" y="4635000"/>
                    <a:chExt cx="1470600" cy="1330200"/>
                  </a:xfrm>
                </p:grpSpPr>
                <p:sp>
                  <p:nvSpPr>
                    <p:cNvPr id="456" name=""/>
                    <p:cNvSpPr/>
                    <p:nvPr/>
                  </p:nvSpPr>
                  <p:spPr>
                    <a:xfrm flipV="1">
                      <a:off x="3068640" y="5931720"/>
                      <a:ext cx="30240" cy="3348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7" name=""/>
                    <p:cNvSpPr/>
                    <p:nvPr/>
                  </p:nvSpPr>
                  <p:spPr>
                    <a:xfrm flipV="1">
                      <a:off x="3053160" y="593352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8" name=""/>
                    <p:cNvSpPr/>
                    <p:nvPr/>
                  </p:nvSpPr>
                  <p:spPr>
                    <a:xfrm flipV="1">
                      <a:off x="3037680" y="591948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9" name=""/>
                    <p:cNvSpPr/>
                    <p:nvPr/>
                  </p:nvSpPr>
                  <p:spPr>
                    <a:xfrm flipV="1">
                      <a:off x="3022200" y="590544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0" name=""/>
                    <p:cNvSpPr/>
                    <p:nvPr/>
                  </p:nvSpPr>
                  <p:spPr>
                    <a:xfrm flipV="1">
                      <a:off x="3006720" y="589140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1" name=""/>
                    <p:cNvSpPr/>
                    <p:nvPr/>
                  </p:nvSpPr>
                  <p:spPr>
                    <a:xfrm flipV="1">
                      <a:off x="2991600" y="5867640"/>
                      <a:ext cx="24480" cy="270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2" name=""/>
                    <p:cNvSpPr/>
                    <p:nvPr/>
                  </p:nvSpPr>
                  <p:spPr>
                    <a:xfrm flipV="1">
                      <a:off x="2975760" y="5862240"/>
                      <a:ext cx="1656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3" name=""/>
                    <p:cNvSpPr/>
                    <p:nvPr/>
                  </p:nvSpPr>
                  <p:spPr>
                    <a:xfrm flipV="1">
                      <a:off x="2960280" y="5848200"/>
                      <a:ext cx="1656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4" name=""/>
                    <p:cNvSpPr/>
                    <p:nvPr/>
                  </p:nvSpPr>
                  <p:spPr>
                    <a:xfrm flipV="1">
                      <a:off x="2944800" y="5834160"/>
                      <a:ext cx="1656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5" name=""/>
                    <p:cNvSpPr/>
                    <p:nvPr/>
                  </p:nvSpPr>
                  <p:spPr>
                    <a:xfrm flipV="1">
                      <a:off x="2929320" y="5820120"/>
                      <a:ext cx="1656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6" name=""/>
                    <p:cNvSpPr/>
                    <p:nvPr/>
                  </p:nvSpPr>
                  <p:spPr>
                    <a:xfrm flipV="1">
                      <a:off x="2913840" y="5794200"/>
                      <a:ext cx="27000" cy="2988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7" name=""/>
                    <p:cNvSpPr/>
                    <p:nvPr/>
                  </p:nvSpPr>
                  <p:spPr>
                    <a:xfrm flipV="1">
                      <a:off x="2898360" y="579240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8" name=""/>
                    <p:cNvSpPr/>
                    <p:nvPr/>
                  </p:nvSpPr>
                  <p:spPr>
                    <a:xfrm flipV="1">
                      <a:off x="2882880" y="577836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9" name=""/>
                    <p:cNvSpPr/>
                    <p:nvPr/>
                  </p:nvSpPr>
                  <p:spPr>
                    <a:xfrm flipV="1">
                      <a:off x="2867400" y="576432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0" name=""/>
                    <p:cNvSpPr/>
                    <p:nvPr/>
                  </p:nvSpPr>
                  <p:spPr>
                    <a:xfrm flipV="1">
                      <a:off x="2851920" y="5740560"/>
                      <a:ext cx="24840" cy="27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1" name=""/>
                    <p:cNvSpPr/>
                    <p:nvPr/>
                  </p:nvSpPr>
                  <p:spPr>
                    <a:xfrm flipV="1">
                      <a:off x="2836440" y="573588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2" name=""/>
                    <p:cNvSpPr/>
                    <p:nvPr/>
                  </p:nvSpPr>
                  <p:spPr>
                    <a:xfrm flipV="1">
                      <a:off x="2820960" y="572184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3" name=""/>
                    <p:cNvSpPr/>
                    <p:nvPr/>
                  </p:nvSpPr>
                  <p:spPr>
                    <a:xfrm flipV="1">
                      <a:off x="2805480" y="570780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4" name=""/>
                    <p:cNvSpPr/>
                    <p:nvPr/>
                  </p:nvSpPr>
                  <p:spPr>
                    <a:xfrm flipV="1">
                      <a:off x="2790000" y="569376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5" name=""/>
                    <p:cNvSpPr/>
                    <p:nvPr/>
                  </p:nvSpPr>
                  <p:spPr>
                    <a:xfrm flipV="1">
                      <a:off x="2774160" y="5659920"/>
                      <a:ext cx="33840" cy="3708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720" bIns="-9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6" name=""/>
                    <p:cNvSpPr/>
                    <p:nvPr/>
                  </p:nvSpPr>
                  <p:spPr>
                    <a:xfrm flipV="1">
                      <a:off x="2759040" y="566532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7" name=""/>
                    <p:cNvSpPr/>
                    <p:nvPr/>
                  </p:nvSpPr>
                  <p:spPr>
                    <a:xfrm flipV="1">
                      <a:off x="2743560" y="565128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8" name=""/>
                    <p:cNvSpPr/>
                    <p:nvPr/>
                  </p:nvSpPr>
                  <p:spPr>
                    <a:xfrm flipV="1">
                      <a:off x="2728080" y="563724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9" name=""/>
                    <p:cNvSpPr/>
                    <p:nvPr/>
                  </p:nvSpPr>
                  <p:spPr>
                    <a:xfrm flipV="1">
                      <a:off x="2712600" y="562320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0" name=""/>
                    <p:cNvSpPr/>
                    <p:nvPr/>
                  </p:nvSpPr>
                  <p:spPr>
                    <a:xfrm flipV="1">
                      <a:off x="2696760" y="5599080"/>
                      <a:ext cx="24840" cy="27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1" name=""/>
                    <p:cNvSpPr/>
                    <p:nvPr/>
                  </p:nvSpPr>
                  <p:spPr>
                    <a:xfrm flipV="1">
                      <a:off x="2681280" y="559476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2" name=""/>
                    <p:cNvSpPr/>
                    <p:nvPr/>
                  </p:nvSpPr>
                  <p:spPr>
                    <a:xfrm flipV="1">
                      <a:off x="2666160" y="558072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3" name=""/>
                    <p:cNvSpPr/>
                    <p:nvPr/>
                  </p:nvSpPr>
                  <p:spPr>
                    <a:xfrm flipV="1">
                      <a:off x="2650680" y="556668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4" name=""/>
                    <p:cNvSpPr/>
                    <p:nvPr/>
                  </p:nvSpPr>
                  <p:spPr>
                    <a:xfrm flipV="1">
                      <a:off x="2634840" y="555228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5" name=""/>
                    <p:cNvSpPr/>
                    <p:nvPr/>
                  </p:nvSpPr>
                  <p:spPr>
                    <a:xfrm flipV="1">
                      <a:off x="2619360" y="5518800"/>
                      <a:ext cx="33840" cy="3708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720" bIns="-9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6" name=""/>
                    <p:cNvSpPr/>
                    <p:nvPr/>
                  </p:nvSpPr>
                  <p:spPr>
                    <a:xfrm flipV="1">
                      <a:off x="2603880" y="552420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7" name=""/>
                    <p:cNvSpPr/>
                    <p:nvPr/>
                  </p:nvSpPr>
                  <p:spPr>
                    <a:xfrm flipV="1">
                      <a:off x="2588400" y="551016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8" name=""/>
                    <p:cNvSpPr/>
                    <p:nvPr/>
                  </p:nvSpPr>
                  <p:spPr>
                    <a:xfrm flipV="1">
                      <a:off x="2573280" y="549612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9" name=""/>
                    <p:cNvSpPr/>
                    <p:nvPr/>
                  </p:nvSpPr>
                  <p:spPr>
                    <a:xfrm flipV="1">
                      <a:off x="2557800" y="5472360"/>
                      <a:ext cx="24480" cy="27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0" name=""/>
                    <p:cNvSpPr/>
                    <p:nvPr/>
                  </p:nvSpPr>
                  <p:spPr>
                    <a:xfrm flipV="1">
                      <a:off x="2541960" y="546768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1" name=""/>
                    <p:cNvSpPr/>
                    <p:nvPr/>
                  </p:nvSpPr>
                  <p:spPr>
                    <a:xfrm flipV="1">
                      <a:off x="2526480" y="545364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2" name=""/>
                    <p:cNvSpPr/>
                    <p:nvPr/>
                  </p:nvSpPr>
                  <p:spPr>
                    <a:xfrm flipV="1">
                      <a:off x="2511000" y="543960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3" name=""/>
                    <p:cNvSpPr/>
                    <p:nvPr/>
                  </p:nvSpPr>
                  <p:spPr>
                    <a:xfrm flipV="1">
                      <a:off x="2495520" y="542556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4" name=""/>
                    <p:cNvSpPr/>
                    <p:nvPr/>
                  </p:nvSpPr>
                  <p:spPr>
                    <a:xfrm flipV="1">
                      <a:off x="2480400" y="5392080"/>
                      <a:ext cx="33480" cy="3708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720" bIns="-9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5" name=""/>
                    <p:cNvSpPr/>
                    <p:nvPr/>
                  </p:nvSpPr>
                  <p:spPr>
                    <a:xfrm flipV="1">
                      <a:off x="2464560" y="539712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6" name=""/>
                    <p:cNvSpPr/>
                    <p:nvPr/>
                  </p:nvSpPr>
                  <p:spPr>
                    <a:xfrm flipV="1">
                      <a:off x="2449080" y="538308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7" name=""/>
                    <p:cNvSpPr/>
                    <p:nvPr/>
                  </p:nvSpPr>
                  <p:spPr>
                    <a:xfrm flipV="1">
                      <a:off x="2433600" y="536904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8" name=""/>
                    <p:cNvSpPr/>
                    <p:nvPr/>
                  </p:nvSpPr>
                  <p:spPr>
                    <a:xfrm flipV="1">
                      <a:off x="2418120" y="535500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9" name=""/>
                    <p:cNvSpPr/>
                    <p:nvPr/>
                  </p:nvSpPr>
                  <p:spPr>
                    <a:xfrm flipV="1">
                      <a:off x="2402640" y="5331240"/>
                      <a:ext cx="24480" cy="270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0" name=""/>
                    <p:cNvSpPr/>
                    <p:nvPr/>
                  </p:nvSpPr>
                  <p:spPr>
                    <a:xfrm flipV="1">
                      <a:off x="2387160" y="5326200"/>
                      <a:ext cx="16560" cy="180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1" name=""/>
                    <p:cNvSpPr/>
                    <p:nvPr/>
                  </p:nvSpPr>
                  <p:spPr>
                    <a:xfrm flipV="1">
                      <a:off x="2371680" y="5312160"/>
                      <a:ext cx="16560" cy="180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2" name=""/>
                    <p:cNvSpPr/>
                    <p:nvPr/>
                  </p:nvSpPr>
                  <p:spPr>
                    <a:xfrm flipV="1">
                      <a:off x="2356200" y="5297760"/>
                      <a:ext cx="1656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3" name=""/>
                    <p:cNvSpPr/>
                    <p:nvPr/>
                  </p:nvSpPr>
                  <p:spPr>
                    <a:xfrm flipV="1">
                      <a:off x="2340720" y="5283720"/>
                      <a:ext cx="1656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4" name=""/>
                    <p:cNvSpPr/>
                    <p:nvPr/>
                  </p:nvSpPr>
                  <p:spPr>
                    <a:xfrm flipV="1">
                      <a:off x="2325240" y="5257800"/>
                      <a:ext cx="27000" cy="2988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5" name=""/>
                    <p:cNvSpPr/>
                    <p:nvPr/>
                  </p:nvSpPr>
                  <p:spPr>
                    <a:xfrm flipV="1">
                      <a:off x="2309760" y="525600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6" name=""/>
                    <p:cNvSpPr/>
                    <p:nvPr/>
                  </p:nvSpPr>
                  <p:spPr>
                    <a:xfrm flipV="1">
                      <a:off x="2294280" y="524196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7" name=""/>
                    <p:cNvSpPr/>
                    <p:nvPr/>
                  </p:nvSpPr>
                  <p:spPr>
                    <a:xfrm flipV="1">
                      <a:off x="2278800" y="522792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8" name=""/>
                    <p:cNvSpPr/>
                    <p:nvPr/>
                  </p:nvSpPr>
                  <p:spPr>
                    <a:xfrm flipV="1">
                      <a:off x="2262960" y="5204160"/>
                      <a:ext cx="24840" cy="270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9" name=""/>
                    <p:cNvSpPr/>
                    <p:nvPr/>
                  </p:nvSpPr>
                  <p:spPr>
                    <a:xfrm flipV="1">
                      <a:off x="2247840" y="519948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0" name=""/>
                    <p:cNvSpPr/>
                    <p:nvPr/>
                  </p:nvSpPr>
                  <p:spPr>
                    <a:xfrm flipV="1">
                      <a:off x="2232360" y="518544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1" name=""/>
                    <p:cNvSpPr/>
                    <p:nvPr/>
                  </p:nvSpPr>
                  <p:spPr>
                    <a:xfrm flipV="1">
                      <a:off x="2216880" y="517140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2" name=""/>
                    <p:cNvSpPr/>
                    <p:nvPr/>
                  </p:nvSpPr>
                  <p:spPr>
                    <a:xfrm flipV="1">
                      <a:off x="2201400" y="515736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3" name=""/>
                    <p:cNvSpPr/>
                    <p:nvPr/>
                  </p:nvSpPr>
                  <p:spPr>
                    <a:xfrm flipV="1">
                      <a:off x="2185560" y="5123520"/>
                      <a:ext cx="33840" cy="3708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720" bIns="-9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4" name=""/>
                    <p:cNvSpPr/>
                    <p:nvPr/>
                  </p:nvSpPr>
                  <p:spPr>
                    <a:xfrm flipV="1">
                      <a:off x="2170080" y="512892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5" name=""/>
                    <p:cNvSpPr/>
                    <p:nvPr/>
                  </p:nvSpPr>
                  <p:spPr>
                    <a:xfrm flipV="1">
                      <a:off x="2154960" y="511488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6" name=""/>
                    <p:cNvSpPr/>
                    <p:nvPr/>
                  </p:nvSpPr>
                  <p:spPr>
                    <a:xfrm flipV="1">
                      <a:off x="2139480" y="510084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7" name=""/>
                    <p:cNvSpPr/>
                    <p:nvPr/>
                  </p:nvSpPr>
                  <p:spPr>
                    <a:xfrm flipV="1">
                      <a:off x="2123640" y="508644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8" name=""/>
                    <p:cNvSpPr/>
                    <p:nvPr/>
                  </p:nvSpPr>
                  <p:spPr>
                    <a:xfrm flipV="1">
                      <a:off x="2108160" y="5063040"/>
                      <a:ext cx="24840" cy="270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9" name=""/>
                    <p:cNvSpPr/>
                    <p:nvPr/>
                  </p:nvSpPr>
                  <p:spPr>
                    <a:xfrm flipV="1">
                      <a:off x="2092680" y="505836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0" name=""/>
                    <p:cNvSpPr/>
                    <p:nvPr/>
                  </p:nvSpPr>
                  <p:spPr>
                    <a:xfrm flipV="1">
                      <a:off x="2077560" y="504432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1" name=""/>
                    <p:cNvSpPr/>
                    <p:nvPr/>
                  </p:nvSpPr>
                  <p:spPr>
                    <a:xfrm flipV="1">
                      <a:off x="2062080" y="503028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2" name=""/>
                    <p:cNvSpPr/>
                    <p:nvPr/>
                  </p:nvSpPr>
                  <p:spPr>
                    <a:xfrm flipV="1">
                      <a:off x="2046600" y="501624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3" name=""/>
                    <p:cNvSpPr/>
                    <p:nvPr/>
                  </p:nvSpPr>
                  <p:spPr>
                    <a:xfrm flipV="1">
                      <a:off x="2030760" y="4982400"/>
                      <a:ext cx="33840" cy="3708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720" bIns="-9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4" name=""/>
                    <p:cNvSpPr/>
                    <p:nvPr/>
                  </p:nvSpPr>
                  <p:spPr>
                    <a:xfrm flipV="1">
                      <a:off x="2015280" y="498780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5" name=""/>
                    <p:cNvSpPr/>
                    <p:nvPr/>
                  </p:nvSpPr>
                  <p:spPr>
                    <a:xfrm flipV="1">
                      <a:off x="1999800" y="497376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6" name=""/>
                    <p:cNvSpPr/>
                    <p:nvPr/>
                  </p:nvSpPr>
                  <p:spPr>
                    <a:xfrm flipV="1">
                      <a:off x="1984680" y="495972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7" name=""/>
                    <p:cNvSpPr/>
                    <p:nvPr/>
                  </p:nvSpPr>
                  <p:spPr>
                    <a:xfrm flipV="1">
                      <a:off x="1969200" y="4935960"/>
                      <a:ext cx="24480" cy="27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8" name=""/>
                    <p:cNvSpPr/>
                    <p:nvPr/>
                  </p:nvSpPr>
                  <p:spPr>
                    <a:xfrm flipV="1">
                      <a:off x="1953360" y="493128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9" name=""/>
                    <p:cNvSpPr/>
                    <p:nvPr/>
                  </p:nvSpPr>
                  <p:spPr>
                    <a:xfrm flipV="1">
                      <a:off x="1937880" y="491724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0" name=""/>
                    <p:cNvSpPr/>
                    <p:nvPr/>
                  </p:nvSpPr>
                  <p:spPr>
                    <a:xfrm flipV="1">
                      <a:off x="1922400" y="490320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1" name=""/>
                    <p:cNvSpPr/>
                    <p:nvPr/>
                  </p:nvSpPr>
                  <p:spPr>
                    <a:xfrm flipV="1">
                      <a:off x="1906920" y="488916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2" name=""/>
                    <p:cNvSpPr/>
                    <p:nvPr/>
                  </p:nvSpPr>
                  <p:spPr>
                    <a:xfrm flipV="1">
                      <a:off x="1891440" y="4855320"/>
                      <a:ext cx="33480" cy="3708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720" bIns="-9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3" name=""/>
                    <p:cNvSpPr/>
                    <p:nvPr/>
                  </p:nvSpPr>
                  <p:spPr>
                    <a:xfrm flipV="1">
                      <a:off x="1875960" y="486072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4" name=""/>
                    <p:cNvSpPr/>
                    <p:nvPr/>
                  </p:nvSpPr>
                  <p:spPr>
                    <a:xfrm flipV="1">
                      <a:off x="1860480" y="484668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5" name=""/>
                    <p:cNvSpPr/>
                    <p:nvPr/>
                  </p:nvSpPr>
                  <p:spPr>
                    <a:xfrm flipV="1">
                      <a:off x="1845000" y="483264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6" name=""/>
                    <p:cNvSpPr/>
                    <p:nvPr/>
                  </p:nvSpPr>
                  <p:spPr>
                    <a:xfrm flipV="1">
                      <a:off x="1829520" y="481860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7" name=""/>
                    <p:cNvSpPr/>
                    <p:nvPr/>
                  </p:nvSpPr>
                  <p:spPr>
                    <a:xfrm flipV="1">
                      <a:off x="1814040" y="4794840"/>
                      <a:ext cx="24480" cy="270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8" name=""/>
                    <p:cNvSpPr/>
                    <p:nvPr/>
                  </p:nvSpPr>
                  <p:spPr>
                    <a:xfrm flipV="1">
                      <a:off x="1798560" y="4789800"/>
                      <a:ext cx="16560" cy="180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9" name=""/>
                    <p:cNvSpPr/>
                    <p:nvPr/>
                  </p:nvSpPr>
                  <p:spPr>
                    <a:xfrm flipV="1">
                      <a:off x="1783080" y="4775760"/>
                      <a:ext cx="16560" cy="180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0" name=""/>
                    <p:cNvSpPr/>
                    <p:nvPr/>
                  </p:nvSpPr>
                  <p:spPr>
                    <a:xfrm flipV="1">
                      <a:off x="1767600" y="4761720"/>
                      <a:ext cx="16560" cy="180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1" name=""/>
                    <p:cNvSpPr/>
                    <p:nvPr/>
                  </p:nvSpPr>
                  <p:spPr>
                    <a:xfrm flipV="1">
                      <a:off x="1752120" y="4747320"/>
                      <a:ext cx="16200" cy="180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2" name=""/>
                    <p:cNvSpPr/>
                    <p:nvPr/>
                  </p:nvSpPr>
                  <p:spPr>
                    <a:xfrm flipV="1">
                      <a:off x="1736640" y="4721400"/>
                      <a:ext cx="27000" cy="2988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3" name=""/>
                    <p:cNvSpPr/>
                    <p:nvPr/>
                  </p:nvSpPr>
                  <p:spPr>
                    <a:xfrm flipV="1">
                      <a:off x="1721160" y="471960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4" name=""/>
                    <p:cNvSpPr/>
                    <p:nvPr/>
                  </p:nvSpPr>
                  <p:spPr>
                    <a:xfrm flipV="1">
                      <a:off x="1705680" y="470556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5" name=""/>
                    <p:cNvSpPr/>
                    <p:nvPr/>
                  </p:nvSpPr>
                  <p:spPr>
                    <a:xfrm flipV="1">
                      <a:off x="1690200" y="469152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6" name=""/>
                    <p:cNvSpPr/>
                    <p:nvPr/>
                  </p:nvSpPr>
                  <p:spPr>
                    <a:xfrm flipV="1">
                      <a:off x="1674360" y="4667760"/>
                      <a:ext cx="24840" cy="270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7" name=""/>
                    <p:cNvSpPr/>
                    <p:nvPr/>
                  </p:nvSpPr>
                  <p:spPr>
                    <a:xfrm flipV="1">
                      <a:off x="1659240" y="466308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8" name=""/>
                    <p:cNvSpPr/>
                    <p:nvPr/>
                  </p:nvSpPr>
                  <p:spPr>
                    <a:xfrm flipV="1">
                      <a:off x="1643760" y="464904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9" name=""/>
                    <p:cNvSpPr/>
                    <p:nvPr/>
                  </p:nvSpPr>
                  <p:spPr>
                    <a:xfrm flipV="1">
                      <a:off x="1628280" y="463500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50" name=""/>
                  <p:cNvSpPr/>
                  <p:nvPr/>
                </p:nvSpPr>
                <p:spPr>
                  <a:xfrm flipV="1">
                    <a:off x="1612800" y="4620960"/>
                    <a:ext cx="15840" cy="176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 flipV="1">
                    <a:off x="1597320" y="4587480"/>
                    <a:ext cx="33840" cy="3708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52" name=""/>
                <p:cNvSpPr/>
                <p:nvPr/>
              </p:nvSpPr>
              <p:spPr>
                <a:xfrm rot="13340400">
                  <a:off x="1208880" y="4998600"/>
                  <a:ext cx="2336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40000"/>
                      </a:solidFill>
                      <a:latin typeface="Times New Roman"/>
                    </a:rPr>
                    <a:t>0     1      2     3      4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3" name=""/>
              <p:cNvGrpSpPr/>
              <p:nvPr/>
            </p:nvGrpSpPr>
            <p:grpSpPr>
              <a:xfrm>
                <a:off x="1902960" y="4401720"/>
                <a:ext cx="1969200" cy="387720"/>
                <a:chOff x="1902960" y="4401720"/>
                <a:chExt cx="1969200" cy="387720"/>
              </a:xfrm>
            </p:grpSpPr>
            <p:grpSp>
              <p:nvGrpSpPr>
                <p:cNvPr id="554" name=""/>
                <p:cNvGrpSpPr/>
                <p:nvPr/>
              </p:nvGrpSpPr>
              <p:grpSpPr>
                <a:xfrm>
                  <a:off x="1902960" y="4401720"/>
                  <a:ext cx="1927800" cy="356760"/>
                  <a:chOff x="1902960" y="4401720"/>
                  <a:chExt cx="1927800" cy="356760"/>
                </a:xfrm>
              </p:grpSpPr>
              <p:sp>
                <p:nvSpPr>
                  <p:cNvPr id="555" name=""/>
                  <p:cNvSpPr/>
                  <p:nvPr/>
                </p:nvSpPr>
                <p:spPr>
                  <a:xfrm flipH="1">
                    <a:off x="1902960" y="4401720"/>
                    <a:ext cx="7560" cy="4464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"/>
                  <p:cNvSpPr/>
                  <p:nvPr/>
                </p:nvSpPr>
                <p:spPr>
                  <a:xfrm flipH="1">
                    <a:off x="1927080" y="440532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7" name=""/>
                  <p:cNvSpPr/>
                  <p:nvPr/>
                </p:nvSpPr>
                <p:spPr>
                  <a:xfrm flipH="1">
                    <a:off x="1947600" y="440892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8" name=""/>
                  <p:cNvSpPr/>
                  <p:nvPr/>
                </p:nvSpPr>
                <p:spPr>
                  <a:xfrm flipH="1">
                    <a:off x="1968120" y="441252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9" name=""/>
                  <p:cNvSpPr/>
                  <p:nvPr/>
                </p:nvSpPr>
                <p:spPr>
                  <a:xfrm flipH="1">
                    <a:off x="1988640" y="4416120"/>
                    <a:ext cx="432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0" name=""/>
                  <p:cNvSpPr/>
                  <p:nvPr/>
                </p:nvSpPr>
                <p:spPr>
                  <a:xfrm flipH="1">
                    <a:off x="2007000" y="4419720"/>
                    <a:ext cx="6480" cy="360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1" name=""/>
                  <p:cNvSpPr/>
                  <p:nvPr/>
                </p:nvSpPr>
                <p:spPr>
                  <a:xfrm flipH="1">
                    <a:off x="2030040" y="4423320"/>
                    <a:ext cx="4320" cy="24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" name=""/>
                  <p:cNvSpPr/>
                  <p:nvPr/>
                </p:nvSpPr>
                <p:spPr>
                  <a:xfrm flipH="1">
                    <a:off x="2050560" y="4426920"/>
                    <a:ext cx="4320" cy="24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3" name=""/>
                  <p:cNvSpPr/>
                  <p:nvPr/>
                </p:nvSpPr>
                <p:spPr>
                  <a:xfrm flipH="1">
                    <a:off x="2071440" y="4430160"/>
                    <a:ext cx="3960" cy="24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4" name=""/>
                  <p:cNvSpPr/>
                  <p:nvPr/>
                </p:nvSpPr>
                <p:spPr>
                  <a:xfrm flipH="1">
                    <a:off x="2091960" y="4433760"/>
                    <a:ext cx="3960" cy="24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 flipH="1">
                    <a:off x="2109960" y="4437360"/>
                    <a:ext cx="6840" cy="3996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" name=""/>
                  <p:cNvSpPr/>
                  <p:nvPr/>
                </p:nvSpPr>
                <p:spPr>
                  <a:xfrm flipH="1">
                    <a:off x="2133360" y="4440960"/>
                    <a:ext cx="432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7" name=""/>
                  <p:cNvSpPr/>
                  <p:nvPr/>
                </p:nvSpPr>
                <p:spPr>
                  <a:xfrm flipH="1">
                    <a:off x="2154240" y="444456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8" name=""/>
                  <p:cNvSpPr/>
                  <p:nvPr/>
                </p:nvSpPr>
                <p:spPr>
                  <a:xfrm flipH="1">
                    <a:off x="2174760" y="444816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9" name=""/>
                  <p:cNvSpPr/>
                  <p:nvPr/>
                </p:nvSpPr>
                <p:spPr>
                  <a:xfrm flipH="1">
                    <a:off x="2193120" y="4451760"/>
                    <a:ext cx="6120" cy="360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0" name=""/>
                  <p:cNvSpPr/>
                  <p:nvPr/>
                </p:nvSpPr>
                <p:spPr>
                  <a:xfrm flipH="1">
                    <a:off x="2216160" y="445536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1" name=""/>
                  <p:cNvSpPr/>
                  <p:nvPr/>
                </p:nvSpPr>
                <p:spPr>
                  <a:xfrm flipH="1">
                    <a:off x="2236680" y="445896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 flipH="1">
                    <a:off x="2257200" y="4462200"/>
                    <a:ext cx="4320" cy="237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 flipH="1">
                    <a:off x="2277720" y="4465800"/>
                    <a:ext cx="432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 flipH="1">
                    <a:off x="2294280" y="4469400"/>
                    <a:ext cx="8640" cy="4932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 flipH="1">
                    <a:off x="2319480" y="447300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 flipH="1">
                    <a:off x="2340000" y="447660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 flipH="1">
                    <a:off x="2360520" y="448020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 flipH="1">
                    <a:off x="2381040" y="448380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9" name=""/>
                  <p:cNvSpPr/>
                  <p:nvPr/>
                </p:nvSpPr>
                <p:spPr>
                  <a:xfrm flipH="1">
                    <a:off x="2399760" y="4487400"/>
                    <a:ext cx="6480" cy="360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0" name=""/>
                  <p:cNvSpPr/>
                  <p:nvPr/>
                </p:nvSpPr>
                <p:spPr>
                  <a:xfrm flipH="1">
                    <a:off x="2422800" y="449100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 flipH="1">
                    <a:off x="2443320" y="449460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 flipH="1">
                    <a:off x="2463840" y="449784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 flipH="1">
                    <a:off x="2484720" y="450144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 flipH="1">
                    <a:off x="2500920" y="4505040"/>
                    <a:ext cx="8280" cy="4932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 flipH="1">
                    <a:off x="2525760" y="4508640"/>
                    <a:ext cx="432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 flipH="1">
                    <a:off x="2546280" y="4512240"/>
                    <a:ext cx="432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" name=""/>
                  <p:cNvSpPr/>
                  <p:nvPr/>
                </p:nvSpPr>
                <p:spPr>
                  <a:xfrm flipH="1">
                    <a:off x="2567160" y="451584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" name=""/>
                  <p:cNvSpPr/>
                  <p:nvPr/>
                </p:nvSpPr>
                <p:spPr>
                  <a:xfrm flipH="1">
                    <a:off x="2585520" y="4519440"/>
                    <a:ext cx="6120" cy="360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" name=""/>
                  <p:cNvSpPr/>
                  <p:nvPr/>
                </p:nvSpPr>
                <p:spPr>
                  <a:xfrm flipH="1">
                    <a:off x="2608560" y="452304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0" name=""/>
                  <p:cNvSpPr/>
                  <p:nvPr/>
                </p:nvSpPr>
                <p:spPr>
                  <a:xfrm flipH="1">
                    <a:off x="2629080" y="452664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1" name=""/>
                  <p:cNvSpPr/>
                  <p:nvPr/>
                </p:nvSpPr>
                <p:spPr>
                  <a:xfrm flipH="1">
                    <a:off x="2649600" y="452988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 flipH="1">
                    <a:off x="2670120" y="4533480"/>
                    <a:ext cx="432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3" name=""/>
                  <p:cNvSpPr/>
                  <p:nvPr/>
                </p:nvSpPr>
                <p:spPr>
                  <a:xfrm flipH="1">
                    <a:off x="2686320" y="4537080"/>
                    <a:ext cx="8640" cy="4932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4" name=""/>
                  <p:cNvSpPr/>
                  <p:nvPr/>
                </p:nvSpPr>
                <p:spPr>
                  <a:xfrm flipH="1">
                    <a:off x="2711880" y="454068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5" name=""/>
                  <p:cNvSpPr/>
                  <p:nvPr/>
                </p:nvSpPr>
                <p:spPr>
                  <a:xfrm flipH="1">
                    <a:off x="2732400" y="454428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 flipH="1">
                    <a:off x="2752920" y="454788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 flipH="1">
                    <a:off x="2773440" y="455148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" name=""/>
                  <p:cNvSpPr/>
                  <p:nvPr/>
                </p:nvSpPr>
                <p:spPr>
                  <a:xfrm flipH="1">
                    <a:off x="2792160" y="4555080"/>
                    <a:ext cx="6480" cy="360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" name=""/>
                  <p:cNvSpPr/>
                  <p:nvPr/>
                </p:nvSpPr>
                <p:spPr>
                  <a:xfrm flipH="1">
                    <a:off x="2814840" y="4558680"/>
                    <a:ext cx="4320" cy="24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0" name=""/>
                  <p:cNvSpPr/>
                  <p:nvPr/>
                </p:nvSpPr>
                <p:spPr>
                  <a:xfrm flipH="1">
                    <a:off x="2835360" y="4561920"/>
                    <a:ext cx="4320" cy="24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" name=""/>
                  <p:cNvSpPr/>
                  <p:nvPr/>
                </p:nvSpPr>
                <p:spPr>
                  <a:xfrm flipH="1">
                    <a:off x="2855880" y="4565520"/>
                    <a:ext cx="4320" cy="24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2" name=""/>
                  <p:cNvSpPr/>
                  <p:nvPr/>
                </p:nvSpPr>
                <p:spPr>
                  <a:xfrm flipH="1">
                    <a:off x="2876760" y="4569120"/>
                    <a:ext cx="3960" cy="24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3" name=""/>
                  <p:cNvSpPr/>
                  <p:nvPr/>
                </p:nvSpPr>
                <p:spPr>
                  <a:xfrm flipH="1">
                    <a:off x="2894760" y="4572720"/>
                    <a:ext cx="6840" cy="3960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 flipH="1">
                    <a:off x="2918160" y="457632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5" name=""/>
                  <p:cNvSpPr/>
                  <p:nvPr/>
                </p:nvSpPr>
                <p:spPr>
                  <a:xfrm flipH="1">
                    <a:off x="2938680" y="4579920"/>
                    <a:ext cx="432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6" name=""/>
                  <p:cNvSpPr/>
                  <p:nvPr/>
                </p:nvSpPr>
                <p:spPr>
                  <a:xfrm flipH="1">
                    <a:off x="2959560" y="458352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 flipH="1">
                    <a:off x="2978280" y="4587120"/>
                    <a:ext cx="6120" cy="360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 flipH="1">
                    <a:off x="3000960" y="459072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9" name=""/>
                  <p:cNvSpPr/>
                  <p:nvPr/>
                </p:nvSpPr>
                <p:spPr>
                  <a:xfrm flipH="1">
                    <a:off x="3021480" y="459396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 flipH="1">
                    <a:off x="3042000" y="459756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 flipH="1">
                    <a:off x="3062520" y="4601160"/>
                    <a:ext cx="432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2" name=""/>
                  <p:cNvSpPr/>
                  <p:nvPr/>
                </p:nvSpPr>
                <p:spPr>
                  <a:xfrm flipH="1">
                    <a:off x="3079080" y="4604760"/>
                    <a:ext cx="8640" cy="4932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 flipH="1">
                    <a:off x="3104280" y="460836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 flipH="1">
                    <a:off x="3124800" y="461196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 flipH="1">
                    <a:off x="3145320" y="461556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 flipH="1">
                    <a:off x="3166200" y="461916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 flipH="1">
                    <a:off x="3184560" y="4622760"/>
                    <a:ext cx="6120" cy="360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 flipH="1">
                    <a:off x="3207240" y="4626000"/>
                    <a:ext cx="432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 flipH="1">
                    <a:off x="3228120" y="462960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 flipH="1">
                    <a:off x="3248640" y="463320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1" name=""/>
                  <p:cNvSpPr/>
                  <p:nvPr/>
                </p:nvSpPr>
                <p:spPr>
                  <a:xfrm flipH="1">
                    <a:off x="3269160" y="463680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2" name=""/>
                  <p:cNvSpPr/>
                  <p:nvPr/>
                </p:nvSpPr>
                <p:spPr>
                  <a:xfrm flipH="1">
                    <a:off x="3285720" y="4640400"/>
                    <a:ext cx="8280" cy="4932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3" name=""/>
                  <p:cNvSpPr/>
                  <p:nvPr/>
                </p:nvSpPr>
                <p:spPr>
                  <a:xfrm flipH="1">
                    <a:off x="3310560" y="464400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4" name=""/>
                  <p:cNvSpPr/>
                  <p:nvPr/>
                </p:nvSpPr>
                <p:spPr>
                  <a:xfrm flipH="1">
                    <a:off x="3331080" y="4647600"/>
                    <a:ext cx="432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5" name=""/>
                  <p:cNvSpPr/>
                  <p:nvPr/>
                </p:nvSpPr>
                <p:spPr>
                  <a:xfrm flipH="1">
                    <a:off x="3351600" y="4651200"/>
                    <a:ext cx="432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6" name=""/>
                  <p:cNvSpPr/>
                  <p:nvPr/>
                </p:nvSpPr>
                <p:spPr>
                  <a:xfrm flipH="1">
                    <a:off x="3370320" y="4654440"/>
                    <a:ext cx="6120" cy="36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7" name=""/>
                  <p:cNvSpPr/>
                  <p:nvPr/>
                </p:nvSpPr>
                <p:spPr>
                  <a:xfrm flipH="1">
                    <a:off x="3393360" y="465804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8" name=""/>
                  <p:cNvSpPr/>
                  <p:nvPr/>
                </p:nvSpPr>
                <p:spPr>
                  <a:xfrm flipH="1">
                    <a:off x="3413880" y="466164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9" name=""/>
                  <p:cNvSpPr/>
                  <p:nvPr/>
                </p:nvSpPr>
                <p:spPr>
                  <a:xfrm flipH="1">
                    <a:off x="3434400" y="466524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0" name=""/>
                  <p:cNvSpPr/>
                  <p:nvPr/>
                </p:nvSpPr>
                <p:spPr>
                  <a:xfrm flipH="1">
                    <a:off x="3454920" y="466884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1" name=""/>
                  <p:cNvSpPr/>
                  <p:nvPr/>
                </p:nvSpPr>
                <p:spPr>
                  <a:xfrm flipH="1">
                    <a:off x="3471480" y="4672440"/>
                    <a:ext cx="8640" cy="4932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2" name=""/>
                  <p:cNvSpPr/>
                  <p:nvPr/>
                </p:nvSpPr>
                <p:spPr>
                  <a:xfrm flipH="1">
                    <a:off x="3496680" y="467604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3" name=""/>
                  <p:cNvSpPr/>
                  <p:nvPr/>
                </p:nvSpPr>
                <p:spPr>
                  <a:xfrm flipH="1">
                    <a:off x="3517200" y="467964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4" name=""/>
                  <p:cNvSpPr/>
                  <p:nvPr/>
                </p:nvSpPr>
                <p:spPr>
                  <a:xfrm flipH="1">
                    <a:off x="3537720" y="468324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5" name=""/>
                  <p:cNvSpPr/>
                  <p:nvPr/>
                </p:nvSpPr>
                <p:spPr>
                  <a:xfrm flipH="1">
                    <a:off x="3558240" y="468648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6" name=""/>
                  <p:cNvSpPr/>
                  <p:nvPr/>
                </p:nvSpPr>
                <p:spPr>
                  <a:xfrm flipH="1">
                    <a:off x="3576960" y="4690080"/>
                    <a:ext cx="6120" cy="36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7" name=""/>
                  <p:cNvSpPr/>
                  <p:nvPr/>
                </p:nvSpPr>
                <p:spPr>
                  <a:xfrm flipH="1">
                    <a:off x="3599640" y="4693680"/>
                    <a:ext cx="4320" cy="24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 flipH="1">
                    <a:off x="3620160" y="4697280"/>
                    <a:ext cx="4320" cy="24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 flipH="1">
                    <a:off x="3640680" y="4700880"/>
                    <a:ext cx="4320" cy="24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 flipH="1">
                    <a:off x="3661560" y="4704480"/>
                    <a:ext cx="4320" cy="24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 flipH="1">
                    <a:off x="3679560" y="4708080"/>
                    <a:ext cx="6840" cy="3960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 flipH="1">
                    <a:off x="3702960" y="471168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 flipH="1">
                    <a:off x="3723480" y="471528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4" name=""/>
                  <p:cNvSpPr/>
                  <p:nvPr/>
                </p:nvSpPr>
                <p:spPr>
                  <a:xfrm flipH="1">
                    <a:off x="3744000" y="4718520"/>
                    <a:ext cx="432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5" name=""/>
                  <p:cNvSpPr/>
                  <p:nvPr/>
                </p:nvSpPr>
                <p:spPr>
                  <a:xfrm flipH="1">
                    <a:off x="3762720" y="4722120"/>
                    <a:ext cx="6480" cy="36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 flipH="1">
                    <a:off x="3785760" y="472572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 flipH="1">
                    <a:off x="3806280" y="472932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 flipH="1">
                    <a:off x="3826800" y="473292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49" name=""/>
                <p:cNvSpPr/>
                <p:nvPr/>
              </p:nvSpPr>
              <p:spPr>
                <a:xfrm flipH="1">
                  <a:off x="3847320" y="4736520"/>
                  <a:ext cx="3960" cy="23400"/>
                </a:xfrm>
                <a:prstGeom prst="line">
                  <a:avLst/>
                </a:prstGeom>
                <a:ln w="64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 flipH="1">
                  <a:off x="3863520" y="4740120"/>
                  <a:ext cx="8640" cy="49320"/>
                </a:xfrm>
                <a:prstGeom prst="line">
                  <a:avLst/>
                </a:prstGeom>
                <a:ln w="648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1" name=""/>
              <p:cNvSpPr/>
              <p:nvPr/>
            </p:nvSpPr>
            <p:spPr>
              <a:xfrm rot="586800">
                <a:off x="1763280" y="4653000"/>
                <a:ext cx="2774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40000"/>
                    </a:solidFill>
                    <a:latin typeface="Times New Roman"/>
                  </a:rPr>
                  <a:t>0     1      2     3      4      5      6       7     8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 rot="13340400">
                <a:off x="2458080" y="4541040"/>
                <a:ext cx="1082520" cy="752040"/>
              </a:xfrm>
              <a:custGeom>
                <a:avLst/>
                <a:gdLst/>
                <a:ahLst/>
                <a:rect l="l" t="t" r="r" b="b"/>
                <a:pathLst>
                  <a:path w="2112" h="1344">
                    <a:moveTo>
                      <a:pt x="0" y="0"/>
                    </a:moveTo>
                    <a:lnTo>
                      <a:pt x="0" y="1344"/>
                    </a:lnTo>
                    <a:lnTo>
                      <a:pt x="21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190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3" name=""/>
            <p:cNvGrpSpPr/>
            <p:nvPr/>
          </p:nvGrpSpPr>
          <p:grpSpPr>
            <a:xfrm>
              <a:off x="167760" y="4221360"/>
              <a:ext cx="2175120" cy="2168640"/>
              <a:chOff x="167760" y="4221360"/>
              <a:chExt cx="2175120" cy="2168640"/>
            </a:xfrm>
          </p:grpSpPr>
          <p:sp>
            <p:nvSpPr>
              <p:cNvPr id="654" name=""/>
              <p:cNvSpPr/>
              <p:nvPr/>
            </p:nvSpPr>
            <p:spPr>
              <a:xfrm rot="15645000">
                <a:off x="338400" y="4326480"/>
                <a:ext cx="1833480" cy="1905120"/>
              </a:xfrm>
              <a:custGeom>
                <a:avLst/>
                <a:gdLst/>
                <a:ahLst/>
                <a:rect l="l" t="t" r="r" b="b"/>
                <a:pathLst>
                  <a:path w="480" h="480">
                    <a:moveTo>
                      <a:pt x="0" y="0"/>
                    </a:moveTo>
                    <a:lnTo>
                      <a:pt x="480" y="480"/>
                    </a:lnTo>
                    <a:lnTo>
                      <a:pt x="0" y="48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f2ff">
                  <a:alpha val="50000"/>
                </a:srgbClr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5645000">
                <a:off x="1284120" y="5178960"/>
                <a:ext cx="584640" cy="607680"/>
              </a:xfrm>
              <a:custGeom>
                <a:avLst/>
                <a:gdLst/>
                <a:ahLst/>
                <a:rect l="l" t="t" r="r" b="b"/>
                <a:pathLst>
                  <a:path w="480" h="480">
                    <a:moveTo>
                      <a:pt x="0" y="0"/>
                    </a:moveTo>
                    <a:lnTo>
                      <a:pt x="480" y="480"/>
                    </a:lnTo>
                    <a:lnTo>
                      <a:pt x="0" y="48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6" name=""/>
              <p:cNvGrpSpPr/>
              <p:nvPr/>
            </p:nvGrpSpPr>
            <p:grpSpPr>
              <a:xfrm>
                <a:off x="626040" y="4471560"/>
                <a:ext cx="1517400" cy="1918440"/>
                <a:chOff x="626040" y="4471560"/>
                <a:chExt cx="1517400" cy="1918440"/>
              </a:xfrm>
            </p:grpSpPr>
            <p:grpSp>
              <p:nvGrpSpPr>
                <p:cNvPr id="657" name=""/>
                <p:cNvGrpSpPr/>
                <p:nvPr/>
              </p:nvGrpSpPr>
              <p:grpSpPr>
                <a:xfrm>
                  <a:off x="645120" y="4558680"/>
                  <a:ext cx="1200960" cy="1633320"/>
                  <a:chOff x="645120" y="4558680"/>
                  <a:chExt cx="1200960" cy="1633320"/>
                </a:xfrm>
              </p:grpSpPr>
              <p:grpSp>
                <p:nvGrpSpPr>
                  <p:cNvPr id="658" name=""/>
                  <p:cNvGrpSpPr/>
                  <p:nvPr/>
                </p:nvGrpSpPr>
                <p:grpSpPr>
                  <a:xfrm>
                    <a:off x="645120" y="4592520"/>
                    <a:ext cx="1152000" cy="1599480"/>
                    <a:chOff x="645120" y="4592520"/>
                    <a:chExt cx="1152000" cy="1599480"/>
                  </a:xfrm>
                </p:grpSpPr>
                <p:sp>
                  <p:nvSpPr>
                    <p:cNvPr id="659" name=""/>
                    <p:cNvSpPr/>
                    <p:nvPr/>
                  </p:nvSpPr>
                  <p:spPr>
                    <a:xfrm>
                      <a:off x="645120" y="6161400"/>
                      <a:ext cx="42480" cy="3060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200" bIns="-16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0" name=""/>
                    <p:cNvSpPr/>
                    <p:nvPr/>
                  </p:nvSpPr>
                  <p:spPr>
                    <a:xfrm>
                      <a:off x="657000" y="614484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1" name=""/>
                    <p:cNvSpPr/>
                    <p:nvPr/>
                  </p:nvSpPr>
                  <p:spPr>
                    <a:xfrm>
                      <a:off x="669240" y="612792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2" name=""/>
                    <p:cNvSpPr/>
                    <p:nvPr/>
                  </p:nvSpPr>
                  <p:spPr>
                    <a:xfrm>
                      <a:off x="681480" y="611100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3" name=""/>
                    <p:cNvSpPr/>
                    <p:nvPr/>
                  </p:nvSpPr>
                  <p:spPr>
                    <a:xfrm>
                      <a:off x="693720" y="609372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4" name=""/>
                    <p:cNvSpPr/>
                    <p:nvPr/>
                  </p:nvSpPr>
                  <p:spPr>
                    <a:xfrm>
                      <a:off x="705600" y="6077160"/>
                      <a:ext cx="34920" cy="25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5" name=""/>
                    <p:cNvSpPr/>
                    <p:nvPr/>
                  </p:nvSpPr>
                  <p:spPr>
                    <a:xfrm>
                      <a:off x="717840" y="6060240"/>
                      <a:ext cx="2304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6" name=""/>
                    <p:cNvSpPr/>
                    <p:nvPr/>
                  </p:nvSpPr>
                  <p:spPr>
                    <a:xfrm>
                      <a:off x="730080" y="6043320"/>
                      <a:ext cx="2304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7" name=""/>
                    <p:cNvSpPr/>
                    <p:nvPr/>
                  </p:nvSpPr>
                  <p:spPr>
                    <a:xfrm>
                      <a:off x="741960" y="6026760"/>
                      <a:ext cx="2340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8" name=""/>
                    <p:cNvSpPr/>
                    <p:nvPr/>
                  </p:nvSpPr>
                  <p:spPr>
                    <a:xfrm>
                      <a:off x="754200" y="6009840"/>
                      <a:ext cx="2304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9" name=""/>
                    <p:cNvSpPr/>
                    <p:nvPr/>
                  </p:nvSpPr>
                  <p:spPr>
                    <a:xfrm>
                      <a:off x="766440" y="5992920"/>
                      <a:ext cx="38160" cy="2736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0" name=""/>
                    <p:cNvSpPr/>
                    <p:nvPr/>
                  </p:nvSpPr>
                  <p:spPr>
                    <a:xfrm>
                      <a:off x="778680" y="597600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1" name=""/>
                    <p:cNvSpPr/>
                    <p:nvPr/>
                  </p:nvSpPr>
                  <p:spPr>
                    <a:xfrm>
                      <a:off x="790560" y="595908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2" name=""/>
                    <p:cNvSpPr/>
                    <p:nvPr/>
                  </p:nvSpPr>
                  <p:spPr>
                    <a:xfrm>
                      <a:off x="802800" y="594216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3" name=""/>
                    <p:cNvSpPr/>
                    <p:nvPr/>
                  </p:nvSpPr>
                  <p:spPr>
                    <a:xfrm>
                      <a:off x="815040" y="5925240"/>
                      <a:ext cx="34920" cy="25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4" name=""/>
                    <p:cNvSpPr/>
                    <p:nvPr/>
                  </p:nvSpPr>
                  <p:spPr>
                    <a:xfrm>
                      <a:off x="827280" y="590832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5" name=""/>
                    <p:cNvSpPr/>
                    <p:nvPr/>
                  </p:nvSpPr>
                  <p:spPr>
                    <a:xfrm>
                      <a:off x="839520" y="589140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6" name=""/>
                    <p:cNvSpPr/>
                    <p:nvPr/>
                  </p:nvSpPr>
                  <p:spPr>
                    <a:xfrm>
                      <a:off x="851400" y="587484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7" name=""/>
                    <p:cNvSpPr/>
                    <p:nvPr/>
                  </p:nvSpPr>
                  <p:spPr>
                    <a:xfrm>
                      <a:off x="863640" y="585792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8" name=""/>
                    <p:cNvSpPr/>
                    <p:nvPr/>
                  </p:nvSpPr>
                  <p:spPr>
                    <a:xfrm>
                      <a:off x="875880" y="5841000"/>
                      <a:ext cx="47160" cy="3384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960" bIns="-12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9" name=""/>
                    <p:cNvSpPr/>
                    <p:nvPr/>
                  </p:nvSpPr>
                  <p:spPr>
                    <a:xfrm>
                      <a:off x="887760" y="582408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0" name=""/>
                    <p:cNvSpPr/>
                    <p:nvPr/>
                  </p:nvSpPr>
                  <p:spPr>
                    <a:xfrm>
                      <a:off x="900000" y="580716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1" name=""/>
                    <p:cNvSpPr/>
                    <p:nvPr/>
                  </p:nvSpPr>
                  <p:spPr>
                    <a:xfrm>
                      <a:off x="912240" y="579024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2" name=""/>
                    <p:cNvSpPr/>
                    <p:nvPr/>
                  </p:nvSpPr>
                  <p:spPr>
                    <a:xfrm>
                      <a:off x="924480" y="577332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3" name=""/>
                    <p:cNvSpPr/>
                    <p:nvPr/>
                  </p:nvSpPr>
                  <p:spPr>
                    <a:xfrm>
                      <a:off x="936360" y="5756760"/>
                      <a:ext cx="34920" cy="248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4" name=""/>
                    <p:cNvSpPr/>
                    <p:nvPr/>
                  </p:nvSpPr>
                  <p:spPr>
                    <a:xfrm>
                      <a:off x="948600" y="573984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5" name=""/>
                    <p:cNvSpPr/>
                    <p:nvPr/>
                  </p:nvSpPr>
                  <p:spPr>
                    <a:xfrm>
                      <a:off x="960840" y="572292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6" name=""/>
                    <p:cNvSpPr/>
                    <p:nvPr/>
                  </p:nvSpPr>
                  <p:spPr>
                    <a:xfrm>
                      <a:off x="973080" y="570600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7" name=""/>
                    <p:cNvSpPr/>
                    <p:nvPr/>
                  </p:nvSpPr>
                  <p:spPr>
                    <a:xfrm>
                      <a:off x="985320" y="568908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8" name=""/>
                    <p:cNvSpPr/>
                    <p:nvPr/>
                  </p:nvSpPr>
                  <p:spPr>
                    <a:xfrm>
                      <a:off x="997200" y="5672160"/>
                      <a:ext cx="47520" cy="3420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9" name=""/>
                    <p:cNvSpPr/>
                    <p:nvPr/>
                  </p:nvSpPr>
                  <p:spPr>
                    <a:xfrm>
                      <a:off x="1009440" y="565524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0" name=""/>
                    <p:cNvSpPr/>
                    <p:nvPr/>
                  </p:nvSpPr>
                  <p:spPr>
                    <a:xfrm>
                      <a:off x="1021680" y="563832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1" name=""/>
                    <p:cNvSpPr/>
                    <p:nvPr/>
                  </p:nvSpPr>
                  <p:spPr>
                    <a:xfrm>
                      <a:off x="1033560" y="562176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2" name=""/>
                    <p:cNvSpPr/>
                    <p:nvPr/>
                  </p:nvSpPr>
                  <p:spPr>
                    <a:xfrm>
                      <a:off x="1045800" y="5604840"/>
                      <a:ext cx="34920" cy="248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3" name=""/>
                    <p:cNvSpPr/>
                    <p:nvPr/>
                  </p:nvSpPr>
                  <p:spPr>
                    <a:xfrm>
                      <a:off x="1058040" y="558792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4" name=""/>
                    <p:cNvSpPr/>
                    <p:nvPr/>
                  </p:nvSpPr>
                  <p:spPr>
                    <a:xfrm>
                      <a:off x="1070280" y="557100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5" name=""/>
                    <p:cNvSpPr/>
                    <p:nvPr/>
                  </p:nvSpPr>
                  <p:spPr>
                    <a:xfrm>
                      <a:off x="1082160" y="555408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6" name=""/>
                    <p:cNvSpPr/>
                    <p:nvPr/>
                  </p:nvSpPr>
                  <p:spPr>
                    <a:xfrm>
                      <a:off x="1094400" y="553716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7" name=""/>
                    <p:cNvSpPr/>
                    <p:nvPr/>
                  </p:nvSpPr>
                  <p:spPr>
                    <a:xfrm>
                      <a:off x="1106640" y="5520240"/>
                      <a:ext cx="47160" cy="3420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8" name=""/>
                    <p:cNvSpPr/>
                    <p:nvPr/>
                  </p:nvSpPr>
                  <p:spPr>
                    <a:xfrm>
                      <a:off x="1118880" y="550332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9" name=""/>
                    <p:cNvSpPr/>
                    <p:nvPr/>
                  </p:nvSpPr>
                  <p:spPr>
                    <a:xfrm>
                      <a:off x="1131120" y="548640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0" name=""/>
                    <p:cNvSpPr/>
                    <p:nvPr/>
                  </p:nvSpPr>
                  <p:spPr>
                    <a:xfrm>
                      <a:off x="1143000" y="546984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1" name=""/>
                    <p:cNvSpPr/>
                    <p:nvPr/>
                  </p:nvSpPr>
                  <p:spPr>
                    <a:xfrm>
                      <a:off x="1155240" y="545292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2" name=""/>
                    <p:cNvSpPr/>
                    <p:nvPr/>
                  </p:nvSpPr>
                  <p:spPr>
                    <a:xfrm>
                      <a:off x="1167480" y="5436000"/>
                      <a:ext cx="34560" cy="248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3" name=""/>
                    <p:cNvSpPr/>
                    <p:nvPr/>
                  </p:nvSpPr>
                  <p:spPr>
                    <a:xfrm>
                      <a:off x="1179360" y="5419440"/>
                      <a:ext cx="2304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4" name=""/>
                    <p:cNvSpPr/>
                    <p:nvPr/>
                  </p:nvSpPr>
                  <p:spPr>
                    <a:xfrm>
                      <a:off x="1191600" y="5402160"/>
                      <a:ext cx="23040" cy="1692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880" bIns="-29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5" name=""/>
                    <p:cNvSpPr/>
                    <p:nvPr/>
                  </p:nvSpPr>
                  <p:spPr>
                    <a:xfrm>
                      <a:off x="1203840" y="5385240"/>
                      <a:ext cx="23040" cy="1692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880" bIns="-29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6" name=""/>
                    <p:cNvSpPr/>
                    <p:nvPr/>
                  </p:nvSpPr>
                  <p:spPr>
                    <a:xfrm>
                      <a:off x="1216080" y="5368320"/>
                      <a:ext cx="2304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7" name=""/>
                    <p:cNvSpPr/>
                    <p:nvPr/>
                  </p:nvSpPr>
                  <p:spPr>
                    <a:xfrm>
                      <a:off x="1227960" y="5351760"/>
                      <a:ext cx="38160" cy="2736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8" name=""/>
                    <p:cNvSpPr/>
                    <p:nvPr/>
                  </p:nvSpPr>
                  <p:spPr>
                    <a:xfrm>
                      <a:off x="1240200" y="533484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9" name=""/>
                    <p:cNvSpPr/>
                    <p:nvPr/>
                  </p:nvSpPr>
                  <p:spPr>
                    <a:xfrm>
                      <a:off x="1252440" y="531792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0" name=""/>
                    <p:cNvSpPr/>
                    <p:nvPr/>
                  </p:nvSpPr>
                  <p:spPr>
                    <a:xfrm>
                      <a:off x="1264680" y="530100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1" name=""/>
                    <p:cNvSpPr/>
                    <p:nvPr/>
                  </p:nvSpPr>
                  <p:spPr>
                    <a:xfrm>
                      <a:off x="1276920" y="5284080"/>
                      <a:ext cx="34560" cy="248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2" name=""/>
                    <p:cNvSpPr/>
                    <p:nvPr/>
                  </p:nvSpPr>
                  <p:spPr>
                    <a:xfrm>
                      <a:off x="1288800" y="5267520"/>
                      <a:ext cx="22320" cy="158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3" name=""/>
                    <p:cNvSpPr/>
                    <p:nvPr/>
                  </p:nvSpPr>
                  <p:spPr>
                    <a:xfrm>
                      <a:off x="1301040" y="525024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4" name=""/>
                    <p:cNvSpPr/>
                    <p:nvPr/>
                  </p:nvSpPr>
                  <p:spPr>
                    <a:xfrm>
                      <a:off x="1313280" y="523332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5" name=""/>
                    <p:cNvSpPr/>
                    <p:nvPr/>
                  </p:nvSpPr>
                  <p:spPr>
                    <a:xfrm>
                      <a:off x="1325160" y="521676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6" name=""/>
                    <p:cNvSpPr/>
                    <p:nvPr/>
                  </p:nvSpPr>
                  <p:spPr>
                    <a:xfrm>
                      <a:off x="1337400" y="5199840"/>
                      <a:ext cx="47160" cy="3420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7" name=""/>
                    <p:cNvSpPr/>
                    <p:nvPr/>
                  </p:nvSpPr>
                  <p:spPr>
                    <a:xfrm>
                      <a:off x="1349640" y="518292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8" name=""/>
                    <p:cNvSpPr/>
                    <p:nvPr/>
                  </p:nvSpPr>
                  <p:spPr>
                    <a:xfrm>
                      <a:off x="1361880" y="516600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9" name=""/>
                    <p:cNvSpPr/>
                    <p:nvPr/>
                  </p:nvSpPr>
                  <p:spPr>
                    <a:xfrm>
                      <a:off x="1373760" y="514944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0" name=""/>
                    <p:cNvSpPr/>
                    <p:nvPr/>
                  </p:nvSpPr>
                  <p:spPr>
                    <a:xfrm>
                      <a:off x="1386000" y="513252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1" name=""/>
                    <p:cNvSpPr/>
                    <p:nvPr/>
                  </p:nvSpPr>
                  <p:spPr>
                    <a:xfrm>
                      <a:off x="1398240" y="5115240"/>
                      <a:ext cx="34560" cy="25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2" name=""/>
                    <p:cNvSpPr/>
                    <p:nvPr/>
                  </p:nvSpPr>
                  <p:spPr>
                    <a:xfrm>
                      <a:off x="1410480" y="509832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3" name=""/>
                    <p:cNvSpPr/>
                    <p:nvPr/>
                  </p:nvSpPr>
                  <p:spPr>
                    <a:xfrm>
                      <a:off x="1422360" y="508140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4" name=""/>
                    <p:cNvSpPr/>
                    <p:nvPr/>
                  </p:nvSpPr>
                  <p:spPr>
                    <a:xfrm>
                      <a:off x="1434600" y="506484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5" name=""/>
                    <p:cNvSpPr/>
                    <p:nvPr/>
                  </p:nvSpPr>
                  <p:spPr>
                    <a:xfrm>
                      <a:off x="1446840" y="504792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6" name=""/>
                    <p:cNvSpPr/>
                    <p:nvPr/>
                  </p:nvSpPr>
                  <p:spPr>
                    <a:xfrm>
                      <a:off x="1459080" y="5031000"/>
                      <a:ext cx="47160" cy="3420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7" name=""/>
                    <p:cNvSpPr/>
                    <p:nvPr/>
                  </p:nvSpPr>
                  <p:spPr>
                    <a:xfrm>
                      <a:off x="1470960" y="501444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8" name=""/>
                    <p:cNvSpPr/>
                    <p:nvPr/>
                  </p:nvSpPr>
                  <p:spPr>
                    <a:xfrm>
                      <a:off x="1483200" y="499752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9" name=""/>
                    <p:cNvSpPr/>
                    <p:nvPr/>
                  </p:nvSpPr>
                  <p:spPr>
                    <a:xfrm>
                      <a:off x="1495440" y="498060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0" name=""/>
                    <p:cNvSpPr/>
                    <p:nvPr/>
                  </p:nvSpPr>
                  <p:spPr>
                    <a:xfrm>
                      <a:off x="1507680" y="4963320"/>
                      <a:ext cx="34560" cy="25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1" name=""/>
                    <p:cNvSpPr/>
                    <p:nvPr/>
                  </p:nvSpPr>
                  <p:spPr>
                    <a:xfrm>
                      <a:off x="1519560" y="494676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2" name=""/>
                    <p:cNvSpPr/>
                    <p:nvPr/>
                  </p:nvSpPr>
                  <p:spPr>
                    <a:xfrm>
                      <a:off x="1531800" y="492984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3" name=""/>
                    <p:cNvSpPr/>
                    <p:nvPr/>
                  </p:nvSpPr>
                  <p:spPr>
                    <a:xfrm>
                      <a:off x="1544040" y="491292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4" name=""/>
                    <p:cNvSpPr/>
                    <p:nvPr/>
                  </p:nvSpPr>
                  <p:spPr>
                    <a:xfrm>
                      <a:off x="1555920" y="489600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5" name=""/>
                    <p:cNvSpPr/>
                    <p:nvPr/>
                  </p:nvSpPr>
                  <p:spPr>
                    <a:xfrm>
                      <a:off x="1568160" y="4879080"/>
                      <a:ext cx="47520" cy="3420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6" name=""/>
                    <p:cNvSpPr/>
                    <p:nvPr/>
                  </p:nvSpPr>
                  <p:spPr>
                    <a:xfrm>
                      <a:off x="1580400" y="486252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7" name=""/>
                    <p:cNvSpPr/>
                    <p:nvPr/>
                  </p:nvSpPr>
                  <p:spPr>
                    <a:xfrm>
                      <a:off x="1592640" y="484560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8" name=""/>
                    <p:cNvSpPr/>
                    <p:nvPr/>
                  </p:nvSpPr>
                  <p:spPr>
                    <a:xfrm>
                      <a:off x="1604520" y="482868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9" name=""/>
                    <p:cNvSpPr/>
                    <p:nvPr/>
                  </p:nvSpPr>
                  <p:spPr>
                    <a:xfrm>
                      <a:off x="1616760" y="481176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0" name=""/>
                    <p:cNvSpPr/>
                    <p:nvPr/>
                  </p:nvSpPr>
                  <p:spPr>
                    <a:xfrm>
                      <a:off x="1629000" y="4794840"/>
                      <a:ext cx="34560" cy="25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1" name=""/>
                    <p:cNvSpPr/>
                    <p:nvPr/>
                  </p:nvSpPr>
                  <p:spPr>
                    <a:xfrm>
                      <a:off x="1641240" y="4777920"/>
                      <a:ext cx="2304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2" name=""/>
                    <p:cNvSpPr/>
                    <p:nvPr/>
                  </p:nvSpPr>
                  <p:spPr>
                    <a:xfrm>
                      <a:off x="1653120" y="4761000"/>
                      <a:ext cx="2340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3" name=""/>
                    <p:cNvSpPr/>
                    <p:nvPr/>
                  </p:nvSpPr>
                  <p:spPr>
                    <a:xfrm>
                      <a:off x="1665360" y="4744440"/>
                      <a:ext cx="2304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4" name=""/>
                    <p:cNvSpPr/>
                    <p:nvPr/>
                  </p:nvSpPr>
                  <p:spPr>
                    <a:xfrm>
                      <a:off x="1677600" y="4727520"/>
                      <a:ext cx="2304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5" name=""/>
                    <p:cNvSpPr/>
                    <p:nvPr/>
                  </p:nvSpPr>
                  <p:spPr>
                    <a:xfrm>
                      <a:off x="1689480" y="4710600"/>
                      <a:ext cx="38160" cy="2736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6" name=""/>
                    <p:cNvSpPr/>
                    <p:nvPr/>
                  </p:nvSpPr>
                  <p:spPr>
                    <a:xfrm>
                      <a:off x="1701720" y="469368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7" name=""/>
                    <p:cNvSpPr/>
                    <p:nvPr/>
                  </p:nvSpPr>
                  <p:spPr>
                    <a:xfrm>
                      <a:off x="1713960" y="4676760"/>
                      <a:ext cx="22680" cy="158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8" name=""/>
                    <p:cNvSpPr/>
                    <p:nvPr/>
                  </p:nvSpPr>
                  <p:spPr>
                    <a:xfrm>
                      <a:off x="1726200" y="465984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9" name=""/>
                    <p:cNvSpPr/>
                    <p:nvPr/>
                  </p:nvSpPr>
                  <p:spPr>
                    <a:xfrm>
                      <a:off x="1738080" y="4642920"/>
                      <a:ext cx="34920" cy="25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0" name=""/>
                    <p:cNvSpPr/>
                    <p:nvPr/>
                  </p:nvSpPr>
                  <p:spPr>
                    <a:xfrm>
                      <a:off x="1750320" y="462600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1" name=""/>
                    <p:cNvSpPr/>
                    <p:nvPr/>
                  </p:nvSpPr>
                  <p:spPr>
                    <a:xfrm>
                      <a:off x="1762560" y="460944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2" name=""/>
                    <p:cNvSpPr/>
                    <p:nvPr/>
                  </p:nvSpPr>
                  <p:spPr>
                    <a:xfrm>
                      <a:off x="1774800" y="459252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53" name=""/>
                  <p:cNvSpPr/>
                  <p:nvPr/>
                </p:nvSpPr>
                <p:spPr>
                  <a:xfrm>
                    <a:off x="1786680" y="4575600"/>
                    <a:ext cx="22680" cy="162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4" name=""/>
                  <p:cNvSpPr/>
                  <p:nvPr/>
                </p:nvSpPr>
                <p:spPr>
                  <a:xfrm>
                    <a:off x="1798920" y="4558680"/>
                    <a:ext cx="47160" cy="3420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600" bIns="-1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55" name=""/>
                <p:cNvSpPr/>
                <p:nvPr/>
              </p:nvSpPr>
              <p:spPr>
                <a:xfrm rot="12954600">
                  <a:off x="1218240" y="4366440"/>
                  <a:ext cx="332640" cy="212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0     1      2     3      4      5     6      7      8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6" name=""/>
              <p:cNvGrpSpPr/>
              <p:nvPr/>
            </p:nvGrpSpPr>
            <p:grpSpPr>
              <a:xfrm>
                <a:off x="593280" y="5746320"/>
                <a:ext cx="1481400" cy="496440"/>
                <a:chOff x="593280" y="5746320"/>
                <a:chExt cx="1481400" cy="496440"/>
              </a:xfrm>
            </p:grpSpPr>
            <p:sp>
              <p:nvSpPr>
                <p:cNvPr id="757" name=""/>
                <p:cNvSpPr/>
                <p:nvPr/>
              </p:nvSpPr>
              <p:spPr>
                <a:xfrm rot="10245000">
                  <a:off x="603360" y="5861880"/>
                  <a:ext cx="14608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0     1      2     3      4      5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58" name=""/>
                <p:cNvGrpSpPr/>
                <p:nvPr/>
              </p:nvGrpSpPr>
              <p:grpSpPr>
                <a:xfrm>
                  <a:off x="911880" y="6010560"/>
                  <a:ext cx="1109160" cy="232200"/>
                  <a:chOff x="911880" y="6010560"/>
                  <a:chExt cx="1109160" cy="232200"/>
                </a:xfrm>
              </p:grpSpPr>
              <p:sp>
                <p:nvSpPr>
                  <p:cNvPr id="759" name=""/>
                  <p:cNvSpPr/>
                  <p:nvPr/>
                </p:nvSpPr>
                <p:spPr>
                  <a:xfrm flipH="1" flipV="1">
                    <a:off x="2012400" y="6010560"/>
                    <a:ext cx="8640" cy="5148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" bIns="4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0" name=""/>
                  <p:cNvSpPr/>
                  <p:nvPr/>
                </p:nvSpPr>
                <p:spPr>
                  <a:xfrm flipH="1" flipV="1">
                    <a:off x="1996560" y="603792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1" name=""/>
                  <p:cNvSpPr/>
                  <p:nvPr/>
                </p:nvSpPr>
                <p:spPr>
                  <a:xfrm flipH="1" flipV="1">
                    <a:off x="1975320" y="604152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2" name=""/>
                  <p:cNvSpPr/>
                  <p:nvPr/>
                </p:nvSpPr>
                <p:spPr>
                  <a:xfrm flipH="1" flipV="1">
                    <a:off x="1955520" y="604476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3" name=""/>
                  <p:cNvSpPr/>
                  <p:nvPr/>
                </p:nvSpPr>
                <p:spPr>
                  <a:xfrm flipH="1" flipV="1">
                    <a:off x="1933920" y="6048360"/>
                    <a:ext cx="468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4" name=""/>
                  <p:cNvSpPr/>
                  <p:nvPr/>
                </p:nvSpPr>
                <p:spPr>
                  <a:xfrm flipH="1" flipV="1">
                    <a:off x="1911960" y="6037200"/>
                    <a:ext cx="6480" cy="417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5" name=""/>
                  <p:cNvSpPr/>
                  <p:nvPr/>
                </p:nvSpPr>
                <p:spPr>
                  <a:xfrm flipH="1" flipV="1">
                    <a:off x="1892880" y="605484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6" name=""/>
                  <p:cNvSpPr/>
                  <p:nvPr/>
                </p:nvSpPr>
                <p:spPr>
                  <a:xfrm flipH="1" flipV="1">
                    <a:off x="1873080" y="605808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7" name=""/>
                  <p:cNvSpPr/>
                  <p:nvPr/>
                </p:nvSpPr>
                <p:spPr>
                  <a:xfrm flipH="1" flipV="1">
                    <a:off x="1852920" y="6061320"/>
                    <a:ext cx="468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8" name=""/>
                  <p:cNvSpPr/>
                  <p:nvPr/>
                </p:nvSpPr>
                <p:spPr>
                  <a:xfrm flipH="1" flipV="1">
                    <a:off x="1831680" y="606492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9" name=""/>
                  <p:cNvSpPr/>
                  <p:nvPr/>
                </p:nvSpPr>
                <p:spPr>
                  <a:xfrm flipH="1" flipV="1">
                    <a:off x="1808640" y="6049080"/>
                    <a:ext cx="7560" cy="4644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0" name=""/>
                  <p:cNvSpPr/>
                  <p:nvPr/>
                </p:nvSpPr>
                <p:spPr>
                  <a:xfrm flipH="1" flipV="1">
                    <a:off x="1790640" y="607176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1" name=""/>
                  <p:cNvSpPr/>
                  <p:nvPr/>
                </p:nvSpPr>
                <p:spPr>
                  <a:xfrm flipH="1" flipV="1">
                    <a:off x="1770480" y="6075000"/>
                    <a:ext cx="468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2" name=""/>
                  <p:cNvSpPr/>
                  <p:nvPr/>
                </p:nvSpPr>
                <p:spPr>
                  <a:xfrm flipH="1" flipV="1">
                    <a:off x="1750680" y="607824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3" name=""/>
                  <p:cNvSpPr/>
                  <p:nvPr/>
                </p:nvSpPr>
                <p:spPr>
                  <a:xfrm flipH="1" flipV="1">
                    <a:off x="1726920" y="6067440"/>
                    <a:ext cx="6840" cy="41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4" name=""/>
                  <p:cNvSpPr/>
                  <p:nvPr/>
                </p:nvSpPr>
                <p:spPr>
                  <a:xfrm flipH="1" flipV="1">
                    <a:off x="1709280" y="608472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5" name=""/>
                  <p:cNvSpPr/>
                  <p:nvPr/>
                </p:nvSpPr>
                <p:spPr>
                  <a:xfrm flipH="1" flipV="1">
                    <a:off x="1688040" y="6088320"/>
                    <a:ext cx="468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6" name=""/>
                  <p:cNvSpPr/>
                  <p:nvPr/>
                </p:nvSpPr>
                <p:spPr>
                  <a:xfrm flipH="1" flipV="1">
                    <a:off x="1668240" y="609156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7" name=""/>
                  <p:cNvSpPr/>
                  <p:nvPr/>
                </p:nvSpPr>
                <p:spPr>
                  <a:xfrm flipH="1" flipV="1">
                    <a:off x="1647000" y="609516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8" name=""/>
                  <p:cNvSpPr/>
                  <p:nvPr/>
                </p:nvSpPr>
                <p:spPr>
                  <a:xfrm flipH="1" flipV="1">
                    <a:off x="1621800" y="6068160"/>
                    <a:ext cx="9360" cy="5760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9" name=""/>
                  <p:cNvSpPr/>
                  <p:nvPr/>
                </p:nvSpPr>
                <p:spPr>
                  <a:xfrm flipH="1" flipV="1">
                    <a:off x="1607040" y="6101640"/>
                    <a:ext cx="468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0" name=""/>
                  <p:cNvSpPr/>
                  <p:nvPr/>
                </p:nvSpPr>
                <p:spPr>
                  <a:xfrm flipH="1" flipV="1">
                    <a:off x="1585800" y="610488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1" name=""/>
                  <p:cNvSpPr/>
                  <p:nvPr/>
                </p:nvSpPr>
                <p:spPr>
                  <a:xfrm flipH="1" flipV="1">
                    <a:off x="1565640" y="610812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2" name=""/>
                  <p:cNvSpPr/>
                  <p:nvPr/>
                </p:nvSpPr>
                <p:spPr>
                  <a:xfrm flipH="1" flipV="1">
                    <a:off x="1544400" y="611172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3" name=""/>
                  <p:cNvSpPr/>
                  <p:nvPr/>
                </p:nvSpPr>
                <p:spPr>
                  <a:xfrm flipH="1" flipV="1">
                    <a:off x="1522440" y="6100560"/>
                    <a:ext cx="6840" cy="417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4" name=""/>
                  <p:cNvSpPr/>
                  <p:nvPr/>
                </p:nvSpPr>
                <p:spPr>
                  <a:xfrm flipH="1" flipV="1">
                    <a:off x="1504440" y="611820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5" name=""/>
                  <p:cNvSpPr/>
                  <p:nvPr/>
                </p:nvSpPr>
                <p:spPr>
                  <a:xfrm flipH="1" flipV="1">
                    <a:off x="1483200" y="612180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6" name=""/>
                  <p:cNvSpPr/>
                  <p:nvPr/>
                </p:nvSpPr>
                <p:spPr>
                  <a:xfrm flipH="1" flipV="1">
                    <a:off x="1463400" y="612504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7" name=""/>
                  <p:cNvSpPr/>
                  <p:nvPr/>
                </p:nvSpPr>
                <p:spPr>
                  <a:xfrm flipH="1" flipV="1">
                    <a:off x="1442160" y="6128280"/>
                    <a:ext cx="468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8" name=""/>
                  <p:cNvSpPr/>
                  <p:nvPr/>
                </p:nvSpPr>
                <p:spPr>
                  <a:xfrm flipH="1" flipV="1">
                    <a:off x="1416960" y="6101280"/>
                    <a:ext cx="9360" cy="5760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9" name=""/>
                  <p:cNvSpPr/>
                  <p:nvPr/>
                </p:nvSpPr>
                <p:spPr>
                  <a:xfrm flipH="1" flipV="1">
                    <a:off x="1400760" y="613512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0" name=""/>
                  <p:cNvSpPr/>
                  <p:nvPr/>
                </p:nvSpPr>
                <p:spPr>
                  <a:xfrm flipH="1" flipV="1">
                    <a:off x="1380960" y="613836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1" name=""/>
                  <p:cNvSpPr/>
                  <p:nvPr/>
                </p:nvSpPr>
                <p:spPr>
                  <a:xfrm flipH="1" flipV="1">
                    <a:off x="1360800" y="6141600"/>
                    <a:ext cx="468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2" name=""/>
                  <p:cNvSpPr/>
                  <p:nvPr/>
                </p:nvSpPr>
                <p:spPr>
                  <a:xfrm flipH="1" flipV="1">
                    <a:off x="1337400" y="6130800"/>
                    <a:ext cx="6480" cy="417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3" name=""/>
                  <p:cNvSpPr/>
                  <p:nvPr/>
                </p:nvSpPr>
                <p:spPr>
                  <a:xfrm flipH="1" flipV="1">
                    <a:off x="1319400" y="614844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4" name=""/>
                  <p:cNvSpPr/>
                  <p:nvPr/>
                </p:nvSpPr>
                <p:spPr>
                  <a:xfrm flipH="1" flipV="1">
                    <a:off x="1298520" y="615168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5" name=""/>
                  <p:cNvSpPr/>
                  <p:nvPr/>
                </p:nvSpPr>
                <p:spPr>
                  <a:xfrm flipH="1" flipV="1">
                    <a:off x="1278360" y="6154920"/>
                    <a:ext cx="468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6" name=""/>
                  <p:cNvSpPr/>
                  <p:nvPr/>
                </p:nvSpPr>
                <p:spPr>
                  <a:xfrm flipH="1" flipV="1">
                    <a:off x="1257120" y="615852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7" name=""/>
                  <p:cNvSpPr/>
                  <p:nvPr/>
                </p:nvSpPr>
                <p:spPr>
                  <a:xfrm flipH="1" flipV="1">
                    <a:off x="1231920" y="6131520"/>
                    <a:ext cx="9360" cy="5760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8" name=""/>
                  <p:cNvSpPr/>
                  <p:nvPr/>
                </p:nvSpPr>
                <p:spPr>
                  <a:xfrm flipH="1" flipV="1">
                    <a:off x="1217520" y="616500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9" name=""/>
                  <p:cNvSpPr/>
                  <p:nvPr/>
                </p:nvSpPr>
                <p:spPr>
                  <a:xfrm flipH="1" flipV="1">
                    <a:off x="1195920" y="6168600"/>
                    <a:ext cx="468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0" name=""/>
                  <p:cNvSpPr/>
                  <p:nvPr/>
                </p:nvSpPr>
                <p:spPr>
                  <a:xfrm flipH="1" flipV="1">
                    <a:off x="1175760" y="617184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1" name=""/>
                  <p:cNvSpPr/>
                  <p:nvPr/>
                </p:nvSpPr>
                <p:spPr>
                  <a:xfrm flipH="1" flipV="1">
                    <a:off x="1154520" y="617508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2" name=""/>
                  <p:cNvSpPr/>
                  <p:nvPr/>
                </p:nvSpPr>
                <p:spPr>
                  <a:xfrm flipH="1" flipV="1">
                    <a:off x="1132560" y="6164280"/>
                    <a:ext cx="6840" cy="41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3" name=""/>
                  <p:cNvSpPr/>
                  <p:nvPr/>
                </p:nvSpPr>
                <p:spPr>
                  <a:xfrm flipH="1" flipV="1">
                    <a:off x="1114560" y="6181560"/>
                    <a:ext cx="468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4" name=""/>
                  <p:cNvSpPr/>
                  <p:nvPr/>
                </p:nvSpPr>
                <p:spPr>
                  <a:xfrm flipH="1" flipV="1">
                    <a:off x="1093320" y="618516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5" name=""/>
                  <p:cNvSpPr/>
                  <p:nvPr/>
                </p:nvSpPr>
                <p:spPr>
                  <a:xfrm flipH="1" flipV="1">
                    <a:off x="1073520" y="618840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6" name=""/>
                  <p:cNvSpPr/>
                  <p:nvPr/>
                </p:nvSpPr>
                <p:spPr>
                  <a:xfrm flipH="1" flipV="1">
                    <a:off x="1052640" y="619200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7" name=""/>
                  <p:cNvSpPr/>
                  <p:nvPr/>
                </p:nvSpPr>
                <p:spPr>
                  <a:xfrm flipH="1" flipV="1">
                    <a:off x="1029240" y="6175800"/>
                    <a:ext cx="7560" cy="4680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8" name=""/>
                  <p:cNvSpPr/>
                  <p:nvPr/>
                </p:nvSpPr>
                <p:spPr>
                  <a:xfrm flipH="1" flipV="1">
                    <a:off x="1010880" y="619848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9" name=""/>
                  <p:cNvSpPr/>
                  <p:nvPr/>
                </p:nvSpPr>
                <p:spPr>
                  <a:xfrm flipH="1" flipV="1">
                    <a:off x="991080" y="620172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0" name=""/>
                  <p:cNvSpPr/>
                  <p:nvPr/>
                </p:nvSpPr>
                <p:spPr>
                  <a:xfrm flipH="1" flipV="1">
                    <a:off x="971280" y="620496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1" name=""/>
                  <p:cNvSpPr/>
                  <p:nvPr/>
                </p:nvSpPr>
                <p:spPr>
                  <a:xfrm flipH="1" flipV="1">
                    <a:off x="947520" y="6194520"/>
                    <a:ext cx="6840" cy="41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2" name=""/>
                  <p:cNvSpPr/>
                  <p:nvPr/>
                </p:nvSpPr>
                <p:spPr>
                  <a:xfrm flipH="1" flipV="1">
                    <a:off x="929880" y="621180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3" name=""/>
                  <p:cNvSpPr/>
                  <p:nvPr/>
                </p:nvSpPr>
                <p:spPr>
                  <a:xfrm flipH="1">
                    <a:off x="911880" y="6242760"/>
                    <a:ext cx="1080" cy="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14" name=""/>
              <p:cNvGrpSpPr/>
              <p:nvPr/>
            </p:nvGrpSpPr>
            <p:grpSpPr>
              <a:xfrm>
                <a:off x="1860840" y="4710960"/>
                <a:ext cx="477720" cy="1481400"/>
                <a:chOff x="1860840" y="4710960"/>
                <a:chExt cx="477720" cy="1481400"/>
              </a:xfrm>
            </p:grpSpPr>
            <p:sp>
              <p:nvSpPr>
                <p:cNvPr id="815" name=""/>
                <p:cNvSpPr/>
                <p:nvPr/>
              </p:nvSpPr>
              <p:spPr>
                <a:xfrm rot="4845000">
                  <a:off x="1369080" y="5328360"/>
                  <a:ext cx="14608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0     1      2     3      4      5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16" name=""/>
                <p:cNvGrpSpPr/>
                <p:nvPr/>
              </p:nvGrpSpPr>
              <p:grpSpPr>
                <a:xfrm>
                  <a:off x="2076120" y="4773240"/>
                  <a:ext cx="227160" cy="1067400"/>
                  <a:chOff x="2076120" y="4773240"/>
                  <a:chExt cx="227160" cy="1067400"/>
                </a:xfrm>
              </p:grpSpPr>
              <p:sp>
                <p:nvSpPr>
                  <p:cNvPr id="817" name=""/>
                  <p:cNvSpPr/>
                  <p:nvPr/>
                </p:nvSpPr>
                <p:spPr>
                  <a:xfrm flipH="1">
                    <a:off x="2076120" y="4773240"/>
                    <a:ext cx="53280" cy="900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8" name=""/>
                  <p:cNvSpPr/>
                  <p:nvPr/>
                </p:nvSpPr>
                <p:spPr>
                  <a:xfrm flipH="1">
                    <a:off x="2104200" y="479268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9" name=""/>
                  <p:cNvSpPr/>
                  <p:nvPr/>
                </p:nvSpPr>
                <p:spPr>
                  <a:xfrm flipH="1">
                    <a:off x="2107440" y="481320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0" name=""/>
                  <p:cNvSpPr/>
                  <p:nvPr/>
                </p:nvSpPr>
                <p:spPr>
                  <a:xfrm flipH="1">
                    <a:off x="2110680" y="483192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1" name=""/>
                  <p:cNvSpPr/>
                  <p:nvPr/>
                </p:nvSpPr>
                <p:spPr>
                  <a:xfrm flipH="1">
                    <a:off x="2113920" y="4852800"/>
                    <a:ext cx="28440" cy="43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2" name=""/>
                  <p:cNvSpPr/>
                  <p:nvPr/>
                </p:nvSpPr>
                <p:spPr>
                  <a:xfrm flipH="1">
                    <a:off x="2102040" y="4871880"/>
                    <a:ext cx="43560" cy="68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3" name=""/>
                  <p:cNvSpPr/>
                  <p:nvPr/>
                </p:nvSpPr>
                <p:spPr>
                  <a:xfrm flipH="1">
                    <a:off x="2120400" y="489240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4" name=""/>
                  <p:cNvSpPr/>
                  <p:nvPr/>
                </p:nvSpPr>
                <p:spPr>
                  <a:xfrm flipH="1">
                    <a:off x="2123640" y="491148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5" name=""/>
                  <p:cNvSpPr/>
                  <p:nvPr/>
                </p:nvSpPr>
                <p:spPr>
                  <a:xfrm flipH="1">
                    <a:off x="2126520" y="493092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6" name=""/>
                  <p:cNvSpPr/>
                  <p:nvPr/>
                </p:nvSpPr>
                <p:spPr>
                  <a:xfrm flipH="1">
                    <a:off x="2130120" y="495144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7" name=""/>
                  <p:cNvSpPr/>
                  <p:nvPr/>
                </p:nvSpPr>
                <p:spPr>
                  <a:xfrm flipH="1">
                    <a:off x="2113200" y="4970160"/>
                    <a:ext cx="48240" cy="792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8" name=""/>
                  <p:cNvSpPr/>
                  <p:nvPr/>
                </p:nvSpPr>
                <p:spPr>
                  <a:xfrm flipH="1">
                    <a:off x="2136600" y="499068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9" name=""/>
                  <p:cNvSpPr/>
                  <p:nvPr/>
                </p:nvSpPr>
                <p:spPr>
                  <a:xfrm flipH="1">
                    <a:off x="2139480" y="501012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0" name=""/>
                  <p:cNvSpPr/>
                  <p:nvPr/>
                </p:nvSpPr>
                <p:spPr>
                  <a:xfrm flipH="1">
                    <a:off x="2142720" y="502920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1" name=""/>
                  <p:cNvSpPr/>
                  <p:nvPr/>
                </p:nvSpPr>
                <p:spPr>
                  <a:xfrm flipH="1">
                    <a:off x="2131200" y="5049720"/>
                    <a:ext cx="43200" cy="72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2" name=""/>
                  <p:cNvSpPr/>
                  <p:nvPr/>
                </p:nvSpPr>
                <p:spPr>
                  <a:xfrm flipH="1">
                    <a:off x="2149200" y="5069160"/>
                    <a:ext cx="28440" cy="43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3" name=""/>
                  <p:cNvSpPr/>
                  <p:nvPr/>
                </p:nvSpPr>
                <p:spPr>
                  <a:xfrm flipH="1">
                    <a:off x="2152440" y="508968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4" name=""/>
                  <p:cNvSpPr/>
                  <p:nvPr/>
                </p:nvSpPr>
                <p:spPr>
                  <a:xfrm flipH="1">
                    <a:off x="2155680" y="510840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5" name=""/>
                  <p:cNvSpPr/>
                  <p:nvPr/>
                </p:nvSpPr>
                <p:spPr>
                  <a:xfrm flipH="1">
                    <a:off x="2158920" y="512892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6" name=""/>
                  <p:cNvSpPr/>
                  <p:nvPr/>
                </p:nvSpPr>
                <p:spPr>
                  <a:xfrm flipH="1">
                    <a:off x="2130840" y="5148360"/>
                    <a:ext cx="59760" cy="972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7" name=""/>
                  <p:cNvSpPr/>
                  <p:nvPr/>
                </p:nvSpPr>
                <p:spPr>
                  <a:xfrm flipH="1">
                    <a:off x="2165040" y="516744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8" name=""/>
                  <p:cNvSpPr/>
                  <p:nvPr/>
                </p:nvSpPr>
                <p:spPr>
                  <a:xfrm flipH="1">
                    <a:off x="2168640" y="518796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9" name=""/>
                  <p:cNvSpPr/>
                  <p:nvPr/>
                </p:nvSpPr>
                <p:spPr>
                  <a:xfrm flipH="1">
                    <a:off x="2171520" y="5207400"/>
                    <a:ext cx="28440" cy="43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0" name=""/>
                  <p:cNvSpPr/>
                  <p:nvPr/>
                </p:nvSpPr>
                <p:spPr>
                  <a:xfrm flipH="1">
                    <a:off x="2175120" y="522792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1" name=""/>
                  <p:cNvSpPr/>
                  <p:nvPr/>
                </p:nvSpPr>
                <p:spPr>
                  <a:xfrm flipH="1">
                    <a:off x="2163240" y="5247000"/>
                    <a:ext cx="43200" cy="72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2" name=""/>
                  <p:cNvSpPr/>
                  <p:nvPr/>
                </p:nvSpPr>
                <p:spPr>
                  <a:xfrm flipH="1">
                    <a:off x="2181240" y="526608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3" name=""/>
                  <p:cNvSpPr/>
                  <p:nvPr/>
                </p:nvSpPr>
                <p:spPr>
                  <a:xfrm flipH="1">
                    <a:off x="2184480" y="5286960"/>
                    <a:ext cx="28440" cy="43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4" name=""/>
                  <p:cNvSpPr/>
                  <p:nvPr/>
                </p:nvSpPr>
                <p:spPr>
                  <a:xfrm flipH="1">
                    <a:off x="2187720" y="530604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5" name=""/>
                  <p:cNvSpPr/>
                  <p:nvPr/>
                </p:nvSpPr>
                <p:spPr>
                  <a:xfrm flipH="1">
                    <a:off x="2190960" y="532620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6" name=""/>
                  <p:cNvSpPr/>
                  <p:nvPr/>
                </p:nvSpPr>
                <p:spPr>
                  <a:xfrm flipH="1">
                    <a:off x="2162880" y="5345280"/>
                    <a:ext cx="59760" cy="972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7" name=""/>
                  <p:cNvSpPr/>
                  <p:nvPr/>
                </p:nvSpPr>
                <p:spPr>
                  <a:xfrm flipH="1">
                    <a:off x="2197440" y="536616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8" name=""/>
                  <p:cNvSpPr/>
                  <p:nvPr/>
                </p:nvSpPr>
                <p:spPr>
                  <a:xfrm flipH="1">
                    <a:off x="2200680" y="538524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9" name=""/>
                  <p:cNvSpPr/>
                  <p:nvPr/>
                </p:nvSpPr>
                <p:spPr>
                  <a:xfrm flipH="1">
                    <a:off x="2203920" y="540432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0" name=""/>
                  <p:cNvSpPr/>
                  <p:nvPr/>
                </p:nvSpPr>
                <p:spPr>
                  <a:xfrm flipH="1">
                    <a:off x="2192400" y="5425200"/>
                    <a:ext cx="43200" cy="68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1" name=""/>
                  <p:cNvSpPr/>
                  <p:nvPr/>
                </p:nvSpPr>
                <p:spPr>
                  <a:xfrm flipH="1">
                    <a:off x="2210400" y="544428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2" name=""/>
                  <p:cNvSpPr/>
                  <p:nvPr/>
                </p:nvSpPr>
                <p:spPr>
                  <a:xfrm flipH="1">
                    <a:off x="2213640" y="546480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3" name=""/>
                  <p:cNvSpPr/>
                  <p:nvPr/>
                </p:nvSpPr>
                <p:spPr>
                  <a:xfrm flipH="1">
                    <a:off x="2216520" y="548352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4" name=""/>
                  <p:cNvSpPr/>
                  <p:nvPr/>
                </p:nvSpPr>
                <p:spPr>
                  <a:xfrm flipH="1">
                    <a:off x="2220120" y="550440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5" name=""/>
                  <p:cNvSpPr/>
                  <p:nvPr/>
                </p:nvSpPr>
                <p:spPr>
                  <a:xfrm flipH="1">
                    <a:off x="2192040" y="5523480"/>
                    <a:ext cx="59400" cy="972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6" name=""/>
                  <p:cNvSpPr/>
                  <p:nvPr/>
                </p:nvSpPr>
                <p:spPr>
                  <a:xfrm flipH="1">
                    <a:off x="2226240" y="554256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7" name=""/>
                  <p:cNvSpPr/>
                  <p:nvPr/>
                </p:nvSpPr>
                <p:spPr>
                  <a:xfrm flipH="1">
                    <a:off x="2229480" y="5563440"/>
                    <a:ext cx="28440" cy="43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8" name=""/>
                  <p:cNvSpPr/>
                  <p:nvPr/>
                </p:nvSpPr>
                <p:spPr>
                  <a:xfrm flipH="1">
                    <a:off x="2232720" y="558252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" name=""/>
                  <p:cNvSpPr/>
                  <p:nvPr/>
                </p:nvSpPr>
                <p:spPr>
                  <a:xfrm flipH="1">
                    <a:off x="2236320" y="5603040"/>
                    <a:ext cx="2808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0" name=""/>
                  <p:cNvSpPr/>
                  <p:nvPr/>
                </p:nvSpPr>
                <p:spPr>
                  <a:xfrm flipH="1">
                    <a:off x="2224440" y="5621760"/>
                    <a:ext cx="43200" cy="72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1" name=""/>
                  <p:cNvSpPr/>
                  <p:nvPr/>
                </p:nvSpPr>
                <p:spPr>
                  <a:xfrm flipH="1">
                    <a:off x="2242440" y="564156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2" name=""/>
                  <p:cNvSpPr/>
                  <p:nvPr/>
                </p:nvSpPr>
                <p:spPr>
                  <a:xfrm flipH="1">
                    <a:off x="2245680" y="566208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3" name=""/>
                  <p:cNvSpPr/>
                  <p:nvPr/>
                </p:nvSpPr>
                <p:spPr>
                  <a:xfrm flipH="1">
                    <a:off x="2248920" y="568080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4" name=""/>
                  <p:cNvSpPr/>
                  <p:nvPr/>
                </p:nvSpPr>
                <p:spPr>
                  <a:xfrm flipH="1">
                    <a:off x="2252160" y="570132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5" name=""/>
                  <p:cNvSpPr/>
                  <p:nvPr/>
                </p:nvSpPr>
                <p:spPr>
                  <a:xfrm flipH="1">
                    <a:off x="2235240" y="5720760"/>
                    <a:ext cx="48600" cy="792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6" name=""/>
                  <p:cNvSpPr/>
                  <p:nvPr/>
                </p:nvSpPr>
                <p:spPr>
                  <a:xfrm flipH="1">
                    <a:off x="2258640" y="574128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7" name=""/>
                  <p:cNvSpPr/>
                  <p:nvPr/>
                </p:nvSpPr>
                <p:spPr>
                  <a:xfrm flipH="1">
                    <a:off x="2261880" y="576036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8" name=""/>
                  <p:cNvSpPr/>
                  <p:nvPr/>
                </p:nvSpPr>
                <p:spPr>
                  <a:xfrm flipH="1">
                    <a:off x="2264760" y="5779800"/>
                    <a:ext cx="28440" cy="43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9" name=""/>
                  <p:cNvSpPr/>
                  <p:nvPr/>
                </p:nvSpPr>
                <p:spPr>
                  <a:xfrm flipH="1">
                    <a:off x="2253240" y="5800320"/>
                    <a:ext cx="43560" cy="68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0" name=""/>
                  <p:cNvSpPr/>
                  <p:nvPr/>
                </p:nvSpPr>
                <p:spPr>
                  <a:xfrm flipH="1">
                    <a:off x="2271240" y="581904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1" name=""/>
                  <p:cNvSpPr/>
                  <p:nvPr/>
                </p:nvSpPr>
                <p:spPr>
                  <a:xfrm>
                    <a:off x="2303280" y="5839560"/>
                    <a:ext cx="0" cy="10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872" name="" descr=""/>
          <p:cNvPicPr/>
          <p:nvPr/>
        </p:nvPicPr>
        <p:blipFill>
          <a:blip r:embed="rId6"/>
          <a:stretch/>
        </p:blipFill>
        <p:spPr>
          <a:xfrm>
            <a:off x="8532720" y="0"/>
            <a:ext cx="617760" cy="625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5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9.wmf"/><Relationship Id="rId1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5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5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2.wmf"/><Relationship Id="rId6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9" name=""/>
          <p:cNvGrpSpPr/>
          <p:nvPr/>
        </p:nvGrpSpPr>
        <p:grpSpPr>
          <a:xfrm>
            <a:off x="179280" y="5877000"/>
            <a:ext cx="6581520" cy="866880"/>
            <a:chOff x="179280" y="5877000"/>
            <a:chExt cx="6581520" cy="866880"/>
          </a:xfrm>
        </p:grpSpPr>
        <p:sp>
          <p:nvSpPr>
            <p:cNvPr id="910" name=""/>
            <p:cNvSpPr/>
            <p:nvPr/>
          </p:nvSpPr>
          <p:spPr>
            <a:xfrm>
              <a:off x="179280" y="6024600"/>
              <a:ext cx="1317600" cy="414000"/>
            </a:xfrm>
            <a:custGeom>
              <a:avLst/>
              <a:gdLst/>
              <a:ahLst/>
              <a:rect l="l" t="t" r="r" b="b"/>
              <a:pathLst>
                <a:path w="1119" h="600">
                  <a:moveTo>
                    <a:pt x="1119" y="59"/>
                  </a:moveTo>
                  <a:lnTo>
                    <a:pt x="957" y="59"/>
                  </a:lnTo>
                  <a:lnTo>
                    <a:pt x="957" y="147"/>
                  </a:lnTo>
                  <a:lnTo>
                    <a:pt x="918" y="186"/>
                  </a:lnTo>
                  <a:lnTo>
                    <a:pt x="870" y="186"/>
                  </a:lnTo>
                  <a:lnTo>
                    <a:pt x="870" y="93"/>
                  </a:lnTo>
                  <a:lnTo>
                    <a:pt x="737" y="93"/>
                  </a:lnTo>
                  <a:lnTo>
                    <a:pt x="737" y="204"/>
                  </a:lnTo>
                  <a:lnTo>
                    <a:pt x="689" y="204"/>
                  </a:lnTo>
                  <a:lnTo>
                    <a:pt x="685" y="166"/>
                  </a:lnTo>
                  <a:lnTo>
                    <a:pt x="678" y="135"/>
                  </a:lnTo>
                  <a:lnTo>
                    <a:pt x="667" y="108"/>
                  </a:lnTo>
                  <a:lnTo>
                    <a:pt x="653" y="85"/>
                  </a:lnTo>
                  <a:lnTo>
                    <a:pt x="639" y="66"/>
                  </a:lnTo>
                  <a:lnTo>
                    <a:pt x="627" y="51"/>
                  </a:lnTo>
                  <a:lnTo>
                    <a:pt x="615" y="38"/>
                  </a:lnTo>
                  <a:lnTo>
                    <a:pt x="607" y="27"/>
                  </a:lnTo>
                  <a:lnTo>
                    <a:pt x="599" y="40"/>
                  </a:lnTo>
                  <a:lnTo>
                    <a:pt x="590" y="55"/>
                  </a:lnTo>
                  <a:lnTo>
                    <a:pt x="580" y="73"/>
                  </a:lnTo>
                  <a:lnTo>
                    <a:pt x="571" y="93"/>
                  </a:lnTo>
                  <a:lnTo>
                    <a:pt x="563" y="111"/>
                  </a:lnTo>
                  <a:lnTo>
                    <a:pt x="556" y="130"/>
                  </a:lnTo>
                  <a:lnTo>
                    <a:pt x="551" y="145"/>
                  </a:lnTo>
                  <a:lnTo>
                    <a:pt x="547" y="156"/>
                  </a:lnTo>
                  <a:lnTo>
                    <a:pt x="541" y="142"/>
                  </a:lnTo>
                  <a:lnTo>
                    <a:pt x="536" y="126"/>
                  </a:lnTo>
                  <a:lnTo>
                    <a:pt x="529" y="109"/>
                  </a:lnTo>
                  <a:lnTo>
                    <a:pt x="521" y="92"/>
                  </a:lnTo>
                  <a:lnTo>
                    <a:pt x="514" y="76"/>
                  </a:lnTo>
                  <a:lnTo>
                    <a:pt x="506" y="61"/>
                  </a:lnTo>
                  <a:lnTo>
                    <a:pt x="499" y="48"/>
                  </a:lnTo>
                  <a:lnTo>
                    <a:pt x="493" y="39"/>
                  </a:lnTo>
                  <a:lnTo>
                    <a:pt x="483" y="55"/>
                  </a:lnTo>
                  <a:lnTo>
                    <a:pt x="472" y="76"/>
                  </a:lnTo>
                  <a:lnTo>
                    <a:pt x="462" y="100"/>
                  </a:lnTo>
                  <a:lnTo>
                    <a:pt x="453" y="127"/>
                  </a:lnTo>
                  <a:lnTo>
                    <a:pt x="445" y="155"/>
                  </a:lnTo>
                  <a:lnTo>
                    <a:pt x="439" y="184"/>
                  </a:lnTo>
                  <a:lnTo>
                    <a:pt x="434" y="212"/>
                  </a:lnTo>
                  <a:lnTo>
                    <a:pt x="432" y="240"/>
                  </a:lnTo>
                  <a:lnTo>
                    <a:pt x="351" y="240"/>
                  </a:lnTo>
                  <a:lnTo>
                    <a:pt x="351" y="186"/>
                  </a:lnTo>
                  <a:lnTo>
                    <a:pt x="375" y="186"/>
                  </a:lnTo>
                  <a:lnTo>
                    <a:pt x="318" y="87"/>
                  </a:lnTo>
                  <a:lnTo>
                    <a:pt x="150" y="87"/>
                  </a:lnTo>
                  <a:lnTo>
                    <a:pt x="104" y="0"/>
                  </a:lnTo>
                  <a:lnTo>
                    <a:pt x="0" y="229"/>
                  </a:lnTo>
                  <a:lnTo>
                    <a:pt x="0" y="600"/>
                  </a:lnTo>
                  <a:lnTo>
                    <a:pt x="1119" y="600"/>
                  </a:lnTo>
                  <a:lnTo>
                    <a:pt x="1119" y="59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79280" y="6413760"/>
              <a:ext cx="1315440" cy="30492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151160" y="6009120"/>
              <a:ext cx="2609640" cy="429480"/>
            </a:xfrm>
            <a:custGeom>
              <a:avLst/>
              <a:gdLst/>
              <a:ahLst/>
              <a:rect l="l" t="t" r="r" b="b"/>
              <a:pathLst>
                <a:path w="2214" h="621">
                  <a:moveTo>
                    <a:pt x="2214" y="147"/>
                  </a:moveTo>
                  <a:lnTo>
                    <a:pt x="2214" y="147"/>
                  </a:lnTo>
                  <a:lnTo>
                    <a:pt x="2163" y="75"/>
                  </a:lnTo>
                  <a:lnTo>
                    <a:pt x="2087" y="190"/>
                  </a:lnTo>
                  <a:lnTo>
                    <a:pt x="2087" y="108"/>
                  </a:lnTo>
                  <a:lnTo>
                    <a:pt x="2024" y="65"/>
                  </a:lnTo>
                  <a:lnTo>
                    <a:pt x="1977" y="117"/>
                  </a:lnTo>
                  <a:lnTo>
                    <a:pt x="1977" y="168"/>
                  </a:lnTo>
                  <a:lnTo>
                    <a:pt x="1955" y="168"/>
                  </a:lnTo>
                  <a:lnTo>
                    <a:pt x="1955" y="120"/>
                  </a:lnTo>
                  <a:lnTo>
                    <a:pt x="1885" y="49"/>
                  </a:lnTo>
                  <a:lnTo>
                    <a:pt x="1882" y="49"/>
                  </a:lnTo>
                  <a:lnTo>
                    <a:pt x="1874" y="49"/>
                  </a:lnTo>
                  <a:lnTo>
                    <a:pt x="1861" y="49"/>
                  </a:lnTo>
                  <a:lnTo>
                    <a:pt x="1846" y="49"/>
                  </a:lnTo>
                  <a:lnTo>
                    <a:pt x="1828" y="49"/>
                  </a:lnTo>
                  <a:lnTo>
                    <a:pt x="1806" y="49"/>
                  </a:lnTo>
                  <a:lnTo>
                    <a:pt x="1784" y="49"/>
                  </a:lnTo>
                  <a:lnTo>
                    <a:pt x="1761" y="49"/>
                  </a:lnTo>
                  <a:lnTo>
                    <a:pt x="1738" y="49"/>
                  </a:lnTo>
                  <a:lnTo>
                    <a:pt x="1716" y="49"/>
                  </a:lnTo>
                  <a:lnTo>
                    <a:pt x="1694" y="49"/>
                  </a:lnTo>
                  <a:lnTo>
                    <a:pt x="1676" y="49"/>
                  </a:lnTo>
                  <a:lnTo>
                    <a:pt x="1660" y="49"/>
                  </a:lnTo>
                  <a:lnTo>
                    <a:pt x="1647" y="49"/>
                  </a:lnTo>
                  <a:lnTo>
                    <a:pt x="1639" y="49"/>
                  </a:lnTo>
                  <a:lnTo>
                    <a:pt x="1636" y="49"/>
                  </a:lnTo>
                  <a:lnTo>
                    <a:pt x="1631" y="53"/>
                  </a:lnTo>
                  <a:lnTo>
                    <a:pt x="1621" y="63"/>
                  </a:lnTo>
                  <a:lnTo>
                    <a:pt x="1607" y="76"/>
                  </a:lnTo>
                  <a:lnTo>
                    <a:pt x="1592" y="92"/>
                  </a:lnTo>
                  <a:lnTo>
                    <a:pt x="1577" y="108"/>
                  </a:lnTo>
                  <a:lnTo>
                    <a:pt x="1563" y="121"/>
                  </a:lnTo>
                  <a:lnTo>
                    <a:pt x="1554" y="131"/>
                  </a:lnTo>
                  <a:lnTo>
                    <a:pt x="1550" y="135"/>
                  </a:lnTo>
                  <a:lnTo>
                    <a:pt x="1587" y="135"/>
                  </a:lnTo>
                  <a:lnTo>
                    <a:pt x="1587" y="205"/>
                  </a:lnTo>
                  <a:lnTo>
                    <a:pt x="1515" y="205"/>
                  </a:lnTo>
                  <a:lnTo>
                    <a:pt x="1515" y="178"/>
                  </a:lnTo>
                  <a:lnTo>
                    <a:pt x="1515" y="121"/>
                  </a:lnTo>
                  <a:lnTo>
                    <a:pt x="1515" y="63"/>
                  </a:lnTo>
                  <a:lnTo>
                    <a:pt x="1515" y="39"/>
                  </a:lnTo>
                  <a:lnTo>
                    <a:pt x="1512" y="39"/>
                  </a:lnTo>
                  <a:lnTo>
                    <a:pt x="1505" y="40"/>
                  </a:lnTo>
                  <a:lnTo>
                    <a:pt x="1495" y="40"/>
                  </a:lnTo>
                  <a:lnTo>
                    <a:pt x="1481" y="40"/>
                  </a:lnTo>
                  <a:lnTo>
                    <a:pt x="1466" y="40"/>
                  </a:lnTo>
                  <a:lnTo>
                    <a:pt x="1448" y="40"/>
                  </a:lnTo>
                  <a:lnTo>
                    <a:pt x="1429" y="40"/>
                  </a:lnTo>
                  <a:lnTo>
                    <a:pt x="1410" y="40"/>
                  </a:lnTo>
                  <a:lnTo>
                    <a:pt x="1389" y="40"/>
                  </a:lnTo>
                  <a:lnTo>
                    <a:pt x="1371" y="40"/>
                  </a:lnTo>
                  <a:lnTo>
                    <a:pt x="1352" y="39"/>
                  </a:lnTo>
                  <a:lnTo>
                    <a:pt x="1337" y="39"/>
                  </a:lnTo>
                  <a:lnTo>
                    <a:pt x="1323" y="39"/>
                  </a:lnTo>
                  <a:lnTo>
                    <a:pt x="1313" y="39"/>
                  </a:lnTo>
                  <a:lnTo>
                    <a:pt x="1306" y="39"/>
                  </a:lnTo>
                  <a:lnTo>
                    <a:pt x="1304" y="39"/>
                  </a:lnTo>
                  <a:lnTo>
                    <a:pt x="1304" y="84"/>
                  </a:lnTo>
                  <a:lnTo>
                    <a:pt x="1063" y="84"/>
                  </a:lnTo>
                  <a:lnTo>
                    <a:pt x="1063" y="123"/>
                  </a:lnTo>
                  <a:lnTo>
                    <a:pt x="1049" y="124"/>
                  </a:lnTo>
                  <a:lnTo>
                    <a:pt x="1035" y="129"/>
                  </a:lnTo>
                  <a:lnTo>
                    <a:pt x="1020" y="137"/>
                  </a:lnTo>
                  <a:lnTo>
                    <a:pt x="1008" y="147"/>
                  </a:lnTo>
                  <a:lnTo>
                    <a:pt x="996" y="159"/>
                  </a:lnTo>
                  <a:lnTo>
                    <a:pt x="987" y="174"/>
                  </a:lnTo>
                  <a:lnTo>
                    <a:pt x="981" y="190"/>
                  </a:lnTo>
                  <a:lnTo>
                    <a:pt x="979" y="207"/>
                  </a:lnTo>
                  <a:lnTo>
                    <a:pt x="955" y="207"/>
                  </a:lnTo>
                  <a:lnTo>
                    <a:pt x="952" y="176"/>
                  </a:lnTo>
                  <a:lnTo>
                    <a:pt x="944" y="153"/>
                  </a:lnTo>
                  <a:lnTo>
                    <a:pt x="934" y="138"/>
                  </a:lnTo>
                  <a:lnTo>
                    <a:pt x="921" y="132"/>
                  </a:lnTo>
                  <a:lnTo>
                    <a:pt x="909" y="137"/>
                  </a:lnTo>
                  <a:lnTo>
                    <a:pt x="898" y="149"/>
                  </a:lnTo>
                  <a:lnTo>
                    <a:pt x="890" y="174"/>
                  </a:lnTo>
                  <a:lnTo>
                    <a:pt x="888" y="207"/>
                  </a:lnTo>
                  <a:lnTo>
                    <a:pt x="822" y="207"/>
                  </a:lnTo>
                  <a:lnTo>
                    <a:pt x="822" y="11"/>
                  </a:lnTo>
                  <a:lnTo>
                    <a:pt x="783" y="11"/>
                  </a:lnTo>
                  <a:lnTo>
                    <a:pt x="783" y="75"/>
                  </a:lnTo>
                  <a:lnTo>
                    <a:pt x="567" y="75"/>
                  </a:lnTo>
                  <a:lnTo>
                    <a:pt x="524" y="9"/>
                  </a:lnTo>
                  <a:lnTo>
                    <a:pt x="481" y="75"/>
                  </a:lnTo>
                  <a:lnTo>
                    <a:pt x="237" y="75"/>
                  </a:lnTo>
                  <a:lnTo>
                    <a:pt x="237" y="156"/>
                  </a:lnTo>
                  <a:lnTo>
                    <a:pt x="175" y="156"/>
                  </a:lnTo>
                  <a:lnTo>
                    <a:pt x="169" y="149"/>
                  </a:lnTo>
                  <a:lnTo>
                    <a:pt x="162" y="139"/>
                  </a:lnTo>
                  <a:lnTo>
                    <a:pt x="155" y="129"/>
                  </a:lnTo>
                  <a:lnTo>
                    <a:pt x="147" y="117"/>
                  </a:lnTo>
                  <a:lnTo>
                    <a:pt x="140" y="107"/>
                  </a:lnTo>
                  <a:lnTo>
                    <a:pt x="134" y="98"/>
                  </a:lnTo>
                  <a:lnTo>
                    <a:pt x="130" y="92"/>
                  </a:lnTo>
                  <a:lnTo>
                    <a:pt x="129" y="90"/>
                  </a:lnTo>
                  <a:lnTo>
                    <a:pt x="151" y="93"/>
                  </a:lnTo>
                  <a:lnTo>
                    <a:pt x="84" y="0"/>
                  </a:lnTo>
                  <a:lnTo>
                    <a:pt x="26" y="87"/>
                  </a:lnTo>
                  <a:lnTo>
                    <a:pt x="45" y="87"/>
                  </a:lnTo>
                  <a:lnTo>
                    <a:pt x="11" y="151"/>
                  </a:lnTo>
                  <a:lnTo>
                    <a:pt x="33" y="156"/>
                  </a:lnTo>
                  <a:lnTo>
                    <a:pt x="0" y="192"/>
                  </a:lnTo>
                  <a:lnTo>
                    <a:pt x="0" y="621"/>
                  </a:lnTo>
                  <a:lnTo>
                    <a:pt x="2214" y="621"/>
                  </a:lnTo>
                  <a:lnTo>
                    <a:pt x="2214" y="147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4149000" y="6438960"/>
              <a:ext cx="2611800" cy="30492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149000" y="6256440"/>
              <a:ext cx="56520" cy="18216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233960" y="6256440"/>
              <a:ext cx="58680" cy="18216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323240" y="6256440"/>
              <a:ext cx="59040" cy="18216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149000" y="6304680"/>
              <a:ext cx="25200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149000" y="6393240"/>
              <a:ext cx="25200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853240" y="6256440"/>
              <a:ext cx="56520" cy="18216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5938200" y="6256440"/>
              <a:ext cx="58680" cy="18216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027840" y="6256440"/>
              <a:ext cx="58680" cy="18216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117120" y="6256440"/>
              <a:ext cx="58680" cy="18216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6207120" y="6256440"/>
              <a:ext cx="58680" cy="198720"/>
            </a:xfrm>
            <a:custGeom>
              <a:avLst/>
              <a:gdLst/>
              <a:ahLst/>
              <a:rect l="l" t="t" r="r" b="b"/>
              <a:pathLst>
                <a:path w="49" h="286">
                  <a:moveTo>
                    <a:pt x="25" y="0"/>
                  </a:moveTo>
                  <a:lnTo>
                    <a:pt x="49" y="57"/>
                  </a:lnTo>
                  <a:lnTo>
                    <a:pt x="49" y="286"/>
                  </a:lnTo>
                  <a:lnTo>
                    <a:pt x="0" y="272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6296400" y="6267600"/>
              <a:ext cx="58680" cy="204120"/>
            </a:xfrm>
            <a:custGeom>
              <a:avLst/>
              <a:gdLst/>
              <a:ahLst/>
              <a:rect l="l" t="t" r="r" b="b"/>
              <a:pathLst>
                <a:path w="50" h="295">
                  <a:moveTo>
                    <a:pt x="25" y="0"/>
                  </a:moveTo>
                  <a:lnTo>
                    <a:pt x="50" y="56"/>
                  </a:lnTo>
                  <a:lnTo>
                    <a:pt x="50" y="295"/>
                  </a:lnTo>
                  <a:lnTo>
                    <a:pt x="0" y="276"/>
                  </a:lnTo>
                  <a:lnTo>
                    <a:pt x="0" y="5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388200" y="6278400"/>
              <a:ext cx="56520" cy="215280"/>
            </a:xfrm>
            <a:custGeom>
              <a:avLst/>
              <a:gdLst/>
              <a:ahLst/>
              <a:rect l="l" t="t" r="r" b="b"/>
              <a:pathLst>
                <a:path w="49" h="313">
                  <a:moveTo>
                    <a:pt x="24" y="0"/>
                  </a:moveTo>
                  <a:lnTo>
                    <a:pt x="49" y="57"/>
                  </a:lnTo>
                  <a:lnTo>
                    <a:pt x="49" y="313"/>
                  </a:lnTo>
                  <a:lnTo>
                    <a:pt x="0" y="290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477840" y="6292440"/>
              <a:ext cx="56520" cy="233280"/>
            </a:xfrm>
            <a:custGeom>
              <a:avLst/>
              <a:gdLst/>
              <a:ahLst/>
              <a:rect l="l" t="t" r="r" b="b"/>
              <a:pathLst>
                <a:path w="50" h="340">
                  <a:moveTo>
                    <a:pt x="24" y="0"/>
                  </a:moveTo>
                  <a:lnTo>
                    <a:pt x="50" y="58"/>
                  </a:lnTo>
                  <a:lnTo>
                    <a:pt x="50" y="340"/>
                  </a:lnTo>
                  <a:lnTo>
                    <a:pt x="0" y="309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567120" y="6312960"/>
              <a:ext cx="56520" cy="257040"/>
            </a:xfrm>
            <a:custGeom>
              <a:avLst/>
              <a:gdLst/>
              <a:ahLst/>
              <a:rect l="l" t="t" r="r" b="b"/>
              <a:pathLst>
                <a:path w="50" h="373">
                  <a:moveTo>
                    <a:pt x="24" y="0"/>
                  </a:moveTo>
                  <a:lnTo>
                    <a:pt x="50" y="58"/>
                  </a:lnTo>
                  <a:lnTo>
                    <a:pt x="50" y="373"/>
                  </a:lnTo>
                  <a:lnTo>
                    <a:pt x="0" y="326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657120" y="6336360"/>
              <a:ext cx="56520" cy="298080"/>
            </a:xfrm>
            <a:custGeom>
              <a:avLst/>
              <a:gdLst/>
              <a:ahLst/>
              <a:rect l="l" t="t" r="r" b="b"/>
              <a:pathLst>
                <a:path w="50" h="430">
                  <a:moveTo>
                    <a:pt x="26" y="0"/>
                  </a:moveTo>
                  <a:lnTo>
                    <a:pt x="50" y="56"/>
                  </a:lnTo>
                  <a:lnTo>
                    <a:pt x="50" y="430"/>
                  </a:lnTo>
                  <a:lnTo>
                    <a:pt x="0" y="368"/>
                  </a:lnTo>
                  <a:lnTo>
                    <a:pt x="0" y="5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6746400" y="6387840"/>
              <a:ext cx="14400" cy="293760"/>
            </a:xfrm>
            <a:custGeom>
              <a:avLst/>
              <a:gdLst/>
              <a:ahLst/>
              <a:rect l="l" t="t" r="r" b="b"/>
              <a:pathLst>
                <a:path w="13" h="427">
                  <a:moveTo>
                    <a:pt x="13" y="0"/>
                  </a:moveTo>
                  <a:lnTo>
                    <a:pt x="13" y="427"/>
                  </a:lnTo>
                  <a:lnTo>
                    <a:pt x="0" y="396"/>
                  </a:lnTo>
                  <a:lnTo>
                    <a:pt x="0" y="2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5822640" y="6304680"/>
              <a:ext cx="938160" cy="144720"/>
            </a:xfrm>
            <a:custGeom>
              <a:avLst/>
              <a:gdLst/>
              <a:ahLst/>
              <a:rect l="l" t="t" r="r" b="b"/>
              <a:pathLst>
                <a:path w="796" h="208">
                  <a:moveTo>
                    <a:pt x="0" y="29"/>
                  </a:moveTo>
                  <a:lnTo>
                    <a:pt x="6" y="29"/>
                  </a:lnTo>
                  <a:lnTo>
                    <a:pt x="16" y="29"/>
                  </a:lnTo>
                  <a:lnTo>
                    <a:pt x="29" y="29"/>
                  </a:lnTo>
                  <a:lnTo>
                    <a:pt x="45" y="29"/>
                  </a:lnTo>
                  <a:lnTo>
                    <a:pt x="63" y="29"/>
                  </a:lnTo>
                  <a:lnTo>
                    <a:pt x="83" y="29"/>
                  </a:lnTo>
                  <a:lnTo>
                    <a:pt x="105" y="29"/>
                  </a:lnTo>
                  <a:lnTo>
                    <a:pt x="127" y="29"/>
                  </a:lnTo>
                  <a:lnTo>
                    <a:pt x="147" y="29"/>
                  </a:lnTo>
                  <a:lnTo>
                    <a:pt x="169" y="29"/>
                  </a:lnTo>
                  <a:lnTo>
                    <a:pt x="189" y="29"/>
                  </a:lnTo>
                  <a:lnTo>
                    <a:pt x="207" y="29"/>
                  </a:lnTo>
                  <a:lnTo>
                    <a:pt x="223" y="29"/>
                  </a:lnTo>
                  <a:lnTo>
                    <a:pt x="236" y="29"/>
                  </a:lnTo>
                  <a:lnTo>
                    <a:pt x="246" y="29"/>
                  </a:lnTo>
                  <a:lnTo>
                    <a:pt x="252" y="29"/>
                  </a:lnTo>
                  <a:lnTo>
                    <a:pt x="259" y="29"/>
                  </a:lnTo>
                  <a:lnTo>
                    <a:pt x="274" y="30"/>
                  </a:lnTo>
                  <a:lnTo>
                    <a:pt x="294" y="32"/>
                  </a:lnTo>
                  <a:lnTo>
                    <a:pt x="319" y="36"/>
                  </a:lnTo>
                  <a:lnTo>
                    <a:pt x="349" y="40"/>
                  </a:lnTo>
                  <a:lnTo>
                    <a:pt x="384" y="46"/>
                  </a:lnTo>
                  <a:lnTo>
                    <a:pt x="420" y="53"/>
                  </a:lnTo>
                  <a:lnTo>
                    <a:pt x="461" y="62"/>
                  </a:lnTo>
                  <a:lnTo>
                    <a:pt x="503" y="72"/>
                  </a:lnTo>
                  <a:lnTo>
                    <a:pt x="546" y="85"/>
                  </a:lnTo>
                  <a:lnTo>
                    <a:pt x="590" y="100"/>
                  </a:lnTo>
                  <a:lnTo>
                    <a:pt x="635" y="116"/>
                  </a:lnTo>
                  <a:lnTo>
                    <a:pt x="677" y="136"/>
                  </a:lnTo>
                  <a:lnTo>
                    <a:pt x="719" y="158"/>
                  </a:lnTo>
                  <a:lnTo>
                    <a:pt x="759" y="182"/>
                  </a:lnTo>
                  <a:lnTo>
                    <a:pt x="796" y="208"/>
                  </a:lnTo>
                  <a:lnTo>
                    <a:pt x="796" y="161"/>
                  </a:lnTo>
                  <a:lnTo>
                    <a:pt x="759" y="135"/>
                  </a:lnTo>
                  <a:lnTo>
                    <a:pt x="719" y="112"/>
                  </a:lnTo>
                  <a:lnTo>
                    <a:pt x="677" y="91"/>
                  </a:lnTo>
                  <a:lnTo>
                    <a:pt x="634" y="74"/>
                  </a:lnTo>
                  <a:lnTo>
                    <a:pt x="590" y="57"/>
                  </a:lnTo>
                  <a:lnTo>
                    <a:pt x="546" y="45"/>
                  </a:lnTo>
                  <a:lnTo>
                    <a:pt x="502" y="33"/>
                  </a:lnTo>
                  <a:lnTo>
                    <a:pt x="461" y="25"/>
                  </a:lnTo>
                  <a:lnTo>
                    <a:pt x="420" y="17"/>
                  </a:lnTo>
                  <a:lnTo>
                    <a:pt x="384" y="11"/>
                  </a:lnTo>
                  <a:lnTo>
                    <a:pt x="349" y="7"/>
                  </a:lnTo>
                  <a:lnTo>
                    <a:pt x="319" y="5"/>
                  </a:lnTo>
                  <a:lnTo>
                    <a:pt x="294" y="2"/>
                  </a:lnTo>
                  <a:lnTo>
                    <a:pt x="274" y="1"/>
                  </a:lnTo>
                  <a:lnTo>
                    <a:pt x="259" y="0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5822640" y="6393240"/>
              <a:ext cx="938160" cy="212400"/>
            </a:xfrm>
            <a:custGeom>
              <a:avLst/>
              <a:gdLst/>
              <a:ahLst/>
              <a:rect l="l" t="t" r="r" b="b"/>
              <a:pathLst>
                <a:path w="796" h="307">
                  <a:moveTo>
                    <a:pt x="0" y="32"/>
                  </a:moveTo>
                  <a:lnTo>
                    <a:pt x="6" y="32"/>
                  </a:lnTo>
                  <a:lnTo>
                    <a:pt x="16" y="32"/>
                  </a:lnTo>
                  <a:lnTo>
                    <a:pt x="29" y="32"/>
                  </a:lnTo>
                  <a:lnTo>
                    <a:pt x="45" y="32"/>
                  </a:lnTo>
                  <a:lnTo>
                    <a:pt x="63" y="32"/>
                  </a:lnTo>
                  <a:lnTo>
                    <a:pt x="83" y="32"/>
                  </a:lnTo>
                  <a:lnTo>
                    <a:pt x="105" y="32"/>
                  </a:lnTo>
                  <a:lnTo>
                    <a:pt x="127" y="32"/>
                  </a:lnTo>
                  <a:lnTo>
                    <a:pt x="147" y="32"/>
                  </a:lnTo>
                  <a:lnTo>
                    <a:pt x="169" y="32"/>
                  </a:lnTo>
                  <a:lnTo>
                    <a:pt x="189" y="32"/>
                  </a:lnTo>
                  <a:lnTo>
                    <a:pt x="207" y="32"/>
                  </a:lnTo>
                  <a:lnTo>
                    <a:pt x="223" y="32"/>
                  </a:lnTo>
                  <a:lnTo>
                    <a:pt x="236" y="32"/>
                  </a:lnTo>
                  <a:lnTo>
                    <a:pt x="246" y="32"/>
                  </a:lnTo>
                  <a:lnTo>
                    <a:pt x="252" y="32"/>
                  </a:lnTo>
                  <a:lnTo>
                    <a:pt x="299" y="33"/>
                  </a:lnTo>
                  <a:lnTo>
                    <a:pt x="346" y="39"/>
                  </a:lnTo>
                  <a:lnTo>
                    <a:pt x="390" y="46"/>
                  </a:lnTo>
                  <a:lnTo>
                    <a:pt x="433" y="56"/>
                  </a:lnTo>
                  <a:lnTo>
                    <a:pt x="473" y="69"/>
                  </a:lnTo>
                  <a:lnTo>
                    <a:pt x="514" y="85"/>
                  </a:lnTo>
                  <a:lnTo>
                    <a:pt x="551" y="101"/>
                  </a:lnTo>
                  <a:lnTo>
                    <a:pt x="586" y="120"/>
                  </a:lnTo>
                  <a:lnTo>
                    <a:pt x="620" y="140"/>
                  </a:lnTo>
                  <a:lnTo>
                    <a:pt x="652" y="162"/>
                  </a:lnTo>
                  <a:lnTo>
                    <a:pt x="681" y="185"/>
                  </a:lnTo>
                  <a:lnTo>
                    <a:pt x="708" y="209"/>
                  </a:lnTo>
                  <a:lnTo>
                    <a:pt x="734" y="233"/>
                  </a:lnTo>
                  <a:lnTo>
                    <a:pt x="757" y="257"/>
                  </a:lnTo>
                  <a:lnTo>
                    <a:pt x="778" y="283"/>
                  </a:lnTo>
                  <a:lnTo>
                    <a:pt x="796" y="307"/>
                  </a:lnTo>
                  <a:lnTo>
                    <a:pt x="796" y="255"/>
                  </a:lnTo>
                  <a:lnTo>
                    <a:pt x="778" y="231"/>
                  </a:lnTo>
                  <a:lnTo>
                    <a:pt x="757" y="208"/>
                  </a:lnTo>
                  <a:lnTo>
                    <a:pt x="734" y="184"/>
                  </a:lnTo>
                  <a:lnTo>
                    <a:pt x="708" y="161"/>
                  </a:lnTo>
                  <a:lnTo>
                    <a:pt x="681" y="139"/>
                  </a:lnTo>
                  <a:lnTo>
                    <a:pt x="652" y="118"/>
                  </a:lnTo>
                  <a:lnTo>
                    <a:pt x="620" y="99"/>
                  </a:lnTo>
                  <a:lnTo>
                    <a:pt x="586" y="79"/>
                  </a:lnTo>
                  <a:lnTo>
                    <a:pt x="551" y="62"/>
                  </a:lnTo>
                  <a:lnTo>
                    <a:pt x="514" y="47"/>
                  </a:lnTo>
                  <a:lnTo>
                    <a:pt x="473" y="33"/>
                  </a:lnTo>
                  <a:lnTo>
                    <a:pt x="433" y="21"/>
                  </a:lnTo>
                  <a:lnTo>
                    <a:pt x="390" y="12"/>
                  </a:lnTo>
                  <a:lnTo>
                    <a:pt x="346" y="5"/>
                  </a:lnTo>
                  <a:lnTo>
                    <a:pt x="299" y="1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4398480" y="6256440"/>
              <a:ext cx="56520" cy="18216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4483440" y="6256440"/>
              <a:ext cx="58680" cy="18216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4573440" y="6256440"/>
              <a:ext cx="58680" cy="18216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398480" y="6304680"/>
              <a:ext cx="25200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4398480" y="6393240"/>
              <a:ext cx="25200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648680" y="6256440"/>
              <a:ext cx="56520" cy="18216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731120" y="6256440"/>
              <a:ext cx="58680" cy="18216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822920" y="6256440"/>
              <a:ext cx="58680" cy="18216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648680" y="6304680"/>
              <a:ext cx="25200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648680" y="6393240"/>
              <a:ext cx="25200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898520" y="6256440"/>
              <a:ext cx="56520" cy="18216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981320" y="6256440"/>
              <a:ext cx="58680" cy="18216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070600" y="6256440"/>
              <a:ext cx="58680" cy="18216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898520" y="6304680"/>
              <a:ext cx="25200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898520" y="6393240"/>
              <a:ext cx="25200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5145840" y="6256440"/>
              <a:ext cx="59040" cy="18216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5230800" y="6256440"/>
              <a:ext cx="58680" cy="18216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5320800" y="6256440"/>
              <a:ext cx="58680" cy="18216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5145840" y="6304680"/>
              <a:ext cx="25488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5145840" y="6393240"/>
              <a:ext cx="25488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5396040" y="6256440"/>
              <a:ext cx="58680" cy="18216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5480640" y="6256440"/>
              <a:ext cx="59040" cy="18216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5570280" y="6256440"/>
              <a:ext cx="58680" cy="18216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5396040" y="6304680"/>
              <a:ext cx="25200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5396040" y="6393240"/>
              <a:ext cx="25200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645520" y="6256440"/>
              <a:ext cx="58680" cy="18216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730840" y="6256440"/>
              <a:ext cx="58680" cy="18216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5820120" y="6256440"/>
              <a:ext cx="59040" cy="18216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645520" y="6304680"/>
              <a:ext cx="25200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645520" y="6393240"/>
              <a:ext cx="25200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893200" y="5966640"/>
              <a:ext cx="716760" cy="579600"/>
            </a:xfrm>
            <a:custGeom>
              <a:avLst/>
              <a:gdLst/>
              <a:ahLst/>
              <a:rect l="l" t="t" r="r" b="b"/>
              <a:pathLst>
                <a:path w="607" h="841">
                  <a:moveTo>
                    <a:pt x="0" y="379"/>
                  </a:moveTo>
                  <a:lnTo>
                    <a:pt x="15" y="383"/>
                  </a:lnTo>
                  <a:lnTo>
                    <a:pt x="32" y="386"/>
                  </a:lnTo>
                  <a:lnTo>
                    <a:pt x="52" y="391"/>
                  </a:lnTo>
                  <a:lnTo>
                    <a:pt x="73" y="397"/>
                  </a:lnTo>
                  <a:lnTo>
                    <a:pt x="93" y="405"/>
                  </a:lnTo>
                  <a:lnTo>
                    <a:pt x="116" y="415"/>
                  </a:lnTo>
                  <a:lnTo>
                    <a:pt x="138" y="429"/>
                  </a:lnTo>
                  <a:lnTo>
                    <a:pt x="160" y="447"/>
                  </a:lnTo>
                  <a:lnTo>
                    <a:pt x="181" y="471"/>
                  </a:lnTo>
                  <a:lnTo>
                    <a:pt x="202" y="501"/>
                  </a:lnTo>
                  <a:lnTo>
                    <a:pt x="219" y="537"/>
                  </a:lnTo>
                  <a:lnTo>
                    <a:pt x="235" y="580"/>
                  </a:lnTo>
                  <a:lnTo>
                    <a:pt x="248" y="631"/>
                  </a:lnTo>
                  <a:lnTo>
                    <a:pt x="258" y="691"/>
                  </a:lnTo>
                  <a:lnTo>
                    <a:pt x="264" y="761"/>
                  </a:lnTo>
                  <a:lnTo>
                    <a:pt x="266" y="841"/>
                  </a:lnTo>
                  <a:lnTo>
                    <a:pt x="301" y="841"/>
                  </a:lnTo>
                  <a:lnTo>
                    <a:pt x="301" y="815"/>
                  </a:lnTo>
                  <a:lnTo>
                    <a:pt x="301" y="787"/>
                  </a:lnTo>
                  <a:lnTo>
                    <a:pt x="301" y="756"/>
                  </a:lnTo>
                  <a:lnTo>
                    <a:pt x="302" y="722"/>
                  </a:lnTo>
                  <a:lnTo>
                    <a:pt x="304" y="687"/>
                  </a:lnTo>
                  <a:lnTo>
                    <a:pt x="310" y="651"/>
                  </a:lnTo>
                  <a:lnTo>
                    <a:pt x="318" y="613"/>
                  </a:lnTo>
                  <a:lnTo>
                    <a:pt x="329" y="576"/>
                  </a:lnTo>
                  <a:lnTo>
                    <a:pt x="344" y="539"/>
                  </a:lnTo>
                  <a:lnTo>
                    <a:pt x="364" y="504"/>
                  </a:lnTo>
                  <a:lnTo>
                    <a:pt x="388" y="468"/>
                  </a:lnTo>
                  <a:lnTo>
                    <a:pt x="419" y="435"/>
                  </a:lnTo>
                  <a:lnTo>
                    <a:pt x="455" y="405"/>
                  </a:lnTo>
                  <a:lnTo>
                    <a:pt x="499" y="376"/>
                  </a:lnTo>
                  <a:lnTo>
                    <a:pt x="548" y="351"/>
                  </a:lnTo>
                  <a:lnTo>
                    <a:pt x="607" y="330"/>
                  </a:lnTo>
                  <a:lnTo>
                    <a:pt x="597" y="332"/>
                  </a:lnTo>
                  <a:lnTo>
                    <a:pt x="584" y="336"/>
                  </a:lnTo>
                  <a:lnTo>
                    <a:pt x="570" y="339"/>
                  </a:lnTo>
                  <a:lnTo>
                    <a:pt x="554" y="344"/>
                  </a:lnTo>
                  <a:lnTo>
                    <a:pt x="536" y="351"/>
                  </a:lnTo>
                  <a:lnTo>
                    <a:pt x="517" y="359"/>
                  </a:lnTo>
                  <a:lnTo>
                    <a:pt x="498" y="368"/>
                  </a:lnTo>
                  <a:lnTo>
                    <a:pt x="477" y="378"/>
                  </a:lnTo>
                  <a:lnTo>
                    <a:pt x="456" y="392"/>
                  </a:lnTo>
                  <a:lnTo>
                    <a:pt x="434" y="408"/>
                  </a:lnTo>
                  <a:lnTo>
                    <a:pt x="414" y="426"/>
                  </a:lnTo>
                  <a:lnTo>
                    <a:pt x="394" y="447"/>
                  </a:lnTo>
                  <a:lnTo>
                    <a:pt x="373" y="471"/>
                  </a:lnTo>
                  <a:lnTo>
                    <a:pt x="355" y="498"/>
                  </a:lnTo>
                  <a:lnTo>
                    <a:pt x="338" y="528"/>
                  </a:lnTo>
                  <a:lnTo>
                    <a:pt x="321" y="562"/>
                  </a:lnTo>
                  <a:lnTo>
                    <a:pt x="324" y="550"/>
                  </a:lnTo>
                  <a:lnTo>
                    <a:pt x="326" y="533"/>
                  </a:lnTo>
                  <a:lnTo>
                    <a:pt x="328" y="514"/>
                  </a:lnTo>
                  <a:lnTo>
                    <a:pt x="332" y="491"/>
                  </a:lnTo>
                  <a:lnTo>
                    <a:pt x="335" y="464"/>
                  </a:lnTo>
                  <a:lnTo>
                    <a:pt x="341" y="437"/>
                  </a:lnTo>
                  <a:lnTo>
                    <a:pt x="348" y="407"/>
                  </a:lnTo>
                  <a:lnTo>
                    <a:pt x="356" y="375"/>
                  </a:lnTo>
                  <a:lnTo>
                    <a:pt x="366" y="341"/>
                  </a:lnTo>
                  <a:lnTo>
                    <a:pt x="379" y="306"/>
                  </a:lnTo>
                  <a:lnTo>
                    <a:pt x="394" y="270"/>
                  </a:lnTo>
                  <a:lnTo>
                    <a:pt x="411" y="234"/>
                  </a:lnTo>
                  <a:lnTo>
                    <a:pt x="431" y="196"/>
                  </a:lnTo>
                  <a:lnTo>
                    <a:pt x="454" y="160"/>
                  </a:lnTo>
                  <a:lnTo>
                    <a:pt x="480" y="123"/>
                  </a:lnTo>
                  <a:lnTo>
                    <a:pt x="510" y="87"/>
                  </a:lnTo>
                  <a:lnTo>
                    <a:pt x="486" y="109"/>
                  </a:lnTo>
                  <a:lnTo>
                    <a:pt x="467" y="131"/>
                  </a:lnTo>
                  <a:lnTo>
                    <a:pt x="449" y="153"/>
                  </a:lnTo>
                  <a:lnTo>
                    <a:pt x="434" y="175"/>
                  </a:lnTo>
                  <a:lnTo>
                    <a:pt x="422" y="196"/>
                  </a:lnTo>
                  <a:lnTo>
                    <a:pt x="411" y="216"/>
                  </a:lnTo>
                  <a:lnTo>
                    <a:pt x="402" y="234"/>
                  </a:lnTo>
                  <a:lnTo>
                    <a:pt x="394" y="250"/>
                  </a:lnTo>
                  <a:lnTo>
                    <a:pt x="394" y="233"/>
                  </a:lnTo>
                  <a:lnTo>
                    <a:pt x="396" y="208"/>
                  </a:lnTo>
                  <a:lnTo>
                    <a:pt x="400" y="179"/>
                  </a:lnTo>
                  <a:lnTo>
                    <a:pt x="406" y="146"/>
                  </a:lnTo>
                  <a:lnTo>
                    <a:pt x="412" y="114"/>
                  </a:lnTo>
                  <a:lnTo>
                    <a:pt x="420" y="82"/>
                  </a:lnTo>
                  <a:lnTo>
                    <a:pt x="430" y="57"/>
                  </a:lnTo>
                  <a:lnTo>
                    <a:pt x="440" y="38"/>
                  </a:lnTo>
                  <a:lnTo>
                    <a:pt x="430" y="53"/>
                  </a:lnTo>
                  <a:lnTo>
                    <a:pt x="419" y="73"/>
                  </a:lnTo>
                  <a:lnTo>
                    <a:pt x="410" y="97"/>
                  </a:lnTo>
                  <a:lnTo>
                    <a:pt x="402" y="126"/>
                  </a:lnTo>
                  <a:lnTo>
                    <a:pt x="394" y="158"/>
                  </a:lnTo>
                  <a:lnTo>
                    <a:pt x="389" y="192"/>
                  </a:lnTo>
                  <a:lnTo>
                    <a:pt x="385" y="227"/>
                  </a:lnTo>
                  <a:lnTo>
                    <a:pt x="384" y="263"/>
                  </a:lnTo>
                  <a:lnTo>
                    <a:pt x="374" y="283"/>
                  </a:lnTo>
                  <a:lnTo>
                    <a:pt x="362" y="315"/>
                  </a:lnTo>
                  <a:lnTo>
                    <a:pt x="346" y="359"/>
                  </a:lnTo>
                  <a:lnTo>
                    <a:pt x="329" y="410"/>
                  </a:lnTo>
                  <a:lnTo>
                    <a:pt x="313" y="468"/>
                  </a:lnTo>
                  <a:lnTo>
                    <a:pt x="300" y="529"/>
                  </a:lnTo>
                  <a:lnTo>
                    <a:pt x="289" y="590"/>
                  </a:lnTo>
                  <a:lnTo>
                    <a:pt x="283" y="650"/>
                  </a:lnTo>
                  <a:lnTo>
                    <a:pt x="274" y="617"/>
                  </a:lnTo>
                  <a:lnTo>
                    <a:pt x="265" y="581"/>
                  </a:lnTo>
                  <a:lnTo>
                    <a:pt x="257" y="538"/>
                  </a:lnTo>
                  <a:lnTo>
                    <a:pt x="249" y="491"/>
                  </a:lnTo>
                  <a:lnTo>
                    <a:pt x="244" y="440"/>
                  </a:lnTo>
                  <a:lnTo>
                    <a:pt x="242" y="386"/>
                  </a:lnTo>
                  <a:lnTo>
                    <a:pt x="245" y="330"/>
                  </a:lnTo>
                  <a:lnTo>
                    <a:pt x="253" y="271"/>
                  </a:lnTo>
                  <a:lnTo>
                    <a:pt x="265" y="216"/>
                  </a:lnTo>
                  <a:lnTo>
                    <a:pt x="276" y="168"/>
                  </a:lnTo>
                  <a:lnTo>
                    <a:pt x="287" y="125"/>
                  </a:lnTo>
                  <a:lnTo>
                    <a:pt x="297" y="89"/>
                  </a:lnTo>
                  <a:lnTo>
                    <a:pt x="308" y="59"/>
                  </a:lnTo>
                  <a:lnTo>
                    <a:pt x="318" y="34"/>
                  </a:lnTo>
                  <a:lnTo>
                    <a:pt x="326" y="15"/>
                  </a:lnTo>
                  <a:lnTo>
                    <a:pt x="334" y="0"/>
                  </a:lnTo>
                  <a:lnTo>
                    <a:pt x="326" y="15"/>
                  </a:lnTo>
                  <a:lnTo>
                    <a:pt x="313" y="39"/>
                  </a:lnTo>
                  <a:lnTo>
                    <a:pt x="300" y="72"/>
                  </a:lnTo>
                  <a:lnTo>
                    <a:pt x="285" y="111"/>
                  </a:lnTo>
                  <a:lnTo>
                    <a:pt x="270" y="155"/>
                  </a:lnTo>
                  <a:lnTo>
                    <a:pt x="257" y="200"/>
                  </a:lnTo>
                  <a:lnTo>
                    <a:pt x="248" y="245"/>
                  </a:lnTo>
                  <a:lnTo>
                    <a:pt x="243" y="288"/>
                  </a:lnTo>
                  <a:lnTo>
                    <a:pt x="233" y="263"/>
                  </a:lnTo>
                  <a:lnTo>
                    <a:pt x="218" y="234"/>
                  </a:lnTo>
                  <a:lnTo>
                    <a:pt x="200" y="206"/>
                  </a:lnTo>
                  <a:lnTo>
                    <a:pt x="182" y="175"/>
                  </a:lnTo>
                  <a:lnTo>
                    <a:pt x="165" y="145"/>
                  </a:lnTo>
                  <a:lnTo>
                    <a:pt x="150" y="116"/>
                  </a:lnTo>
                  <a:lnTo>
                    <a:pt x="139" y="88"/>
                  </a:lnTo>
                  <a:lnTo>
                    <a:pt x="136" y="63"/>
                  </a:lnTo>
                  <a:lnTo>
                    <a:pt x="136" y="86"/>
                  </a:lnTo>
                  <a:lnTo>
                    <a:pt x="145" y="116"/>
                  </a:lnTo>
                  <a:lnTo>
                    <a:pt x="160" y="152"/>
                  </a:lnTo>
                  <a:lnTo>
                    <a:pt x="180" y="189"/>
                  </a:lnTo>
                  <a:lnTo>
                    <a:pt x="199" y="227"/>
                  </a:lnTo>
                  <a:lnTo>
                    <a:pt x="217" y="261"/>
                  </a:lnTo>
                  <a:lnTo>
                    <a:pt x="230" y="290"/>
                  </a:lnTo>
                  <a:lnTo>
                    <a:pt x="236" y="309"/>
                  </a:lnTo>
                  <a:lnTo>
                    <a:pt x="233" y="336"/>
                  </a:lnTo>
                  <a:lnTo>
                    <a:pt x="229" y="363"/>
                  </a:lnTo>
                  <a:lnTo>
                    <a:pt x="226" y="390"/>
                  </a:lnTo>
                  <a:lnTo>
                    <a:pt x="226" y="414"/>
                  </a:lnTo>
                  <a:lnTo>
                    <a:pt x="204" y="392"/>
                  </a:lnTo>
                  <a:lnTo>
                    <a:pt x="181" y="366"/>
                  </a:lnTo>
                  <a:lnTo>
                    <a:pt x="158" y="334"/>
                  </a:lnTo>
                  <a:lnTo>
                    <a:pt x="136" y="299"/>
                  </a:lnTo>
                  <a:lnTo>
                    <a:pt x="119" y="259"/>
                  </a:lnTo>
                  <a:lnTo>
                    <a:pt x="107" y="214"/>
                  </a:lnTo>
                  <a:lnTo>
                    <a:pt x="101" y="163"/>
                  </a:lnTo>
                  <a:lnTo>
                    <a:pt x="105" y="108"/>
                  </a:lnTo>
                  <a:lnTo>
                    <a:pt x="99" y="134"/>
                  </a:lnTo>
                  <a:lnTo>
                    <a:pt x="98" y="171"/>
                  </a:lnTo>
                  <a:lnTo>
                    <a:pt x="100" y="212"/>
                  </a:lnTo>
                  <a:lnTo>
                    <a:pt x="107" y="252"/>
                  </a:lnTo>
                  <a:lnTo>
                    <a:pt x="94" y="240"/>
                  </a:lnTo>
                  <a:lnTo>
                    <a:pt x="82" y="224"/>
                  </a:lnTo>
                  <a:lnTo>
                    <a:pt x="70" y="206"/>
                  </a:lnTo>
                  <a:lnTo>
                    <a:pt x="61" y="185"/>
                  </a:lnTo>
                  <a:lnTo>
                    <a:pt x="52" y="164"/>
                  </a:lnTo>
                  <a:lnTo>
                    <a:pt x="45" y="145"/>
                  </a:lnTo>
                  <a:lnTo>
                    <a:pt x="41" y="128"/>
                  </a:lnTo>
                  <a:lnTo>
                    <a:pt x="39" y="116"/>
                  </a:lnTo>
                  <a:lnTo>
                    <a:pt x="39" y="130"/>
                  </a:lnTo>
                  <a:lnTo>
                    <a:pt x="43" y="148"/>
                  </a:lnTo>
                  <a:lnTo>
                    <a:pt x="47" y="169"/>
                  </a:lnTo>
                  <a:lnTo>
                    <a:pt x="55" y="191"/>
                  </a:lnTo>
                  <a:lnTo>
                    <a:pt x="66" y="214"/>
                  </a:lnTo>
                  <a:lnTo>
                    <a:pt x="78" y="234"/>
                  </a:lnTo>
                  <a:lnTo>
                    <a:pt x="94" y="254"/>
                  </a:lnTo>
                  <a:lnTo>
                    <a:pt x="113" y="269"/>
                  </a:lnTo>
                  <a:lnTo>
                    <a:pt x="119" y="285"/>
                  </a:lnTo>
                  <a:lnTo>
                    <a:pt x="127" y="301"/>
                  </a:lnTo>
                  <a:lnTo>
                    <a:pt x="134" y="318"/>
                  </a:lnTo>
                  <a:lnTo>
                    <a:pt x="143" y="333"/>
                  </a:lnTo>
                  <a:lnTo>
                    <a:pt x="151" y="348"/>
                  </a:lnTo>
                  <a:lnTo>
                    <a:pt x="160" y="361"/>
                  </a:lnTo>
                  <a:lnTo>
                    <a:pt x="169" y="372"/>
                  </a:lnTo>
                  <a:lnTo>
                    <a:pt x="177" y="382"/>
                  </a:lnTo>
                  <a:lnTo>
                    <a:pt x="185" y="389"/>
                  </a:lnTo>
                  <a:lnTo>
                    <a:pt x="194" y="397"/>
                  </a:lnTo>
                  <a:lnTo>
                    <a:pt x="203" y="407"/>
                  </a:lnTo>
                  <a:lnTo>
                    <a:pt x="211" y="420"/>
                  </a:lnTo>
                  <a:lnTo>
                    <a:pt x="219" y="438"/>
                  </a:lnTo>
                  <a:lnTo>
                    <a:pt x="227" y="462"/>
                  </a:lnTo>
                  <a:lnTo>
                    <a:pt x="233" y="496"/>
                  </a:lnTo>
                  <a:lnTo>
                    <a:pt x="238" y="537"/>
                  </a:lnTo>
                  <a:lnTo>
                    <a:pt x="230" y="521"/>
                  </a:lnTo>
                  <a:lnTo>
                    <a:pt x="221" y="502"/>
                  </a:lnTo>
                  <a:lnTo>
                    <a:pt x="210" y="485"/>
                  </a:lnTo>
                  <a:lnTo>
                    <a:pt x="197" y="468"/>
                  </a:lnTo>
                  <a:lnTo>
                    <a:pt x="184" y="453"/>
                  </a:lnTo>
                  <a:lnTo>
                    <a:pt x="173" y="439"/>
                  </a:lnTo>
                  <a:lnTo>
                    <a:pt x="164" y="429"/>
                  </a:lnTo>
                  <a:lnTo>
                    <a:pt x="156" y="422"/>
                  </a:lnTo>
                  <a:lnTo>
                    <a:pt x="145" y="405"/>
                  </a:lnTo>
                  <a:lnTo>
                    <a:pt x="134" y="379"/>
                  </a:lnTo>
                  <a:lnTo>
                    <a:pt x="126" y="357"/>
                  </a:lnTo>
                  <a:lnTo>
                    <a:pt x="122" y="348"/>
                  </a:lnTo>
                  <a:lnTo>
                    <a:pt x="124" y="366"/>
                  </a:lnTo>
                  <a:lnTo>
                    <a:pt x="130" y="387"/>
                  </a:lnTo>
                  <a:lnTo>
                    <a:pt x="136" y="406"/>
                  </a:lnTo>
                  <a:lnTo>
                    <a:pt x="138" y="414"/>
                  </a:lnTo>
                  <a:lnTo>
                    <a:pt x="122" y="406"/>
                  </a:lnTo>
                  <a:lnTo>
                    <a:pt x="105" y="398"/>
                  </a:lnTo>
                  <a:lnTo>
                    <a:pt x="86" y="391"/>
                  </a:lnTo>
                  <a:lnTo>
                    <a:pt x="67" y="386"/>
                  </a:lnTo>
                  <a:lnTo>
                    <a:pt x="48" y="382"/>
                  </a:lnTo>
                  <a:lnTo>
                    <a:pt x="30" y="379"/>
                  </a:lnTo>
                  <a:lnTo>
                    <a:pt x="14" y="378"/>
                  </a:lnTo>
                  <a:lnTo>
                    <a:pt x="0" y="379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5690520" y="5877000"/>
              <a:ext cx="1003680" cy="423720"/>
            </a:xfrm>
            <a:custGeom>
              <a:avLst/>
              <a:gdLst/>
              <a:ahLst/>
              <a:rect l="l" t="t" r="r" b="b"/>
              <a:pathLst>
                <a:path w="854" h="614">
                  <a:moveTo>
                    <a:pt x="393" y="145"/>
                  </a:moveTo>
                  <a:lnTo>
                    <a:pt x="396" y="135"/>
                  </a:lnTo>
                  <a:lnTo>
                    <a:pt x="396" y="123"/>
                  </a:lnTo>
                  <a:lnTo>
                    <a:pt x="394" y="108"/>
                  </a:lnTo>
                  <a:lnTo>
                    <a:pt x="388" y="94"/>
                  </a:lnTo>
                  <a:lnTo>
                    <a:pt x="380" y="81"/>
                  </a:lnTo>
                  <a:lnTo>
                    <a:pt x="371" y="71"/>
                  </a:lnTo>
                  <a:lnTo>
                    <a:pt x="361" y="66"/>
                  </a:lnTo>
                  <a:lnTo>
                    <a:pt x="349" y="67"/>
                  </a:lnTo>
                  <a:lnTo>
                    <a:pt x="355" y="61"/>
                  </a:lnTo>
                  <a:lnTo>
                    <a:pt x="358" y="55"/>
                  </a:lnTo>
                  <a:lnTo>
                    <a:pt x="357" y="50"/>
                  </a:lnTo>
                  <a:lnTo>
                    <a:pt x="354" y="46"/>
                  </a:lnTo>
                  <a:lnTo>
                    <a:pt x="348" y="42"/>
                  </a:lnTo>
                  <a:lnTo>
                    <a:pt x="339" y="40"/>
                  </a:lnTo>
                  <a:lnTo>
                    <a:pt x="330" y="40"/>
                  </a:lnTo>
                  <a:lnTo>
                    <a:pt x="317" y="40"/>
                  </a:lnTo>
                  <a:lnTo>
                    <a:pt x="304" y="41"/>
                  </a:lnTo>
                  <a:lnTo>
                    <a:pt x="290" y="44"/>
                  </a:lnTo>
                  <a:lnTo>
                    <a:pt x="275" y="50"/>
                  </a:lnTo>
                  <a:lnTo>
                    <a:pt x="260" y="57"/>
                  </a:lnTo>
                  <a:lnTo>
                    <a:pt x="245" y="65"/>
                  </a:lnTo>
                  <a:lnTo>
                    <a:pt x="230" y="77"/>
                  </a:lnTo>
                  <a:lnTo>
                    <a:pt x="217" y="89"/>
                  </a:lnTo>
                  <a:lnTo>
                    <a:pt x="204" y="104"/>
                  </a:lnTo>
                  <a:lnTo>
                    <a:pt x="191" y="105"/>
                  </a:lnTo>
                  <a:lnTo>
                    <a:pt x="179" y="111"/>
                  </a:lnTo>
                  <a:lnTo>
                    <a:pt x="165" y="120"/>
                  </a:lnTo>
                  <a:lnTo>
                    <a:pt x="153" y="133"/>
                  </a:lnTo>
                  <a:lnTo>
                    <a:pt x="145" y="147"/>
                  </a:lnTo>
                  <a:lnTo>
                    <a:pt x="142" y="161"/>
                  </a:lnTo>
                  <a:lnTo>
                    <a:pt x="145" y="173"/>
                  </a:lnTo>
                  <a:lnTo>
                    <a:pt x="156" y="183"/>
                  </a:lnTo>
                  <a:lnTo>
                    <a:pt x="138" y="194"/>
                  </a:lnTo>
                  <a:lnTo>
                    <a:pt x="127" y="207"/>
                  </a:lnTo>
                  <a:lnTo>
                    <a:pt x="121" y="221"/>
                  </a:lnTo>
                  <a:lnTo>
                    <a:pt x="119" y="233"/>
                  </a:lnTo>
                  <a:lnTo>
                    <a:pt x="121" y="246"/>
                  </a:lnTo>
                  <a:lnTo>
                    <a:pt x="127" y="257"/>
                  </a:lnTo>
                  <a:lnTo>
                    <a:pt x="135" y="268"/>
                  </a:lnTo>
                  <a:lnTo>
                    <a:pt x="145" y="277"/>
                  </a:lnTo>
                  <a:lnTo>
                    <a:pt x="158" y="284"/>
                  </a:lnTo>
                  <a:lnTo>
                    <a:pt x="171" y="288"/>
                  </a:lnTo>
                  <a:lnTo>
                    <a:pt x="184" y="290"/>
                  </a:lnTo>
                  <a:lnTo>
                    <a:pt x="198" y="287"/>
                  </a:lnTo>
                  <a:lnTo>
                    <a:pt x="211" y="282"/>
                  </a:lnTo>
                  <a:lnTo>
                    <a:pt x="222" y="272"/>
                  </a:lnTo>
                  <a:lnTo>
                    <a:pt x="232" y="257"/>
                  </a:lnTo>
                  <a:lnTo>
                    <a:pt x="238" y="238"/>
                  </a:lnTo>
                  <a:lnTo>
                    <a:pt x="245" y="248"/>
                  </a:lnTo>
                  <a:lnTo>
                    <a:pt x="256" y="255"/>
                  </a:lnTo>
                  <a:lnTo>
                    <a:pt x="270" y="258"/>
                  </a:lnTo>
                  <a:lnTo>
                    <a:pt x="285" y="257"/>
                  </a:lnTo>
                  <a:lnTo>
                    <a:pt x="300" y="253"/>
                  </a:lnTo>
                  <a:lnTo>
                    <a:pt x="312" y="244"/>
                  </a:lnTo>
                  <a:lnTo>
                    <a:pt x="324" y="231"/>
                  </a:lnTo>
                  <a:lnTo>
                    <a:pt x="332" y="215"/>
                  </a:lnTo>
                  <a:lnTo>
                    <a:pt x="338" y="227"/>
                  </a:lnTo>
                  <a:lnTo>
                    <a:pt x="344" y="237"/>
                  </a:lnTo>
                  <a:lnTo>
                    <a:pt x="350" y="244"/>
                  </a:lnTo>
                  <a:lnTo>
                    <a:pt x="353" y="246"/>
                  </a:lnTo>
                  <a:lnTo>
                    <a:pt x="336" y="260"/>
                  </a:lnTo>
                  <a:lnTo>
                    <a:pt x="327" y="278"/>
                  </a:lnTo>
                  <a:lnTo>
                    <a:pt x="323" y="296"/>
                  </a:lnTo>
                  <a:lnTo>
                    <a:pt x="324" y="310"/>
                  </a:lnTo>
                  <a:lnTo>
                    <a:pt x="315" y="308"/>
                  </a:lnTo>
                  <a:lnTo>
                    <a:pt x="301" y="307"/>
                  </a:lnTo>
                  <a:lnTo>
                    <a:pt x="282" y="309"/>
                  </a:lnTo>
                  <a:lnTo>
                    <a:pt x="262" y="313"/>
                  </a:lnTo>
                  <a:lnTo>
                    <a:pt x="240" y="318"/>
                  </a:lnTo>
                  <a:lnTo>
                    <a:pt x="220" y="328"/>
                  </a:lnTo>
                  <a:lnTo>
                    <a:pt x="202" y="338"/>
                  </a:lnTo>
                  <a:lnTo>
                    <a:pt x="189" y="351"/>
                  </a:lnTo>
                  <a:lnTo>
                    <a:pt x="185" y="337"/>
                  </a:lnTo>
                  <a:lnTo>
                    <a:pt x="172" y="325"/>
                  </a:lnTo>
                  <a:lnTo>
                    <a:pt x="150" y="317"/>
                  </a:lnTo>
                  <a:lnTo>
                    <a:pt x="123" y="314"/>
                  </a:lnTo>
                  <a:lnTo>
                    <a:pt x="93" y="316"/>
                  </a:lnTo>
                  <a:lnTo>
                    <a:pt x="65" y="326"/>
                  </a:lnTo>
                  <a:lnTo>
                    <a:pt x="38" y="345"/>
                  </a:lnTo>
                  <a:lnTo>
                    <a:pt x="17" y="374"/>
                  </a:lnTo>
                  <a:lnTo>
                    <a:pt x="9" y="392"/>
                  </a:lnTo>
                  <a:lnTo>
                    <a:pt x="5" y="412"/>
                  </a:lnTo>
                  <a:lnTo>
                    <a:pt x="1" y="432"/>
                  </a:lnTo>
                  <a:lnTo>
                    <a:pt x="0" y="453"/>
                  </a:lnTo>
                  <a:lnTo>
                    <a:pt x="2" y="474"/>
                  </a:lnTo>
                  <a:lnTo>
                    <a:pt x="7" y="493"/>
                  </a:lnTo>
                  <a:lnTo>
                    <a:pt x="15" y="512"/>
                  </a:lnTo>
                  <a:lnTo>
                    <a:pt x="25" y="528"/>
                  </a:lnTo>
                  <a:lnTo>
                    <a:pt x="38" y="540"/>
                  </a:lnTo>
                  <a:lnTo>
                    <a:pt x="54" y="551"/>
                  </a:lnTo>
                  <a:lnTo>
                    <a:pt x="74" y="558"/>
                  </a:lnTo>
                  <a:lnTo>
                    <a:pt x="97" y="559"/>
                  </a:lnTo>
                  <a:lnTo>
                    <a:pt x="122" y="555"/>
                  </a:lnTo>
                  <a:lnTo>
                    <a:pt x="152" y="547"/>
                  </a:lnTo>
                  <a:lnTo>
                    <a:pt x="184" y="531"/>
                  </a:lnTo>
                  <a:lnTo>
                    <a:pt x="221" y="509"/>
                  </a:lnTo>
                  <a:lnTo>
                    <a:pt x="241" y="517"/>
                  </a:lnTo>
                  <a:lnTo>
                    <a:pt x="263" y="520"/>
                  </a:lnTo>
                  <a:lnTo>
                    <a:pt x="285" y="517"/>
                  </a:lnTo>
                  <a:lnTo>
                    <a:pt x="306" y="513"/>
                  </a:lnTo>
                  <a:lnTo>
                    <a:pt x="326" y="505"/>
                  </a:lnTo>
                  <a:lnTo>
                    <a:pt x="343" y="494"/>
                  </a:lnTo>
                  <a:lnTo>
                    <a:pt x="357" y="483"/>
                  </a:lnTo>
                  <a:lnTo>
                    <a:pt x="364" y="471"/>
                  </a:lnTo>
                  <a:lnTo>
                    <a:pt x="369" y="483"/>
                  </a:lnTo>
                  <a:lnTo>
                    <a:pt x="378" y="490"/>
                  </a:lnTo>
                  <a:lnTo>
                    <a:pt x="392" y="493"/>
                  </a:lnTo>
                  <a:lnTo>
                    <a:pt x="407" y="492"/>
                  </a:lnTo>
                  <a:lnTo>
                    <a:pt x="424" y="489"/>
                  </a:lnTo>
                  <a:lnTo>
                    <a:pt x="439" y="482"/>
                  </a:lnTo>
                  <a:lnTo>
                    <a:pt x="453" y="471"/>
                  </a:lnTo>
                  <a:lnTo>
                    <a:pt x="463" y="459"/>
                  </a:lnTo>
                  <a:lnTo>
                    <a:pt x="459" y="478"/>
                  </a:lnTo>
                  <a:lnTo>
                    <a:pt x="452" y="501"/>
                  </a:lnTo>
                  <a:lnTo>
                    <a:pt x="448" y="527"/>
                  </a:lnTo>
                  <a:lnTo>
                    <a:pt x="448" y="551"/>
                  </a:lnTo>
                  <a:lnTo>
                    <a:pt x="456" y="574"/>
                  </a:lnTo>
                  <a:lnTo>
                    <a:pt x="472" y="593"/>
                  </a:lnTo>
                  <a:lnTo>
                    <a:pt x="502" y="607"/>
                  </a:lnTo>
                  <a:lnTo>
                    <a:pt x="546" y="614"/>
                  </a:lnTo>
                  <a:lnTo>
                    <a:pt x="593" y="614"/>
                  </a:lnTo>
                  <a:lnTo>
                    <a:pt x="629" y="612"/>
                  </a:lnTo>
                  <a:lnTo>
                    <a:pt x="657" y="606"/>
                  </a:lnTo>
                  <a:lnTo>
                    <a:pt x="676" y="597"/>
                  </a:lnTo>
                  <a:lnTo>
                    <a:pt x="690" y="588"/>
                  </a:lnTo>
                  <a:lnTo>
                    <a:pt x="697" y="576"/>
                  </a:lnTo>
                  <a:lnTo>
                    <a:pt x="702" y="563"/>
                  </a:lnTo>
                  <a:lnTo>
                    <a:pt x="704" y="550"/>
                  </a:lnTo>
                  <a:lnTo>
                    <a:pt x="702" y="531"/>
                  </a:lnTo>
                  <a:lnTo>
                    <a:pt x="692" y="513"/>
                  </a:lnTo>
                  <a:lnTo>
                    <a:pt x="677" y="494"/>
                  </a:lnTo>
                  <a:lnTo>
                    <a:pt x="659" y="481"/>
                  </a:lnTo>
                  <a:lnTo>
                    <a:pt x="637" y="469"/>
                  </a:lnTo>
                  <a:lnTo>
                    <a:pt x="615" y="463"/>
                  </a:lnTo>
                  <a:lnTo>
                    <a:pt x="594" y="464"/>
                  </a:lnTo>
                  <a:lnTo>
                    <a:pt x="576" y="474"/>
                  </a:lnTo>
                  <a:lnTo>
                    <a:pt x="586" y="467"/>
                  </a:lnTo>
                  <a:lnTo>
                    <a:pt x="604" y="460"/>
                  </a:lnTo>
                  <a:lnTo>
                    <a:pt x="626" y="456"/>
                  </a:lnTo>
                  <a:lnTo>
                    <a:pt x="649" y="455"/>
                  </a:lnTo>
                  <a:lnTo>
                    <a:pt x="673" y="459"/>
                  </a:lnTo>
                  <a:lnTo>
                    <a:pt x="695" y="469"/>
                  </a:lnTo>
                  <a:lnTo>
                    <a:pt x="712" y="486"/>
                  </a:lnTo>
                  <a:lnTo>
                    <a:pt x="722" y="512"/>
                  </a:lnTo>
                  <a:lnTo>
                    <a:pt x="735" y="516"/>
                  </a:lnTo>
                  <a:lnTo>
                    <a:pt x="751" y="515"/>
                  </a:lnTo>
                  <a:lnTo>
                    <a:pt x="770" y="508"/>
                  </a:lnTo>
                  <a:lnTo>
                    <a:pt x="788" y="498"/>
                  </a:lnTo>
                  <a:lnTo>
                    <a:pt x="803" y="484"/>
                  </a:lnTo>
                  <a:lnTo>
                    <a:pt x="813" y="468"/>
                  </a:lnTo>
                  <a:lnTo>
                    <a:pt x="817" y="451"/>
                  </a:lnTo>
                  <a:lnTo>
                    <a:pt x="812" y="433"/>
                  </a:lnTo>
                  <a:lnTo>
                    <a:pt x="828" y="428"/>
                  </a:lnTo>
                  <a:lnTo>
                    <a:pt x="841" y="408"/>
                  </a:lnTo>
                  <a:lnTo>
                    <a:pt x="850" y="382"/>
                  </a:lnTo>
                  <a:lnTo>
                    <a:pt x="854" y="351"/>
                  </a:lnTo>
                  <a:lnTo>
                    <a:pt x="849" y="322"/>
                  </a:lnTo>
                  <a:lnTo>
                    <a:pt x="836" y="300"/>
                  </a:lnTo>
                  <a:lnTo>
                    <a:pt x="812" y="291"/>
                  </a:lnTo>
                  <a:lnTo>
                    <a:pt x="778" y="300"/>
                  </a:lnTo>
                  <a:lnTo>
                    <a:pt x="773" y="285"/>
                  </a:lnTo>
                  <a:lnTo>
                    <a:pt x="762" y="275"/>
                  </a:lnTo>
                  <a:lnTo>
                    <a:pt x="743" y="269"/>
                  </a:lnTo>
                  <a:lnTo>
                    <a:pt x="722" y="268"/>
                  </a:lnTo>
                  <a:lnTo>
                    <a:pt x="700" y="272"/>
                  </a:lnTo>
                  <a:lnTo>
                    <a:pt x="682" y="283"/>
                  </a:lnTo>
                  <a:lnTo>
                    <a:pt x="668" y="299"/>
                  </a:lnTo>
                  <a:lnTo>
                    <a:pt x="661" y="323"/>
                  </a:lnTo>
                  <a:lnTo>
                    <a:pt x="657" y="316"/>
                  </a:lnTo>
                  <a:lnTo>
                    <a:pt x="649" y="309"/>
                  </a:lnTo>
                  <a:lnTo>
                    <a:pt x="637" y="303"/>
                  </a:lnTo>
                  <a:lnTo>
                    <a:pt x="624" y="299"/>
                  </a:lnTo>
                  <a:lnTo>
                    <a:pt x="609" y="294"/>
                  </a:lnTo>
                  <a:lnTo>
                    <a:pt x="593" y="292"/>
                  </a:lnTo>
                  <a:lnTo>
                    <a:pt x="576" y="291"/>
                  </a:lnTo>
                  <a:lnTo>
                    <a:pt x="559" y="290"/>
                  </a:lnTo>
                  <a:lnTo>
                    <a:pt x="541" y="291"/>
                  </a:lnTo>
                  <a:lnTo>
                    <a:pt x="524" y="294"/>
                  </a:lnTo>
                  <a:lnTo>
                    <a:pt x="508" y="298"/>
                  </a:lnTo>
                  <a:lnTo>
                    <a:pt x="494" y="303"/>
                  </a:lnTo>
                  <a:lnTo>
                    <a:pt x="482" y="311"/>
                  </a:lnTo>
                  <a:lnTo>
                    <a:pt x="471" y="321"/>
                  </a:lnTo>
                  <a:lnTo>
                    <a:pt x="464" y="332"/>
                  </a:lnTo>
                  <a:lnTo>
                    <a:pt x="460" y="346"/>
                  </a:lnTo>
                  <a:lnTo>
                    <a:pt x="454" y="330"/>
                  </a:lnTo>
                  <a:lnTo>
                    <a:pt x="454" y="315"/>
                  </a:lnTo>
                  <a:lnTo>
                    <a:pt x="459" y="301"/>
                  </a:lnTo>
                  <a:lnTo>
                    <a:pt x="467" y="290"/>
                  </a:lnTo>
                  <a:lnTo>
                    <a:pt x="477" y="282"/>
                  </a:lnTo>
                  <a:lnTo>
                    <a:pt x="487" y="276"/>
                  </a:lnTo>
                  <a:lnTo>
                    <a:pt x="499" y="273"/>
                  </a:lnTo>
                  <a:lnTo>
                    <a:pt x="510" y="276"/>
                  </a:lnTo>
                  <a:lnTo>
                    <a:pt x="515" y="260"/>
                  </a:lnTo>
                  <a:lnTo>
                    <a:pt x="527" y="245"/>
                  </a:lnTo>
                  <a:lnTo>
                    <a:pt x="543" y="231"/>
                  </a:lnTo>
                  <a:lnTo>
                    <a:pt x="563" y="221"/>
                  </a:lnTo>
                  <a:lnTo>
                    <a:pt x="588" y="215"/>
                  </a:lnTo>
                  <a:lnTo>
                    <a:pt x="614" y="215"/>
                  </a:lnTo>
                  <a:lnTo>
                    <a:pt x="642" y="224"/>
                  </a:lnTo>
                  <a:lnTo>
                    <a:pt x="669" y="242"/>
                  </a:lnTo>
                  <a:lnTo>
                    <a:pt x="691" y="252"/>
                  </a:lnTo>
                  <a:lnTo>
                    <a:pt x="718" y="249"/>
                  </a:lnTo>
                  <a:lnTo>
                    <a:pt x="743" y="238"/>
                  </a:lnTo>
                  <a:lnTo>
                    <a:pt x="765" y="222"/>
                  </a:lnTo>
                  <a:lnTo>
                    <a:pt x="779" y="203"/>
                  </a:lnTo>
                  <a:lnTo>
                    <a:pt x="783" y="185"/>
                  </a:lnTo>
                  <a:lnTo>
                    <a:pt x="774" y="172"/>
                  </a:lnTo>
                  <a:lnTo>
                    <a:pt x="747" y="165"/>
                  </a:lnTo>
                  <a:lnTo>
                    <a:pt x="753" y="160"/>
                  </a:lnTo>
                  <a:lnTo>
                    <a:pt x="758" y="154"/>
                  </a:lnTo>
                  <a:lnTo>
                    <a:pt x="762" y="147"/>
                  </a:lnTo>
                  <a:lnTo>
                    <a:pt x="762" y="140"/>
                  </a:lnTo>
                  <a:lnTo>
                    <a:pt x="760" y="133"/>
                  </a:lnTo>
                  <a:lnTo>
                    <a:pt x="757" y="127"/>
                  </a:lnTo>
                  <a:lnTo>
                    <a:pt x="751" y="120"/>
                  </a:lnTo>
                  <a:lnTo>
                    <a:pt x="743" y="116"/>
                  </a:lnTo>
                  <a:lnTo>
                    <a:pt x="733" y="111"/>
                  </a:lnTo>
                  <a:lnTo>
                    <a:pt x="720" y="109"/>
                  </a:lnTo>
                  <a:lnTo>
                    <a:pt x="706" y="108"/>
                  </a:lnTo>
                  <a:lnTo>
                    <a:pt x="689" y="108"/>
                  </a:lnTo>
                  <a:lnTo>
                    <a:pt x="671" y="110"/>
                  </a:lnTo>
                  <a:lnTo>
                    <a:pt x="650" y="115"/>
                  </a:lnTo>
                  <a:lnTo>
                    <a:pt x="627" y="122"/>
                  </a:lnTo>
                  <a:lnTo>
                    <a:pt x="601" y="132"/>
                  </a:lnTo>
                  <a:lnTo>
                    <a:pt x="623" y="119"/>
                  </a:lnTo>
                  <a:lnTo>
                    <a:pt x="642" y="101"/>
                  </a:lnTo>
                  <a:lnTo>
                    <a:pt x="654" y="81"/>
                  </a:lnTo>
                  <a:lnTo>
                    <a:pt x="659" y="62"/>
                  </a:lnTo>
                  <a:lnTo>
                    <a:pt x="656" y="47"/>
                  </a:lnTo>
                  <a:lnTo>
                    <a:pt x="642" y="39"/>
                  </a:lnTo>
                  <a:lnTo>
                    <a:pt x="618" y="40"/>
                  </a:lnTo>
                  <a:lnTo>
                    <a:pt x="581" y="55"/>
                  </a:lnTo>
                  <a:lnTo>
                    <a:pt x="594" y="40"/>
                  </a:lnTo>
                  <a:lnTo>
                    <a:pt x="600" y="28"/>
                  </a:lnTo>
                  <a:lnTo>
                    <a:pt x="598" y="18"/>
                  </a:lnTo>
                  <a:lnTo>
                    <a:pt x="589" y="10"/>
                  </a:lnTo>
                  <a:lnTo>
                    <a:pt x="575" y="4"/>
                  </a:lnTo>
                  <a:lnTo>
                    <a:pt x="558" y="1"/>
                  </a:lnTo>
                  <a:lnTo>
                    <a:pt x="537" y="0"/>
                  </a:lnTo>
                  <a:lnTo>
                    <a:pt x="514" y="1"/>
                  </a:lnTo>
                  <a:lnTo>
                    <a:pt x="491" y="4"/>
                  </a:lnTo>
                  <a:lnTo>
                    <a:pt x="469" y="10"/>
                  </a:lnTo>
                  <a:lnTo>
                    <a:pt x="449" y="18"/>
                  </a:lnTo>
                  <a:lnTo>
                    <a:pt x="432" y="28"/>
                  </a:lnTo>
                  <a:lnTo>
                    <a:pt x="419" y="41"/>
                  </a:lnTo>
                  <a:lnTo>
                    <a:pt x="412" y="57"/>
                  </a:lnTo>
                  <a:lnTo>
                    <a:pt x="412" y="74"/>
                  </a:lnTo>
                  <a:lnTo>
                    <a:pt x="421" y="95"/>
                  </a:lnTo>
                  <a:lnTo>
                    <a:pt x="423" y="101"/>
                  </a:lnTo>
                  <a:lnTo>
                    <a:pt x="423" y="108"/>
                  </a:lnTo>
                  <a:lnTo>
                    <a:pt x="421" y="115"/>
                  </a:lnTo>
                  <a:lnTo>
                    <a:pt x="417" y="122"/>
                  </a:lnTo>
                  <a:lnTo>
                    <a:pt x="411" y="128"/>
                  </a:lnTo>
                  <a:lnTo>
                    <a:pt x="406" y="135"/>
                  </a:lnTo>
                  <a:lnTo>
                    <a:pt x="399" y="140"/>
                  </a:lnTo>
                  <a:lnTo>
                    <a:pt x="393" y="145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1496880" y="6013800"/>
              <a:ext cx="2651760" cy="425160"/>
            </a:xfrm>
            <a:custGeom>
              <a:avLst/>
              <a:gdLst/>
              <a:ahLst/>
              <a:rect l="l" t="t" r="r" b="b"/>
              <a:pathLst>
                <a:path w="2252" h="615">
                  <a:moveTo>
                    <a:pt x="0" y="615"/>
                  </a:moveTo>
                  <a:lnTo>
                    <a:pt x="2252" y="615"/>
                  </a:lnTo>
                  <a:lnTo>
                    <a:pt x="2252" y="138"/>
                  </a:lnTo>
                  <a:lnTo>
                    <a:pt x="2248" y="134"/>
                  </a:lnTo>
                  <a:lnTo>
                    <a:pt x="2238" y="123"/>
                  </a:lnTo>
                  <a:lnTo>
                    <a:pt x="2223" y="109"/>
                  </a:lnTo>
                  <a:lnTo>
                    <a:pt x="2207" y="92"/>
                  </a:lnTo>
                  <a:lnTo>
                    <a:pt x="2190" y="74"/>
                  </a:lnTo>
                  <a:lnTo>
                    <a:pt x="2176" y="61"/>
                  </a:lnTo>
                  <a:lnTo>
                    <a:pt x="2165" y="50"/>
                  </a:lnTo>
                  <a:lnTo>
                    <a:pt x="2162" y="48"/>
                  </a:lnTo>
                  <a:lnTo>
                    <a:pt x="2162" y="42"/>
                  </a:lnTo>
                  <a:lnTo>
                    <a:pt x="2162" y="25"/>
                  </a:lnTo>
                  <a:lnTo>
                    <a:pt x="2162" y="8"/>
                  </a:lnTo>
                  <a:lnTo>
                    <a:pt x="2162" y="0"/>
                  </a:lnTo>
                  <a:lnTo>
                    <a:pt x="2132" y="0"/>
                  </a:lnTo>
                  <a:lnTo>
                    <a:pt x="2132" y="33"/>
                  </a:lnTo>
                  <a:lnTo>
                    <a:pt x="1944" y="33"/>
                  </a:lnTo>
                  <a:lnTo>
                    <a:pt x="1858" y="120"/>
                  </a:lnTo>
                  <a:lnTo>
                    <a:pt x="1882" y="120"/>
                  </a:lnTo>
                  <a:lnTo>
                    <a:pt x="1882" y="214"/>
                  </a:lnTo>
                  <a:lnTo>
                    <a:pt x="1772" y="214"/>
                  </a:lnTo>
                  <a:lnTo>
                    <a:pt x="1772" y="132"/>
                  </a:lnTo>
                  <a:lnTo>
                    <a:pt x="1821" y="132"/>
                  </a:lnTo>
                  <a:lnTo>
                    <a:pt x="1776" y="63"/>
                  </a:lnTo>
                  <a:lnTo>
                    <a:pt x="1581" y="63"/>
                  </a:lnTo>
                  <a:lnTo>
                    <a:pt x="1581" y="39"/>
                  </a:lnTo>
                  <a:lnTo>
                    <a:pt x="1542" y="39"/>
                  </a:lnTo>
                  <a:lnTo>
                    <a:pt x="1542" y="63"/>
                  </a:lnTo>
                  <a:lnTo>
                    <a:pt x="1512" y="63"/>
                  </a:lnTo>
                  <a:lnTo>
                    <a:pt x="1454" y="204"/>
                  </a:lnTo>
                  <a:lnTo>
                    <a:pt x="1214" y="204"/>
                  </a:lnTo>
                  <a:lnTo>
                    <a:pt x="1208" y="147"/>
                  </a:lnTo>
                  <a:lnTo>
                    <a:pt x="1196" y="103"/>
                  </a:lnTo>
                  <a:lnTo>
                    <a:pt x="1180" y="72"/>
                  </a:lnTo>
                  <a:lnTo>
                    <a:pt x="1162" y="55"/>
                  </a:lnTo>
                  <a:lnTo>
                    <a:pt x="1141" y="51"/>
                  </a:lnTo>
                  <a:lnTo>
                    <a:pt x="1120" y="64"/>
                  </a:lnTo>
                  <a:lnTo>
                    <a:pt x="1099" y="92"/>
                  </a:lnTo>
                  <a:lnTo>
                    <a:pt x="1082" y="137"/>
                  </a:lnTo>
                  <a:lnTo>
                    <a:pt x="1012" y="0"/>
                  </a:lnTo>
                  <a:lnTo>
                    <a:pt x="909" y="126"/>
                  </a:lnTo>
                  <a:lnTo>
                    <a:pt x="824" y="5"/>
                  </a:lnTo>
                  <a:lnTo>
                    <a:pt x="728" y="123"/>
                  </a:lnTo>
                  <a:lnTo>
                    <a:pt x="566" y="123"/>
                  </a:lnTo>
                  <a:lnTo>
                    <a:pt x="566" y="204"/>
                  </a:lnTo>
                  <a:lnTo>
                    <a:pt x="538" y="208"/>
                  </a:lnTo>
                  <a:lnTo>
                    <a:pt x="537" y="176"/>
                  </a:lnTo>
                  <a:lnTo>
                    <a:pt x="534" y="141"/>
                  </a:lnTo>
                  <a:lnTo>
                    <a:pt x="529" y="110"/>
                  </a:lnTo>
                  <a:lnTo>
                    <a:pt x="522" y="83"/>
                  </a:lnTo>
                  <a:lnTo>
                    <a:pt x="514" y="64"/>
                  </a:lnTo>
                  <a:lnTo>
                    <a:pt x="505" y="56"/>
                  </a:lnTo>
                  <a:lnTo>
                    <a:pt x="496" y="63"/>
                  </a:lnTo>
                  <a:lnTo>
                    <a:pt x="485" y="88"/>
                  </a:lnTo>
                  <a:lnTo>
                    <a:pt x="481" y="71"/>
                  </a:lnTo>
                  <a:lnTo>
                    <a:pt x="474" y="57"/>
                  </a:lnTo>
                  <a:lnTo>
                    <a:pt x="466" y="49"/>
                  </a:lnTo>
                  <a:lnTo>
                    <a:pt x="455" y="47"/>
                  </a:lnTo>
                  <a:lnTo>
                    <a:pt x="446" y="51"/>
                  </a:lnTo>
                  <a:lnTo>
                    <a:pt x="437" y="65"/>
                  </a:lnTo>
                  <a:lnTo>
                    <a:pt x="430" y="88"/>
                  </a:lnTo>
                  <a:lnTo>
                    <a:pt x="427" y="123"/>
                  </a:lnTo>
                  <a:lnTo>
                    <a:pt x="415" y="119"/>
                  </a:lnTo>
                  <a:lnTo>
                    <a:pt x="405" y="132"/>
                  </a:lnTo>
                  <a:lnTo>
                    <a:pt x="399" y="163"/>
                  </a:lnTo>
                  <a:lnTo>
                    <a:pt x="397" y="208"/>
                  </a:lnTo>
                  <a:lnTo>
                    <a:pt x="363" y="208"/>
                  </a:lnTo>
                  <a:lnTo>
                    <a:pt x="363" y="153"/>
                  </a:lnTo>
                  <a:lnTo>
                    <a:pt x="317" y="107"/>
                  </a:lnTo>
                  <a:lnTo>
                    <a:pt x="180" y="107"/>
                  </a:lnTo>
                  <a:lnTo>
                    <a:pt x="128" y="55"/>
                  </a:lnTo>
                  <a:lnTo>
                    <a:pt x="74" y="135"/>
                  </a:lnTo>
                  <a:lnTo>
                    <a:pt x="74" y="216"/>
                  </a:lnTo>
                  <a:lnTo>
                    <a:pt x="2" y="216"/>
                  </a:lnTo>
                  <a:lnTo>
                    <a:pt x="0" y="615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1555560" y="5998320"/>
              <a:ext cx="414720" cy="440280"/>
            </a:xfrm>
            <a:custGeom>
              <a:avLst/>
              <a:gdLst/>
              <a:ahLst/>
              <a:rect l="l" t="t" r="r" b="b"/>
              <a:pathLst>
                <a:path w="351" h="638">
                  <a:moveTo>
                    <a:pt x="166" y="0"/>
                  </a:moveTo>
                  <a:lnTo>
                    <a:pt x="150" y="4"/>
                  </a:lnTo>
                  <a:lnTo>
                    <a:pt x="134" y="22"/>
                  </a:lnTo>
                  <a:lnTo>
                    <a:pt x="119" y="48"/>
                  </a:lnTo>
                  <a:lnTo>
                    <a:pt x="106" y="81"/>
                  </a:lnTo>
                  <a:lnTo>
                    <a:pt x="95" y="118"/>
                  </a:lnTo>
                  <a:lnTo>
                    <a:pt x="86" y="154"/>
                  </a:lnTo>
                  <a:lnTo>
                    <a:pt x="82" y="186"/>
                  </a:lnTo>
                  <a:lnTo>
                    <a:pt x="81" y="211"/>
                  </a:lnTo>
                  <a:lnTo>
                    <a:pt x="74" y="192"/>
                  </a:lnTo>
                  <a:lnTo>
                    <a:pt x="69" y="168"/>
                  </a:lnTo>
                  <a:lnTo>
                    <a:pt x="65" y="148"/>
                  </a:lnTo>
                  <a:lnTo>
                    <a:pt x="63" y="140"/>
                  </a:lnTo>
                  <a:lnTo>
                    <a:pt x="46" y="188"/>
                  </a:lnTo>
                  <a:lnTo>
                    <a:pt x="35" y="230"/>
                  </a:lnTo>
                  <a:lnTo>
                    <a:pt x="30" y="267"/>
                  </a:lnTo>
                  <a:lnTo>
                    <a:pt x="29" y="298"/>
                  </a:lnTo>
                  <a:lnTo>
                    <a:pt x="31" y="323"/>
                  </a:lnTo>
                  <a:lnTo>
                    <a:pt x="38" y="343"/>
                  </a:lnTo>
                  <a:lnTo>
                    <a:pt x="46" y="359"/>
                  </a:lnTo>
                  <a:lnTo>
                    <a:pt x="55" y="369"/>
                  </a:lnTo>
                  <a:lnTo>
                    <a:pt x="45" y="362"/>
                  </a:lnTo>
                  <a:lnTo>
                    <a:pt x="36" y="356"/>
                  </a:lnTo>
                  <a:lnTo>
                    <a:pt x="28" y="351"/>
                  </a:lnTo>
                  <a:lnTo>
                    <a:pt x="21" y="345"/>
                  </a:lnTo>
                  <a:lnTo>
                    <a:pt x="15" y="341"/>
                  </a:lnTo>
                  <a:lnTo>
                    <a:pt x="12" y="338"/>
                  </a:lnTo>
                  <a:lnTo>
                    <a:pt x="9" y="336"/>
                  </a:lnTo>
                  <a:lnTo>
                    <a:pt x="8" y="334"/>
                  </a:lnTo>
                  <a:lnTo>
                    <a:pt x="5" y="367"/>
                  </a:lnTo>
                  <a:lnTo>
                    <a:pt x="1" y="407"/>
                  </a:lnTo>
                  <a:lnTo>
                    <a:pt x="0" y="453"/>
                  </a:lnTo>
                  <a:lnTo>
                    <a:pt x="1" y="499"/>
                  </a:lnTo>
                  <a:lnTo>
                    <a:pt x="7" y="545"/>
                  </a:lnTo>
                  <a:lnTo>
                    <a:pt x="18" y="585"/>
                  </a:lnTo>
                  <a:lnTo>
                    <a:pt x="37" y="618"/>
                  </a:lnTo>
                  <a:lnTo>
                    <a:pt x="65" y="638"/>
                  </a:lnTo>
                  <a:lnTo>
                    <a:pt x="71" y="638"/>
                  </a:lnTo>
                  <a:lnTo>
                    <a:pt x="83" y="638"/>
                  </a:lnTo>
                  <a:lnTo>
                    <a:pt x="97" y="638"/>
                  </a:lnTo>
                  <a:lnTo>
                    <a:pt x="114" y="638"/>
                  </a:lnTo>
                  <a:lnTo>
                    <a:pt x="133" y="638"/>
                  </a:lnTo>
                  <a:lnTo>
                    <a:pt x="152" y="638"/>
                  </a:lnTo>
                  <a:lnTo>
                    <a:pt x="173" y="638"/>
                  </a:lnTo>
                  <a:lnTo>
                    <a:pt x="194" y="638"/>
                  </a:lnTo>
                  <a:lnTo>
                    <a:pt x="214" y="638"/>
                  </a:lnTo>
                  <a:lnTo>
                    <a:pt x="234" y="638"/>
                  </a:lnTo>
                  <a:lnTo>
                    <a:pt x="252" y="638"/>
                  </a:lnTo>
                  <a:lnTo>
                    <a:pt x="268" y="638"/>
                  </a:lnTo>
                  <a:lnTo>
                    <a:pt x="282" y="638"/>
                  </a:lnTo>
                  <a:lnTo>
                    <a:pt x="293" y="638"/>
                  </a:lnTo>
                  <a:lnTo>
                    <a:pt x="300" y="638"/>
                  </a:lnTo>
                  <a:lnTo>
                    <a:pt x="302" y="638"/>
                  </a:lnTo>
                  <a:lnTo>
                    <a:pt x="315" y="621"/>
                  </a:lnTo>
                  <a:lnTo>
                    <a:pt x="326" y="594"/>
                  </a:lnTo>
                  <a:lnTo>
                    <a:pt x="336" y="562"/>
                  </a:lnTo>
                  <a:lnTo>
                    <a:pt x="345" y="527"/>
                  </a:lnTo>
                  <a:lnTo>
                    <a:pt x="349" y="491"/>
                  </a:lnTo>
                  <a:lnTo>
                    <a:pt x="351" y="456"/>
                  </a:lnTo>
                  <a:lnTo>
                    <a:pt x="350" y="427"/>
                  </a:lnTo>
                  <a:lnTo>
                    <a:pt x="345" y="402"/>
                  </a:lnTo>
                  <a:lnTo>
                    <a:pt x="342" y="416"/>
                  </a:lnTo>
                  <a:lnTo>
                    <a:pt x="338" y="430"/>
                  </a:lnTo>
                  <a:lnTo>
                    <a:pt x="332" y="441"/>
                  </a:lnTo>
                  <a:lnTo>
                    <a:pt x="326" y="453"/>
                  </a:lnTo>
                  <a:lnTo>
                    <a:pt x="319" y="462"/>
                  </a:lnTo>
                  <a:lnTo>
                    <a:pt x="313" y="469"/>
                  </a:lnTo>
                  <a:lnTo>
                    <a:pt x="308" y="476"/>
                  </a:lnTo>
                  <a:lnTo>
                    <a:pt x="302" y="479"/>
                  </a:lnTo>
                  <a:lnTo>
                    <a:pt x="309" y="464"/>
                  </a:lnTo>
                  <a:lnTo>
                    <a:pt x="317" y="441"/>
                  </a:lnTo>
                  <a:lnTo>
                    <a:pt x="323" y="413"/>
                  </a:lnTo>
                  <a:lnTo>
                    <a:pt x="327" y="379"/>
                  </a:lnTo>
                  <a:lnTo>
                    <a:pt x="328" y="341"/>
                  </a:lnTo>
                  <a:lnTo>
                    <a:pt x="324" y="300"/>
                  </a:lnTo>
                  <a:lnTo>
                    <a:pt x="312" y="256"/>
                  </a:lnTo>
                  <a:lnTo>
                    <a:pt x="293" y="211"/>
                  </a:lnTo>
                  <a:lnTo>
                    <a:pt x="293" y="222"/>
                  </a:lnTo>
                  <a:lnTo>
                    <a:pt x="289" y="234"/>
                  </a:lnTo>
                  <a:lnTo>
                    <a:pt x="285" y="246"/>
                  </a:lnTo>
                  <a:lnTo>
                    <a:pt x="278" y="257"/>
                  </a:lnTo>
                  <a:lnTo>
                    <a:pt x="271" y="268"/>
                  </a:lnTo>
                  <a:lnTo>
                    <a:pt x="265" y="276"/>
                  </a:lnTo>
                  <a:lnTo>
                    <a:pt x="260" y="282"/>
                  </a:lnTo>
                  <a:lnTo>
                    <a:pt x="259" y="284"/>
                  </a:lnTo>
                  <a:lnTo>
                    <a:pt x="262" y="267"/>
                  </a:lnTo>
                  <a:lnTo>
                    <a:pt x="263" y="240"/>
                  </a:lnTo>
                  <a:lnTo>
                    <a:pt x="263" y="208"/>
                  </a:lnTo>
                  <a:lnTo>
                    <a:pt x="262" y="172"/>
                  </a:lnTo>
                  <a:lnTo>
                    <a:pt x="257" y="137"/>
                  </a:lnTo>
                  <a:lnTo>
                    <a:pt x="249" y="102"/>
                  </a:lnTo>
                  <a:lnTo>
                    <a:pt x="239" y="72"/>
                  </a:lnTo>
                  <a:lnTo>
                    <a:pt x="225" y="50"/>
                  </a:lnTo>
                  <a:lnTo>
                    <a:pt x="225" y="73"/>
                  </a:lnTo>
                  <a:lnTo>
                    <a:pt x="220" y="94"/>
                  </a:lnTo>
                  <a:lnTo>
                    <a:pt x="214" y="109"/>
                  </a:lnTo>
                  <a:lnTo>
                    <a:pt x="212" y="115"/>
                  </a:lnTo>
                  <a:lnTo>
                    <a:pt x="210" y="99"/>
                  </a:lnTo>
                  <a:lnTo>
                    <a:pt x="205" y="80"/>
                  </a:lnTo>
                  <a:lnTo>
                    <a:pt x="197" y="61"/>
                  </a:lnTo>
                  <a:lnTo>
                    <a:pt x="189" y="42"/>
                  </a:lnTo>
                  <a:lnTo>
                    <a:pt x="181" y="26"/>
                  </a:lnTo>
                  <a:lnTo>
                    <a:pt x="173" y="12"/>
                  </a:lnTo>
                  <a:lnTo>
                    <a:pt x="168" y="3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1718640" y="6129360"/>
              <a:ext cx="893160" cy="309240"/>
            </a:xfrm>
            <a:custGeom>
              <a:avLst/>
              <a:gdLst/>
              <a:ahLst/>
              <a:rect l="l" t="t" r="r" b="b"/>
              <a:pathLst>
                <a:path w="758" h="449">
                  <a:moveTo>
                    <a:pt x="0" y="228"/>
                  </a:moveTo>
                  <a:lnTo>
                    <a:pt x="150" y="0"/>
                  </a:lnTo>
                  <a:lnTo>
                    <a:pt x="299" y="228"/>
                  </a:lnTo>
                  <a:lnTo>
                    <a:pt x="758" y="228"/>
                  </a:lnTo>
                  <a:lnTo>
                    <a:pt x="758" y="449"/>
                  </a:lnTo>
                  <a:lnTo>
                    <a:pt x="0" y="449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1711080" y="6103080"/>
              <a:ext cx="909720" cy="183600"/>
            </a:xfrm>
            <a:custGeom>
              <a:avLst/>
              <a:gdLst/>
              <a:ahLst/>
              <a:rect l="l" t="t" r="r" b="b"/>
              <a:pathLst>
                <a:path w="770" h="264">
                  <a:moveTo>
                    <a:pt x="763" y="264"/>
                  </a:moveTo>
                  <a:lnTo>
                    <a:pt x="304" y="264"/>
                  </a:lnTo>
                  <a:lnTo>
                    <a:pt x="155" y="36"/>
                  </a:lnTo>
                  <a:lnTo>
                    <a:pt x="5" y="264"/>
                  </a:lnTo>
                  <a:lnTo>
                    <a:pt x="0" y="237"/>
                  </a:lnTo>
                  <a:lnTo>
                    <a:pt x="155" y="0"/>
                  </a:lnTo>
                  <a:lnTo>
                    <a:pt x="309" y="237"/>
                  </a:lnTo>
                  <a:lnTo>
                    <a:pt x="770" y="237"/>
                  </a:lnTo>
                  <a:lnTo>
                    <a:pt x="763" y="2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1744200" y="6297840"/>
              <a:ext cx="315720" cy="14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1895040" y="6103080"/>
              <a:ext cx="725760" cy="164160"/>
            </a:xfrm>
            <a:custGeom>
              <a:avLst/>
              <a:gdLst/>
              <a:ahLst/>
              <a:rect l="l" t="t" r="r" b="b"/>
              <a:pathLst>
                <a:path w="615" h="237">
                  <a:moveTo>
                    <a:pt x="0" y="0"/>
                  </a:moveTo>
                  <a:lnTo>
                    <a:pt x="154" y="237"/>
                  </a:lnTo>
                  <a:lnTo>
                    <a:pt x="615" y="237"/>
                  </a:lnTo>
                  <a:lnTo>
                    <a:pt x="4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1765800" y="6309000"/>
              <a:ext cx="268200" cy="12960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1494720" y="6438960"/>
              <a:ext cx="2653920" cy="30492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562120" y="5913000"/>
              <a:ext cx="1025280" cy="282960"/>
            </a:xfrm>
            <a:custGeom>
              <a:avLst/>
              <a:gdLst/>
              <a:ahLst/>
              <a:rect l="l" t="t" r="r" b="b"/>
              <a:pathLst>
                <a:path w="871" h="409">
                  <a:moveTo>
                    <a:pt x="380" y="73"/>
                  </a:moveTo>
                  <a:lnTo>
                    <a:pt x="871" y="73"/>
                  </a:lnTo>
                  <a:lnTo>
                    <a:pt x="652" y="409"/>
                  </a:lnTo>
                  <a:lnTo>
                    <a:pt x="0" y="409"/>
                  </a:lnTo>
                  <a:lnTo>
                    <a:pt x="220" y="73"/>
                  </a:lnTo>
                  <a:lnTo>
                    <a:pt x="306" y="73"/>
                  </a:lnTo>
                  <a:lnTo>
                    <a:pt x="306" y="0"/>
                  </a:lnTo>
                  <a:lnTo>
                    <a:pt x="380" y="0"/>
                  </a:lnTo>
                  <a:lnTo>
                    <a:pt x="380" y="73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571840" y="5999400"/>
              <a:ext cx="1265760" cy="439200"/>
            </a:xfrm>
            <a:custGeom>
              <a:avLst/>
              <a:gdLst/>
              <a:ahLst/>
              <a:rect l="l" t="t" r="r" b="b"/>
              <a:pathLst>
                <a:path w="1073" h="636">
                  <a:moveTo>
                    <a:pt x="1073" y="323"/>
                  </a:moveTo>
                  <a:lnTo>
                    <a:pt x="862" y="0"/>
                  </a:lnTo>
                  <a:lnTo>
                    <a:pt x="651" y="323"/>
                  </a:lnTo>
                  <a:lnTo>
                    <a:pt x="0" y="323"/>
                  </a:lnTo>
                  <a:lnTo>
                    <a:pt x="0" y="636"/>
                  </a:lnTo>
                  <a:lnTo>
                    <a:pt x="1073" y="636"/>
                  </a:lnTo>
                  <a:lnTo>
                    <a:pt x="1073" y="323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593080" y="6238440"/>
              <a:ext cx="734760" cy="191880"/>
            </a:xfrm>
            <a:prstGeom prst="rect">
              <a:avLst/>
            </a:prstGeom>
            <a:solidFill>
              <a:srgbClr val="d8b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3627720" y="6361560"/>
              <a:ext cx="410400" cy="77040"/>
            </a:xfrm>
            <a:custGeom>
              <a:avLst/>
              <a:gdLst/>
              <a:ahLst/>
              <a:rect l="l" t="t" r="r" b="b"/>
              <a:pathLst>
                <a:path w="348" h="113">
                  <a:moveTo>
                    <a:pt x="303" y="55"/>
                  </a:moveTo>
                  <a:lnTo>
                    <a:pt x="303" y="0"/>
                  </a:lnTo>
                  <a:lnTo>
                    <a:pt x="0" y="0"/>
                  </a:lnTo>
                  <a:lnTo>
                    <a:pt x="0" y="113"/>
                  </a:lnTo>
                  <a:lnTo>
                    <a:pt x="348" y="113"/>
                  </a:lnTo>
                  <a:lnTo>
                    <a:pt x="348" y="55"/>
                  </a:lnTo>
                  <a:lnTo>
                    <a:pt x="303" y="55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3627720" y="6234480"/>
              <a:ext cx="174600" cy="12708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941920" y="6258960"/>
              <a:ext cx="315720" cy="14364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3663360" y="6248160"/>
              <a:ext cx="105840" cy="11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562120" y="5963760"/>
              <a:ext cx="1284840" cy="259200"/>
            </a:xfrm>
            <a:custGeom>
              <a:avLst/>
              <a:gdLst/>
              <a:ahLst/>
              <a:rect l="l" t="t" r="r" b="b"/>
              <a:pathLst>
                <a:path w="1091" h="375">
                  <a:moveTo>
                    <a:pt x="9" y="375"/>
                  </a:moveTo>
                  <a:lnTo>
                    <a:pt x="660" y="375"/>
                  </a:lnTo>
                  <a:lnTo>
                    <a:pt x="871" y="52"/>
                  </a:lnTo>
                  <a:lnTo>
                    <a:pt x="1082" y="375"/>
                  </a:lnTo>
                  <a:lnTo>
                    <a:pt x="1091" y="336"/>
                  </a:lnTo>
                  <a:lnTo>
                    <a:pt x="871" y="0"/>
                  </a:lnTo>
                  <a:lnTo>
                    <a:pt x="652" y="336"/>
                  </a:lnTo>
                  <a:lnTo>
                    <a:pt x="0" y="336"/>
                  </a:lnTo>
                  <a:lnTo>
                    <a:pt x="9" y="3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3031560" y="6267600"/>
              <a:ext cx="136800" cy="12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958480" y="6267600"/>
              <a:ext cx="56520" cy="12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3187080" y="6267600"/>
              <a:ext cx="53640" cy="12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3439440" y="6267600"/>
              <a:ext cx="87120" cy="12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3382920" y="6267600"/>
              <a:ext cx="39960" cy="12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545280" y="6267600"/>
              <a:ext cx="39960" cy="12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512160" y="6096240"/>
              <a:ext cx="63360" cy="2736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21" y="0"/>
                  </a:moveTo>
                  <a:lnTo>
                    <a:pt x="13" y="8"/>
                  </a:lnTo>
                  <a:lnTo>
                    <a:pt x="7" y="19"/>
                  </a:lnTo>
                  <a:lnTo>
                    <a:pt x="2" y="30"/>
                  </a:lnTo>
                  <a:lnTo>
                    <a:pt x="0" y="42"/>
                  </a:lnTo>
                  <a:lnTo>
                    <a:pt x="55" y="4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600000" y="6096240"/>
              <a:ext cx="65520" cy="2736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33" y="0"/>
                  </a:moveTo>
                  <a:lnTo>
                    <a:pt x="41" y="8"/>
                  </a:lnTo>
                  <a:lnTo>
                    <a:pt x="48" y="19"/>
                  </a:lnTo>
                  <a:lnTo>
                    <a:pt x="53" y="30"/>
                  </a:lnTo>
                  <a:lnTo>
                    <a:pt x="55" y="42"/>
                  </a:lnTo>
                  <a:lnTo>
                    <a:pt x="0" y="4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3549960" y="6081120"/>
              <a:ext cx="75240" cy="37080"/>
            </a:xfrm>
            <a:custGeom>
              <a:avLst/>
              <a:gdLst/>
              <a:ahLst/>
              <a:rect l="l" t="t" r="r" b="b"/>
              <a:pathLst>
                <a:path w="66" h="53">
                  <a:moveTo>
                    <a:pt x="33" y="53"/>
                  </a:moveTo>
                  <a:lnTo>
                    <a:pt x="66" y="12"/>
                  </a:lnTo>
                  <a:lnTo>
                    <a:pt x="59" y="7"/>
                  </a:lnTo>
                  <a:lnTo>
                    <a:pt x="52" y="4"/>
                  </a:lnTo>
                  <a:lnTo>
                    <a:pt x="43" y="2"/>
                  </a:lnTo>
                  <a:lnTo>
                    <a:pt x="34" y="0"/>
                  </a:lnTo>
                  <a:lnTo>
                    <a:pt x="25" y="2"/>
                  </a:lnTo>
                  <a:lnTo>
                    <a:pt x="15" y="4"/>
                  </a:lnTo>
                  <a:lnTo>
                    <a:pt x="7" y="7"/>
                  </a:lnTo>
                  <a:lnTo>
                    <a:pt x="0" y="12"/>
                  </a:lnTo>
                  <a:lnTo>
                    <a:pt x="33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3597120" y="6114240"/>
              <a:ext cx="409680" cy="119880"/>
            </a:xfrm>
            <a:custGeom>
              <a:avLst/>
              <a:gdLst/>
              <a:ahLst/>
              <a:rect l="l" t="t" r="r" b="b"/>
              <a:pathLst>
                <a:path w="348" h="174">
                  <a:moveTo>
                    <a:pt x="1" y="136"/>
                  </a:moveTo>
                  <a:lnTo>
                    <a:pt x="88" y="0"/>
                  </a:lnTo>
                  <a:lnTo>
                    <a:pt x="122" y="0"/>
                  </a:lnTo>
                  <a:lnTo>
                    <a:pt x="35" y="136"/>
                  </a:lnTo>
                  <a:lnTo>
                    <a:pt x="171" y="136"/>
                  </a:lnTo>
                  <a:lnTo>
                    <a:pt x="259" y="0"/>
                  </a:lnTo>
                  <a:lnTo>
                    <a:pt x="348" y="136"/>
                  </a:lnTo>
                  <a:lnTo>
                    <a:pt x="340" y="174"/>
                  </a:lnTo>
                  <a:lnTo>
                    <a:pt x="259" y="50"/>
                  </a:lnTo>
                  <a:lnTo>
                    <a:pt x="179" y="174"/>
                  </a:lnTo>
                  <a:lnTo>
                    <a:pt x="9" y="174"/>
                  </a:lnTo>
                  <a:lnTo>
                    <a:pt x="0" y="136"/>
                  </a:lnTo>
                  <a:lnTo>
                    <a:pt x="1" y="1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866040" y="6405480"/>
              <a:ext cx="16236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3811680" y="6368400"/>
              <a:ext cx="16272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3809520" y="6150240"/>
              <a:ext cx="188640" cy="83880"/>
            </a:xfrm>
            <a:custGeom>
              <a:avLst/>
              <a:gdLst/>
              <a:ahLst/>
              <a:rect l="l" t="t" r="r" b="b"/>
              <a:pathLst>
                <a:path w="161" h="124">
                  <a:moveTo>
                    <a:pt x="161" y="124"/>
                  </a:moveTo>
                  <a:lnTo>
                    <a:pt x="80" y="0"/>
                  </a:lnTo>
                  <a:lnTo>
                    <a:pt x="0" y="124"/>
                  </a:lnTo>
                  <a:lnTo>
                    <a:pt x="161" y="124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3955320" y="6234480"/>
              <a:ext cx="21240" cy="1270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639240" y="6114240"/>
              <a:ext cx="261720" cy="93600"/>
            </a:xfrm>
            <a:custGeom>
              <a:avLst/>
              <a:gdLst/>
              <a:ahLst/>
              <a:rect l="l" t="t" r="r" b="b"/>
              <a:pathLst>
                <a:path w="224" h="136">
                  <a:moveTo>
                    <a:pt x="87" y="0"/>
                  </a:moveTo>
                  <a:lnTo>
                    <a:pt x="0" y="136"/>
                  </a:lnTo>
                  <a:lnTo>
                    <a:pt x="136" y="136"/>
                  </a:lnTo>
                  <a:lnTo>
                    <a:pt x="224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802320" y="6234480"/>
              <a:ext cx="35280" cy="1270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3627720" y="6234480"/>
              <a:ext cx="35640" cy="1270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1018440" y="6438960"/>
              <a:ext cx="1041840" cy="304920"/>
            </a:xfrm>
            <a:custGeom>
              <a:avLst/>
              <a:gdLst/>
              <a:ahLst/>
              <a:rect l="l" t="t" r="r" b="b"/>
              <a:pathLst>
                <a:path w="882" h="442">
                  <a:moveTo>
                    <a:pt x="632" y="0"/>
                  </a:moveTo>
                  <a:lnTo>
                    <a:pt x="646" y="4"/>
                  </a:lnTo>
                  <a:lnTo>
                    <a:pt x="665" y="12"/>
                  </a:lnTo>
                  <a:lnTo>
                    <a:pt x="683" y="23"/>
                  </a:lnTo>
                  <a:lnTo>
                    <a:pt x="699" y="37"/>
                  </a:lnTo>
                  <a:lnTo>
                    <a:pt x="706" y="52"/>
                  </a:lnTo>
                  <a:lnTo>
                    <a:pt x="703" y="67"/>
                  </a:lnTo>
                  <a:lnTo>
                    <a:pt x="682" y="80"/>
                  </a:lnTo>
                  <a:lnTo>
                    <a:pt x="641" y="91"/>
                  </a:lnTo>
                  <a:lnTo>
                    <a:pt x="613" y="96"/>
                  </a:lnTo>
                  <a:lnTo>
                    <a:pt x="585" y="99"/>
                  </a:lnTo>
                  <a:lnTo>
                    <a:pt x="555" y="104"/>
                  </a:lnTo>
                  <a:lnTo>
                    <a:pt x="524" y="107"/>
                  </a:lnTo>
                  <a:lnTo>
                    <a:pt x="493" y="111"/>
                  </a:lnTo>
                  <a:lnTo>
                    <a:pt x="460" y="114"/>
                  </a:lnTo>
                  <a:lnTo>
                    <a:pt x="427" y="118"/>
                  </a:lnTo>
                  <a:lnTo>
                    <a:pt x="394" y="121"/>
                  </a:lnTo>
                  <a:lnTo>
                    <a:pt x="361" y="126"/>
                  </a:lnTo>
                  <a:lnTo>
                    <a:pt x="328" y="130"/>
                  </a:lnTo>
                  <a:lnTo>
                    <a:pt x="295" y="135"/>
                  </a:lnTo>
                  <a:lnTo>
                    <a:pt x="263" y="141"/>
                  </a:lnTo>
                  <a:lnTo>
                    <a:pt x="232" y="146"/>
                  </a:lnTo>
                  <a:lnTo>
                    <a:pt x="200" y="153"/>
                  </a:lnTo>
                  <a:lnTo>
                    <a:pt x="172" y="161"/>
                  </a:lnTo>
                  <a:lnTo>
                    <a:pt x="143" y="170"/>
                  </a:lnTo>
                  <a:lnTo>
                    <a:pt x="116" y="181"/>
                  </a:lnTo>
                  <a:lnTo>
                    <a:pt x="91" y="194"/>
                  </a:lnTo>
                  <a:lnTo>
                    <a:pt x="69" y="207"/>
                  </a:lnTo>
                  <a:lnTo>
                    <a:pt x="48" y="223"/>
                  </a:lnTo>
                  <a:lnTo>
                    <a:pt x="32" y="241"/>
                  </a:lnTo>
                  <a:lnTo>
                    <a:pt x="18" y="259"/>
                  </a:lnTo>
                  <a:lnTo>
                    <a:pt x="8" y="278"/>
                  </a:lnTo>
                  <a:lnTo>
                    <a:pt x="1" y="297"/>
                  </a:lnTo>
                  <a:lnTo>
                    <a:pt x="0" y="317"/>
                  </a:lnTo>
                  <a:lnTo>
                    <a:pt x="2" y="336"/>
                  </a:lnTo>
                  <a:lnTo>
                    <a:pt x="10" y="356"/>
                  </a:lnTo>
                  <a:lnTo>
                    <a:pt x="23" y="374"/>
                  </a:lnTo>
                  <a:lnTo>
                    <a:pt x="41" y="393"/>
                  </a:lnTo>
                  <a:lnTo>
                    <a:pt x="67" y="411"/>
                  </a:lnTo>
                  <a:lnTo>
                    <a:pt x="98" y="427"/>
                  </a:lnTo>
                  <a:lnTo>
                    <a:pt x="136" y="442"/>
                  </a:lnTo>
                  <a:lnTo>
                    <a:pt x="151" y="442"/>
                  </a:lnTo>
                  <a:lnTo>
                    <a:pt x="170" y="442"/>
                  </a:lnTo>
                  <a:lnTo>
                    <a:pt x="196" y="442"/>
                  </a:lnTo>
                  <a:lnTo>
                    <a:pt x="223" y="442"/>
                  </a:lnTo>
                  <a:lnTo>
                    <a:pt x="256" y="442"/>
                  </a:lnTo>
                  <a:lnTo>
                    <a:pt x="288" y="442"/>
                  </a:lnTo>
                  <a:lnTo>
                    <a:pt x="323" y="442"/>
                  </a:lnTo>
                  <a:lnTo>
                    <a:pt x="357" y="442"/>
                  </a:lnTo>
                  <a:lnTo>
                    <a:pt x="392" y="442"/>
                  </a:lnTo>
                  <a:lnTo>
                    <a:pt x="424" y="442"/>
                  </a:lnTo>
                  <a:lnTo>
                    <a:pt x="454" y="442"/>
                  </a:lnTo>
                  <a:lnTo>
                    <a:pt x="480" y="442"/>
                  </a:lnTo>
                  <a:lnTo>
                    <a:pt x="502" y="442"/>
                  </a:lnTo>
                  <a:lnTo>
                    <a:pt x="518" y="442"/>
                  </a:lnTo>
                  <a:lnTo>
                    <a:pt x="530" y="442"/>
                  </a:lnTo>
                  <a:lnTo>
                    <a:pt x="533" y="442"/>
                  </a:lnTo>
                  <a:lnTo>
                    <a:pt x="505" y="436"/>
                  </a:lnTo>
                  <a:lnTo>
                    <a:pt x="471" y="429"/>
                  </a:lnTo>
                  <a:lnTo>
                    <a:pt x="437" y="422"/>
                  </a:lnTo>
                  <a:lnTo>
                    <a:pt x="400" y="413"/>
                  </a:lnTo>
                  <a:lnTo>
                    <a:pt x="363" y="404"/>
                  </a:lnTo>
                  <a:lnTo>
                    <a:pt x="327" y="393"/>
                  </a:lnTo>
                  <a:lnTo>
                    <a:pt x="293" y="381"/>
                  </a:lnTo>
                  <a:lnTo>
                    <a:pt x="262" y="367"/>
                  </a:lnTo>
                  <a:lnTo>
                    <a:pt x="234" y="353"/>
                  </a:lnTo>
                  <a:lnTo>
                    <a:pt x="211" y="338"/>
                  </a:lnTo>
                  <a:lnTo>
                    <a:pt x="194" y="321"/>
                  </a:lnTo>
                  <a:lnTo>
                    <a:pt x="182" y="303"/>
                  </a:lnTo>
                  <a:lnTo>
                    <a:pt x="180" y="284"/>
                  </a:lnTo>
                  <a:lnTo>
                    <a:pt x="185" y="264"/>
                  </a:lnTo>
                  <a:lnTo>
                    <a:pt x="202" y="241"/>
                  </a:lnTo>
                  <a:lnTo>
                    <a:pt x="228" y="218"/>
                  </a:lnTo>
                  <a:lnTo>
                    <a:pt x="247" y="207"/>
                  </a:lnTo>
                  <a:lnTo>
                    <a:pt x="272" y="198"/>
                  </a:lnTo>
                  <a:lnTo>
                    <a:pt x="302" y="191"/>
                  </a:lnTo>
                  <a:lnTo>
                    <a:pt x="335" y="184"/>
                  </a:lnTo>
                  <a:lnTo>
                    <a:pt x="373" y="180"/>
                  </a:lnTo>
                  <a:lnTo>
                    <a:pt x="414" y="174"/>
                  </a:lnTo>
                  <a:lnTo>
                    <a:pt x="456" y="170"/>
                  </a:lnTo>
                  <a:lnTo>
                    <a:pt x="500" y="166"/>
                  </a:lnTo>
                  <a:lnTo>
                    <a:pt x="545" y="162"/>
                  </a:lnTo>
                  <a:lnTo>
                    <a:pt x="589" y="158"/>
                  </a:lnTo>
                  <a:lnTo>
                    <a:pt x="631" y="153"/>
                  </a:lnTo>
                  <a:lnTo>
                    <a:pt x="673" y="147"/>
                  </a:lnTo>
                  <a:lnTo>
                    <a:pt x="712" y="142"/>
                  </a:lnTo>
                  <a:lnTo>
                    <a:pt x="747" y="134"/>
                  </a:lnTo>
                  <a:lnTo>
                    <a:pt x="778" y="124"/>
                  </a:lnTo>
                  <a:lnTo>
                    <a:pt x="804" y="114"/>
                  </a:lnTo>
                  <a:lnTo>
                    <a:pt x="843" y="92"/>
                  </a:lnTo>
                  <a:lnTo>
                    <a:pt x="868" y="72"/>
                  </a:lnTo>
                  <a:lnTo>
                    <a:pt x="880" y="53"/>
                  </a:lnTo>
                  <a:lnTo>
                    <a:pt x="882" y="37"/>
                  </a:lnTo>
                  <a:lnTo>
                    <a:pt x="880" y="23"/>
                  </a:lnTo>
                  <a:lnTo>
                    <a:pt x="873" y="13"/>
                  </a:lnTo>
                  <a:lnTo>
                    <a:pt x="866" y="5"/>
                  </a:lnTo>
                  <a:lnTo>
                    <a:pt x="861" y="0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336040" y="6299280"/>
              <a:ext cx="105840" cy="234720"/>
            </a:xfrm>
            <a:custGeom>
              <a:avLst/>
              <a:gdLst/>
              <a:ahLst/>
              <a:rect l="l" t="t" r="r" b="b"/>
              <a:pathLst>
                <a:path w="91" h="338">
                  <a:moveTo>
                    <a:pt x="7" y="338"/>
                  </a:moveTo>
                  <a:lnTo>
                    <a:pt x="4" y="338"/>
                  </a:lnTo>
                  <a:lnTo>
                    <a:pt x="0" y="335"/>
                  </a:lnTo>
                  <a:lnTo>
                    <a:pt x="4" y="145"/>
                  </a:lnTo>
                  <a:lnTo>
                    <a:pt x="5" y="7"/>
                  </a:lnTo>
                  <a:lnTo>
                    <a:pt x="3" y="4"/>
                  </a:lnTo>
                  <a:lnTo>
                    <a:pt x="3" y="2"/>
                  </a:lnTo>
                  <a:lnTo>
                    <a:pt x="59" y="0"/>
                  </a:lnTo>
                  <a:lnTo>
                    <a:pt x="66" y="7"/>
                  </a:lnTo>
                  <a:lnTo>
                    <a:pt x="67" y="10"/>
                  </a:lnTo>
                  <a:lnTo>
                    <a:pt x="65" y="10"/>
                  </a:lnTo>
                  <a:lnTo>
                    <a:pt x="91" y="335"/>
                  </a:lnTo>
                  <a:lnTo>
                    <a:pt x="87" y="335"/>
                  </a:lnTo>
                  <a:lnTo>
                    <a:pt x="82" y="332"/>
                  </a:lnTo>
                  <a:lnTo>
                    <a:pt x="58" y="11"/>
                  </a:lnTo>
                  <a:lnTo>
                    <a:pt x="15" y="13"/>
                  </a:lnTo>
                  <a:lnTo>
                    <a:pt x="7" y="338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347920" y="6318720"/>
              <a:ext cx="61200" cy="6840"/>
            </a:xfrm>
            <a:custGeom>
              <a:avLst/>
              <a:gdLst/>
              <a:ahLst/>
              <a:rect l="l" t="t" r="r" b="b"/>
              <a:pathLst>
                <a:path w="51" h="10">
                  <a:moveTo>
                    <a:pt x="49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1" y="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347920" y="6348960"/>
              <a:ext cx="63360" cy="5400"/>
            </a:xfrm>
            <a:custGeom>
              <a:avLst/>
              <a:gdLst/>
              <a:ahLst/>
              <a:rect l="l" t="t" r="r" b="b"/>
              <a:pathLst>
                <a:path w="53" h="9">
                  <a:moveTo>
                    <a:pt x="52" y="0"/>
                  </a:moveTo>
                  <a:lnTo>
                    <a:pt x="1" y="1"/>
                  </a:lnTo>
                  <a:lnTo>
                    <a:pt x="0" y="9"/>
                  </a:lnTo>
                  <a:lnTo>
                    <a:pt x="53" y="8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347920" y="6340680"/>
              <a:ext cx="63360" cy="3960"/>
            </a:xfrm>
            <a:custGeom>
              <a:avLst/>
              <a:gdLst/>
              <a:ahLst/>
              <a:rect l="l" t="t" r="r" b="b"/>
              <a:pathLst>
                <a:path w="53" h="4">
                  <a:moveTo>
                    <a:pt x="52" y="0"/>
                  </a:moveTo>
                  <a:lnTo>
                    <a:pt x="1" y="1"/>
                  </a:lnTo>
                  <a:lnTo>
                    <a:pt x="0" y="4"/>
                  </a:lnTo>
                  <a:lnTo>
                    <a:pt x="53" y="3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347920" y="6382080"/>
              <a:ext cx="68400" cy="6840"/>
            </a:xfrm>
            <a:custGeom>
              <a:avLst/>
              <a:gdLst/>
              <a:ahLst/>
              <a:rect l="l" t="t" r="r" b="b"/>
              <a:pathLst>
                <a:path w="58" h="10">
                  <a:moveTo>
                    <a:pt x="57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8" y="8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347920" y="6375240"/>
              <a:ext cx="68400" cy="3960"/>
            </a:xfrm>
            <a:custGeom>
              <a:avLst/>
              <a:gdLst/>
              <a:ahLst/>
              <a:rect l="l" t="t" r="r" b="b"/>
              <a:pathLst>
                <a:path w="57" h="6">
                  <a:moveTo>
                    <a:pt x="57" y="0"/>
                  </a:moveTo>
                  <a:lnTo>
                    <a:pt x="1" y="2"/>
                  </a:lnTo>
                  <a:lnTo>
                    <a:pt x="0" y="6"/>
                  </a:lnTo>
                  <a:lnTo>
                    <a:pt x="57" y="4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306360" y="5969160"/>
              <a:ext cx="716760" cy="612720"/>
            </a:xfrm>
            <a:custGeom>
              <a:avLst/>
              <a:gdLst/>
              <a:ahLst/>
              <a:rect l="l" t="t" r="r" b="b"/>
              <a:pathLst>
                <a:path w="607" h="888">
                  <a:moveTo>
                    <a:pt x="607" y="380"/>
                  </a:moveTo>
                  <a:lnTo>
                    <a:pt x="592" y="383"/>
                  </a:lnTo>
                  <a:lnTo>
                    <a:pt x="575" y="388"/>
                  </a:lnTo>
                  <a:lnTo>
                    <a:pt x="555" y="391"/>
                  </a:lnTo>
                  <a:lnTo>
                    <a:pt x="535" y="398"/>
                  </a:lnTo>
                  <a:lnTo>
                    <a:pt x="514" y="406"/>
                  </a:lnTo>
                  <a:lnTo>
                    <a:pt x="492" y="418"/>
                  </a:lnTo>
                  <a:lnTo>
                    <a:pt x="469" y="434"/>
                  </a:lnTo>
                  <a:lnTo>
                    <a:pt x="447" y="455"/>
                  </a:lnTo>
                  <a:lnTo>
                    <a:pt x="426" y="480"/>
                  </a:lnTo>
                  <a:lnTo>
                    <a:pt x="407" y="513"/>
                  </a:lnTo>
                  <a:lnTo>
                    <a:pt x="390" y="553"/>
                  </a:lnTo>
                  <a:lnTo>
                    <a:pt x="373" y="601"/>
                  </a:lnTo>
                  <a:lnTo>
                    <a:pt x="361" y="657"/>
                  </a:lnTo>
                  <a:lnTo>
                    <a:pt x="350" y="724"/>
                  </a:lnTo>
                  <a:lnTo>
                    <a:pt x="345" y="800"/>
                  </a:lnTo>
                  <a:lnTo>
                    <a:pt x="342" y="888"/>
                  </a:lnTo>
                  <a:lnTo>
                    <a:pt x="308" y="888"/>
                  </a:lnTo>
                  <a:lnTo>
                    <a:pt x="308" y="855"/>
                  </a:lnTo>
                  <a:lnTo>
                    <a:pt x="308" y="818"/>
                  </a:lnTo>
                  <a:lnTo>
                    <a:pt x="308" y="781"/>
                  </a:lnTo>
                  <a:lnTo>
                    <a:pt x="307" y="742"/>
                  </a:lnTo>
                  <a:lnTo>
                    <a:pt x="303" y="703"/>
                  </a:lnTo>
                  <a:lnTo>
                    <a:pt x="299" y="663"/>
                  </a:lnTo>
                  <a:lnTo>
                    <a:pt x="290" y="623"/>
                  </a:lnTo>
                  <a:lnTo>
                    <a:pt x="279" y="582"/>
                  </a:lnTo>
                  <a:lnTo>
                    <a:pt x="264" y="543"/>
                  </a:lnTo>
                  <a:lnTo>
                    <a:pt x="243" y="506"/>
                  </a:lnTo>
                  <a:lnTo>
                    <a:pt x="219" y="471"/>
                  </a:lnTo>
                  <a:lnTo>
                    <a:pt x="189" y="436"/>
                  </a:lnTo>
                  <a:lnTo>
                    <a:pt x="152" y="405"/>
                  </a:lnTo>
                  <a:lnTo>
                    <a:pt x="108" y="376"/>
                  </a:lnTo>
                  <a:lnTo>
                    <a:pt x="59" y="351"/>
                  </a:lnTo>
                  <a:lnTo>
                    <a:pt x="0" y="330"/>
                  </a:lnTo>
                  <a:lnTo>
                    <a:pt x="11" y="333"/>
                  </a:lnTo>
                  <a:lnTo>
                    <a:pt x="23" y="336"/>
                  </a:lnTo>
                  <a:lnTo>
                    <a:pt x="37" y="340"/>
                  </a:lnTo>
                  <a:lnTo>
                    <a:pt x="54" y="344"/>
                  </a:lnTo>
                  <a:lnTo>
                    <a:pt x="72" y="351"/>
                  </a:lnTo>
                  <a:lnTo>
                    <a:pt x="91" y="359"/>
                  </a:lnTo>
                  <a:lnTo>
                    <a:pt x="111" y="368"/>
                  </a:lnTo>
                  <a:lnTo>
                    <a:pt x="131" y="379"/>
                  </a:lnTo>
                  <a:lnTo>
                    <a:pt x="152" y="393"/>
                  </a:lnTo>
                  <a:lnTo>
                    <a:pt x="173" y="409"/>
                  </a:lnTo>
                  <a:lnTo>
                    <a:pt x="194" y="427"/>
                  </a:lnTo>
                  <a:lnTo>
                    <a:pt x="214" y="448"/>
                  </a:lnTo>
                  <a:lnTo>
                    <a:pt x="234" y="472"/>
                  </a:lnTo>
                  <a:lnTo>
                    <a:pt x="254" y="498"/>
                  </a:lnTo>
                  <a:lnTo>
                    <a:pt x="271" y="528"/>
                  </a:lnTo>
                  <a:lnTo>
                    <a:pt x="287" y="563"/>
                  </a:lnTo>
                  <a:lnTo>
                    <a:pt x="285" y="550"/>
                  </a:lnTo>
                  <a:lnTo>
                    <a:pt x="282" y="534"/>
                  </a:lnTo>
                  <a:lnTo>
                    <a:pt x="280" y="515"/>
                  </a:lnTo>
                  <a:lnTo>
                    <a:pt x="277" y="492"/>
                  </a:lnTo>
                  <a:lnTo>
                    <a:pt x="272" y="465"/>
                  </a:lnTo>
                  <a:lnTo>
                    <a:pt x="266" y="437"/>
                  </a:lnTo>
                  <a:lnTo>
                    <a:pt x="261" y="408"/>
                  </a:lnTo>
                  <a:lnTo>
                    <a:pt x="251" y="375"/>
                  </a:lnTo>
                  <a:lnTo>
                    <a:pt x="241" y="342"/>
                  </a:lnTo>
                  <a:lnTo>
                    <a:pt x="229" y="306"/>
                  </a:lnTo>
                  <a:lnTo>
                    <a:pt x="214" y="271"/>
                  </a:lnTo>
                  <a:lnTo>
                    <a:pt x="197" y="235"/>
                  </a:lnTo>
                  <a:lnTo>
                    <a:pt x="176" y="197"/>
                  </a:lnTo>
                  <a:lnTo>
                    <a:pt x="153" y="160"/>
                  </a:lnTo>
                  <a:lnTo>
                    <a:pt x="127" y="123"/>
                  </a:lnTo>
                  <a:lnTo>
                    <a:pt x="97" y="88"/>
                  </a:lnTo>
                  <a:lnTo>
                    <a:pt x="121" y="110"/>
                  </a:lnTo>
                  <a:lnTo>
                    <a:pt x="141" y="131"/>
                  </a:lnTo>
                  <a:lnTo>
                    <a:pt x="158" y="153"/>
                  </a:lnTo>
                  <a:lnTo>
                    <a:pt x="173" y="175"/>
                  </a:lnTo>
                  <a:lnTo>
                    <a:pt x="186" y="197"/>
                  </a:lnTo>
                  <a:lnTo>
                    <a:pt x="196" y="217"/>
                  </a:lnTo>
                  <a:lnTo>
                    <a:pt x="206" y="235"/>
                  </a:lnTo>
                  <a:lnTo>
                    <a:pt x="214" y="251"/>
                  </a:lnTo>
                  <a:lnTo>
                    <a:pt x="214" y="234"/>
                  </a:lnTo>
                  <a:lnTo>
                    <a:pt x="212" y="208"/>
                  </a:lnTo>
                  <a:lnTo>
                    <a:pt x="209" y="180"/>
                  </a:lnTo>
                  <a:lnTo>
                    <a:pt x="203" y="146"/>
                  </a:lnTo>
                  <a:lnTo>
                    <a:pt x="196" y="114"/>
                  </a:lnTo>
                  <a:lnTo>
                    <a:pt x="188" y="83"/>
                  </a:lnTo>
                  <a:lnTo>
                    <a:pt x="178" y="58"/>
                  </a:lnTo>
                  <a:lnTo>
                    <a:pt x="167" y="38"/>
                  </a:lnTo>
                  <a:lnTo>
                    <a:pt x="179" y="53"/>
                  </a:lnTo>
                  <a:lnTo>
                    <a:pt x="189" y="74"/>
                  </a:lnTo>
                  <a:lnTo>
                    <a:pt x="198" y="98"/>
                  </a:lnTo>
                  <a:lnTo>
                    <a:pt x="206" y="127"/>
                  </a:lnTo>
                  <a:lnTo>
                    <a:pt x="213" y="159"/>
                  </a:lnTo>
                  <a:lnTo>
                    <a:pt x="219" y="192"/>
                  </a:lnTo>
                  <a:lnTo>
                    <a:pt x="222" y="228"/>
                  </a:lnTo>
                  <a:lnTo>
                    <a:pt x="225" y="264"/>
                  </a:lnTo>
                  <a:lnTo>
                    <a:pt x="234" y="283"/>
                  </a:lnTo>
                  <a:lnTo>
                    <a:pt x="247" y="315"/>
                  </a:lnTo>
                  <a:lnTo>
                    <a:pt x="263" y="359"/>
                  </a:lnTo>
                  <a:lnTo>
                    <a:pt x="279" y="411"/>
                  </a:lnTo>
                  <a:lnTo>
                    <a:pt x="295" y="469"/>
                  </a:lnTo>
                  <a:lnTo>
                    <a:pt x="309" y="529"/>
                  </a:lnTo>
                  <a:lnTo>
                    <a:pt x="319" y="590"/>
                  </a:lnTo>
                  <a:lnTo>
                    <a:pt x="325" y="650"/>
                  </a:lnTo>
                  <a:lnTo>
                    <a:pt x="333" y="618"/>
                  </a:lnTo>
                  <a:lnTo>
                    <a:pt x="342" y="581"/>
                  </a:lnTo>
                  <a:lnTo>
                    <a:pt x="352" y="539"/>
                  </a:lnTo>
                  <a:lnTo>
                    <a:pt x="358" y="492"/>
                  </a:lnTo>
                  <a:lnTo>
                    <a:pt x="364" y="441"/>
                  </a:lnTo>
                  <a:lnTo>
                    <a:pt x="365" y="387"/>
                  </a:lnTo>
                  <a:lnTo>
                    <a:pt x="363" y="330"/>
                  </a:lnTo>
                  <a:lnTo>
                    <a:pt x="355" y="272"/>
                  </a:lnTo>
                  <a:lnTo>
                    <a:pt x="343" y="217"/>
                  </a:lnTo>
                  <a:lnTo>
                    <a:pt x="332" y="168"/>
                  </a:lnTo>
                  <a:lnTo>
                    <a:pt x="322" y="126"/>
                  </a:lnTo>
                  <a:lnTo>
                    <a:pt x="310" y="90"/>
                  </a:lnTo>
                  <a:lnTo>
                    <a:pt x="300" y="60"/>
                  </a:lnTo>
                  <a:lnTo>
                    <a:pt x="290" y="35"/>
                  </a:lnTo>
                  <a:lnTo>
                    <a:pt x="282" y="15"/>
                  </a:lnTo>
                  <a:lnTo>
                    <a:pt x="274" y="0"/>
                  </a:lnTo>
                  <a:lnTo>
                    <a:pt x="282" y="15"/>
                  </a:lnTo>
                  <a:lnTo>
                    <a:pt x="294" y="39"/>
                  </a:lnTo>
                  <a:lnTo>
                    <a:pt x="309" y="73"/>
                  </a:lnTo>
                  <a:lnTo>
                    <a:pt x="324" y="112"/>
                  </a:lnTo>
                  <a:lnTo>
                    <a:pt x="338" y="156"/>
                  </a:lnTo>
                  <a:lnTo>
                    <a:pt x="350" y="200"/>
                  </a:lnTo>
                  <a:lnTo>
                    <a:pt x="360" y="245"/>
                  </a:lnTo>
                  <a:lnTo>
                    <a:pt x="365" y="289"/>
                  </a:lnTo>
                  <a:lnTo>
                    <a:pt x="376" y="264"/>
                  </a:lnTo>
                  <a:lnTo>
                    <a:pt x="390" y="236"/>
                  </a:lnTo>
                  <a:lnTo>
                    <a:pt x="408" y="206"/>
                  </a:lnTo>
                  <a:lnTo>
                    <a:pt x="426" y="176"/>
                  </a:lnTo>
                  <a:lnTo>
                    <a:pt x="444" y="145"/>
                  </a:lnTo>
                  <a:lnTo>
                    <a:pt x="459" y="116"/>
                  </a:lnTo>
                  <a:lnTo>
                    <a:pt x="468" y="89"/>
                  </a:lnTo>
                  <a:lnTo>
                    <a:pt x="471" y="64"/>
                  </a:lnTo>
                  <a:lnTo>
                    <a:pt x="471" y="87"/>
                  </a:lnTo>
                  <a:lnTo>
                    <a:pt x="462" y="116"/>
                  </a:lnTo>
                  <a:lnTo>
                    <a:pt x="447" y="152"/>
                  </a:lnTo>
                  <a:lnTo>
                    <a:pt x="429" y="190"/>
                  </a:lnTo>
                  <a:lnTo>
                    <a:pt x="409" y="228"/>
                  </a:lnTo>
                  <a:lnTo>
                    <a:pt x="391" y="261"/>
                  </a:lnTo>
                  <a:lnTo>
                    <a:pt x="377" y="290"/>
                  </a:lnTo>
                  <a:lnTo>
                    <a:pt x="371" y="310"/>
                  </a:lnTo>
                  <a:lnTo>
                    <a:pt x="375" y="336"/>
                  </a:lnTo>
                  <a:lnTo>
                    <a:pt x="378" y="364"/>
                  </a:lnTo>
                  <a:lnTo>
                    <a:pt x="381" y="390"/>
                  </a:lnTo>
                  <a:lnTo>
                    <a:pt x="383" y="414"/>
                  </a:lnTo>
                  <a:lnTo>
                    <a:pt x="405" y="393"/>
                  </a:lnTo>
                  <a:lnTo>
                    <a:pt x="428" y="366"/>
                  </a:lnTo>
                  <a:lnTo>
                    <a:pt x="451" y="335"/>
                  </a:lnTo>
                  <a:lnTo>
                    <a:pt x="471" y="299"/>
                  </a:lnTo>
                  <a:lnTo>
                    <a:pt x="489" y="259"/>
                  </a:lnTo>
                  <a:lnTo>
                    <a:pt x="501" y="214"/>
                  </a:lnTo>
                  <a:lnTo>
                    <a:pt x="507" y="164"/>
                  </a:lnTo>
                  <a:lnTo>
                    <a:pt x="504" y="108"/>
                  </a:lnTo>
                  <a:lnTo>
                    <a:pt x="509" y="135"/>
                  </a:lnTo>
                  <a:lnTo>
                    <a:pt x="512" y="172"/>
                  </a:lnTo>
                  <a:lnTo>
                    <a:pt x="508" y="213"/>
                  </a:lnTo>
                  <a:lnTo>
                    <a:pt x="501" y="253"/>
                  </a:lnTo>
                  <a:lnTo>
                    <a:pt x="514" y="242"/>
                  </a:lnTo>
                  <a:lnTo>
                    <a:pt x="525" y="226"/>
                  </a:lnTo>
                  <a:lnTo>
                    <a:pt x="537" y="206"/>
                  </a:lnTo>
                  <a:lnTo>
                    <a:pt x="547" y="185"/>
                  </a:lnTo>
                  <a:lnTo>
                    <a:pt x="555" y="165"/>
                  </a:lnTo>
                  <a:lnTo>
                    <a:pt x="562" y="145"/>
                  </a:lnTo>
                  <a:lnTo>
                    <a:pt x="567" y="129"/>
                  </a:lnTo>
                  <a:lnTo>
                    <a:pt x="569" y="116"/>
                  </a:lnTo>
                  <a:lnTo>
                    <a:pt x="569" y="130"/>
                  </a:lnTo>
                  <a:lnTo>
                    <a:pt x="566" y="149"/>
                  </a:lnTo>
                  <a:lnTo>
                    <a:pt x="561" y="169"/>
                  </a:lnTo>
                  <a:lnTo>
                    <a:pt x="553" y="191"/>
                  </a:lnTo>
                  <a:lnTo>
                    <a:pt x="543" y="214"/>
                  </a:lnTo>
                  <a:lnTo>
                    <a:pt x="529" y="235"/>
                  </a:lnTo>
                  <a:lnTo>
                    <a:pt x="513" y="255"/>
                  </a:lnTo>
                  <a:lnTo>
                    <a:pt x="494" y="269"/>
                  </a:lnTo>
                  <a:lnTo>
                    <a:pt x="489" y="286"/>
                  </a:lnTo>
                  <a:lnTo>
                    <a:pt x="482" y="302"/>
                  </a:lnTo>
                  <a:lnTo>
                    <a:pt x="474" y="319"/>
                  </a:lnTo>
                  <a:lnTo>
                    <a:pt x="466" y="334"/>
                  </a:lnTo>
                  <a:lnTo>
                    <a:pt x="456" y="349"/>
                  </a:lnTo>
                  <a:lnTo>
                    <a:pt x="448" y="362"/>
                  </a:lnTo>
                  <a:lnTo>
                    <a:pt x="439" y="373"/>
                  </a:lnTo>
                  <a:lnTo>
                    <a:pt x="431" y="382"/>
                  </a:lnTo>
                  <a:lnTo>
                    <a:pt x="423" y="390"/>
                  </a:lnTo>
                  <a:lnTo>
                    <a:pt x="415" y="398"/>
                  </a:lnTo>
                  <a:lnTo>
                    <a:pt x="406" y="408"/>
                  </a:lnTo>
                  <a:lnTo>
                    <a:pt x="398" y="421"/>
                  </a:lnTo>
                  <a:lnTo>
                    <a:pt x="390" y="439"/>
                  </a:lnTo>
                  <a:lnTo>
                    <a:pt x="381" y="464"/>
                  </a:lnTo>
                  <a:lnTo>
                    <a:pt x="376" y="496"/>
                  </a:lnTo>
                  <a:lnTo>
                    <a:pt x="370" y="538"/>
                  </a:lnTo>
                  <a:lnTo>
                    <a:pt x="377" y="521"/>
                  </a:lnTo>
                  <a:lnTo>
                    <a:pt x="387" y="503"/>
                  </a:lnTo>
                  <a:lnTo>
                    <a:pt x="399" y="486"/>
                  </a:lnTo>
                  <a:lnTo>
                    <a:pt x="411" y="469"/>
                  </a:lnTo>
                  <a:lnTo>
                    <a:pt x="423" y="454"/>
                  </a:lnTo>
                  <a:lnTo>
                    <a:pt x="434" y="440"/>
                  </a:lnTo>
                  <a:lnTo>
                    <a:pt x="445" y="429"/>
                  </a:lnTo>
                  <a:lnTo>
                    <a:pt x="453" y="422"/>
                  </a:lnTo>
                  <a:lnTo>
                    <a:pt x="463" y="405"/>
                  </a:lnTo>
                  <a:lnTo>
                    <a:pt x="475" y="380"/>
                  </a:lnTo>
                  <a:lnTo>
                    <a:pt x="483" y="358"/>
                  </a:lnTo>
                  <a:lnTo>
                    <a:pt x="486" y="349"/>
                  </a:lnTo>
                  <a:lnTo>
                    <a:pt x="484" y="366"/>
                  </a:lnTo>
                  <a:lnTo>
                    <a:pt x="478" y="388"/>
                  </a:lnTo>
                  <a:lnTo>
                    <a:pt x="471" y="406"/>
                  </a:lnTo>
                  <a:lnTo>
                    <a:pt x="469" y="414"/>
                  </a:lnTo>
                  <a:lnTo>
                    <a:pt x="485" y="406"/>
                  </a:lnTo>
                  <a:lnTo>
                    <a:pt x="502" y="398"/>
                  </a:lnTo>
                  <a:lnTo>
                    <a:pt x="522" y="391"/>
                  </a:lnTo>
                  <a:lnTo>
                    <a:pt x="540" y="387"/>
                  </a:lnTo>
                  <a:lnTo>
                    <a:pt x="560" y="383"/>
                  </a:lnTo>
                  <a:lnTo>
                    <a:pt x="577" y="380"/>
                  </a:lnTo>
                  <a:lnTo>
                    <a:pt x="593" y="380"/>
                  </a:lnTo>
                  <a:lnTo>
                    <a:pt x="607" y="380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186120" y="5884920"/>
              <a:ext cx="961560" cy="411480"/>
            </a:xfrm>
            <a:custGeom>
              <a:avLst/>
              <a:gdLst/>
              <a:ahLst/>
              <a:rect l="l" t="t" r="r" b="b"/>
              <a:pathLst>
                <a:path w="814" h="595">
                  <a:moveTo>
                    <a:pt x="507" y="99"/>
                  </a:moveTo>
                  <a:lnTo>
                    <a:pt x="514" y="74"/>
                  </a:lnTo>
                  <a:lnTo>
                    <a:pt x="510" y="51"/>
                  </a:lnTo>
                  <a:lnTo>
                    <a:pt x="497" y="31"/>
                  </a:lnTo>
                  <a:lnTo>
                    <a:pt x="479" y="15"/>
                  </a:lnTo>
                  <a:lnTo>
                    <a:pt x="455" y="5"/>
                  </a:lnTo>
                  <a:lnTo>
                    <a:pt x="427" y="0"/>
                  </a:lnTo>
                  <a:lnTo>
                    <a:pt x="398" y="3"/>
                  </a:lnTo>
                  <a:lnTo>
                    <a:pt x="371" y="14"/>
                  </a:lnTo>
                  <a:lnTo>
                    <a:pt x="345" y="31"/>
                  </a:lnTo>
                  <a:lnTo>
                    <a:pt x="325" y="51"/>
                  </a:lnTo>
                  <a:lnTo>
                    <a:pt x="309" y="73"/>
                  </a:lnTo>
                  <a:lnTo>
                    <a:pt x="298" y="95"/>
                  </a:lnTo>
                  <a:lnTo>
                    <a:pt x="292" y="119"/>
                  </a:lnTo>
                  <a:lnTo>
                    <a:pt x="292" y="142"/>
                  </a:lnTo>
                  <a:lnTo>
                    <a:pt x="298" y="165"/>
                  </a:lnTo>
                  <a:lnTo>
                    <a:pt x="311" y="188"/>
                  </a:lnTo>
                  <a:lnTo>
                    <a:pt x="302" y="188"/>
                  </a:lnTo>
                  <a:lnTo>
                    <a:pt x="295" y="190"/>
                  </a:lnTo>
                  <a:lnTo>
                    <a:pt x="288" y="191"/>
                  </a:lnTo>
                  <a:lnTo>
                    <a:pt x="282" y="195"/>
                  </a:lnTo>
                  <a:lnTo>
                    <a:pt x="277" y="199"/>
                  </a:lnTo>
                  <a:lnTo>
                    <a:pt x="273" y="204"/>
                  </a:lnTo>
                  <a:lnTo>
                    <a:pt x="270" y="211"/>
                  </a:lnTo>
                  <a:lnTo>
                    <a:pt x="268" y="218"/>
                  </a:lnTo>
                  <a:lnTo>
                    <a:pt x="264" y="204"/>
                  </a:lnTo>
                  <a:lnTo>
                    <a:pt x="261" y="191"/>
                  </a:lnTo>
                  <a:lnTo>
                    <a:pt x="258" y="182"/>
                  </a:lnTo>
                  <a:lnTo>
                    <a:pt x="251" y="175"/>
                  </a:lnTo>
                  <a:lnTo>
                    <a:pt x="269" y="167"/>
                  </a:lnTo>
                  <a:lnTo>
                    <a:pt x="277" y="149"/>
                  </a:lnTo>
                  <a:lnTo>
                    <a:pt x="279" y="126"/>
                  </a:lnTo>
                  <a:lnTo>
                    <a:pt x="270" y="102"/>
                  </a:lnTo>
                  <a:lnTo>
                    <a:pt x="253" y="83"/>
                  </a:lnTo>
                  <a:lnTo>
                    <a:pt x="229" y="73"/>
                  </a:lnTo>
                  <a:lnTo>
                    <a:pt x="197" y="76"/>
                  </a:lnTo>
                  <a:lnTo>
                    <a:pt x="158" y="99"/>
                  </a:lnTo>
                  <a:lnTo>
                    <a:pt x="123" y="131"/>
                  </a:lnTo>
                  <a:lnTo>
                    <a:pt x="103" y="160"/>
                  </a:lnTo>
                  <a:lnTo>
                    <a:pt x="97" y="186"/>
                  </a:lnTo>
                  <a:lnTo>
                    <a:pt x="100" y="206"/>
                  </a:lnTo>
                  <a:lnTo>
                    <a:pt x="112" y="223"/>
                  </a:lnTo>
                  <a:lnTo>
                    <a:pt x="128" y="237"/>
                  </a:lnTo>
                  <a:lnTo>
                    <a:pt x="147" y="245"/>
                  </a:lnTo>
                  <a:lnTo>
                    <a:pt x="167" y="248"/>
                  </a:lnTo>
                  <a:lnTo>
                    <a:pt x="158" y="263"/>
                  </a:lnTo>
                  <a:lnTo>
                    <a:pt x="151" y="280"/>
                  </a:lnTo>
                  <a:lnTo>
                    <a:pt x="146" y="301"/>
                  </a:lnTo>
                  <a:lnTo>
                    <a:pt x="145" y="320"/>
                  </a:lnTo>
                  <a:lnTo>
                    <a:pt x="133" y="271"/>
                  </a:lnTo>
                  <a:lnTo>
                    <a:pt x="115" y="241"/>
                  </a:lnTo>
                  <a:lnTo>
                    <a:pt x="93" y="227"/>
                  </a:lnTo>
                  <a:lnTo>
                    <a:pt x="71" y="228"/>
                  </a:lnTo>
                  <a:lnTo>
                    <a:pt x="53" y="241"/>
                  </a:lnTo>
                  <a:lnTo>
                    <a:pt x="40" y="265"/>
                  </a:lnTo>
                  <a:lnTo>
                    <a:pt x="37" y="297"/>
                  </a:lnTo>
                  <a:lnTo>
                    <a:pt x="47" y="336"/>
                  </a:lnTo>
                  <a:lnTo>
                    <a:pt x="34" y="326"/>
                  </a:lnTo>
                  <a:lnTo>
                    <a:pt x="20" y="325"/>
                  </a:lnTo>
                  <a:lnTo>
                    <a:pt x="8" y="334"/>
                  </a:lnTo>
                  <a:lnTo>
                    <a:pt x="0" y="349"/>
                  </a:lnTo>
                  <a:lnTo>
                    <a:pt x="0" y="372"/>
                  </a:lnTo>
                  <a:lnTo>
                    <a:pt x="11" y="398"/>
                  </a:lnTo>
                  <a:lnTo>
                    <a:pt x="35" y="429"/>
                  </a:lnTo>
                  <a:lnTo>
                    <a:pt x="77" y="464"/>
                  </a:lnTo>
                  <a:lnTo>
                    <a:pt x="71" y="465"/>
                  </a:lnTo>
                  <a:lnTo>
                    <a:pt x="67" y="470"/>
                  </a:lnTo>
                  <a:lnTo>
                    <a:pt x="62" y="477"/>
                  </a:lnTo>
                  <a:lnTo>
                    <a:pt x="59" y="486"/>
                  </a:lnTo>
                  <a:lnTo>
                    <a:pt x="57" y="496"/>
                  </a:lnTo>
                  <a:lnTo>
                    <a:pt x="57" y="509"/>
                  </a:lnTo>
                  <a:lnTo>
                    <a:pt x="61" y="520"/>
                  </a:lnTo>
                  <a:lnTo>
                    <a:pt x="67" y="533"/>
                  </a:lnTo>
                  <a:lnTo>
                    <a:pt x="76" y="546"/>
                  </a:lnTo>
                  <a:lnTo>
                    <a:pt x="88" y="557"/>
                  </a:lnTo>
                  <a:lnTo>
                    <a:pt x="106" y="567"/>
                  </a:lnTo>
                  <a:lnTo>
                    <a:pt x="128" y="577"/>
                  </a:lnTo>
                  <a:lnTo>
                    <a:pt x="154" y="584"/>
                  </a:lnTo>
                  <a:lnTo>
                    <a:pt x="186" y="588"/>
                  </a:lnTo>
                  <a:lnTo>
                    <a:pt x="224" y="589"/>
                  </a:lnTo>
                  <a:lnTo>
                    <a:pt x="268" y="587"/>
                  </a:lnTo>
                  <a:lnTo>
                    <a:pt x="304" y="582"/>
                  </a:lnTo>
                  <a:lnTo>
                    <a:pt x="330" y="577"/>
                  </a:lnTo>
                  <a:lnTo>
                    <a:pt x="349" y="567"/>
                  </a:lnTo>
                  <a:lnTo>
                    <a:pt x="362" y="558"/>
                  </a:lnTo>
                  <a:lnTo>
                    <a:pt x="367" y="547"/>
                  </a:lnTo>
                  <a:lnTo>
                    <a:pt x="370" y="534"/>
                  </a:lnTo>
                  <a:lnTo>
                    <a:pt x="367" y="520"/>
                  </a:lnTo>
                  <a:lnTo>
                    <a:pt x="362" y="507"/>
                  </a:lnTo>
                  <a:lnTo>
                    <a:pt x="375" y="509"/>
                  </a:lnTo>
                  <a:lnTo>
                    <a:pt x="391" y="509"/>
                  </a:lnTo>
                  <a:lnTo>
                    <a:pt x="408" y="508"/>
                  </a:lnTo>
                  <a:lnTo>
                    <a:pt x="425" y="503"/>
                  </a:lnTo>
                  <a:lnTo>
                    <a:pt x="441" y="496"/>
                  </a:lnTo>
                  <a:lnTo>
                    <a:pt x="457" y="486"/>
                  </a:lnTo>
                  <a:lnTo>
                    <a:pt x="470" y="473"/>
                  </a:lnTo>
                  <a:lnTo>
                    <a:pt x="481" y="456"/>
                  </a:lnTo>
                  <a:lnTo>
                    <a:pt x="478" y="467"/>
                  </a:lnTo>
                  <a:lnTo>
                    <a:pt x="476" y="478"/>
                  </a:lnTo>
                  <a:lnTo>
                    <a:pt x="476" y="486"/>
                  </a:lnTo>
                  <a:lnTo>
                    <a:pt x="478" y="493"/>
                  </a:lnTo>
                  <a:lnTo>
                    <a:pt x="482" y="500"/>
                  </a:lnTo>
                  <a:lnTo>
                    <a:pt x="488" y="504"/>
                  </a:lnTo>
                  <a:lnTo>
                    <a:pt x="496" y="510"/>
                  </a:lnTo>
                  <a:lnTo>
                    <a:pt x="507" y="515"/>
                  </a:lnTo>
                  <a:lnTo>
                    <a:pt x="495" y="528"/>
                  </a:lnTo>
                  <a:lnTo>
                    <a:pt x="489" y="541"/>
                  </a:lnTo>
                  <a:lnTo>
                    <a:pt x="492" y="555"/>
                  </a:lnTo>
                  <a:lnTo>
                    <a:pt x="499" y="566"/>
                  </a:lnTo>
                  <a:lnTo>
                    <a:pt x="511" y="578"/>
                  </a:lnTo>
                  <a:lnTo>
                    <a:pt x="527" y="586"/>
                  </a:lnTo>
                  <a:lnTo>
                    <a:pt x="546" y="593"/>
                  </a:lnTo>
                  <a:lnTo>
                    <a:pt x="567" y="595"/>
                  </a:lnTo>
                  <a:lnTo>
                    <a:pt x="600" y="594"/>
                  </a:lnTo>
                  <a:lnTo>
                    <a:pt x="631" y="589"/>
                  </a:lnTo>
                  <a:lnTo>
                    <a:pt x="662" y="580"/>
                  </a:lnTo>
                  <a:lnTo>
                    <a:pt x="691" y="567"/>
                  </a:lnTo>
                  <a:lnTo>
                    <a:pt x="716" y="553"/>
                  </a:lnTo>
                  <a:lnTo>
                    <a:pt x="741" y="534"/>
                  </a:lnTo>
                  <a:lnTo>
                    <a:pt x="762" y="516"/>
                  </a:lnTo>
                  <a:lnTo>
                    <a:pt x="780" y="495"/>
                  </a:lnTo>
                  <a:lnTo>
                    <a:pt x="795" y="474"/>
                  </a:lnTo>
                  <a:lnTo>
                    <a:pt x="805" y="454"/>
                  </a:lnTo>
                  <a:lnTo>
                    <a:pt x="812" y="434"/>
                  </a:lnTo>
                  <a:lnTo>
                    <a:pt x="814" y="416"/>
                  </a:lnTo>
                  <a:lnTo>
                    <a:pt x="811" y="400"/>
                  </a:lnTo>
                  <a:lnTo>
                    <a:pt x="803" y="385"/>
                  </a:lnTo>
                  <a:lnTo>
                    <a:pt x="790" y="374"/>
                  </a:lnTo>
                  <a:lnTo>
                    <a:pt x="771" y="366"/>
                  </a:lnTo>
                  <a:lnTo>
                    <a:pt x="782" y="350"/>
                  </a:lnTo>
                  <a:lnTo>
                    <a:pt x="787" y="328"/>
                  </a:lnTo>
                  <a:lnTo>
                    <a:pt x="785" y="303"/>
                  </a:lnTo>
                  <a:lnTo>
                    <a:pt x="780" y="279"/>
                  </a:lnTo>
                  <a:lnTo>
                    <a:pt x="768" y="259"/>
                  </a:lnTo>
                  <a:lnTo>
                    <a:pt x="754" y="245"/>
                  </a:lnTo>
                  <a:lnTo>
                    <a:pt x="736" y="242"/>
                  </a:lnTo>
                  <a:lnTo>
                    <a:pt x="715" y="252"/>
                  </a:lnTo>
                  <a:lnTo>
                    <a:pt x="708" y="243"/>
                  </a:lnTo>
                  <a:lnTo>
                    <a:pt x="703" y="235"/>
                  </a:lnTo>
                  <a:lnTo>
                    <a:pt x="694" y="228"/>
                  </a:lnTo>
                  <a:lnTo>
                    <a:pt x="688" y="223"/>
                  </a:lnTo>
                  <a:lnTo>
                    <a:pt x="678" y="220"/>
                  </a:lnTo>
                  <a:lnTo>
                    <a:pt x="669" y="219"/>
                  </a:lnTo>
                  <a:lnTo>
                    <a:pt x="659" y="221"/>
                  </a:lnTo>
                  <a:lnTo>
                    <a:pt x="647" y="226"/>
                  </a:lnTo>
                  <a:lnTo>
                    <a:pt x="675" y="210"/>
                  </a:lnTo>
                  <a:lnTo>
                    <a:pt x="692" y="192"/>
                  </a:lnTo>
                  <a:lnTo>
                    <a:pt x="700" y="174"/>
                  </a:lnTo>
                  <a:lnTo>
                    <a:pt x="700" y="158"/>
                  </a:lnTo>
                  <a:lnTo>
                    <a:pt x="692" y="144"/>
                  </a:lnTo>
                  <a:lnTo>
                    <a:pt x="679" y="135"/>
                  </a:lnTo>
                  <a:lnTo>
                    <a:pt x="661" y="133"/>
                  </a:lnTo>
                  <a:lnTo>
                    <a:pt x="638" y="137"/>
                  </a:lnTo>
                  <a:lnTo>
                    <a:pt x="651" y="128"/>
                  </a:lnTo>
                  <a:lnTo>
                    <a:pt x="658" y="118"/>
                  </a:lnTo>
                  <a:lnTo>
                    <a:pt x="661" y="106"/>
                  </a:lnTo>
                  <a:lnTo>
                    <a:pt x="660" y="95"/>
                  </a:lnTo>
                  <a:lnTo>
                    <a:pt x="655" y="84"/>
                  </a:lnTo>
                  <a:lnTo>
                    <a:pt x="648" y="75"/>
                  </a:lnTo>
                  <a:lnTo>
                    <a:pt x="638" y="67"/>
                  </a:lnTo>
                  <a:lnTo>
                    <a:pt x="625" y="60"/>
                  </a:lnTo>
                  <a:lnTo>
                    <a:pt x="612" y="57"/>
                  </a:lnTo>
                  <a:lnTo>
                    <a:pt x="597" y="55"/>
                  </a:lnTo>
                  <a:lnTo>
                    <a:pt x="582" y="58"/>
                  </a:lnTo>
                  <a:lnTo>
                    <a:pt x="565" y="64"/>
                  </a:lnTo>
                  <a:lnTo>
                    <a:pt x="550" y="75"/>
                  </a:lnTo>
                  <a:lnTo>
                    <a:pt x="535" y="90"/>
                  </a:lnTo>
                  <a:lnTo>
                    <a:pt x="523" y="111"/>
                  </a:lnTo>
                  <a:lnTo>
                    <a:pt x="511" y="137"/>
                  </a:lnTo>
                  <a:lnTo>
                    <a:pt x="507" y="99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931320" y="6405480"/>
              <a:ext cx="187920" cy="128160"/>
            </a:xfrm>
            <a:custGeom>
              <a:avLst/>
              <a:gdLst/>
              <a:ahLst/>
              <a:rect l="l" t="t" r="r" b="b"/>
              <a:pathLst>
                <a:path w="160" h="185">
                  <a:moveTo>
                    <a:pt x="88" y="183"/>
                  </a:moveTo>
                  <a:lnTo>
                    <a:pt x="87" y="176"/>
                  </a:lnTo>
                  <a:lnTo>
                    <a:pt x="82" y="167"/>
                  </a:lnTo>
                  <a:lnTo>
                    <a:pt x="76" y="159"/>
                  </a:lnTo>
                  <a:lnTo>
                    <a:pt x="67" y="151"/>
                  </a:lnTo>
                  <a:lnTo>
                    <a:pt x="55" y="144"/>
                  </a:lnTo>
                  <a:lnTo>
                    <a:pt x="40" y="140"/>
                  </a:lnTo>
                  <a:lnTo>
                    <a:pt x="22" y="139"/>
                  </a:lnTo>
                  <a:lnTo>
                    <a:pt x="1" y="143"/>
                  </a:lnTo>
                  <a:lnTo>
                    <a:pt x="5" y="135"/>
                  </a:lnTo>
                  <a:lnTo>
                    <a:pt x="9" y="126"/>
                  </a:lnTo>
                  <a:lnTo>
                    <a:pt x="17" y="120"/>
                  </a:lnTo>
                  <a:lnTo>
                    <a:pt x="27" y="116"/>
                  </a:lnTo>
                  <a:lnTo>
                    <a:pt x="38" y="116"/>
                  </a:lnTo>
                  <a:lnTo>
                    <a:pt x="51" y="122"/>
                  </a:lnTo>
                  <a:lnTo>
                    <a:pt x="65" y="132"/>
                  </a:lnTo>
                  <a:lnTo>
                    <a:pt x="80" y="149"/>
                  </a:lnTo>
                  <a:lnTo>
                    <a:pt x="77" y="141"/>
                  </a:lnTo>
                  <a:lnTo>
                    <a:pt x="75" y="131"/>
                  </a:lnTo>
                  <a:lnTo>
                    <a:pt x="69" y="120"/>
                  </a:lnTo>
                  <a:lnTo>
                    <a:pt x="62" y="109"/>
                  </a:lnTo>
                  <a:lnTo>
                    <a:pt x="52" y="100"/>
                  </a:lnTo>
                  <a:lnTo>
                    <a:pt x="38" y="93"/>
                  </a:lnTo>
                  <a:lnTo>
                    <a:pt x="21" y="91"/>
                  </a:lnTo>
                  <a:lnTo>
                    <a:pt x="0" y="94"/>
                  </a:lnTo>
                  <a:lnTo>
                    <a:pt x="2" y="85"/>
                  </a:lnTo>
                  <a:lnTo>
                    <a:pt x="8" y="77"/>
                  </a:lnTo>
                  <a:lnTo>
                    <a:pt x="19" y="71"/>
                  </a:lnTo>
                  <a:lnTo>
                    <a:pt x="30" y="69"/>
                  </a:lnTo>
                  <a:lnTo>
                    <a:pt x="43" y="71"/>
                  </a:lnTo>
                  <a:lnTo>
                    <a:pt x="55" y="80"/>
                  </a:lnTo>
                  <a:lnTo>
                    <a:pt x="68" y="97"/>
                  </a:lnTo>
                  <a:lnTo>
                    <a:pt x="78" y="123"/>
                  </a:lnTo>
                  <a:lnTo>
                    <a:pt x="76" y="108"/>
                  </a:lnTo>
                  <a:lnTo>
                    <a:pt x="73" y="91"/>
                  </a:lnTo>
                  <a:lnTo>
                    <a:pt x="67" y="75"/>
                  </a:lnTo>
                  <a:lnTo>
                    <a:pt x="60" y="59"/>
                  </a:lnTo>
                  <a:lnTo>
                    <a:pt x="51" y="45"/>
                  </a:lnTo>
                  <a:lnTo>
                    <a:pt x="38" y="33"/>
                  </a:lnTo>
                  <a:lnTo>
                    <a:pt x="24" y="25"/>
                  </a:lnTo>
                  <a:lnTo>
                    <a:pt x="7" y="22"/>
                  </a:lnTo>
                  <a:lnTo>
                    <a:pt x="15" y="16"/>
                  </a:lnTo>
                  <a:lnTo>
                    <a:pt x="24" y="13"/>
                  </a:lnTo>
                  <a:lnTo>
                    <a:pt x="34" y="13"/>
                  </a:lnTo>
                  <a:lnTo>
                    <a:pt x="44" y="16"/>
                  </a:lnTo>
                  <a:lnTo>
                    <a:pt x="54" y="25"/>
                  </a:lnTo>
                  <a:lnTo>
                    <a:pt x="65" y="39"/>
                  </a:lnTo>
                  <a:lnTo>
                    <a:pt x="75" y="61"/>
                  </a:lnTo>
                  <a:lnTo>
                    <a:pt x="84" y="91"/>
                  </a:lnTo>
                  <a:lnTo>
                    <a:pt x="84" y="67"/>
                  </a:lnTo>
                  <a:lnTo>
                    <a:pt x="80" y="41"/>
                  </a:lnTo>
                  <a:lnTo>
                    <a:pt x="73" y="18"/>
                  </a:lnTo>
                  <a:lnTo>
                    <a:pt x="60" y="0"/>
                  </a:lnTo>
                  <a:lnTo>
                    <a:pt x="72" y="3"/>
                  </a:lnTo>
                  <a:lnTo>
                    <a:pt x="82" y="10"/>
                  </a:lnTo>
                  <a:lnTo>
                    <a:pt x="90" y="21"/>
                  </a:lnTo>
                  <a:lnTo>
                    <a:pt x="97" y="33"/>
                  </a:lnTo>
                  <a:lnTo>
                    <a:pt x="100" y="48"/>
                  </a:lnTo>
                  <a:lnTo>
                    <a:pt x="103" y="64"/>
                  </a:lnTo>
                  <a:lnTo>
                    <a:pt x="103" y="83"/>
                  </a:lnTo>
                  <a:lnTo>
                    <a:pt x="99" y="102"/>
                  </a:lnTo>
                  <a:lnTo>
                    <a:pt x="103" y="90"/>
                  </a:lnTo>
                  <a:lnTo>
                    <a:pt x="107" y="77"/>
                  </a:lnTo>
                  <a:lnTo>
                    <a:pt x="112" y="64"/>
                  </a:lnTo>
                  <a:lnTo>
                    <a:pt x="119" y="55"/>
                  </a:lnTo>
                  <a:lnTo>
                    <a:pt x="127" y="47"/>
                  </a:lnTo>
                  <a:lnTo>
                    <a:pt x="136" y="42"/>
                  </a:lnTo>
                  <a:lnTo>
                    <a:pt x="148" y="42"/>
                  </a:lnTo>
                  <a:lnTo>
                    <a:pt x="160" y="46"/>
                  </a:lnTo>
                  <a:lnTo>
                    <a:pt x="150" y="53"/>
                  </a:lnTo>
                  <a:lnTo>
                    <a:pt x="138" y="61"/>
                  </a:lnTo>
                  <a:lnTo>
                    <a:pt x="128" y="70"/>
                  </a:lnTo>
                  <a:lnTo>
                    <a:pt x="119" y="82"/>
                  </a:lnTo>
                  <a:lnTo>
                    <a:pt x="111" y="95"/>
                  </a:lnTo>
                  <a:lnTo>
                    <a:pt x="104" y="111"/>
                  </a:lnTo>
                  <a:lnTo>
                    <a:pt x="99" y="129"/>
                  </a:lnTo>
                  <a:lnTo>
                    <a:pt x="97" y="149"/>
                  </a:lnTo>
                  <a:lnTo>
                    <a:pt x="99" y="139"/>
                  </a:lnTo>
                  <a:lnTo>
                    <a:pt x="105" y="128"/>
                  </a:lnTo>
                  <a:lnTo>
                    <a:pt x="111" y="116"/>
                  </a:lnTo>
                  <a:lnTo>
                    <a:pt x="119" y="106"/>
                  </a:lnTo>
                  <a:lnTo>
                    <a:pt x="128" y="98"/>
                  </a:lnTo>
                  <a:lnTo>
                    <a:pt x="137" y="93"/>
                  </a:lnTo>
                  <a:lnTo>
                    <a:pt x="148" y="94"/>
                  </a:lnTo>
                  <a:lnTo>
                    <a:pt x="157" y="101"/>
                  </a:lnTo>
                  <a:lnTo>
                    <a:pt x="151" y="102"/>
                  </a:lnTo>
                  <a:lnTo>
                    <a:pt x="143" y="107"/>
                  </a:lnTo>
                  <a:lnTo>
                    <a:pt x="134" y="115"/>
                  </a:lnTo>
                  <a:lnTo>
                    <a:pt x="125" y="125"/>
                  </a:lnTo>
                  <a:lnTo>
                    <a:pt x="116" y="137"/>
                  </a:lnTo>
                  <a:lnTo>
                    <a:pt x="110" y="152"/>
                  </a:lnTo>
                  <a:lnTo>
                    <a:pt x="106" y="168"/>
                  </a:lnTo>
                  <a:lnTo>
                    <a:pt x="105" y="185"/>
                  </a:lnTo>
                  <a:lnTo>
                    <a:pt x="88" y="183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615240" y="6455520"/>
              <a:ext cx="110520" cy="68760"/>
            </a:xfrm>
            <a:custGeom>
              <a:avLst/>
              <a:gdLst/>
              <a:ahLst/>
              <a:rect l="l" t="t" r="r" b="b"/>
              <a:pathLst>
                <a:path w="94" h="99">
                  <a:moveTo>
                    <a:pt x="64" y="99"/>
                  </a:moveTo>
                  <a:lnTo>
                    <a:pt x="55" y="82"/>
                  </a:lnTo>
                  <a:lnTo>
                    <a:pt x="66" y="72"/>
                  </a:lnTo>
                  <a:lnTo>
                    <a:pt x="76" y="60"/>
                  </a:lnTo>
                  <a:lnTo>
                    <a:pt x="79" y="48"/>
                  </a:lnTo>
                  <a:lnTo>
                    <a:pt x="77" y="34"/>
                  </a:lnTo>
                  <a:lnTo>
                    <a:pt x="72" y="28"/>
                  </a:lnTo>
                  <a:lnTo>
                    <a:pt x="66" y="23"/>
                  </a:lnTo>
                  <a:lnTo>
                    <a:pt x="58" y="21"/>
                  </a:lnTo>
                  <a:lnTo>
                    <a:pt x="49" y="19"/>
                  </a:lnTo>
                  <a:lnTo>
                    <a:pt x="40" y="19"/>
                  </a:lnTo>
                  <a:lnTo>
                    <a:pt x="31" y="19"/>
                  </a:lnTo>
                  <a:lnTo>
                    <a:pt x="22" y="20"/>
                  </a:lnTo>
                  <a:lnTo>
                    <a:pt x="13" y="21"/>
                  </a:lnTo>
                  <a:lnTo>
                    <a:pt x="4" y="20"/>
                  </a:lnTo>
                  <a:lnTo>
                    <a:pt x="0" y="15"/>
                  </a:lnTo>
                  <a:lnTo>
                    <a:pt x="1" y="8"/>
                  </a:lnTo>
                  <a:lnTo>
                    <a:pt x="9" y="4"/>
                  </a:lnTo>
                  <a:lnTo>
                    <a:pt x="17" y="2"/>
                  </a:lnTo>
                  <a:lnTo>
                    <a:pt x="27" y="0"/>
                  </a:lnTo>
                  <a:lnTo>
                    <a:pt x="40" y="0"/>
                  </a:lnTo>
                  <a:lnTo>
                    <a:pt x="54" y="2"/>
                  </a:lnTo>
                  <a:lnTo>
                    <a:pt x="66" y="5"/>
                  </a:lnTo>
                  <a:lnTo>
                    <a:pt x="78" y="11"/>
                  </a:lnTo>
                  <a:lnTo>
                    <a:pt x="87" y="20"/>
                  </a:lnTo>
                  <a:lnTo>
                    <a:pt x="93" y="33"/>
                  </a:lnTo>
                  <a:lnTo>
                    <a:pt x="94" y="56"/>
                  </a:lnTo>
                  <a:lnTo>
                    <a:pt x="87" y="72"/>
                  </a:lnTo>
                  <a:lnTo>
                    <a:pt x="79" y="80"/>
                  </a:lnTo>
                  <a:lnTo>
                    <a:pt x="76" y="83"/>
                  </a:lnTo>
                  <a:lnTo>
                    <a:pt x="79" y="95"/>
                  </a:lnTo>
                  <a:lnTo>
                    <a:pt x="64" y="99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08" name="" descr=""/>
          <p:cNvPicPr/>
          <p:nvPr/>
        </p:nvPicPr>
        <p:blipFill>
          <a:blip r:embed="rId1"/>
          <a:stretch/>
        </p:blipFill>
        <p:spPr>
          <a:xfrm flipH="1">
            <a:off x="6732360" y="4437000"/>
            <a:ext cx="2313000" cy="2098800"/>
          </a:xfrm>
          <a:prstGeom prst="rect">
            <a:avLst/>
          </a:prstGeom>
          <a:ln w="0">
            <a:noFill/>
          </a:ln>
        </p:spPr>
      </p:pic>
      <p:sp>
        <p:nvSpPr>
          <p:cNvPr id="1009" name=""/>
          <p:cNvSpPr/>
          <p:nvPr/>
        </p:nvSpPr>
        <p:spPr>
          <a:xfrm>
            <a:off x="1868400" y="260280"/>
            <a:ext cx="531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华文彩云"/>
              </a:rPr>
              <a:t>湘教版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黑体"/>
              </a:rPr>
              <a:t>  </a:t>
            </a:r>
            <a:r>
              <a:rPr b="1" lang="zh-CN" sz="4800" spc="-1" strike="noStrike">
                <a:solidFill>
                  <a:srgbClr val="ff00ff"/>
                </a:solidFill>
                <a:latin typeface="Times New Roman"/>
              </a:rPr>
              <a:t>SHUXUE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隶书"/>
              </a:rPr>
              <a:t>七年级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0" name="图片 5285" descr="4_15974_6"/>
          <p:cNvPicPr/>
          <p:nvPr/>
        </p:nvPicPr>
        <p:blipFill>
          <a:blip r:embed="rId2"/>
          <a:stretch/>
        </p:blipFill>
        <p:spPr>
          <a:xfrm>
            <a:off x="6804000" y="189000"/>
            <a:ext cx="1619280" cy="1312920"/>
          </a:xfrm>
          <a:prstGeom prst="rect">
            <a:avLst/>
          </a:prstGeom>
          <a:ln w="0">
            <a:noFill/>
          </a:ln>
        </p:spPr>
      </p:pic>
      <p:pic>
        <p:nvPicPr>
          <p:cNvPr id="1011" name="图片 5285" descr="4_15974_6"/>
          <p:cNvPicPr/>
          <p:nvPr/>
        </p:nvPicPr>
        <p:blipFill>
          <a:blip r:embed="rId3"/>
          <a:stretch/>
        </p:blipFill>
        <p:spPr>
          <a:xfrm>
            <a:off x="395280" y="189000"/>
            <a:ext cx="1619280" cy="1312920"/>
          </a:xfrm>
          <a:prstGeom prst="rect">
            <a:avLst/>
          </a:prstGeom>
          <a:ln w="0">
            <a:noFill/>
          </a:ln>
        </p:spPr>
      </p:pic>
      <p:grpSp>
        <p:nvGrpSpPr>
          <p:cNvPr id="1012" name=""/>
          <p:cNvGrpSpPr/>
          <p:nvPr/>
        </p:nvGrpSpPr>
        <p:grpSpPr>
          <a:xfrm>
            <a:off x="468360" y="2276640"/>
            <a:ext cx="7115040" cy="1998360"/>
            <a:chOff x="468360" y="2276640"/>
            <a:chExt cx="7115040" cy="1998360"/>
          </a:xfrm>
        </p:grpSpPr>
        <p:sp>
          <p:nvSpPr>
            <p:cNvPr id="1013" name=""/>
            <p:cNvSpPr/>
            <p:nvPr/>
          </p:nvSpPr>
          <p:spPr>
            <a:xfrm>
              <a:off x="3348000" y="3645000"/>
              <a:ext cx="411480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——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加减</a:t>
              </a:r>
              <a:r>
                <a:rPr b="1" lang="zh-CN" sz="32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消元法</a:t>
              </a:r>
              <a:r>
                <a:rPr b="1" lang="en-US" sz="32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(</a:t>
              </a:r>
              <a:r>
                <a:rPr b="1" lang="zh-CN" sz="32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一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 txBox="1"/>
            <p:nvPr/>
          </p:nvSpPr>
          <p:spPr>
            <a:xfrm>
              <a:off x="2916000" y="2276640"/>
              <a:ext cx="4667400" cy="1269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375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25560">
                    <a:solidFill>
                      <a:srgbClr val="ff00ff"/>
                    </a:solidFill>
                    <a:miter/>
                  </a:ln>
                  <a:blipFill rotWithShape="0">
                    <a:blip r:embed="rId4"/>
                    <a:srcRect/>
                    <a:tile tx="0" ty="0" sx="100000" sy="100000" algn="ctr"/>
                  </a:blipFill>
                  <a:effectLst>
                    <a:outerShdw dist="40186" dir="1096358" blurRad="0" rotWithShape="0">
                      <a:srgbClr val="808080">
                        <a:alpha val="80000"/>
                      </a:srgbClr>
                    </a:outerShdw>
                  </a:effectLst>
                  <a:latin typeface="微软雅黑"/>
                </a:rPr>
                <a:t>二元一次方程组的解法</a:t>
              </a:r>
              <a:endParaRPr b="1" lang="en-US" sz="1800" spc="1" strike="noStrike">
                <a:ln w="25560">
                  <a:solidFill>
                    <a:srgbClr val="ff00ff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微软雅黑"/>
                <a:ea typeface="微软雅黑"/>
              </a:endParaRPr>
            </a:p>
          </p:txBody>
        </p:sp>
        <p:grpSp>
          <p:nvGrpSpPr>
            <p:cNvPr id="1015" name=""/>
            <p:cNvGrpSpPr/>
            <p:nvPr/>
          </p:nvGrpSpPr>
          <p:grpSpPr>
            <a:xfrm>
              <a:off x="468360" y="2349360"/>
              <a:ext cx="2160360" cy="1387440"/>
              <a:chOff x="468360" y="2349360"/>
              <a:chExt cx="2160360" cy="1387440"/>
            </a:xfrm>
          </p:grpSpPr>
          <p:sp>
            <p:nvSpPr>
              <p:cNvPr id="1016" name=""/>
              <p:cNvSpPr/>
              <p:nvPr/>
            </p:nvSpPr>
            <p:spPr>
              <a:xfrm>
                <a:off x="612720" y="3357360"/>
                <a:ext cx="2016000" cy="379440"/>
              </a:xfrm>
              <a:prstGeom prst="ellipse">
                <a:avLst/>
              </a:prstGeom>
              <a:solidFill>
                <a:srgbClr val="339966"/>
              </a:solidFill>
              <a:ln w="0">
                <a:noFill/>
              </a:ln>
              <a:effectLst>
                <a:outerShdw dist="17819" dir="2700000" blurRad="0" rotWithShape="0">
                  <a:srgbClr val="1e5b3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838080" y="2351160"/>
                <a:ext cx="1641600" cy="1276200"/>
              </a:xfrm>
              <a:custGeom>
                <a:avLst/>
                <a:gdLst/>
                <a:ahLst/>
                <a:rect l="l" t="t" r="r" b="b"/>
                <a:pathLst>
                  <a:path w="10147" h="8394">
                    <a:moveTo>
                      <a:pt x="8563" y="8394"/>
                    </a:moveTo>
                    <a:lnTo>
                      <a:pt x="1584" y="8394"/>
                    </a:lnTo>
                    <a:lnTo>
                      <a:pt x="1503" y="8392"/>
                    </a:lnTo>
                    <a:lnTo>
                      <a:pt x="1422" y="8387"/>
                    </a:lnTo>
                    <a:lnTo>
                      <a:pt x="1344" y="8376"/>
                    </a:lnTo>
                    <a:lnTo>
                      <a:pt x="1266" y="8362"/>
                    </a:lnTo>
                    <a:lnTo>
                      <a:pt x="1190" y="8346"/>
                    </a:lnTo>
                    <a:lnTo>
                      <a:pt x="1114" y="8325"/>
                    </a:lnTo>
                    <a:lnTo>
                      <a:pt x="1038" y="8297"/>
                    </a:lnTo>
                    <a:lnTo>
                      <a:pt x="969" y="8270"/>
                    </a:lnTo>
                    <a:lnTo>
                      <a:pt x="898" y="8238"/>
                    </a:lnTo>
                    <a:lnTo>
                      <a:pt x="828" y="8203"/>
                    </a:lnTo>
                    <a:lnTo>
                      <a:pt x="763" y="8166"/>
                    </a:lnTo>
                    <a:lnTo>
                      <a:pt x="698" y="8125"/>
                    </a:lnTo>
                    <a:lnTo>
                      <a:pt x="636" y="8079"/>
                    </a:lnTo>
                    <a:lnTo>
                      <a:pt x="576" y="8033"/>
                    </a:lnTo>
                    <a:lnTo>
                      <a:pt x="518" y="7982"/>
                    </a:lnTo>
                    <a:lnTo>
                      <a:pt x="463" y="7931"/>
                    </a:lnTo>
                    <a:lnTo>
                      <a:pt x="410" y="7874"/>
                    </a:lnTo>
                    <a:lnTo>
                      <a:pt x="361" y="7817"/>
                    </a:lnTo>
                    <a:lnTo>
                      <a:pt x="315" y="7758"/>
                    </a:lnTo>
                    <a:lnTo>
                      <a:pt x="270" y="7696"/>
                    </a:lnTo>
                    <a:lnTo>
                      <a:pt x="229" y="7631"/>
                    </a:lnTo>
                    <a:lnTo>
                      <a:pt x="191" y="7563"/>
                    </a:lnTo>
                    <a:lnTo>
                      <a:pt x="156" y="7496"/>
                    </a:lnTo>
                    <a:lnTo>
                      <a:pt x="123" y="7426"/>
                    </a:lnTo>
                    <a:lnTo>
                      <a:pt x="94" y="7353"/>
                    </a:lnTo>
                    <a:lnTo>
                      <a:pt x="70" y="7280"/>
                    </a:lnTo>
                    <a:lnTo>
                      <a:pt x="48" y="7205"/>
                    </a:lnTo>
                    <a:lnTo>
                      <a:pt x="32" y="7130"/>
                    </a:lnTo>
                    <a:lnTo>
                      <a:pt x="16" y="7051"/>
                    </a:lnTo>
                    <a:lnTo>
                      <a:pt x="7" y="6971"/>
                    </a:lnTo>
                    <a:lnTo>
                      <a:pt x="0" y="6890"/>
                    </a:lnTo>
                    <a:lnTo>
                      <a:pt x="0" y="6808"/>
                    </a:lnTo>
                    <a:lnTo>
                      <a:pt x="0" y="1586"/>
                    </a:lnTo>
                    <a:lnTo>
                      <a:pt x="0" y="1506"/>
                    </a:lnTo>
                    <a:lnTo>
                      <a:pt x="7" y="1424"/>
                    </a:lnTo>
                    <a:lnTo>
                      <a:pt x="16" y="1346"/>
                    </a:lnTo>
                    <a:lnTo>
                      <a:pt x="32" y="1267"/>
                    </a:lnTo>
                    <a:lnTo>
                      <a:pt x="48" y="1189"/>
                    </a:lnTo>
                    <a:lnTo>
                      <a:pt x="70" y="1117"/>
                    </a:lnTo>
                    <a:lnTo>
                      <a:pt x="94" y="1041"/>
                    </a:lnTo>
                    <a:lnTo>
                      <a:pt x="123" y="971"/>
                    </a:lnTo>
                    <a:lnTo>
                      <a:pt x="156" y="901"/>
                    </a:lnTo>
                    <a:lnTo>
                      <a:pt x="191" y="831"/>
                    </a:lnTo>
                    <a:lnTo>
                      <a:pt x="229" y="766"/>
                    </a:lnTo>
                    <a:lnTo>
                      <a:pt x="270" y="701"/>
                    </a:lnTo>
                    <a:lnTo>
                      <a:pt x="315" y="640"/>
                    </a:lnTo>
                    <a:lnTo>
                      <a:pt x="361" y="578"/>
                    </a:lnTo>
                    <a:lnTo>
                      <a:pt x="410" y="521"/>
                    </a:lnTo>
                    <a:lnTo>
                      <a:pt x="463" y="467"/>
                    </a:lnTo>
                    <a:lnTo>
                      <a:pt x="518" y="413"/>
                    </a:lnTo>
                    <a:lnTo>
                      <a:pt x="576" y="364"/>
                    </a:lnTo>
                    <a:lnTo>
                      <a:pt x="636" y="316"/>
                    </a:lnTo>
                    <a:lnTo>
                      <a:pt x="698" y="272"/>
                    </a:lnTo>
                    <a:lnTo>
                      <a:pt x="763" y="232"/>
                    </a:lnTo>
                    <a:lnTo>
                      <a:pt x="828" y="191"/>
                    </a:lnTo>
                    <a:lnTo>
                      <a:pt x="898" y="157"/>
                    </a:lnTo>
                    <a:lnTo>
                      <a:pt x="969" y="127"/>
                    </a:lnTo>
                    <a:lnTo>
                      <a:pt x="1038" y="97"/>
                    </a:lnTo>
                    <a:lnTo>
                      <a:pt x="1114" y="73"/>
                    </a:lnTo>
                    <a:lnTo>
                      <a:pt x="1190" y="51"/>
                    </a:lnTo>
                    <a:lnTo>
                      <a:pt x="1266" y="32"/>
                    </a:lnTo>
                    <a:lnTo>
                      <a:pt x="1344" y="19"/>
                    </a:lnTo>
                    <a:lnTo>
                      <a:pt x="1422" y="8"/>
                    </a:lnTo>
                    <a:lnTo>
                      <a:pt x="1503" y="3"/>
                    </a:lnTo>
                    <a:lnTo>
                      <a:pt x="1584" y="0"/>
                    </a:lnTo>
                    <a:lnTo>
                      <a:pt x="8563" y="0"/>
                    </a:lnTo>
                    <a:lnTo>
                      <a:pt x="8644" y="3"/>
                    </a:lnTo>
                    <a:lnTo>
                      <a:pt x="8725" y="8"/>
                    </a:lnTo>
                    <a:lnTo>
                      <a:pt x="8803" y="19"/>
                    </a:lnTo>
                    <a:lnTo>
                      <a:pt x="8881" y="32"/>
                    </a:lnTo>
                    <a:lnTo>
                      <a:pt x="8957" y="51"/>
                    </a:lnTo>
                    <a:lnTo>
                      <a:pt x="9033" y="73"/>
                    </a:lnTo>
                    <a:lnTo>
                      <a:pt x="9105" y="97"/>
                    </a:lnTo>
                    <a:lnTo>
                      <a:pt x="9178" y="127"/>
                    </a:lnTo>
                    <a:lnTo>
                      <a:pt x="9248" y="157"/>
                    </a:lnTo>
                    <a:lnTo>
                      <a:pt x="9316" y="191"/>
                    </a:lnTo>
                    <a:lnTo>
                      <a:pt x="9383" y="232"/>
                    </a:lnTo>
                    <a:lnTo>
                      <a:pt x="9448" y="272"/>
                    </a:lnTo>
                    <a:lnTo>
                      <a:pt x="9510" y="316"/>
                    </a:lnTo>
                    <a:lnTo>
                      <a:pt x="9569" y="364"/>
                    </a:lnTo>
                    <a:lnTo>
                      <a:pt x="9629" y="413"/>
                    </a:lnTo>
                    <a:lnTo>
                      <a:pt x="9682" y="467"/>
                    </a:lnTo>
                    <a:lnTo>
                      <a:pt x="9734" y="521"/>
                    </a:lnTo>
                    <a:lnTo>
                      <a:pt x="9785" y="578"/>
                    </a:lnTo>
                    <a:lnTo>
                      <a:pt x="9831" y="640"/>
                    </a:lnTo>
                    <a:lnTo>
                      <a:pt x="9877" y="701"/>
                    </a:lnTo>
                    <a:lnTo>
                      <a:pt x="9917" y="766"/>
                    </a:lnTo>
                    <a:lnTo>
                      <a:pt x="9956" y="831"/>
                    </a:lnTo>
                    <a:lnTo>
                      <a:pt x="9990" y="901"/>
                    </a:lnTo>
                    <a:lnTo>
                      <a:pt x="10023" y="971"/>
                    </a:lnTo>
                    <a:lnTo>
                      <a:pt x="10052" y="1041"/>
                    </a:lnTo>
                    <a:lnTo>
                      <a:pt x="10076" y="1117"/>
                    </a:lnTo>
                    <a:lnTo>
                      <a:pt x="10098" y="1189"/>
                    </a:lnTo>
                    <a:lnTo>
                      <a:pt x="10115" y="1267"/>
                    </a:lnTo>
                    <a:lnTo>
                      <a:pt x="10128" y="1346"/>
                    </a:lnTo>
                    <a:lnTo>
                      <a:pt x="10138" y="1424"/>
                    </a:lnTo>
                    <a:lnTo>
                      <a:pt x="10144" y="1506"/>
                    </a:lnTo>
                    <a:lnTo>
                      <a:pt x="10147" y="1586"/>
                    </a:lnTo>
                    <a:lnTo>
                      <a:pt x="10147" y="6808"/>
                    </a:lnTo>
                    <a:lnTo>
                      <a:pt x="10144" y="6890"/>
                    </a:lnTo>
                    <a:lnTo>
                      <a:pt x="10138" y="6971"/>
                    </a:lnTo>
                    <a:lnTo>
                      <a:pt x="10128" y="7051"/>
                    </a:lnTo>
                    <a:lnTo>
                      <a:pt x="10115" y="7130"/>
                    </a:lnTo>
                    <a:lnTo>
                      <a:pt x="10098" y="7205"/>
                    </a:lnTo>
                    <a:lnTo>
                      <a:pt x="10076" y="7280"/>
                    </a:lnTo>
                    <a:lnTo>
                      <a:pt x="10052" y="7353"/>
                    </a:lnTo>
                    <a:lnTo>
                      <a:pt x="10023" y="7426"/>
                    </a:lnTo>
                    <a:lnTo>
                      <a:pt x="9990" y="7496"/>
                    </a:lnTo>
                    <a:lnTo>
                      <a:pt x="9956" y="7563"/>
                    </a:lnTo>
                    <a:lnTo>
                      <a:pt x="9917" y="7631"/>
                    </a:lnTo>
                    <a:lnTo>
                      <a:pt x="9877" y="7696"/>
                    </a:lnTo>
                    <a:lnTo>
                      <a:pt x="9831" y="7758"/>
                    </a:lnTo>
                    <a:lnTo>
                      <a:pt x="9785" y="7817"/>
                    </a:lnTo>
                    <a:lnTo>
                      <a:pt x="9734" y="7874"/>
                    </a:lnTo>
                    <a:lnTo>
                      <a:pt x="9682" y="7931"/>
                    </a:lnTo>
                    <a:lnTo>
                      <a:pt x="9629" y="7982"/>
                    </a:lnTo>
                    <a:lnTo>
                      <a:pt x="9569" y="8033"/>
                    </a:lnTo>
                    <a:lnTo>
                      <a:pt x="9510" y="8079"/>
                    </a:lnTo>
                    <a:lnTo>
                      <a:pt x="9448" y="8125"/>
                    </a:lnTo>
                    <a:lnTo>
                      <a:pt x="9383" y="8166"/>
                    </a:lnTo>
                    <a:lnTo>
                      <a:pt x="9316" y="8203"/>
                    </a:lnTo>
                    <a:lnTo>
                      <a:pt x="9248" y="8238"/>
                    </a:lnTo>
                    <a:lnTo>
                      <a:pt x="9178" y="8270"/>
                    </a:lnTo>
                    <a:lnTo>
                      <a:pt x="9105" y="8297"/>
                    </a:lnTo>
                    <a:lnTo>
                      <a:pt x="9033" y="8325"/>
                    </a:lnTo>
                    <a:lnTo>
                      <a:pt x="8957" y="8346"/>
                    </a:lnTo>
                    <a:lnTo>
                      <a:pt x="8881" y="8362"/>
                    </a:lnTo>
                    <a:lnTo>
                      <a:pt x="8803" y="8376"/>
                    </a:lnTo>
                    <a:lnTo>
                      <a:pt x="8725" y="8387"/>
                    </a:lnTo>
                    <a:lnTo>
                      <a:pt x="8644" y="8392"/>
                    </a:lnTo>
                    <a:lnTo>
                      <a:pt x="8563" y="8394"/>
                    </a:lnTo>
                    <a:close/>
                  </a:path>
                </a:pathLst>
              </a:custGeom>
              <a:solidFill>
                <a:srgbClr val="773f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836640" y="2349360"/>
                <a:ext cx="1644480" cy="1281240"/>
              </a:xfrm>
              <a:custGeom>
                <a:avLst/>
                <a:gdLst/>
                <a:ahLst/>
                <a:rect l="l" t="t" r="r" b="b"/>
                <a:pathLst>
                  <a:path w="10179" h="8426">
                    <a:moveTo>
                      <a:pt x="8579" y="8410"/>
                    </a:moveTo>
                    <a:lnTo>
                      <a:pt x="8579" y="8394"/>
                    </a:lnTo>
                    <a:lnTo>
                      <a:pt x="1600" y="8394"/>
                    </a:lnTo>
                    <a:lnTo>
                      <a:pt x="1519" y="8392"/>
                    </a:lnTo>
                    <a:lnTo>
                      <a:pt x="1441" y="8387"/>
                    </a:lnTo>
                    <a:lnTo>
                      <a:pt x="1362" y="8376"/>
                    </a:lnTo>
                    <a:lnTo>
                      <a:pt x="1284" y="8362"/>
                    </a:lnTo>
                    <a:lnTo>
                      <a:pt x="1208" y="8346"/>
                    </a:lnTo>
                    <a:lnTo>
                      <a:pt x="1135" y="8324"/>
                    </a:lnTo>
                    <a:lnTo>
                      <a:pt x="1063" y="8300"/>
                    </a:lnTo>
                    <a:lnTo>
                      <a:pt x="990" y="8270"/>
                    </a:lnTo>
                    <a:lnTo>
                      <a:pt x="919" y="8240"/>
                    </a:lnTo>
                    <a:lnTo>
                      <a:pt x="852" y="8205"/>
                    </a:lnTo>
                    <a:lnTo>
                      <a:pt x="787" y="8168"/>
                    </a:lnTo>
                    <a:lnTo>
                      <a:pt x="723" y="8127"/>
                    </a:lnTo>
                    <a:lnTo>
                      <a:pt x="661" y="8081"/>
                    </a:lnTo>
                    <a:lnTo>
                      <a:pt x="604" y="8035"/>
                    </a:lnTo>
                    <a:lnTo>
                      <a:pt x="544" y="7987"/>
                    </a:lnTo>
                    <a:lnTo>
                      <a:pt x="490" y="7936"/>
                    </a:lnTo>
                    <a:lnTo>
                      <a:pt x="439" y="7879"/>
                    </a:lnTo>
                    <a:lnTo>
                      <a:pt x="391" y="7823"/>
                    </a:lnTo>
                    <a:lnTo>
                      <a:pt x="342" y="7763"/>
                    </a:lnTo>
                    <a:lnTo>
                      <a:pt x="299" y="7701"/>
                    </a:lnTo>
                    <a:lnTo>
                      <a:pt x="258" y="7639"/>
                    </a:lnTo>
                    <a:lnTo>
                      <a:pt x="221" y="7572"/>
                    </a:lnTo>
                    <a:lnTo>
                      <a:pt x="185" y="7505"/>
                    </a:lnTo>
                    <a:lnTo>
                      <a:pt x="153" y="7436"/>
                    </a:lnTo>
                    <a:lnTo>
                      <a:pt x="126" y="7364"/>
                    </a:lnTo>
                    <a:lnTo>
                      <a:pt x="102" y="7291"/>
                    </a:lnTo>
                    <a:lnTo>
                      <a:pt x="81" y="7218"/>
                    </a:lnTo>
                    <a:lnTo>
                      <a:pt x="61" y="7139"/>
                    </a:lnTo>
                    <a:lnTo>
                      <a:pt x="48" y="7065"/>
                    </a:lnTo>
                    <a:lnTo>
                      <a:pt x="40" y="6987"/>
                    </a:lnTo>
                    <a:lnTo>
                      <a:pt x="32" y="6906"/>
                    </a:lnTo>
                    <a:lnTo>
                      <a:pt x="32" y="6824"/>
                    </a:lnTo>
                    <a:lnTo>
                      <a:pt x="32" y="1602"/>
                    </a:lnTo>
                    <a:lnTo>
                      <a:pt x="32" y="1522"/>
                    </a:lnTo>
                    <a:lnTo>
                      <a:pt x="40" y="1443"/>
                    </a:lnTo>
                    <a:lnTo>
                      <a:pt x="48" y="1365"/>
                    </a:lnTo>
                    <a:lnTo>
                      <a:pt x="61" y="1287"/>
                    </a:lnTo>
                    <a:lnTo>
                      <a:pt x="81" y="1211"/>
                    </a:lnTo>
                    <a:lnTo>
                      <a:pt x="102" y="1135"/>
                    </a:lnTo>
                    <a:lnTo>
                      <a:pt x="126" y="1062"/>
                    </a:lnTo>
                    <a:lnTo>
                      <a:pt x="153" y="992"/>
                    </a:lnTo>
                    <a:lnTo>
                      <a:pt x="185" y="923"/>
                    </a:lnTo>
                    <a:lnTo>
                      <a:pt x="221" y="855"/>
                    </a:lnTo>
                    <a:lnTo>
                      <a:pt x="258" y="790"/>
                    </a:lnTo>
                    <a:lnTo>
                      <a:pt x="299" y="725"/>
                    </a:lnTo>
                    <a:lnTo>
                      <a:pt x="342" y="663"/>
                    </a:lnTo>
                    <a:lnTo>
                      <a:pt x="391" y="604"/>
                    </a:lnTo>
                    <a:lnTo>
                      <a:pt x="439" y="548"/>
                    </a:lnTo>
                    <a:lnTo>
                      <a:pt x="490" y="493"/>
                    </a:lnTo>
                    <a:lnTo>
                      <a:pt x="544" y="442"/>
                    </a:lnTo>
                    <a:lnTo>
                      <a:pt x="604" y="391"/>
                    </a:lnTo>
                    <a:lnTo>
                      <a:pt x="661" y="345"/>
                    </a:lnTo>
                    <a:lnTo>
                      <a:pt x="723" y="302"/>
                    </a:lnTo>
                    <a:lnTo>
                      <a:pt x="787" y="262"/>
                    </a:lnTo>
                    <a:lnTo>
                      <a:pt x="852" y="224"/>
                    </a:lnTo>
                    <a:lnTo>
                      <a:pt x="919" y="189"/>
                    </a:lnTo>
                    <a:lnTo>
                      <a:pt x="990" y="156"/>
                    </a:lnTo>
                    <a:lnTo>
                      <a:pt x="1063" y="129"/>
                    </a:lnTo>
                    <a:lnTo>
                      <a:pt x="1135" y="105"/>
                    </a:lnTo>
                    <a:lnTo>
                      <a:pt x="1208" y="83"/>
                    </a:lnTo>
                    <a:lnTo>
                      <a:pt x="1284" y="64"/>
                    </a:lnTo>
                    <a:lnTo>
                      <a:pt x="1362" y="51"/>
                    </a:lnTo>
                    <a:lnTo>
                      <a:pt x="1441" y="40"/>
                    </a:lnTo>
                    <a:lnTo>
                      <a:pt x="1519" y="35"/>
                    </a:lnTo>
                    <a:lnTo>
                      <a:pt x="1600" y="32"/>
                    </a:lnTo>
                    <a:lnTo>
                      <a:pt x="8579" y="32"/>
                    </a:lnTo>
                    <a:lnTo>
                      <a:pt x="8657" y="35"/>
                    </a:lnTo>
                    <a:lnTo>
                      <a:pt x="8738" y="40"/>
                    </a:lnTo>
                    <a:lnTo>
                      <a:pt x="8816" y="51"/>
                    </a:lnTo>
                    <a:lnTo>
                      <a:pt x="8895" y="64"/>
                    </a:lnTo>
                    <a:lnTo>
                      <a:pt x="8970" y="83"/>
                    </a:lnTo>
                    <a:lnTo>
                      <a:pt x="9043" y="105"/>
                    </a:lnTo>
                    <a:lnTo>
                      <a:pt x="9116" y="129"/>
                    </a:lnTo>
                    <a:lnTo>
                      <a:pt x="9189" y="156"/>
                    </a:lnTo>
                    <a:lnTo>
                      <a:pt x="9259" y="189"/>
                    </a:lnTo>
                    <a:lnTo>
                      <a:pt x="9326" y="224"/>
                    </a:lnTo>
                    <a:lnTo>
                      <a:pt x="9391" y="262"/>
                    </a:lnTo>
                    <a:lnTo>
                      <a:pt x="9456" y="302"/>
                    </a:lnTo>
                    <a:lnTo>
                      <a:pt x="9516" y="345"/>
                    </a:lnTo>
                    <a:lnTo>
                      <a:pt x="9574" y="391"/>
                    </a:lnTo>
                    <a:lnTo>
                      <a:pt x="9631" y="442"/>
                    </a:lnTo>
                    <a:lnTo>
                      <a:pt x="9688" y="493"/>
                    </a:lnTo>
                    <a:lnTo>
                      <a:pt x="9739" y="548"/>
                    </a:lnTo>
                    <a:lnTo>
                      <a:pt x="9788" y="604"/>
                    </a:lnTo>
                    <a:lnTo>
                      <a:pt x="9836" y="663"/>
                    </a:lnTo>
                    <a:lnTo>
                      <a:pt x="9880" y="725"/>
                    </a:lnTo>
                    <a:lnTo>
                      <a:pt x="9919" y="790"/>
                    </a:lnTo>
                    <a:lnTo>
                      <a:pt x="9958" y="855"/>
                    </a:lnTo>
                    <a:lnTo>
                      <a:pt x="9993" y="923"/>
                    </a:lnTo>
                    <a:lnTo>
                      <a:pt x="10025" y="992"/>
                    </a:lnTo>
                    <a:lnTo>
                      <a:pt x="10052" y="1062"/>
                    </a:lnTo>
                    <a:lnTo>
                      <a:pt x="10076" y="1135"/>
                    </a:lnTo>
                    <a:lnTo>
                      <a:pt x="10098" y="1211"/>
                    </a:lnTo>
                    <a:lnTo>
                      <a:pt x="10114" y="1287"/>
                    </a:lnTo>
                    <a:lnTo>
                      <a:pt x="10131" y="1365"/>
                    </a:lnTo>
                    <a:lnTo>
                      <a:pt x="10138" y="1443"/>
                    </a:lnTo>
                    <a:lnTo>
                      <a:pt x="10147" y="1522"/>
                    </a:lnTo>
                    <a:lnTo>
                      <a:pt x="10147" y="1602"/>
                    </a:lnTo>
                    <a:lnTo>
                      <a:pt x="10147" y="6824"/>
                    </a:lnTo>
                    <a:lnTo>
                      <a:pt x="10147" y="6906"/>
                    </a:lnTo>
                    <a:lnTo>
                      <a:pt x="10138" y="6987"/>
                    </a:lnTo>
                    <a:lnTo>
                      <a:pt x="10131" y="7065"/>
                    </a:lnTo>
                    <a:lnTo>
                      <a:pt x="10114" y="7139"/>
                    </a:lnTo>
                    <a:lnTo>
                      <a:pt x="10098" y="7218"/>
                    </a:lnTo>
                    <a:lnTo>
                      <a:pt x="10076" y="7291"/>
                    </a:lnTo>
                    <a:lnTo>
                      <a:pt x="10052" y="7364"/>
                    </a:lnTo>
                    <a:lnTo>
                      <a:pt x="10025" y="7436"/>
                    </a:lnTo>
                    <a:lnTo>
                      <a:pt x="9993" y="7505"/>
                    </a:lnTo>
                    <a:lnTo>
                      <a:pt x="9958" y="7572"/>
                    </a:lnTo>
                    <a:lnTo>
                      <a:pt x="9919" y="7639"/>
                    </a:lnTo>
                    <a:lnTo>
                      <a:pt x="9880" y="7701"/>
                    </a:lnTo>
                    <a:lnTo>
                      <a:pt x="9836" y="7763"/>
                    </a:lnTo>
                    <a:lnTo>
                      <a:pt x="9788" y="7823"/>
                    </a:lnTo>
                    <a:lnTo>
                      <a:pt x="9739" y="7879"/>
                    </a:lnTo>
                    <a:lnTo>
                      <a:pt x="9688" y="7936"/>
                    </a:lnTo>
                    <a:lnTo>
                      <a:pt x="9631" y="7987"/>
                    </a:lnTo>
                    <a:lnTo>
                      <a:pt x="9574" y="8035"/>
                    </a:lnTo>
                    <a:lnTo>
                      <a:pt x="9516" y="8081"/>
                    </a:lnTo>
                    <a:lnTo>
                      <a:pt x="9456" y="8127"/>
                    </a:lnTo>
                    <a:lnTo>
                      <a:pt x="9391" y="8168"/>
                    </a:lnTo>
                    <a:lnTo>
                      <a:pt x="9326" y="8205"/>
                    </a:lnTo>
                    <a:lnTo>
                      <a:pt x="9259" y="8240"/>
                    </a:lnTo>
                    <a:lnTo>
                      <a:pt x="9189" y="8270"/>
                    </a:lnTo>
                    <a:lnTo>
                      <a:pt x="9116" y="8300"/>
                    </a:lnTo>
                    <a:lnTo>
                      <a:pt x="9043" y="8324"/>
                    </a:lnTo>
                    <a:lnTo>
                      <a:pt x="8970" y="8346"/>
                    </a:lnTo>
                    <a:lnTo>
                      <a:pt x="8895" y="8362"/>
                    </a:lnTo>
                    <a:lnTo>
                      <a:pt x="8816" y="8376"/>
                    </a:lnTo>
                    <a:lnTo>
                      <a:pt x="8738" y="8387"/>
                    </a:lnTo>
                    <a:lnTo>
                      <a:pt x="8657" y="8392"/>
                    </a:lnTo>
                    <a:lnTo>
                      <a:pt x="8579" y="8394"/>
                    </a:lnTo>
                    <a:lnTo>
                      <a:pt x="8579" y="8410"/>
                    </a:lnTo>
                    <a:lnTo>
                      <a:pt x="8579" y="8426"/>
                    </a:lnTo>
                    <a:lnTo>
                      <a:pt x="8660" y="8424"/>
                    </a:lnTo>
                    <a:lnTo>
                      <a:pt x="8741" y="8419"/>
                    </a:lnTo>
                    <a:lnTo>
                      <a:pt x="8821" y="8408"/>
                    </a:lnTo>
                    <a:lnTo>
                      <a:pt x="8900" y="8394"/>
                    </a:lnTo>
                    <a:lnTo>
                      <a:pt x="8978" y="8376"/>
                    </a:lnTo>
                    <a:lnTo>
                      <a:pt x="9054" y="8353"/>
                    </a:lnTo>
                    <a:lnTo>
                      <a:pt x="9127" y="8330"/>
                    </a:lnTo>
                    <a:lnTo>
                      <a:pt x="9199" y="8300"/>
                    </a:lnTo>
                    <a:lnTo>
                      <a:pt x="9272" y="8267"/>
                    </a:lnTo>
                    <a:lnTo>
                      <a:pt x="9339" y="8233"/>
                    </a:lnTo>
                    <a:lnTo>
                      <a:pt x="9408" y="8194"/>
                    </a:lnTo>
                    <a:lnTo>
                      <a:pt x="9472" y="8154"/>
                    </a:lnTo>
                    <a:lnTo>
                      <a:pt x="9537" y="8108"/>
                    </a:lnTo>
                    <a:lnTo>
                      <a:pt x="9596" y="8060"/>
                    </a:lnTo>
                    <a:lnTo>
                      <a:pt x="9655" y="8011"/>
                    </a:lnTo>
                    <a:lnTo>
                      <a:pt x="9709" y="7957"/>
                    </a:lnTo>
                    <a:lnTo>
                      <a:pt x="9763" y="7901"/>
                    </a:lnTo>
                    <a:lnTo>
                      <a:pt x="9815" y="7844"/>
                    </a:lnTo>
                    <a:lnTo>
                      <a:pt x="9861" y="7782"/>
                    </a:lnTo>
                    <a:lnTo>
                      <a:pt x="9907" y="7720"/>
                    </a:lnTo>
                    <a:lnTo>
                      <a:pt x="9947" y="7655"/>
                    </a:lnTo>
                    <a:lnTo>
                      <a:pt x="9988" y="7588"/>
                    </a:lnTo>
                    <a:lnTo>
                      <a:pt x="10022" y="7521"/>
                    </a:lnTo>
                    <a:lnTo>
                      <a:pt x="10055" y="7448"/>
                    </a:lnTo>
                    <a:lnTo>
                      <a:pt x="10082" y="7374"/>
                    </a:lnTo>
                    <a:lnTo>
                      <a:pt x="10108" y="7302"/>
                    </a:lnTo>
                    <a:lnTo>
                      <a:pt x="10131" y="7226"/>
                    </a:lnTo>
                    <a:lnTo>
                      <a:pt x="10147" y="7148"/>
                    </a:lnTo>
                    <a:lnTo>
                      <a:pt x="10160" y="7070"/>
                    </a:lnTo>
                    <a:lnTo>
                      <a:pt x="10170" y="6989"/>
                    </a:lnTo>
                    <a:lnTo>
                      <a:pt x="10179" y="6908"/>
                    </a:lnTo>
                    <a:lnTo>
                      <a:pt x="10179" y="6824"/>
                    </a:lnTo>
                    <a:lnTo>
                      <a:pt x="10179" y="1602"/>
                    </a:lnTo>
                    <a:lnTo>
                      <a:pt x="10179" y="1522"/>
                    </a:lnTo>
                    <a:lnTo>
                      <a:pt x="10170" y="1440"/>
                    </a:lnTo>
                    <a:lnTo>
                      <a:pt x="10160" y="1359"/>
                    </a:lnTo>
                    <a:lnTo>
                      <a:pt x="10147" y="1281"/>
                    </a:lnTo>
                    <a:lnTo>
                      <a:pt x="10131" y="1202"/>
                    </a:lnTo>
                    <a:lnTo>
                      <a:pt x="10108" y="1128"/>
                    </a:lnTo>
                    <a:lnTo>
                      <a:pt x="10082" y="1052"/>
                    </a:lnTo>
                    <a:lnTo>
                      <a:pt x="10055" y="979"/>
                    </a:lnTo>
                    <a:lnTo>
                      <a:pt x="10022" y="909"/>
                    </a:lnTo>
                    <a:lnTo>
                      <a:pt x="9988" y="838"/>
                    </a:lnTo>
                    <a:lnTo>
                      <a:pt x="9947" y="771"/>
                    </a:lnTo>
                    <a:lnTo>
                      <a:pt x="9907" y="707"/>
                    </a:lnTo>
                    <a:lnTo>
                      <a:pt x="9861" y="645"/>
                    </a:lnTo>
                    <a:lnTo>
                      <a:pt x="9815" y="585"/>
                    </a:lnTo>
                    <a:lnTo>
                      <a:pt x="9763" y="525"/>
                    </a:lnTo>
                    <a:lnTo>
                      <a:pt x="9709" y="469"/>
                    </a:lnTo>
                    <a:lnTo>
                      <a:pt x="9655" y="417"/>
                    </a:lnTo>
                    <a:lnTo>
                      <a:pt x="9596" y="366"/>
                    </a:lnTo>
                    <a:lnTo>
                      <a:pt x="9537" y="318"/>
                    </a:lnTo>
                    <a:lnTo>
                      <a:pt x="9472" y="275"/>
                    </a:lnTo>
                    <a:lnTo>
                      <a:pt x="9408" y="232"/>
                    </a:lnTo>
                    <a:lnTo>
                      <a:pt x="9339" y="194"/>
                    </a:lnTo>
                    <a:lnTo>
                      <a:pt x="9272" y="159"/>
                    </a:lnTo>
                    <a:lnTo>
                      <a:pt x="9199" y="127"/>
                    </a:lnTo>
                    <a:lnTo>
                      <a:pt x="9127" y="97"/>
                    </a:lnTo>
                    <a:lnTo>
                      <a:pt x="9054" y="73"/>
                    </a:lnTo>
                    <a:lnTo>
                      <a:pt x="8978" y="51"/>
                    </a:lnTo>
                    <a:lnTo>
                      <a:pt x="8900" y="32"/>
                    </a:lnTo>
                    <a:lnTo>
                      <a:pt x="8821" y="19"/>
                    </a:lnTo>
                    <a:lnTo>
                      <a:pt x="8741" y="7"/>
                    </a:lnTo>
                    <a:lnTo>
                      <a:pt x="8660" y="2"/>
                    </a:lnTo>
                    <a:lnTo>
                      <a:pt x="8579" y="0"/>
                    </a:lnTo>
                    <a:lnTo>
                      <a:pt x="1600" y="0"/>
                    </a:lnTo>
                    <a:lnTo>
                      <a:pt x="1519" y="2"/>
                    </a:lnTo>
                    <a:lnTo>
                      <a:pt x="1438" y="7"/>
                    </a:lnTo>
                    <a:lnTo>
                      <a:pt x="1356" y="19"/>
                    </a:lnTo>
                    <a:lnTo>
                      <a:pt x="1278" y="32"/>
                    </a:lnTo>
                    <a:lnTo>
                      <a:pt x="1200" y="51"/>
                    </a:lnTo>
                    <a:lnTo>
                      <a:pt x="1125" y="73"/>
                    </a:lnTo>
                    <a:lnTo>
                      <a:pt x="1049" y="97"/>
                    </a:lnTo>
                    <a:lnTo>
                      <a:pt x="976" y="127"/>
                    </a:lnTo>
                    <a:lnTo>
                      <a:pt x="906" y="159"/>
                    </a:lnTo>
                    <a:lnTo>
                      <a:pt x="838" y="194"/>
                    </a:lnTo>
                    <a:lnTo>
                      <a:pt x="771" y="232"/>
                    </a:lnTo>
                    <a:lnTo>
                      <a:pt x="707" y="275"/>
                    </a:lnTo>
                    <a:lnTo>
                      <a:pt x="642" y="318"/>
                    </a:lnTo>
                    <a:lnTo>
                      <a:pt x="582" y="366"/>
                    </a:lnTo>
                    <a:lnTo>
                      <a:pt x="523" y="417"/>
                    </a:lnTo>
                    <a:lnTo>
                      <a:pt x="469" y="469"/>
                    </a:lnTo>
                    <a:lnTo>
                      <a:pt x="415" y="525"/>
                    </a:lnTo>
                    <a:lnTo>
                      <a:pt x="364" y="585"/>
                    </a:lnTo>
                    <a:lnTo>
                      <a:pt x="318" y="645"/>
                    </a:lnTo>
                    <a:lnTo>
                      <a:pt x="272" y="707"/>
                    </a:lnTo>
                    <a:lnTo>
                      <a:pt x="231" y="771"/>
                    </a:lnTo>
                    <a:lnTo>
                      <a:pt x="191" y="838"/>
                    </a:lnTo>
                    <a:lnTo>
                      <a:pt x="156" y="909"/>
                    </a:lnTo>
                    <a:lnTo>
                      <a:pt x="123" y="979"/>
                    </a:lnTo>
                    <a:lnTo>
                      <a:pt x="97" y="1052"/>
                    </a:lnTo>
                    <a:lnTo>
                      <a:pt x="69" y="1128"/>
                    </a:lnTo>
                    <a:lnTo>
                      <a:pt x="48" y="1202"/>
                    </a:lnTo>
                    <a:lnTo>
                      <a:pt x="32" y="1281"/>
                    </a:lnTo>
                    <a:lnTo>
                      <a:pt x="16" y="1359"/>
                    </a:lnTo>
                    <a:lnTo>
                      <a:pt x="7" y="1440"/>
                    </a:lnTo>
                    <a:lnTo>
                      <a:pt x="0" y="1522"/>
                    </a:lnTo>
                    <a:lnTo>
                      <a:pt x="0" y="1602"/>
                    </a:lnTo>
                    <a:lnTo>
                      <a:pt x="0" y="6824"/>
                    </a:lnTo>
                    <a:lnTo>
                      <a:pt x="0" y="6908"/>
                    </a:lnTo>
                    <a:lnTo>
                      <a:pt x="7" y="6989"/>
                    </a:lnTo>
                    <a:lnTo>
                      <a:pt x="16" y="7070"/>
                    </a:lnTo>
                    <a:lnTo>
                      <a:pt x="32" y="7148"/>
                    </a:lnTo>
                    <a:lnTo>
                      <a:pt x="48" y="7226"/>
                    </a:lnTo>
                    <a:lnTo>
                      <a:pt x="69" y="7302"/>
                    </a:lnTo>
                    <a:lnTo>
                      <a:pt x="97" y="7374"/>
                    </a:lnTo>
                    <a:lnTo>
                      <a:pt x="123" y="7448"/>
                    </a:lnTo>
                    <a:lnTo>
                      <a:pt x="156" y="7521"/>
                    </a:lnTo>
                    <a:lnTo>
                      <a:pt x="191" y="7588"/>
                    </a:lnTo>
                    <a:lnTo>
                      <a:pt x="231" y="7655"/>
                    </a:lnTo>
                    <a:lnTo>
                      <a:pt x="272" y="7720"/>
                    </a:lnTo>
                    <a:lnTo>
                      <a:pt x="318" y="7782"/>
                    </a:lnTo>
                    <a:lnTo>
                      <a:pt x="364" y="7844"/>
                    </a:lnTo>
                    <a:lnTo>
                      <a:pt x="415" y="7901"/>
                    </a:lnTo>
                    <a:lnTo>
                      <a:pt x="469" y="7957"/>
                    </a:lnTo>
                    <a:lnTo>
                      <a:pt x="523" y="8011"/>
                    </a:lnTo>
                    <a:lnTo>
                      <a:pt x="582" y="8060"/>
                    </a:lnTo>
                    <a:lnTo>
                      <a:pt x="642" y="8108"/>
                    </a:lnTo>
                    <a:lnTo>
                      <a:pt x="707" y="8154"/>
                    </a:lnTo>
                    <a:lnTo>
                      <a:pt x="771" y="8194"/>
                    </a:lnTo>
                    <a:lnTo>
                      <a:pt x="838" y="8233"/>
                    </a:lnTo>
                    <a:lnTo>
                      <a:pt x="906" y="8267"/>
                    </a:lnTo>
                    <a:lnTo>
                      <a:pt x="976" y="8300"/>
                    </a:lnTo>
                    <a:lnTo>
                      <a:pt x="1049" y="8330"/>
                    </a:lnTo>
                    <a:lnTo>
                      <a:pt x="1125" y="8353"/>
                    </a:lnTo>
                    <a:lnTo>
                      <a:pt x="1200" y="8376"/>
                    </a:lnTo>
                    <a:lnTo>
                      <a:pt x="1278" y="8394"/>
                    </a:lnTo>
                    <a:lnTo>
                      <a:pt x="1356" y="8408"/>
                    </a:lnTo>
                    <a:lnTo>
                      <a:pt x="1438" y="8419"/>
                    </a:lnTo>
                    <a:lnTo>
                      <a:pt x="1519" y="8424"/>
                    </a:lnTo>
                    <a:lnTo>
                      <a:pt x="1600" y="8426"/>
                    </a:lnTo>
                    <a:lnTo>
                      <a:pt x="8579" y="8426"/>
                    </a:lnTo>
                    <a:lnTo>
                      <a:pt x="8579" y="8410"/>
                    </a:lnTo>
                    <a:close/>
                  </a:path>
                </a:pathLst>
              </a:custGeom>
              <a:solidFill>
                <a:srgbClr val="773f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809640" y="2351160"/>
                <a:ext cx="1670040" cy="1303200"/>
              </a:xfrm>
              <a:custGeom>
                <a:avLst/>
                <a:gdLst/>
                <a:ahLst/>
                <a:rect l="l" t="t" r="r" b="b"/>
                <a:pathLst>
                  <a:path w="10323" h="8570">
                    <a:moveTo>
                      <a:pt x="8709" y="8570"/>
                    </a:moveTo>
                    <a:lnTo>
                      <a:pt x="1614" y="8570"/>
                    </a:lnTo>
                    <a:lnTo>
                      <a:pt x="1530" y="8567"/>
                    </a:lnTo>
                    <a:lnTo>
                      <a:pt x="1449" y="8562"/>
                    </a:lnTo>
                    <a:lnTo>
                      <a:pt x="1368" y="8551"/>
                    </a:lnTo>
                    <a:lnTo>
                      <a:pt x="1288" y="8537"/>
                    </a:lnTo>
                    <a:lnTo>
                      <a:pt x="1212" y="8519"/>
                    </a:lnTo>
                    <a:lnTo>
                      <a:pt x="1134" y="8497"/>
                    </a:lnTo>
                    <a:lnTo>
                      <a:pt x="1058" y="8470"/>
                    </a:lnTo>
                    <a:lnTo>
                      <a:pt x="985" y="8443"/>
                    </a:lnTo>
                    <a:lnTo>
                      <a:pt x="915" y="8410"/>
                    </a:lnTo>
                    <a:lnTo>
                      <a:pt x="844" y="8373"/>
                    </a:lnTo>
                    <a:lnTo>
                      <a:pt x="777" y="8335"/>
                    </a:lnTo>
                    <a:lnTo>
                      <a:pt x="713" y="8292"/>
                    </a:lnTo>
                    <a:lnTo>
                      <a:pt x="648" y="8246"/>
                    </a:lnTo>
                    <a:lnTo>
                      <a:pt x="588" y="8200"/>
                    </a:lnTo>
                    <a:lnTo>
                      <a:pt x="529" y="8148"/>
                    </a:lnTo>
                    <a:lnTo>
                      <a:pt x="473" y="8095"/>
                    </a:lnTo>
                    <a:lnTo>
                      <a:pt x="418" y="8038"/>
                    </a:lnTo>
                    <a:lnTo>
                      <a:pt x="370" y="7979"/>
                    </a:lnTo>
                    <a:lnTo>
                      <a:pt x="321" y="7920"/>
                    </a:lnTo>
                    <a:lnTo>
                      <a:pt x="275" y="7855"/>
                    </a:lnTo>
                    <a:lnTo>
                      <a:pt x="234" y="7791"/>
                    </a:lnTo>
                    <a:lnTo>
                      <a:pt x="195" y="7720"/>
                    </a:lnTo>
                    <a:lnTo>
                      <a:pt x="160" y="7653"/>
                    </a:lnTo>
                    <a:lnTo>
                      <a:pt x="126" y="7579"/>
                    </a:lnTo>
                    <a:lnTo>
                      <a:pt x="98" y="7507"/>
                    </a:lnTo>
                    <a:lnTo>
                      <a:pt x="73" y="7432"/>
                    </a:lnTo>
                    <a:lnTo>
                      <a:pt x="52" y="7353"/>
                    </a:lnTo>
                    <a:lnTo>
                      <a:pt x="32" y="7275"/>
                    </a:lnTo>
                    <a:lnTo>
                      <a:pt x="18" y="7197"/>
                    </a:lnTo>
                    <a:lnTo>
                      <a:pt x="8" y="7116"/>
                    </a:lnTo>
                    <a:lnTo>
                      <a:pt x="2" y="7033"/>
                    </a:lnTo>
                    <a:lnTo>
                      <a:pt x="0" y="6951"/>
                    </a:lnTo>
                    <a:lnTo>
                      <a:pt x="0" y="1619"/>
                    </a:lnTo>
                    <a:lnTo>
                      <a:pt x="2" y="1538"/>
                    </a:lnTo>
                    <a:lnTo>
                      <a:pt x="8" y="1454"/>
                    </a:lnTo>
                    <a:lnTo>
                      <a:pt x="18" y="1373"/>
                    </a:lnTo>
                    <a:lnTo>
                      <a:pt x="32" y="1295"/>
                    </a:lnTo>
                    <a:lnTo>
                      <a:pt x="52" y="1216"/>
                    </a:lnTo>
                    <a:lnTo>
                      <a:pt x="73" y="1138"/>
                    </a:lnTo>
                    <a:lnTo>
                      <a:pt x="98" y="1062"/>
                    </a:lnTo>
                    <a:lnTo>
                      <a:pt x="126" y="990"/>
                    </a:lnTo>
                    <a:lnTo>
                      <a:pt x="160" y="917"/>
                    </a:lnTo>
                    <a:lnTo>
                      <a:pt x="195" y="850"/>
                    </a:lnTo>
                    <a:lnTo>
                      <a:pt x="234" y="779"/>
                    </a:lnTo>
                    <a:lnTo>
                      <a:pt x="275" y="714"/>
                    </a:lnTo>
                    <a:lnTo>
                      <a:pt x="321" y="652"/>
                    </a:lnTo>
                    <a:lnTo>
                      <a:pt x="370" y="590"/>
                    </a:lnTo>
                    <a:lnTo>
                      <a:pt x="418" y="532"/>
                    </a:lnTo>
                    <a:lnTo>
                      <a:pt x="473" y="475"/>
                    </a:lnTo>
                    <a:lnTo>
                      <a:pt x="529" y="421"/>
                    </a:lnTo>
                    <a:lnTo>
                      <a:pt x="588" y="369"/>
                    </a:lnTo>
                    <a:lnTo>
                      <a:pt x="648" y="323"/>
                    </a:lnTo>
                    <a:lnTo>
                      <a:pt x="713" y="278"/>
                    </a:lnTo>
                    <a:lnTo>
                      <a:pt x="777" y="235"/>
                    </a:lnTo>
                    <a:lnTo>
                      <a:pt x="844" y="196"/>
                    </a:lnTo>
                    <a:lnTo>
                      <a:pt x="915" y="162"/>
                    </a:lnTo>
                    <a:lnTo>
                      <a:pt x="985" y="129"/>
                    </a:lnTo>
                    <a:lnTo>
                      <a:pt x="1058" y="99"/>
                    </a:lnTo>
                    <a:lnTo>
                      <a:pt x="1134" y="73"/>
                    </a:lnTo>
                    <a:lnTo>
                      <a:pt x="1212" y="51"/>
                    </a:lnTo>
                    <a:lnTo>
                      <a:pt x="1288" y="35"/>
                    </a:lnTo>
                    <a:lnTo>
                      <a:pt x="1368" y="19"/>
                    </a:lnTo>
                    <a:lnTo>
                      <a:pt x="1449" y="8"/>
                    </a:lnTo>
                    <a:lnTo>
                      <a:pt x="1530" y="3"/>
                    </a:lnTo>
                    <a:lnTo>
                      <a:pt x="1614" y="0"/>
                    </a:lnTo>
                    <a:lnTo>
                      <a:pt x="8709" y="0"/>
                    </a:lnTo>
                    <a:lnTo>
                      <a:pt x="8793" y="3"/>
                    </a:lnTo>
                    <a:lnTo>
                      <a:pt x="8873" y="8"/>
                    </a:lnTo>
                    <a:lnTo>
                      <a:pt x="8954" y="19"/>
                    </a:lnTo>
                    <a:lnTo>
                      <a:pt x="9036" y="35"/>
                    </a:lnTo>
                    <a:lnTo>
                      <a:pt x="9114" y="51"/>
                    </a:lnTo>
                    <a:lnTo>
                      <a:pt x="9189" y="73"/>
                    </a:lnTo>
                    <a:lnTo>
                      <a:pt x="9265" y="99"/>
                    </a:lnTo>
                    <a:lnTo>
                      <a:pt x="9338" y="129"/>
                    </a:lnTo>
                    <a:lnTo>
                      <a:pt x="9408" y="162"/>
                    </a:lnTo>
                    <a:lnTo>
                      <a:pt x="9478" y="196"/>
                    </a:lnTo>
                    <a:lnTo>
                      <a:pt x="9545" y="235"/>
                    </a:lnTo>
                    <a:lnTo>
                      <a:pt x="9610" y="278"/>
                    </a:lnTo>
                    <a:lnTo>
                      <a:pt x="9676" y="323"/>
                    </a:lnTo>
                    <a:lnTo>
                      <a:pt x="9734" y="369"/>
                    </a:lnTo>
                    <a:lnTo>
                      <a:pt x="9794" y="421"/>
                    </a:lnTo>
                    <a:lnTo>
                      <a:pt x="9851" y="475"/>
                    </a:lnTo>
                    <a:lnTo>
                      <a:pt x="9904" y="532"/>
                    </a:lnTo>
                    <a:lnTo>
                      <a:pt x="9955" y="590"/>
                    </a:lnTo>
                    <a:lnTo>
                      <a:pt x="10001" y="652"/>
                    </a:lnTo>
                    <a:lnTo>
                      <a:pt x="10047" y="714"/>
                    </a:lnTo>
                    <a:lnTo>
                      <a:pt x="10091" y="779"/>
                    </a:lnTo>
                    <a:lnTo>
                      <a:pt x="10129" y="850"/>
                    </a:lnTo>
                    <a:lnTo>
                      <a:pt x="10164" y="917"/>
                    </a:lnTo>
                    <a:lnTo>
                      <a:pt x="10196" y="990"/>
                    </a:lnTo>
                    <a:lnTo>
                      <a:pt x="10226" y="1062"/>
                    </a:lnTo>
                    <a:lnTo>
                      <a:pt x="10250" y="1138"/>
                    </a:lnTo>
                    <a:lnTo>
                      <a:pt x="10272" y="1216"/>
                    </a:lnTo>
                    <a:lnTo>
                      <a:pt x="10291" y="1295"/>
                    </a:lnTo>
                    <a:lnTo>
                      <a:pt x="10304" y="1373"/>
                    </a:lnTo>
                    <a:lnTo>
                      <a:pt x="10314" y="1454"/>
                    </a:lnTo>
                    <a:lnTo>
                      <a:pt x="10320" y="1538"/>
                    </a:lnTo>
                    <a:lnTo>
                      <a:pt x="10323" y="1619"/>
                    </a:lnTo>
                    <a:lnTo>
                      <a:pt x="10323" y="6951"/>
                    </a:lnTo>
                    <a:lnTo>
                      <a:pt x="10320" y="7033"/>
                    </a:lnTo>
                    <a:lnTo>
                      <a:pt x="10314" y="7116"/>
                    </a:lnTo>
                    <a:lnTo>
                      <a:pt x="10304" y="7197"/>
                    </a:lnTo>
                    <a:lnTo>
                      <a:pt x="10291" y="7275"/>
                    </a:lnTo>
                    <a:lnTo>
                      <a:pt x="10272" y="7353"/>
                    </a:lnTo>
                    <a:lnTo>
                      <a:pt x="10250" y="7432"/>
                    </a:lnTo>
                    <a:lnTo>
                      <a:pt x="10226" y="7507"/>
                    </a:lnTo>
                    <a:lnTo>
                      <a:pt x="10196" y="7579"/>
                    </a:lnTo>
                    <a:lnTo>
                      <a:pt x="10164" y="7653"/>
                    </a:lnTo>
                    <a:lnTo>
                      <a:pt x="10129" y="7720"/>
                    </a:lnTo>
                    <a:lnTo>
                      <a:pt x="10091" y="7791"/>
                    </a:lnTo>
                    <a:lnTo>
                      <a:pt x="10047" y="7855"/>
                    </a:lnTo>
                    <a:lnTo>
                      <a:pt x="10001" y="7920"/>
                    </a:lnTo>
                    <a:lnTo>
                      <a:pt x="9955" y="7979"/>
                    </a:lnTo>
                    <a:lnTo>
                      <a:pt x="9904" y="8038"/>
                    </a:lnTo>
                    <a:lnTo>
                      <a:pt x="9851" y="8095"/>
                    </a:lnTo>
                    <a:lnTo>
                      <a:pt x="9794" y="8148"/>
                    </a:lnTo>
                    <a:lnTo>
                      <a:pt x="9734" y="8200"/>
                    </a:lnTo>
                    <a:lnTo>
                      <a:pt x="9676" y="8246"/>
                    </a:lnTo>
                    <a:lnTo>
                      <a:pt x="9610" y="8292"/>
                    </a:lnTo>
                    <a:lnTo>
                      <a:pt x="9545" y="8335"/>
                    </a:lnTo>
                    <a:lnTo>
                      <a:pt x="9478" y="8373"/>
                    </a:lnTo>
                    <a:lnTo>
                      <a:pt x="9408" y="8410"/>
                    </a:lnTo>
                    <a:lnTo>
                      <a:pt x="9338" y="8443"/>
                    </a:lnTo>
                    <a:lnTo>
                      <a:pt x="9265" y="8470"/>
                    </a:lnTo>
                    <a:lnTo>
                      <a:pt x="9189" y="8497"/>
                    </a:lnTo>
                    <a:lnTo>
                      <a:pt x="9114" y="8519"/>
                    </a:lnTo>
                    <a:lnTo>
                      <a:pt x="9036" y="8537"/>
                    </a:lnTo>
                    <a:lnTo>
                      <a:pt x="8954" y="8551"/>
                    </a:lnTo>
                    <a:lnTo>
                      <a:pt x="8873" y="8562"/>
                    </a:lnTo>
                    <a:lnTo>
                      <a:pt x="8793" y="8567"/>
                    </a:lnTo>
                    <a:lnTo>
                      <a:pt x="8709" y="8570"/>
                    </a:lnTo>
                    <a:close/>
                  </a:path>
                </a:pathLst>
              </a:custGeom>
              <a:solidFill>
                <a:srgbClr val="cdcd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838080" y="2351160"/>
                <a:ext cx="1641600" cy="1276200"/>
              </a:xfrm>
              <a:custGeom>
                <a:avLst/>
                <a:gdLst/>
                <a:ahLst/>
                <a:rect l="l" t="t" r="r" b="b"/>
                <a:pathLst>
                  <a:path w="10147" h="8394">
                    <a:moveTo>
                      <a:pt x="8563" y="8394"/>
                    </a:moveTo>
                    <a:lnTo>
                      <a:pt x="1584" y="8394"/>
                    </a:lnTo>
                    <a:lnTo>
                      <a:pt x="1503" y="8392"/>
                    </a:lnTo>
                    <a:lnTo>
                      <a:pt x="1422" y="8387"/>
                    </a:lnTo>
                    <a:lnTo>
                      <a:pt x="1344" y="8376"/>
                    </a:lnTo>
                    <a:lnTo>
                      <a:pt x="1266" y="8362"/>
                    </a:lnTo>
                    <a:lnTo>
                      <a:pt x="1190" y="8346"/>
                    </a:lnTo>
                    <a:lnTo>
                      <a:pt x="1114" y="8325"/>
                    </a:lnTo>
                    <a:lnTo>
                      <a:pt x="1038" y="8297"/>
                    </a:lnTo>
                    <a:lnTo>
                      <a:pt x="969" y="8270"/>
                    </a:lnTo>
                    <a:lnTo>
                      <a:pt x="898" y="8238"/>
                    </a:lnTo>
                    <a:lnTo>
                      <a:pt x="828" y="8203"/>
                    </a:lnTo>
                    <a:lnTo>
                      <a:pt x="763" y="8166"/>
                    </a:lnTo>
                    <a:lnTo>
                      <a:pt x="698" y="8125"/>
                    </a:lnTo>
                    <a:lnTo>
                      <a:pt x="636" y="8079"/>
                    </a:lnTo>
                    <a:lnTo>
                      <a:pt x="576" y="8033"/>
                    </a:lnTo>
                    <a:lnTo>
                      <a:pt x="518" y="7982"/>
                    </a:lnTo>
                    <a:lnTo>
                      <a:pt x="463" y="7931"/>
                    </a:lnTo>
                    <a:lnTo>
                      <a:pt x="410" y="7874"/>
                    </a:lnTo>
                    <a:lnTo>
                      <a:pt x="361" y="7817"/>
                    </a:lnTo>
                    <a:lnTo>
                      <a:pt x="315" y="7758"/>
                    </a:lnTo>
                    <a:lnTo>
                      <a:pt x="270" y="7696"/>
                    </a:lnTo>
                    <a:lnTo>
                      <a:pt x="229" y="7631"/>
                    </a:lnTo>
                    <a:lnTo>
                      <a:pt x="191" y="7563"/>
                    </a:lnTo>
                    <a:lnTo>
                      <a:pt x="156" y="7496"/>
                    </a:lnTo>
                    <a:lnTo>
                      <a:pt x="123" y="7426"/>
                    </a:lnTo>
                    <a:lnTo>
                      <a:pt x="94" y="7353"/>
                    </a:lnTo>
                    <a:lnTo>
                      <a:pt x="70" y="7280"/>
                    </a:lnTo>
                    <a:lnTo>
                      <a:pt x="48" y="7205"/>
                    </a:lnTo>
                    <a:lnTo>
                      <a:pt x="32" y="7130"/>
                    </a:lnTo>
                    <a:lnTo>
                      <a:pt x="16" y="7051"/>
                    </a:lnTo>
                    <a:lnTo>
                      <a:pt x="7" y="6971"/>
                    </a:lnTo>
                    <a:lnTo>
                      <a:pt x="0" y="6890"/>
                    </a:lnTo>
                    <a:lnTo>
                      <a:pt x="0" y="6808"/>
                    </a:lnTo>
                    <a:lnTo>
                      <a:pt x="0" y="1586"/>
                    </a:lnTo>
                    <a:lnTo>
                      <a:pt x="0" y="1506"/>
                    </a:lnTo>
                    <a:lnTo>
                      <a:pt x="7" y="1424"/>
                    </a:lnTo>
                    <a:lnTo>
                      <a:pt x="16" y="1346"/>
                    </a:lnTo>
                    <a:lnTo>
                      <a:pt x="32" y="1267"/>
                    </a:lnTo>
                    <a:lnTo>
                      <a:pt x="48" y="1189"/>
                    </a:lnTo>
                    <a:lnTo>
                      <a:pt x="70" y="1117"/>
                    </a:lnTo>
                    <a:lnTo>
                      <a:pt x="94" y="1041"/>
                    </a:lnTo>
                    <a:lnTo>
                      <a:pt x="123" y="971"/>
                    </a:lnTo>
                    <a:lnTo>
                      <a:pt x="156" y="901"/>
                    </a:lnTo>
                    <a:lnTo>
                      <a:pt x="191" y="831"/>
                    </a:lnTo>
                    <a:lnTo>
                      <a:pt x="229" y="766"/>
                    </a:lnTo>
                    <a:lnTo>
                      <a:pt x="270" y="701"/>
                    </a:lnTo>
                    <a:lnTo>
                      <a:pt x="315" y="640"/>
                    </a:lnTo>
                    <a:lnTo>
                      <a:pt x="361" y="578"/>
                    </a:lnTo>
                    <a:lnTo>
                      <a:pt x="410" y="521"/>
                    </a:lnTo>
                    <a:lnTo>
                      <a:pt x="463" y="467"/>
                    </a:lnTo>
                    <a:lnTo>
                      <a:pt x="518" y="413"/>
                    </a:lnTo>
                    <a:lnTo>
                      <a:pt x="576" y="364"/>
                    </a:lnTo>
                    <a:lnTo>
                      <a:pt x="636" y="316"/>
                    </a:lnTo>
                    <a:lnTo>
                      <a:pt x="698" y="272"/>
                    </a:lnTo>
                    <a:lnTo>
                      <a:pt x="763" y="232"/>
                    </a:lnTo>
                    <a:lnTo>
                      <a:pt x="828" y="191"/>
                    </a:lnTo>
                    <a:lnTo>
                      <a:pt x="898" y="157"/>
                    </a:lnTo>
                    <a:lnTo>
                      <a:pt x="969" y="127"/>
                    </a:lnTo>
                    <a:lnTo>
                      <a:pt x="1038" y="97"/>
                    </a:lnTo>
                    <a:lnTo>
                      <a:pt x="1114" y="73"/>
                    </a:lnTo>
                    <a:lnTo>
                      <a:pt x="1190" y="51"/>
                    </a:lnTo>
                    <a:lnTo>
                      <a:pt x="1266" y="32"/>
                    </a:lnTo>
                    <a:lnTo>
                      <a:pt x="1344" y="19"/>
                    </a:lnTo>
                    <a:lnTo>
                      <a:pt x="1422" y="8"/>
                    </a:lnTo>
                    <a:lnTo>
                      <a:pt x="1503" y="3"/>
                    </a:lnTo>
                    <a:lnTo>
                      <a:pt x="1584" y="0"/>
                    </a:lnTo>
                    <a:lnTo>
                      <a:pt x="8563" y="0"/>
                    </a:lnTo>
                    <a:lnTo>
                      <a:pt x="8644" y="3"/>
                    </a:lnTo>
                    <a:lnTo>
                      <a:pt x="8725" y="8"/>
                    </a:lnTo>
                    <a:lnTo>
                      <a:pt x="8803" y="19"/>
                    </a:lnTo>
                    <a:lnTo>
                      <a:pt x="8881" y="32"/>
                    </a:lnTo>
                    <a:lnTo>
                      <a:pt x="8957" y="51"/>
                    </a:lnTo>
                    <a:lnTo>
                      <a:pt x="9033" y="73"/>
                    </a:lnTo>
                    <a:lnTo>
                      <a:pt x="9105" y="97"/>
                    </a:lnTo>
                    <a:lnTo>
                      <a:pt x="9178" y="127"/>
                    </a:lnTo>
                    <a:lnTo>
                      <a:pt x="9248" y="157"/>
                    </a:lnTo>
                    <a:lnTo>
                      <a:pt x="9316" y="191"/>
                    </a:lnTo>
                    <a:lnTo>
                      <a:pt x="9383" y="232"/>
                    </a:lnTo>
                    <a:lnTo>
                      <a:pt x="9448" y="272"/>
                    </a:lnTo>
                    <a:lnTo>
                      <a:pt x="9510" y="316"/>
                    </a:lnTo>
                    <a:lnTo>
                      <a:pt x="9569" y="364"/>
                    </a:lnTo>
                    <a:lnTo>
                      <a:pt x="9629" y="413"/>
                    </a:lnTo>
                    <a:lnTo>
                      <a:pt x="9682" y="467"/>
                    </a:lnTo>
                    <a:lnTo>
                      <a:pt x="9734" y="521"/>
                    </a:lnTo>
                    <a:lnTo>
                      <a:pt x="9785" y="578"/>
                    </a:lnTo>
                    <a:lnTo>
                      <a:pt x="9831" y="640"/>
                    </a:lnTo>
                    <a:lnTo>
                      <a:pt x="9877" y="701"/>
                    </a:lnTo>
                    <a:lnTo>
                      <a:pt x="9917" y="766"/>
                    </a:lnTo>
                    <a:lnTo>
                      <a:pt x="9956" y="831"/>
                    </a:lnTo>
                    <a:lnTo>
                      <a:pt x="9990" y="901"/>
                    </a:lnTo>
                    <a:lnTo>
                      <a:pt x="10023" y="971"/>
                    </a:lnTo>
                    <a:lnTo>
                      <a:pt x="10052" y="1041"/>
                    </a:lnTo>
                    <a:lnTo>
                      <a:pt x="10076" y="1117"/>
                    </a:lnTo>
                    <a:lnTo>
                      <a:pt x="10098" y="1189"/>
                    </a:lnTo>
                    <a:lnTo>
                      <a:pt x="10115" y="1267"/>
                    </a:lnTo>
                    <a:lnTo>
                      <a:pt x="10128" y="1346"/>
                    </a:lnTo>
                    <a:lnTo>
                      <a:pt x="10138" y="1424"/>
                    </a:lnTo>
                    <a:lnTo>
                      <a:pt x="10144" y="1506"/>
                    </a:lnTo>
                    <a:lnTo>
                      <a:pt x="10147" y="1586"/>
                    </a:lnTo>
                    <a:lnTo>
                      <a:pt x="10147" y="6808"/>
                    </a:lnTo>
                    <a:lnTo>
                      <a:pt x="10144" y="6890"/>
                    </a:lnTo>
                    <a:lnTo>
                      <a:pt x="10138" y="6971"/>
                    </a:lnTo>
                    <a:lnTo>
                      <a:pt x="10128" y="7051"/>
                    </a:lnTo>
                    <a:lnTo>
                      <a:pt x="10115" y="7130"/>
                    </a:lnTo>
                    <a:lnTo>
                      <a:pt x="10098" y="7205"/>
                    </a:lnTo>
                    <a:lnTo>
                      <a:pt x="10076" y="7280"/>
                    </a:lnTo>
                    <a:lnTo>
                      <a:pt x="10052" y="7353"/>
                    </a:lnTo>
                    <a:lnTo>
                      <a:pt x="10023" y="7426"/>
                    </a:lnTo>
                    <a:lnTo>
                      <a:pt x="9990" y="7496"/>
                    </a:lnTo>
                    <a:lnTo>
                      <a:pt x="9956" y="7563"/>
                    </a:lnTo>
                    <a:lnTo>
                      <a:pt x="9917" y="7631"/>
                    </a:lnTo>
                    <a:lnTo>
                      <a:pt x="9877" y="7696"/>
                    </a:lnTo>
                    <a:lnTo>
                      <a:pt x="9831" y="7758"/>
                    </a:lnTo>
                    <a:lnTo>
                      <a:pt x="9785" y="7817"/>
                    </a:lnTo>
                    <a:lnTo>
                      <a:pt x="9734" y="7874"/>
                    </a:lnTo>
                    <a:lnTo>
                      <a:pt x="9682" y="7931"/>
                    </a:lnTo>
                    <a:lnTo>
                      <a:pt x="9629" y="7982"/>
                    </a:lnTo>
                    <a:lnTo>
                      <a:pt x="9569" y="8033"/>
                    </a:lnTo>
                    <a:lnTo>
                      <a:pt x="9510" y="8079"/>
                    </a:lnTo>
                    <a:lnTo>
                      <a:pt x="9448" y="8125"/>
                    </a:lnTo>
                    <a:lnTo>
                      <a:pt x="9383" y="8166"/>
                    </a:lnTo>
                    <a:lnTo>
                      <a:pt x="9316" y="8203"/>
                    </a:lnTo>
                    <a:lnTo>
                      <a:pt x="9248" y="8238"/>
                    </a:lnTo>
                    <a:lnTo>
                      <a:pt x="9178" y="8270"/>
                    </a:lnTo>
                    <a:lnTo>
                      <a:pt x="9105" y="8297"/>
                    </a:lnTo>
                    <a:lnTo>
                      <a:pt x="9033" y="8325"/>
                    </a:lnTo>
                    <a:lnTo>
                      <a:pt x="8957" y="8346"/>
                    </a:lnTo>
                    <a:lnTo>
                      <a:pt x="8881" y="8362"/>
                    </a:lnTo>
                    <a:lnTo>
                      <a:pt x="8803" y="8376"/>
                    </a:lnTo>
                    <a:lnTo>
                      <a:pt x="8725" y="8387"/>
                    </a:lnTo>
                    <a:lnTo>
                      <a:pt x="8644" y="8392"/>
                    </a:lnTo>
                    <a:lnTo>
                      <a:pt x="8563" y="8394"/>
                    </a:lnTo>
                    <a:close/>
                  </a:path>
                </a:pathLst>
              </a:custGeom>
              <a:solidFill>
                <a:srgbClr val="ebbc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836640" y="2351160"/>
                <a:ext cx="1643040" cy="1277640"/>
              </a:xfrm>
              <a:custGeom>
                <a:avLst/>
                <a:gdLst/>
                <a:ahLst/>
                <a:rect l="l" t="t" r="r" b="b"/>
                <a:pathLst>
                  <a:path w="10163" h="8412">
                    <a:moveTo>
                      <a:pt x="8572" y="8403"/>
                    </a:moveTo>
                    <a:lnTo>
                      <a:pt x="8572" y="8396"/>
                    </a:lnTo>
                    <a:lnTo>
                      <a:pt x="1593" y="8396"/>
                    </a:lnTo>
                    <a:lnTo>
                      <a:pt x="1512" y="8392"/>
                    </a:lnTo>
                    <a:lnTo>
                      <a:pt x="1434" y="8387"/>
                    </a:lnTo>
                    <a:lnTo>
                      <a:pt x="1353" y="8376"/>
                    </a:lnTo>
                    <a:lnTo>
                      <a:pt x="1277" y="8362"/>
                    </a:lnTo>
                    <a:lnTo>
                      <a:pt x="1199" y="8346"/>
                    </a:lnTo>
                    <a:lnTo>
                      <a:pt x="1126" y="8325"/>
                    </a:lnTo>
                    <a:lnTo>
                      <a:pt x="1050" y="8301"/>
                    </a:lnTo>
                    <a:lnTo>
                      <a:pt x="980" y="8272"/>
                    </a:lnTo>
                    <a:lnTo>
                      <a:pt x="910" y="8239"/>
                    </a:lnTo>
                    <a:lnTo>
                      <a:pt x="842" y="8203"/>
                    </a:lnTo>
                    <a:lnTo>
                      <a:pt x="775" y="8166"/>
                    </a:lnTo>
                    <a:lnTo>
                      <a:pt x="713" y="8125"/>
                    </a:lnTo>
                    <a:lnTo>
                      <a:pt x="651" y="8083"/>
                    </a:lnTo>
                    <a:lnTo>
                      <a:pt x="591" y="8034"/>
                    </a:lnTo>
                    <a:lnTo>
                      <a:pt x="532" y="7986"/>
                    </a:lnTo>
                    <a:lnTo>
                      <a:pt x="478" y="7934"/>
                    </a:lnTo>
                    <a:lnTo>
                      <a:pt x="426" y="7878"/>
                    </a:lnTo>
                    <a:lnTo>
                      <a:pt x="375" y="7821"/>
                    </a:lnTo>
                    <a:lnTo>
                      <a:pt x="329" y="7761"/>
                    </a:lnTo>
                    <a:lnTo>
                      <a:pt x="286" y="7699"/>
                    </a:lnTo>
                    <a:lnTo>
                      <a:pt x="244" y="7634"/>
                    </a:lnTo>
                    <a:lnTo>
                      <a:pt x="205" y="7570"/>
                    </a:lnTo>
                    <a:lnTo>
                      <a:pt x="170" y="7503"/>
                    </a:lnTo>
                    <a:lnTo>
                      <a:pt x="141" y="7432"/>
                    </a:lnTo>
                    <a:lnTo>
                      <a:pt x="111" y="7360"/>
                    </a:lnTo>
                    <a:lnTo>
                      <a:pt x="87" y="7287"/>
                    </a:lnTo>
                    <a:lnTo>
                      <a:pt x="65" y="7211"/>
                    </a:lnTo>
                    <a:lnTo>
                      <a:pt x="49" y="7136"/>
                    </a:lnTo>
                    <a:lnTo>
                      <a:pt x="33" y="7058"/>
                    </a:lnTo>
                    <a:lnTo>
                      <a:pt x="25" y="6980"/>
                    </a:lnTo>
                    <a:lnTo>
                      <a:pt x="16" y="6899"/>
                    </a:lnTo>
                    <a:lnTo>
                      <a:pt x="16" y="6817"/>
                    </a:lnTo>
                    <a:lnTo>
                      <a:pt x="16" y="1595"/>
                    </a:lnTo>
                    <a:lnTo>
                      <a:pt x="16" y="1515"/>
                    </a:lnTo>
                    <a:lnTo>
                      <a:pt x="25" y="1433"/>
                    </a:lnTo>
                    <a:lnTo>
                      <a:pt x="33" y="1355"/>
                    </a:lnTo>
                    <a:lnTo>
                      <a:pt x="49" y="1276"/>
                    </a:lnTo>
                    <a:lnTo>
                      <a:pt x="65" y="1202"/>
                    </a:lnTo>
                    <a:lnTo>
                      <a:pt x="87" y="1126"/>
                    </a:lnTo>
                    <a:lnTo>
                      <a:pt x="111" y="1053"/>
                    </a:lnTo>
                    <a:lnTo>
                      <a:pt x="141" y="983"/>
                    </a:lnTo>
                    <a:lnTo>
                      <a:pt x="170" y="912"/>
                    </a:lnTo>
                    <a:lnTo>
                      <a:pt x="205" y="845"/>
                    </a:lnTo>
                    <a:lnTo>
                      <a:pt x="244" y="778"/>
                    </a:lnTo>
                    <a:lnTo>
                      <a:pt x="286" y="713"/>
                    </a:lnTo>
                    <a:lnTo>
                      <a:pt x="329" y="651"/>
                    </a:lnTo>
                    <a:lnTo>
                      <a:pt x="375" y="592"/>
                    </a:lnTo>
                    <a:lnTo>
                      <a:pt x="426" y="535"/>
                    </a:lnTo>
                    <a:lnTo>
                      <a:pt x="478" y="481"/>
                    </a:lnTo>
                    <a:lnTo>
                      <a:pt x="532" y="428"/>
                    </a:lnTo>
                    <a:lnTo>
                      <a:pt x="591" y="378"/>
                    </a:lnTo>
                    <a:lnTo>
                      <a:pt x="651" y="332"/>
                    </a:lnTo>
                    <a:lnTo>
                      <a:pt x="713" y="287"/>
                    </a:lnTo>
                    <a:lnTo>
                      <a:pt x="775" y="246"/>
                    </a:lnTo>
                    <a:lnTo>
                      <a:pt x="842" y="209"/>
                    </a:lnTo>
                    <a:lnTo>
                      <a:pt x="910" y="173"/>
                    </a:lnTo>
                    <a:lnTo>
                      <a:pt x="980" y="141"/>
                    </a:lnTo>
                    <a:lnTo>
                      <a:pt x="1050" y="115"/>
                    </a:lnTo>
                    <a:lnTo>
                      <a:pt x="1126" y="90"/>
                    </a:lnTo>
                    <a:lnTo>
                      <a:pt x="1199" y="69"/>
                    </a:lnTo>
                    <a:lnTo>
                      <a:pt x="1277" y="50"/>
                    </a:lnTo>
                    <a:lnTo>
                      <a:pt x="1353" y="36"/>
                    </a:lnTo>
                    <a:lnTo>
                      <a:pt x="1434" y="25"/>
                    </a:lnTo>
                    <a:lnTo>
                      <a:pt x="1512" y="20"/>
                    </a:lnTo>
                    <a:lnTo>
                      <a:pt x="1593" y="17"/>
                    </a:lnTo>
                    <a:lnTo>
                      <a:pt x="8572" y="17"/>
                    </a:lnTo>
                    <a:lnTo>
                      <a:pt x="8653" y="20"/>
                    </a:lnTo>
                    <a:lnTo>
                      <a:pt x="8731" y="25"/>
                    </a:lnTo>
                    <a:lnTo>
                      <a:pt x="8809" y="36"/>
                    </a:lnTo>
                    <a:lnTo>
                      <a:pt x="8888" y="50"/>
                    </a:lnTo>
                    <a:lnTo>
                      <a:pt x="8966" y="69"/>
                    </a:lnTo>
                    <a:lnTo>
                      <a:pt x="9038" y="90"/>
                    </a:lnTo>
                    <a:lnTo>
                      <a:pt x="9111" y="115"/>
                    </a:lnTo>
                    <a:lnTo>
                      <a:pt x="9184" y="141"/>
                    </a:lnTo>
                    <a:lnTo>
                      <a:pt x="9254" y="173"/>
                    </a:lnTo>
                    <a:lnTo>
                      <a:pt x="9322" y="209"/>
                    </a:lnTo>
                    <a:lnTo>
                      <a:pt x="9389" y="246"/>
                    </a:lnTo>
                    <a:lnTo>
                      <a:pt x="9452" y="287"/>
                    </a:lnTo>
                    <a:lnTo>
                      <a:pt x="9514" y="332"/>
                    </a:lnTo>
                    <a:lnTo>
                      <a:pt x="9573" y="378"/>
                    </a:lnTo>
                    <a:lnTo>
                      <a:pt x="9632" y="428"/>
                    </a:lnTo>
                    <a:lnTo>
                      <a:pt x="9686" y="481"/>
                    </a:lnTo>
                    <a:lnTo>
                      <a:pt x="9737" y="535"/>
                    </a:lnTo>
                    <a:lnTo>
                      <a:pt x="9788" y="592"/>
                    </a:lnTo>
                    <a:lnTo>
                      <a:pt x="9834" y="651"/>
                    </a:lnTo>
                    <a:lnTo>
                      <a:pt x="9878" y="713"/>
                    </a:lnTo>
                    <a:lnTo>
                      <a:pt x="9921" y="778"/>
                    </a:lnTo>
                    <a:lnTo>
                      <a:pt x="9958" y="845"/>
                    </a:lnTo>
                    <a:lnTo>
                      <a:pt x="9994" y="912"/>
                    </a:lnTo>
                    <a:lnTo>
                      <a:pt x="10023" y="983"/>
                    </a:lnTo>
                    <a:lnTo>
                      <a:pt x="10053" y="1053"/>
                    </a:lnTo>
                    <a:lnTo>
                      <a:pt x="10078" y="1126"/>
                    </a:lnTo>
                    <a:lnTo>
                      <a:pt x="10099" y="1202"/>
                    </a:lnTo>
                    <a:lnTo>
                      <a:pt x="10115" y="1276"/>
                    </a:lnTo>
                    <a:lnTo>
                      <a:pt x="10131" y="1355"/>
                    </a:lnTo>
                    <a:lnTo>
                      <a:pt x="10140" y="1433"/>
                    </a:lnTo>
                    <a:lnTo>
                      <a:pt x="10147" y="1515"/>
                    </a:lnTo>
                    <a:lnTo>
                      <a:pt x="10147" y="1595"/>
                    </a:lnTo>
                    <a:lnTo>
                      <a:pt x="10147" y="6817"/>
                    </a:lnTo>
                    <a:lnTo>
                      <a:pt x="10147" y="6899"/>
                    </a:lnTo>
                    <a:lnTo>
                      <a:pt x="10140" y="6980"/>
                    </a:lnTo>
                    <a:lnTo>
                      <a:pt x="10131" y="7058"/>
                    </a:lnTo>
                    <a:lnTo>
                      <a:pt x="10115" y="7136"/>
                    </a:lnTo>
                    <a:lnTo>
                      <a:pt x="10099" y="7211"/>
                    </a:lnTo>
                    <a:lnTo>
                      <a:pt x="10078" y="7287"/>
                    </a:lnTo>
                    <a:lnTo>
                      <a:pt x="10053" y="7360"/>
                    </a:lnTo>
                    <a:lnTo>
                      <a:pt x="10023" y="7432"/>
                    </a:lnTo>
                    <a:lnTo>
                      <a:pt x="9994" y="7503"/>
                    </a:lnTo>
                    <a:lnTo>
                      <a:pt x="9958" y="7570"/>
                    </a:lnTo>
                    <a:lnTo>
                      <a:pt x="9921" y="7634"/>
                    </a:lnTo>
                    <a:lnTo>
                      <a:pt x="9878" y="7699"/>
                    </a:lnTo>
                    <a:lnTo>
                      <a:pt x="9834" y="7761"/>
                    </a:lnTo>
                    <a:lnTo>
                      <a:pt x="9788" y="7821"/>
                    </a:lnTo>
                    <a:lnTo>
                      <a:pt x="9737" y="7878"/>
                    </a:lnTo>
                    <a:lnTo>
                      <a:pt x="9686" y="7934"/>
                    </a:lnTo>
                    <a:lnTo>
                      <a:pt x="9632" y="7986"/>
                    </a:lnTo>
                    <a:lnTo>
                      <a:pt x="9573" y="8034"/>
                    </a:lnTo>
                    <a:lnTo>
                      <a:pt x="9514" y="8083"/>
                    </a:lnTo>
                    <a:lnTo>
                      <a:pt x="9452" y="8125"/>
                    </a:lnTo>
                    <a:lnTo>
                      <a:pt x="9389" y="8166"/>
                    </a:lnTo>
                    <a:lnTo>
                      <a:pt x="9322" y="8203"/>
                    </a:lnTo>
                    <a:lnTo>
                      <a:pt x="9254" y="8239"/>
                    </a:lnTo>
                    <a:lnTo>
                      <a:pt x="9184" y="8272"/>
                    </a:lnTo>
                    <a:lnTo>
                      <a:pt x="9111" y="8301"/>
                    </a:lnTo>
                    <a:lnTo>
                      <a:pt x="9038" y="8325"/>
                    </a:lnTo>
                    <a:lnTo>
                      <a:pt x="8966" y="8346"/>
                    </a:lnTo>
                    <a:lnTo>
                      <a:pt x="8888" y="8362"/>
                    </a:lnTo>
                    <a:lnTo>
                      <a:pt x="8809" y="8376"/>
                    </a:lnTo>
                    <a:lnTo>
                      <a:pt x="8731" y="8387"/>
                    </a:lnTo>
                    <a:lnTo>
                      <a:pt x="8653" y="8392"/>
                    </a:lnTo>
                    <a:lnTo>
                      <a:pt x="8572" y="8396"/>
                    </a:lnTo>
                    <a:lnTo>
                      <a:pt x="8572" y="8403"/>
                    </a:lnTo>
                    <a:lnTo>
                      <a:pt x="8572" y="8412"/>
                    </a:lnTo>
                    <a:lnTo>
                      <a:pt x="8653" y="8408"/>
                    </a:lnTo>
                    <a:lnTo>
                      <a:pt x="8734" y="8403"/>
                    </a:lnTo>
                    <a:lnTo>
                      <a:pt x="8812" y="8392"/>
                    </a:lnTo>
                    <a:lnTo>
                      <a:pt x="8890" y="8380"/>
                    </a:lnTo>
                    <a:lnTo>
                      <a:pt x="8968" y="8360"/>
                    </a:lnTo>
                    <a:lnTo>
                      <a:pt x="9044" y="8339"/>
                    </a:lnTo>
                    <a:lnTo>
                      <a:pt x="9116" y="8314"/>
                    </a:lnTo>
                    <a:lnTo>
                      <a:pt x="9189" y="8288"/>
                    </a:lnTo>
                    <a:lnTo>
                      <a:pt x="9260" y="8255"/>
                    </a:lnTo>
                    <a:lnTo>
                      <a:pt x="9330" y="8220"/>
                    </a:lnTo>
                    <a:lnTo>
                      <a:pt x="9397" y="8180"/>
                    </a:lnTo>
                    <a:lnTo>
                      <a:pt x="9463" y="8139"/>
                    </a:lnTo>
                    <a:lnTo>
                      <a:pt x="9525" y="8096"/>
                    </a:lnTo>
                    <a:lnTo>
                      <a:pt x="9583" y="8047"/>
                    </a:lnTo>
                    <a:lnTo>
                      <a:pt x="9643" y="7996"/>
                    </a:lnTo>
                    <a:lnTo>
                      <a:pt x="9697" y="7945"/>
                    </a:lnTo>
                    <a:lnTo>
                      <a:pt x="9751" y="7888"/>
                    </a:lnTo>
                    <a:lnTo>
                      <a:pt x="9799" y="7832"/>
                    </a:lnTo>
                    <a:lnTo>
                      <a:pt x="9848" y="7772"/>
                    </a:lnTo>
                    <a:lnTo>
                      <a:pt x="9891" y="7708"/>
                    </a:lnTo>
                    <a:lnTo>
                      <a:pt x="9935" y="7643"/>
                    </a:lnTo>
                    <a:lnTo>
                      <a:pt x="9972" y="7578"/>
                    </a:lnTo>
                    <a:lnTo>
                      <a:pt x="10007" y="7508"/>
                    </a:lnTo>
                    <a:lnTo>
                      <a:pt x="10040" y="7438"/>
                    </a:lnTo>
                    <a:lnTo>
                      <a:pt x="10066" y="7365"/>
                    </a:lnTo>
                    <a:lnTo>
                      <a:pt x="10094" y="7293"/>
                    </a:lnTo>
                    <a:lnTo>
                      <a:pt x="10115" y="7217"/>
                    </a:lnTo>
                    <a:lnTo>
                      <a:pt x="10131" y="7139"/>
                    </a:lnTo>
                    <a:lnTo>
                      <a:pt x="10145" y="7060"/>
                    </a:lnTo>
                    <a:lnTo>
                      <a:pt x="10156" y="6982"/>
                    </a:lnTo>
                    <a:lnTo>
                      <a:pt x="10163" y="6901"/>
                    </a:lnTo>
                    <a:lnTo>
                      <a:pt x="10163" y="6817"/>
                    </a:lnTo>
                    <a:lnTo>
                      <a:pt x="10163" y="1595"/>
                    </a:lnTo>
                    <a:lnTo>
                      <a:pt x="10163" y="1515"/>
                    </a:lnTo>
                    <a:lnTo>
                      <a:pt x="10156" y="1433"/>
                    </a:lnTo>
                    <a:lnTo>
                      <a:pt x="10145" y="1352"/>
                    </a:lnTo>
                    <a:lnTo>
                      <a:pt x="10131" y="1274"/>
                    </a:lnTo>
                    <a:lnTo>
                      <a:pt x="10115" y="1198"/>
                    </a:lnTo>
                    <a:lnTo>
                      <a:pt x="10094" y="1123"/>
                    </a:lnTo>
                    <a:lnTo>
                      <a:pt x="10066" y="1048"/>
                    </a:lnTo>
                    <a:lnTo>
                      <a:pt x="10040" y="974"/>
                    </a:lnTo>
                    <a:lnTo>
                      <a:pt x="10007" y="905"/>
                    </a:lnTo>
                    <a:lnTo>
                      <a:pt x="9972" y="838"/>
                    </a:lnTo>
                    <a:lnTo>
                      <a:pt x="9935" y="769"/>
                    </a:lnTo>
                    <a:lnTo>
                      <a:pt x="9891" y="705"/>
                    </a:lnTo>
                    <a:lnTo>
                      <a:pt x="9848" y="643"/>
                    </a:lnTo>
                    <a:lnTo>
                      <a:pt x="9799" y="583"/>
                    </a:lnTo>
                    <a:lnTo>
                      <a:pt x="9751" y="524"/>
                    </a:lnTo>
                    <a:lnTo>
                      <a:pt x="9697" y="470"/>
                    </a:lnTo>
                    <a:lnTo>
                      <a:pt x="9643" y="416"/>
                    </a:lnTo>
                    <a:lnTo>
                      <a:pt x="9583" y="365"/>
                    </a:lnTo>
                    <a:lnTo>
                      <a:pt x="9525" y="320"/>
                    </a:lnTo>
                    <a:lnTo>
                      <a:pt x="9463" y="274"/>
                    </a:lnTo>
                    <a:lnTo>
                      <a:pt x="9397" y="233"/>
                    </a:lnTo>
                    <a:lnTo>
                      <a:pt x="9330" y="195"/>
                    </a:lnTo>
                    <a:lnTo>
                      <a:pt x="9260" y="159"/>
                    </a:lnTo>
                    <a:lnTo>
                      <a:pt x="9189" y="127"/>
                    </a:lnTo>
                    <a:lnTo>
                      <a:pt x="9116" y="98"/>
                    </a:lnTo>
                    <a:lnTo>
                      <a:pt x="9044" y="74"/>
                    </a:lnTo>
                    <a:lnTo>
                      <a:pt x="8968" y="52"/>
                    </a:lnTo>
                    <a:lnTo>
                      <a:pt x="8890" y="33"/>
                    </a:lnTo>
                    <a:lnTo>
                      <a:pt x="8812" y="20"/>
                    </a:lnTo>
                    <a:lnTo>
                      <a:pt x="8734" y="9"/>
                    </a:lnTo>
                    <a:lnTo>
                      <a:pt x="8653" y="4"/>
                    </a:lnTo>
                    <a:lnTo>
                      <a:pt x="8572" y="0"/>
                    </a:lnTo>
                    <a:lnTo>
                      <a:pt x="1593" y="0"/>
                    </a:lnTo>
                    <a:lnTo>
                      <a:pt x="1512" y="4"/>
                    </a:lnTo>
                    <a:lnTo>
                      <a:pt x="1431" y="9"/>
                    </a:lnTo>
                    <a:lnTo>
                      <a:pt x="1349" y="20"/>
                    </a:lnTo>
                    <a:lnTo>
                      <a:pt x="1271" y="33"/>
                    </a:lnTo>
                    <a:lnTo>
                      <a:pt x="1196" y="52"/>
                    </a:lnTo>
                    <a:lnTo>
                      <a:pt x="1121" y="74"/>
                    </a:lnTo>
                    <a:lnTo>
                      <a:pt x="1045" y="98"/>
                    </a:lnTo>
                    <a:lnTo>
                      <a:pt x="974" y="127"/>
                    </a:lnTo>
                    <a:lnTo>
                      <a:pt x="902" y="159"/>
                    </a:lnTo>
                    <a:lnTo>
                      <a:pt x="834" y="195"/>
                    </a:lnTo>
                    <a:lnTo>
                      <a:pt x="767" y="233"/>
                    </a:lnTo>
                    <a:lnTo>
                      <a:pt x="702" y="274"/>
                    </a:lnTo>
                    <a:lnTo>
                      <a:pt x="640" y="320"/>
                    </a:lnTo>
                    <a:lnTo>
                      <a:pt x="580" y="365"/>
                    </a:lnTo>
                    <a:lnTo>
                      <a:pt x="521" y="416"/>
                    </a:lnTo>
                    <a:lnTo>
                      <a:pt x="467" y="470"/>
                    </a:lnTo>
                    <a:lnTo>
                      <a:pt x="413" y="524"/>
                    </a:lnTo>
                    <a:lnTo>
                      <a:pt x="364" y="583"/>
                    </a:lnTo>
                    <a:lnTo>
                      <a:pt x="316" y="643"/>
                    </a:lnTo>
                    <a:lnTo>
                      <a:pt x="272" y="705"/>
                    </a:lnTo>
                    <a:lnTo>
                      <a:pt x="230" y="769"/>
                    </a:lnTo>
                    <a:lnTo>
                      <a:pt x="192" y="838"/>
                    </a:lnTo>
                    <a:lnTo>
                      <a:pt x="157" y="905"/>
                    </a:lnTo>
                    <a:lnTo>
                      <a:pt x="125" y="974"/>
                    </a:lnTo>
                    <a:lnTo>
                      <a:pt x="95" y="1048"/>
                    </a:lnTo>
                    <a:lnTo>
                      <a:pt x="71" y="1123"/>
                    </a:lnTo>
                    <a:lnTo>
                      <a:pt x="49" y="1198"/>
                    </a:lnTo>
                    <a:lnTo>
                      <a:pt x="33" y="1274"/>
                    </a:lnTo>
                    <a:lnTo>
                      <a:pt x="16" y="1352"/>
                    </a:lnTo>
                    <a:lnTo>
                      <a:pt x="9" y="1433"/>
                    </a:lnTo>
                    <a:lnTo>
                      <a:pt x="0" y="1515"/>
                    </a:lnTo>
                    <a:lnTo>
                      <a:pt x="0" y="1595"/>
                    </a:lnTo>
                    <a:lnTo>
                      <a:pt x="0" y="6817"/>
                    </a:lnTo>
                    <a:lnTo>
                      <a:pt x="0" y="6901"/>
                    </a:lnTo>
                    <a:lnTo>
                      <a:pt x="9" y="6982"/>
                    </a:lnTo>
                    <a:lnTo>
                      <a:pt x="16" y="7060"/>
                    </a:lnTo>
                    <a:lnTo>
                      <a:pt x="33" y="7139"/>
                    </a:lnTo>
                    <a:lnTo>
                      <a:pt x="49" y="7217"/>
                    </a:lnTo>
                    <a:lnTo>
                      <a:pt x="71" y="7293"/>
                    </a:lnTo>
                    <a:lnTo>
                      <a:pt x="95" y="7365"/>
                    </a:lnTo>
                    <a:lnTo>
                      <a:pt x="125" y="7438"/>
                    </a:lnTo>
                    <a:lnTo>
                      <a:pt x="157" y="7508"/>
                    </a:lnTo>
                    <a:lnTo>
                      <a:pt x="192" y="7578"/>
                    </a:lnTo>
                    <a:lnTo>
                      <a:pt x="230" y="7643"/>
                    </a:lnTo>
                    <a:lnTo>
                      <a:pt x="272" y="7708"/>
                    </a:lnTo>
                    <a:lnTo>
                      <a:pt x="316" y="7772"/>
                    </a:lnTo>
                    <a:lnTo>
                      <a:pt x="364" y="7832"/>
                    </a:lnTo>
                    <a:lnTo>
                      <a:pt x="413" y="7888"/>
                    </a:lnTo>
                    <a:lnTo>
                      <a:pt x="467" y="7945"/>
                    </a:lnTo>
                    <a:lnTo>
                      <a:pt x="521" y="7996"/>
                    </a:lnTo>
                    <a:lnTo>
                      <a:pt x="580" y="8047"/>
                    </a:lnTo>
                    <a:lnTo>
                      <a:pt x="640" y="8096"/>
                    </a:lnTo>
                    <a:lnTo>
                      <a:pt x="702" y="8139"/>
                    </a:lnTo>
                    <a:lnTo>
                      <a:pt x="767" y="8180"/>
                    </a:lnTo>
                    <a:lnTo>
                      <a:pt x="834" y="8220"/>
                    </a:lnTo>
                    <a:lnTo>
                      <a:pt x="902" y="8255"/>
                    </a:lnTo>
                    <a:lnTo>
                      <a:pt x="974" y="8288"/>
                    </a:lnTo>
                    <a:lnTo>
                      <a:pt x="1045" y="8314"/>
                    </a:lnTo>
                    <a:lnTo>
                      <a:pt x="1121" y="8339"/>
                    </a:lnTo>
                    <a:lnTo>
                      <a:pt x="1196" y="8360"/>
                    </a:lnTo>
                    <a:lnTo>
                      <a:pt x="1271" y="8380"/>
                    </a:lnTo>
                    <a:lnTo>
                      <a:pt x="1349" y="8392"/>
                    </a:lnTo>
                    <a:lnTo>
                      <a:pt x="1431" y="8403"/>
                    </a:lnTo>
                    <a:lnTo>
                      <a:pt x="1512" y="8408"/>
                    </a:lnTo>
                    <a:lnTo>
                      <a:pt x="1593" y="8412"/>
                    </a:lnTo>
                    <a:lnTo>
                      <a:pt x="8572" y="8412"/>
                    </a:lnTo>
                    <a:lnTo>
                      <a:pt x="8572" y="8403"/>
                    </a:lnTo>
                    <a:close/>
                  </a:path>
                </a:pathLst>
              </a:custGeom>
              <a:solidFill>
                <a:srgbClr val="773f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865080" y="2376360"/>
                <a:ext cx="1587600" cy="1228680"/>
              </a:xfrm>
              <a:custGeom>
                <a:avLst/>
                <a:gdLst/>
                <a:ahLst/>
                <a:rect l="l" t="t" r="r" b="b"/>
                <a:pathLst>
                  <a:path w="9818" h="8066">
                    <a:moveTo>
                      <a:pt x="8399" y="8066"/>
                    </a:moveTo>
                    <a:lnTo>
                      <a:pt x="1420" y="8066"/>
                    </a:lnTo>
                    <a:lnTo>
                      <a:pt x="1346" y="8063"/>
                    </a:lnTo>
                    <a:lnTo>
                      <a:pt x="1277" y="8058"/>
                    </a:lnTo>
                    <a:lnTo>
                      <a:pt x="1204" y="8050"/>
                    </a:lnTo>
                    <a:lnTo>
                      <a:pt x="1134" y="8036"/>
                    </a:lnTo>
                    <a:lnTo>
                      <a:pt x="1066" y="8020"/>
                    </a:lnTo>
                    <a:lnTo>
                      <a:pt x="999" y="8002"/>
                    </a:lnTo>
                    <a:lnTo>
                      <a:pt x="931" y="7979"/>
                    </a:lnTo>
                    <a:lnTo>
                      <a:pt x="869" y="7956"/>
                    </a:lnTo>
                    <a:lnTo>
                      <a:pt x="805" y="7926"/>
                    </a:lnTo>
                    <a:lnTo>
                      <a:pt x="745" y="7894"/>
                    </a:lnTo>
                    <a:lnTo>
                      <a:pt x="686" y="7861"/>
                    </a:lnTo>
                    <a:lnTo>
                      <a:pt x="626" y="7823"/>
                    </a:lnTo>
                    <a:lnTo>
                      <a:pt x="570" y="7783"/>
                    </a:lnTo>
                    <a:lnTo>
                      <a:pt x="518" y="7742"/>
                    </a:lnTo>
                    <a:lnTo>
                      <a:pt x="464" y="7696"/>
                    </a:lnTo>
                    <a:lnTo>
                      <a:pt x="416" y="7650"/>
                    </a:lnTo>
                    <a:lnTo>
                      <a:pt x="370" y="7599"/>
                    </a:lnTo>
                    <a:lnTo>
                      <a:pt x="324" y="7548"/>
                    </a:lnTo>
                    <a:lnTo>
                      <a:pt x="283" y="7494"/>
                    </a:lnTo>
                    <a:lnTo>
                      <a:pt x="243" y="7440"/>
                    </a:lnTo>
                    <a:lnTo>
                      <a:pt x="205" y="7381"/>
                    </a:lnTo>
                    <a:lnTo>
                      <a:pt x="170" y="7321"/>
                    </a:lnTo>
                    <a:lnTo>
                      <a:pt x="140" y="7259"/>
                    </a:lnTo>
                    <a:lnTo>
                      <a:pt x="111" y="7197"/>
                    </a:lnTo>
                    <a:lnTo>
                      <a:pt x="87" y="7132"/>
                    </a:lnTo>
                    <a:lnTo>
                      <a:pt x="62" y="7068"/>
                    </a:lnTo>
                    <a:lnTo>
                      <a:pt x="43" y="7000"/>
                    </a:lnTo>
                    <a:lnTo>
                      <a:pt x="27" y="6931"/>
                    </a:lnTo>
                    <a:lnTo>
                      <a:pt x="16" y="6860"/>
                    </a:lnTo>
                    <a:lnTo>
                      <a:pt x="5" y="6790"/>
                    </a:lnTo>
                    <a:lnTo>
                      <a:pt x="0" y="6717"/>
                    </a:lnTo>
                    <a:lnTo>
                      <a:pt x="0" y="6644"/>
                    </a:lnTo>
                    <a:lnTo>
                      <a:pt x="0" y="1422"/>
                    </a:lnTo>
                    <a:lnTo>
                      <a:pt x="0" y="1349"/>
                    </a:lnTo>
                    <a:lnTo>
                      <a:pt x="5" y="1276"/>
                    </a:lnTo>
                    <a:lnTo>
                      <a:pt x="16" y="1206"/>
                    </a:lnTo>
                    <a:lnTo>
                      <a:pt x="27" y="1137"/>
                    </a:lnTo>
                    <a:lnTo>
                      <a:pt x="43" y="1068"/>
                    </a:lnTo>
                    <a:lnTo>
                      <a:pt x="62" y="1001"/>
                    </a:lnTo>
                    <a:lnTo>
                      <a:pt x="87" y="934"/>
                    </a:lnTo>
                    <a:lnTo>
                      <a:pt x="111" y="869"/>
                    </a:lnTo>
                    <a:lnTo>
                      <a:pt x="140" y="807"/>
                    </a:lnTo>
                    <a:lnTo>
                      <a:pt x="170" y="745"/>
                    </a:lnTo>
                    <a:lnTo>
                      <a:pt x="205" y="686"/>
                    </a:lnTo>
                    <a:lnTo>
                      <a:pt x="243" y="629"/>
                    </a:lnTo>
                    <a:lnTo>
                      <a:pt x="283" y="573"/>
                    </a:lnTo>
                    <a:lnTo>
                      <a:pt x="324" y="518"/>
                    </a:lnTo>
                    <a:lnTo>
                      <a:pt x="370" y="467"/>
                    </a:lnTo>
                    <a:lnTo>
                      <a:pt x="416" y="419"/>
                    </a:lnTo>
                    <a:lnTo>
                      <a:pt x="464" y="370"/>
                    </a:lnTo>
                    <a:lnTo>
                      <a:pt x="518" y="327"/>
                    </a:lnTo>
                    <a:lnTo>
                      <a:pt x="570" y="283"/>
                    </a:lnTo>
                    <a:lnTo>
                      <a:pt x="626" y="243"/>
                    </a:lnTo>
                    <a:lnTo>
                      <a:pt x="686" y="209"/>
                    </a:lnTo>
                    <a:lnTo>
                      <a:pt x="745" y="173"/>
                    </a:lnTo>
                    <a:lnTo>
                      <a:pt x="805" y="140"/>
                    </a:lnTo>
                    <a:lnTo>
                      <a:pt x="869" y="114"/>
                    </a:lnTo>
                    <a:lnTo>
                      <a:pt x="931" y="87"/>
                    </a:lnTo>
                    <a:lnTo>
                      <a:pt x="999" y="66"/>
                    </a:lnTo>
                    <a:lnTo>
                      <a:pt x="1066" y="46"/>
                    </a:lnTo>
                    <a:lnTo>
                      <a:pt x="1134" y="30"/>
                    </a:lnTo>
                    <a:lnTo>
                      <a:pt x="1204" y="16"/>
                    </a:lnTo>
                    <a:lnTo>
                      <a:pt x="1277" y="9"/>
                    </a:lnTo>
                    <a:lnTo>
                      <a:pt x="1346" y="4"/>
                    </a:lnTo>
                    <a:lnTo>
                      <a:pt x="1420" y="0"/>
                    </a:lnTo>
                    <a:lnTo>
                      <a:pt x="8399" y="0"/>
                    </a:lnTo>
                    <a:lnTo>
                      <a:pt x="8471" y="4"/>
                    </a:lnTo>
                    <a:lnTo>
                      <a:pt x="8542" y="9"/>
                    </a:lnTo>
                    <a:lnTo>
                      <a:pt x="8614" y="16"/>
                    </a:lnTo>
                    <a:lnTo>
                      <a:pt x="8685" y="30"/>
                    </a:lnTo>
                    <a:lnTo>
                      <a:pt x="8752" y="46"/>
                    </a:lnTo>
                    <a:lnTo>
                      <a:pt x="8820" y="66"/>
                    </a:lnTo>
                    <a:lnTo>
                      <a:pt x="8885" y="87"/>
                    </a:lnTo>
                    <a:lnTo>
                      <a:pt x="8949" y="114"/>
                    </a:lnTo>
                    <a:lnTo>
                      <a:pt x="9014" y="140"/>
                    </a:lnTo>
                    <a:lnTo>
                      <a:pt x="9074" y="173"/>
                    </a:lnTo>
                    <a:lnTo>
                      <a:pt x="9133" y="209"/>
                    </a:lnTo>
                    <a:lnTo>
                      <a:pt x="9192" y="243"/>
                    </a:lnTo>
                    <a:lnTo>
                      <a:pt x="9246" y="283"/>
                    </a:lnTo>
                    <a:lnTo>
                      <a:pt x="9300" y="327"/>
                    </a:lnTo>
                    <a:lnTo>
                      <a:pt x="9352" y="370"/>
                    </a:lnTo>
                    <a:lnTo>
                      <a:pt x="9403" y="419"/>
                    </a:lnTo>
                    <a:lnTo>
                      <a:pt x="9449" y="467"/>
                    </a:lnTo>
                    <a:lnTo>
                      <a:pt x="9495" y="518"/>
                    </a:lnTo>
                    <a:lnTo>
                      <a:pt x="9534" y="573"/>
                    </a:lnTo>
                    <a:lnTo>
                      <a:pt x="9575" y="629"/>
                    </a:lnTo>
                    <a:lnTo>
                      <a:pt x="9613" y="686"/>
                    </a:lnTo>
                    <a:lnTo>
                      <a:pt x="9649" y="745"/>
                    </a:lnTo>
                    <a:lnTo>
                      <a:pt x="9677" y="807"/>
                    </a:lnTo>
                    <a:lnTo>
                      <a:pt x="9707" y="869"/>
                    </a:lnTo>
                    <a:lnTo>
                      <a:pt x="9732" y="934"/>
                    </a:lnTo>
                    <a:lnTo>
                      <a:pt x="9756" y="1001"/>
                    </a:lnTo>
                    <a:lnTo>
                      <a:pt x="9775" y="1068"/>
                    </a:lnTo>
                    <a:lnTo>
                      <a:pt x="9792" y="1137"/>
                    </a:lnTo>
                    <a:lnTo>
                      <a:pt x="9802" y="1206"/>
                    </a:lnTo>
                    <a:lnTo>
                      <a:pt x="9813" y="1276"/>
                    </a:lnTo>
                    <a:lnTo>
                      <a:pt x="9818" y="1349"/>
                    </a:lnTo>
                    <a:lnTo>
                      <a:pt x="9818" y="1422"/>
                    </a:lnTo>
                    <a:lnTo>
                      <a:pt x="9818" y="6644"/>
                    </a:lnTo>
                    <a:lnTo>
                      <a:pt x="9818" y="6717"/>
                    </a:lnTo>
                    <a:lnTo>
                      <a:pt x="9813" y="6790"/>
                    </a:lnTo>
                    <a:lnTo>
                      <a:pt x="9802" y="6860"/>
                    </a:lnTo>
                    <a:lnTo>
                      <a:pt x="9792" y="6931"/>
                    </a:lnTo>
                    <a:lnTo>
                      <a:pt x="9775" y="7000"/>
                    </a:lnTo>
                    <a:lnTo>
                      <a:pt x="9756" y="7068"/>
                    </a:lnTo>
                    <a:lnTo>
                      <a:pt x="9732" y="7132"/>
                    </a:lnTo>
                    <a:lnTo>
                      <a:pt x="9707" y="7197"/>
                    </a:lnTo>
                    <a:lnTo>
                      <a:pt x="9677" y="7259"/>
                    </a:lnTo>
                    <a:lnTo>
                      <a:pt x="9649" y="7321"/>
                    </a:lnTo>
                    <a:lnTo>
                      <a:pt x="9613" y="7381"/>
                    </a:lnTo>
                    <a:lnTo>
                      <a:pt x="9575" y="7440"/>
                    </a:lnTo>
                    <a:lnTo>
                      <a:pt x="9534" y="7494"/>
                    </a:lnTo>
                    <a:lnTo>
                      <a:pt x="9495" y="7548"/>
                    </a:lnTo>
                    <a:lnTo>
                      <a:pt x="9449" y="7599"/>
                    </a:lnTo>
                    <a:lnTo>
                      <a:pt x="9403" y="7650"/>
                    </a:lnTo>
                    <a:lnTo>
                      <a:pt x="9352" y="7696"/>
                    </a:lnTo>
                    <a:lnTo>
                      <a:pt x="9300" y="7742"/>
                    </a:lnTo>
                    <a:lnTo>
                      <a:pt x="9246" y="7783"/>
                    </a:lnTo>
                    <a:lnTo>
                      <a:pt x="9192" y="7823"/>
                    </a:lnTo>
                    <a:lnTo>
                      <a:pt x="9133" y="7861"/>
                    </a:lnTo>
                    <a:lnTo>
                      <a:pt x="9074" y="7894"/>
                    </a:lnTo>
                    <a:lnTo>
                      <a:pt x="9014" y="7926"/>
                    </a:lnTo>
                    <a:lnTo>
                      <a:pt x="8949" y="7956"/>
                    </a:lnTo>
                    <a:lnTo>
                      <a:pt x="8885" y="7979"/>
                    </a:lnTo>
                    <a:lnTo>
                      <a:pt x="8820" y="8002"/>
                    </a:lnTo>
                    <a:lnTo>
                      <a:pt x="8752" y="8020"/>
                    </a:lnTo>
                    <a:lnTo>
                      <a:pt x="8685" y="8036"/>
                    </a:lnTo>
                    <a:lnTo>
                      <a:pt x="8614" y="8050"/>
                    </a:lnTo>
                    <a:lnTo>
                      <a:pt x="8542" y="8058"/>
                    </a:lnTo>
                    <a:lnTo>
                      <a:pt x="8471" y="8063"/>
                    </a:lnTo>
                    <a:lnTo>
                      <a:pt x="8399" y="8066"/>
                    </a:lnTo>
                    <a:close/>
                  </a:path>
                </a:pathLst>
              </a:custGeom>
              <a:solidFill>
                <a:srgbClr val="f0d9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907920" y="2417760"/>
                <a:ext cx="1500120" cy="1144440"/>
              </a:xfrm>
              <a:custGeom>
                <a:avLst/>
                <a:gdLst/>
                <a:ahLst/>
                <a:rect l="l" t="t" r="r" b="b"/>
                <a:pathLst>
                  <a:path w="9284" h="7528">
                    <a:moveTo>
                      <a:pt x="8132" y="7528"/>
                    </a:moveTo>
                    <a:lnTo>
                      <a:pt x="1153" y="7528"/>
                    </a:lnTo>
                    <a:lnTo>
                      <a:pt x="1093" y="7526"/>
                    </a:lnTo>
                    <a:lnTo>
                      <a:pt x="1036" y="7522"/>
                    </a:lnTo>
                    <a:lnTo>
                      <a:pt x="977" y="7515"/>
                    </a:lnTo>
                    <a:lnTo>
                      <a:pt x="920" y="7503"/>
                    </a:lnTo>
                    <a:lnTo>
                      <a:pt x="867" y="7490"/>
                    </a:lnTo>
                    <a:lnTo>
                      <a:pt x="810" y="7474"/>
                    </a:lnTo>
                    <a:lnTo>
                      <a:pt x="759" y="7457"/>
                    </a:lnTo>
                    <a:lnTo>
                      <a:pt x="704" y="7436"/>
                    </a:lnTo>
                    <a:lnTo>
                      <a:pt x="653" y="7412"/>
                    </a:lnTo>
                    <a:lnTo>
                      <a:pt x="605" y="7388"/>
                    </a:lnTo>
                    <a:lnTo>
                      <a:pt x="556" y="7361"/>
                    </a:lnTo>
                    <a:lnTo>
                      <a:pt x="510" y="7331"/>
                    </a:lnTo>
                    <a:lnTo>
                      <a:pt x="465" y="7298"/>
                    </a:lnTo>
                    <a:lnTo>
                      <a:pt x="421" y="7264"/>
                    </a:lnTo>
                    <a:lnTo>
                      <a:pt x="378" y="7229"/>
                    </a:lnTo>
                    <a:lnTo>
                      <a:pt x="338" y="7188"/>
                    </a:lnTo>
                    <a:lnTo>
                      <a:pt x="299" y="7148"/>
                    </a:lnTo>
                    <a:lnTo>
                      <a:pt x="265" y="7107"/>
                    </a:lnTo>
                    <a:lnTo>
                      <a:pt x="230" y="7064"/>
                    </a:lnTo>
                    <a:lnTo>
                      <a:pt x="197" y="7018"/>
                    </a:lnTo>
                    <a:lnTo>
                      <a:pt x="168" y="6972"/>
                    </a:lnTo>
                    <a:lnTo>
                      <a:pt x="140" y="6923"/>
                    </a:lnTo>
                    <a:lnTo>
                      <a:pt x="113" y="6872"/>
                    </a:lnTo>
                    <a:lnTo>
                      <a:pt x="92" y="6821"/>
                    </a:lnTo>
                    <a:lnTo>
                      <a:pt x="71" y="6770"/>
                    </a:lnTo>
                    <a:lnTo>
                      <a:pt x="51" y="6716"/>
                    </a:lnTo>
                    <a:lnTo>
                      <a:pt x="35" y="6662"/>
                    </a:lnTo>
                    <a:lnTo>
                      <a:pt x="25" y="6605"/>
                    </a:lnTo>
                    <a:lnTo>
                      <a:pt x="14" y="6548"/>
                    </a:lnTo>
                    <a:lnTo>
                      <a:pt x="6" y="6492"/>
                    </a:lnTo>
                    <a:lnTo>
                      <a:pt x="3" y="6433"/>
                    </a:lnTo>
                    <a:lnTo>
                      <a:pt x="0" y="6373"/>
                    </a:lnTo>
                    <a:lnTo>
                      <a:pt x="0" y="1151"/>
                    </a:lnTo>
                    <a:lnTo>
                      <a:pt x="3" y="1092"/>
                    </a:lnTo>
                    <a:lnTo>
                      <a:pt x="6" y="1032"/>
                    </a:lnTo>
                    <a:lnTo>
                      <a:pt x="14" y="976"/>
                    </a:lnTo>
                    <a:lnTo>
                      <a:pt x="25" y="919"/>
                    </a:lnTo>
                    <a:lnTo>
                      <a:pt x="35" y="862"/>
                    </a:lnTo>
                    <a:lnTo>
                      <a:pt x="51" y="809"/>
                    </a:lnTo>
                    <a:lnTo>
                      <a:pt x="71" y="754"/>
                    </a:lnTo>
                    <a:lnTo>
                      <a:pt x="92" y="703"/>
                    </a:lnTo>
                    <a:lnTo>
                      <a:pt x="113" y="652"/>
                    </a:lnTo>
                    <a:lnTo>
                      <a:pt x="140" y="604"/>
                    </a:lnTo>
                    <a:lnTo>
                      <a:pt x="168" y="555"/>
                    </a:lnTo>
                    <a:lnTo>
                      <a:pt x="197" y="507"/>
                    </a:lnTo>
                    <a:lnTo>
                      <a:pt x="230" y="463"/>
                    </a:lnTo>
                    <a:lnTo>
                      <a:pt x="265" y="417"/>
                    </a:lnTo>
                    <a:lnTo>
                      <a:pt x="299" y="376"/>
                    </a:lnTo>
                    <a:lnTo>
                      <a:pt x="338" y="336"/>
                    </a:lnTo>
                    <a:lnTo>
                      <a:pt x="378" y="299"/>
                    </a:lnTo>
                    <a:lnTo>
                      <a:pt x="421" y="261"/>
                    </a:lnTo>
                    <a:lnTo>
                      <a:pt x="465" y="228"/>
                    </a:lnTo>
                    <a:lnTo>
                      <a:pt x="510" y="196"/>
                    </a:lnTo>
                    <a:lnTo>
                      <a:pt x="556" y="166"/>
                    </a:lnTo>
                    <a:lnTo>
                      <a:pt x="605" y="137"/>
                    </a:lnTo>
                    <a:lnTo>
                      <a:pt x="653" y="113"/>
                    </a:lnTo>
                    <a:lnTo>
                      <a:pt x="704" y="88"/>
                    </a:lnTo>
                    <a:lnTo>
                      <a:pt x="759" y="69"/>
                    </a:lnTo>
                    <a:lnTo>
                      <a:pt x="810" y="51"/>
                    </a:lnTo>
                    <a:lnTo>
                      <a:pt x="867" y="35"/>
                    </a:lnTo>
                    <a:lnTo>
                      <a:pt x="920" y="21"/>
                    </a:lnTo>
                    <a:lnTo>
                      <a:pt x="977" y="12"/>
                    </a:lnTo>
                    <a:lnTo>
                      <a:pt x="1036" y="5"/>
                    </a:lnTo>
                    <a:lnTo>
                      <a:pt x="1093" y="0"/>
                    </a:lnTo>
                    <a:lnTo>
                      <a:pt x="1153" y="0"/>
                    </a:lnTo>
                    <a:lnTo>
                      <a:pt x="8132" y="0"/>
                    </a:lnTo>
                    <a:lnTo>
                      <a:pt x="8188" y="0"/>
                    </a:lnTo>
                    <a:lnTo>
                      <a:pt x="8248" y="5"/>
                    </a:lnTo>
                    <a:lnTo>
                      <a:pt x="8307" y="12"/>
                    </a:lnTo>
                    <a:lnTo>
                      <a:pt x="8363" y="21"/>
                    </a:lnTo>
                    <a:lnTo>
                      <a:pt x="8418" y="35"/>
                    </a:lnTo>
                    <a:lnTo>
                      <a:pt x="8471" y="51"/>
                    </a:lnTo>
                    <a:lnTo>
                      <a:pt x="8526" y="69"/>
                    </a:lnTo>
                    <a:lnTo>
                      <a:pt x="8579" y="88"/>
                    </a:lnTo>
                    <a:lnTo>
                      <a:pt x="8631" y="113"/>
                    </a:lnTo>
                    <a:lnTo>
                      <a:pt x="8680" y="137"/>
                    </a:lnTo>
                    <a:lnTo>
                      <a:pt x="8728" y="166"/>
                    </a:lnTo>
                    <a:lnTo>
                      <a:pt x="8774" y="196"/>
                    </a:lnTo>
                    <a:lnTo>
                      <a:pt x="8820" y="228"/>
                    </a:lnTo>
                    <a:lnTo>
                      <a:pt x="8863" y="261"/>
                    </a:lnTo>
                    <a:lnTo>
                      <a:pt x="8906" y="299"/>
                    </a:lnTo>
                    <a:lnTo>
                      <a:pt x="8947" y="336"/>
                    </a:lnTo>
                    <a:lnTo>
                      <a:pt x="8984" y="376"/>
                    </a:lnTo>
                    <a:lnTo>
                      <a:pt x="9019" y="417"/>
                    </a:lnTo>
                    <a:lnTo>
                      <a:pt x="9055" y="463"/>
                    </a:lnTo>
                    <a:lnTo>
                      <a:pt x="9087" y="507"/>
                    </a:lnTo>
                    <a:lnTo>
                      <a:pt x="9117" y="555"/>
                    </a:lnTo>
                    <a:lnTo>
                      <a:pt x="9143" y="604"/>
                    </a:lnTo>
                    <a:lnTo>
                      <a:pt x="9171" y="652"/>
                    </a:lnTo>
                    <a:lnTo>
                      <a:pt x="9192" y="703"/>
                    </a:lnTo>
                    <a:lnTo>
                      <a:pt x="9214" y="754"/>
                    </a:lnTo>
                    <a:lnTo>
                      <a:pt x="9233" y="809"/>
                    </a:lnTo>
                    <a:lnTo>
                      <a:pt x="9246" y="862"/>
                    </a:lnTo>
                    <a:lnTo>
                      <a:pt x="9260" y="919"/>
                    </a:lnTo>
                    <a:lnTo>
                      <a:pt x="9270" y="976"/>
                    </a:lnTo>
                    <a:lnTo>
                      <a:pt x="9279" y="1032"/>
                    </a:lnTo>
                    <a:lnTo>
                      <a:pt x="9281" y="1092"/>
                    </a:lnTo>
                    <a:lnTo>
                      <a:pt x="9284" y="1151"/>
                    </a:lnTo>
                    <a:lnTo>
                      <a:pt x="9284" y="6373"/>
                    </a:lnTo>
                    <a:lnTo>
                      <a:pt x="9281" y="6433"/>
                    </a:lnTo>
                    <a:lnTo>
                      <a:pt x="9279" y="6492"/>
                    </a:lnTo>
                    <a:lnTo>
                      <a:pt x="9270" y="6548"/>
                    </a:lnTo>
                    <a:lnTo>
                      <a:pt x="9260" y="6605"/>
                    </a:lnTo>
                    <a:lnTo>
                      <a:pt x="9246" y="6662"/>
                    </a:lnTo>
                    <a:lnTo>
                      <a:pt x="9233" y="6716"/>
                    </a:lnTo>
                    <a:lnTo>
                      <a:pt x="9214" y="6770"/>
                    </a:lnTo>
                    <a:lnTo>
                      <a:pt x="9192" y="6821"/>
                    </a:lnTo>
                    <a:lnTo>
                      <a:pt x="9171" y="6872"/>
                    </a:lnTo>
                    <a:lnTo>
                      <a:pt x="9143" y="6923"/>
                    </a:lnTo>
                    <a:lnTo>
                      <a:pt x="9117" y="6972"/>
                    </a:lnTo>
                    <a:lnTo>
                      <a:pt x="9087" y="7018"/>
                    </a:lnTo>
                    <a:lnTo>
                      <a:pt x="9055" y="7064"/>
                    </a:lnTo>
                    <a:lnTo>
                      <a:pt x="9019" y="7107"/>
                    </a:lnTo>
                    <a:lnTo>
                      <a:pt x="8984" y="7148"/>
                    </a:lnTo>
                    <a:lnTo>
                      <a:pt x="8947" y="7188"/>
                    </a:lnTo>
                    <a:lnTo>
                      <a:pt x="8906" y="7229"/>
                    </a:lnTo>
                    <a:lnTo>
                      <a:pt x="8863" y="7264"/>
                    </a:lnTo>
                    <a:lnTo>
                      <a:pt x="8820" y="7298"/>
                    </a:lnTo>
                    <a:lnTo>
                      <a:pt x="8774" y="7331"/>
                    </a:lnTo>
                    <a:lnTo>
                      <a:pt x="8728" y="7361"/>
                    </a:lnTo>
                    <a:lnTo>
                      <a:pt x="8680" y="7388"/>
                    </a:lnTo>
                    <a:lnTo>
                      <a:pt x="8631" y="7412"/>
                    </a:lnTo>
                    <a:lnTo>
                      <a:pt x="8579" y="7436"/>
                    </a:lnTo>
                    <a:lnTo>
                      <a:pt x="8526" y="7457"/>
                    </a:lnTo>
                    <a:lnTo>
                      <a:pt x="8471" y="7474"/>
                    </a:lnTo>
                    <a:lnTo>
                      <a:pt x="8418" y="7490"/>
                    </a:lnTo>
                    <a:lnTo>
                      <a:pt x="8363" y="7503"/>
                    </a:lnTo>
                    <a:lnTo>
                      <a:pt x="8307" y="7515"/>
                    </a:lnTo>
                    <a:lnTo>
                      <a:pt x="8248" y="7522"/>
                    </a:lnTo>
                    <a:lnTo>
                      <a:pt x="8188" y="7526"/>
                    </a:lnTo>
                    <a:lnTo>
                      <a:pt x="8132" y="7528"/>
                    </a:lnTo>
                    <a:close/>
                  </a:path>
                </a:pathLst>
              </a:custGeom>
              <a:solidFill>
                <a:srgbClr val="da7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907920" y="2415960"/>
                <a:ext cx="1501920" cy="1148040"/>
              </a:xfrm>
              <a:custGeom>
                <a:avLst/>
                <a:gdLst/>
                <a:ahLst/>
                <a:rect l="l" t="t" r="r" b="b"/>
                <a:pathLst>
                  <a:path w="9300" h="7545">
                    <a:moveTo>
                      <a:pt x="8140" y="7537"/>
                    </a:moveTo>
                    <a:lnTo>
                      <a:pt x="8140" y="7529"/>
                    </a:lnTo>
                    <a:lnTo>
                      <a:pt x="1161" y="7529"/>
                    </a:lnTo>
                    <a:lnTo>
                      <a:pt x="1104" y="7526"/>
                    </a:lnTo>
                    <a:lnTo>
                      <a:pt x="1044" y="7521"/>
                    </a:lnTo>
                    <a:lnTo>
                      <a:pt x="988" y="7515"/>
                    </a:lnTo>
                    <a:lnTo>
                      <a:pt x="931" y="7505"/>
                    </a:lnTo>
                    <a:lnTo>
                      <a:pt x="875" y="7491"/>
                    </a:lnTo>
                    <a:lnTo>
                      <a:pt x="820" y="7478"/>
                    </a:lnTo>
                    <a:lnTo>
                      <a:pt x="769" y="7459"/>
                    </a:lnTo>
                    <a:lnTo>
                      <a:pt x="715" y="7437"/>
                    </a:lnTo>
                    <a:lnTo>
                      <a:pt x="666" y="7415"/>
                    </a:lnTo>
                    <a:lnTo>
                      <a:pt x="615" y="7388"/>
                    </a:lnTo>
                    <a:lnTo>
                      <a:pt x="567" y="7362"/>
                    </a:lnTo>
                    <a:lnTo>
                      <a:pt x="521" y="7332"/>
                    </a:lnTo>
                    <a:lnTo>
                      <a:pt x="478" y="7300"/>
                    </a:lnTo>
                    <a:lnTo>
                      <a:pt x="434" y="7268"/>
                    </a:lnTo>
                    <a:lnTo>
                      <a:pt x="392" y="7229"/>
                    </a:lnTo>
                    <a:lnTo>
                      <a:pt x="351" y="7192"/>
                    </a:lnTo>
                    <a:lnTo>
                      <a:pt x="313" y="7153"/>
                    </a:lnTo>
                    <a:lnTo>
                      <a:pt x="278" y="7111"/>
                    </a:lnTo>
                    <a:lnTo>
                      <a:pt x="243" y="7068"/>
                    </a:lnTo>
                    <a:lnTo>
                      <a:pt x="213" y="7022"/>
                    </a:lnTo>
                    <a:lnTo>
                      <a:pt x="181" y="6976"/>
                    </a:lnTo>
                    <a:lnTo>
                      <a:pt x="153" y="6927"/>
                    </a:lnTo>
                    <a:lnTo>
                      <a:pt x="130" y="6879"/>
                    </a:lnTo>
                    <a:lnTo>
                      <a:pt x="105" y="6828"/>
                    </a:lnTo>
                    <a:lnTo>
                      <a:pt x="86" y="6776"/>
                    </a:lnTo>
                    <a:lnTo>
                      <a:pt x="68" y="6722"/>
                    </a:lnTo>
                    <a:lnTo>
                      <a:pt x="51" y="6669"/>
                    </a:lnTo>
                    <a:lnTo>
                      <a:pt x="40" y="6614"/>
                    </a:lnTo>
                    <a:lnTo>
                      <a:pt x="30" y="6557"/>
                    </a:lnTo>
                    <a:lnTo>
                      <a:pt x="22" y="6501"/>
                    </a:lnTo>
                    <a:lnTo>
                      <a:pt x="19" y="6442"/>
                    </a:lnTo>
                    <a:lnTo>
                      <a:pt x="17" y="6382"/>
                    </a:lnTo>
                    <a:lnTo>
                      <a:pt x="17" y="1160"/>
                    </a:lnTo>
                    <a:lnTo>
                      <a:pt x="19" y="1101"/>
                    </a:lnTo>
                    <a:lnTo>
                      <a:pt x="22" y="1044"/>
                    </a:lnTo>
                    <a:lnTo>
                      <a:pt x="30" y="988"/>
                    </a:lnTo>
                    <a:lnTo>
                      <a:pt x="40" y="931"/>
                    </a:lnTo>
                    <a:lnTo>
                      <a:pt x="51" y="875"/>
                    </a:lnTo>
                    <a:lnTo>
                      <a:pt x="68" y="820"/>
                    </a:lnTo>
                    <a:lnTo>
                      <a:pt x="86" y="767"/>
                    </a:lnTo>
                    <a:lnTo>
                      <a:pt x="105" y="715"/>
                    </a:lnTo>
                    <a:lnTo>
                      <a:pt x="130" y="664"/>
                    </a:lnTo>
                    <a:lnTo>
                      <a:pt x="153" y="615"/>
                    </a:lnTo>
                    <a:lnTo>
                      <a:pt x="181" y="567"/>
                    </a:lnTo>
                    <a:lnTo>
                      <a:pt x="213" y="521"/>
                    </a:lnTo>
                    <a:lnTo>
                      <a:pt x="243" y="475"/>
                    </a:lnTo>
                    <a:lnTo>
                      <a:pt x="278" y="431"/>
                    </a:lnTo>
                    <a:lnTo>
                      <a:pt x="313" y="391"/>
                    </a:lnTo>
                    <a:lnTo>
                      <a:pt x="351" y="351"/>
                    </a:lnTo>
                    <a:lnTo>
                      <a:pt x="392" y="313"/>
                    </a:lnTo>
                    <a:lnTo>
                      <a:pt x="434" y="278"/>
                    </a:lnTo>
                    <a:lnTo>
                      <a:pt x="478" y="242"/>
                    </a:lnTo>
                    <a:lnTo>
                      <a:pt x="521" y="210"/>
                    </a:lnTo>
                    <a:lnTo>
                      <a:pt x="567" y="180"/>
                    </a:lnTo>
                    <a:lnTo>
                      <a:pt x="615" y="154"/>
                    </a:lnTo>
                    <a:lnTo>
                      <a:pt x="666" y="129"/>
                    </a:lnTo>
                    <a:lnTo>
                      <a:pt x="715" y="106"/>
                    </a:lnTo>
                    <a:lnTo>
                      <a:pt x="769" y="86"/>
                    </a:lnTo>
                    <a:lnTo>
                      <a:pt x="820" y="67"/>
                    </a:lnTo>
                    <a:lnTo>
                      <a:pt x="875" y="51"/>
                    </a:lnTo>
                    <a:lnTo>
                      <a:pt x="931" y="38"/>
                    </a:lnTo>
                    <a:lnTo>
                      <a:pt x="988" y="30"/>
                    </a:lnTo>
                    <a:lnTo>
                      <a:pt x="1044" y="21"/>
                    </a:lnTo>
                    <a:lnTo>
                      <a:pt x="1104" y="16"/>
                    </a:lnTo>
                    <a:lnTo>
                      <a:pt x="1161" y="16"/>
                    </a:lnTo>
                    <a:lnTo>
                      <a:pt x="8140" y="16"/>
                    </a:lnTo>
                    <a:lnTo>
                      <a:pt x="8196" y="16"/>
                    </a:lnTo>
                    <a:lnTo>
                      <a:pt x="8256" y="21"/>
                    </a:lnTo>
                    <a:lnTo>
                      <a:pt x="8313" y="30"/>
                    </a:lnTo>
                    <a:lnTo>
                      <a:pt x="8369" y="38"/>
                    </a:lnTo>
                    <a:lnTo>
                      <a:pt x="8423" y="51"/>
                    </a:lnTo>
                    <a:lnTo>
                      <a:pt x="8479" y="67"/>
                    </a:lnTo>
                    <a:lnTo>
                      <a:pt x="8531" y="86"/>
                    </a:lnTo>
                    <a:lnTo>
                      <a:pt x="8585" y="106"/>
                    </a:lnTo>
                    <a:lnTo>
                      <a:pt x="8633" y="129"/>
                    </a:lnTo>
                    <a:lnTo>
                      <a:pt x="8684" y="154"/>
                    </a:lnTo>
                    <a:lnTo>
                      <a:pt x="8730" y="180"/>
                    </a:lnTo>
                    <a:lnTo>
                      <a:pt x="8780" y="210"/>
                    </a:lnTo>
                    <a:lnTo>
                      <a:pt x="8822" y="242"/>
                    </a:lnTo>
                    <a:lnTo>
                      <a:pt x="8866" y="278"/>
                    </a:lnTo>
                    <a:lnTo>
                      <a:pt x="8909" y="313"/>
                    </a:lnTo>
                    <a:lnTo>
                      <a:pt x="8946" y="351"/>
                    </a:lnTo>
                    <a:lnTo>
                      <a:pt x="8987" y="391"/>
                    </a:lnTo>
                    <a:lnTo>
                      <a:pt x="9022" y="431"/>
                    </a:lnTo>
                    <a:lnTo>
                      <a:pt x="9054" y="475"/>
                    </a:lnTo>
                    <a:lnTo>
                      <a:pt x="9087" y="521"/>
                    </a:lnTo>
                    <a:lnTo>
                      <a:pt x="9116" y="567"/>
                    </a:lnTo>
                    <a:lnTo>
                      <a:pt x="9146" y="615"/>
                    </a:lnTo>
                    <a:lnTo>
                      <a:pt x="9171" y="664"/>
                    </a:lnTo>
                    <a:lnTo>
                      <a:pt x="9192" y="715"/>
                    </a:lnTo>
                    <a:lnTo>
                      <a:pt x="9213" y="767"/>
                    </a:lnTo>
                    <a:lnTo>
                      <a:pt x="9233" y="820"/>
                    </a:lnTo>
                    <a:lnTo>
                      <a:pt x="9246" y="875"/>
                    </a:lnTo>
                    <a:lnTo>
                      <a:pt x="9259" y="931"/>
                    </a:lnTo>
                    <a:lnTo>
                      <a:pt x="9270" y="988"/>
                    </a:lnTo>
                    <a:lnTo>
                      <a:pt x="9278" y="1044"/>
                    </a:lnTo>
                    <a:lnTo>
                      <a:pt x="9282" y="1101"/>
                    </a:lnTo>
                    <a:lnTo>
                      <a:pt x="9284" y="1160"/>
                    </a:lnTo>
                    <a:lnTo>
                      <a:pt x="9284" y="6382"/>
                    </a:lnTo>
                    <a:lnTo>
                      <a:pt x="9282" y="6442"/>
                    </a:lnTo>
                    <a:lnTo>
                      <a:pt x="9278" y="6501"/>
                    </a:lnTo>
                    <a:lnTo>
                      <a:pt x="9270" y="6557"/>
                    </a:lnTo>
                    <a:lnTo>
                      <a:pt x="9259" y="6614"/>
                    </a:lnTo>
                    <a:lnTo>
                      <a:pt x="9246" y="6669"/>
                    </a:lnTo>
                    <a:lnTo>
                      <a:pt x="9233" y="6722"/>
                    </a:lnTo>
                    <a:lnTo>
                      <a:pt x="9213" y="6776"/>
                    </a:lnTo>
                    <a:lnTo>
                      <a:pt x="9192" y="6828"/>
                    </a:lnTo>
                    <a:lnTo>
                      <a:pt x="9171" y="6879"/>
                    </a:lnTo>
                    <a:lnTo>
                      <a:pt x="9146" y="6927"/>
                    </a:lnTo>
                    <a:lnTo>
                      <a:pt x="9116" y="6976"/>
                    </a:lnTo>
                    <a:lnTo>
                      <a:pt x="9087" y="7022"/>
                    </a:lnTo>
                    <a:lnTo>
                      <a:pt x="9054" y="7068"/>
                    </a:lnTo>
                    <a:lnTo>
                      <a:pt x="9022" y="7111"/>
                    </a:lnTo>
                    <a:lnTo>
                      <a:pt x="8987" y="7153"/>
                    </a:lnTo>
                    <a:lnTo>
                      <a:pt x="8946" y="7192"/>
                    </a:lnTo>
                    <a:lnTo>
                      <a:pt x="8909" y="7229"/>
                    </a:lnTo>
                    <a:lnTo>
                      <a:pt x="8866" y="7268"/>
                    </a:lnTo>
                    <a:lnTo>
                      <a:pt x="8822" y="7300"/>
                    </a:lnTo>
                    <a:lnTo>
                      <a:pt x="8780" y="7332"/>
                    </a:lnTo>
                    <a:lnTo>
                      <a:pt x="8730" y="7362"/>
                    </a:lnTo>
                    <a:lnTo>
                      <a:pt x="8684" y="7388"/>
                    </a:lnTo>
                    <a:lnTo>
                      <a:pt x="8633" y="7415"/>
                    </a:lnTo>
                    <a:lnTo>
                      <a:pt x="8585" y="7437"/>
                    </a:lnTo>
                    <a:lnTo>
                      <a:pt x="8531" y="7459"/>
                    </a:lnTo>
                    <a:lnTo>
                      <a:pt x="8479" y="7478"/>
                    </a:lnTo>
                    <a:lnTo>
                      <a:pt x="8423" y="7491"/>
                    </a:lnTo>
                    <a:lnTo>
                      <a:pt x="8369" y="7505"/>
                    </a:lnTo>
                    <a:lnTo>
                      <a:pt x="8313" y="7515"/>
                    </a:lnTo>
                    <a:lnTo>
                      <a:pt x="8256" y="7521"/>
                    </a:lnTo>
                    <a:lnTo>
                      <a:pt x="8196" y="7526"/>
                    </a:lnTo>
                    <a:lnTo>
                      <a:pt x="8140" y="7529"/>
                    </a:lnTo>
                    <a:lnTo>
                      <a:pt x="8140" y="7537"/>
                    </a:lnTo>
                    <a:lnTo>
                      <a:pt x="8140" y="7545"/>
                    </a:lnTo>
                    <a:lnTo>
                      <a:pt x="8199" y="7542"/>
                    </a:lnTo>
                    <a:lnTo>
                      <a:pt x="8256" y="7537"/>
                    </a:lnTo>
                    <a:lnTo>
                      <a:pt x="8315" y="7531"/>
                    </a:lnTo>
                    <a:lnTo>
                      <a:pt x="8371" y="7521"/>
                    </a:lnTo>
                    <a:lnTo>
                      <a:pt x="8428" y="7507"/>
                    </a:lnTo>
                    <a:lnTo>
                      <a:pt x="8483" y="7491"/>
                    </a:lnTo>
                    <a:lnTo>
                      <a:pt x="8536" y="7473"/>
                    </a:lnTo>
                    <a:lnTo>
                      <a:pt x="8590" y="7453"/>
                    </a:lnTo>
                    <a:lnTo>
                      <a:pt x="8642" y="7429"/>
                    </a:lnTo>
                    <a:lnTo>
                      <a:pt x="8693" y="7404"/>
                    </a:lnTo>
                    <a:lnTo>
                      <a:pt x="8741" y="7375"/>
                    </a:lnTo>
                    <a:lnTo>
                      <a:pt x="8787" y="7346"/>
                    </a:lnTo>
                    <a:lnTo>
                      <a:pt x="8833" y="7312"/>
                    </a:lnTo>
                    <a:lnTo>
                      <a:pt x="8877" y="7278"/>
                    </a:lnTo>
                    <a:lnTo>
                      <a:pt x="8919" y="7243"/>
                    </a:lnTo>
                    <a:lnTo>
                      <a:pt x="8960" y="7202"/>
                    </a:lnTo>
                    <a:lnTo>
                      <a:pt x="8997" y="7162"/>
                    </a:lnTo>
                    <a:lnTo>
                      <a:pt x="9036" y="7121"/>
                    </a:lnTo>
                    <a:lnTo>
                      <a:pt x="9068" y="7079"/>
                    </a:lnTo>
                    <a:lnTo>
                      <a:pt x="9100" y="7033"/>
                    </a:lnTo>
                    <a:lnTo>
                      <a:pt x="9133" y="6984"/>
                    </a:lnTo>
                    <a:lnTo>
                      <a:pt x="9160" y="6935"/>
                    </a:lnTo>
                    <a:lnTo>
                      <a:pt x="9184" y="6886"/>
                    </a:lnTo>
                    <a:lnTo>
                      <a:pt x="9208" y="6835"/>
                    </a:lnTo>
                    <a:lnTo>
                      <a:pt x="9230" y="6782"/>
                    </a:lnTo>
                    <a:lnTo>
                      <a:pt x="9249" y="6727"/>
                    </a:lnTo>
                    <a:lnTo>
                      <a:pt x="9262" y="6674"/>
                    </a:lnTo>
                    <a:lnTo>
                      <a:pt x="9275" y="6617"/>
                    </a:lnTo>
                    <a:lnTo>
                      <a:pt x="9287" y="6561"/>
                    </a:lnTo>
                    <a:lnTo>
                      <a:pt x="9294" y="6501"/>
                    </a:lnTo>
                    <a:lnTo>
                      <a:pt x="9298" y="6442"/>
                    </a:lnTo>
                    <a:lnTo>
                      <a:pt x="9300" y="6382"/>
                    </a:lnTo>
                    <a:lnTo>
                      <a:pt x="9300" y="1160"/>
                    </a:lnTo>
                    <a:lnTo>
                      <a:pt x="9298" y="1101"/>
                    </a:lnTo>
                    <a:lnTo>
                      <a:pt x="9294" y="1041"/>
                    </a:lnTo>
                    <a:lnTo>
                      <a:pt x="9287" y="985"/>
                    </a:lnTo>
                    <a:lnTo>
                      <a:pt x="9275" y="928"/>
                    </a:lnTo>
                    <a:lnTo>
                      <a:pt x="9262" y="871"/>
                    </a:lnTo>
                    <a:lnTo>
                      <a:pt x="9249" y="815"/>
                    </a:lnTo>
                    <a:lnTo>
                      <a:pt x="9230" y="760"/>
                    </a:lnTo>
                    <a:lnTo>
                      <a:pt x="9208" y="709"/>
                    </a:lnTo>
                    <a:lnTo>
                      <a:pt x="9184" y="658"/>
                    </a:lnTo>
                    <a:lnTo>
                      <a:pt x="9160" y="607"/>
                    </a:lnTo>
                    <a:lnTo>
                      <a:pt x="9133" y="558"/>
                    </a:lnTo>
                    <a:lnTo>
                      <a:pt x="9100" y="513"/>
                    </a:lnTo>
                    <a:lnTo>
                      <a:pt x="9068" y="467"/>
                    </a:lnTo>
                    <a:lnTo>
                      <a:pt x="9036" y="424"/>
                    </a:lnTo>
                    <a:lnTo>
                      <a:pt x="8997" y="380"/>
                    </a:lnTo>
                    <a:lnTo>
                      <a:pt x="8960" y="340"/>
                    </a:lnTo>
                    <a:lnTo>
                      <a:pt x="8919" y="302"/>
                    </a:lnTo>
                    <a:lnTo>
                      <a:pt x="8877" y="265"/>
                    </a:lnTo>
                    <a:lnTo>
                      <a:pt x="8833" y="230"/>
                    </a:lnTo>
                    <a:lnTo>
                      <a:pt x="8787" y="198"/>
                    </a:lnTo>
                    <a:lnTo>
                      <a:pt x="8741" y="168"/>
                    </a:lnTo>
                    <a:lnTo>
                      <a:pt x="8693" y="141"/>
                    </a:lnTo>
                    <a:lnTo>
                      <a:pt x="8642" y="113"/>
                    </a:lnTo>
                    <a:lnTo>
                      <a:pt x="8590" y="92"/>
                    </a:lnTo>
                    <a:lnTo>
                      <a:pt x="8536" y="70"/>
                    </a:lnTo>
                    <a:lnTo>
                      <a:pt x="8483" y="51"/>
                    </a:lnTo>
                    <a:lnTo>
                      <a:pt x="8428" y="35"/>
                    </a:lnTo>
                    <a:lnTo>
                      <a:pt x="8371" y="25"/>
                    </a:lnTo>
                    <a:lnTo>
                      <a:pt x="8315" y="14"/>
                    </a:lnTo>
                    <a:lnTo>
                      <a:pt x="8256" y="5"/>
                    </a:lnTo>
                    <a:lnTo>
                      <a:pt x="8199" y="0"/>
                    </a:lnTo>
                    <a:lnTo>
                      <a:pt x="8140" y="0"/>
                    </a:lnTo>
                    <a:lnTo>
                      <a:pt x="1161" y="0"/>
                    </a:lnTo>
                    <a:lnTo>
                      <a:pt x="1101" y="0"/>
                    </a:lnTo>
                    <a:lnTo>
                      <a:pt x="1042" y="5"/>
                    </a:lnTo>
                    <a:lnTo>
                      <a:pt x="985" y="14"/>
                    </a:lnTo>
                    <a:lnTo>
                      <a:pt x="928" y="25"/>
                    </a:lnTo>
                    <a:lnTo>
                      <a:pt x="871" y="35"/>
                    </a:lnTo>
                    <a:lnTo>
                      <a:pt x="818" y="51"/>
                    </a:lnTo>
                    <a:lnTo>
                      <a:pt x="764" y="70"/>
                    </a:lnTo>
                    <a:lnTo>
                      <a:pt x="710" y="92"/>
                    </a:lnTo>
                    <a:lnTo>
                      <a:pt x="659" y="113"/>
                    </a:lnTo>
                    <a:lnTo>
                      <a:pt x="608" y="141"/>
                    </a:lnTo>
                    <a:lnTo>
                      <a:pt x="558" y="168"/>
                    </a:lnTo>
                    <a:lnTo>
                      <a:pt x="512" y="198"/>
                    </a:lnTo>
                    <a:lnTo>
                      <a:pt x="467" y="230"/>
                    </a:lnTo>
                    <a:lnTo>
                      <a:pt x="424" y="265"/>
                    </a:lnTo>
                    <a:lnTo>
                      <a:pt x="381" y="302"/>
                    </a:lnTo>
                    <a:lnTo>
                      <a:pt x="340" y="340"/>
                    </a:lnTo>
                    <a:lnTo>
                      <a:pt x="302" y="380"/>
                    </a:lnTo>
                    <a:lnTo>
                      <a:pt x="265" y="424"/>
                    </a:lnTo>
                    <a:lnTo>
                      <a:pt x="233" y="467"/>
                    </a:lnTo>
                    <a:lnTo>
                      <a:pt x="199" y="513"/>
                    </a:lnTo>
                    <a:lnTo>
                      <a:pt x="167" y="558"/>
                    </a:lnTo>
                    <a:lnTo>
                      <a:pt x="141" y="607"/>
                    </a:lnTo>
                    <a:lnTo>
                      <a:pt x="114" y="658"/>
                    </a:lnTo>
                    <a:lnTo>
                      <a:pt x="92" y="709"/>
                    </a:lnTo>
                    <a:lnTo>
                      <a:pt x="70" y="760"/>
                    </a:lnTo>
                    <a:lnTo>
                      <a:pt x="51" y="815"/>
                    </a:lnTo>
                    <a:lnTo>
                      <a:pt x="38" y="871"/>
                    </a:lnTo>
                    <a:lnTo>
                      <a:pt x="24" y="928"/>
                    </a:lnTo>
                    <a:lnTo>
                      <a:pt x="14" y="985"/>
                    </a:lnTo>
                    <a:lnTo>
                      <a:pt x="6" y="1041"/>
                    </a:lnTo>
                    <a:lnTo>
                      <a:pt x="3" y="1101"/>
                    </a:lnTo>
                    <a:lnTo>
                      <a:pt x="0" y="1160"/>
                    </a:lnTo>
                    <a:lnTo>
                      <a:pt x="0" y="6382"/>
                    </a:lnTo>
                    <a:lnTo>
                      <a:pt x="3" y="6442"/>
                    </a:lnTo>
                    <a:lnTo>
                      <a:pt x="6" y="6501"/>
                    </a:lnTo>
                    <a:lnTo>
                      <a:pt x="14" y="6561"/>
                    </a:lnTo>
                    <a:lnTo>
                      <a:pt x="24" y="6617"/>
                    </a:lnTo>
                    <a:lnTo>
                      <a:pt x="38" y="6674"/>
                    </a:lnTo>
                    <a:lnTo>
                      <a:pt x="51" y="6727"/>
                    </a:lnTo>
                    <a:lnTo>
                      <a:pt x="70" y="6782"/>
                    </a:lnTo>
                    <a:lnTo>
                      <a:pt x="92" y="6835"/>
                    </a:lnTo>
                    <a:lnTo>
                      <a:pt x="114" y="6886"/>
                    </a:lnTo>
                    <a:lnTo>
                      <a:pt x="141" y="6935"/>
                    </a:lnTo>
                    <a:lnTo>
                      <a:pt x="167" y="6984"/>
                    </a:lnTo>
                    <a:lnTo>
                      <a:pt x="199" y="7033"/>
                    </a:lnTo>
                    <a:lnTo>
                      <a:pt x="233" y="7079"/>
                    </a:lnTo>
                    <a:lnTo>
                      <a:pt x="265" y="7121"/>
                    </a:lnTo>
                    <a:lnTo>
                      <a:pt x="302" y="7162"/>
                    </a:lnTo>
                    <a:lnTo>
                      <a:pt x="340" y="7202"/>
                    </a:lnTo>
                    <a:lnTo>
                      <a:pt x="381" y="7243"/>
                    </a:lnTo>
                    <a:lnTo>
                      <a:pt x="424" y="7278"/>
                    </a:lnTo>
                    <a:lnTo>
                      <a:pt x="467" y="7312"/>
                    </a:lnTo>
                    <a:lnTo>
                      <a:pt x="512" y="7346"/>
                    </a:lnTo>
                    <a:lnTo>
                      <a:pt x="558" y="7375"/>
                    </a:lnTo>
                    <a:lnTo>
                      <a:pt x="608" y="7404"/>
                    </a:lnTo>
                    <a:lnTo>
                      <a:pt x="659" y="7429"/>
                    </a:lnTo>
                    <a:lnTo>
                      <a:pt x="710" y="7453"/>
                    </a:lnTo>
                    <a:lnTo>
                      <a:pt x="764" y="7473"/>
                    </a:lnTo>
                    <a:lnTo>
                      <a:pt x="818" y="7491"/>
                    </a:lnTo>
                    <a:lnTo>
                      <a:pt x="871" y="7507"/>
                    </a:lnTo>
                    <a:lnTo>
                      <a:pt x="928" y="7521"/>
                    </a:lnTo>
                    <a:lnTo>
                      <a:pt x="985" y="7531"/>
                    </a:lnTo>
                    <a:lnTo>
                      <a:pt x="1042" y="7537"/>
                    </a:lnTo>
                    <a:lnTo>
                      <a:pt x="1101" y="7542"/>
                    </a:lnTo>
                    <a:lnTo>
                      <a:pt x="1161" y="7545"/>
                    </a:lnTo>
                    <a:lnTo>
                      <a:pt x="8140" y="7545"/>
                    </a:lnTo>
                    <a:lnTo>
                      <a:pt x="8140" y="7537"/>
                    </a:lnTo>
                    <a:close/>
                  </a:path>
                </a:pathLst>
              </a:custGeom>
              <a:solidFill>
                <a:srgbClr val="773f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928800" y="2438280"/>
                <a:ext cx="1455480" cy="1104840"/>
              </a:xfrm>
              <a:custGeom>
                <a:avLst/>
                <a:gdLst/>
                <a:ahLst/>
                <a:rect l="l" t="t" r="r" b="b"/>
                <a:pathLst>
                  <a:path w="9017" h="7261">
                    <a:moveTo>
                      <a:pt x="9017" y="6241"/>
                    </a:moveTo>
                    <a:lnTo>
                      <a:pt x="9014" y="6295"/>
                    </a:lnTo>
                    <a:lnTo>
                      <a:pt x="9012" y="6346"/>
                    </a:lnTo>
                    <a:lnTo>
                      <a:pt x="9003" y="6397"/>
                    </a:lnTo>
                    <a:lnTo>
                      <a:pt x="8996" y="6449"/>
                    </a:lnTo>
                    <a:lnTo>
                      <a:pt x="8984" y="6498"/>
                    </a:lnTo>
                    <a:lnTo>
                      <a:pt x="8971" y="6546"/>
                    </a:lnTo>
                    <a:lnTo>
                      <a:pt x="8955" y="6592"/>
                    </a:lnTo>
                    <a:lnTo>
                      <a:pt x="8936" y="6638"/>
                    </a:lnTo>
                    <a:lnTo>
                      <a:pt x="8915" y="6683"/>
                    </a:lnTo>
                    <a:lnTo>
                      <a:pt x="8893" y="6729"/>
                    </a:lnTo>
                    <a:lnTo>
                      <a:pt x="8869" y="6770"/>
                    </a:lnTo>
                    <a:lnTo>
                      <a:pt x="8842" y="6813"/>
                    </a:lnTo>
                    <a:lnTo>
                      <a:pt x="8814" y="6851"/>
                    </a:lnTo>
                    <a:lnTo>
                      <a:pt x="8782" y="6892"/>
                    </a:lnTo>
                    <a:lnTo>
                      <a:pt x="8752" y="6927"/>
                    </a:lnTo>
                    <a:lnTo>
                      <a:pt x="8717" y="6964"/>
                    </a:lnTo>
                    <a:lnTo>
                      <a:pt x="8683" y="6996"/>
                    </a:lnTo>
                    <a:lnTo>
                      <a:pt x="8644" y="7029"/>
                    </a:lnTo>
                    <a:lnTo>
                      <a:pt x="8607" y="7058"/>
                    </a:lnTo>
                    <a:lnTo>
                      <a:pt x="8566" y="7088"/>
                    </a:lnTo>
                    <a:lnTo>
                      <a:pt x="8526" y="7113"/>
                    </a:lnTo>
                    <a:lnTo>
                      <a:pt x="8483" y="7139"/>
                    </a:lnTo>
                    <a:lnTo>
                      <a:pt x="8439" y="7161"/>
                    </a:lnTo>
                    <a:lnTo>
                      <a:pt x="8393" y="7180"/>
                    </a:lnTo>
                    <a:lnTo>
                      <a:pt x="8347" y="7199"/>
                    </a:lnTo>
                    <a:lnTo>
                      <a:pt x="8299" y="7215"/>
                    </a:lnTo>
                    <a:lnTo>
                      <a:pt x="8250" y="7229"/>
                    </a:lnTo>
                    <a:lnTo>
                      <a:pt x="8202" y="7240"/>
                    </a:lnTo>
                    <a:lnTo>
                      <a:pt x="8153" y="7250"/>
                    </a:lnTo>
                    <a:lnTo>
                      <a:pt x="8102" y="7256"/>
                    </a:lnTo>
                    <a:lnTo>
                      <a:pt x="8048" y="7261"/>
                    </a:lnTo>
                    <a:lnTo>
                      <a:pt x="7997" y="7261"/>
                    </a:lnTo>
                    <a:lnTo>
                      <a:pt x="1020" y="7261"/>
                    </a:lnTo>
                    <a:lnTo>
                      <a:pt x="967" y="7261"/>
                    </a:lnTo>
                    <a:lnTo>
                      <a:pt x="916" y="7256"/>
                    </a:lnTo>
                    <a:lnTo>
                      <a:pt x="864" y="7250"/>
                    </a:lnTo>
                    <a:lnTo>
                      <a:pt x="815" y="7240"/>
                    </a:lnTo>
                    <a:lnTo>
                      <a:pt x="764" y="7229"/>
                    </a:lnTo>
                    <a:lnTo>
                      <a:pt x="716" y="7215"/>
                    </a:lnTo>
                    <a:lnTo>
                      <a:pt x="670" y="7199"/>
                    </a:lnTo>
                    <a:lnTo>
                      <a:pt x="624" y="7180"/>
                    </a:lnTo>
                    <a:lnTo>
                      <a:pt x="578" y="7161"/>
                    </a:lnTo>
                    <a:lnTo>
                      <a:pt x="534" y="7139"/>
                    </a:lnTo>
                    <a:lnTo>
                      <a:pt x="492" y="7113"/>
                    </a:lnTo>
                    <a:lnTo>
                      <a:pt x="451" y="7088"/>
                    </a:lnTo>
                    <a:lnTo>
                      <a:pt x="410" y="7058"/>
                    </a:lnTo>
                    <a:lnTo>
                      <a:pt x="373" y="7029"/>
                    </a:lnTo>
                    <a:lnTo>
                      <a:pt x="335" y="6996"/>
                    </a:lnTo>
                    <a:lnTo>
                      <a:pt x="300" y="6964"/>
                    </a:lnTo>
                    <a:lnTo>
                      <a:pt x="265" y="6927"/>
                    </a:lnTo>
                    <a:lnTo>
                      <a:pt x="233" y="6892"/>
                    </a:lnTo>
                    <a:lnTo>
                      <a:pt x="203" y="6851"/>
                    </a:lnTo>
                    <a:lnTo>
                      <a:pt x="175" y="6813"/>
                    </a:lnTo>
                    <a:lnTo>
                      <a:pt x="149" y="6770"/>
                    </a:lnTo>
                    <a:lnTo>
                      <a:pt x="124" y="6729"/>
                    </a:lnTo>
                    <a:lnTo>
                      <a:pt x="101" y="6683"/>
                    </a:lnTo>
                    <a:lnTo>
                      <a:pt x="81" y="6638"/>
                    </a:lnTo>
                    <a:lnTo>
                      <a:pt x="62" y="6592"/>
                    </a:lnTo>
                    <a:lnTo>
                      <a:pt x="46" y="6546"/>
                    </a:lnTo>
                    <a:lnTo>
                      <a:pt x="33" y="6498"/>
                    </a:lnTo>
                    <a:lnTo>
                      <a:pt x="21" y="6449"/>
                    </a:lnTo>
                    <a:lnTo>
                      <a:pt x="11" y="6397"/>
                    </a:lnTo>
                    <a:lnTo>
                      <a:pt x="5" y="6346"/>
                    </a:lnTo>
                    <a:lnTo>
                      <a:pt x="3" y="6295"/>
                    </a:lnTo>
                    <a:lnTo>
                      <a:pt x="0" y="6241"/>
                    </a:lnTo>
                    <a:lnTo>
                      <a:pt x="0" y="1019"/>
                    </a:lnTo>
                    <a:lnTo>
                      <a:pt x="3" y="967"/>
                    </a:lnTo>
                    <a:lnTo>
                      <a:pt x="5" y="916"/>
                    </a:lnTo>
                    <a:lnTo>
                      <a:pt x="11" y="865"/>
                    </a:lnTo>
                    <a:lnTo>
                      <a:pt x="21" y="814"/>
                    </a:lnTo>
                    <a:lnTo>
                      <a:pt x="33" y="766"/>
                    </a:lnTo>
                    <a:lnTo>
                      <a:pt x="46" y="716"/>
                    </a:lnTo>
                    <a:lnTo>
                      <a:pt x="62" y="668"/>
                    </a:lnTo>
                    <a:lnTo>
                      <a:pt x="81" y="622"/>
                    </a:lnTo>
                    <a:lnTo>
                      <a:pt x="101" y="577"/>
                    </a:lnTo>
                    <a:lnTo>
                      <a:pt x="124" y="534"/>
                    </a:lnTo>
                    <a:lnTo>
                      <a:pt x="149" y="490"/>
                    </a:lnTo>
                    <a:lnTo>
                      <a:pt x="175" y="449"/>
                    </a:lnTo>
                    <a:lnTo>
                      <a:pt x="203" y="409"/>
                    </a:lnTo>
                    <a:lnTo>
                      <a:pt x="233" y="372"/>
                    </a:lnTo>
                    <a:lnTo>
                      <a:pt x="265" y="334"/>
                    </a:lnTo>
                    <a:lnTo>
                      <a:pt x="300" y="299"/>
                    </a:lnTo>
                    <a:lnTo>
                      <a:pt x="335" y="267"/>
                    </a:lnTo>
                    <a:lnTo>
                      <a:pt x="373" y="234"/>
                    </a:lnTo>
                    <a:lnTo>
                      <a:pt x="410" y="204"/>
                    </a:lnTo>
                    <a:lnTo>
                      <a:pt x="451" y="175"/>
                    </a:lnTo>
                    <a:lnTo>
                      <a:pt x="492" y="147"/>
                    </a:lnTo>
                    <a:lnTo>
                      <a:pt x="534" y="124"/>
                    </a:lnTo>
                    <a:lnTo>
                      <a:pt x="578" y="101"/>
                    </a:lnTo>
                    <a:lnTo>
                      <a:pt x="624" y="80"/>
                    </a:lnTo>
                    <a:lnTo>
                      <a:pt x="670" y="62"/>
                    </a:lnTo>
                    <a:lnTo>
                      <a:pt x="716" y="45"/>
                    </a:lnTo>
                    <a:lnTo>
                      <a:pt x="764" y="32"/>
                    </a:lnTo>
                    <a:lnTo>
                      <a:pt x="815" y="21"/>
                    </a:lnTo>
                    <a:lnTo>
                      <a:pt x="864" y="13"/>
                    </a:lnTo>
                    <a:lnTo>
                      <a:pt x="916" y="5"/>
                    </a:lnTo>
                    <a:lnTo>
                      <a:pt x="967" y="2"/>
                    </a:lnTo>
                    <a:lnTo>
                      <a:pt x="1020" y="0"/>
                    </a:lnTo>
                    <a:lnTo>
                      <a:pt x="7997" y="0"/>
                    </a:lnTo>
                    <a:lnTo>
                      <a:pt x="8048" y="2"/>
                    </a:lnTo>
                    <a:lnTo>
                      <a:pt x="8102" y="5"/>
                    </a:lnTo>
                    <a:lnTo>
                      <a:pt x="8153" y="13"/>
                    </a:lnTo>
                    <a:lnTo>
                      <a:pt x="8202" y="21"/>
                    </a:lnTo>
                    <a:lnTo>
                      <a:pt x="8250" y="32"/>
                    </a:lnTo>
                    <a:lnTo>
                      <a:pt x="8299" y="45"/>
                    </a:lnTo>
                    <a:lnTo>
                      <a:pt x="8347" y="62"/>
                    </a:lnTo>
                    <a:lnTo>
                      <a:pt x="8393" y="80"/>
                    </a:lnTo>
                    <a:lnTo>
                      <a:pt x="8439" y="101"/>
                    </a:lnTo>
                    <a:lnTo>
                      <a:pt x="8483" y="124"/>
                    </a:lnTo>
                    <a:lnTo>
                      <a:pt x="8526" y="147"/>
                    </a:lnTo>
                    <a:lnTo>
                      <a:pt x="8566" y="175"/>
                    </a:lnTo>
                    <a:lnTo>
                      <a:pt x="8607" y="204"/>
                    </a:lnTo>
                    <a:lnTo>
                      <a:pt x="8644" y="234"/>
                    </a:lnTo>
                    <a:lnTo>
                      <a:pt x="8683" y="267"/>
                    </a:lnTo>
                    <a:lnTo>
                      <a:pt x="8717" y="299"/>
                    </a:lnTo>
                    <a:lnTo>
                      <a:pt x="8752" y="334"/>
                    </a:lnTo>
                    <a:lnTo>
                      <a:pt x="8782" y="372"/>
                    </a:lnTo>
                    <a:lnTo>
                      <a:pt x="8814" y="409"/>
                    </a:lnTo>
                    <a:lnTo>
                      <a:pt x="8842" y="449"/>
                    </a:lnTo>
                    <a:lnTo>
                      <a:pt x="8869" y="490"/>
                    </a:lnTo>
                    <a:lnTo>
                      <a:pt x="8893" y="534"/>
                    </a:lnTo>
                    <a:lnTo>
                      <a:pt x="8915" y="577"/>
                    </a:lnTo>
                    <a:lnTo>
                      <a:pt x="8936" y="622"/>
                    </a:lnTo>
                    <a:lnTo>
                      <a:pt x="8955" y="668"/>
                    </a:lnTo>
                    <a:lnTo>
                      <a:pt x="8971" y="716"/>
                    </a:lnTo>
                    <a:lnTo>
                      <a:pt x="8984" y="766"/>
                    </a:lnTo>
                    <a:lnTo>
                      <a:pt x="8996" y="814"/>
                    </a:lnTo>
                    <a:lnTo>
                      <a:pt x="9003" y="865"/>
                    </a:lnTo>
                    <a:lnTo>
                      <a:pt x="9012" y="916"/>
                    </a:lnTo>
                    <a:lnTo>
                      <a:pt x="9014" y="967"/>
                    </a:lnTo>
                    <a:lnTo>
                      <a:pt x="9017" y="1019"/>
                    </a:lnTo>
                    <a:lnTo>
                      <a:pt x="9017" y="6241"/>
                    </a:lnTo>
                    <a:close/>
                  </a:path>
                </a:pathLst>
              </a:custGeom>
              <a:solidFill>
                <a:srgbClr val="3aab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927000" y="2436840"/>
                <a:ext cx="1459080" cy="1108080"/>
              </a:xfrm>
              <a:custGeom>
                <a:avLst/>
                <a:gdLst/>
                <a:ahLst/>
                <a:rect l="l" t="t" r="r" b="b"/>
                <a:pathLst>
                  <a:path w="9032" h="7275">
                    <a:moveTo>
                      <a:pt x="9024" y="6247"/>
                    </a:moveTo>
                    <a:lnTo>
                      <a:pt x="9016" y="6247"/>
                    </a:lnTo>
                    <a:lnTo>
                      <a:pt x="9014" y="6301"/>
                    </a:lnTo>
                    <a:lnTo>
                      <a:pt x="9010" y="6352"/>
                    </a:lnTo>
                    <a:lnTo>
                      <a:pt x="9003" y="6403"/>
                    </a:lnTo>
                    <a:lnTo>
                      <a:pt x="8994" y="6452"/>
                    </a:lnTo>
                    <a:lnTo>
                      <a:pt x="8984" y="6500"/>
                    </a:lnTo>
                    <a:lnTo>
                      <a:pt x="8970" y="6550"/>
                    </a:lnTo>
                    <a:lnTo>
                      <a:pt x="8954" y="6595"/>
                    </a:lnTo>
                    <a:lnTo>
                      <a:pt x="8934" y="6641"/>
                    </a:lnTo>
                    <a:lnTo>
                      <a:pt x="8916" y="6687"/>
                    </a:lnTo>
                    <a:lnTo>
                      <a:pt x="8892" y="6730"/>
                    </a:lnTo>
                    <a:lnTo>
                      <a:pt x="8867" y="6774"/>
                    </a:lnTo>
                    <a:lnTo>
                      <a:pt x="8844" y="6813"/>
                    </a:lnTo>
                    <a:lnTo>
                      <a:pt x="8814" y="6854"/>
                    </a:lnTo>
                    <a:lnTo>
                      <a:pt x="8784" y="6892"/>
                    </a:lnTo>
                    <a:lnTo>
                      <a:pt x="8752" y="6928"/>
                    </a:lnTo>
                    <a:lnTo>
                      <a:pt x="8719" y="6962"/>
                    </a:lnTo>
                    <a:lnTo>
                      <a:pt x="8684" y="6997"/>
                    </a:lnTo>
                    <a:lnTo>
                      <a:pt x="8646" y="7030"/>
                    </a:lnTo>
                    <a:lnTo>
                      <a:pt x="8609" y="7059"/>
                    </a:lnTo>
                    <a:lnTo>
                      <a:pt x="8568" y="7087"/>
                    </a:lnTo>
                    <a:lnTo>
                      <a:pt x="8527" y="7113"/>
                    </a:lnTo>
                    <a:lnTo>
                      <a:pt x="8487" y="7138"/>
                    </a:lnTo>
                    <a:lnTo>
                      <a:pt x="8441" y="7159"/>
                    </a:lnTo>
                    <a:lnTo>
                      <a:pt x="8398" y="7181"/>
                    </a:lnTo>
                    <a:lnTo>
                      <a:pt x="8352" y="7197"/>
                    </a:lnTo>
                    <a:lnTo>
                      <a:pt x="8303" y="7213"/>
                    </a:lnTo>
                    <a:lnTo>
                      <a:pt x="8257" y="7227"/>
                    </a:lnTo>
                    <a:lnTo>
                      <a:pt x="8206" y="7240"/>
                    </a:lnTo>
                    <a:lnTo>
                      <a:pt x="8158" y="7248"/>
                    </a:lnTo>
                    <a:lnTo>
                      <a:pt x="8106" y="7253"/>
                    </a:lnTo>
                    <a:lnTo>
                      <a:pt x="8055" y="7259"/>
                    </a:lnTo>
                    <a:lnTo>
                      <a:pt x="8004" y="7259"/>
                    </a:lnTo>
                    <a:lnTo>
                      <a:pt x="1027" y="7259"/>
                    </a:lnTo>
                    <a:lnTo>
                      <a:pt x="974" y="7259"/>
                    </a:lnTo>
                    <a:lnTo>
                      <a:pt x="923" y="7253"/>
                    </a:lnTo>
                    <a:lnTo>
                      <a:pt x="874" y="7248"/>
                    </a:lnTo>
                    <a:lnTo>
                      <a:pt x="822" y="7240"/>
                    </a:lnTo>
                    <a:lnTo>
                      <a:pt x="774" y="7227"/>
                    </a:lnTo>
                    <a:lnTo>
                      <a:pt x="725" y="7213"/>
                    </a:lnTo>
                    <a:lnTo>
                      <a:pt x="679" y="7197"/>
                    </a:lnTo>
                    <a:lnTo>
                      <a:pt x="633" y="7181"/>
                    </a:lnTo>
                    <a:lnTo>
                      <a:pt x="587" y="7159"/>
                    </a:lnTo>
                    <a:lnTo>
                      <a:pt x="544" y="7138"/>
                    </a:lnTo>
                    <a:lnTo>
                      <a:pt x="502" y="7113"/>
                    </a:lnTo>
                    <a:lnTo>
                      <a:pt x="461" y="7087"/>
                    </a:lnTo>
                    <a:lnTo>
                      <a:pt x="423" y="7059"/>
                    </a:lnTo>
                    <a:lnTo>
                      <a:pt x="382" y="7030"/>
                    </a:lnTo>
                    <a:lnTo>
                      <a:pt x="348" y="6997"/>
                    </a:lnTo>
                    <a:lnTo>
                      <a:pt x="313" y="6962"/>
                    </a:lnTo>
                    <a:lnTo>
                      <a:pt x="277" y="6928"/>
                    </a:lnTo>
                    <a:lnTo>
                      <a:pt x="247" y="6892"/>
                    </a:lnTo>
                    <a:lnTo>
                      <a:pt x="215" y="6854"/>
                    </a:lnTo>
                    <a:lnTo>
                      <a:pt x="188" y="6813"/>
                    </a:lnTo>
                    <a:lnTo>
                      <a:pt x="161" y="6774"/>
                    </a:lnTo>
                    <a:lnTo>
                      <a:pt x="137" y="6730"/>
                    </a:lnTo>
                    <a:lnTo>
                      <a:pt x="115" y="6687"/>
                    </a:lnTo>
                    <a:lnTo>
                      <a:pt x="94" y="6641"/>
                    </a:lnTo>
                    <a:lnTo>
                      <a:pt x="78" y="6595"/>
                    </a:lnTo>
                    <a:lnTo>
                      <a:pt x="62" y="6550"/>
                    </a:lnTo>
                    <a:lnTo>
                      <a:pt x="48" y="6500"/>
                    </a:lnTo>
                    <a:lnTo>
                      <a:pt x="37" y="6452"/>
                    </a:lnTo>
                    <a:lnTo>
                      <a:pt x="26" y="6403"/>
                    </a:lnTo>
                    <a:lnTo>
                      <a:pt x="21" y="6352"/>
                    </a:lnTo>
                    <a:lnTo>
                      <a:pt x="16" y="6301"/>
                    </a:lnTo>
                    <a:lnTo>
                      <a:pt x="16" y="6247"/>
                    </a:lnTo>
                    <a:lnTo>
                      <a:pt x="16" y="1025"/>
                    </a:lnTo>
                    <a:lnTo>
                      <a:pt x="16" y="973"/>
                    </a:lnTo>
                    <a:lnTo>
                      <a:pt x="21" y="922"/>
                    </a:lnTo>
                    <a:lnTo>
                      <a:pt x="26" y="871"/>
                    </a:lnTo>
                    <a:lnTo>
                      <a:pt x="37" y="823"/>
                    </a:lnTo>
                    <a:lnTo>
                      <a:pt x="48" y="774"/>
                    </a:lnTo>
                    <a:lnTo>
                      <a:pt x="62" y="726"/>
                    </a:lnTo>
                    <a:lnTo>
                      <a:pt x="78" y="677"/>
                    </a:lnTo>
                    <a:lnTo>
                      <a:pt x="94" y="632"/>
                    </a:lnTo>
                    <a:lnTo>
                      <a:pt x="115" y="588"/>
                    </a:lnTo>
                    <a:lnTo>
                      <a:pt x="137" y="545"/>
                    </a:lnTo>
                    <a:lnTo>
                      <a:pt x="161" y="501"/>
                    </a:lnTo>
                    <a:lnTo>
                      <a:pt x="188" y="461"/>
                    </a:lnTo>
                    <a:lnTo>
                      <a:pt x="215" y="421"/>
                    </a:lnTo>
                    <a:lnTo>
                      <a:pt x="247" y="383"/>
                    </a:lnTo>
                    <a:lnTo>
                      <a:pt x="277" y="346"/>
                    </a:lnTo>
                    <a:lnTo>
                      <a:pt x="313" y="310"/>
                    </a:lnTo>
                    <a:lnTo>
                      <a:pt x="348" y="278"/>
                    </a:lnTo>
                    <a:lnTo>
                      <a:pt x="382" y="245"/>
                    </a:lnTo>
                    <a:lnTo>
                      <a:pt x="423" y="216"/>
                    </a:lnTo>
                    <a:lnTo>
                      <a:pt x="461" y="189"/>
                    </a:lnTo>
                    <a:lnTo>
                      <a:pt x="502" y="162"/>
                    </a:lnTo>
                    <a:lnTo>
                      <a:pt x="544" y="137"/>
                    </a:lnTo>
                    <a:lnTo>
                      <a:pt x="587" y="114"/>
                    </a:lnTo>
                    <a:lnTo>
                      <a:pt x="633" y="95"/>
                    </a:lnTo>
                    <a:lnTo>
                      <a:pt x="679" y="75"/>
                    </a:lnTo>
                    <a:lnTo>
                      <a:pt x="725" y="59"/>
                    </a:lnTo>
                    <a:lnTo>
                      <a:pt x="774" y="45"/>
                    </a:lnTo>
                    <a:lnTo>
                      <a:pt x="822" y="35"/>
                    </a:lnTo>
                    <a:lnTo>
                      <a:pt x="874" y="27"/>
                    </a:lnTo>
                    <a:lnTo>
                      <a:pt x="923" y="19"/>
                    </a:lnTo>
                    <a:lnTo>
                      <a:pt x="974" y="17"/>
                    </a:lnTo>
                    <a:lnTo>
                      <a:pt x="1027" y="13"/>
                    </a:lnTo>
                    <a:lnTo>
                      <a:pt x="8004" y="13"/>
                    </a:lnTo>
                    <a:lnTo>
                      <a:pt x="8055" y="17"/>
                    </a:lnTo>
                    <a:lnTo>
                      <a:pt x="8106" y="19"/>
                    </a:lnTo>
                    <a:lnTo>
                      <a:pt x="8158" y="27"/>
                    </a:lnTo>
                    <a:lnTo>
                      <a:pt x="8206" y="35"/>
                    </a:lnTo>
                    <a:lnTo>
                      <a:pt x="8257" y="45"/>
                    </a:lnTo>
                    <a:lnTo>
                      <a:pt x="8303" y="59"/>
                    </a:lnTo>
                    <a:lnTo>
                      <a:pt x="8352" y="75"/>
                    </a:lnTo>
                    <a:lnTo>
                      <a:pt x="8398" y="95"/>
                    </a:lnTo>
                    <a:lnTo>
                      <a:pt x="8441" y="114"/>
                    </a:lnTo>
                    <a:lnTo>
                      <a:pt x="8487" y="137"/>
                    </a:lnTo>
                    <a:lnTo>
                      <a:pt x="8527" y="162"/>
                    </a:lnTo>
                    <a:lnTo>
                      <a:pt x="8568" y="189"/>
                    </a:lnTo>
                    <a:lnTo>
                      <a:pt x="8609" y="216"/>
                    </a:lnTo>
                    <a:lnTo>
                      <a:pt x="8646" y="245"/>
                    </a:lnTo>
                    <a:lnTo>
                      <a:pt x="8684" y="278"/>
                    </a:lnTo>
                    <a:lnTo>
                      <a:pt x="8719" y="310"/>
                    </a:lnTo>
                    <a:lnTo>
                      <a:pt x="8752" y="346"/>
                    </a:lnTo>
                    <a:lnTo>
                      <a:pt x="8784" y="383"/>
                    </a:lnTo>
                    <a:lnTo>
                      <a:pt x="8814" y="421"/>
                    </a:lnTo>
                    <a:lnTo>
                      <a:pt x="8844" y="461"/>
                    </a:lnTo>
                    <a:lnTo>
                      <a:pt x="8867" y="501"/>
                    </a:lnTo>
                    <a:lnTo>
                      <a:pt x="8892" y="545"/>
                    </a:lnTo>
                    <a:lnTo>
                      <a:pt x="8916" y="588"/>
                    </a:lnTo>
                    <a:lnTo>
                      <a:pt x="8934" y="632"/>
                    </a:lnTo>
                    <a:lnTo>
                      <a:pt x="8954" y="677"/>
                    </a:lnTo>
                    <a:lnTo>
                      <a:pt x="8970" y="726"/>
                    </a:lnTo>
                    <a:lnTo>
                      <a:pt x="8984" y="774"/>
                    </a:lnTo>
                    <a:lnTo>
                      <a:pt x="8994" y="823"/>
                    </a:lnTo>
                    <a:lnTo>
                      <a:pt x="9003" y="871"/>
                    </a:lnTo>
                    <a:lnTo>
                      <a:pt x="9010" y="922"/>
                    </a:lnTo>
                    <a:lnTo>
                      <a:pt x="9014" y="973"/>
                    </a:lnTo>
                    <a:lnTo>
                      <a:pt x="9016" y="1025"/>
                    </a:lnTo>
                    <a:lnTo>
                      <a:pt x="9016" y="6247"/>
                    </a:lnTo>
                    <a:lnTo>
                      <a:pt x="9024" y="6247"/>
                    </a:lnTo>
                    <a:lnTo>
                      <a:pt x="9032" y="6247"/>
                    </a:lnTo>
                    <a:lnTo>
                      <a:pt x="9032" y="1025"/>
                    </a:lnTo>
                    <a:lnTo>
                      <a:pt x="9030" y="973"/>
                    </a:lnTo>
                    <a:lnTo>
                      <a:pt x="9026" y="920"/>
                    </a:lnTo>
                    <a:lnTo>
                      <a:pt x="9019" y="869"/>
                    </a:lnTo>
                    <a:lnTo>
                      <a:pt x="9010" y="820"/>
                    </a:lnTo>
                    <a:lnTo>
                      <a:pt x="9000" y="768"/>
                    </a:lnTo>
                    <a:lnTo>
                      <a:pt x="8986" y="720"/>
                    </a:lnTo>
                    <a:lnTo>
                      <a:pt x="8970" y="671"/>
                    </a:lnTo>
                    <a:lnTo>
                      <a:pt x="8952" y="625"/>
                    </a:lnTo>
                    <a:lnTo>
                      <a:pt x="8929" y="580"/>
                    </a:lnTo>
                    <a:lnTo>
                      <a:pt x="8908" y="537"/>
                    </a:lnTo>
                    <a:lnTo>
                      <a:pt x="8883" y="494"/>
                    </a:lnTo>
                    <a:lnTo>
                      <a:pt x="8856" y="450"/>
                    </a:lnTo>
                    <a:lnTo>
                      <a:pt x="8827" y="410"/>
                    </a:lnTo>
                    <a:lnTo>
                      <a:pt x="8798" y="372"/>
                    </a:lnTo>
                    <a:lnTo>
                      <a:pt x="8765" y="335"/>
                    </a:lnTo>
                    <a:lnTo>
                      <a:pt x="8729" y="300"/>
                    </a:lnTo>
                    <a:lnTo>
                      <a:pt x="8695" y="264"/>
                    </a:lnTo>
                    <a:lnTo>
                      <a:pt x="8657" y="232"/>
                    </a:lnTo>
                    <a:lnTo>
                      <a:pt x="8619" y="202"/>
                    </a:lnTo>
                    <a:lnTo>
                      <a:pt x="8579" y="176"/>
                    </a:lnTo>
                    <a:lnTo>
                      <a:pt x="8536" y="148"/>
                    </a:lnTo>
                    <a:lnTo>
                      <a:pt x="8492" y="121"/>
                    </a:lnTo>
                    <a:lnTo>
                      <a:pt x="8449" y="100"/>
                    </a:lnTo>
                    <a:lnTo>
                      <a:pt x="8403" y="79"/>
                    </a:lnTo>
                    <a:lnTo>
                      <a:pt x="8358" y="63"/>
                    </a:lnTo>
                    <a:lnTo>
                      <a:pt x="8308" y="45"/>
                    </a:lnTo>
                    <a:lnTo>
                      <a:pt x="8260" y="33"/>
                    </a:lnTo>
                    <a:lnTo>
                      <a:pt x="8211" y="19"/>
                    </a:lnTo>
                    <a:lnTo>
                      <a:pt x="8160" y="11"/>
                    </a:lnTo>
                    <a:lnTo>
                      <a:pt x="8109" y="6"/>
                    </a:lnTo>
                    <a:lnTo>
                      <a:pt x="8057" y="0"/>
                    </a:lnTo>
                    <a:lnTo>
                      <a:pt x="8004" y="0"/>
                    </a:lnTo>
                    <a:lnTo>
                      <a:pt x="1027" y="0"/>
                    </a:lnTo>
                    <a:lnTo>
                      <a:pt x="974" y="0"/>
                    </a:lnTo>
                    <a:lnTo>
                      <a:pt x="923" y="6"/>
                    </a:lnTo>
                    <a:lnTo>
                      <a:pt x="871" y="11"/>
                    </a:lnTo>
                    <a:lnTo>
                      <a:pt x="820" y="19"/>
                    </a:lnTo>
                    <a:lnTo>
                      <a:pt x="771" y="33"/>
                    </a:lnTo>
                    <a:lnTo>
                      <a:pt x="723" y="45"/>
                    </a:lnTo>
                    <a:lnTo>
                      <a:pt x="674" y="63"/>
                    </a:lnTo>
                    <a:lnTo>
                      <a:pt x="628" y="79"/>
                    </a:lnTo>
                    <a:lnTo>
                      <a:pt x="582" y="100"/>
                    </a:lnTo>
                    <a:lnTo>
                      <a:pt x="536" y="121"/>
                    </a:lnTo>
                    <a:lnTo>
                      <a:pt x="493" y="148"/>
                    </a:lnTo>
                    <a:lnTo>
                      <a:pt x="453" y="176"/>
                    </a:lnTo>
                    <a:lnTo>
                      <a:pt x="412" y="202"/>
                    </a:lnTo>
                    <a:lnTo>
                      <a:pt x="375" y="232"/>
                    </a:lnTo>
                    <a:lnTo>
                      <a:pt x="336" y="264"/>
                    </a:lnTo>
                    <a:lnTo>
                      <a:pt x="302" y="300"/>
                    </a:lnTo>
                    <a:lnTo>
                      <a:pt x="267" y="335"/>
                    </a:lnTo>
                    <a:lnTo>
                      <a:pt x="234" y="372"/>
                    </a:lnTo>
                    <a:lnTo>
                      <a:pt x="205" y="410"/>
                    </a:lnTo>
                    <a:lnTo>
                      <a:pt x="175" y="450"/>
                    </a:lnTo>
                    <a:lnTo>
                      <a:pt x="148" y="494"/>
                    </a:lnTo>
                    <a:lnTo>
                      <a:pt x="124" y="537"/>
                    </a:lnTo>
                    <a:lnTo>
                      <a:pt x="102" y="580"/>
                    </a:lnTo>
                    <a:lnTo>
                      <a:pt x="80" y="625"/>
                    </a:lnTo>
                    <a:lnTo>
                      <a:pt x="62" y="671"/>
                    </a:lnTo>
                    <a:lnTo>
                      <a:pt x="46" y="720"/>
                    </a:lnTo>
                    <a:lnTo>
                      <a:pt x="32" y="768"/>
                    </a:lnTo>
                    <a:lnTo>
                      <a:pt x="21" y="820"/>
                    </a:lnTo>
                    <a:lnTo>
                      <a:pt x="10" y="869"/>
                    </a:lnTo>
                    <a:lnTo>
                      <a:pt x="5" y="920"/>
                    </a:lnTo>
                    <a:lnTo>
                      <a:pt x="2" y="973"/>
                    </a:lnTo>
                    <a:lnTo>
                      <a:pt x="0" y="1025"/>
                    </a:lnTo>
                    <a:lnTo>
                      <a:pt x="0" y="6247"/>
                    </a:lnTo>
                    <a:lnTo>
                      <a:pt x="2" y="6301"/>
                    </a:lnTo>
                    <a:lnTo>
                      <a:pt x="5" y="6352"/>
                    </a:lnTo>
                    <a:lnTo>
                      <a:pt x="10" y="6403"/>
                    </a:lnTo>
                    <a:lnTo>
                      <a:pt x="21" y="6455"/>
                    </a:lnTo>
                    <a:lnTo>
                      <a:pt x="32" y="6506"/>
                    </a:lnTo>
                    <a:lnTo>
                      <a:pt x="46" y="6555"/>
                    </a:lnTo>
                    <a:lnTo>
                      <a:pt x="62" y="6601"/>
                    </a:lnTo>
                    <a:lnTo>
                      <a:pt x="80" y="6649"/>
                    </a:lnTo>
                    <a:lnTo>
                      <a:pt x="102" y="6695"/>
                    </a:lnTo>
                    <a:lnTo>
                      <a:pt x="124" y="6739"/>
                    </a:lnTo>
                    <a:lnTo>
                      <a:pt x="148" y="6781"/>
                    </a:lnTo>
                    <a:lnTo>
                      <a:pt x="175" y="6822"/>
                    </a:lnTo>
                    <a:lnTo>
                      <a:pt x="205" y="6862"/>
                    </a:lnTo>
                    <a:lnTo>
                      <a:pt x="234" y="6903"/>
                    </a:lnTo>
                    <a:lnTo>
                      <a:pt x="267" y="6938"/>
                    </a:lnTo>
                    <a:lnTo>
                      <a:pt x="302" y="6976"/>
                    </a:lnTo>
                    <a:lnTo>
                      <a:pt x="336" y="7008"/>
                    </a:lnTo>
                    <a:lnTo>
                      <a:pt x="375" y="7041"/>
                    </a:lnTo>
                    <a:lnTo>
                      <a:pt x="412" y="7073"/>
                    </a:lnTo>
                    <a:lnTo>
                      <a:pt x="453" y="7099"/>
                    </a:lnTo>
                    <a:lnTo>
                      <a:pt x="493" y="7126"/>
                    </a:lnTo>
                    <a:lnTo>
                      <a:pt x="536" y="7151"/>
                    </a:lnTo>
                    <a:lnTo>
                      <a:pt x="582" y="7175"/>
                    </a:lnTo>
                    <a:lnTo>
                      <a:pt x="628" y="7195"/>
                    </a:lnTo>
                    <a:lnTo>
                      <a:pt x="674" y="7213"/>
                    </a:lnTo>
                    <a:lnTo>
                      <a:pt x="723" y="7230"/>
                    </a:lnTo>
                    <a:lnTo>
                      <a:pt x="771" y="7243"/>
                    </a:lnTo>
                    <a:lnTo>
                      <a:pt x="820" y="7253"/>
                    </a:lnTo>
                    <a:lnTo>
                      <a:pt x="871" y="7264"/>
                    </a:lnTo>
                    <a:lnTo>
                      <a:pt x="923" y="7269"/>
                    </a:lnTo>
                    <a:lnTo>
                      <a:pt x="974" y="7275"/>
                    </a:lnTo>
                    <a:lnTo>
                      <a:pt x="1027" y="7275"/>
                    </a:lnTo>
                    <a:lnTo>
                      <a:pt x="8004" y="7275"/>
                    </a:lnTo>
                    <a:lnTo>
                      <a:pt x="8057" y="7275"/>
                    </a:lnTo>
                    <a:lnTo>
                      <a:pt x="8109" y="7269"/>
                    </a:lnTo>
                    <a:lnTo>
                      <a:pt x="8160" y="7264"/>
                    </a:lnTo>
                    <a:lnTo>
                      <a:pt x="8211" y="7253"/>
                    </a:lnTo>
                    <a:lnTo>
                      <a:pt x="8260" y="7243"/>
                    </a:lnTo>
                    <a:lnTo>
                      <a:pt x="8308" y="7230"/>
                    </a:lnTo>
                    <a:lnTo>
                      <a:pt x="8358" y="7213"/>
                    </a:lnTo>
                    <a:lnTo>
                      <a:pt x="8403" y="7195"/>
                    </a:lnTo>
                    <a:lnTo>
                      <a:pt x="8449" y="7175"/>
                    </a:lnTo>
                    <a:lnTo>
                      <a:pt x="8492" y="7151"/>
                    </a:lnTo>
                    <a:lnTo>
                      <a:pt x="8536" y="7126"/>
                    </a:lnTo>
                    <a:lnTo>
                      <a:pt x="8579" y="7099"/>
                    </a:lnTo>
                    <a:lnTo>
                      <a:pt x="8619" y="7073"/>
                    </a:lnTo>
                    <a:lnTo>
                      <a:pt x="8657" y="7041"/>
                    </a:lnTo>
                    <a:lnTo>
                      <a:pt x="8695" y="7008"/>
                    </a:lnTo>
                    <a:lnTo>
                      <a:pt x="8729" y="6976"/>
                    </a:lnTo>
                    <a:lnTo>
                      <a:pt x="8765" y="6938"/>
                    </a:lnTo>
                    <a:lnTo>
                      <a:pt x="8798" y="6903"/>
                    </a:lnTo>
                    <a:lnTo>
                      <a:pt x="8827" y="6862"/>
                    </a:lnTo>
                    <a:lnTo>
                      <a:pt x="8856" y="6822"/>
                    </a:lnTo>
                    <a:lnTo>
                      <a:pt x="8883" y="6781"/>
                    </a:lnTo>
                    <a:lnTo>
                      <a:pt x="8908" y="6739"/>
                    </a:lnTo>
                    <a:lnTo>
                      <a:pt x="8929" y="6695"/>
                    </a:lnTo>
                    <a:lnTo>
                      <a:pt x="8952" y="6649"/>
                    </a:lnTo>
                    <a:lnTo>
                      <a:pt x="8970" y="6601"/>
                    </a:lnTo>
                    <a:lnTo>
                      <a:pt x="8986" y="6555"/>
                    </a:lnTo>
                    <a:lnTo>
                      <a:pt x="9000" y="6506"/>
                    </a:lnTo>
                    <a:lnTo>
                      <a:pt x="9010" y="6455"/>
                    </a:lnTo>
                    <a:lnTo>
                      <a:pt x="9019" y="6403"/>
                    </a:lnTo>
                    <a:lnTo>
                      <a:pt x="9026" y="6352"/>
                    </a:lnTo>
                    <a:lnTo>
                      <a:pt x="9030" y="6301"/>
                    </a:lnTo>
                    <a:lnTo>
                      <a:pt x="9032" y="6247"/>
                    </a:lnTo>
                    <a:lnTo>
                      <a:pt x="9024" y="6247"/>
                    </a:lnTo>
                    <a:close/>
                  </a:path>
                </a:pathLst>
              </a:custGeom>
              <a:solidFill>
                <a:srgbClr val="773f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928800" y="2743200"/>
                <a:ext cx="1455480" cy="798480"/>
              </a:xfrm>
              <a:custGeom>
                <a:avLst/>
                <a:gdLst/>
                <a:ahLst/>
                <a:rect l="l" t="t" r="r" b="b"/>
                <a:pathLst>
                  <a:path w="9008" h="5255">
                    <a:moveTo>
                      <a:pt x="9000" y="4092"/>
                    </a:moveTo>
                    <a:lnTo>
                      <a:pt x="8838" y="4138"/>
                    </a:lnTo>
                    <a:lnTo>
                      <a:pt x="8671" y="4189"/>
                    </a:lnTo>
                    <a:lnTo>
                      <a:pt x="8501" y="4240"/>
                    </a:lnTo>
                    <a:lnTo>
                      <a:pt x="8331" y="4286"/>
                    </a:lnTo>
                    <a:lnTo>
                      <a:pt x="8161" y="4330"/>
                    </a:lnTo>
                    <a:lnTo>
                      <a:pt x="8077" y="4346"/>
                    </a:lnTo>
                    <a:lnTo>
                      <a:pt x="7993" y="4362"/>
                    </a:lnTo>
                    <a:lnTo>
                      <a:pt x="7912" y="4376"/>
                    </a:lnTo>
                    <a:lnTo>
                      <a:pt x="7831" y="4386"/>
                    </a:lnTo>
                    <a:lnTo>
                      <a:pt x="7753" y="4394"/>
                    </a:lnTo>
                    <a:lnTo>
                      <a:pt x="7675" y="4397"/>
                    </a:lnTo>
                    <a:lnTo>
                      <a:pt x="7683" y="4408"/>
                    </a:lnTo>
                    <a:lnTo>
                      <a:pt x="7723" y="4440"/>
                    </a:lnTo>
                    <a:lnTo>
                      <a:pt x="7764" y="4475"/>
                    </a:lnTo>
                    <a:lnTo>
                      <a:pt x="7804" y="4524"/>
                    </a:lnTo>
                    <a:lnTo>
                      <a:pt x="7839" y="4572"/>
                    </a:lnTo>
                    <a:lnTo>
                      <a:pt x="7871" y="4627"/>
                    </a:lnTo>
                    <a:lnTo>
                      <a:pt x="7899" y="4683"/>
                    </a:lnTo>
                    <a:lnTo>
                      <a:pt x="7921" y="4745"/>
                    </a:lnTo>
                    <a:lnTo>
                      <a:pt x="7937" y="4807"/>
                    </a:lnTo>
                    <a:lnTo>
                      <a:pt x="7945" y="4872"/>
                    </a:lnTo>
                    <a:lnTo>
                      <a:pt x="7947" y="4904"/>
                    </a:lnTo>
                    <a:lnTo>
                      <a:pt x="7947" y="4940"/>
                    </a:lnTo>
                    <a:lnTo>
                      <a:pt x="7947" y="4968"/>
                    </a:lnTo>
                    <a:lnTo>
                      <a:pt x="7947" y="4998"/>
                    </a:lnTo>
                    <a:lnTo>
                      <a:pt x="7947" y="5034"/>
                    </a:lnTo>
                    <a:lnTo>
                      <a:pt x="7945" y="5066"/>
                    </a:lnTo>
                    <a:lnTo>
                      <a:pt x="7939" y="5101"/>
                    </a:lnTo>
                    <a:lnTo>
                      <a:pt x="7933" y="5134"/>
                    </a:lnTo>
                    <a:lnTo>
                      <a:pt x="7926" y="5163"/>
                    </a:lnTo>
                    <a:lnTo>
                      <a:pt x="7915" y="5196"/>
                    </a:lnTo>
                    <a:lnTo>
                      <a:pt x="7905" y="5226"/>
                    </a:lnTo>
                    <a:lnTo>
                      <a:pt x="7891" y="5255"/>
                    </a:lnTo>
                    <a:lnTo>
                      <a:pt x="7988" y="5255"/>
                    </a:lnTo>
                    <a:lnTo>
                      <a:pt x="8039" y="5255"/>
                    </a:lnTo>
                    <a:lnTo>
                      <a:pt x="8090" y="5249"/>
                    </a:lnTo>
                    <a:lnTo>
                      <a:pt x="8142" y="5244"/>
                    </a:lnTo>
                    <a:lnTo>
                      <a:pt x="8190" y="5236"/>
                    </a:lnTo>
                    <a:lnTo>
                      <a:pt x="8241" y="5223"/>
                    </a:lnTo>
                    <a:lnTo>
                      <a:pt x="8287" y="5209"/>
                    </a:lnTo>
                    <a:lnTo>
                      <a:pt x="8336" y="5193"/>
                    </a:lnTo>
                    <a:lnTo>
                      <a:pt x="8382" y="5177"/>
                    </a:lnTo>
                    <a:lnTo>
                      <a:pt x="8425" y="5155"/>
                    </a:lnTo>
                    <a:lnTo>
                      <a:pt x="8471" y="5134"/>
                    </a:lnTo>
                    <a:lnTo>
                      <a:pt x="8511" y="5109"/>
                    </a:lnTo>
                    <a:lnTo>
                      <a:pt x="8552" y="5083"/>
                    </a:lnTo>
                    <a:lnTo>
                      <a:pt x="8593" y="5055"/>
                    </a:lnTo>
                    <a:lnTo>
                      <a:pt x="8630" y="5026"/>
                    </a:lnTo>
                    <a:lnTo>
                      <a:pt x="8668" y="4993"/>
                    </a:lnTo>
                    <a:lnTo>
                      <a:pt x="8703" y="4958"/>
                    </a:lnTo>
                    <a:lnTo>
                      <a:pt x="8736" y="4924"/>
                    </a:lnTo>
                    <a:lnTo>
                      <a:pt x="8768" y="4888"/>
                    </a:lnTo>
                    <a:lnTo>
                      <a:pt x="8798" y="4850"/>
                    </a:lnTo>
                    <a:lnTo>
                      <a:pt x="8828" y="4809"/>
                    </a:lnTo>
                    <a:lnTo>
                      <a:pt x="8851" y="4770"/>
                    </a:lnTo>
                    <a:lnTo>
                      <a:pt x="8876" y="4726"/>
                    </a:lnTo>
                    <a:lnTo>
                      <a:pt x="8900" y="4683"/>
                    </a:lnTo>
                    <a:lnTo>
                      <a:pt x="8918" y="4637"/>
                    </a:lnTo>
                    <a:lnTo>
                      <a:pt x="8938" y="4591"/>
                    </a:lnTo>
                    <a:lnTo>
                      <a:pt x="8954" y="4546"/>
                    </a:lnTo>
                    <a:lnTo>
                      <a:pt x="8968" y="4496"/>
                    </a:lnTo>
                    <a:lnTo>
                      <a:pt x="8978" y="4448"/>
                    </a:lnTo>
                    <a:lnTo>
                      <a:pt x="8987" y="4399"/>
                    </a:lnTo>
                    <a:lnTo>
                      <a:pt x="8994" y="4348"/>
                    </a:lnTo>
                    <a:lnTo>
                      <a:pt x="8998" y="4297"/>
                    </a:lnTo>
                    <a:lnTo>
                      <a:pt x="9000" y="4243"/>
                    </a:lnTo>
                    <a:lnTo>
                      <a:pt x="9008" y="4243"/>
                    </a:lnTo>
                    <a:lnTo>
                      <a:pt x="9000" y="4243"/>
                    </a:lnTo>
                    <a:lnTo>
                      <a:pt x="9000" y="4092"/>
                    </a:lnTo>
                    <a:close/>
                    <a:moveTo>
                      <a:pt x="1892" y="2668"/>
                    </a:moveTo>
                    <a:lnTo>
                      <a:pt x="1262" y="3423"/>
                    </a:lnTo>
                    <a:lnTo>
                      <a:pt x="1300" y="3445"/>
                    </a:lnTo>
                    <a:lnTo>
                      <a:pt x="1335" y="3469"/>
                    </a:lnTo>
                    <a:lnTo>
                      <a:pt x="1354" y="3485"/>
                    </a:lnTo>
                    <a:lnTo>
                      <a:pt x="1370" y="3501"/>
                    </a:lnTo>
                    <a:lnTo>
                      <a:pt x="1381" y="3517"/>
                    </a:lnTo>
                    <a:lnTo>
                      <a:pt x="1392" y="3536"/>
                    </a:lnTo>
                    <a:lnTo>
                      <a:pt x="1400" y="3574"/>
                    </a:lnTo>
                    <a:lnTo>
                      <a:pt x="1406" y="3607"/>
                    </a:lnTo>
                    <a:lnTo>
                      <a:pt x="1402" y="3623"/>
                    </a:lnTo>
                    <a:lnTo>
                      <a:pt x="1400" y="3639"/>
                    </a:lnTo>
                    <a:lnTo>
                      <a:pt x="1395" y="3653"/>
                    </a:lnTo>
                    <a:lnTo>
                      <a:pt x="1386" y="3664"/>
                    </a:lnTo>
                    <a:lnTo>
                      <a:pt x="1370" y="3676"/>
                    </a:lnTo>
                    <a:lnTo>
                      <a:pt x="1351" y="3688"/>
                    </a:lnTo>
                    <a:lnTo>
                      <a:pt x="1330" y="3693"/>
                    </a:lnTo>
                    <a:lnTo>
                      <a:pt x="1305" y="3693"/>
                    </a:lnTo>
                    <a:lnTo>
                      <a:pt x="1287" y="3693"/>
                    </a:lnTo>
                    <a:lnTo>
                      <a:pt x="1266" y="3690"/>
                    </a:lnTo>
                    <a:lnTo>
                      <a:pt x="1278" y="3709"/>
                    </a:lnTo>
                    <a:lnTo>
                      <a:pt x="1287" y="3728"/>
                    </a:lnTo>
                    <a:lnTo>
                      <a:pt x="1292" y="3750"/>
                    </a:lnTo>
                    <a:lnTo>
                      <a:pt x="1295" y="3771"/>
                    </a:lnTo>
                    <a:lnTo>
                      <a:pt x="1292" y="3793"/>
                    </a:lnTo>
                    <a:lnTo>
                      <a:pt x="1287" y="3814"/>
                    </a:lnTo>
                    <a:lnTo>
                      <a:pt x="1278" y="3828"/>
                    </a:lnTo>
                    <a:lnTo>
                      <a:pt x="1271" y="3842"/>
                    </a:lnTo>
                    <a:lnTo>
                      <a:pt x="1260" y="3853"/>
                    </a:lnTo>
                    <a:lnTo>
                      <a:pt x="1246" y="3863"/>
                    </a:lnTo>
                    <a:lnTo>
                      <a:pt x="1230" y="3871"/>
                    </a:lnTo>
                    <a:lnTo>
                      <a:pt x="1214" y="3876"/>
                    </a:lnTo>
                    <a:lnTo>
                      <a:pt x="1195" y="3881"/>
                    </a:lnTo>
                    <a:lnTo>
                      <a:pt x="1176" y="3881"/>
                    </a:lnTo>
                    <a:lnTo>
                      <a:pt x="1174" y="3881"/>
                    </a:lnTo>
                    <a:lnTo>
                      <a:pt x="1149" y="3881"/>
                    </a:lnTo>
                    <a:lnTo>
                      <a:pt x="1130" y="3876"/>
                    </a:lnTo>
                    <a:lnTo>
                      <a:pt x="1103" y="3869"/>
                    </a:lnTo>
                    <a:lnTo>
                      <a:pt x="1117" y="3888"/>
                    </a:lnTo>
                    <a:lnTo>
                      <a:pt x="1128" y="3909"/>
                    </a:lnTo>
                    <a:lnTo>
                      <a:pt x="1133" y="3930"/>
                    </a:lnTo>
                    <a:lnTo>
                      <a:pt x="1135" y="3952"/>
                    </a:lnTo>
                    <a:lnTo>
                      <a:pt x="1133" y="3971"/>
                    </a:lnTo>
                    <a:lnTo>
                      <a:pt x="1128" y="3989"/>
                    </a:lnTo>
                    <a:lnTo>
                      <a:pt x="1119" y="4003"/>
                    </a:lnTo>
                    <a:lnTo>
                      <a:pt x="1109" y="4017"/>
                    </a:lnTo>
                    <a:lnTo>
                      <a:pt x="1098" y="4028"/>
                    </a:lnTo>
                    <a:lnTo>
                      <a:pt x="1084" y="4038"/>
                    </a:lnTo>
                    <a:lnTo>
                      <a:pt x="1071" y="4047"/>
                    </a:lnTo>
                    <a:lnTo>
                      <a:pt x="1057" y="4052"/>
                    </a:lnTo>
                    <a:lnTo>
                      <a:pt x="1043" y="4054"/>
                    </a:lnTo>
                    <a:lnTo>
                      <a:pt x="1031" y="4058"/>
                    </a:lnTo>
                    <a:lnTo>
                      <a:pt x="1017" y="4058"/>
                    </a:lnTo>
                    <a:lnTo>
                      <a:pt x="1015" y="4058"/>
                    </a:lnTo>
                    <a:lnTo>
                      <a:pt x="995" y="4058"/>
                    </a:lnTo>
                    <a:lnTo>
                      <a:pt x="976" y="4054"/>
                    </a:lnTo>
                    <a:lnTo>
                      <a:pt x="958" y="4049"/>
                    </a:lnTo>
                    <a:lnTo>
                      <a:pt x="939" y="4040"/>
                    </a:lnTo>
                    <a:lnTo>
                      <a:pt x="930" y="4049"/>
                    </a:lnTo>
                    <a:lnTo>
                      <a:pt x="930" y="4065"/>
                    </a:lnTo>
                    <a:lnTo>
                      <a:pt x="928" y="4086"/>
                    </a:lnTo>
                    <a:lnTo>
                      <a:pt x="925" y="4109"/>
                    </a:lnTo>
                    <a:lnTo>
                      <a:pt x="914" y="4127"/>
                    </a:lnTo>
                    <a:lnTo>
                      <a:pt x="909" y="4138"/>
                    </a:lnTo>
                    <a:lnTo>
                      <a:pt x="901" y="4143"/>
                    </a:lnTo>
                    <a:lnTo>
                      <a:pt x="893" y="4152"/>
                    </a:lnTo>
                    <a:lnTo>
                      <a:pt x="884" y="4155"/>
                    </a:lnTo>
                    <a:lnTo>
                      <a:pt x="874" y="4160"/>
                    </a:lnTo>
                    <a:lnTo>
                      <a:pt x="863" y="4160"/>
                    </a:lnTo>
                    <a:lnTo>
                      <a:pt x="861" y="4160"/>
                    </a:lnTo>
                    <a:lnTo>
                      <a:pt x="847" y="4157"/>
                    </a:lnTo>
                    <a:lnTo>
                      <a:pt x="833" y="4155"/>
                    </a:lnTo>
                    <a:lnTo>
                      <a:pt x="820" y="4149"/>
                    </a:lnTo>
                    <a:lnTo>
                      <a:pt x="806" y="4141"/>
                    </a:lnTo>
                    <a:lnTo>
                      <a:pt x="774" y="4119"/>
                    </a:lnTo>
                    <a:lnTo>
                      <a:pt x="739" y="4086"/>
                    </a:lnTo>
                    <a:lnTo>
                      <a:pt x="712" y="4079"/>
                    </a:lnTo>
                    <a:lnTo>
                      <a:pt x="684" y="4065"/>
                    </a:lnTo>
                    <a:lnTo>
                      <a:pt x="656" y="4049"/>
                    </a:lnTo>
                    <a:lnTo>
                      <a:pt x="626" y="4030"/>
                    </a:lnTo>
                    <a:lnTo>
                      <a:pt x="594" y="4006"/>
                    </a:lnTo>
                    <a:lnTo>
                      <a:pt x="561" y="3976"/>
                    </a:lnTo>
                    <a:lnTo>
                      <a:pt x="528" y="3941"/>
                    </a:lnTo>
                    <a:lnTo>
                      <a:pt x="493" y="3904"/>
                    </a:lnTo>
                    <a:lnTo>
                      <a:pt x="483" y="3904"/>
                    </a:lnTo>
                    <a:lnTo>
                      <a:pt x="428" y="3906"/>
                    </a:lnTo>
                    <a:lnTo>
                      <a:pt x="231" y="3917"/>
                    </a:lnTo>
                    <a:lnTo>
                      <a:pt x="0" y="3925"/>
                    </a:lnTo>
                    <a:lnTo>
                      <a:pt x="0" y="4243"/>
                    </a:lnTo>
                    <a:lnTo>
                      <a:pt x="0" y="4297"/>
                    </a:lnTo>
                    <a:lnTo>
                      <a:pt x="5" y="4348"/>
                    </a:lnTo>
                    <a:lnTo>
                      <a:pt x="10" y="4399"/>
                    </a:lnTo>
                    <a:lnTo>
                      <a:pt x="21" y="4448"/>
                    </a:lnTo>
                    <a:lnTo>
                      <a:pt x="32" y="4496"/>
                    </a:lnTo>
                    <a:lnTo>
                      <a:pt x="46" y="4546"/>
                    </a:lnTo>
                    <a:lnTo>
                      <a:pt x="62" y="4591"/>
                    </a:lnTo>
                    <a:lnTo>
                      <a:pt x="78" y="4637"/>
                    </a:lnTo>
                    <a:lnTo>
                      <a:pt x="99" y="4683"/>
                    </a:lnTo>
                    <a:lnTo>
                      <a:pt x="121" y="4726"/>
                    </a:lnTo>
                    <a:lnTo>
                      <a:pt x="145" y="4770"/>
                    </a:lnTo>
                    <a:lnTo>
                      <a:pt x="172" y="4809"/>
                    </a:lnTo>
                    <a:lnTo>
                      <a:pt x="199" y="4850"/>
                    </a:lnTo>
                    <a:lnTo>
                      <a:pt x="231" y="4888"/>
                    </a:lnTo>
                    <a:lnTo>
                      <a:pt x="261" y="4924"/>
                    </a:lnTo>
                    <a:lnTo>
                      <a:pt x="297" y="4958"/>
                    </a:lnTo>
                    <a:lnTo>
                      <a:pt x="332" y="4993"/>
                    </a:lnTo>
                    <a:lnTo>
                      <a:pt x="366" y="5026"/>
                    </a:lnTo>
                    <a:lnTo>
                      <a:pt x="407" y="5055"/>
                    </a:lnTo>
                    <a:lnTo>
                      <a:pt x="445" y="5083"/>
                    </a:lnTo>
                    <a:lnTo>
                      <a:pt x="486" y="5109"/>
                    </a:lnTo>
                    <a:lnTo>
                      <a:pt x="528" y="5134"/>
                    </a:lnTo>
                    <a:lnTo>
                      <a:pt x="571" y="5155"/>
                    </a:lnTo>
                    <a:lnTo>
                      <a:pt x="617" y="5177"/>
                    </a:lnTo>
                    <a:lnTo>
                      <a:pt x="663" y="5193"/>
                    </a:lnTo>
                    <a:lnTo>
                      <a:pt x="709" y="5209"/>
                    </a:lnTo>
                    <a:lnTo>
                      <a:pt x="758" y="5223"/>
                    </a:lnTo>
                    <a:lnTo>
                      <a:pt x="806" y="5236"/>
                    </a:lnTo>
                    <a:lnTo>
                      <a:pt x="858" y="5244"/>
                    </a:lnTo>
                    <a:lnTo>
                      <a:pt x="907" y="5249"/>
                    </a:lnTo>
                    <a:lnTo>
                      <a:pt x="958" y="5255"/>
                    </a:lnTo>
                    <a:lnTo>
                      <a:pt x="1011" y="5255"/>
                    </a:lnTo>
                    <a:lnTo>
                      <a:pt x="1546" y="5255"/>
                    </a:lnTo>
                    <a:lnTo>
                      <a:pt x="1530" y="5228"/>
                    </a:lnTo>
                    <a:lnTo>
                      <a:pt x="1516" y="5198"/>
                    </a:lnTo>
                    <a:lnTo>
                      <a:pt x="1508" y="5166"/>
                    </a:lnTo>
                    <a:lnTo>
                      <a:pt x="1505" y="5129"/>
                    </a:lnTo>
                    <a:lnTo>
                      <a:pt x="1508" y="5093"/>
                    </a:lnTo>
                    <a:lnTo>
                      <a:pt x="1516" y="5060"/>
                    </a:lnTo>
                    <a:lnTo>
                      <a:pt x="1530" y="5028"/>
                    </a:lnTo>
                    <a:lnTo>
                      <a:pt x="1546" y="5002"/>
                    </a:lnTo>
                    <a:lnTo>
                      <a:pt x="1567" y="4980"/>
                    </a:lnTo>
                    <a:lnTo>
                      <a:pt x="1579" y="4972"/>
                    </a:lnTo>
                    <a:lnTo>
                      <a:pt x="1589" y="4963"/>
                    </a:lnTo>
                    <a:lnTo>
                      <a:pt x="1602" y="4956"/>
                    </a:lnTo>
                    <a:lnTo>
                      <a:pt x="1616" y="4952"/>
                    </a:lnTo>
                    <a:lnTo>
                      <a:pt x="1630" y="4950"/>
                    </a:lnTo>
                    <a:lnTo>
                      <a:pt x="1646" y="4947"/>
                    </a:lnTo>
                    <a:lnTo>
                      <a:pt x="2574" y="4947"/>
                    </a:lnTo>
                    <a:lnTo>
                      <a:pt x="2590" y="4950"/>
                    </a:lnTo>
                    <a:lnTo>
                      <a:pt x="2603" y="4952"/>
                    </a:lnTo>
                    <a:lnTo>
                      <a:pt x="2617" y="4956"/>
                    </a:lnTo>
                    <a:lnTo>
                      <a:pt x="2631" y="4963"/>
                    </a:lnTo>
                    <a:lnTo>
                      <a:pt x="2655" y="4980"/>
                    </a:lnTo>
                    <a:lnTo>
                      <a:pt x="2674" y="5002"/>
                    </a:lnTo>
                    <a:lnTo>
                      <a:pt x="2690" y="5028"/>
                    </a:lnTo>
                    <a:lnTo>
                      <a:pt x="2704" y="5060"/>
                    </a:lnTo>
                    <a:lnTo>
                      <a:pt x="2712" y="5093"/>
                    </a:lnTo>
                    <a:lnTo>
                      <a:pt x="2714" y="5129"/>
                    </a:lnTo>
                    <a:lnTo>
                      <a:pt x="2712" y="5166"/>
                    </a:lnTo>
                    <a:lnTo>
                      <a:pt x="2704" y="5198"/>
                    </a:lnTo>
                    <a:lnTo>
                      <a:pt x="2693" y="5228"/>
                    </a:lnTo>
                    <a:lnTo>
                      <a:pt x="2677" y="5255"/>
                    </a:lnTo>
                    <a:lnTo>
                      <a:pt x="3151" y="5255"/>
                    </a:lnTo>
                    <a:lnTo>
                      <a:pt x="3135" y="5228"/>
                    </a:lnTo>
                    <a:lnTo>
                      <a:pt x="3125" y="5198"/>
                    </a:lnTo>
                    <a:lnTo>
                      <a:pt x="3116" y="5166"/>
                    </a:lnTo>
                    <a:lnTo>
                      <a:pt x="3114" y="5129"/>
                    </a:lnTo>
                    <a:lnTo>
                      <a:pt x="3116" y="5093"/>
                    </a:lnTo>
                    <a:lnTo>
                      <a:pt x="3125" y="5060"/>
                    </a:lnTo>
                    <a:lnTo>
                      <a:pt x="3135" y="5028"/>
                    </a:lnTo>
                    <a:lnTo>
                      <a:pt x="3155" y="5002"/>
                    </a:lnTo>
                    <a:lnTo>
                      <a:pt x="3173" y="4980"/>
                    </a:lnTo>
                    <a:lnTo>
                      <a:pt x="3187" y="4972"/>
                    </a:lnTo>
                    <a:lnTo>
                      <a:pt x="3197" y="4963"/>
                    </a:lnTo>
                    <a:lnTo>
                      <a:pt x="3211" y="4956"/>
                    </a:lnTo>
                    <a:lnTo>
                      <a:pt x="3224" y="4952"/>
                    </a:lnTo>
                    <a:lnTo>
                      <a:pt x="3238" y="4950"/>
                    </a:lnTo>
                    <a:lnTo>
                      <a:pt x="3254" y="4947"/>
                    </a:lnTo>
                    <a:lnTo>
                      <a:pt x="4182" y="4947"/>
                    </a:lnTo>
                    <a:lnTo>
                      <a:pt x="4196" y="4950"/>
                    </a:lnTo>
                    <a:lnTo>
                      <a:pt x="4212" y="4952"/>
                    </a:lnTo>
                    <a:lnTo>
                      <a:pt x="4226" y="4956"/>
                    </a:lnTo>
                    <a:lnTo>
                      <a:pt x="4237" y="4963"/>
                    </a:lnTo>
                    <a:lnTo>
                      <a:pt x="4250" y="4972"/>
                    </a:lnTo>
                    <a:lnTo>
                      <a:pt x="4260" y="4980"/>
                    </a:lnTo>
                    <a:lnTo>
                      <a:pt x="4283" y="5002"/>
                    </a:lnTo>
                    <a:lnTo>
                      <a:pt x="4299" y="5028"/>
                    </a:lnTo>
                    <a:lnTo>
                      <a:pt x="4312" y="5060"/>
                    </a:lnTo>
                    <a:lnTo>
                      <a:pt x="4320" y="5093"/>
                    </a:lnTo>
                    <a:lnTo>
                      <a:pt x="4323" y="5129"/>
                    </a:lnTo>
                    <a:lnTo>
                      <a:pt x="4320" y="5166"/>
                    </a:lnTo>
                    <a:lnTo>
                      <a:pt x="4312" y="5198"/>
                    </a:lnTo>
                    <a:lnTo>
                      <a:pt x="4299" y="5228"/>
                    </a:lnTo>
                    <a:lnTo>
                      <a:pt x="4283" y="5255"/>
                    </a:lnTo>
                    <a:lnTo>
                      <a:pt x="5980" y="5255"/>
                    </a:lnTo>
                    <a:lnTo>
                      <a:pt x="5942" y="5209"/>
                    </a:lnTo>
                    <a:lnTo>
                      <a:pt x="5907" y="5161"/>
                    </a:lnTo>
                    <a:lnTo>
                      <a:pt x="5878" y="5106"/>
                    </a:lnTo>
                    <a:lnTo>
                      <a:pt x="5853" y="5053"/>
                    </a:lnTo>
                    <a:lnTo>
                      <a:pt x="5832" y="4993"/>
                    </a:lnTo>
                    <a:lnTo>
                      <a:pt x="5818" y="4931"/>
                    </a:lnTo>
                    <a:lnTo>
                      <a:pt x="5809" y="4869"/>
                    </a:lnTo>
                    <a:lnTo>
                      <a:pt x="5807" y="4804"/>
                    </a:lnTo>
                    <a:lnTo>
                      <a:pt x="5807" y="4772"/>
                    </a:lnTo>
                    <a:lnTo>
                      <a:pt x="5809" y="4737"/>
                    </a:lnTo>
                    <a:lnTo>
                      <a:pt x="5818" y="4673"/>
                    </a:lnTo>
                    <a:lnTo>
                      <a:pt x="5834" y="4611"/>
                    </a:lnTo>
                    <a:lnTo>
                      <a:pt x="5855" y="4551"/>
                    </a:lnTo>
                    <a:lnTo>
                      <a:pt x="5883" y="4494"/>
                    </a:lnTo>
                    <a:lnTo>
                      <a:pt x="5915" y="4440"/>
                    </a:lnTo>
                    <a:lnTo>
                      <a:pt x="5950" y="4389"/>
                    </a:lnTo>
                    <a:lnTo>
                      <a:pt x="5991" y="4343"/>
                    </a:lnTo>
                    <a:lnTo>
                      <a:pt x="6018" y="4319"/>
                    </a:lnTo>
                    <a:lnTo>
                      <a:pt x="6045" y="4295"/>
                    </a:lnTo>
                    <a:lnTo>
                      <a:pt x="6071" y="4273"/>
                    </a:lnTo>
                    <a:lnTo>
                      <a:pt x="6101" y="4254"/>
                    </a:lnTo>
                    <a:lnTo>
                      <a:pt x="5818" y="4206"/>
                    </a:lnTo>
                    <a:lnTo>
                      <a:pt x="5675" y="4181"/>
                    </a:lnTo>
                    <a:lnTo>
                      <a:pt x="5535" y="4152"/>
                    </a:lnTo>
                    <a:lnTo>
                      <a:pt x="5394" y="4125"/>
                    </a:lnTo>
                    <a:lnTo>
                      <a:pt x="5252" y="4092"/>
                    </a:lnTo>
                    <a:lnTo>
                      <a:pt x="5111" y="4060"/>
                    </a:lnTo>
                    <a:lnTo>
                      <a:pt x="4971" y="4024"/>
                    </a:lnTo>
                    <a:lnTo>
                      <a:pt x="4830" y="3989"/>
                    </a:lnTo>
                    <a:lnTo>
                      <a:pt x="4690" y="3952"/>
                    </a:lnTo>
                    <a:lnTo>
                      <a:pt x="4552" y="3911"/>
                    </a:lnTo>
                    <a:lnTo>
                      <a:pt x="4414" y="3871"/>
                    </a:lnTo>
                    <a:lnTo>
                      <a:pt x="4277" y="3828"/>
                    </a:lnTo>
                    <a:lnTo>
                      <a:pt x="4140" y="3782"/>
                    </a:lnTo>
                    <a:lnTo>
                      <a:pt x="4005" y="3736"/>
                    </a:lnTo>
                    <a:lnTo>
                      <a:pt x="3869" y="3688"/>
                    </a:lnTo>
                    <a:lnTo>
                      <a:pt x="3735" y="3639"/>
                    </a:lnTo>
                    <a:lnTo>
                      <a:pt x="3602" y="3588"/>
                    </a:lnTo>
                    <a:lnTo>
                      <a:pt x="3470" y="3534"/>
                    </a:lnTo>
                    <a:lnTo>
                      <a:pt x="3338" y="3478"/>
                    </a:lnTo>
                    <a:lnTo>
                      <a:pt x="3208" y="3420"/>
                    </a:lnTo>
                    <a:lnTo>
                      <a:pt x="3082" y="3361"/>
                    </a:lnTo>
                    <a:lnTo>
                      <a:pt x="2955" y="3299"/>
                    </a:lnTo>
                    <a:lnTo>
                      <a:pt x="2831" y="3237"/>
                    </a:lnTo>
                    <a:lnTo>
                      <a:pt x="2706" y="3172"/>
                    </a:lnTo>
                    <a:lnTo>
                      <a:pt x="2585" y="3107"/>
                    </a:lnTo>
                    <a:lnTo>
                      <a:pt x="2463" y="3038"/>
                    </a:lnTo>
                    <a:lnTo>
                      <a:pt x="2345" y="2967"/>
                    </a:lnTo>
                    <a:lnTo>
                      <a:pt x="2228" y="2895"/>
                    </a:lnTo>
                    <a:lnTo>
                      <a:pt x="2115" y="2822"/>
                    </a:lnTo>
                    <a:lnTo>
                      <a:pt x="2002" y="2746"/>
                    </a:lnTo>
                    <a:lnTo>
                      <a:pt x="1892" y="2668"/>
                    </a:lnTo>
                    <a:close/>
                    <a:moveTo>
                      <a:pt x="0" y="0"/>
                    </a:moveTo>
                    <a:lnTo>
                      <a:pt x="0" y="3432"/>
                    </a:lnTo>
                    <a:lnTo>
                      <a:pt x="302" y="3429"/>
                    </a:lnTo>
                    <a:lnTo>
                      <a:pt x="574" y="3423"/>
                    </a:lnTo>
                    <a:lnTo>
                      <a:pt x="590" y="3404"/>
                    </a:lnTo>
                    <a:lnTo>
                      <a:pt x="615" y="3386"/>
                    </a:lnTo>
                    <a:lnTo>
                      <a:pt x="647" y="3369"/>
                    </a:lnTo>
                    <a:lnTo>
                      <a:pt x="688" y="3353"/>
                    </a:lnTo>
                    <a:lnTo>
                      <a:pt x="730" y="3340"/>
                    </a:lnTo>
                    <a:lnTo>
                      <a:pt x="776" y="3331"/>
                    </a:lnTo>
                    <a:lnTo>
                      <a:pt x="822" y="3326"/>
                    </a:lnTo>
                    <a:lnTo>
                      <a:pt x="871" y="3324"/>
                    </a:lnTo>
                    <a:lnTo>
                      <a:pt x="925" y="3326"/>
                    </a:lnTo>
                    <a:lnTo>
                      <a:pt x="953" y="3329"/>
                    </a:lnTo>
                    <a:lnTo>
                      <a:pt x="976" y="3335"/>
                    </a:lnTo>
                    <a:lnTo>
                      <a:pt x="1621" y="2598"/>
                    </a:lnTo>
                    <a:lnTo>
                      <a:pt x="1540" y="2598"/>
                    </a:lnTo>
                    <a:lnTo>
                      <a:pt x="1438" y="2598"/>
                    </a:lnTo>
                    <a:lnTo>
                      <a:pt x="1354" y="2601"/>
                    </a:lnTo>
                    <a:lnTo>
                      <a:pt x="1273" y="2603"/>
                    </a:lnTo>
                    <a:lnTo>
                      <a:pt x="1171" y="2603"/>
                    </a:lnTo>
                    <a:lnTo>
                      <a:pt x="1079" y="2603"/>
                    </a:lnTo>
                    <a:lnTo>
                      <a:pt x="1079" y="2571"/>
                    </a:lnTo>
                    <a:lnTo>
                      <a:pt x="1171" y="2571"/>
                    </a:lnTo>
                    <a:lnTo>
                      <a:pt x="1273" y="2571"/>
                    </a:lnTo>
                    <a:lnTo>
                      <a:pt x="1354" y="2568"/>
                    </a:lnTo>
                    <a:lnTo>
                      <a:pt x="1436" y="2566"/>
                    </a:lnTo>
                    <a:lnTo>
                      <a:pt x="1540" y="2566"/>
                    </a:lnTo>
                    <a:lnTo>
                      <a:pt x="1627" y="2566"/>
                    </a:lnTo>
                    <a:lnTo>
                      <a:pt x="1648" y="2566"/>
                    </a:lnTo>
                    <a:lnTo>
                      <a:pt x="1692" y="2517"/>
                    </a:lnTo>
                    <a:lnTo>
                      <a:pt x="1613" y="2455"/>
                    </a:lnTo>
                    <a:lnTo>
                      <a:pt x="1538" y="2393"/>
                    </a:lnTo>
                    <a:lnTo>
                      <a:pt x="1462" y="2331"/>
                    </a:lnTo>
                    <a:lnTo>
                      <a:pt x="1390" y="2266"/>
                    </a:lnTo>
                    <a:lnTo>
                      <a:pt x="1319" y="2198"/>
                    </a:lnTo>
                    <a:lnTo>
                      <a:pt x="1246" y="2131"/>
                    </a:lnTo>
                    <a:lnTo>
                      <a:pt x="1179" y="2064"/>
                    </a:lnTo>
                    <a:lnTo>
                      <a:pt x="1112" y="1997"/>
                    </a:lnTo>
                    <a:lnTo>
                      <a:pt x="1043" y="1926"/>
                    </a:lnTo>
                    <a:lnTo>
                      <a:pt x="979" y="1854"/>
                    </a:lnTo>
                    <a:lnTo>
                      <a:pt x="917" y="1781"/>
                    </a:lnTo>
                    <a:lnTo>
                      <a:pt x="855" y="1707"/>
                    </a:lnTo>
                    <a:lnTo>
                      <a:pt x="796" y="1633"/>
                    </a:lnTo>
                    <a:lnTo>
                      <a:pt x="736" y="1557"/>
                    </a:lnTo>
                    <a:lnTo>
                      <a:pt x="679" y="1481"/>
                    </a:lnTo>
                    <a:lnTo>
                      <a:pt x="626" y="1403"/>
                    </a:lnTo>
                    <a:lnTo>
                      <a:pt x="571" y="1325"/>
                    </a:lnTo>
                    <a:lnTo>
                      <a:pt x="520" y="1244"/>
                    </a:lnTo>
                    <a:lnTo>
                      <a:pt x="472" y="1163"/>
                    </a:lnTo>
                    <a:lnTo>
                      <a:pt x="423" y="1079"/>
                    </a:lnTo>
                    <a:lnTo>
                      <a:pt x="377" y="995"/>
                    </a:lnTo>
                    <a:lnTo>
                      <a:pt x="332" y="912"/>
                    </a:lnTo>
                    <a:lnTo>
                      <a:pt x="291" y="825"/>
                    </a:lnTo>
                    <a:lnTo>
                      <a:pt x="251" y="740"/>
                    </a:lnTo>
                    <a:lnTo>
                      <a:pt x="212" y="650"/>
                    </a:lnTo>
                    <a:lnTo>
                      <a:pt x="175" y="562"/>
                    </a:lnTo>
                    <a:lnTo>
                      <a:pt x="140" y="472"/>
                    </a:lnTo>
                    <a:lnTo>
                      <a:pt x="108" y="381"/>
                    </a:lnTo>
                    <a:lnTo>
                      <a:pt x="78" y="286"/>
                    </a:lnTo>
                    <a:lnTo>
                      <a:pt x="51" y="192"/>
                    </a:lnTo>
                    <a:lnTo>
                      <a:pt x="24" y="9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97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928800" y="2738160"/>
                <a:ext cx="1455480" cy="804960"/>
              </a:xfrm>
              <a:custGeom>
                <a:avLst/>
                <a:gdLst/>
                <a:ahLst/>
                <a:rect l="l" t="t" r="r" b="b"/>
                <a:pathLst>
                  <a:path w="9017" h="5295">
                    <a:moveTo>
                      <a:pt x="3160" y="5287"/>
                    </a:moveTo>
                    <a:lnTo>
                      <a:pt x="2686" y="5287"/>
                    </a:lnTo>
                    <a:lnTo>
                      <a:pt x="2683" y="5290"/>
                    </a:lnTo>
                    <a:lnTo>
                      <a:pt x="2677" y="5295"/>
                    </a:lnTo>
                    <a:lnTo>
                      <a:pt x="3169" y="5295"/>
                    </a:lnTo>
                    <a:lnTo>
                      <a:pt x="3164" y="5290"/>
                    </a:lnTo>
                    <a:lnTo>
                      <a:pt x="3160" y="5287"/>
                    </a:lnTo>
                    <a:close/>
                    <a:moveTo>
                      <a:pt x="5989" y="5287"/>
                    </a:moveTo>
                    <a:lnTo>
                      <a:pt x="4292" y="5287"/>
                    </a:lnTo>
                    <a:lnTo>
                      <a:pt x="4292" y="5290"/>
                    </a:lnTo>
                    <a:lnTo>
                      <a:pt x="4286" y="5295"/>
                    </a:lnTo>
                    <a:lnTo>
                      <a:pt x="5997" y="5295"/>
                    </a:lnTo>
                    <a:lnTo>
                      <a:pt x="5989" y="5287"/>
                    </a:lnTo>
                    <a:close/>
                    <a:moveTo>
                      <a:pt x="9017" y="4275"/>
                    </a:moveTo>
                    <a:lnTo>
                      <a:pt x="9009" y="4275"/>
                    </a:lnTo>
                    <a:lnTo>
                      <a:pt x="9007" y="4329"/>
                    </a:lnTo>
                    <a:lnTo>
                      <a:pt x="9003" y="4380"/>
                    </a:lnTo>
                    <a:lnTo>
                      <a:pt x="8996" y="4431"/>
                    </a:lnTo>
                    <a:lnTo>
                      <a:pt x="8987" y="4480"/>
                    </a:lnTo>
                    <a:lnTo>
                      <a:pt x="8977" y="4528"/>
                    </a:lnTo>
                    <a:lnTo>
                      <a:pt x="8963" y="4578"/>
                    </a:lnTo>
                    <a:lnTo>
                      <a:pt x="8947" y="4623"/>
                    </a:lnTo>
                    <a:lnTo>
                      <a:pt x="8927" y="4669"/>
                    </a:lnTo>
                    <a:lnTo>
                      <a:pt x="8909" y="4715"/>
                    </a:lnTo>
                    <a:lnTo>
                      <a:pt x="8885" y="4758"/>
                    </a:lnTo>
                    <a:lnTo>
                      <a:pt x="8860" y="4802"/>
                    </a:lnTo>
                    <a:lnTo>
                      <a:pt x="8837" y="4841"/>
                    </a:lnTo>
                    <a:lnTo>
                      <a:pt x="8807" y="4882"/>
                    </a:lnTo>
                    <a:lnTo>
                      <a:pt x="8777" y="4920"/>
                    </a:lnTo>
                    <a:lnTo>
                      <a:pt x="8745" y="4956"/>
                    </a:lnTo>
                    <a:lnTo>
                      <a:pt x="8712" y="4990"/>
                    </a:lnTo>
                    <a:lnTo>
                      <a:pt x="8677" y="5025"/>
                    </a:lnTo>
                    <a:lnTo>
                      <a:pt x="8639" y="5058"/>
                    </a:lnTo>
                    <a:lnTo>
                      <a:pt x="8602" y="5087"/>
                    </a:lnTo>
                    <a:lnTo>
                      <a:pt x="8561" y="5115"/>
                    </a:lnTo>
                    <a:lnTo>
                      <a:pt x="8520" y="5141"/>
                    </a:lnTo>
                    <a:lnTo>
                      <a:pt x="8480" y="5166"/>
                    </a:lnTo>
                    <a:lnTo>
                      <a:pt x="8434" y="5187"/>
                    </a:lnTo>
                    <a:lnTo>
                      <a:pt x="8391" y="5209"/>
                    </a:lnTo>
                    <a:lnTo>
                      <a:pt x="8345" y="5225"/>
                    </a:lnTo>
                    <a:lnTo>
                      <a:pt x="8296" y="5241"/>
                    </a:lnTo>
                    <a:lnTo>
                      <a:pt x="8250" y="5255"/>
                    </a:lnTo>
                    <a:lnTo>
                      <a:pt x="8199" y="5268"/>
                    </a:lnTo>
                    <a:lnTo>
                      <a:pt x="8151" y="5276"/>
                    </a:lnTo>
                    <a:lnTo>
                      <a:pt x="8099" y="5281"/>
                    </a:lnTo>
                    <a:lnTo>
                      <a:pt x="8048" y="5287"/>
                    </a:lnTo>
                    <a:lnTo>
                      <a:pt x="7997" y="5287"/>
                    </a:lnTo>
                    <a:lnTo>
                      <a:pt x="7900" y="5287"/>
                    </a:lnTo>
                    <a:lnTo>
                      <a:pt x="7896" y="5295"/>
                    </a:lnTo>
                    <a:lnTo>
                      <a:pt x="7997" y="5295"/>
                    </a:lnTo>
                    <a:lnTo>
                      <a:pt x="8048" y="5295"/>
                    </a:lnTo>
                    <a:lnTo>
                      <a:pt x="8102" y="5290"/>
                    </a:lnTo>
                    <a:lnTo>
                      <a:pt x="8153" y="5284"/>
                    </a:lnTo>
                    <a:lnTo>
                      <a:pt x="8202" y="5274"/>
                    </a:lnTo>
                    <a:lnTo>
                      <a:pt x="8250" y="5263"/>
                    </a:lnTo>
                    <a:lnTo>
                      <a:pt x="8299" y="5249"/>
                    </a:lnTo>
                    <a:lnTo>
                      <a:pt x="8347" y="5233"/>
                    </a:lnTo>
                    <a:lnTo>
                      <a:pt x="8393" y="5214"/>
                    </a:lnTo>
                    <a:lnTo>
                      <a:pt x="8439" y="5195"/>
                    </a:lnTo>
                    <a:lnTo>
                      <a:pt x="8483" y="5173"/>
                    </a:lnTo>
                    <a:lnTo>
                      <a:pt x="8526" y="5147"/>
                    </a:lnTo>
                    <a:lnTo>
                      <a:pt x="8566" y="5122"/>
                    </a:lnTo>
                    <a:lnTo>
                      <a:pt x="8607" y="5092"/>
                    </a:lnTo>
                    <a:lnTo>
                      <a:pt x="8644" y="5063"/>
                    </a:lnTo>
                    <a:lnTo>
                      <a:pt x="8683" y="5030"/>
                    </a:lnTo>
                    <a:lnTo>
                      <a:pt x="8717" y="4998"/>
                    </a:lnTo>
                    <a:lnTo>
                      <a:pt x="8752" y="4961"/>
                    </a:lnTo>
                    <a:lnTo>
                      <a:pt x="8782" y="4926"/>
                    </a:lnTo>
                    <a:lnTo>
                      <a:pt x="8814" y="4885"/>
                    </a:lnTo>
                    <a:lnTo>
                      <a:pt x="8842" y="4847"/>
                    </a:lnTo>
                    <a:lnTo>
                      <a:pt x="8869" y="4804"/>
                    </a:lnTo>
                    <a:lnTo>
                      <a:pt x="8893" y="4763"/>
                    </a:lnTo>
                    <a:lnTo>
                      <a:pt x="8915" y="4717"/>
                    </a:lnTo>
                    <a:lnTo>
                      <a:pt x="8936" y="4672"/>
                    </a:lnTo>
                    <a:lnTo>
                      <a:pt x="8955" y="4626"/>
                    </a:lnTo>
                    <a:lnTo>
                      <a:pt x="8971" y="4580"/>
                    </a:lnTo>
                    <a:lnTo>
                      <a:pt x="8984" y="4532"/>
                    </a:lnTo>
                    <a:lnTo>
                      <a:pt x="8996" y="4483"/>
                    </a:lnTo>
                    <a:lnTo>
                      <a:pt x="9003" y="4431"/>
                    </a:lnTo>
                    <a:lnTo>
                      <a:pt x="9012" y="4380"/>
                    </a:lnTo>
                    <a:lnTo>
                      <a:pt x="9014" y="4329"/>
                    </a:lnTo>
                    <a:lnTo>
                      <a:pt x="9017" y="4275"/>
                    </a:lnTo>
                    <a:close/>
                    <a:moveTo>
                      <a:pt x="9017" y="4122"/>
                    </a:moveTo>
                    <a:lnTo>
                      <a:pt x="9009" y="4124"/>
                    </a:lnTo>
                    <a:lnTo>
                      <a:pt x="9009" y="4275"/>
                    </a:lnTo>
                    <a:lnTo>
                      <a:pt x="9017" y="4275"/>
                    </a:lnTo>
                    <a:lnTo>
                      <a:pt x="9017" y="4122"/>
                    </a:lnTo>
                    <a:close/>
                    <a:moveTo>
                      <a:pt x="9" y="3957"/>
                    </a:moveTo>
                    <a:lnTo>
                      <a:pt x="0" y="3957"/>
                    </a:lnTo>
                    <a:lnTo>
                      <a:pt x="0" y="4275"/>
                    </a:lnTo>
                    <a:lnTo>
                      <a:pt x="3" y="4329"/>
                    </a:lnTo>
                    <a:lnTo>
                      <a:pt x="5" y="4380"/>
                    </a:lnTo>
                    <a:lnTo>
                      <a:pt x="11" y="4431"/>
                    </a:lnTo>
                    <a:lnTo>
                      <a:pt x="21" y="4483"/>
                    </a:lnTo>
                    <a:lnTo>
                      <a:pt x="33" y="4532"/>
                    </a:lnTo>
                    <a:lnTo>
                      <a:pt x="46" y="4580"/>
                    </a:lnTo>
                    <a:lnTo>
                      <a:pt x="62" y="4626"/>
                    </a:lnTo>
                    <a:lnTo>
                      <a:pt x="81" y="4672"/>
                    </a:lnTo>
                    <a:lnTo>
                      <a:pt x="101" y="4717"/>
                    </a:lnTo>
                    <a:lnTo>
                      <a:pt x="124" y="4763"/>
                    </a:lnTo>
                    <a:lnTo>
                      <a:pt x="149" y="4804"/>
                    </a:lnTo>
                    <a:lnTo>
                      <a:pt x="175" y="4847"/>
                    </a:lnTo>
                    <a:lnTo>
                      <a:pt x="203" y="4885"/>
                    </a:lnTo>
                    <a:lnTo>
                      <a:pt x="233" y="4926"/>
                    </a:lnTo>
                    <a:lnTo>
                      <a:pt x="265" y="4961"/>
                    </a:lnTo>
                    <a:lnTo>
                      <a:pt x="300" y="4998"/>
                    </a:lnTo>
                    <a:lnTo>
                      <a:pt x="335" y="5030"/>
                    </a:lnTo>
                    <a:lnTo>
                      <a:pt x="373" y="5063"/>
                    </a:lnTo>
                    <a:lnTo>
                      <a:pt x="410" y="5092"/>
                    </a:lnTo>
                    <a:lnTo>
                      <a:pt x="451" y="5122"/>
                    </a:lnTo>
                    <a:lnTo>
                      <a:pt x="492" y="5147"/>
                    </a:lnTo>
                    <a:lnTo>
                      <a:pt x="534" y="5173"/>
                    </a:lnTo>
                    <a:lnTo>
                      <a:pt x="578" y="5195"/>
                    </a:lnTo>
                    <a:lnTo>
                      <a:pt x="624" y="5214"/>
                    </a:lnTo>
                    <a:lnTo>
                      <a:pt x="670" y="5233"/>
                    </a:lnTo>
                    <a:lnTo>
                      <a:pt x="716" y="5249"/>
                    </a:lnTo>
                    <a:lnTo>
                      <a:pt x="764" y="5263"/>
                    </a:lnTo>
                    <a:lnTo>
                      <a:pt x="815" y="5274"/>
                    </a:lnTo>
                    <a:lnTo>
                      <a:pt x="864" y="5284"/>
                    </a:lnTo>
                    <a:lnTo>
                      <a:pt x="916" y="5290"/>
                    </a:lnTo>
                    <a:lnTo>
                      <a:pt x="967" y="5295"/>
                    </a:lnTo>
                    <a:lnTo>
                      <a:pt x="1020" y="5295"/>
                    </a:lnTo>
                    <a:lnTo>
                      <a:pt x="1560" y="5295"/>
                    </a:lnTo>
                    <a:lnTo>
                      <a:pt x="1555" y="5290"/>
                    </a:lnTo>
                    <a:lnTo>
                      <a:pt x="1555" y="5287"/>
                    </a:lnTo>
                    <a:lnTo>
                      <a:pt x="1020" y="5287"/>
                    </a:lnTo>
                    <a:lnTo>
                      <a:pt x="967" y="5287"/>
                    </a:lnTo>
                    <a:lnTo>
                      <a:pt x="916" y="5281"/>
                    </a:lnTo>
                    <a:lnTo>
                      <a:pt x="867" y="5276"/>
                    </a:lnTo>
                    <a:lnTo>
                      <a:pt x="815" y="5268"/>
                    </a:lnTo>
                    <a:lnTo>
                      <a:pt x="767" y="5255"/>
                    </a:lnTo>
                    <a:lnTo>
                      <a:pt x="718" y="5241"/>
                    </a:lnTo>
                    <a:lnTo>
                      <a:pt x="672" y="5225"/>
                    </a:lnTo>
                    <a:lnTo>
                      <a:pt x="626" y="5209"/>
                    </a:lnTo>
                    <a:lnTo>
                      <a:pt x="580" y="5187"/>
                    </a:lnTo>
                    <a:lnTo>
                      <a:pt x="537" y="5166"/>
                    </a:lnTo>
                    <a:lnTo>
                      <a:pt x="495" y="5141"/>
                    </a:lnTo>
                    <a:lnTo>
                      <a:pt x="454" y="5115"/>
                    </a:lnTo>
                    <a:lnTo>
                      <a:pt x="416" y="5087"/>
                    </a:lnTo>
                    <a:lnTo>
                      <a:pt x="375" y="5058"/>
                    </a:lnTo>
                    <a:lnTo>
                      <a:pt x="341" y="5025"/>
                    </a:lnTo>
                    <a:lnTo>
                      <a:pt x="306" y="4990"/>
                    </a:lnTo>
                    <a:lnTo>
                      <a:pt x="270" y="4956"/>
                    </a:lnTo>
                    <a:lnTo>
                      <a:pt x="240" y="4920"/>
                    </a:lnTo>
                    <a:lnTo>
                      <a:pt x="208" y="4882"/>
                    </a:lnTo>
                    <a:lnTo>
                      <a:pt x="181" y="4841"/>
                    </a:lnTo>
                    <a:lnTo>
                      <a:pt x="154" y="4802"/>
                    </a:lnTo>
                    <a:lnTo>
                      <a:pt x="130" y="4758"/>
                    </a:lnTo>
                    <a:lnTo>
                      <a:pt x="108" y="4715"/>
                    </a:lnTo>
                    <a:lnTo>
                      <a:pt x="87" y="4669"/>
                    </a:lnTo>
                    <a:lnTo>
                      <a:pt x="71" y="4623"/>
                    </a:lnTo>
                    <a:lnTo>
                      <a:pt x="55" y="4578"/>
                    </a:lnTo>
                    <a:lnTo>
                      <a:pt x="41" y="4528"/>
                    </a:lnTo>
                    <a:lnTo>
                      <a:pt x="30" y="4480"/>
                    </a:lnTo>
                    <a:lnTo>
                      <a:pt x="19" y="4431"/>
                    </a:lnTo>
                    <a:lnTo>
                      <a:pt x="14" y="4380"/>
                    </a:lnTo>
                    <a:lnTo>
                      <a:pt x="9" y="4329"/>
                    </a:lnTo>
                    <a:lnTo>
                      <a:pt x="9" y="4275"/>
                    </a:lnTo>
                    <a:lnTo>
                      <a:pt x="9" y="3957"/>
                    </a:lnTo>
                    <a:close/>
                    <a:moveTo>
                      <a:pt x="0" y="0"/>
                    </a:moveTo>
                    <a:lnTo>
                      <a:pt x="0" y="3464"/>
                    </a:lnTo>
                    <a:lnTo>
                      <a:pt x="9" y="3464"/>
                    </a:lnTo>
                    <a:lnTo>
                      <a:pt x="9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38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1103400" y="2695320"/>
                <a:ext cx="1089000" cy="22320"/>
              </a:xfrm>
              <a:custGeom>
                <a:avLst/>
                <a:gdLst/>
                <a:ahLst/>
                <a:rect l="l" t="t" r="r" b="b"/>
                <a:pathLst>
                  <a:path w="6743" h="147">
                    <a:moveTo>
                      <a:pt x="0" y="39"/>
                    </a:moveTo>
                    <a:lnTo>
                      <a:pt x="131" y="39"/>
                    </a:lnTo>
                    <a:lnTo>
                      <a:pt x="247" y="39"/>
                    </a:lnTo>
                    <a:lnTo>
                      <a:pt x="339" y="36"/>
                    </a:lnTo>
                    <a:lnTo>
                      <a:pt x="431" y="36"/>
                    </a:lnTo>
                    <a:lnTo>
                      <a:pt x="544" y="33"/>
                    </a:lnTo>
                    <a:lnTo>
                      <a:pt x="674" y="36"/>
                    </a:lnTo>
                    <a:lnTo>
                      <a:pt x="785" y="36"/>
                    </a:lnTo>
                    <a:lnTo>
                      <a:pt x="874" y="41"/>
                    </a:lnTo>
                    <a:lnTo>
                      <a:pt x="1008" y="52"/>
                    </a:lnTo>
                    <a:lnTo>
                      <a:pt x="1146" y="60"/>
                    </a:lnTo>
                    <a:lnTo>
                      <a:pt x="1236" y="65"/>
                    </a:lnTo>
                    <a:lnTo>
                      <a:pt x="1349" y="65"/>
                    </a:lnTo>
                    <a:lnTo>
                      <a:pt x="2021" y="74"/>
                    </a:lnTo>
                    <a:lnTo>
                      <a:pt x="2134" y="76"/>
                    </a:lnTo>
                    <a:lnTo>
                      <a:pt x="2221" y="81"/>
                    </a:lnTo>
                    <a:lnTo>
                      <a:pt x="2293" y="90"/>
                    </a:lnTo>
                    <a:lnTo>
                      <a:pt x="2355" y="95"/>
                    </a:lnTo>
                    <a:lnTo>
                      <a:pt x="2421" y="103"/>
                    </a:lnTo>
                    <a:lnTo>
                      <a:pt x="2493" y="111"/>
                    </a:lnTo>
                    <a:lnTo>
                      <a:pt x="2582" y="117"/>
                    </a:lnTo>
                    <a:lnTo>
                      <a:pt x="2695" y="120"/>
                    </a:lnTo>
                    <a:lnTo>
                      <a:pt x="2728" y="120"/>
                    </a:lnTo>
                    <a:lnTo>
                      <a:pt x="2828" y="117"/>
                    </a:lnTo>
                    <a:lnTo>
                      <a:pt x="2909" y="111"/>
                    </a:lnTo>
                    <a:lnTo>
                      <a:pt x="2976" y="103"/>
                    </a:lnTo>
                    <a:lnTo>
                      <a:pt x="3036" y="95"/>
                    </a:lnTo>
                    <a:lnTo>
                      <a:pt x="3095" y="85"/>
                    </a:lnTo>
                    <a:lnTo>
                      <a:pt x="3162" y="76"/>
                    </a:lnTo>
                    <a:lnTo>
                      <a:pt x="3241" y="71"/>
                    </a:lnTo>
                    <a:lnTo>
                      <a:pt x="3337" y="71"/>
                    </a:lnTo>
                    <a:lnTo>
                      <a:pt x="3370" y="71"/>
                    </a:lnTo>
                    <a:lnTo>
                      <a:pt x="3480" y="74"/>
                    </a:lnTo>
                    <a:lnTo>
                      <a:pt x="3570" y="79"/>
                    </a:lnTo>
                    <a:lnTo>
                      <a:pt x="3640" y="87"/>
                    </a:lnTo>
                    <a:lnTo>
                      <a:pt x="3705" y="95"/>
                    </a:lnTo>
                    <a:lnTo>
                      <a:pt x="3770" y="103"/>
                    </a:lnTo>
                    <a:lnTo>
                      <a:pt x="3843" y="111"/>
                    </a:lnTo>
                    <a:lnTo>
                      <a:pt x="3931" y="117"/>
                    </a:lnTo>
                    <a:lnTo>
                      <a:pt x="4044" y="120"/>
                    </a:lnTo>
                    <a:lnTo>
                      <a:pt x="4716" y="127"/>
                    </a:lnTo>
                    <a:lnTo>
                      <a:pt x="4752" y="127"/>
                    </a:lnTo>
                    <a:lnTo>
                      <a:pt x="4852" y="125"/>
                    </a:lnTo>
                    <a:lnTo>
                      <a:pt x="4930" y="120"/>
                    </a:lnTo>
                    <a:lnTo>
                      <a:pt x="4997" y="111"/>
                    </a:lnTo>
                    <a:lnTo>
                      <a:pt x="5057" y="103"/>
                    </a:lnTo>
                    <a:lnTo>
                      <a:pt x="5116" y="95"/>
                    </a:lnTo>
                    <a:lnTo>
                      <a:pt x="5183" y="87"/>
                    </a:lnTo>
                    <a:lnTo>
                      <a:pt x="5259" y="85"/>
                    </a:lnTo>
                    <a:lnTo>
                      <a:pt x="5356" y="81"/>
                    </a:lnTo>
                    <a:lnTo>
                      <a:pt x="5392" y="81"/>
                    </a:lnTo>
                    <a:lnTo>
                      <a:pt x="5505" y="85"/>
                    </a:lnTo>
                    <a:lnTo>
                      <a:pt x="5591" y="92"/>
                    </a:lnTo>
                    <a:lnTo>
                      <a:pt x="5664" y="101"/>
                    </a:lnTo>
                    <a:lnTo>
                      <a:pt x="5726" y="111"/>
                    </a:lnTo>
                    <a:lnTo>
                      <a:pt x="5791" y="122"/>
                    </a:lnTo>
                    <a:lnTo>
                      <a:pt x="5864" y="131"/>
                    </a:lnTo>
                    <a:lnTo>
                      <a:pt x="5956" y="138"/>
                    </a:lnTo>
                    <a:lnTo>
                      <a:pt x="6066" y="141"/>
                    </a:lnTo>
                    <a:lnTo>
                      <a:pt x="6403" y="143"/>
                    </a:lnTo>
                    <a:lnTo>
                      <a:pt x="6741" y="147"/>
                    </a:lnTo>
                    <a:lnTo>
                      <a:pt x="6743" y="113"/>
                    </a:lnTo>
                    <a:lnTo>
                      <a:pt x="6403" y="111"/>
                    </a:lnTo>
                    <a:lnTo>
                      <a:pt x="6066" y="108"/>
                    </a:lnTo>
                    <a:lnTo>
                      <a:pt x="5956" y="106"/>
                    </a:lnTo>
                    <a:lnTo>
                      <a:pt x="5869" y="97"/>
                    </a:lnTo>
                    <a:lnTo>
                      <a:pt x="5797" y="90"/>
                    </a:lnTo>
                    <a:lnTo>
                      <a:pt x="5731" y="79"/>
                    </a:lnTo>
                    <a:lnTo>
                      <a:pt x="5666" y="69"/>
                    </a:lnTo>
                    <a:lnTo>
                      <a:pt x="5594" y="60"/>
                    </a:lnTo>
                    <a:lnTo>
                      <a:pt x="5505" y="52"/>
                    </a:lnTo>
                    <a:lnTo>
                      <a:pt x="5392" y="49"/>
                    </a:lnTo>
                    <a:lnTo>
                      <a:pt x="5356" y="49"/>
                    </a:lnTo>
                    <a:lnTo>
                      <a:pt x="5259" y="52"/>
                    </a:lnTo>
                    <a:lnTo>
                      <a:pt x="5178" y="57"/>
                    </a:lnTo>
                    <a:lnTo>
                      <a:pt x="5114" y="62"/>
                    </a:lnTo>
                    <a:lnTo>
                      <a:pt x="5051" y="71"/>
                    </a:lnTo>
                    <a:lnTo>
                      <a:pt x="4992" y="79"/>
                    </a:lnTo>
                    <a:lnTo>
                      <a:pt x="4927" y="87"/>
                    </a:lnTo>
                    <a:lnTo>
                      <a:pt x="4849" y="92"/>
                    </a:lnTo>
                    <a:lnTo>
                      <a:pt x="4752" y="95"/>
                    </a:lnTo>
                    <a:lnTo>
                      <a:pt x="4716" y="95"/>
                    </a:lnTo>
                    <a:lnTo>
                      <a:pt x="4044" y="87"/>
                    </a:lnTo>
                    <a:lnTo>
                      <a:pt x="3931" y="85"/>
                    </a:lnTo>
                    <a:lnTo>
                      <a:pt x="3845" y="79"/>
                    </a:lnTo>
                    <a:lnTo>
                      <a:pt x="3772" y="71"/>
                    </a:lnTo>
                    <a:lnTo>
                      <a:pt x="3710" y="62"/>
                    </a:lnTo>
                    <a:lnTo>
                      <a:pt x="3645" y="55"/>
                    </a:lnTo>
                    <a:lnTo>
                      <a:pt x="3572" y="46"/>
                    </a:lnTo>
                    <a:lnTo>
                      <a:pt x="3484" y="41"/>
                    </a:lnTo>
                    <a:lnTo>
                      <a:pt x="3370" y="39"/>
                    </a:lnTo>
                    <a:lnTo>
                      <a:pt x="3337" y="39"/>
                    </a:lnTo>
                    <a:lnTo>
                      <a:pt x="3238" y="39"/>
                    </a:lnTo>
                    <a:lnTo>
                      <a:pt x="3160" y="46"/>
                    </a:lnTo>
                    <a:lnTo>
                      <a:pt x="3093" y="55"/>
                    </a:lnTo>
                    <a:lnTo>
                      <a:pt x="3029" y="62"/>
                    </a:lnTo>
                    <a:lnTo>
                      <a:pt x="2971" y="71"/>
                    </a:lnTo>
                    <a:lnTo>
                      <a:pt x="2906" y="79"/>
                    </a:lnTo>
                    <a:lnTo>
                      <a:pt x="2825" y="85"/>
                    </a:lnTo>
                    <a:lnTo>
                      <a:pt x="2728" y="87"/>
                    </a:lnTo>
                    <a:lnTo>
                      <a:pt x="2695" y="87"/>
                    </a:lnTo>
                    <a:lnTo>
                      <a:pt x="2585" y="85"/>
                    </a:lnTo>
                    <a:lnTo>
                      <a:pt x="2495" y="79"/>
                    </a:lnTo>
                    <a:lnTo>
                      <a:pt x="2426" y="71"/>
                    </a:lnTo>
                    <a:lnTo>
                      <a:pt x="2361" y="65"/>
                    </a:lnTo>
                    <a:lnTo>
                      <a:pt x="2296" y="57"/>
                    </a:lnTo>
                    <a:lnTo>
                      <a:pt x="2223" y="49"/>
                    </a:lnTo>
                    <a:lnTo>
                      <a:pt x="2134" y="44"/>
                    </a:lnTo>
                    <a:lnTo>
                      <a:pt x="2021" y="41"/>
                    </a:lnTo>
                    <a:lnTo>
                      <a:pt x="1349" y="33"/>
                    </a:lnTo>
                    <a:lnTo>
                      <a:pt x="1236" y="33"/>
                    </a:lnTo>
                    <a:lnTo>
                      <a:pt x="1149" y="28"/>
                    </a:lnTo>
                    <a:lnTo>
                      <a:pt x="1011" y="20"/>
                    </a:lnTo>
                    <a:lnTo>
                      <a:pt x="877" y="9"/>
                    </a:lnTo>
                    <a:lnTo>
                      <a:pt x="787" y="4"/>
                    </a:lnTo>
                    <a:lnTo>
                      <a:pt x="674" y="4"/>
                    </a:lnTo>
                    <a:lnTo>
                      <a:pt x="544" y="0"/>
                    </a:lnTo>
                    <a:lnTo>
                      <a:pt x="431" y="4"/>
                    </a:lnTo>
                    <a:lnTo>
                      <a:pt x="339" y="4"/>
                    </a:lnTo>
                    <a:lnTo>
                      <a:pt x="245" y="6"/>
                    </a:lnTo>
                    <a:lnTo>
                      <a:pt x="131" y="6"/>
                    </a:lnTo>
                    <a:lnTo>
                      <a:pt x="2" y="6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1103400" y="2914560"/>
                <a:ext cx="885600" cy="20520"/>
              </a:xfrm>
              <a:custGeom>
                <a:avLst/>
                <a:gdLst/>
                <a:ahLst/>
                <a:rect l="l" t="t" r="r" b="b"/>
                <a:pathLst>
                  <a:path w="5478" h="133">
                    <a:moveTo>
                      <a:pt x="0" y="38"/>
                    </a:moveTo>
                    <a:lnTo>
                      <a:pt x="92" y="41"/>
                    </a:lnTo>
                    <a:lnTo>
                      <a:pt x="194" y="38"/>
                    </a:lnTo>
                    <a:lnTo>
                      <a:pt x="275" y="36"/>
                    </a:lnTo>
                    <a:lnTo>
                      <a:pt x="357" y="36"/>
                    </a:lnTo>
                    <a:lnTo>
                      <a:pt x="459" y="32"/>
                    </a:lnTo>
                    <a:lnTo>
                      <a:pt x="548" y="32"/>
                    </a:lnTo>
                    <a:lnTo>
                      <a:pt x="636" y="36"/>
                    </a:lnTo>
                    <a:lnTo>
                      <a:pt x="710" y="38"/>
                    </a:lnTo>
                    <a:lnTo>
                      <a:pt x="820" y="48"/>
                    </a:lnTo>
                    <a:lnTo>
                      <a:pt x="931" y="60"/>
                    </a:lnTo>
                    <a:lnTo>
                      <a:pt x="1004" y="62"/>
                    </a:lnTo>
                    <a:lnTo>
                      <a:pt x="1093" y="65"/>
                    </a:lnTo>
                    <a:lnTo>
                      <a:pt x="1644" y="71"/>
                    </a:lnTo>
                    <a:lnTo>
                      <a:pt x="1733" y="73"/>
                    </a:lnTo>
                    <a:lnTo>
                      <a:pt x="1803" y="78"/>
                    </a:lnTo>
                    <a:lnTo>
                      <a:pt x="1862" y="84"/>
                    </a:lnTo>
                    <a:lnTo>
                      <a:pt x="1913" y="92"/>
                    </a:lnTo>
                    <a:lnTo>
                      <a:pt x="1968" y="100"/>
                    </a:lnTo>
                    <a:lnTo>
                      <a:pt x="2026" y="105"/>
                    </a:lnTo>
                    <a:lnTo>
                      <a:pt x="2097" y="110"/>
                    </a:lnTo>
                    <a:lnTo>
                      <a:pt x="2189" y="114"/>
                    </a:lnTo>
                    <a:lnTo>
                      <a:pt x="2210" y="114"/>
                    </a:lnTo>
                    <a:lnTo>
                      <a:pt x="2294" y="110"/>
                    </a:lnTo>
                    <a:lnTo>
                      <a:pt x="2362" y="105"/>
                    </a:lnTo>
                    <a:lnTo>
                      <a:pt x="2419" y="98"/>
                    </a:lnTo>
                    <a:lnTo>
                      <a:pt x="2467" y="89"/>
                    </a:lnTo>
                    <a:lnTo>
                      <a:pt x="2516" y="78"/>
                    </a:lnTo>
                    <a:lnTo>
                      <a:pt x="2572" y="71"/>
                    </a:lnTo>
                    <a:lnTo>
                      <a:pt x="2636" y="65"/>
                    </a:lnTo>
                    <a:lnTo>
                      <a:pt x="2718" y="62"/>
                    </a:lnTo>
                    <a:lnTo>
                      <a:pt x="2739" y="62"/>
                    </a:lnTo>
                    <a:lnTo>
                      <a:pt x="2829" y="65"/>
                    </a:lnTo>
                    <a:lnTo>
                      <a:pt x="2898" y="71"/>
                    </a:lnTo>
                    <a:lnTo>
                      <a:pt x="2958" y="78"/>
                    </a:lnTo>
                    <a:lnTo>
                      <a:pt x="3009" y="87"/>
                    </a:lnTo>
                    <a:lnTo>
                      <a:pt x="3063" y="94"/>
                    </a:lnTo>
                    <a:lnTo>
                      <a:pt x="3123" y="103"/>
                    </a:lnTo>
                    <a:lnTo>
                      <a:pt x="3193" y="108"/>
                    </a:lnTo>
                    <a:lnTo>
                      <a:pt x="3284" y="110"/>
                    </a:lnTo>
                    <a:lnTo>
                      <a:pt x="3832" y="117"/>
                    </a:lnTo>
                    <a:lnTo>
                      <a:pt x="3860" y="117"/>
                    </a:lnTo>
                    <a:lnTo>
                      <a:pt x="3940" y="114"/>
                    </a:lnTo>
                    <a:lnTo>
                      <a:pt x="4005" y="108"/>
                    </a:lnTo>
                    <a:lnTo>
                      <a:pt x="4062" y="103"/>
                    </a:lnTo>
                    <a:lnTo>
                      <a:pt x="4110" y="92"/>
                    </a:lnTo>
                    <a:lnTo>
                      <a:pt x="4161" y="84"/>
                    </a:lnTo>
                    <a:lnTo>
                      <a:pt x="4216" y="76"/>
                    </a:lnTo>
                    <a:lnTo>
                      <a:pt x="4277" y="71"/>
                    </a:lnTo>
                    <a:lnTo>
                      <a:pt x="4359" y="71"/>
                    </a:lnTo>
                    <a:lnTo>
                      <a:pt x="4383" y="71"/>
                    </a:lnTo>
                    <a:lnTo>
                      <a:pt x="4472" y="73"/>
                    </a:lnTo>
                    <a:lnTo>
                      <a:pt x="4542" y="81"/>
                    </a:lnTo>
                    <a:lnTo>
                      <a:pt x="4601" y="89"/>
                    </a:lnTo>
                    <a:lnTo>
                      <a:pt x="4652" y="100"/>
                    </a:lnTo>
                    <a:lnTo>
                      <a:pt x="4707" y="108"/>
                    </a:lnTo>
                    <a:lnTo>
                      <a:pt x="4766" y="119"/>
                    </a:lnTo>
                    <a:lnTo>
                      <a:pt x="4838" y="124"/>
                    </a:lnTo>
                    <a:lnTo>
                      <a:pt x="4930" y="130"/>
                    </a:lnTo>
                    <a:lnTo>
                      <a:pt x="5206" y="130"/>
                    </a:lnTo>
                    <a:lnTo>
                      <a:pt x="5478" y="133"/>
                    </a:lnTo>
                    <a:lnTo>
                      <a:pt x="5478" y="100"/>
                    </a:lnTo>
                    <a:lnTo>
                      <a:pt x="5206" y="98"/>
                    </a:lnTo>
                    <a:lnTo>
                      <a:pt x="4930" y="98"/>
                    </a:lnTo>
                    <a:lnTo>
                      <a:pt x="4842" y="92"/>
                    </a:lnTo>
                    <a:lnTo>
                      <a:pt x="4769" y="87"/>
                    </a:lnTo>
                    <a:lnTo>
                      <a:pt x="4712" y="78"/>
                    </a:lnTo>
                    <a:lnTo>
                      <a:pt x="4661" y="68"/>
                    </a:lnTo>
                    <a:lnTo>
                      <a:pt x="4607" y="57"/>
                    </a:lnTo>
                    <a:lnTo>
                      <a:pt x="4548" y="48"/>
                    </a:lnTo>
                    <a:lnTo>
                      <a:pt x="4474" y="41"/>
                    </a:lnTo>
                    <a:lnTo>
                      <a:pt x="4383" y="38"/>
                    </a:lnTo>
                    <a:lnTo>
                      <a:pt x="4359" y="38"/>
                    </a:lnTo>
                    <a:lnTo>
                      <a:pt x="4277" y="41"/>
                    </a:lnTo>
                    <a:lnTo>
                      <a:pt x="4210" y="46"/>
                    </a:lnTo>
                    <a:lnTo>
                      <a:pt x="4156" y="52"/>
                    </a:lnTo>
                    <a:lnTo>
                      <a:pt x="4104" y="62"/>
                    </a:lnTo>
                    <a:lnTo>
                      <a:pt x="4056" y="71"/>
                    </a:lnTo>
                    <a:lnTo>
                      <a:pt x="4002" y="76"/>
                    </a:lnTo>
                    <a:lnTo>
                      <a:pt x="3938" y="81"/>
                    </a:lnTo>
                    <a:lnTo>
                      <a:pt x="3860" y="84"/>
                    </a:lnTo>
                    <a:lnTo>
                      <a:pt x="3835" y="84"/>
                    </a:lnTo>
                    <a:lnTo>
                      <a:pt x="3287" y="78"/>
                    </a:lnTo>
                    <a:lnTo>
                      <a:pt x="3195" y="76"/>
                    </a:lnTo>
                    <a:lnTo>
                      <a:pt x="3125" y="71"/>
                    </a:lnTo>
                    <a:lnTo>
                      <a:pt x="3066" y="62"/>
                    </a:lnTo>
                    <a:lnTo>
                      <a:pt x="3015" y="54"/>
                    </a:lnTo>
                    <a:lnTo>
                      <a:pt x="2963" y="46"/>
                    </a:lnTo>
                    <a:lnTo>
                      <a:pt x="2904" y="38"/>
                    </a:lnTo>
                    <a:lnTo>
                      <a:pt x="2831" y="32"/>
                    </a:lnTo>
                    <a:lnTo>
                      <a:pt x="2739" y="30"/>
                    </a:lnTo>
                    <a:lnTo>
                      <a:pt x="2718" y="30"/>
                    </a:lnTo>
                    <a:lnTo>
                      <a:pt x="2634" y="32"/>
                    </a:lnTo>
                    <a:lnTo>
                      <a:pt x="2567" y="38"/>
                    </a:lnTo>
                    <a:lnTo>
                      <a:pt x="2509" y="46"/>
                    </a:lnTo>
                    <a:lnTo>
                      <a:pt x="2461" y="57"/>
                    </a:lnTo>
                    <a:lnTo>
                      <a:pt x="2413" y="65"/>
                    </a:lnTo>
                    <a:lnTo>
                      <a:pt x="2359" y="73"/>
                    </a:lnTo>
                    <a:lnTo>
                      <a:pt x="2291" y="78"/>
                    </a:lnTo>
                    <a:lnTo>
                      <a:pt x="2210" y="81"/>
                    </a:lnTo>
                    <a:lnTo>
                      <a:pt x="2191" y="81"/>
                    </a:lnTo>
                    <a:lnTo>
                      <a:pt x="2100" y="78"/>
                    </a:lnTo>
                    <a:lnTo>
                      <a:pt x="2030" y="73"/>
                    </a:lnTo>
                    <a:lnTo>
                      <a:pt x="1970" y="68"/>
                    </a:lnTo>
                    <a:lnTo>
                      <a:pt x="1919" y="60"/>
                    </a:lnTo>
                    <a:lnTo>
                      <a:pt x="1865" y="52"/>
                    </a:lnTo>
                    <a:lnTo>
                      <a:pt x="1805" y="46"/>
                    </a:lnTo>
                    <a:lnTo>
                      <a:pt x="1736" y="41"/>
                    </a:lnTo>
                    <a:lnTo>
                      <a:pt x="1644" y="38"/>
                    </a:lnTo>
                    <a:lnTo>
                      <a:pt x="1096" y="32"/>
                    </a:lnTo>
                    <a:lnTo>
                      <a:pt x="1004" y="30"/>
                    </a:lnTo>
                    <a:lnTo>
                      <a:pt x="933" y="27"/>
                    </a:lnTo>
                    <a:lnTo>
                      <a:pt x="823" y="16"/>
                    </a:lnTo>
                    <a:lnTo>
                      <a:pt x="710" y="6"/>
                    </a:lnTo>
                    <a:lnTo>
                      <a:pt x="640" y="2"/>
                    </a:lnTo>
                    <a:lnTo>
                      <a:pt x="548" y="0"/>
                    </a:lnTo>
                    <a:lnTo>
                      <a:pt x="459" y="0"/>
                    </a:lnTo>
                    <a:lnTo>
                      <a:pt x="357" y="2"/>
                    </a:lnTo>
                    <a:lnTo>
                      <a:pt x="272" y="2"/>
                    </a:lnTo>
                    <a:lnTo>
                      <a:pt x="192" y="6"/>
                    </a:lnTo>
                    <a:lnTo>
                      <a:pt x="92" y="8"/>
                    </a:lnTo>
                    <a:lnTo>
                      <a:pt x="0" y="6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1103400" y="3132000"/>
                <a:ext cx="887400" cy="20520"/>
              </a:xfrm>
              <a:custGeom>
                <a:avLst/>
                <a:gdLst/>
                <a:ahLst/>
                <a:rect l="l" t="t" r="r" b="b"/>
                <a:pathLst>
                  <a:path w="5482" h="129">
                    <a:moveTo>
                      <a:pt x="0" y="37"/>
                    </a:moveTo>
                    <a:lnTo>
                      <a:pt x="92" y="37"/>
                    </a:lnTo>
                    <a:lnTo>
                      <a:pt x="194" y="37"/>
                    </a:lnTo>
                    <a:lnTo>
                      <a:pt x="275" y="35"/>
                    </a:lnTo>
                    <a:lnTo>
                      <a:pt x="359" y="32"/>
                    </a:lnTo>
                    <a:lnTo>
                      <a:pt x="461" y="32"/>
                    </a:lnTo>
                    <a:lnTo>
                      <a:pt x="548" y="32"/>
                    </a:lnTo>
                    <a:lnTo>
                      <a:pt x="640" y="35"/>
                    </a:lnTo>
                    <a:lnTo>
                      <a:pt x="710" y="37"/>
                    </a:lnTo>
                    <a:lnTo>
                      <a:pt x="820" y="48"/>
                    </a:lnTo>
                    <a:lnTo>
                      <a:pt x="931" y="56"/>
                    </a:lnTo>
                    <a:lnTo>
                      <a:pt x="1004" y="62"/>
                    </a:lnTo>
                    <a:lnTo>
                      <a:pt x="1096" y="62"/>
                    </a:lnTo>
                    <a:lnTo>
                      <a:pt x="1644" y="67"/>
                    </a:lnTo>
                    <a:lnTo>
                      <a:pt x="1733" y="69"/>
                    </a:lnTo>
                    <a:lnTo>
                      <a:pt x="1805" y="75"/>
                    </a:lnTo>
                    <a:lnTo>
                      <a:pt x="1862" y="83"/>
                    </a:lnTo>
                    <a:lnTo>
                      <a:pt x="1913" y="88"/>
                    </a:lnTo>
                    <a:lnTo>
                      <a:pt x="1968" y="97"/>
                    </a:lnTo>
                    <a:lnTo>
                      <a:pt x="2026" y="104"/>
                    </a:lnTo>
                    <a:lnTo>
                      <a:pt x="2100" y="110"/>
                    </a:lnTo>
                    <a:lnTo>
                      <a:pt x="2191" y="113"/>
                    </a:lnTo>
                    <a:lnTo>
                      <a:pt x="2213" y="113"/>
                    </a:lnTo>
                    <a:lnTo>
                      <a:pt x="2294" y="110"/>
                    </a:lnTo>
                    <a:lnTo>
                      <a:pt x="2362" y="104"/>
                    </a:lnTo>
                    <a:lnTo>
                      <a:pt x="2419" y="97"/>
                    </a:lnTo>
                    <a:lnTo>
                      <a:pt x="2467" y="86"/>
                    </a:lnTo>
                    <a:lnTo>
                      <a:pt x="2518" y="78"/>
                    </a:lnTo>
                    <a:lnTo>
                      <a:pt x="2572" y="69"/>
                    </a:lnTo>
                    <a:lnTo>
                      <a:pt x="2636" y="64"/>
                    </a:lnTo>
                    <a:lnTo>
                      <a:pt x="2718" y="62"/>
                    </a:lnTo>
                    <a:lnTo>
                      <a:pt x="2739" y="62"/>
                    </a:lnTo>
                    <a:lnTo>
                      <a:pt x="2829" y="64"/>
                    </a:lnTo>
                    <a:lnTo>
                      <a:pt x="2901" y="69"/>
                    </a:lnTo>
                    <a:lnTo>
                      <a:pt x="2958" y="78"/>
                    </a:lnTo>
                    <a:lnTo>
                      <a:pt x="3011" y="83"/>
                    </a:lnTo>
                    <a:lnTo>
                      <a:pt x="3063" y="94"/>
                    </a:lnTo>
                    <a:lnTo>
                      <a:pt x="3123" y="99"/>
                    </a:lnTo>
                    <a:lnTo>
                      <a:pt x="3195" y="104"/>
                    </a:lnTo>
                    <a:lnTo>
                      <a:pt x="3287" y="108"/>
                    </a:lnTo>
                    <a:lnTo>
                      <a:pt x="3835" y="115"/>
                    </a:lnTo>
                    <a:lnTo>
                      <a:pt x="3860" y="115"/>
                    </a:lnTo>
                    <a:lnTo>
                      <a:pt x="3940" y="113"/>
                    </a:lnTo>
                    <a:lnTo>
                      <a:pt x="4007" y="108"/>
                    </a:lnTo>
                    <a:lnTo>
                      <a:pt x="4062" y="99"/>
                    </a:lnTo>
                    <a:lnTo>
                      <a:pt x="4113" y="92"/>
                    </a:lnTo>
                    <a:lnTo>
                      <a:pt x="4161" y="83"/>
                    </a:lnTo>
                    <a:lnTo>
                      <a:pt x="4216" y="75"/>
                    </a:lnTo>
                    <a:lnTo>
                      <a:pt x="4281" y="69"/>
                    </a:lnTo>
                    <a:lnTo>
                      <a:pt x="4361" y="67"/>
                    </a:lnTo>
                    <a:lnTo>
                      <a:pt x="4383" y="67"/>
                    </a:lnTo>
                    <a:lnTo>
                      <a:pt x="4472" y="72"/>
                    </a:lnTo>
                    <a:lnTo>
                      <a:pt x="4545" y="78"/>
                    </a:lnTo>
                    <a:lnTo>
                      <a:pt x="4601" y="86"/>
                    </a:lnTo>
                    <a:lnTo>
                      <a:pt x="4652" y="97"/>
                    </a:lnTo>
                    <a:lnTo>
                      <a:pt x="4707" y="108"/>
                    </a:lnTo>
                    <a:lnTo>
                      <a:pt x="4766" y="115"/>
                    </a:lnTo>
                    <a:lnTo>
                      <a:pt x="4838" y="124"/>
                    </a:lnTo>
                    <a:lnTo>
                      <a:pt x="4930" y="126"/>
                    </a:lnTo>
                    <a:lnTo>
                      <a:pt x="5206" y="129"/>
                    </a:lnTo>
                    <a:lnTo>
                      <a:pt x="5482" y="129"/>
                    </a:lnTo>
                    <a:lnTo>
                      <a:pt x="5482" y="97"/>
                    </a:lnTo>
                    <a:lnTo>
                      <a:pt x="5206" y="97"/>
                    </a:lnTo>
                    <a:lnTo>
                      <a:pt x="4930" y="94"/>
                    </a:lnTo>
                    <a:lnTo>
                      <a:pt x="4842" y="92"/>
                    </a:lnTo>
                    <a:lnTo>
                      <a:pt x="4771" y="86"/>
                    </a:lnTo>
                    <a:lnTo>
                      <a:pt x="4712" y="75"/>
                    </a:lnTo>
                    <a:lnTo>
                      <a:pt x="4661" y="64"/>
                    </a:lnTo>
                    <a:lnTo>
                      <a:pt x="4607" y="56"/>
                    </a:lnTo>
                    <a:lnTo>
                      <a:pt x="4548" y="46"/>
                    </a:lnTo>
                    <a:lnTo>
                      <a:pt x="4474" y="40"/>
                    </a:lnTo>
                    <a:lnTo>
                      <a:pt x="4383" y="35"/>
                    </a:lnTo>
                    <a:lnTo>
                      <a:pt x="4361" y="35"/>
                    </a:lnTo>
                    <a:lnTo>
                      <a:pt x="4277" y="37"/>
                    </a:lnTo>
                    <a:lnTo>
                      <a:pt x="4212" y="43"/>
                    </a:lnTo>
                    <a:lnTo>
                      <a:pt x="4156" y="51"/>
                    </a:lnTo>
                    <a:lnTo>
                      <a:pt x="4108" y="59"/>
                    </a:lnTo>
                    <a:lnTo>
                      <a:pt x="4056" y="67"/>
                    </a:lnTo>
                    <a:lnTo>
                      <a:pt x="4002" y="75"/>
                    </a:lnTo>
                    <a:lnTo>
                      <a:pt x="3938" y="80"/>
                    </a:lnTo>
                    <a:lnTo>
                      <a:pt x="3860" y="83"/>
                    </a:lnTo>
                    <a:lnTo>
                      <a:pt x="3835" y="83"/>
                    </a:lnTo>
                    <a:lnTo>
                      <a:pt x="3287" y="75"/>
                    </a:lnTo>
                    <a:lnTo>
                      <a:pt x="3198" y="72"/>
                    </a:lnTo>
                    <a:lnTo>
                      <a:pt x="3125" y="67"/>
                    </a:lnTo>
                    <a:lnTo>
                      <a:pt x="3068" y="62"/>
                    </a:lnTo>
                    <a:lnTo>
                      <a:pt x="3015" y="53"/>
                    </a:lnTo>
                    <a:lnTo>
                      <a:pt x="2963" y="46"/>
                    </a:lnTo>
                    <a:lnTo>
                      <a:pt x="2904" y="37"/>
                    </a:lnTo>
                    <a:lnTo>
                      <a:pt x="2831" y="32"/>
                    </a:lnTo>
                    <a:lnTo>
                      <a:pt x="2739" y="30"/>
                    </a:lnTo>
                    <a:lnTo>
                      <a:pt x="2718" y="30"/>
                    </a:lnTo>
                    <a:lnTo>
                      <a:pt x="2634" y="32"/>
                    </a:lnTo>
                    <a:lnTo>
                      <a:pt x="2567" y="37"/>
                    </a:lnTo>
                    <a:lnTo>
                      <a:pt x="2513" y="46"/>
                    </a:lnTo>
                    <a:lnTo>
                      <a:pt x="2461" y="53"/>
                    </a:lnTo>
                    <a:lnTo>
                      <a:pt x="2413" y="64"/>
                    </a:lnTo>
                    <a:lnTo>
                      <a:pt x="2359" y="72"/>
                    </a:lnTo>
                    <a:lnTo>
                      <a:pt x="2294" y="78"/>
                    </a:lnTo>
                    <a:lnTo>
                      <a:pt x="2213" y="80"/>
                    </a:lnTo>
                    <a:lnTo>
                      <a:pt x="2191" y="80"/>
                    </a:lnTo>
                    <a:lnTo>
                      <a:pt x="2100" y="78"/>
                    </a:lnTo>
                    <a:lnTo>
                      <a:pt x="2030" y="72"/>
                    </a:lnTo>
                    <a:lnTo>
                      <a:pt x="1973" y="64"/>
                    </a:lnTo>
                    <a:lnTo>
                      <a:pt x="1919" y="59"/>
                    </a:lnTo>
                    <a:lnTo>
                      <a:pt x="1867" y="51"/>
                    </a:lnTo>
                    <a:lnTo>
                      <a:pt x="1808" y="43"/>
                    </a:lnTo>
                    <a:lnTo>
                      <a:pt x="1736" y="37"/>
                    </a:lnTo>
                    <a:lnTo>
                      <a:pt x="1644" y="35"/>
                    </a:lnTo>
                    <a:lnTo>
                      <a:pt x="1096" y="30"/>
                    </a:lnTo>
                    <a:lnTo>
                      <a:pt x="1004" y="30"/>
                    </a:lnTo>
                    <a:lnTo>
                      <a:pt x="933" y="23"/>
                    </a:lnTo>
                    <a:lnTo>
                      <a:pt x="823" y="16"/>
                    </a:lnTo>
                    <a:lnTo>
                      <a:pt x="712" y="5"/>
                    </a:lnTo>
                    <a:lnTo>
                      <a:pt x="640" y="2"/>
                    </a:lnTo>
                    <a:lnTo>
                      <a:pt x="548" y="0"/>
                    </a:lnTo>
                    <a:lnTo>
                      <a:pt x="461" y="0"/>
                    </a:lnTo>
                    <a:lnTo>
                      <a:pt x="357" y="0"/>
                    </a:lnTo>
                    <a:lnTo>
                      <a:pt x="275" y="2"/>
                    </a:lnTo>
                    <a:lnTo>
                      <a:pt x="194" y="5"/>
                    </a:lnTo>
                    <a:lnTo>
                      <a:pt x="92" y="5"/>
                    </a:lnTo>
                    <a:lnTo>
                      <a:pt x="0" y="5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2050920" y="2874960"/>
                <a:ext cx="266760" cy="358560"/>
              </a:xfrm>
              <a:custGeom>
                <a:avLst/>
                <a:gdLst/>
                <a:ahLst/>
                <a:rect l="l" t="t" r="r" b="b"/>
                <a:pathLst>
                  <a:path w="1646" h="2358">
                    <a:moveTo>
                      <a:pt x="1149" y="16"/>
                    </a:moveTo>
                    <a:lnTo>
                      <a:pt x="1136" y="5"/>
                    </a:lnTo>
                    <a:lnTo>
                      <a:pt x="2" y="1605"/>
                    </a:lnTo>
                    <a:lnTo>
                      <a:pt x="0" y="1610"/>
                    </a:lnTo>
                    <a:lnTo>
                      <a:pt x="0" y="1618"/>
                    </a:lnTo>
                    <a:lnTo>
                      <a:pt x="2" y="1624"/>
                    </a:lnTo>
                    <a:lnTo>
                      <a:pt x="5" y="1630"/>
                    </a:lnTo>
                    <a:lnTo>
                      <a:pt x="1082" y="2355"/>
                    </a:lnTo>
                    <a:lnTo>
                      <a:pt x="1087" y="2358"/>
                    </a:lnTo>
                    <a:lnTo>
                      <a:pt x="1093" y="2358"/>
                    </a:lnTo>
                    <a:lnTo>
                      <a:pt x="1098" y="2358"/>
                    </a:lnTo>
                    <a:lnTo>
                      <a:pt x="1104" y="2352"/>
                    </a:lnTo>
                    <a:lnTo>
                      <a:pt x="1641" y="1815"/>
                    </a:lnTo>
                    <a:lnTo>
                      <a:pt x="1646" y="1807"/>
                    </a:lnTo>
                    <a:lnTo>
                      <a:pt x="1646" y="1799"/>
                    </a:lnTo>
                    <a:lnTo>
                      <a:pt x="1165" y="11"/>
                    </a:lnTo>
                    <a:lnTo>
                      <a:pt x="1160" y="2"/>
                    </a:lnTo>
                    <a:lnTo>
                      <a:pt x="1152" y="0"/>
                    </a:lnTo>
                    <a:lnTo>
                      <a:pt x="1144" y="0"/>
                    </a:lnTo>
                    <a:lnTo>
                      <a:pt x="1136" y="5"/>
                    </a:lnTo>
                    <a:lnTo>
                      <a:pt x="1149" y="16"/>
                    </a:lnTo>
                    <a:lnTo>
                      <a:pt x="1133" y="18"/>
                    </a:lnTo>
                    <a:lnTo>
                      <a:pt x="1611" y="1799"/>
                    </a:lnTo>
                    <a:lnTo>
                      <a:pt x="1090" y="2319"/>
                    </a:lnTo>
                    <a:lnTo>
                      <a:pt x="37" y="1610"/>
                    </a:lnTo>
                    <a:lnTo>
                      <a:pt x="1163" y="25"/>
                    </a:lnTo>
                    <a:lnTo>
                      <a:pt x="1149" y="16"/>
                    </a:lnTo>
                    <a:lnTo>
                      <a:pt x="1133" y="18"/>
                    </a:lnTo>
                    <a:lnTo>
                      <a:pt x="1149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2225520" y="2874960"/>
                <a:ext cx="14400" cy="358560"/>
              </a:xfrm>
              <a:custGeom>
                <a:avLst/>
                <a:gdLst/>
                <a:ahLst/>
                <a:rect l="l" t="t" r="r" b="b"/>
                <a:pathLst>
                  <a:path w="91" h="2358">
                    <a:moveTo>
                      <a:pt x="33" y="2341"/>
                    </a:moveTo>
                    <a:lnTo>
                      <a:pt x="91" y="16"/>
                    </a:lnTo>
                    <a:lnTo>
                      <a:pt x="89" y="11"/>
                    </a:lnTo>
                    <a:lnTo>
                      <a:pt x="86" y="5"/>
                    </a:lnTo>
                    <a:lnTo>
                      <a:pt x="81" y="0"/>
                    </a:lnTo>
                    <a:lnTo>
                      <a:pt x="75" y="0"/>
                    </a:lnTo>
                    <a:lnTo>
                      <a:pt x="70" y="0"/>
                    </a:lnTo>
                    <a:lnTo>
                      <a:pt x="65" y="5"/>
                    </a:lnTo>
                    <a:lnTo>
                      <a:pt x="59" y="8"/>
                    </a:lnTo>
                    <a:lnTo>
                      <a:pt x="59" y="16"/>
                    </a:lnTo>
                    <a:lnTo>
                      <a:pt x="0" y="2341"/>
                    </a:lnTo>
                    <a:lnTo>
                      <a:pt x="3" y="2347"/>
                    </a:lnTo>
                    <a:lnTo>
                      <a:pt x="5" y="2352"/>
                    </a:lnTo>
                    <a:lnTo>
                      <a:pt x="10" y="2358"/>
                    </a:lnTo>
                    <a:lnTo>
                      <a:pt x="16" y="2358"/>
                    </a:lnTo>
                    <a:lnTo>
                      <a:pt x="24" y="2358"/>
                    </a:lnTo>
                    <a:lnTo>
                      <a:pt x="26" y="2352"/>
                    </a:lnTo>
                    <a:lnTo>
                      <a:pt x="33" y="2349"/>
                    </a:lnTo>
                    <a:lnTo>
                      <a:pt x="33" y="23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1174680" y="3495600"/>
                <a:ext cx="192240" cy="54000"/>
              </a:xfrm>
              <a:custGeom>
                <a:avLst/>
                <a:gdLst/>
                <a:ahLst/>
                <a:rect l="l" t="t" r="r" b="b"/>
                <a:pathLst>
                  <a:path w="1192" h="348">
                    <a:moveTo>
                      <a:pt x="1192" y="173"/>
                    </a:moveTo>
                    <a:lnTo>
                      <a:pt x="1190" y="207"/>
                    </a:lnTo>
                    <a:lnTo>
                      <a:pt x="1181" y="240"/>
                    </a:lnTo>
                    <a:lnTo>
                      <a:pt x="1170" y="270"/>
                    </a:lnTo>
                    <a:lnTo>
                      <a:pt x="1154" y="296"/>
                    </a:lnTo>
                    <a:lnTo>
                      <a:pt x="1135" y="318"/>
                    </a:lnTo>
                    <a:lnTo>
                      <a:pt x="1112" y="334"/>
                    </a:lnTo>
                    <a:lnTo>
                      <a:pt x="1101" y="339"/>
                    </a:lnTo>
                    <a:lnTo>
                      <a:pt x="1087" y="342"/>
                    </a:lnTo>
                    <a:lnTo>
                      <a:pt x="1073" y="344"/>
                    </a:lnTo>
                    <a:lnTo>
                      <a:pt x="1060" y="348"/>
                    </a:lnTo>
                    <a:lnTo>
                      <a:pt x="132" y="348"/>
                    </a:lnTo>
                    <a:lnTo>
                      <a:pt x="118" y="344"/>
                    </a:lnTo>
                    <a:lnTo>
                      <a:pt x="104" y="342"/>
                    </a:lnTo>
                    <a:lnTo>
                      <a:pt x="91" y="339"/>
                    </a:lnTo>
                    <a:lnTo>
                      <a:pt x="81" y="334"/>
                    </a:lnTo>
                    <a:lnTo>
                      <a:pt x="59" y="318"/>
                    </a:lnTo>
                    <a:lnTo>
                      <a:pt x="37" y="296"/>
                    </a:lnTo>
                    <a:lnTo>
                      <a:pt x="24" y="270"/>
                    </a:lnTo>
                    <a:lnTo>
                      <a:pt x="10" y="240"/>
                    </a:lnTo>
                    <a:lnTo>
                      <a:pt x="2" y="207"/>
                    </a:lnTo>
                    <a:lnTo>
                      <a:pt x="0" y="173"/>
                    </a:lnTo>
                    <a:lnTo>
                      <a:pt x="2" y="139"/>
                    </a:lnTo>
                    <a:lnTo>
                      <a:pt x="10" y="107"/>
                    </a:lnTo>
                    <a:lnTo>
                      <a:pt x="24" y="78"/>
                    </a:lnTo>
                    <a:lnTo>
                      <a:pt x="37" y="51"/>
                    </a:lnTo>
                    <a:lnTo>
                      <a:pt x="59" y="29"/>
                    </a:lnTo>
                    <a:lnTo>
                      <a:pt x="81" y="12"/>
                    </a:lnTo>
                    <a:lnTo>
                      <a:pt x="91" y="7"/>
                    </a:lnTo>
                    <a:lnTo>
                      <a:pt x="104" y="5"/>
                    </a:lnTo>
                    <a:lnTo>
                      <a:pt x="118" y="2"/>
                    </a:lnTo>
                    <a:lnTo>
                      <a:pt x="132" y="0"/>
                    </a:lnTo>
                    <a:lnTo>
                      <a:pt x="1060" y="0"/>
                    </a:lnTo>
                    <a:lnTo>
                      <a:pt x="1073" y="2"/>
                    </a:lnTo>
                    <a:lnTo>
                      <a:pt x="1087" y="5"/>
                    </a:lnTo>
                    <a:lnTo>
                      <a:pt x="1101" y="7"/>
                    </a:lnTo>
                    <a:lnTo>
                      <a:pt x="1112" y="12"/>
                    </a:lnTo>
                    <a:lnTo>
                      <a:pt x="1135" y="29"/>
                    </a:lnTo>
                    <a:lnTo>
                      <a:pt x="1154" y="51"/>
                    </a:lnTo>
                    <a:lnTo>
                      <a:pt x="1170" y="78"/>
                    </a:lnTo>
                    <a:lnTo>
                      <a:pt x="1181" y="107"/>
                    </a:lnTo>
                    <a:lnTo>
                      <a:pt x="1190" y="139"/>
                    </a:lnTo>
                    <a:lnTo>
                      <a:pt x="1192" y="17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1173240" y="3494160"/>
                <a:ext cx="195120" cy="55440"/>
              </a:xfrm>
              <a:custGeom>
                <a:avLst/>
                <a:gdLst/>
                <a:ahLst/>
                <a:rect l="l" t="t" r="r" b="b"/>
                <a:pathLst>
                  <a:path w="1209" h="364">
                    <a:moveTo>
                      <a:pt x="1201" y="182"/>
                    </a:moveTo>
                    <a:lnTo>
                      <a:pt x="1193" y="182"/>
                    </a:lnTo>
                    <a:lnTo>
                      <a:pt x="1190" y="216"/>
                    </a:lnTo>
                    <a:lnTo>
                      <a:pt x="1183" y="249"/>
                    </a:lnTo>
                    <a:lnTo>
                      <a:pt x="1172" y="276"/>
                    </a:lnTo>
                    <a:lnTo>
                      <a:pt x="1156" y="300"/>
                    </a:lnTo>
                    <a:lnTo>
                      <a:pt x="1139" y="318"/>
                    </a:lnTo>
                    <a:lnTo>
                      <a:pt x="1118" y="335"/>
                    </a:lnTo>
                    <a:lnTo>
                      <a:pt x="1093" y="343"/>
                    </a:lnTo>
                    <a:lnTo>
                      <a:pt x="1082" y="346"/>
                    </a:lnTo>
                    <a:lnTo>
                      <a:pt x="1069" y="348"/>
                    </a:lnTo>
                    <a:lnTo>
                      <a:pt x="141" y="348"/>
                    </a:lnTo>
                    <a:lnTo>
                      <a:pt x="127" y="346"/>
                    </a:lnTo>
                    <a:lnTo>
                      <a:pt x="116" y="343"/>
                    </a:lnTo>
                    <a:lnTo>
                      <a:pt x="92" y="335"/>
                    </a:lnTo>
                    <a:lnTo>
                      <a:pt x="74" y="318"/>
                    </a:lnTo>
                    <a:lnTo>
                      <a:pt x="54" y="300"/>
                    </a:lnTo>
                    <a:lnTo>
                      <a:pt x="38" y="276"/>
                    </a:lnTo>
                    <a:lnTo>
                      <a:pt x="28" y="249"/>
                    </a:lnTo>
                    <a:lnTo>
                      <a:pt x="19" y="216"/>
                    </a:lnTo>
                    <a:lnTo>
                      <a:pt x="17" y="182"/>
                    </a:lnTo>
                    <a:lnTo>
                      <a:pt x="19" y="148"/>
                    </a:lnTo>
                    <a:lnTo>
                      <a:pt x="28" y="116"/>
                    </a:lnTo>
                    <a:lnTo>
                      <a:pt x="38" y="90"/>
                    </a:lnTo>
                    <a:lnTo>
                      <a:pt x="54" y="65"/>
                    </a:lnTo>
                    <a:lnTo>
                      <a:pt x="74" y="46"/>
                    </a:lnTo>
                    <a:lnTo>
                      <a:pt x="92" y="30"/>
                    </a:lnTo>
                    <a:lnTo>
                      <a:pt x="116" y="21"/>
                    </a:lnTo>
                    <a:lnTo>
                      <a:pt x="127" y="19"/>
                    </a:lnTo>
                    <a:lnTo>
                      <a:pt x="141" y="16"/>
                    </a:lnTo>
                    <a:lnTo>
                      <a:pt x="1069" y="16"/>
                    </a:lnTo>
                    <a:lnTo>
                      <a:pt x="1082" y="19"/>
                    </a:lnTo>
                    <a:lnTo>
                      <a:pt x="1093" y="21"/>
                    </a:lnTo>
                    <a:lnTo>
                      <a:pt x="1118" y="30"/>
                    </a:lnTo>
                    <a:lnTo>
                      <a:pt x="1139" y="46"/>
                    </a:lnTo>
                    <a:lnTo>
                      <a:pt x="1156" y="65"/>
                    </a:lnTo>
                    <a:lnTo>
                      <a:pt x="1172" y="90"/>
                    </a:lnTo>
                    <a:lnTo>
                      <a:pt x="1183" y="116"/>
                    </a:lnTo>
                    <a:lnTo>
                      <a:pt x="1190" y="148"/>
                    </a:lnTo>
                    <a:lnTo>
                      <a:pt x="1193" y="182"/>
                    </a:lnTo>
                    <a:lnTo>
                      <a:pt x="1201" y="182"/>
                    </a:lnTo>
                    <a:lnTo>
                      <a:pt x="1209" y="182"/>
                    </a:lnTo>
                    <a:lnTo>
                      <a:pt x="1207" y="146"/>
                    </a:lnTo>
                    <a:lnTo>
                      <a:pt x="1199" y="113"/>
                    </a:lnTo>
                    <a:lnTo>
                      <a:pt x="1185" y="81"/>
                    </a:lnTo>
                    <a:lnTo>
                      <a:pt x="1169" y="55"/>
                    </a:lnTo>
                    <a:lnTo>
                      <a:pt x="1150" y="33"/>
                    </a:lnTo>
                    <a:lnTo>
                      <a:pt x="1126" y="16"/>
                    </a:lnTo>
                    <a:lnTo>
                      <a:pt x="1112" y="9"/>
                    </a:lnTo>
                    <a:lnTo>
                      <a:pt x="1098" y="5"/>
                    </a:lnTo>
                    <a:lnTo>
                      <a:pt x="1085" y="3"/>
                    </a:lnTo>
                    <a:lnTo>
                      <a:pt x="1069" y="0"/>
                    </a:lnTo>
                    <a:lnTo>
                      <a:pt x="141" y="0"/>
                    </a:lnTo>
                    <a:lnTo>
                      <a:pt x="125" y="3"/>
                    </a:lnTo>
                    <a:lnTo>
                      <a:pt x="111" y="5"/>
                    </a:lnTo>
                    <a:lnTo>
                      <a:pt x="97" y="9"/>
                    </a:lnTo>
                    <a:lnTo>
                      <a:pt x="84" y="16"/>
                    </a:lnTo>
                    <a:lnTo>
                      <a:pt x="74" y="25"/>
                    </a:lnTo>
                    <a:lnTo>
                      <a:pt x="62" y="33"/>
                    </a:lnTo>
                    <a:lnTo>
                      <a:pt x="41" y="55"/>
                    </a:lnTo>
                    <a:lnTo>
                      <a:pt x="25" y="81"/>
                    </a:lnTo>
                    <a:lnTo>
                      <a:pt x="11" y="113"/>
                    </a:lnTo>
                    <a:lnTo>
                      <a:pt x="3" y="146"/>
                    </a:lnTo>
                    <a:lnTo>
                      <a:pt x="0" y="182"/>
                    </a:lnTo>
                    <a:lnTo>
                      <a:pt x="3" y="219"/>
                    </a:lnTo>
                    <a:lnTo>
                      <a:pt x="11" y="251"/>
                    </a:lnTo>
                    <a:lnTo>
                      <a:pt x="25" y="284"/>
                    </a:lnTo>
                    <a:lnTo>
                      <a:pt x="41" y="311"/>
                    </a:lnTo>
                    <a:lnTo>
                      <a:pt x="62" y="332"/>
                    </a:lnTo>
                    <a:lnTo>
                      <a:pt x="74" y="341"/>
                    </a:lnTo>
                    <a:lnTo>
                      <a:pt x="84" y="348"/>
                    </a:lnTo>
                    <a:lnTo>
                      <a:pt x="97" y="357"/>
                    </a:lnTo>
                    <a:lnTo>
                      <a:pt x="111" y="359"/>
                    </a:lnTo>
                    <a:lnTo>
                      <a:pt x="125" y="362"/>
                    </a:lnTo>
                    <a:lnTo>
                      <a:pt x="141" y="364"/>
                    </a:lnTo>
                    <a:lnTo>
                      <a:pt x="1069" y="364"/>
                    </a:lnTo>
                    <a:lnTo>
                      <a:pt x="1085" y="362"/>
                    </a:lnTo>
                    <a:lnTo>
                      <a:pt x="1098" y="359"/>
                    </a:lnTo>
                    <a:lnTo>
                      <a:pt x="1112" y="357"/>
                    </a:lnTo>
                    <a:lnTo>
                      <a:pt x="1126" y="348"/>
                    </a:lnTo>
                    <a:lnTo>
                      <a:pt x="1150" y="332"/>
                    </a:lnTo>
                    <a:lnTo>
                      <a:pt x="1169" y="311"/>
                    </a:lnTo>
                    <a:lnTo>
                      <a:pt x="1185" y="284"/>
                    </a:lnTo>
                    <a:lnTo>
                      <a:pt x="1199" y="251"/>
                    </a:lnTo>
                    <a:lnTo>
                      <a:pt x="1207" y="219"/>
                    </a:lnTo>
                    <a:lnTo>
                      <a:pt x="1209" y="182"/>
                    </a:lnTo>
                    <a:lnTo>
                      <a:pt x="1201" y="182"/>
                    </a:lnTo>
                    <a:close/>
                  </a:path>
                </a:pathLst>
              </a:custGeom>
              <a:solidFill>
                <a:srgbClr val="773f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1176120" y="3514680"/>
                <a:ext cx="190800" cy="33120"/>
              </a:xfrm>
              <a:custGeom>
                <a:avLst/>
                <a:gdLst/>
                <a:ahLst/>
                <a:rect l="l" t="t" r="r" b="b"/>
                <a:pathLst>
                  <a:path w="1184" h="221">
                    <a:moveTo>
                      <a:pt x="8" y="0"/>
                    </a:moveTo>
                    <a:lnTo>
                      <a:pt x="2" y="27"/>
                    </a:lnTo>
                    <a:lnTo>
                      <a:pt x="0" y="55"/>
                    </a:lnTo>
                    <a:lnTo>
                      <a:pt x="2" y="89"/>
                    </a:lnTo>
                    <a:lnTo>
                      <a:pt x="11" y="122"/>
                    </a:lnTo>
                    <a:lnTo>
                      <a:pt x="21" y="149"/>
                    </a:lnTo>
                    <a:lnTo>
                      <a:pt x="37" y="173"/>
                    </a:lnTo>
                    <a:lnTo>
                      <a:pt x="57" y="191"/>
                    </a:lnTo>
                    <a:lnTo>
                      <a:pt x="75" y="208"/>
                    </a:lnTo>
                    <a:lnTo>
                      <a:pt x="99" y="216"/>
                    </a:lnTo>
                    <a:lnTo>
                      <a:pt x="110" y="219"/>
                    </a:lnTo>
                    <a:lnTo>
                      <a:pt x="124" y="221"/>
                    </a:lnTo>
                    <a:lnTo>
                      <a:pt x="1052" y="221"/>
                    </a:lnTo>
                    <a:lnTo>
                      <a:pt x="1065" y="219"/>
                    </a:lnTo>
                    <a:lnTo>
                      <a:pt x="1076" y="216"/>
                    </a:lnTo>
                    <a:lnTo>
                      <a:pt x="1101" y="208"/>
                    </a:lnTo>
                    <a:lnTo>
                      <a:pt x="1122" y="191"/>
                    </a:lnTo>
                    <a:lnTo>
                      <a:pt x="1139" y="173"/>
                    </a:lnTo>
                    <a:lnTo>
                      <a:pt x="1155" y="149"/>
                    </a:lnTo>
                    <a:lnTo>
                      <a:pt x="1166" y="122"/>
                    </a:lnTo>
                    <a:lnTo>
                      <a:pt x="1173" y="89"/>
                    </a:lnTo>
                    <a:lnTo>
                      <a:pt x="1176" y="55"/>
                    </a:lnTo>
                    <a:lnTo>
                      <a:pt x="1184" y="55"/>
                    </a:lnTo>
                    <a:lnTo>
                      <a:pt x="1176" y="55"/>
                    </a:lnTo>
                    <a:lnTo>
                      <a:pt x="1173" y="27"/>
                    </a:lnTo>
                    <a:lnTo>
                      <a:pt x="1168" y="0"/>
                    </a:lnTo>
                    <a:lnTo>
                      <a:pt x="1160" y="19"/>
                    </a:lnTo>
                    <a:lnTo>
                      <a:pt x="1150" y="37"/>
                    </a:lnTo>
                    <a:lnTo>
                      <a:pt x="1136" y="55"/>
                    </a:lnTo>
                    <a:lnTo>
                      <a:pt x="1122" y="67"/>
                    </a:lnTo>
                    <a:lnTo>
                      <a:pt x="1106" y="78"/>
                    </a:lnTo>
                    <a:lnTo>
                      <a:pt x="1090" y="87"/>
                    </a:lnTo>
                    <a:lnTo>
                      <a:pt x="1071" y="92"/>
                    </a:lnTo>
                    <a:lnTo>
                      <a:pt x="1052" y="92"/>
                    </a:lnTo>
                    <a:lnTo>
                      <a:pt x="124" y="92"/>
                    </a:lnTo>
                    <a:lnTo>
                      <a:pt x="105" y="92"/>
                    </a:lnTo>
                    <a:lnTo>
                      <a:pt x="86" y="87"/>
                    </a:lnTo>
                    <a:lnTo>
                      <a:pt x="70" y="78"/>
                    </a:lnTo>
                    <a:lnTo>
                      <a:pt x="54" y="67"/>
                    </a:lnTo>
                    <a:lnTo>
                      <a:pt x="40" y="55"/>
                    </a:lnTo>
                    <a:lnTo>
                      <a:pt x="27" y="37"/>
                    </a:lnTo>
                    <a:lnTo>
                      <a:pt x="16" y="19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e8e8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1174680" y="3512880"/>
                <a:ext cx="192240" cy="36720"/>
              </a:xfrm>
              <a:custGeom>
                <a:avLst/>
                <a:gdLst/>
                <a:ahLst/>
                <a:rect l="l" t="t" r="r" b="b"/>
                <a:pathLst>
                  <a:path w="1192" h="244">
                    <a:moveTo>
                      <a:pt x="10" y="0"/>
                    </a:moveTo>
                    <a:lnTo>
                      <a:pt x="2" y="33"/>
                    </a:lnTo>
                    <a:lnTo>
                      <a:pt x="0" y="69"/>
                    </a:lnTo>
                    <a:lnTo>
                      <a:pt x="2" y="103"/>
                    </a:lnTo>
                    <a:lnTo>
                      <a:pt x="10" y="136"/>
                    </a:lnTo>
                    <a:lnTo>
                      <a:pt x="24" y="166"/>
                    </a:lnTo>
                    <a:lnTo>
                      <a:pt x="37" y="192"/>
                    </a:lnTo>
                    <a:lnTo>
                      <a:pt x="59" y="214"/>
                    </a:lnTo>
                    <a:lnTo>
                      <a:pt x="81" y="230"/>
                    </a:lnTo>
                    <a:lnTo>
                      <a:pt x="91" y="235"/>
                    </a:lnTo>
                    <a:lnTo>
                      <a:pt x="104" y="238"/>
                    </a:lnTo>
                    <a:lnTo>
                      <a:pt x="118" y="240"/>
                    </a:lnTo>
                    <a:lnTo>
                      <a:pt x="132" y="244"/>
                    </a:lnTo>
                    <a:lnTo>
                      <a:pt x="1060" y="244"/>
                    </a:lnTo>
                    <a:lnTo>
                      <a:pt x="1073" y="240"/>
                    </a:lnTo>
                    <a:lnTo>
                      <a:pt x="1087" y="238"/>
                    </a:lnTo>
                    <a:lnTo>
                      <a:pt x="1101" y="235"/>
                    </a:lnTo>
                    <a:lnTo>
                      <a:pt x="1112" y="230"/>
                    </a:lnTo>
                    <a:lnTo>
                      <a:pt x="1135" y="214"/>
                    </a:lnTo>
                    <a:lnTo>
                      <a:pt x="1154" y="192"/>
                    </a:lnTo>
                    <a:lnTo>
                      <a:pt x="1170" y="166"/>
                    </a:lnTo>
                    <a:lnTo>
                      <a:pt x="1181" y="136"/>
                    </a:lnTo>
                    <a:lnTo>
                      <a:pt x="1190" y="103"/>
                    </a:lnTo>
                    <a:lnTo>
                      <a:pt x="1192" y="69"/>
                    </a:lnTo>
                    <a:lnTo>
                      <a:pt x="1184" y="69"/>
                    </a:lnTo>
                    <a:lnTo>
                      <a:pt x="1181" y="103"/>
                    </a:lnTo>
                    <a:lnTo>
                      <a:pt x="1174" y="136"/>
                    </a:lnTo>
                    <a:lnTo>
                      <a:pt x="1163" y="163"/>
                    </a:lnTo>
                    <a:lnTo>
                      <a:pt x="1147" y="187"/>
                    </a:lnTo>
                    <a:lnTo>
                      <a:pt x="1130" y="205"/>
                    </a:lnTo>
                    <a:lnTo>
                      <a:pt x="1109" y="222"/>
                    </a:lnTo>
                    <a:lnTo>
                      <a:pt x="1084" y="230"/>
                    </a:lnTo>
                    <a:lnTo>
                      <a:pt x="1073" y="233"/>
                    </a:lnTo>
                    <a:lnTo>
                      <a:pt x="1060" y="235"/>
                    </a:lnTo>
                    <a:lnTo>
                      <a:pt x="132" y="235"/>
                    </a:lnTo>
                    <a:lnTo>
                      <a:pt x="118" y="233"/>
                    </a:lnTo>
                    <a:lnTo>
                      <a:pt x="107" y="230"/>
                    </a:lnTo>
                    <a:lnTo>
                      <a:pt x="83" y="222"/>
                    </a:lnTo>
                    <a:lnTo>
                      <a:pt x="65" y="205"/>
                    </a:lnTo>
                    <a:lnTo>
                      <a:pt x="45" y="187"/>
                    </a:lnTo>
                    <a:lnTo>
                      <a:pt x="29" y="163"/>
                    </a:lnTo>
                    <a:lnTo>
                      <a:pt x="19" y="136"/>
                    </a:lnTo>
                    <a:lnTo>
                      <a:pt x="10" y="103"/>
                    </a:lnTo>
                    <a:lnTo>
                      <a:pt x="8" y="69"/>
                    </a:lnTo>
                    <a:lnTo>
                      <a:pt x="10" y="41"/>
                    </a:lnTo>
                    <a:lnTo>
                      <a:pt x="16" y="14"/>
                    </a:lnTo>
                    <a:lnTo>
                      <a:pt x="10" y="0"/>
                    </a:lnTo>
                    <a:close/>
                    <a:moveTo>
                      <a:pt x="1181" y="0"/>
                    </a:moveTo>
                    <a:lnTo>
                      <a:pt x="1176" y="14"/>
                    </a:lnTo>
                    <a:lnTo>
                      <a:pt x="1181" y="41"/>
                    </a:lnTo>
                    <a:lnTo>
                      <a:pt x="1184" y="69"/>
                    </a:lnTo>
                    <a:lnTo>
                      <a:pt x="1192" y="69"/>
                    </a:lnTo>
                    <a:lnTo>
                      <a:pt x="1190" y="33"/>
                    </a:lnTo>
                    <a:lnTo>
                      <a:pt x="1181" y="0"/>
                    </a:lnTo>
                    <a:close/>
                  </a:path>
                </a:pathLst>
              </a:custGeom>
              <a:solidFill>
                <a:srgbClr val="6c3b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1433520" y="3495600"/>
                <a:ext cx="193680" cy="54000"/>
              </a:xfrm>
              <a:custGeom>
                <a:avLst/>
                <a:gdLst/>
                <a:ahLst/>
                <a:rect l="l" t="t" r="r" b="b"/>
                <a:pathLst>
                  <a:path w="1194" h="348">
                    <a:moveTo>
                      <a:pt x="1194" y="173"/>
                    </a:moveTo>
                    <a:lnTo>
                      <a:pt x="1191" y="207"/>
                    </a:lnTo>
                    <a:lnTo>
                      <a:pt x="1183" y="240"/>
                    </a:lnTo>
                    <a:lnTo>
                      <a:pt x="1169" y="270"/>
                    </a:lnTo>
                    <a:lnTo>
                      <a:pt x="1153" y="296"/>
                    </a:lnTo>
                    <a:lnTo>
                      <a:pt x="1134" y="318"/>
                    </a:lnTo>
                    <a:lnTo>
                      <a:pt x="1113" y="334"/>
                    </a:lnTo>
                    <a:lnTo>
                      <a:pt x="1102" y="339"/>
                    </a:lnTo>
                    <a:lnTo>
                      <a:pt x="1088" y="342"/>
                    </a:lnTo>
                    <a:lnTo>
                      <a:pt x="1075" y="344"/>
                    </a:lnTo>
                    <a:lnTo>
                      <a:pt x="1061" y="348"/>
                    </a:lnTo>
                    <a:lnTo>
                      <a:pt x="133" y="348"/>
                    </a:lnTo>
                    <a:lnTo>
                      <a:pt x="120" y="344"/>
                    </a:lnTo>
                    <a:lnTo>
                      <a:pt x="106" y="342"/>
                    </a:lnTo>
                    <a:lnTo>
                      <a:pt x="92" y="339"/>
                    </a:lnTo>
                    <a:lnTo>
                      <a:pt x="82" y="334"/>
                    </a:lnTo>
                    <a:lnTo>
                      <a:pt x="58" y="318"/>
                    </a:lnTo>
                    <a:lnTo>
                      <a:pt x="39" y="296"/>
                    </a:lnTo>
                    <a:lnTo>
                      <a:pt x="23" y="270"/>
                    </a:lnTo>
                    <a:lnTo>
                      <a:pt x="12" y="240"/>
                    </a:lnTo>
                    <a:lnTo>
                      <a:pt x="4" y="207"/>
                    </a:lnTo>
                    <a:lnTo>
                      <a:pt x="0" y="173"/>
                    </a:lnTo>
                    <a:lnTo>
                      <a:pt x="4" y="139"/>
                    </a:lnTo>
                    <a:lnTo>
                      <a:pt x="12" y="107"/>
                    </a:lnTo>
                    <a:lnTo>
                      <a:pt x="23" y="78"/>
                    </a:lnTo>
                    <a:lnTo>
                      <a:pt x="39" y="51"/>
                    </a:lnTo>
                    <a:lnTo>
                      <a:pt x="58" y="29"/>
                    </a:lnTo>
                    <a:lnTo>
                      <a:pt x="82" y="12"/>
                    </a:lnTo>
                    <a:lnTo>
                      <a:pt x="92" y="7"/>
                    </a:lnTo>
                    <a:lnTo>
                      <a:pt x="106" y="5"/>
                    </a:lnTo>
                    <a:lnTo>
                      <a:pt x="120" y="2"/>
                    </a:lnTo>
                    <a:lnTo>
                      <a:pt x="133" y="0"/>
                    </a:lnTo>
                    <a:lnTo>
                      <a:pt x="1061" y="0"/>
                    </a:lnTo>
                    <a:lnTo>
                      <a:pt x="1075" y="2"/>
                    </a:lnTo>
                    <a:lnTo>
                      <a:pt x="1088" y="5"/>
                    </a:lnTo>
                    <a:lnTo>
                      <a:pt x="1102" y="7"/>
                    </a:lnTo>
                    <a:lnTo>
                      <a:pt x="1113" y="12"/>
                    </a:lnTo>
                    <a:lnTo>
                      <a:pt x="1134" y="29"/>
                    </a:lnTo>
                    <a:lnTo>
                      <a:pt x="1153" y="51"/>
                    </a:lnTo>
                    <a:lnTo>
                      <a:pt x="1169" y="78"/>
                    </a:lnTo>
                    <a:lnTo>
                      <a:pt x="1183" y="107"/>
                    </a:lnTo>
                    <a:lnTo>
                      <a:pt x="1191" y="139"/>
                    </a:lnTo>
                    <a:lnTo>
                      <a:pt x="1194" y="173"/>
                    </a:lnTo>
                    <a:close/>
                  </a:path>
                </a:pathLst>
              </a:custGeom>
              <a:solidFill>
                <a:srgbClr val="f8f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1431720" y="3494160"/>
                <a:ext cx="195480" cy="55440"/>
              </a:xfrm>
              <a:custGeom>
                <a:avLst/>
                <a:gdLst/>
                <a:ahLst/>
                <a:rect l="l" t="t" r="r" b="b"/>
                <a:pathLst>
                  <a:path w="1209" h="364">
                    <a:moveTo>
                      <a:pt x="1201" y="182"/>
                    </a:moveTo>
                    <a:lnTo>
                      <a:pt x="1192" y="182"/>
                    </a:lnTo>
                    <a:lnTo>
                      <a:pt x="1190" y="216"/>
                    </a:lnTo>
                    <a:lnTo>
                      <a:pt x="1182" y="249"/>
                    </a:lnTo>
                    <a:lnTo>
                      <a:pt x="1171" y="276"/>
                    </a:lnTo>
                    <a:lnTo>
                      <a:pt x="1155" y="300"/>
                    </a:lnTo>
                    <a:lnTo>
                      <a:pt x="1136" y="318"/>
                    </a:lnTo>
                    <a:lnTo>
                      <a:pt x="1117" y="335"/>
                    </a:lnTo>
                    <a:lnTo>
                      <a:pt x="1093" y="343"/>
                    </a:lnTo>
                    <a:lnTo>
                      <a:pt x="1082" y="346"/>
                    </a:lnTo>
                    <a:lnTo>
                      <a:pt x="1068" y="348"/>
                    </a:lnTo>
                    <a:lnTo>
                      <a:pt x="140" y="348"/>
                    </a:lnTo>
                    <a:lnTo>
                      <a:pt x="127" y="346"/>
                    </a:lnTo>
                    <a:lnTo>
                      <a:pt x="113" y="343"/>
                    </a:lnTo>
                    <a:lnTo>
                      <a:pt x="92" y="335"/>
                    </a:lnTo>
                    <a:lnTo>
                      <a:pt x="70" y="318"/>
                    </a:lnTo>
                    <a:lnTo>
                      <a:pt x="51" y="300"/>
                    </a:lnTo>
                    <a:lnTo>
                      <a:pt x="37" y="276"/>
                    </a:lnTo>
                    <a:lnTo>
                      <a:pt x="27" y="249"/>
                    </a:lnTo>
                    <a:lnTo>
                      <a:pt x="19" y="216"/>
                    </a:lnTo>
                    <a:lnTo>
                      <a:pt x="16" y="182"/>
                    </a:lnTo>
                    <a:lnTo>
                      <a:pt x="19" y="148"/>
                    </a:lnTo>
                    <a:lnTo>
                      <a:pt x="27" y="116"/>
                    </a:lnTo>
                    <a:lnTo>
                      <a:pt x="37" y="90"/>
                    </a:lnTo>
                    <a:lnTo>
                      <a:pt x="51" y="65"/>
                    </a:lnTo>
                    <a:lnTo>
                      <a:pt x="70" y="46"/>
                    </a:lnTo>
                    <a:lnTo>
                      <a:pt x="92" y="30"/>
                    </a:lnTo>
                    <a:lnTo>
                      <a:pt x="113" y="21"/>
                    </a:lnTo>
                    <a:lnTo>
                      <a:pt x="127" y="19"/>
                    </a:lnTo>
                    <a:lnTo>
                      <a:pt x="140" y="16"/>
                    </a:lnTo>
                    <a:lnTo>
                      <a:pt x="1068" y="16"/>
                    </a:lnTo>
                    <a:lnTo>
                      <a:pt x="1082" y="19"/>
                    </a:lnTo>
                    <a:lnTo>
                      <a:pt x="1093" y="21"/>
                    </a:lnTo>
                    <a:lnTo>
                      <a:pt x="1117" y="30"/>
                    </a:lnTo>
                    <a:lnTo>
                      <a:pt x="1136" y="46"/>
                    </a:lnTo>
                    <a:lnTo>
                      <a:pt x="1155" y="65"/>
                    </a:lnTo>
                    <a:lnTo>
                      <a:pt x="1171" y="90"/>
                    </a:lnTo>
                    <a:lnTo>
                      <a:pt x="1182" y="116"/>
                    </a:lnTo>
                    <a:lnTo>
                      <a:pt x="1190" y="148"/>
                    </a:lnTo>
                    <a:lnTo>
                      <a:pt x="1192" y="182"/>
                    </a:lnTo>
                    <a:lnTo>
                      <a:pt x="1201" y="182"/>
                    </a:lnTo>
                    <a:lnTo>
                      <a:pt x="1209" y="182"/>
                    </a:lnTo>
                    <a:lnTo>
                      <a:pt x="1206" y="146"/>
                    </a:lnTo>
                    <a:lnTo>
                      <a:pt x="1198" y="113"/>
                    </a:lnTo>
                    <a:lnTo>
                      <a:pt x="1185" y="81"/>
                    </a:lnTo>
                    <a:lnTo>
                      <a:pt x="1169" y="55"/>
                    </a:lnTo>
                    <a:lnTo>
                      <a:pt x="1146" y="33"/>
                    </a:lnTo>
                    <a:lnTo>
                      <a:pt x="1136" y="25"/>
                    </a:lnTo>
                    <a:lnTo>
                      <a:pt x="1123" y="16"/>
                    </a:lnTo>
                    <a:lnTo>
                      <a:pt x="1112" y="9"/>
                    </a:lnTo>
                    <a:lnTo>
                      <a:pt x="1098" y="5"/>
                    </a:lnTo>
                    <a:lnTo>
                      <a:pt x="1082" y="3"/>
                    </a:lnTo>
                    <a:lnTo>
                      <a:pt x="1068" y="0"/>
                    </a:lnTo>
                    <a:lnTo>
                      <a:pt x="140" y="0"/>
                    </a:lnTo>
                    <a:lnTo>
                      <a:pt x="124" y="3"/>
                    </a:lnTo>
                    <a:lnTo>
                      <a:pt x="110" y="5"/>
                    </a:lnTo>
                    <a:lnTo>
                      <a:pt x="97" y="9"/>
                    </a:lnTo>
                    <a:lnTo>
                      <a:pt x="83" y="16"/>
                    </a:lnTo>
                    <a:lnTo>
                      <a:pt x="73" y="25"/>
                    </a:lnTo>
                    <a:lnTo>
                      <a:pt x="59" y="33"/>
                    </a:lnTo>
                    <a:lnTo>
                      <a:pt x="41" y="55"/>
                    </a:lnTo>
                    <a:lnTo>
                      <a:pt x="21" y="81"/>
                    </a:lnTo>
                    <a:lnTo>
                      <a:pt x="11" y="113"/>
                    </a:lnTo>
                    <a:lnTo>
                      <a:pt x="2" y="146"/>
                    </a:lnTo>
                    <a:lnTo>
                      <a:pt x="0" y="182"/>
                    </a:lnTo>
                    <a:lnTo>
                      <a:pt x="2" y="219"/>
                    </a:lnTo>
                    <a:lnTo>
                      <a:pt x="11" y="251"/>
                    </a:lnTo>
                    <a:lnTo>
                      <a:pt x="21" y="284"/>
                    </a:lnTo>
                    <a:lnTo>
                      <a:pt x="41" y="311"/>
                    </a:lnTo>
                    <a:lnTo>
                      <a:pt x="59" y="332"/>
                    </a:lnTo>
                    <a:lnTo>
                      <a:pt x="73" y="341"/>
                    </a:lnTo>
                    <a:lnTo>
                      <a:pt x="83" y="348"/>
                    </a:lnTo>
                    <a:lnTo>
                      <a:pt x="97" y="357"/>
                    </a:lnTo>
                    <a:lnTo>
                      <a:pt x="110" y="359"/>
                    </a:lnTo>
                    <a:lnTo>
                      <a:pt x="124" y="362"/>
                    </a:lnTo>
                    <a:lnTo>
                      <a:pt x="140" y="364"/>
                    </a:lnTo>
                    <a:lnTo>
                      <a:pt x="1068" y="364"/>
                    </a:lnTo>
                    <a:lnTo>
                      <a:pt x="1082" y="362"/>
                    </a:lnTo>
                    <a:lnTo>
                      <a:pt x="1098" y="359"/>
                    </a:lnTo>
                    <a:lnTo>
                      <a:pt x="1112" y="357"/>
                    </a:lnTo>
                    <a:lnTo>
                      <a:pt x="1123" y="348"/>
                    </a:lnTo>
                    <a:lnTo>
                      <a:pt x="1136" y="341"/>
                    </a:lnTo>
                    <a:lnTo>
                      <a:pt x="1146" y="332"/>
                    </a:lnTo>
                    <a:lnTo>
                      <a:pt x="1169" y="311"/>
                    </a:lnTo>
                    <a:lnTo>
                      <a:pt x="1185" y="284"/>
                    </a:lnTo>
                    <a:lnTo>
                      <a:pt x="1198" y="251"/>
                    </a:lnTo>
                    <a:lnTo>
                      <a:pt x="1206" y="219"/>
                    </a:lnTo>
                    <a:lnTo>
                      <a:pt x="1209" y="182"/>
                    </a:lnTo>
                    <a:lnTo>
                      <a:pt x="1201" y="182"/>
                    </a:lnTo>
                    <a:close/>
                  </a:path>
                </a:pathLst>
              </a:custGeom>
              <a:solidFill>
                <a:srgbClr val="773f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1434960" y="3514680"/>
                <a:ext cx="192240" cy="33120"/>
              </a:xfrm>
              <a:custGeom>
                <a:avLst/>
                <a:gdLst/>
                <a:ahLst/>
                <a:rect l="l" t="t" r="r" b="b"/>
                <a:pathLst>
                  <a:path w="1185" h="221">
                    <a:moveTo>
                      <a:pt x="5" y="0"/>
                    </a:moveTo>
                    <a:lnTo>
                      <a:pt x="0" y="27"/>
                    </a:lnTo>
                    <a:lnTo>
                      <a:pt x="0" y="55"/>
                    </a:lnTo>
                    <a:lnTo>
                      <a:pt x="3" y="89"/>
                    </a:lnTo>
                    <a:lnTo>
                      <a:pt x="11" y="122"/>
                    </a:lnTo>
                    <a:lnTo>
                      <a:pt x="21" y="149"/>
                    </a:lnTo>
                    <a:lnTo>
                      <a:pt x="35" y="173"/>
                    </a:lnTo>
                    <a:lnTo>
                      <a:pt x="54" y="191"/>
                    </a:lnTo>
                    <a:lnTo>
                      <a:pt x="76" y="208"/>
                    </a:lnTo>
                    <a:lnTo>
                      <a:pt x="97" y="216"/>
                    </a:lnTo>
                    <a:lnTo>
                      <a:pt x="111" y="219"/>
                    </a:lnTo>
                    <a:lnTo>
                      <a:pt x="124" y="221"/>
                    </a:lnTo>
                    <a:lnTo>
                      <a:pt x="1052" y="221"/>
                    </a:lnTo>
                    <a:lnTo>
                      <a:pt x="1066" y="219"/>
                    </a:lnTo>
                    <a:lnTo>
                      <a:pt x="1077" y="216"/>
                    </a:lnTo>
                    <a:lnTo>
                      <a:pt x="1101" y="208"/>
                    </a:lnTo>
                    <a:lnTo>
                      <a:pt x="1120" y="191"/>
                    </a:lnTo>
                    <a:lnTo>
                      <a:pt x="1139" y="173"/>
                    </a:lnTo>
                    <a:lnTo>
                      <a:pt x="1155" y="149"/>
                    </a:lnTo>
                    <a:lnTo>
                      <a:pt x="1166" y="122"/>
                    </a:lnTo>
                    <a:lnTo>
                      <a:pt x="1174" y="89"/>
                    </a:lnTo>
                    <a:lnTo>
                      <a:pt x="1176" y="55"/>
                    </a:lnTo>
                    <a:lnTo>
                      <a:pt x="1185" y="55"/>
                    </a:lnTo>
                    <a:lnTo>
                      <a:pt x="1176" y="55"/>
                    </a:lnTo>
                    <a:lnTo>
                      <a:pt x="1174" y="27"/>
                    </a:lnTo>
                    <a:lnTo>
                      <a:pt x="1169" y="0"/>
                    </a:lnTo>
                    <a:lnTo>
                      <a:pt x="1160" y="19"/>
                    </a:lnTo>
                    <a:lnTo>
                      <a:pt x="1150" y="37"/>
                    </a:lnTo>
                    <a:lnTo>
                      <a:pt x="1137" y="55"/>
                    </a:lnTo>
                    <a:lnTo>
                      <a:pt x="1120" y="67"/>
                    </a:lnTo>
                    <a:lnTo>
                      <a:pt x="1107" y="78"/>
                    </a:lnTo>
                    <a:lnTo>
                      <a:pt x="1088" y="87"/>
                    </a:lnTo>
                    <a:lnTo>
                      <a:pt x="1072" y="92"/>
                    </a:lnTo>
                    <a:lnTo>
                      <a:pt x="1052" y="92"/>
                    </a:lnTo>
                    <a:lnTo>
                      <a:pt x="124" y="92"/>
                    </a:lnTo>
                    <a:lnTo>
                      <a:pt x="106" y="92"/>
                    </a:lnTo>
                    <a:lnTo>
                      <a:pt x="87" y="87"/>
                    </a:lnTo>
                    <a:lnTo>
                      <a:pt x="71" y="78"/>
                    </a:lnTo>
                    <a:lnTo>
                      <a:pt x="54" y="67"/>
                    </a:lnTo>
                    <a:lnTo>
                      <a:pt x="41" y="55"/>
                    </a:lnTo>
                    <a:lnTo>
                      <a:pt x="27" y="37"/>
                    </a:lnTo>
                    <a:lnTo>
                      <a:pt x="16" y="1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6d2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1433520" y="3512880"/>
                <a:ext cx="193680" cy="36720"/>
              </a:xfrm>
              <a:custGeom>
                <a:avLst/>
                <a:gdLst/>
                <a:ahLst/>
                <a:rect l="l" t="t" r="r" b="b"/>
                <a:pathLst>
                  <a:path w="1194" h="244">
                    <a:moveTo>
                      <a:pt x="12" y="0"/>
                    </a:moveTo>
                    <a:lnTo>
                      <a:pt x="4" y="33"/>
                    </a:lnTo>
                    <a:lnTo>
                      <a:pt x="0" y="69"/>
                    </a:lnTo>
                    <a:lnTo>
                      <a:pt x="4" y="103"/>
                    </a:lnTo>
                    <a:lnTo>
                      <a:pt x="12" y="136"/>
                    </a:lnTo>
                    <a:lnTo>
                      <a:pt x="23" y="166"/>
                    </a:lnTo>
                    <a:lnTo>
                      <a:pt x="39" y="192"/>
                    </a:lnTo>
                    <a:lnTo>
                      <a:pt x="58" y="214"/>
                    </a:lnTo>
                    <a:lnTo>
                      <a:pt x="82" y="230"/>
                    </a:lnTo>
                    <a:lnTo>
                      <a:pt x="92" y="235"/>
                    </a:lnTo>
                    <a:lnTo>
                      <a:pt x="106" y="238"/>
                    </a:lnTo>
                    <a:lnTo>
                      <a:pt x="120" y="240"/>
                    </a:lnTo>
                    <a:lnTo>
                      <a:pt x="133" y="244"/>
                    </a:lnTo>
                    <a:lnTo>
                      <a:pt x="1061" y="244"/>
                    </a:lnTo>
                    <a:lnTo>
                      <a:pt x="1075" y="240"/>
                    </a:lnTo>
                    <a:lnTo>
                      <a:pt x="1088" y="238"/>
                    </a:lnTo>
                    <a:lnTo>
                      <a:pt x="1102" y="235"/>
                    </a:lnTo>
                    <a:lnTo>
                      <a:pt x="1113" y="230"/>
                    </a:lnTo>
                    <a:lnTo>
                      <a:pt x="1134" y="214"/>
                    </a:lnTo>
                    <a:lnTo>
                      <a:pt x="1153" y="192"/>
                    </a:lnTo>
                    <a:lnTo>
                      <a:pt x="1169" y="166"/>
                    </a:lnTo>
                    <a:lnTo>
                      <a:pt x="1183" y="136"/>
                    </a:lnTo>
                    <a:lnTo>
                      <a:pt x="1191" y="103"/>
                    </a:lnTo>
                    <a:lnTo>
                      <a:pt x="1194" y="69"/>
                    </a:lnTo>
                    <a:lnTo>
                      <a:pt x="1185" y="69"/>
                    </a:lnTo>
                    <a:lnTo>
                      <a:pt x="1183" y="103"/>
                    </a:lnTo>
                    <a:lnTo>
                      <a:pt x="1175" y="136"/>
                    </a:lnTo>
                    <a:lnTo>
                      <a:pt x="1164" y="163"/>
                    </a:lnTo>
                    <a:lnTo>
                      <a:pt x="1148" y="187"/>
                    </a:lnTo>
                    <a:lnTo>
                      <a:pt x="1129" y="205"/>
                    </a:lnTo>
                    <a:lnTo>
                      <a:pt x="1110" y="222"/>
                    </a:lnTo>
                    <a:lnTo>
                      <a:pt x="1086" y="230"/>
                    </a:lnTo>
                    <a:lnTo>
                      <a:pt x="1075" y="233"/>
                    </a:lnTo>
                    <a:lnTo>
                      <a:pt x="1061" y="235"/>
                    </a:lnTo>
                    <a:lnTo>
                      <a:pt x="133" y="235"/>
                    </a:lnTo>
                    <a:lnTo>
                      <a:pt x="120" y="233"/>
                    </a:lnTo>
                    <a:lnTo>
                      <a:pt x="106" y="230"/>
                    </a:lnTo>
                    <a:lnTo>
                      <a:pt x="85" y="222"/>
                    </a:lnTo>
                    <a:lnTo>
                      <a:pt x="63" y="205"/>
                    </a:lnTo>
                    <a:lnTo>
                      <a:pt x="44" y="187"/>
                    </a:lnTo>
                    <a:lnTo>
                      <a:pt x="30" y="163"/>
                    </a:lnTo>
                    <a:lnTo>
                      <a:pt x="20" y="136"/>
                    </a:lnTo>
                    <a:lnTo>
                      <a:pt x="12" y="103"/>
                    </a:lnTo>
                    <a:lnTo>
                      <a:pt x="9" y="69"/>
                    </a:lnTo>
                    <a:lnTo>
                      <a:pt x="9" y="41"/>
                    </a:lnTo>
                    <a:lnTo>
                      <a:pt x="14" y="14"/>
                    </a:lnTo>
                    <a:lnTo>
                      <a:pt x="12" y="0"/>
                    </a:lnTo>
                    <a:close/>
                    <a:moveTo>
                      <a:pt x="1183" y="0"/>
                    </a:moveTo>
                    <a:lnTo>
                      <a:pt x="1178" y="14"/>
                    </a:lnTo>
                    <a:lnTo>
                      <a:pt x="1183" y="41"/>
                    </a:lnTo>
                    <a:lnTo>
                      <a:pt x="1185" y="69"/>
                    </a:lnTo>
                    <a:lnTo>
                      <a:pt x="1194" y="69"/>
                    </a:lnTo>
                    <a:lnTo>
                      <a:pt x="1191" y="33"/>
                    </a:lnTo>
                    <a:lnTo>
                      <a:pt x="1183" y="0"/>
                    </a:lnTo>
                    <a:close/>
                  </a:path>
                </a:pathLst>
              </a:custGeom>
              <a:solidFill>
                <a:srgbClr val="7537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1870200" y="3375000"/>
                <a:ext cx="320400" cy="195120"/>
              </a:xfrm>
              <a:custGeom>
                <a:avLst/>
                <a:gdLst/>
                <a:ahLst/>
                <a:rect l="l" t="t" r="r" b="b"/>
                <a:pathLst>
                  <a:path w="1992" h="1289">
                    <a:moveTo>
                      <a:pt x="1992" y="644"/>
                    </a:moveTo>
                    <a:lnTo>
                      <a:pt x="1989" y="677"/>
                    </a:lnTo>
                    <a:lnTo>
                      <a:pt x="1989" y="712"/>
                    </a:lnTo>
                    <a:lnTo>
                      <a:pt x="1978" y="774"/>
                    </a:lnTo>
                    <a:lnTo>
                      <a:pt x="1962" y="836"/>
                    </a:lnTo>
                    <a:lnTo>
                      <a:pt x="1943" y="895"/>
                    </a:lnTo>
                    <a:lnTo>
                      <a:pt x="1916" y="951"/>
                    </a:lnTo>
                    <a:lnTo>
                      <a:pt x="1884" y="1006"/>
                    </a:lnTo>
                    <a:lnTo>
                      <a:pt x="1849" y="1054"/>
                    </a:lnTo>
                    <a:lnTo>
                      <a:pt x="1809" y="1100"/>
                    </a:lnTo>
                    <a:lnTo>
                      <a:pt x="1763" y="1144"/>
                    </a:lnTo>
                    <a:lnTo>
                      <a:pt x="1715" y="1181"/>
                    </a:lnTo>
                    <a:lnTo>
                      <a:pt x="1663" y="1211"/>
                    </a:lnTo>
                    <a:lnTo>
                      <a:pt x="1609" y="1241"/>
                    </a:lnTo>
                    <a:lnTo>
                      <a:pt x="1549" y="1262"/>
                    </a:lnTo>
                    <a:lnTo>
                      <a:pt x="1490" y="1278"/>
                    </a:lnTo>
                    <a:lnTo>
                      <a:pt x="1460" y="1284"/>
                    </a:lnTo>
                    <a:lnTo>
                      <a:pt x="1428" y="1287"/>
                    </a:lnTo>
                    <a:lnTo>
                      <a:pt x="1395" y="1289"/>
                    </a:lnTo>
                    <a:lnTo>
                      <a:pt x="1363" y="1289"/>
                    </a:lnTo>
                    <a:lnTo>
                      <a:pt x="627" y="1289"/>
                    </a:lnTo>
                    <a:lnTo>
                      <a:pt x="594" y="1289"/>
                    </a:lnTo>
                    <a:lnTo>
                      <a:pt x="562" y="1287"/>
                    </a:lnTo>
                    <a:lnTo>
                      <a:pt x="532" y="1284"/>
                    </a:lnTo>
                    <a:lnTo>
                      <a:pt x="500" y="1278"/>
                    </a:lnTo>
                    <a:lnTo>
                      <a:pt x="440" y="1262"/>
                    </a:lnTo>
                    <a:lnTo>
                      <a:pt x="381" y="1241"/>
                    </a:lnTo>
                    <a:lnTo>
                      <a:pt x="327" y="1211"/>
                    </a:lnTo>
                    <a:lnTo>
                      <a:pt x="275" y="1181"/>
                    </a:lnTo>
                    <a:lnTo>
                      <a:pt x="227" y="1144"/>
                    </a:lnTo>
                    <a:lnTo>
                      <a:pt x="184" y="1100"/>
                    </a:lnTo>
                    <a:lnTo>
                      <a:pt x="143" y="1054"/>
                    </a:lnTo>
                    <a:lnTo>
                      <a:pt x="106" y="1006"/>
                    </a:lnTo>
                    <a:lnTo>
                      <a:pt x="76" y="951"/>
                    </a:lnTo>
                    <a:lnTo>
                      <a:pt x="49" y="895"/>
                    </a:lnTo>
                    <a:lnTo>
                      <a:pt x="28" y="836"/>
                    </a:lnTo>
                    <a:lnTo>
                      <a:pt x="12" y="774"/>
                    </a:lnTo>
                    <a:lnTo>
                      <a:pt x="3" y="712"/>
                    </a:lnTo>
                    <a:lnTo>
                      <a:pt x="0" y="677"/>
                    </a:lnTo>
                    <a:lnTo>
                      <a:pt x="0" y="644"/>
                    </a:lnTo>
                    <a:lnTo>
                      <a:pt x="0" y="612"/>
                    </a:lnTo>
                    <a:lnTo>
                      <a:pt x="3" y="580"/>
                    </a:lnTo>
                    <a:lnTo>
                      <a:pt x="12" y="515"/>
                    </a:lnTo>
                    <a:lnTo>
                      <a:pt x="28" y="453"/>
                    </a:lnTo>
                    <a:lnTo>
                      <a:pt x="49" y="393"/>
                    </a:lnTo>
                    <a:lnTo>
                      <a:pt x="76" y="336"/>
                    </a:lnTo>
                    <a:lnTo>
                      <a:pt x="106" y="283"/>
                    </a:lnTo>
                    <a:lnTo>
                      <a:pt x="143" y="234"/>
                    </a:lnTo>
                    <a:lnTo>
                      <a:pt x="184" y="188"/>
                    </a:lnTo>
                    <a:lnTo>
                      <a:pt x="227" y="145"/>
                    </a:lnTo>
                    <a:lnTo>
                      <a:pt x="275" y="110"/>
                    </a:lnTo>
                    <a:lnTo>
                      <a:pt x="327" y="78"/>
                    </a:lnTo>
                    <a:lnTo>
                      <a:pt x="381" y="51"/>
                    </a:lnTo>
                    <a:lnTo>
                      <a:pt x="440" y="29"/>
                    </a:lnTo>
                    <a:lnTo>
                      <a:pt x="500" y="13"/>
                    </a:lnTo>
                    <a:lnTo>
                      <a:pt x="532" y="8"/>
                    </a:lnTo>
                    <a:lnTo>
                      <a:pt x="562" y="2"/>
                    </a:lnTo>
                    <a:lnTo>
                      <a:pt x="594" y="0"/>
                    </a:lnTo>
                    <a:lnTo>
                      <a:pt x="627" y="0"/>
                    </a:lnTo>
                    <a:lnTo>
                      <a:pt x="1363" y="0"/>
                    </a:lnTo>
                    <a:lnTo>
                      <a:pt x="1395" y="0"/>
                    </a:lnTo>
                    <a:lnTo>
                      <a:pt x="1428" y="2"/>
                    </a:lnTo>
                    <a:lnTo>
                      <a:pt x="1460" y="8"/>
                    </a:lnTo>
                    <a:lnTo>
                      <a:pt x="1490" y="13"/>
                    </a:lnTo>
                    <a:lnTo>
                      <a:pt x="1549" y="29"/>
                    </a:lnTo>
                    <a:lnTo>
                      <a:pt x="1609" y="51"/>
                    </a:lnTo>
                    <a:lnTo>
                      <a:pt x="1663" y="78"/>
                    </a:lnTo>
                    <a:lnTo>
                      <a:pt x="1715" y="110"/>
                    </a:lnTo>
                    <a:lnTo>
                      <a:pt x="1763" y="145"/>
                    </a:lnTo>
                    <a:lnTo>
                      <a:pt x="1809" y="188"/>
                    </a:lnTo>
                    <a:lnTo>
                      <a:pt x="1849" y="234"/>
                    </a:lnTo>
                    <a:lnTo>
                      <a:pt x="1884" y="283"/>
                    </a:lnTo>
                    <a:lnTo>
                      <a:pt x="1916" y="336"/>
                    </a:lnTo>
                    <a:lnTo>
                      <a:pt x="1943" y="393"/>
                    </a:lnTo>
                    <a:lnTo>
                      <a:pt x="1962" y="453"/>
                    </a:lnTo>
                    <a:lnTo>
                      <a:pt x="1978" y="515"/>
                    </a:lnTo>
                    <a:lnTo>
                      <a:pt x="1989" y="580"/>
                    </a:lnTo>
                    <a:lnTo>
                      <a:pt x="1989" y="612"/>
                    </a:lnTo>
                    <a:lnTo>
                      <a:pt x="1992" y="644"/>
                    </a:lnTo>
                    <a:close/>
                  </a:path>
                </a:pathLst>
              </a:custGeom>
              <a:solidFill>
                <a:srgbClr val="f3f3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1866960" y="3373200"/>
                <a:ext cx="325440" cy="200160"/>
              </a:xfrm>
              <a:custGeom>
                <a:avLst/>
                <a:gdLst/>
                <a:ahLst/>
                <a:rect l="l" t="t" r="r" b="b"/>
                <a:pathLst>
                  <a:path w="2008" h="1305">
                    <a:moveTo>
                      <a:pt x="2000" y="652"/>
                    </a:moveTo>
                    <a:lnTo>
                      <a:pt x="1992" y="652"/>
                    </a:lnTo>
                    <a:lnTo>
                      <a:pt x="1990" y="717"/>
                    </a:lnTo>
                    <a:lnTo>
                      <a:pt x="1978" y="782"/>
                    </a:lnTo>
                    <a:lnTo>
                      <a:pt x="1962" y="841"/>
                    </a:lnTo>
                    <a:lnTo>
                      <a:pt x="1944" y="901"/>
                    </a:lnTo>
                    <a:lnTo>
                      <a:pt x="1916" y="957"/>
                    </a:lnTo>
                    <a:lnTo>
                      <a:pt x="1887" y="1009"/>
                    </a:lnTo>
                    <a:lnTo>
                      <a:pt x="1849" y="1057"/>
                    </a:lnTo>
                    <a:lnTo>
                      <a:pt x="1811" y="1103"/>
                    </a:lnTo>
                    <a:lnTo>
                      <a:pt x="1765" y="1143"/>
                    </a:lnTo>
                    <a:lnTo>
                      <a:pt x="1719" y="1182"/>
                    </a:lnTo>
                    <a:lnTo>
                      <a:pt x="1668" y="1214"/>
                    </a:lnTo>
                    <a:lnTo>
                      <a:pt x="1614" y="1240"/>
                    </a:lnTo>
                    <a:lnTo>
                      <a:pt x="1557" y="1262"/>
                    </a:lnTo>
                    <a:lnTo>
                      <a:pt x="1498" y="1278"/>
                    </a:lnTo>
                    <a:lnTo>
                      <a:pt x="1466" y="1284"/>
                    </a:lnTo>
                    <a:lnTo>
                      <a:pt x="1436" y="1286"/>
                    </a:lnTo>
                    <a:lnTo>
                      <a:pt x="1403" y="1289"/>
                    </a:lnTo>
                    <a:lnTo>
                      <a:pt x="1371" y="1289"/>
                    </a:lnTo>
                    <a:lnTo>
                      <a:pt x="635" y="1289"/>
                    </a:lnTo>
                    <a:lnTo>
                      <a:pt x="602" y="1289"/>
                    </a:lnTo>
                    <a:lnTo>
                      <a:pt x="570" y="1286"/>
                    </a:lnTo>
                    <a:lnTo>
                      <a:pt x="540" y="1284"/>
                    </a:lnTo>
                    <a:lnTo>
                      <a:pt x="510" y="1278"/>
                    </a:lnTo>
                    <a:lnTo>
                      <a:pt x="451" y="1262"/>
                    </a:lnTo>
                    <a:lnTo>
                      <a:pt x="395" y="1240"/>
                    </a:lnTo>
                    <a:lnTo>
                      <a:pt x="340" y="1214"/>
                    </a:lnTo>
                    <a:lnTo>
                      <a:pt x="289" y="1182"/>
                    </a:lnTo>
                    <a:lnTo>
                      <a:pt x="241" y="1143"/>
                    </a:lnTo>
                    <a:lnTo>
                      <a:pt x="197" y="1103"/>
                    </a:lnTo>
                    <a:lnTo>
                      <a:pt x="156" y="1057"/>
                    </a:lnTo>
                    <a:lnTo>
                      <a:pt x="122" y="1009"/>
                    </a:lnTo>
                    <a:lnTo>
                      <a:pt x="89" y="957"/>
                    </a:lnTo>
                    <a:lnTo>
                      <a:pt x="66" y="901"/>
                    </a:lnTo>
                    <a:lnTo>
                      <a:pt x="43" y="841"/>
                    </a:lnTo>
                    <a:lnTo>
                      <a:pt x="27" y="782"/>
                    </a:lnTo>
                    <a:lnTo>
                      <a:pt x="20" y="717"/>
                    </a:lnTo>
                    <a:lnTo>
                      <a:pt x="16" y="652"/>
                    </a:lnTo>
                    <a:lnTo>
                      <a:pt x="20" y="588"/>
                    </a:lnTo>
                    <a:lnTo>
                      <a:pt x="27" y="523"/>
                    </a:lnTo>
                    <a:lnTo>
                      <a:pt x="43" y="464"/>
                    </a:lnTo>
                    <a:lnTo>
                      <a:pt x="66" y="404"/>
                    </a:lnTo>
                    <a:lnTo>
                      <a:pt x="89" y="348"/>
                    </a:lnTo>
                    <a:lnTo>
                      <a:pt x="122" y="296"/>
                    </a:lnTo>
                    <a:lnTo>
                      <a:pt x="156" y="247"/>
                    </a:lnTo>
                    <a:lnTo>
                      <a:pt x="197" y="202"/>
                    </a:lnTo>
                    <a:lnTo>
                      <a:pt x="241" y="162"/>
                    </a:lnTo>
                    <a:lnTo>
                      <a:pt x="289" y="123"/>
                    </a:lnTo>
                    <a:lnTo>
                      <a:pt x="340" y="91"/>
                    </a:lnTo>
                    <a:lnTo>
                      <a:pt x="395" y="65"/>
                    </a:lnTo>
                    <a:lnTo>
                      <a:pt x="451" y="42"/>
                    </a:lnTo>
                    <a:lnTo>
                      <a:pt x="510" y="29"/>
                    </a:lnTo>
                    <a:lnTo>
                      <a:pt x="570" y="19"/>
                    </a:lnTo>
                    <a:lnTo>
                      <a:pt x="602" y="16"/>
                    </a:lnTo>
                    <a:lnTo>
                      <a:pt x="635" y="16"/>
                    </a:lnTo>
                    <a:lnTo>
                      <a:pt x="1371" y="16"/>
                    </a:lnTo>
                    <a:lnTo>
                      <a:pt x="1403" y="16"/>
                    </a:lnTo>
                    <a:lnTo>
                      <a:pt x="1436" y="19"/>
                    </a:lnTo>
                    <a:lnTo>
                      <a:pt x="1498" y="29"/>
                    </a:lnTo>
                    <a:lnTo>
                      <a:pt x="1557" y="42"/>
                    </a:lnTo>
                    <a:lnTo>
                      <a:pt x="1614" y="65"/>
                    </a:lnTo>
                    <a:lnTo>
                      <a:pt x="1668" y="91"/>
                    </a:lnTo>
                    <a:lnTo>
                      <a:pt x="1719" y="123"/>
                    </a:lnTo>
                    <a:lnTo>
                      <a:pt x="1765" y="162"/>
                    </a:lnTo>
                    <a:lnTo>
                      <a:pt x="1811" y="202"/>
                    </a:lnTo>
                    <a:lnTo>
                      <a:pt x="1849" y="247"/>
                    </a:lnTo>
                    <a:lnTo>
                      <a:pt x="1887" y="296"/>
                    </a:lnTo>
                    <a:lnTo>
                      <a:pt x="1916" y="348"/>
                    </a:lnTo>
                    <a:lnTo>
                      <a:pt x="1944" y="404"/>
                    </a:lnTo>
                    <a:lnTo>
                      <a:pt x="1962" y="464"/>
                    </a:lnTo>
                    <a:lnTo>
                      <a:pt x="1978" y="523"/>
                    </a:lnTo>
                    <a:lnTo>
                      <a:pt x="1990" y="588"/>
                    </a:lnTo>
                    <a:lnTo>
                      <a:pt x="1992" y="652"/>
                    </a:lnTo>
                    <a:lnTo>
                      <a:pt x="2000" y="652"/>
                    </a:lnTo>
                    <a:lnTo>
                      <a:pt x="2008" y="652"/>
                    </a:lnTo>
                    <a:lnTo>
                      <a:pt x="2008" y="620"/>
                    </a:lnTo>
                    <a:lnTo>
                      <a:pt x="2006" y="585"/>
                    </a:lnTo>
                    <a:lnTo>
                      <a:pt x="1995" y="521"/>
                    </a:lnTo>
                    <a:lnTo>
                      <a:pt x="1978" y="459"/>
                    </a:lnTo>
                    <a:lnTo>
                      <a:pt x="1957" y="399"/>
                    </a:lnTo>
                    <a:lnTo>
                      <a:pt x="1930" y="342"/>
                    </a:lnTo>
                    <a:lnTo>
                      <a:pt x="1900" y="288"/>
                    </a:lnTo>
                    <a:lnTo>
                      <a:pt x="1863" y="237"/>
                    </a:lnTo>
                    <a:lnTo>
                      <a:pt x="1822" y="191"/>
                    </a:lnTo>
                    <a:lnTo>
                      <a:pt x="1776" y="148"/>
                    </a:lnTo>
                    <a:lnTo>
                      <a:pt x="1728" y="111"/>
                    </a:lnTo>
                    <a:lnTo>
                      <a:pt x="1677" y="77"/>
                    </a:lnTo>
                    <a:lnTo>
                      <a:pt x="1620" y="51"/>
                    </a:lnTo>
                    <a:lnTo>
                      <a:pt x="1560" y="29"/>
                    </a:lnTo>
                    <a:lnTo>
                      <a:pt x="1530" y="19"/>
                    </a:lnTo>
                    <a:lnTo>
                      <a:pt x="1500" y="13"/>
                    </a:lnTo>
                    <a:lnTo>
                      <a:pt x="1468" y="8"/>
                    </a:lnTo>
                    <a:lnTo>
                      <a:pt x="1436" y="3"/>
                    </a:lnTo>
                    <a:lnTo>
                      <a:pt x="1403" y="0"/>
                    </a:lnTo>
                    <a:lnTo>
                      <a:pt x="1371" y="0"/>
                    </a:lnTo>
                    <a:lnTo>
                      <a:pt x="635" y="0"/>
                    </a:lnTo>
                    <a:lnTo>
                      <a:pt x="602" y="0"/>
                    </a:lnTo>
                    <a:lnTo>
                      <a:pt x="570" y="3"/>
                    </a:lnTo>
                    <a:lnTo>
                      <a:pt x="538" y="8"/>
                    </a:lnTo>
                    <a:lnTo>
                      <a:pt x="505" y="13"/>
                    </a:lnTo>
                    <a:lnTo>
                      <a:pt x="475" y="19"/>
                    </a:lnTo>
                    <a:lnTo>
                      <a:pt x="446" y="29"/>
                    </a:lnTo>
                    <a:lnTo>
                      <a:pt x="386" y="51"/>
                    </a:lnTo>
                    <a:lnTo>
                      <a:pt x="333" y="77"/>
                    </a:lnTo>
                    <a:lnTo>
                      <a:pt x="278" y="111"/>
                    </a:lnTo>
                    <a:lnTo>
                      <a:pt x="230" y="148"/>
                    </a:lnTo>
                    <a:lnTo>
                      <a:pt x="184" y="191"/>
                    </a:lnTo>
                    <a:lnTo>
                      <a:pt x="143" y="237"/>
                    </a:lnTo>
                    <a:lnTo>
                      <a:pt x="108" y="288"/>
                    </a:lnTo>
                    <a:lnTo>
                      <a:pt x="76" y="342"/>
                    </a:lnTo>
                    <a:lnTo>
                      <a:pt x="48" y="399"/>
                    </a:lnTo>
                    <a:lnTo>
                      <a:pt x="27" y="459"/>
                    </a:lnTo>
                    <a:lnTo>
                      <a:pt x="11" y="521"/>
                    </a:lnTo>
                    <a:lnTo>
                      <a:pt x="2" y="585"/>
                    </a:lnTo>
                    <a:lnTo>
                      <a:pt x="0" y="620"/>
                    </a:lnTo>
                    <a:lnTo>
                      <a:pt x="0" y="652"/>
                    </a:lnTo>
                    <a:lnTo>
                      <a:pt x="0" y="687"/>
                    </a:lnTo>
                    <a:lnTo>
                      <a:pt x="2" y="720"/>
                    </a:lnTo>
                    <a:lnTo>
                      <a:pt x="11" y="784"/>
                    </a:lnTo>
                    <a:lnTo>
                      <a:pt x="27" y="846"/>
                    </a:lnTo>
                    <a:lnTo>
                      <a:pt x="48" y="906"/>
                    </a:lnTo>
                    <a:lnTo>
                      <a:pt x="76" y="965"/>
                    </a:lnTo>
                    <a:lnTo>
                      <a:pt x="108" y="1019"/>
                    </a:lnTo>
                    <a:lnTo>
                      <a:pt x="143" y="1067"/>
                    </a:lnTo>
                    <a:lnTo>
                      <a:pt x="184" y="1113"/>
                    </a:lnTo>
                    <a:lnTo>
                      <a:pt x="230" y="1157"/>
                    </a:lnTo>
                    <a:lnTo>
                      <a:pt x="278" y="1194"/>
                    </a:lnTo>
                    <a:lnTo>
                      <a:pt x="333" y="1226"/>
                    </a:lnTo>
                    <a:lnTo>
                      <a:pt x="386" y="1254"/>
                    </a:lnTo>
                    <a:lnTo>
                      <a:pt x="446" y="1276"/>
                    </a:lnTo>
                    <a:lnTo>
                      <a:pt x="475" y="1286"/>
                    </a:lnTo>
                    <a:lnTo>
                      <a:pt x="505" y="1292"/>
                    </a:lnTo>
                    <a:lnTo>
                      <a:pt x="538" y="1300"/>
                    </a:lnTo>
                    <a:lnTo>
                      <a:pt x="570" y="1302"/>
                    </a:lnTo>
                    <a:lnTo>
                      <a:pt x="602" y="1305"/>
                    </a:lnTo>
                    <a:lnTo>
                      <a:pt x="635" y="1305"/>
                    </a:lnTo>
                    <a:lnTo>
                      <a:pt x="1371" y="1305"/>
                    </a:lnTo>
                    <a:lnTo>
                      <a:pt x="1403" y="1305"/>
                    </a:lnTo>
                    <a:lnTo>
                      <a:pt x="1436" y="1302"/>
                    </a:lnTo>
                    <a:lnTo>
                      <a:pt x="1468" y="1300"/>
                    </a:lnTo>
                    <a:lnTo>
                      <a:pt x="1500" y="1292"/>
                    </a:lnTo>
                    <a:lnTo>
                      <a:pt x="1530" y="1286"/>
                    </a:lnTo>
                    <a:lnTo>
                      <a:pt x="1560" y="1276"/>
                    </a:lnTo>
                    <a:lnTo>
                      <a:pt x="1620" y="1254"/>
                    </a:lnTo>
                    <a:lnTo>
                      <a:pt x="1677" y="1226"/>
                    </a:lnTo>
                    <a:lnTo>
                      <a:pt x="1728" y="1194"/>
                    </a:lnTo>
                    <a:lnTo>
                      <a:pt x="1776" y="1157"/>
                    </a:lnTo>
                    <a:lnTo>
                      <a:pt x="1822" y="1113"/>
                    </a:lnTo>
                    <a:lnTo>
                      <a:pt x="1863" y="1067"/>
                    </a:lnTo>
                    <a:lnTo>
                      <a:pt x="1900" y="1019"/>
                    </a:lnTo>
                    <a:lnTo>
                      <a:pt x="1930" y="965"/>
                    </a:lnTo>
                    <a:lnTo>
                      <a:pt x="1957" y="906"/>
                    </a:lnTo>
                    <a:lnTo>
                      <a:pt x="1978" y="846"/>
                    </a:lnTo>
                    <a:lnTo>
                      <a:pt x="1995" y="784"/>
                    </a:lnTo>
                    <a:lnTo>
                      <a:pt x="2006" y="720"/>
                    </a:lnTo>
                    <a:lnTo>
                      <a:pt x="2008" y="687"/>
                    </a:lnTo>
                    <a:lnTo>
                      <a:pt x="2008" y="652"/>
                    </a:lnTo>
                    <a:lnTo>
                      <a:pt x="2000" y="652"/>
                    </a:lnTo>
                    <a:close/>
                  </a:path>
                </a:pathLst>
              </a:custGeom>
              <a:solidFill>
                <a:srgbClr val="773f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1871640" y="3387600"/>
                <a:ext cx="264960" cy="158760"/>
              </a:xfrm>
              <a:custGeom>
                <a:avLst/>
                <a:gdLst/>
                <a:ahLst/>
                <a:rect l="l" t="t" r="r" b="b"/>
                <a:pathLst>
                  <a:path w="1647" h="1047">
                    <a:moveTo>
                      <a:pt x="1380" y="0"/>
                    </a:moveTo>
                    <a:lnTo>
                      <a:pt x="670" y="0"/>
                    </a:lnTo>
                    <a:lnTo>
                      <a:pt x="621" y="0"/>
                    </a:lnTo>
                    <a:lnTo>
                      <a:pt x="575" y="6"/>
                    </a:lnTo>
                    <a:lnTo>
                      <a:pt x="532" y="14"/>
                    </a:lnTo>
                    <a:lnTo>
                      <a:pt x="489" y="25"/>
                    </a:lnTo>
                    <a:lnTo>
                      <a:pt x="448" y="41"/>
                    </a:lnTo>
                    <a:lnTo>
                      <a:pt x="407" y="57"/>
                    </a:lnTo>
                    <a:lnTo>
                      <a:pt x="370" y="82"/>
                    </a:lnTo>
                    <a:lnTo>
                      <a:pt x="333" y="105"/>
                    </a:lnTo>
                    <a:lnTo>
                      <a:pt x="317" y="114"/>
                    </a:lnTo>
                    <a:lnTo>
                      <a:pt x="300" y="117"/>
                    </a:lnTo>
                    <a:lnTo>
                      <a:pt x="289" y="114"/>
                    </a:lnTo>
                    <a:lnTo>
                      <a:pt x="281" y="108"/>
                    </a:lnTo>
                    <a:lnTo>
                      <a:pt x="273" y="100"/>
                    </a:lnTo>
                    <a:lnTo>
                      <a:pt x="271" y="89"/>
                    </a:lnTo>
                    <a:lnTo>
                      <a:pt x="273" y="73"/>
                    </a:lnTo>
                    <a:lnTo>
                      <a:pt x="281" y="54"/>
                    </a:lnTo>
                    <a:lnTo>
                      <a:pt x="294" y="32"/>
                    </a:lnTo>
                    <a:lnTo>
                      <a:pt x="313" y="6"/>
                    </a:lnTo>
                    <a:lnTo>
                      <a:pt x="278" y="30"/>
                    </a:lnTo>
                    <a:lnTo>
                      <a:pt x="243" y="54"/>
                    </a:lnTo>
                    <a:lnTo>
                      <a:pt x="211" y="82"/>
                    </a:lnTo>
                    <a:lnTo>
                      <a:pt x="181" y="111"/>
                    </a:lnTo>
                    <a:lnTo>
                      <a:pt x="140" y="156"/>
                    </a:lnTo>
                    <a:lnTo>
                      <a:pt x="106" y="205"/>
                    </a:lnTo>
                    <a:lnTo>
                      <a:pt x="73" y="257"/>
                    </a:lnTo>
                    <a:lnTo>
                      <a:pt x="50" y="313"/>
                    </a:lnTo>
                    <a:lnTo>
                      <a:pt x="27" y="373"/>
                    </a:lnTo>
                    <a:lnTo>
                      <a:pt x="11" y="432"/>
                    </a:lnTo>
                    <a:lnTo>
                      <a:pt x="4" y="497"/>
                    </a:lnTo>
                    <a:lnTo>
                      <a:pt x="0" y="561"/>
                    </a:lnTo>
                    <a:lnTo>
                      <a:pt x="4" y="626"/>
                    </a:lnTo>
                    <a:lnTo>
                      <a:pt x="11" y="691"/>
                    </a:lnTo>
                    <a:lnTo>
                      <a:pt x="27" y="750"/>
                    </a:lnTo>
                    <a:lnTo>
                      <a:pt x="50" y="810"/>
                    </a:lnTo>
                    <a:lnTo>
                      <a:pt x="73" y="866"/>
                    </a:lnTo>
                    <a:lnTo>
                      <a:pt x="106" y="918"/>
                    </a:lnTo>
                    <a:lnTo>
                      <a:pt x="140" y="966"/>
                    </a:lnTo>
                    <a:lnTo>
                      <a:pt x="181" y="1012"/>
                    </a:lnTo>
                    <a:lnTo>
                      <a:pt x="216" y="1047"/>
                    </a:lnTo>
                    <a:lnTo>
                      <a:pt x="195" y="1006"/>
                    </a:lnTo>
                    <a:lnTo>
                      <a:pt x="173" y="966"/>
                    </a:lnTo>
                    <a:lnTo>
                      <a:pt x="157" y="925"/>
                    </a:lnTo>
                    <a:lnTo>
                      <a:pt x="144" y="882"/>
                    </a:lnTo>
                    <a:lnTo>
                      <a:pt x="133" y="836"/>
                    </a:lnTo>
                    <a:lnTo>
                      <a:pt x="124" y="791"/>
                    </a:lnTo>
                    <a:lnTo>
                      <a:pt x="119" y="745"/>
                    </a:lnTo>
                    <a:lnTo>
                      <a:pt x="117" y="697"/>
                    </a:lnTo>
                    <a:lnTo>
                      <a:pt x="119" y="661"/>
                    </a:lnTo>
                    <a:lnTo>
                      <a:pt x="119" y="629"/>
                    </a:lnTo>
                    <a:lnTo>
                      <a:pt x="130" y="564"/>
                    </a:lnTo>
                    <a:lnTo>
                      <a:pt x="146" y="502"/>
                    </a:lnTo>
                    <a:lnTo>
                      <a:pt x="168" y="440"/>
                    </a:lnTo>
                    <a:lnTo>
                      <a:pt x="195" y="384"/>
                    </a:lnTo>
                    <a:lnTo>
                      <a:pt x="225" y="329"/>
                    </a:lnTo>
                    <a:lnTo>
                      <a:pt x="262" y="281"/>
                    </a:lnTo>
                    <a:lnTo>
                      <a:pt x="303" y="232"/>
                    </a:lnTo>
                    <a:lnTo>
                      <a:pt x="349" y="191"/>
                    </a:lnTo>
                    <a:lnTo>
                      <a:pt x="397" y="154"/>
                    </a:lnTo>
                    <a:lnTo>
                      <a:pt x="448" y="122"/>
                    </a:lnTo>
                    <a:lnTo>
                      <a:pt x="505" y="94"/>
                    </a:lnTo>
                    <a:lnTo>
                      <a:pt x="564" y="71"/>
                    </a:lnTo>
                    <a:lnTo>
                      <a:pt x="594" y="62"/>
                    </a:lnTo>
                    <a:lnTo>
                      <a:pt x="624" y="54"/>
                    </a:lnTo>
                    <a:lnTo>
                      <a:pt x="656" y="48"/>
                    </a:lnTo>
                    <a:lnTo>
                      <a:pt x="688" y="46"/>
                    </a:lnTo>
                    <a:lnTo>
                      <a:pt x="718" y="43"/>
                    </a:lnTo>
                    <a:lnTo>
                      <a:pt x="754" y="41"/>
                    </a:lnTo>
                    <a:lnTo>
                      <a:pt x="1490" y="41"/>
                    </a:lnTo>
                    <a:lnTo>
                      <a:pt x="1530" y="43"/>
                    </a:lnTo>
                    <a:lnTo>
                      <a:pt x="1569" y="46"/>
                    </a:lnTo>
                    <a:lnTo>
                      <a:pt x="1609" y="54"/>
                    </a:lnTo>
                    <a:lnTo>
                      <a:pt x="1647" y="62"/>
                    </a:lnTo>
                    <a:lnTo>
                      <a:pt x="1615" y="48"/>
                    </a:lnTo>
                    <a:lnTo>
                      <a:pt x="1585" y="36"/>
                    </a:lnTo>
                    <a:lnTo>
                      <a:pt x="1553" y="25"/>
                    </a:lnTo>
                    <a:lnTo>
                      <a:pt x="1520" y="16"/>
                    </a:lnTo>
                    <a:lnTo>
                      <a:pt x="1484" y="9"/>
                    </a:lnTo>
                    <a:lnTo>
                      <a:pt x="1450" y="2"/>
                    </a:lnTo>
                    <a:lnTo>
                      <a:pt x="1415" y="0"/>
                    </a:lnTo>
                    <a:lnTo>
                      <a:pt x="1380" y="0"/>
                    </a:lnTo>
                    <a:close/>
                  </a:path>
                </a:pathLst>
              </a:custGeom>
              <a:solidFill>
                <a:srgbClr val="c9ca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1870200" y="3384360"/>
                <a:ext cx="53640" cy="165240"/>
              </a:xfrm>
              <a:custGeom>
                <a:avLst/>
                <a:gdLst/>
                <a:ahLst/>
                <a:rect l="l" t="t" r="r" b="b"/>
                <a:pathLst>
                  <a:path w="341" h="1082">
                    <a:moveTo>
                      <a:pt x="341" y="0"/>
                    </a:moveTo>
                    <a:lnTo>
                      <a:pt x="302" y="23"/>
                    </a:lnTo>
                    <a:lnTo>
                      <a:pt x="268" y="46"/>
                    </a:lnTo>
                    <a:lnTo>
                      <a:pt x="233" y="74"/>
                    </a:lnTo>
                    <a:lnTo>
                      <a:pt x="200" y="101"/>
                    </a:lnTo>
                    <a:lnTo>
                      <a:pt x="171" y="133"/>
                    </a:lnTo>
                    <a:lnTo>
                      <a:pt x="143" y="165"/>
                    </a:lnTo>
                    <a:lnTo>
                      <a:pt x="116" y="200"/>
                    </a:lnTo>
                    <a:lnTo>
                      <a:pt x="95" y="235"/>
                    </a:lnTo>
                    <a:lnTo>
                      <a:pt x="74" y="273"/>
                    </a:lnTo>
                    <a:lnTo>
                      <a:pt x="54" y="313"/>
                    </a:lnTo>
                    <a:lnTo>
                      <a:pt x="38" y="354"/>
                    </a:lnTo>
                    <a:lnTo>
                      <a:pt x="24" y="394"/>
                    </a:lnTo>
                    <a:lnTo>
                      <a:pt x="14" y="440"/>
                    </a:lnTo>
                    <a:lnTo>
                      <a:pt x="6" y="484"/>
                    </a:lnTo>
                    <a:lnTo>
                      <a:pt x="0" y="529"/>
                    </a:lnTo>
                    <a:lnTo>
                      <a:pt x="0" y="575"/>
                    </a:lnTo>
                    <a:lnTo>
                      <a:pt x="0" y="613"/>
                    </a:lnTo>
                    <a:lnTo>
                      <a:pt x="3" y="651"/>
                    </a:lnTo>
                    <a:lnTo>
                      <a:pt x="8" y="688"/>
                    </a:lnTo>
                    <a:lnTo>
                      <a:pt x="17" y="727"/>
                    </a:lnTo>
                    <a:lnTo>
                      <a:pt x="24" y="762"/>
                    </a:lnTo>
                    <a:lnTo>
                      <a:pt x="35" y="797"/>
                    </a:lnTo>
                    <a:lnTo>
                      <a:pt x="49" y="829"/>
                    </a:lnTo>
                    <a:lnTo>
                      <a:pt x="65" y="864"/>
                    </a:lnTo>
                    <a:lnTo>
                      <a:pt x="81" y="893"/>
                    </a:lnTo>
                    <a:lnTo>
                      <a:pt x="100" y="926"/>
                    </a:lnTo>
                    <a:lnTo>
                      <a:pt x="119" y="956"/>
                    </a:lnTo>
                    <a:lnTo>
                      <a:pt x="141" y="983"/>
                    </a:lnTo>
                    <a:lnTo>
                      <a:pt x="162" y="1010"/>
                    </a:lnTo>
                    <a:lnTo>
                      <a:pt x="187" y="1036"/>
                    </a:lnTo>
                    <a:lnTo>
                      <a:pt x="213" y="1061"/>
                    </a:lnTo>
                    <a:lnTo>
                      <a:pt x="240" y="1082"/>
                    </a:lnTo>
                    <a:lnTo>
                      <a:pt x="224" y="1061"/>
                    </a:lnTo>
                    <a:lnTo>
                      <a:pt x="189" y="1026"/>
                    </a:lnTo>
                    <a:lnTo>
                      <a:pt x="148" y="980"/>
                    </a:lnTo>
                    <a:lnTo>
                      <a:pt x="114" y="932"/>
                    </a:lnTo>
                    <a:lnTo>
                      <a:pt x="81" y="880"/>
                    </a:lnTo>
                    <a:lnTo>
                      <a:pt x="58" y="824"/>
                    </a:lnTo>
                    <a:lnTo>
                      <a:pt x="35" y="764"/>
                    </a:lnTo>
                    <a:lnTo>
                      <a:pt x="19" y="705"/>
                    </a:lnTo>
                    <a:lnTo>
                      <a:pt x="12" y="640"/>
                    </a:lnTo>
                    <a:lnTo>
                      <a:pt x="8" y="575"/>
                    </a:lnTo>
                    <a:lnTo>
                      <a:pt x="12" y="511"/>
                    </a:lnTo>
                    <a:lnTo>
                      <a:pt x="19" y="446"/>
                    </a:lnTo>
                    <a:lnTo>
                      <a:pt x="35" y="387"/>
                    </a:lnTo>
                    <a:lnTo>
                      <a:pt x="58" y="327"/>
                    </a:lnTo>
                    <a:lnTo>
                      <a:pt x="81" y="271"/>
                    </a:lnTo>
                    <a:lnTo>
                      <a:pt x="114" y="219"/>
                    </a:lnTo>
                    <a:lnTo>
                      <a:pt x="148" y="170"/>
                    </a:lnTo>
                    <a:lnTo>
                      <a:pt x="189" y="125"/>
                    </a:lnTo>
                    <a:lnTo>
                      <a:pt x="219" y="96"/>
                    </a:lnTo>
                    <a:lnTo>
                      <a:pt x="251" y="68"/>
                    </a:lnTo>
                    <a:lnTo>
                      <a:pt x="286" y="44"/>
                    </a:lnTo>
                    <a:lnTo>
                      <a:pt x="321" y="20"/>
                    </a:lnTo>
                    <a:lnTo>
                      <a:pt x="341" y="0"/>
                    </a:lnTo>
                    <a:close/>
                  </a:path>
                </a:pathLst>
              </a:custGeom>
              <a:solidFill>
                <a:srgbClr val="6437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1890720" y="3395520"/>
                <a:ext cx="322200" cy="195480"/>
              </a:xfrm>
              <a:custGeom>
                <a:avLst/>
                <a:gdLst/>
                <a:ahLst/>
                <a:rect l="l" t="t" r="r" b="b"/>
                <a:pathLst>
                  <a:path w="1992" h="1292">
                    <a:moveTo>
                      <a:pt x="1992" y="649"/>
                    </a:moveTo>
                    <a:lnTo>
                      <a:pt x="1992" y="681"/>
                    </a:lnTo>
                    <a:lnTo>
                      <a:pt x="1990" y="713"/>
                    </a:lnTo>
                    <a:lnTo>
                      <a:pt x="1981" y="778"/>
                    </a:lnTo>
                    <a:lnTo>
                      <a:pt x="1965" y="840"/>
                    </a:lnTo>
                    <a:lnTo>
                      <a:pt x="1944" y="900"/>
                    </a:lnTo>
                    <a:lnTo>
                      <a:pt x="1917" y="956"/>
                    </a:lnTo>
                    <a:lnTo>
                      <a:pt x="1887" y="1009"/>
                    </a:lnTo>
                    <a:lnTo>
                      <a:pt x="1850" y="1059"/>
                    </a:lnTo>
                    <a:lnTo>
                      <a:pt x="1809" y="1105"/>
                    </a:lnTo>
                    <a:lnTo>
                      <a:pt x="1765" y="1145"/>
                    </a:lnTo>
                    <a:lnTo>
                      <a:pt x="1717" y="1182"/>
                    </a:lnTo>
                    <a:lnTo>
                      <a:pt x="1666" y="1215"/>
                    </a:lnTo>
                    <a:lnTo>
                      <a:pt x="1609" y="1241"/>
                    </a:lnTo>
                    <a:lnTo>
                      <a:pt x="1553" y="1264"/>
                    </a:lnTo>
                    <a:lnTo>
                      <a:pt x="1493" y="1280"/>
                    </a:lnTo>
                    <a:lnTo>
                      <a:pt x="1461" y="1285"/>
                    </a:lnTo>
                    <a:lnTo>
                      <a:pt x="1431" y="1290"/>
                    </a:lnTo>
                    <a:lnTo>
                      <a:pt x="1399" y="1292"/>
                    </a:lnTo>
                    <a:lnTo>
                      <a:pt x="1366" y="1292"/>
                    </a:lnTo>
                    <a:lnTo>
                      <a:pt x="630" y="1292"/>
                    </a:lnTo>
                    <a:lnTo>
                      <a:pt x="598" y="1292"/>
                    </a:lnTo>
                    <a:lnTo>
                      <a:pt x="564" y="1290"/>
                    </a:lnTo>
                    <a:lnTo>
                      <a:pt x="532" y="1285"/>
                    </a:lnTo>
                    <a:lnTo>
                      <a:pt x="502" y="1280"/>
                    </a:lnTo>
                    <a:lnTo>
                      <a:pt x="444" y="1264"/>
                    </a:lnTo>
                    <a:lnTo>
                      <a:pt x="384" y="1241"/>
                    </a:lnTo>
                    <a:lnTo>
                      <a:pt x="329" y="1215"/>
                    </a:lnTo>
                    <a:lnTo>
                      <a:pt x="278" y="1182"/>
                    </a:lnTo>
                    <a:lnTo>
                      <a:pt x="230" y="1145"/>
                    </a:lnTo>
                    <a:lnTo>
                      <a:pt x="184" y="1105"/>
                    </a:lnTo>
                    <a:lnTo>
                      <a:pt x="143" y="1059"/>
                    </a:lnTo>
                    <a:lnTo>
                      <a:pt x="108" y="1009"/>
                    </a:lnTo>
                    <a:lnTo>
                      <a:pt x="76" y="956"/>
                    </a:lnTo>
                    <a:lnTo>
                      <a:pt x="52" y="900"/>
                    </a:lnTo>
                    <a:lnTo>
                      <a:pt x="30" y="840"/>
                    </a:lnTo>
                    <a:lnTo>
                      <a:pt x="14" y="778"/>
                    </a:lnTo>
                    <a:lnTo>
                      <a:pt x="3" y="713"/>
                    </a:lnTo>
                    <a:lnTo>
                      <a:pt x="3" y="681"/>
                    </a:lnTo>
                    <a:lnTo>
                      <a:pt x="0" y="649"/>
                    </a:lnTo>
                    <a:lnTo>
                      <a:pt x="3" y="615"/>
                    </a:lnTo>
                    <a:lnTo>
                      <a:pt x="3" y="581"/>
                    </a:lnTo>
                    <a:lnTo>
                      <a:pt x="14" y="518"/>
                    </a:lnTo>
                    <a:lnTo>
                      <a:pt x="30" y="456"/>
                    </a:lnTo>
                    <a:lnTo>
                      <a:pt x="52" y="398"/>
                    </a:lnTo>
                    <a:lnTo>
                      <a:pt x="76" y="341"/>
                    </a:lnTo>
                    <a:lnTo>
                      <a:pt x="108" y="287"/>
                    </a:lnTo>
                    <a:lnTo>
                      <a:pt x="143" y="239"/>
                    </a:lnTo>
                    <a:lnTo>
                      <a:pt x="184" y="193"/>
                    </a:lnTo>
                    <a:lnTo>
                      <a:pt x="230" y="149"/>
                    </a:lnTo>
                    <a:lnTo>
                      <a:pt x="278" y="111"/>
                    </a:lnTo>
                    <a:lnTo>
                      <a:pt x="329" y="79"/>
                    </a:lnTo>
                    <a:lnTo>
                      <a:pt x="384" y="52"/>
                    </a:lnTo>
                    <a:lnTo>
                      <a:pt x="444" y="30"/>
                    </a:lnTo>
                    <a:lnTo>
                      <a:pt x="502" y="14"/>
                    </a:lnTo>
                    <a:lnTo>
                      <a:pt x="532" y="9"/>
                    </a:lnTo>
                    <a:lnTo>
                      <a:pt x="564" y="6"/>
                    </a:lnTo>
                    <a:lnTo>
                      <a:pt x="598" y="4"/>
                    </a:lnTo>
                    <a:lnTo>
                      <a:pt x="630" y="0"/>
                    </a:lnTo>
                    <a:lnTo>
                      <a:pt x="1366" y="0"/>
                    </a:lnTo>
                    <a:lnTo>
                      <a:pt x="1399" y="4"/>
                    </a:lnTo>
                    <a:lnTo>
                      <a:pt x="1431" y="6"/>
                    </a:lnTo>
                    <a:lnTo>
                      <a:pt x="1461" y="9"/>
                    </a:lnTo>
                    <a:lnTo>
                      <a:pt x="1493" y="14"/>
                    </a:lnTo>
                    <a:lnTo>
                      <a:pt x="1553" y="30"/>
                    </a:lnTo>
                    <a:lnTo>
                      <a:pt x="1609" y="52"/>
                    </a:lnTo>
                    <a:lnTo>
                      <a:pt x="1666" y="79"/>
                    </a:lnTo>
                    <a:lnTo>
                      <a:pt x="1717" y="111"/>
                    </a:lnTo>
                    <a:lnTo>
                      <a:pt x="1765" y="149"/>
                    </a:lnTo>
                    <a:lnTo>
                      <a:pt x="1809" y="193"/>
                    </a:lnTo>
                    <a:lnTo>
                      <a:pt x="1850" y="239"/>
                    </a:lnTo>
                    <a:lnTo>
                      <a:pt x="1887" y="287"/>
                    </a:lnTo>
                    <a:lnTo>
                      <a:pt x="1917" y="341"/>
                    </a:lnTo>
                    <a:lnTo>
                      <a:pt x="1944" y="398"/>
                    </a:lnTo>
                    <a:lnTo>
                      <a:pt x="1965" y="456"/>
                    </a:lnTo>
                    <a:lnTo>
                      <a:pt x="1981" y="518"/>
                    </a:lnTo>
                    <a:lnTo>
                      <a:pt x="1990" y="581"/>
                    </a:lnTo>
                    <a:lnTo>
                      <a:pt x="1992" y="615"/>
                    </a:lnTo>
                    <a:lnTo>
                      <a:pt x="1992" y="649"/>
                    </a:lnTo>
                    <a:close/>
                  </a:path>
                </a:pathLst>
              </a:custGeom>
              <a:solidFill>
                <a:srgbClr val="d9e1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1888920" y="3394080"/>
                <a:ext cx="325440" cy="198360"/>
              </a:xfrm>
              <a:custGeom>
                <a:avLst/>
                <a:gdLst/>
                <a:ahLst/>
                <a:rect l="l" t="t" r="r" b="b"/>
                <a:pathLst>
                  <a:path w="2007" h="1308">
                    <a:moveTo>
                      <a:pt x="1999" y="656"/>
                    </a:moveTo>
                    <a:lnTo>
                      <a:pt x="1991" y="656"/>
                    </a:lnTo>
                    <a:lnTo>
                      <a:pt x="1988" y="720"/>
                    </a:lnTo>
                    <a:lnTo>
                      <a:pt x="1981" y="782"/>
                    </a:lnTo>
                    <a:lnTo>
                      <a:pt x="1965" y="845"/>
                    </a:lnTo>
                    <a:lnTo>
                      <a:pt x="1942" y="903"/>
                    </a:lnTo>
                    <a:lnTo>
                      <a:pt x="1919" y="958"/>
                    </a:lnTo>
                    <a:lnTo>
                      <a:pt x="1885" y="1011"/>
                    </a:lnTo>
                    <a:lnTo>
                      <a:pt x="1851" y="1060"/>
                    </a:lnTo>
                    <a:lnTo>
                      <a:pt x="1811" y="1106"/>
                    </a:lnTo>
                    <a:lnTo>
                      <a:pt x="1767" y="1146"/>
                    </a:lnTo>
                    <a:lnTo>
                      <a:pt x="1719" y="1184"/>
                    </a:lnTo>
                    <a:lnTo>
                      <a:pt x="1668" y="1216"/>
                    </a:lnTo>
                    <a:lnTo>
                      <a:pt x="1613" y="1243"/>
                    </a:lnTo>
                    <a:lnTo>
                      <a:pt x="1556" y="1262"/>
                    </a:lnTo>
                    <a:lnTo>
                      <a:pt x="1498" y="1278"/>
                    </a:lnTo>
                    <a:lnTo>
                      <a:pt x="1438" y="1289"/>
                    </a:lnTo>
                    <a:lnTo>
                      <a:pt x="1406" y="1292"/>
                    </a:lnTo>
                    <a:lnTo>
                      <a:pt x="1373" y="1292"/>
                    </a:lnTo>
                    <a:lnTo>
                      <a:pt x="637" y="1292"/>
                    </a:lnTo>
                    <a:lnTo>
                      <a:pt x="605" y="1292"/>
                    </a:lnTo>
                    <a:lnTo>
                      <a:pt x="571" y="1289"/>
                    </a:lnTo>
                    <a:lnTo>
                      <a:pt x="509" y="1278"/>
                    </a:lnTo>
                    <a:lnTo>
                      <a:pt x="451" y="1262"/>
                    </a:lnTo>
                    <a:lnTo>
                      <a:pt x="393" y="1243"/>
                    </a:lnTo>
                    <a:lnTo>
                      <a:pt x="340" y="1216"/>
                    </a:lnTo>
                    <a:lnTo>
                      <a:pt x="288" y="1184"/>
                    </a:lnTo>
                    <a:lnTo>
                      <a:pt x="242" y="1146"/>
                    </a:lnTo>
                    <a:lnTo>
                      <a:pt x="196" y="1106"/>
                    </a:lnTo>
                    <a:lnTo>
                      <a:pt x="159" y="1060"/>
                    </a:lnTo>
                    <a:lnTo>
                      <a:pt x="121" y="1011"/>
                    </a:lnTo>
                    <a:lnTo>
                      <a:pt x="92" y="958"/>
                    </a:lnTo>
                    <a:lnTo>
                      <a:pt x="64" y="903"/>
                    </a:lnTo>
                    <a:lnTo>
                      <a:pt x="46" y="845"/>
                    </a:lnTo>
                    <a:lnTo>
                      <a:pt x="29" y="782"/>
                    </a:lnTo>
                    <a:lnTo>
                      <a:pt x="18" y="720"/>
                    </a:lnTo>
                    <a:lnTo>
                      <a:pt x="16" y="656"/>
                    </a:lnTo>
                    <a:lnTo>
                      <a:pt x="18" y="590"/>
                    </a:lnTo>
                    <a:lnTo>
                      <a:pt x="29" y="525"/>
                    </a:lnTo>
                    <a:lnTo>
                      <a:pt x="46" y="463"/>
                    </a:lnTo>
                    <a:lnTo>
                      <a:pt x="64" y="407"/>
                    </a:lnTo>
                    <a:lnTo>
                      <a:pt x="92" y="350"/>
                    </a:lnTo>
                    <a:lnTo>
                      <a:pt x="121" y="299"/>
                    </a:lnTo>
                    <a:lnTo>
                      <a:pt x="159" y="248"/>
                    </a:lnTo>
                    <a:lnTo>
                      <a:pt x="196" y="205"/>
                    </a:lnTo>
                    <a:lnTo>
                      <a:pt x="242" y="161"/>
                    </a:lnTo>
                    <a:lnTo>
                      <a:pt x="288" y="127"/>
                    </a:lnTo>
                    <a:lnTo>
                      <a:pt x="340" y="94"/>
                    </a:lnTo>
                    <a:lnTo>
                      <a:pt x="393" y="67"/>
                    </a:lnTo>
                    <a:lnTo>
                      <a:pt x="451" y="46"/>
                    </a:lnTo>
                    <a:lnTo>
                      <a:pt x="509" y="30"/>
                    </a:lnTo>
                    <a:lnTo>
                      <a:pt x="541" y="24"/>
                    </a:lnTo>
                    <a:lnTo>
                      <a:pt x="571" y="21"/>
                    </a:lnTo>
                    <a:lnTo>
                      <a:pt x="605" y="19"/>
                    </a:lnTo>
                    <a:lnTo>
                      <a:pt x="637" y="16"/>
                    </a:lnTo>
                    <a:lnTo>
                      <a:pt x="1373" y="16"/>
                    </a:lnTo>
                    <a:lnTo>
                      <a:pt x="1406" y="19"/>
                    </a:lnTo>
                    <a:lnTo>
                      <a:pt x="1438" y="21"/>
                    </a:lnTo>
                    <a:lnTo>
                      <a:pt x="1468" y="24"/>
                    </a:lnTo>
                    <a:lnTo>
                      <a:pt x="1498" y="30"/>
                    </a:lnTo>
                    <a:lnTo>
                      <a:pt x="1556" y="46"/>
                    </a:lnTo>
                    <a:lnTo>
                      <a:pt x="1613" y="67"/>
                    </a:lnTo>
                    <a:lnTo>
                      <a:pt x="1668" y="94"/>
                    </a:lnTo>
                    <a:lnTo>
                      <a:pt x="1719" y="127"/>
                    </a:lnTo>
                    <a:lnTo>
                      <a:pt x="1767" y="161"/>
                    </a:lnTo>
                    <a:lnTo>
                      <a:pt x="1811" y="205"/>
                    </a:lnTo>
                    <a:lnTo>
                      <a:pt x="1851" y="248"/>
                    </a:lnTo>
                    <a:lnTo>
                      <a:pt x="1885" y="299"/>
                    </a:lnTo>
                    <a:lnTo>
                      <a:pt x="1919" y="350"/>
                    </a:lnTo>
                    <a:lnTo>
                      <a:pt x="1942" y="407"/>
                    </a:lnTo>
                    <a:lnTo>
                      <a:pt x="1965" y="463"/>
                    </a:lnTo>
                    <a:lnTo>
                      <a:pt x="1981" y="525"/>
                    </a:lnTo>
                    <a:lnTo>
                      <a:pt x="1988" y="590"/>
                    </a:lnTo>
                    <a:lnTo>
                      <a:pt x="1991" y="656"/>
                    </a:lnTo>
                    <a:lnTo>
                      <a:pt x="1999" y="656"/>
                    </a:lnTo>
                    <a:lnTo>
                      <a:pt x="2007" y="656"/>
                    </a:lnTo>
                    <a:lnTo>
                      <a:pt x="2007" y="620"/>
                    </a:lnTo>
                    <a:lnTo>
                      <a:pt x="2005" y="588"/>
                    </a:lnTo>
                    <a:lnTo>
                      <a:pt x="1997" y="523"/>
                    </a:lnTo>
                    <a:lnTo>
                      <a:pt x="1981" y="461"/>
                    </a:lnTo>
                    <a:lnTo>
                      <a:pt x="1959" y="399"/>
                    </a:lnTo>
                    <a:lnTo>
                      <a:pt x="1931" y="343"/>
                    </a:lnTo>
                    <a:lnTo>
                      <a:pt x="1899" y="288"/>
                    </a:lnTo>
                    <a:lnTo>
                      <a:pt x="1864" y="240"/>
                    </a:lnTo>
                    <a:lnTo>
                      <a:pt x="1824" y="191"/>
                    </a:lnTo>
                    <a:lnTo>
                      <a:pt x="1778" y="150"/>
                    </a:lnTo>
                    <a:lnTo>
                      <a:pt x="1730" y="113"/>
                    </a:lnTo>
                    <a:lnTo>
                      <a:pt x="1675" y="81"/>
                    </a:lnTo>
                    <a:lnTo>
                      <a:pt x="1622" y="53"/>
                    </a:lnTo>
                    <a:lnTo>
                      <a:pt x="1562" y="30"/>
                    </a:lnTo>
                    <a:lnTo>
                      <a:pt x="1532" y="21"/>
                    </a:lnTo>
                    <a:lnTo>
                      <a:pt x="1500" y="13"/>
                    </a:lnTo>
                    <a:lnTo>
                      <a:pt x="1470" y="7"/>
                    </a:lnTo>
                    <a:lnTo>
                      <a:pt x="1438" y="5"/>
                    </a:lnTo>
                    <a:lnTo>
                      <a:pt x="1406" y="2"/>
                    </a:lnTo>
                    <a:lnTo>
                      <a:pt x="1373" y="0"/>
                    </a:lnTo>
                    <a:lnTo>
                      <a:pt x="637" y="0"/>
                    </a:lnTo>
                    <a:lnTo>
                      <a:pt x="601" y="2"/>
                    </a:lnTo>
                    <a:lnTo>
                      <a:pt x="571" y="5"/>
                    </a:lnTo>
                    <a:lnTo>
                      <a:pt x="539" y="7"/>
                    </a:lnTo>
                    <a:lnTo>
                      <a:pt x="507" y="13"/>
                    </a:lnTo>
                    <a:lnTo>
                      <a:pt x="477" y="21"/>
                    </a:lnTo>
                    <a:lnTo>
                      <a:pt x="447" y="30"/>
                    </a:lnTo>
                    <a:lnTo>
                      <a:pt x="388" y="53"/>
                    </a:lnTo>
                    <a:lnTo>
                      <a:pt x="331" y="81"/>
                    </a:lnTo>
                    <a:lnTo>
                      <a:pt x="280" y="113"/>
                    </a:lnTo>
                    <a:lnTo>
                      <a:pt x="232" y="150"/>
                    </a:lnTo>
                    <a:lnTo>
                      <a:pt x="186" y="191"/>
                    </a:lnTo>
                    <a:lnTo>
                      <a:pt x="145" y="240"/>
                    </a:lnTo>
                    <a:lnTo>
                      <a:pt x="108" y="288"/>
                    </a:lnTo>
                    <a:lnTo>
                      <a:pt x="78" y="343"/>
                    </a:lnTo>
                    <a:lnTo>
                      <a:pt x="51" y="399"/>
                    </a:lnTo>
                    <a:lnTo>
                      <a:pt x="29" y="461"/>
                    </a:lnTo>
                    <a:lnTo>
                      <a:pt x="13" y="523"/>
                    </a:lnTo>
                    <a:lnTo>
                      <a:pt x="2" y="588"/>
                    </a:lnTo>
                    <a:lnTo>
                      <a:pt x="2" y="620"/>
                    </a:lnTo>
                    <a:lnTo>
                      <a:pt x="0" y="656"/>
                    </a:lnTo>
                    <a:lnTo>
                      <a:pt x="2" y="688"/>
                    </a:lnTo>
                    <a:lnTo>
                      <a:pt x="2" y="723"/>
                    </a:lnTo>
                    <a:lnTo>
                      <a:pt x="13" y="787"/>
                    </a:lnTo>
                    <a:lnTo>
                      <a:pt x="29" y="850"/>
                    </a:lnTo>
                    <a:lnTo>
                      <a:pt x="51" y="909"/>
                    </a:lnTo>
                    <a:lnTo>
                      <a:pt x="78" y="965"/>
                    </a:lnTo>
                    <a:lnTo>
                      <a:pt x="108" y="1020"/>
                    </a:lnTo>
                    <a:lnTo>
                      <a:pt x="145" y="1071"/>
                    </a:lnTo>
                    <a:lnTo>
                      <a:pt x="186" y="1117"/>
                    </a:lnTo>
                    <a:lnTo>
                      <a:pt x="232" y="1160"/>
                    </a:lnTo>
                    <a:lnTo>
                      <a:pt x="280" y="1197"/>
                    </a:lnTo>
                    <a:lnTo>
                      <a:pt x="331" y="1230"/>
                    </a:lnTo>
                    <a:lnTo>
                      <a:pt x="388" y="1257"/>
                    </a:lnTo>
                    <a:lnTo>
                      <a:pt x="447" y="1278"/>
                    </a:lnTo>
                    <a:lnTo>
                      <a:pt x="477" y="1287"/>
                    </a:lnTo>
                    <a:lnTo>
                      <a:pt x="507" y="1294"/>
                    </a:lnTo>
                    <a:lnTo>
                      <a:pt x="539" y="1299"/>
                    </a:lnTo>
                    <a:lnTo>
                      <a:pt x="571" y="1306"/>
                    </a:lnTo>
                    <a:lnTo>
                      <a:pt x="601" y="1308"/>
                    </a:lnTo>
                    <a:lnTo>
                      <a:pt x="637" y="1308"/>
                    </a:lnTo>
                    <a:lnTo>
                      <a:pt x="1373" y="1308"/>
                    </a:lnTo>
                    <a:lnTo>
                      <a:pt x="1406" y="1308"/>
                    </a:lnTo>
                    <a:lnTo>
                      <a:pt x="1438" y="1306"/>
                    </a:lnTo>
                    <a:lnTo>
                      <a:pt x="1470" y="1299"/>
                    </a:lnTo>
                    <a:lnTo>
                      <a:pt x="1500" y="1294"/>
                    </a:lnTo>
                    <a:lnTo>
                      <a:pt x="1532" y="1287"/>
                    </a:lnTo>
                    <a:lnTo>
                      <a:pt x="1562" y="1278"/>
                    </a:lnTo>
                    <a:lnTo>
                      <a:pt x="1622" y="1257"/>
                    </a:lnTo>
                    <a:lnTo>
                      <a:pt x="1675" y="1230"/>
                    </a:lnTo>
                    <a:lnTo>
                      <a:pt x="1730" y="1197"/>
                    </a:lnTo>
                    <a:lnTo>
                      <a:pt x="1778" y="1160"/>
                    </a:lnTo>
                    <a:lnTo>
                      <a:pt x="1824" y="1117"/>
                    </a:lnTo>
                    <a:lnTo>
                      <a:pt x="1864" y="1071"/>
                    </a:lnTo>
                    <a:lnTo>
                      <a:pt x="1899" y="1020"/>
                    </a:lnTo>
                    <a:lnTo>
                      <a:pt x="1931" y="965"/>
                    </a:lnTo>
                    <a:lnTo>
                      <a:pt x="1959" y="909"/>
                    </a:lnTo>
                    <a:lnTo>
                      <a:pt x="1981" y="850"/>
                    </a:lnTo>
                    <a:lnTo>
                      <a:pt x="1997" y="787"/>
                    </a:lnTo>
                    <a:lnTo>
                      <a:pt x="2005" y="723"/>
                    </a:lnTo>
                    <a:lnTo>
                      <a:pt x="2007" y="688"/>
                    </a:lnTo>
                    <a:lnTo>
                      <a:pt x="2007" y="656"/>
                    </a:lnTo>
                    <a:lnTo>
                      <a:pt x="1999" y="656"/>
                    </a:lnTo>
                    <a:close/>
                  </a:path>
                </a:pathLst>
              </a:custGeom>
              <a:solidFill>
                <a:srgbClr val="773f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1892160" y="3433680"/>
                <a:ext cx="90720" cy="155520"/>
              </a:xfrm>
              <a:custGeom>
                <a:avLst/>
                <a:gdLst/>
                <a:ahLst/>
                <a:rect l="l" t="t" r="r" b="b"/>
                <a:pathLst>
                  <a:path w="561" h="1022">
                    <a:moveTo>
                      <a:pt x="129" y="0"/>
                    </a:moveTo>
                    <a:lnTo>
                      <a:pt x="99" y="40"/>
                    </a:lnTo>
                    <a:lnTo>
                      <a:pt x="76" y="83"/>
                    </a:lnTo>
                    <a:lnTo>
                      <a:pt x="53" y="132"/>
                    </a:lnTo>
                    <a:lnTo>
                      <a:pt x="35" y="178"/>
                    </a:lnTo>
                    <a:lnTo>
                      <a:pt x="18" y="229"/>
                    </a:lnTo>
                    <a:lnTo>
                      <a:pt x="7" y="281"/>
                    </a:lnTo>
                    <a:lnTo>
                      <a:pt x="2" y="334"/>
                    </a:lnTo>
                    <a:lnTo>
                      <a:pt x="0" y="389"/>
                    </a:lnTo>
                    <a:lnTo>
                      <a:pt x="2" y="453"/>
                    </a:lnTo>
                    <a:lnTo>
                      <a:pt x="13" y="515"/>
                    </a:lnTo>
                    <a:lnTo>
                      <a:pt x="30" y="578"/>
                    </a:lnTo>
                    <a:lnTo>
                      <a:pt x="48" y="636"/>
                    </a:lnTo>
                    <a:lnTo>
                      <a:pt x="76" y="691"/>
                    </a:lnTo>
                    <a:lnTo>
                      <a:pt x="105" y="744"/>
                    </a:lnTo>
                    <a:lnTo>
                      <a:pt x="143" y="793"/>
                    </a:lnTo>
                    <a:lnTo>
                      <a:pt x="180" y="839"/>
                    </a:lnTo>
                    <a:lnTo>
                      <a:pt x="221" y="873"/>
                    </a:lnTo>
                    <a:lnTo>
                      <a:pt x="262" y="909"/>
                    </a:lnTo>
                    <a:lnTo>
                      <a:pt x="308" y="938"/>
                    </a:lnTo>
                    <a:lnTo>
                      <a:pt x="353" y="963"/>
                    </a:lnTo>
                    <a:lnTo>
                      <a:pt x="402" y="984"/>
                    </a:lnTo>
                    <a:lnTo>
                      <a:pt x="453" y="1000"/>
                    </a:lnTo>
                    <a:lnTo>
                      <a:pt x="507" y="1014"/>
                    </a:lnTo>
                    <a:lnTo>
                      <a:pt x="561" y="1022"/>
                    </a:lnTo>
                    <a:lnTo>
                      <a:pt x="513" y="1009"/>
                    </a:lnTo>
                    <a:lnTo>
                      <a:pt x="469" y="990"/>
                    </a:lnTo>
                    <a:lnTo>
                      <a:pt x="426" y="968"/>
                    </a:lnTo>
                    <a:lnTo>
                      <a:pt x="383" y="944"/>
                    </a:lnTo>
                    <a:lnTo>
                      <a:pt x="345" y="914"/>
                    </a:lnTo>
                    <a:lnTo>
                      <a:pt x="308" y="885"/>
                    </a:lnTo>
                    <a:lnTo>
                      <a:pt x="274" y="850"/>
                    </a:lnTo>
                    <a:lnTo>
                      <a:pt x="242" y="815"/>
                    </a:lnTo>
                    <a:lnTo>
                      <a:pt x="216" y="774"/>
                    </a:lnTo>
                    <a:lnTo>
                      <a:pt x="191" y="733"/>
                    </a:lnTo>
                    <a:lnTo>
                      <a:pt x="170" y="691"/>
                    </a:lnTo>
                    <a:lnTo>
                      <a:pt x="150" y="645"/>
                    </a:lnTo>
                    <a:lnTo>
                      <a:pt x="138" y="599"/>
                    </a:lnTo>
                    <a:lnTo>
                      <a:pt x="127" y="550"/>
                    </a:lnTo>
                    <a:lnTo>
                      <a:pt x="118" y="499"/>
                    </a:lnTo>
                    <a:lnTo>
                      <a:pt x="118" y="447"/>
                    </a:lnTo>
                    <a:lnTo>
                      <a:pt x="118" y="396"/>
                    </a:lnTo>
                    <a:lnTo>
                      <a:pt x="127" y="348"/>
                    </a:lnTo>
                    <a:lnTo>
                      <a:pt x="134" y="299"/>
                    </a:lnTo>
                    <a:lnTo>
                      <a:pt x="150" y="253"/>
                    </a:lnTo>
                    <a:lnTo>
                      <a:pt x="167" y="210"/>
                    </a:lnTo>
                    <a:lnTo>
                      <a:pt x="189" y="168"/>
                    </a:lnTo>
                    <a:lnTo>
                      <a:pt x="212" y="127"/>
                    </a:lnTo>
                    <a:lnTo>
                      <a:pt x="240" y="86"/>
                    </a:lnTo>
                    <a:lnTo>
                      <a:pt x="184" y="46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b4ca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1890720" y="3432240"/>
                <a:ext cx="100080" cy="158760"/>
              </a:xfrm>
              <a:custGeom>
                <a:avLst/>
                <a:gdLst/>
                <a:ahLst/>
                <a:rect l="l" t="t" r="r" b="b"/>
                <a:pathLst>
                  <a:path w="621" h="1041">
                    <a:moveTo>
                      <a:pt x="133" y="0"/>
                    </a:moveTo>
                    <a:lnTo>
                      <a:pt x="103" y="44"/>
                    </a:lnTo>
                    <a:lnTo>
                      <a:pt x="79" y="90"/>
                    </a:lnTo>
                    <a:lnTo>
                      <a:pt x="55" y="136"/>
                    </a:lnTo>
                    <a:lnTo>
                      <a:pt x="36" y="184"/>
                    </a:lnTo>
                    <a:lnTo>
                      <a:pt x="22" y="235"/>
                    </a:lnTo>
                    <a:lnTo>
                      <a:pt x="11" y="287"/>
                    </a:lnTo>
                    <a:lnTo>
                      <a:pt x="3" y="341"/>
                    </a:lnTo>
                    <a:lnTo>
                      <a:pt x="0" y="398"/>
                    </a:lnTo>
                    <a:lnTo>
                      <a:pt x="3" y="462"/>
                    </a:lnTo>
                    <a:lnTo>
                      <a:pt x="14" y="527"/>
                    </a:lnTo>
                    <a:lnTo>
                      <a:pt x="30" y="587"/>
                    </a:lnTo>
                    <a:lnTo>
                      <a:pt x="49" y="645"/>
                    </a:lnTo>
                    <a:lnTo>
                      <a:pt x="76" y="702"/>
                    </a:lnTo>
                    <a:lnTo>
                      <a:pt x="106" y="756"/>
                    </a:lnTo>
                    <a:lnTo>
                      <a:pt x="143" y="804"/>
                    </a:lnTo>
                    <a:lnTo>
                      <a:pt x="181" y="850"/>
                    </a:lnTo>
                    <a:lnTo>
                      <a:pt x="227" y="891"/>
                    </a:lnTo>
                    <a:lnTo>
                      <a:pt x="273" y="928"/>
                    </a:lnTo>
                    <a:lnTo>
                      <a:pt x="324" y="961"/>
                    </a:lnTo>
                    <a:lnTo>
                      <a:pt x="378" y="988"/>
                    </a:lnTo>
                    <a:lnTo>
                      <a:pt x="435" y="1013"/>
                    </a:lnTo>
                    <a:lnTo>
                      <a:pt x="497" y="1029"/>
                    </a:lnTo>
                    <a:lnTo>
                      <a:pt x="557" y="1039"/>
                    </a:lnTo>
                    <a:lnTo>
                      <a:pt x="589" y="1041"/>
                    </a:lnTo>
                    <a:lnTo>
                      <a:pt x="621" y="1041"/>
                    </a:lnTo>
                    <a:lnTo>
                      <a:pt x="570" y="1031"/>
                    </a:lnTo>
                    <a:lnTo>
                      <a:pt x="516" y="1023"/>
                    </a:lnTo>
                    <a:lnTo>
                      <a:pt x="462" y="1009"/>
                    </a:lnTo>
                    <a:lnTo>
                      <a:pt x="411" y="993"/>
                    </a:lnTo>
                    <a:lnTo>
                      <a:pt x="362" y="972"/>
                    </a:lnTo>
                    <a:lnTo>
                      <a:pt x="317" y="947"/>
                    </a:lnTo>
                    <a:lnTo>
                      <a:pt x="271" y="918"/>
                    </a:lnTo>
                    <a:lnTo>
                      <a:pt x="230" y="882"/>
                    </a:lnTo>
                    <a:lnTo>
                      <a:pt x="189" y="848"/>
                    </a:lnTo>
                    <a:lnTo>
                      <a:pt x="152" y="802"/>
                    </a:lnTo>
                    <a:lnTo>
                      <a:pt x="114" y="753"/>
                    </a:lnTo>
                    <a:lnTo>
                      <a:pt x="85" y="700"/>
                    </a:lnTo>
                    <a:lnTo>
                      <a:pt x="57" y="645"/>
                    </a:lnTo>
                    <a:lnTo>
                      <a:pt x="39" y="587"/>
                    </a:lnTo>
                    <a:lnTo>
                      <a:pt x="22" y="524"/>
                    </a:lnTo>
                    <a:lnTo>
                      <a:pt x="11" y="462"/>
                    </a:lnTo>
                    <a:lnTo>
                      <a:pt x="9" y="398"/>
                    </a:lnTo>
                    <a:lnTo>
                      <a:pt x="11" y="343"/>
                    </a:lnTo>
                    <a:lnTo>
                      <a:pt x="16" y="290"/>
                    </a:lnTo>
                    <a:lnTo>
                      <a:pt x="27" y="238"/>
                    </a:lnTo>
                    <a:lnTo>
                      <a:pt x="44" y="187"/>
                    </a:lnTo>
                    <a:lnTo>
                      <a:pt x="62" y="141"/>
                    </a:lnTo>
                    <a:lnTo>
                      <a:pt x="85" y="92"/>
                    </a:lnTo>
                    <a:lnTo>
                      <a:pt x="108" y="49"/>
                    </a:lnTo>
                    <a:lnTo>
                      <a:pt x="138" y="9"/>
                    </a:lnTo>
                    <a:lnTo>
                      <a:pt x="136" y="6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653a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2197080" y="3449520"/>
                <a:ext cx="14400" cy="25560"/>
              </a:xfrm>
              <a:custGeom>
                <a:avLst/>
                <a:gdLst/>
                <a:ahLst/>
                <a:rect l="l" t="t" r="r" b="b"/>
                <a:pathLst>
                  <a:path w="80" h="173">
                    <a:moveTo>
                      <a:pt x="23" y="0"/>
                    </a:moveTo>
                    <a:lnTo>
                      <a:pt x="0" y="11"/>
                    </a:lnTo>
                    <a:lnTo>
                      <a:pt x="23" y="49"/>
                    </a:lnTo>
                    <a:lnTo>
                      <a:pt x="44" y="90"/>
                    </a:lnTo>
                    <a:lnTo>
                      <a:pt x="64" y="130"/>
                    </a:lnTo>
                    <a:lnTo>
                      <a:pt x="80" y="173"/>
                    </a:lnTo>
                    <a:lnTo>
                      <a:pt x="69" y="127"/>
                    </a:lnTo>
                    <a:lnTo>
                      <a:pt x="56" y="85"/>
                    </a:lnTo>
                    <a:lnTo>
                      <a:pt x="42" y="41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b4ca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2200320" y="3449520"/>
                <a:ext cx="12600" cy="36360"/>
              </a:xfrm>
              <a:custGeom>
                <a:avLst/>
                <a:gdLst/>
                <a:ahLst/>
                <a:rect l="l" t="t" r="r" b="b"/>
                <a:pathLst>
                  <a:path w="73" h="245">
                    <a:moveTo>
                      <a:pt x="5" y="0"/>
                    </a:moveTo>
                    <a:lnTo>
                      <a:pt x="0" y="5"/>
                    </a:lnTo>
                    <a:lnTo>
                      <a:pt x="19" y="46"/>
                    </a:lnTo>
                    <a:lnTo>
                      <a:pt x="33" y="90"/>
                    </a:lnTo>
                    <a:lnTo>
                      <a:pt x="46" y="132"/>
                    </a:lnTo>
                    <a:lnTo>
                      <a:pt x="57" y="178"/>
                    </a:lnTo>
                    <a:lnTo>
                      <a:pt x="65" y="210"/>
                    </a:lnTo>
                    <a:lnTo>
                      <a:pt x="73" y="245"/>
                    </a:lnTo>
                    <a:lnTo>
                      <a:pt x="71" y="213"/>
                    </a:lnTo>
                    <a:lnTo>
                      <a:pt x="65" y="181"/>
                    </a:lnTo>
                    <a:lnTo>
                      <a:pt x="51" y="119"/>
                    </a:lnTo>
                    <a:lnTo>
                      <a:pt x="30" y="6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53a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1911240" y="3413160"/>
                <a:ext cx="301680" cy="177840"/>
              </a:xfrm>
              <a:custGeom>
                <a:avLst/>
                <a:gdLst/>
                <a:ahLst/>
                <a:rect l="l" t="t" r="r" b="b"/>
                <a:pathLst>
                  <a:path w="1856" h="1170">
                    <a:moveTo>
                      <a:pt x="1856" y="585"/>
                    </a:moveTo>
                    <a:lnTo>
                      <a:pt x="1854" y="645"/>
                    </a:lnTo>
                    <a:lnTo>
                      <a:pt x="1845" y="704"/>
                    </a:lnTo>
                    <a:lnTo>
                      <a:pt x="1832" y="760"/>
                    </a:lnTo>
                    <a:lnTo>
                      <a:pt x="1811" y="815"/>
                    </a:lnTo>
                    <a:lnTo>
                      <a:pt x="1786" y="866"/>
                    </a:lnTo>
                    <a:lnTo>
                      <a:pt x="1756" y="912"/>
                    </a:lnTo>
                    <a:lnTo>
                      <a:pt x="1724" y="958"/>
                    </a:lnTo>
                    <a:lnTo>
                      <a:pt x="1686" y="1001"/>
                    </a:lnTo>
                    <a:lnTo>
                      <a:pt x="1645" y="1039"/>
                    </a:lnTo>
                    <a:lnTo>
                      <a:pt x="1600" y="1071"/>
                    </a:lnTo>
                    <a:lnTo>
                      <a:pt x="1551" y="1101"/>
                    </a:lnTo>
                    <a:lnTo>
                      <a:pt x="1500" y="1126"/>
                    </a:lnTo>
                    <a:lnTo>
                      <a:pt x="1447" y="1144"/>
                    </a:lnTo>
                    <a:lnTo>
                      <a:pt x="1389" y="1160"/>
                    </a:lnTo>
                    <a:lnTo>
                      <a:pt x="1332" y="1168"/>
                    </a:lnTo>
                    <a:lnTo>
                      <a:pt x="1273" y="1170"/>
                    </a:lnTo>
                    <a:lnTo>
                      <a:pt x="585" y="1170"/>
                    </a:lnTo>
                    <a:lnTo>
                      <a:pt x="523" y="1168"/>
                    </a:lnTo>
                    <a:lnTo>
                      <a:pt x="467" y="1160"/>
                    </a:lnTo>
                    <a:lnTo>
                      <a:pt x="410" y="1144"/>
                    </a:lnTo>
                    <a:lnTo>
                      <a:pt x="356" y="1126"/>
                    </a:lnTo>
                    <a:lnTo>
                      <a:pt x="304" y="1101"/>
                    </a:lnTo>
                    <a:lnTo>
                      <a:pt x="256" y="1071"/>
                    </a:lnTo>
                    <a:lnTo>
                      <a:pt x="213" y="1039"/>
                    </a:lnTo>
                    <a:lnTo>
                      <a:pt x="170" y="1001"/>
                    </a:lnTo>
                    <a:lnTo>
                      <a:pt x="131" y="958"/>
                    </a:lnTo>
                    <a:lnTo>
                      <a:pt x="99" y="912"/>
                    </a:lnTo>
                    <a:lnTo>
                      <a:pt x="69" y="866"/>
                    </a:lnTo>
                    <a:lnTo>
                      <a:pt x="45" y="815"/>
                    </a:lnTo>
                    <a:lnTo>
                      <a:pt x="23" y="760"/>
                    </a:lnTo>
                    <a:lnTo>
                      <a:pt x="11" y="704"/>
                    </a:lnTo>
                    <a:lnTo>
                      <a:pt x="2" y="645"/>
                    </a:lnTo>
                    <a:lnTo>
                      <a:pt x="0" y="585"/>
                    </a:lnTo>
                    <a:lnTo>
                      <a:pt x="2" y="527"/>
                    </a:lnTo>
                    <a:lnTo>
                      <a:pt x="11" y="470"/>
                    </a:lnTo>
                    <a:lnTo>
                      <a:pt x="23" y="413"/>
                    </a:lnTo>
                    <a:lnTo>
                      <a:pt x="45" y="359"/>
                    </a:lnTo>
                    <a:lnTo>
                      <a:pt x="69" y="308"/>
                    </a:lnTo>
                    <a:lnTo>
                      <a:pt x="99" y="260"/>
                    </a:lnTo>
                    <a:lnTo>
                      <a:pt x="131" y="214"/>
                    </a:lnTo>
                    <a:lnTo>
                      <a:pt x="170" y="173"/>
                    </a:lnTo>
                    <a:lnTo>
                      <a:pt x="213" y="135"/>
                    </a:lnTo>
                    <a:lnTo>
                      <a:pt x="256" y="101"/>
                    </a:lnTo>
                    <a:lnTo>
                      <a:pt x="304" y="73"/>
                    </a:lnTo>
                    <a:lnTo>
                      <a:pt x="356" y="46"/>
                    </a:lnTo>
                    <a:lnTo>
                      <a:pt x="410" y="27"/>
                    </a:lnTo>
                    <a:lnTo>
                      <a:pt x="467" y="14"/>
                    </a:lnTo>
                    <a:lnTo>
                      <a:pt x="523" y="5"/>
                    </a:lnTo>
                    <a:lnTo>
                      <a:pt x="585" y="0"/>
                    </a:lnTo>
                    <a:lnTo>
                      <a:pt x="1273" y="0"/>
                    </a:lnTo>
                    <a:lnTo>
                      <a:pt x="1332" y="5"/>
                    </a:lnTo>
                    <a:lnTo>
                      <a:pt x="1389" y="14"/>
                    </a:lnTo>
                    <a:lnTo>
                      <a:pt x="1447" y="27"/>
                    </a:lnTo>
                    <a:lnTo>
                      <a:pt x="1500" y="46"/>
                    </a:lnTo>
                    <a:lnTo>
                      <a:pt x="1551" y="73"/>
                    </a:lnTo>
                    <a:lnTo>
                      <a:pt x="1600" y="101"/>
                    </a:lnTo>
                    <a:lnTo>
                      <a:pt x="1645" y="135"/>
                    </a:lnTo>
                    <a:lnTo>
                      <a:pt x="1686" y="173"/>
                    </a:lnTo>
                    <a:lnTo>
                      <a:pt x="1724" y="214"/>
                    </a:lnTo>
                    <a:lnTo>
                      <a:pt x="1756" y="260"/>
                    </a:lnTo>
                    <a:lnTo>
                      <a:pt x="1786" y="308"/>
                    </a:lnTo>
                    <a:lnTo>
                      <a:pt x="1811" y="359"/>
                    </a:lnTo>
                    <a:lnTo>
                      <a:pt x="1832" y="413"/>
                    </a:lnTo>
                    <a:lnTo>
                      <a:pt x="1845" y="470"/>
                    </a:lnTo>
                    <a:lnTo>
                      <a:pt x="1854" y="527"/>
                    </a:lnTo>
                    <a:lnTo>
                      <a:pt x="1856" y="585"/>
                    </a:lnTo>
                    <a:close/>
                  </a:path>
                </a:pathLst>
              </a:custGeom>
              <a:solidFill>
                <a:srgbClr val="9cbe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1911240" y="3411360"/>
                <a:ext cx="303120" cy="181080"/>
              </a:xfrm>
              <a:custGeom>
                <a:avLst/>
                <a:gdLst/>
                <a:ahLst/>
                <a:rect l="l" t="t" r="r" b="b"/>
                <a:pathLst>
                  <a:path w="1873" h="1186">
                    <a:moveTo>
                      <a:pt x="1865" y="592"/>
                    </a:moveTo>
                    <a:lnTo>
                      <a:pt x="1857" y="592"/>
                    </a:lnTo>
                    <a:lnTo>
                      <a:pt x="1854" y="652"/>
                    </a:lnTo>
                    <a:lnTo>
                      <a:pt x="1847" y="709"/>
                    </a:lnTo>
                    <a:lnTo>
                      <a:pt x="1833" y="765"/>
                    </a:lnTo>
                    <a:lnTo>
                      <a:pt x="1813" y="817"/>
                    </a:lnTo>
                    <a:lnTo>
                      <a:pt x="1790" y="868"/>
                    </a:lnTo>
                    <a:lnTo>
                      <a:pt x="1760" y="916"/>
                    </a:lnTo>
                    <a:lnTo>
                      <a:pt x="1728" y="960"/>
                    </a:lnTo>
                    <a:lnTo>
                      <a:pt x="1690" y="1000"/>
                    </a:lnTo>
                    <a:lnTo>
                      <a:pt x="1649" y="1038"/>
                    </a:lnTo>
                    <a:lnTo>
                      <a:pt x="1603" y="1073"/>
                    </a:lnTo>
                    <a:lnTo>
                      <a:pt x="1558" y="1100"/>
                    </a:lnTo>
                    <a:lnTo>
                      <a:pt x="1507" y="1124"/>
                    </a:lnTo>
                    <a:lnTo>
                      <a:pt x="1452" y="1143"/>
                    </a:lnTo>
                    <a:lnTo>
                      <a:pt x="1398" y="1159"/>
                    </a:lnTo>
                    <a:lnTo>
                      <a:pt x="1339" y="1167"/>
                    </a:lnTo>
                    <a:lnTo>
                      <a:pt x="1282" y="1170"/>
                    </a:lnTo>
                    <a:lnTo>
                      <a:pt x="594" y="1170"/>
                    </a:lnTo>
                    <a:lnTo>
                      <a:pt x="535" y="1167"/>
                    </a:lnTo>
                    <a:lnTo>
                      <a:pt x="476" y="1159"/>
                    </a:lnTo>
                    <a:lnTo>
                      <a:pt x="421" y="1143"/>
                    </a:lnTo>
                    <a:lnTo>
                      <a:pt x="368" y="1124"/>
                    </a:lnTo>
                    <a:lnTo>
                      <a:pt x="319" y="1100"/>
                    </a:lnTo>
                    <a:lnTo>
                      <a:pt x="271" y="1073"/>
                    </a:lnTo>
                    <a:lnTo>
                      <a:pt x="225" y="1038"/>
                    </a:lnTo>
                    <a:lnTo>
                      <a:pt x="184" y="1000"/>
                    </a:lnTo>
                    <a:lnTo>
                      <a:pt x="149" y="960"/>
                    </a:lnTo>
                    <a:lnTo>
                      <a:pt x="114" y="916"/>
                    </a:lnTo>
                    <a:lnTo>
                      <a:pt x="84" y="868"/>
                    </a:lnTo>
                    <a:lnTo>
                      <a:pt x="60" y="817"/>
                    </a:lnTo>
                    <a:lnTo>
                      <a:pt x="41" y="765"/>
                    </a:lnTo>
                    <a:lnTo>
                      <a:pt x="27" y="709"/>
                    </a:lnTo>
                    <a:lnTo>
                      <a:pt x="20" y="652"/>
                    </a:lnTo>
                    <a:lnTo>
                      <a:pt x="16" y="592"/>
                    </a:lnTo>
                    <a:lnTo>
                      <a:pt x="20" y="534"/>
                    </a:lnTo>
                    <a:lnTo>
                      <a:pt x="27" y="477"/>
                    </a:lnTo>
                    <a:lnTo>
                      <a:pt x="41" y="423"/>
                    </a:lnTo>
                    <a:lnTo>
                      <a:pt x="60" y="369"/>
                    </a:lnTo>
                    <a:lnTo>
                      <a:pt x="84" y="318"/>
                    </a:lnTo>
                    <a:lnTo>
                      <a:pt x="114" y="272"/>
                    </a:lnTo>
                    <a:lnTo>
                      <a:pt x="149" y="226"/>
                    </a:lnTo>
                    <a:lnTo>
                      <a:pt x="184" y="185"/>
                    </a:lnTo>
                    <a:lnTo>
                      <a:pt x="225" y="147"/>
                    </a:lnTo>
                    <a:lnTo>
                      <a:pt x="271" y="115"/>
                    </a:lnTo>
                    <a:lnTo>
                      <a:pt x="319" y="85"/>
                    </a:lnTo>
                    <a:lnTo>
                      <a:pt x="368" y="62"/>
                    </a:lnTo>
                    <a:lnTo>
                      <a:pt x="421" y="42"/>
                    </a:lnTo>
                    <a:lnTo>
                      <a:pt x="476" y="28"/>
                    </a:lnTo>
                    <a:lnTo>
                      <a:pt x="535" y="21"/>
                    </a:lnTo>
                    <a:lnTo>
                      <a:pt x="594" y="16"/>
                    </a:lnTo>
                    <a:lnTo>
                      <a:pt x="1282" y="16"/>
                    </a:lnTo>
                    <a:lnTo>
                      <a:pt x="1339" y="21"/>
                    </a:lnTo>
                    <a:lnTo>
                      <a:pt x="1398" y="28"/>
                    </a:lnTo>
                    <a:lnTo>
                      <a:pt x="1452" y="42"/>
                    </a:lnTo>
                    <a:lnTo>
                      <a:pt x="1507" y="62"/>
                    </a:lnTo>
                    <a:lnTo>
                      <a:pt x="1558" y="85"/>
                    </a:lnTo>
                    <a:lnTo>
                      <a:pt x="1603" y="115"/>
                    </a:lnTo>
                    <a:lnTo>
                      <a:pt x="1649" y="147"/>
                    </a:lnTo>
                    <a:lnTo>
                      <a:pt x="1690" y="185"/>
                    </a:lnTo>
                    <a:lnTo>
                      <a:pt x="1728" y="226"/>
                    </a:lnTo>
                    <a:lnTo>
                      <a:pt x="1760" y="272"/>
                    </a:lnTo>
                    <a:lnTo>
                      <a:pt x="1790" y="318"/>
                    </a:lnTo>
                    <a:lnTo>
                      <a:pt x="1813" y="369"/>
                    </a:lnTo>
                    <a:lnTo>
                      <a:pt x="1833" y="423"/>
                    </a:lnTo>
                    <a:lnTo>
                      <a:pt x="1847" y="477"/>
                    </a:lnTo>
                    <a:lnTo>
                      <a:pt x="1854" y="534"/>
                    </a:lnTo>
                    <a:lnTo>
                      <a:pt x="1857" y="592"/>
                    </a:lnTo>
                    <a:lnTo>
                      <a:pt x="1865" y="592"/>
                    </a:lnTo>
                    <a:lnTo>
                      <a:pt x="1873" y="592"/>
                    </a:lnTo>
                    <a:lnTo>
                      <a:pt x="1871" y="534"/>
                    </a:lnTo>
                    <a:lnTo>
                      <a:pt x="1863" y="474"/>
                    </a:lnTo>
                    <a:lnTo>
                      <a:pt x="1849" y="417"/>
                    </a:lnTo>
                    <a:lnTo>
                      <a:pt x="1827" y="364"/>
                    </a:lnTo>
                    <a:lnTo>
                      <a:pt x="1803" y="309"/>
                    </a:lnTo>
                    <a:lnTo>
                      <a:pt x="1774" y="261"/>
                    </a:lnTo>
                    <a:lnTo>
                      <a:pt x="1739" y="215"/>
                    </a:lnTo>
                    <a:lnTo>
                      <a:pt x="1700" y="175"/>
                    </a:lnTo>
                    <a:lnTo>
                      <a:pt x="1657" y="136"/>
                    </a:lnTo>
                    <a:lnTo>
                      <a:pt x="1615" y="102"/>
                    </a:lnTo>
                    <a:lnTo>
                      <a:pt x="1563" y="72"/>
                    </a:lnTo>
                    <a:lnTo>
                      <a:pt x="1512" y="48"/>
                    </a:lnTo>
                    <a:lnTo>
                      <a:pt x="1458" y="26"/>
                    </a:lnTo>
                    <a:lnTo>
                      <a:pt x="1401" y="12"/>
                    </a:lnTo>
                    <a:lnTo>
                      <a:pt x="1341" y="5"/>
                    </a:lnTo>
                    <a:lnTo>
                      <a:pt x="1282" y="0"/>
                    </a:lnTo>
                    <a:lnTo>
                      <a:pt x="594" y="0"/>
                    </a:lnTo>
                    <a:lnTo>
                      <a:pt x="532" y="5"/>
                    </a:lnTo>
                    <a:lnTo>
                      <a:pt x="473" y="12"/>
                    </a:lnTo>
                    <a:lnTo>
                      <a:pt x="416" y="26"/>
                    </a:lnTo>
                    <a:lnTo>
                      <a:pt x="362" y="48"/>
                    </a:lnTo>
                    <a:lnTo>
                      <a:pt x="310" y="72"/>
                    </a:lnTo>
                    <a:lnTo>
                      <a:pt x="262" y="102"/>
                    </a:lnTo>
                    <a:lnTo>
                      <a:pt x="216" y="136"/>
                    </a:lnTo>
                    <a:lnTo>
                      <a:pt x="174" y="175"/>
                    </a:lnTo>
                    <a:lnTo>
                      <a:pt x="135" y="215"/>
                    </a:lnTo>
                    <a:lnTo>
                      <a:pt x="100" y="261"/>
                    </a:lnTo>
                    <a:lnTo>
                      <a:pt x="71" y="309"/>
                    </a:lnTo>
                    <a:lnTo>
                      <a:pt x="46" y="364"/>
                    </a:lnTo>
                    <a:lnTo>
                      <a:pt x="27" y="417"/>
                    </a:lnTo>
                    <a:lnTo>
                      <a:pt x="11" y="474"/>
                    </a:lnTo>
                    <a:lnTo>
                      <a:pt x="4" y="534"/>
                    </a:lnTo>
                    <a:lnTo>
                      <a:pt x="0" y="592"/>
                    </a:lnTo>
                    <a:lnTo>
                      <a:pt x="4" y="654"/>
                    </a:lnTo>
                    <a:lnTo>
                      <a:pt x="11" y="714"/>
                    </a:lnTo>
                    <a:lnTo>
                      <a:pt x="27" y="771"/>
                    </a:lnTo>
                    <a:lnTo>
                      <a:pt x="46" y="825"/>
                    </a:lnTo>
                    <a:lnTo>
                      <a:pt x="71" y="876"/>
                    </a:lnTo>
                    <a:lnTo>
                      <a:pt x="100" y="924"/>
                    </a:lnTo>
                    <a:lnTo>
                      <a:pt x="135" y="970"/>
                    </a:lnTo>
                    <a:lnTo>
                      <a:pt x="174" y="1013"/>
                    </a:lnTo>
                    <a:lnTo>
                      <a:pt x="216" y="1051"/>
                    </a:lnTo>
                    <a:lnTo>
                      <a:pt x="262" y="1087"/>
                    </a:lnTo>
                    <a:lnTo>
                      <a:pt x="310" y="1116"/>
                    </a:lnTo>
                    <a:lnTo>
                      <a:pt x="362" y="1140"/>
                    </a:lnTo>
                    <a:lnTo>
                      <a:pt x="416" y="1159"/>
                    </a:lnTo>
                    <a:lnTo>
                      <a:pt x="473" y="1175"/>
                    </a:lnTo>
                    <a:lnTo>
                      <a:pt x="532" y="1184"/>
                    </a:lnTo>
                    <a:lnTo>
                      <a:pt x="594" y="1186"/>
                    </a:lnTo>
                    <a:lnTo>
                      <a:pt x="1282" y="1186"/>
                    </a:lnTo>
                    <a:lnTo>
                      <a:pt x="1341" y="1184"/>
                    </a:lnTo>
                    <a:lnTo>
                      <a:pt x="1401" y="1175"/>
                    </a:lnTo>
                    <a:lnTo>
                      <a:pt x="1458" y="1159"/>
                    </a:lnTo>
                    <a:lnTo>
                      <a:pt x="1512" y="1140"/>
                    </a:lnTo>
                    <a:lnTo>
                      <a:pt x="1563" y="1116"/>
                    </a:lnTo>
                    <a:lnTo>
                      <a:pt x="1615" y="1087"/>
                    </a:lnTo>
                    <a:lnTo>
                      <a:pt x="1657" y="1051"/>
                    </a:lnTo>
                    <a:lnTo>
                      <a:pt x="1700" y="1013"/>
                    </a:lnTo>
                    <a:lnTo>
                      <a:pt x="1739" y="970"/>
                    </a:lnTo>
                    <a:lnTo>
                      <a:pt x="1774" y="924"/>
                    </a:lnTo>
                    <a:lnTo>
                      <a:pt x="1803" y="876"/>
                    </a:lnTo>
                    <a:lnTo>
                      <a:pt x="1827" y="825"/>
                    </a:lnTo>
                    <a:lnTo>
                      <a:pt x="1849" y="771"/>
                    </a:lnTo>
                    <a:lnTo>
                      <a:pt x="1863" y="714"/>
                    </a:lnTo>
                    <a:lnTo>
                      <a:pt x="1871" y="654"/>
                    </a:lnTo>
                    <a:lnTo>
                      <a:pt x="1873" y="592"/>
                    </a:lnTo>
                    <a:lnTo>
                      <a:pt x="1865" y="592"/>
                    </a:lnTo>
                    <a:close/>
                  </a:path>
                </a:pathLst>
              </a:custGeom>
              <a:solidFill>
                <a:srgbClr val="773f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1914480" y="3417840"/>
                <a:ext cx="128520" cy="171360"/>
              </a:xfrm>
              <a:custGeom>
                <a:avLst/>
                <a:gdLst/>
                <a:ahLst/>
                <a:rect l="l" t="t" r="r" b="b"/>
                <a:pathLst>
                  <a:path w="807" h="1133">
                    <a:moveTo>
                      <a:pt x="722" y="0"/>
                    </a:moveTo>
                    <a:lnTo>
                      <a:pt x="710" y="550"/>
                    </a:lnTo>
                    <a:lnTo>
                      <a:pt x="648" y="497"/>
                    </a:lnTo>
                    <a:lnTo>
                      <a:pt x="589" y="442"/>
                    </a:lnTo>
                    <a:lnTo>
                      <a:pt x="533" y="383"/>
                    </a:lnTo>
                    <a:lnTo>
                      <a:pt x="481" y="324"/>
                    </a:lnTo>
                    <a:lnTo>
                      <a:pt x="430" y="258"/>
                    </a:lnTo>
                    <a:lnTo>
                      <a:pt x="381" y="194"/>
                    </a:lnTo>
                    <a:lnTo>
                      <a:pt x="335" y="127"/>
                    </a:lnTo>
                    <a:lnTo>
                      <a:pt x="292" y="53"/>
                    </a:lnTo>
                    <a:lnTo>
                      <a:pt x="260" y="76"/>
                    </a:lnTo>
                    <a:lnTo>
                      <a:pt x="227" y="97"/>
                    </a:lnTo>
                    <a:lnTo>
                      <a:pt x="198" y="122"/>
                    </a:lnTo>
                    <a:lnTo>
                      <a:pt x="168" y="148"/>
                    </a:lnTo>
                    <a:lnTo>
                      <a:pt x="133" y="189"/>
                    </a:lnTo>
                    <a:lnTo>
                      <a:pt x="98" y="235"/>
                    </a:lnTo>
                    <a:lnTo>
                      <a:pt x="68" y="281"/>
                    </a:lnTo>
                    <a:lnTo>
                      <a:pt x="44" y="332"/>
                    </a:lnTo>
                    <a:lnTo>
                      <a:pt x="25" y="386"/>
                    </a:lnTo>
                    <a:lnTo>
                      <a:pt x="11" y="440"/>
                    </a:lnTo>
                    <a:lnTo>
                      <a:pt x="4" y="497"/>
                    </a:lnTo>
                    <a:lnTo>
                      <a:pt x="0" y="555"/>
                    </a:lnTo>
                    <a:lnTo>
                      <a:pt x="4" y="615"/>
                    </a:lnTo>
                    <a:lnTo>
                      <a:pt x="11" y="672"/>
                    </a:lnTo>
                    <a:lnTo>
                      <a:pt x="25" y="728"/>
                    </a:lnTo>
                    <a:lnTo>
                      <a:pt x="44" y="780"/>
                    </a:lnTo>
                    <a:lnTo>
                      <a:pt x="68" y="831"/>
                    </a:lnTo>
                    <a:lnTo>
                      <a:pt x="98" y="879"/>
                    </a:lnTo>
                    <a:lnTo>
                      <a:pt x="133" y="923"/>
                    </a:lnTo>
                    <a:lnTo>
                      <a:pt x="168" y="963"/>
                    </a:lnTo>
                    <a:lnTo>
                      <a:pt x="209" y="1001"/>
                    </a:lnTo>
                    <a:lnTo>
                      <a:pt x="255" y="1036"/>
                    </a:lnTo>
                    <a:lnTo>
                      <a:pt x="303" y="1063"/>
                    </a:lnTo>
                    <a:lnTo>
                      <a:pt x="352" y="1087"/>
                    </a:lnTo>
                    <a:lnTo>
                      <a:pt x="405" y="1106"/>
                    </a:lnTo>
                    <a:lnTo>
                      <a:pt x="460" y="1122"/>
                    </a:lnTo>
                    <a:lnTo>
                      <a:pt x="519" y="1130"/>
                    </a:lnTo>
                    <a:lnTo>
                      <a:pt x="578" y="1133"/>
                    </a:lnTo>
                    <a:lnTo>
                      <a:pt x="692" y="1133"/>
                    </a:lnTo>
                    <a:lnTo>
                      <a:pt x="708" y="1108"/>
                    </a:lnTo>
                    <a:lnTo>
                      <a:pt x="722" y="1082"/>
                    </a:lnTo>
                    <a:lnTo>
                      <a:pt x="748" y="1025"/>
                    </a:lnTo>
                    <a:lnTo>
                      <a:pt x="768" y="965"/>
                    </a:lnTo>
                    <a:lnTo>
                      <a:pt x="784" y="901"/>
                    </a:lnTo>
                    <a:lnTo>
                      <a:pt x="794" y="836"/>
                    </a:lnTo>
                    <a:lnTo>
                      <a:pt x="802" y="769"/>
                    </a:lnTo>
                    <a:lnTo>
                      <a:pt x="807" y="702"/>
                    </a:lnTo>
                    <a:lnTo>
                      <a:pt x="807" y="631"/>
                    </a:lnTo>
                    <a:lnTo>
                      <a:pt x="807" y="555"/>
                    </a:lnTo>
                    <a:lnTo>
                      <a:pt x="802" y="483"/>
                    </a:lnTo>
                    <a:lnTo>
                      <a:pt x="796" y="407"/>
                    </a:lnTo>
                    <a:lnTo>
                      <a:pt x="786" y="334"/>
                    </a:lnTo>
                    <a:lnTo>
                      <a:pt x="778" y="264"/>
                    </a:lnTo>
                    <a:lnTo>
                      <a:pt x="768" y="202"/>
                    </a:lnTo>
                    <a:lnTo>
                      <a:pt x="745" y="92"/>
                    </a:lnTo>
                    <a:lnTo>
                      <a:pt x="727" y="14"/>
                    </a:lnTo>
                    <a:lnTo>
                      <a:pt x="722" y="0"/>
                    </a:lnTo>
                    <a:close/>
                  </a:path>
                </a:pathLst>
              </a:custGeom>
              <a:solidFill>
                <a:srgbClr val="608f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1911240" y="3425760"/>
                <a:ext cx="114480" cy="165240"/>
              </a:xfrm>
              <a:custGeom>
                <a:avLst/>
                <a:gdLst/>
                <a:ahLst/>
                <a:rect l="l" t="t" r="r" b="b"/>
                <a:pathLst>
                  <a:path w="699" h="1092">
                    <a:moveTo>
                      <a:pt x="296" y="0"/>
                    </a:moveTo>
                    <a:lnTo>
                      <a:pt x="264" y="19"/>
                    </a:lnTo>
                    <a:lnTo>
                      <a:pt x="232" y="41"/>
                    </a:lnTo>
                    <a:lnTo>
                      <a:pt x="202" y="65"/>
                    </a:lnTo>
                    <a:lnTo>
                      <a:pt x="175" y="90"/>
                    </a:lnTo>
                    <a:lnTo>
                      <a:pt x="147" y="120"/>
                    </a:lnTo>
                    <a:lnTo>
                      <a:pt x="124" y="146"/>
                    </a:lnTo>
                    <a:lnTo>
                      <a:pt x="103" y="178"/>
                    </a:lnTo>
                    <a:lnTo>
                      <a:pt x="80" y="210"/>
                    </a:lnTo>
                    <a:lnTo>
                      <a:pt x="62" y="244"/>
                    </a:lnTo>
                    <a:lnTo>
                      <a:pt x="45" y="279"/>
                    </a:lnTo>
                    <a:lnTo>
                      <a:pt x="32" y="313"/>
                    </a:lnTo>
                    <a:lnTo>
                      <a:pt x="21" y="351"/>
                    </a:lnTo>
                    <a:lnTo>
                      <a:pt x="11" y="389"/>
                    </a:lnTo>
                    <a:lnTo>
                      <a:pt x="5" y="426"/>
                    </a:lnTo>
                    <a:lnTo>
                      <a:pt x="0" y="467"/>
                    </a:lnTo>
                    <a:lnTo>
                      <a:pt x="0" y="507"/>
                    </a:lnTo>
                    <a:lnTo>
                      <a:pt x="2" y="567"/>
                    </a:lnTo>
                    <a:lnTo>
                      <a:pt x="11" y="626"/>
                    </a:lnTo>
                    <a:lnTo>
                      <a:pt x="23" y="682"/>
                    </a:lnTo>
                    <a:lnTo>
                      <a:pt x="45" y="737"/>
                    </a:lnTo>
                    <a:lnTo>
                      <a:pt x="69" y="788"/>
                    </a:lnTo>
                    <a:lnTo>
                      <a:pt x="99" y="834"/>
                    </a:lnTo>
                    <a:lnTo>
                      <a:pt x="131" y="880"/>
                    </a:lnTo>
                    <a:lnTo>
                      <a:pt x="170" y="923"/>
                    </a:lnTo>
                    <a:lnTo>
                      <a:pt x="213" y="961"/>
                    </a:lnTo>
                    <a:lnTo>
                      <a:pt x="256" y="993"/>
                    </a:lnTo>
                    <a:lnTo>
                      <a:pt x="304" y="1023"/>
                    </a:lnTo>
                    <a:lnTo>
                      <a:pt x="356" y="1048"/>
                    </a:lnTo>
                    <a:lnTo>
                      <a:pt x="410" y="1066"/>
                    </a:lnTo>
                    <a:lnTo>
                      <a:pt x="467" y="1082"/>
                    </a:lnTo>
                    <a:lnTo>
                      <a:pt x="523" y="1090"/>
                    </a:lnTo>
                    <a:lnTo>
                      <a:pt x="585" y="1092"/>
                    </a:lnTo>
                    <a:lnTo>
                      <a:pt x="695" y="1092"/>
                    </a:lnTo>
                    <a:lnTo>
                      <a:pt x="695" y="1087"/>
                    </a:lnTo>
                    <a:lnTo>
                      <a:pt x="699" y="1085"/>
                    </a:lnTo>
                    <a:lnTo>
                      <a:pt x="585" y="1085"/>
                    </a:lnTo>
                    <a:lnTo>
                      <a:pt x="526" y="1082"/>
                    </a:lnTo>
                    <a:lnTo>
                      <a:pt x="467" y="1074"/>
                    </a:lnTo>
                    <a:lnTo>
                      <a:pt x="412" y="1058"/>
                    </a:lnTo>
                    <a:lnTo>
                      <a:pt x="359" y="1039"/>
                    </a:lnTo>
                    <a:lnTo>
                      <a:pt x="310" y="1015"/>
                    </a:lnTo>
                    <a:lnTo>
                      <a:pt x="262" y="988"/>
                    </a:lnTo>
                    <a:lnTo>
                      <a:pt x="216" y="953"/>
                    </a:lnTo>
                    <a:lnTo>
                      <a:pt x="175" y="915"/>
                    </a:lnTo>
                    <a:lnTo>
                      <a:pt x="140" y="875"/>
                    </a:lnTo>
                    <a:lnTo>
                      <a:pt x="105" y="831"/>
                    </a:lnTo>
                    <a:lnTo>
                      <a:pt x="75" y="783"/>
                    </a:lnTo>
                    <a:lnTo>
                      <a:pt x="51" y="732"/>
                    </a:lnTo>
                    <a:lnTo>
                      <a:pt x="32" y="680"/>
                    </a:lnTo>
                    <a:lnTo>
                      <a:pt x="18" y="624"/>
                    </a:lnTo>
                    <a:lnTo>
                      <a:pt x="11" y="567"/>
                    </a:lnTo>
                    <a:lnTo>
                      <a:pt x="7" y="507"/>
                    </a:lnTo>
                    <a:lnTo>
                      <a:pt x="11" y="449"/>
                    </a:lnTo>
                    <a:lnTo>
                      <a:pt x="18" y="392"/>
                    </a:lnTo>
                    <a:lnTo>
                      <a:pt x="32" y="338"/>
                    </a:lnTo>
                    <a:lnTo>
                      <a:pt x="51" y="284"/>
                    </a:lnTo>
                    <a:lnTo>
                      <a:pt x="75" y="233"/>
                    </a:lnTo>
                    <a:lnTo>
                      <a:pt x="105" y="187"/>
                    </a:lnTo>
                    <a:lnTo>
                      <a:pt x="140" y="141"/>
                    </a:lnTo>
                    <a:lnTo>
                      <a:pt x="175" y="100"/>
                    </a:lnTo>
                    <a:lnTo>
                      <a:pt x="205" y="74"/>
                    </a:lnTo>
                    <a:lnTo>
                      <a:pt x="234" y="49"/>
                    </a:lnTo>
                    <a:lnTo>
                      <a:pt x="267" y="28"/>
                    </a:lnTo>
                    <a:lnTo>
                      <a:pt x="299" y="5"/>
                    </a:lnTo>
                    <a:lnTo>
                      <a:pt x="296" y="0"/>
                    </a:lnTo>
                    <a:close/>
                  </a:path>
                </a:pathLst>
              </a:custGeom>
              <a:solidFill>
                <a:srgbClr val="4d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2124000" y="3557520"/>
                <a:ext cx="50760" cy="31680"/>
              </a:xfrm>
              <a:custGeom>
                <a:avLst/>
                <a:gdLst/>
                <a:ahLst/>
                <a:rect l="l" t="t" r="r" b="b"/>
                <a:pathLst>
                  <a:path w="324" h="210">
                    <a:moveTo>
                      <a:pt x="57" y="0"/>
                    </a:moveTo>
                    <a:lnTo>
                      <a:pt x="41" y="72"/>
                    </a:lnTo>
                    <a:lnTo>
                      <a:pt x="24" y="132"/>
                    </a:lnTo>
                    <a:lnTo>
                      <a:pt x="0" y="210"/>
                    </a:lnTo>
                    <a:lnTo>
                      <a:pt x="46" y="205"/>
                    </a:lnTo>
                    <a:lnTo>
                      <a:pt x="89" y="196"/>
                    </a:lnTo>
                    <a:lnTo>
                      <a:pt x="132" y="185"/>
                    </a:lnTo>
                    <a:lnTo>
                      <a:pt x="172" y="173"/>
                    </a:lnTo>
                    <a:lnTo>
                      <a:pt x="213" y="156"/>
                    </a:lnTo>
                    <a:lnTo>
                      <a:pt x="251" y="137"/>
                    </a:lnTo>
                    <a:lnTo>
                      <a:pt x="289" y="113"/>
                    </a:lnTo>
                    <a:lnTo>
                      <a:pt x="324" y="88"/>
                    </a:lnTo>
                    <a:lnTo>
                      <a:pt x="257" y="67"/>
                    </a:lnTo>
                    <a:lnTo>
                      <a:pt x="188" y="46"/>
                    </a:lnTo>
                    <a:lnTo>
                      <a:pt x="121" y="24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608f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2124000" y="3570120"/>
                <a:ext cx="52560" cy="20880"/>
              </a:xfrm>
              <a:custGeom>
                <a:avLst/>
                <a:gdLst/>
                <a:ahLst/>
                <a:rect l="l" t="t" r="r" b="b"/>
                <a:pathLst>
                  <a:path w="335" h="129">
                    <a:moveTo>
                      <a:pt x="327" y="0"/>
                    </a:moveTo>
                    <a:lnTo>
                      <a:pt x="292" y="25"/>
                    </a:lnTo>
                    <a:lnTo>
                      <a:pt x="254" y="49"/>
                    </a:lnTo>
                    <a:lnTo>
                      <a:pt x="216" y="68"/>
                    </a:lnTo>
                    <a:lnTo>
                      <a:pt x="175" y="85"/>
                    </a:lnTo>
                    <a:lnTo>
                      <a:pt x="135" y="97"/>
                    </a:lnTo>
                    <a:lnTo>
                      <a:pt x="92" y="108"/>
                    </a:lnTo>
                    <a:lnTo>
                      <a:pt x="49" y="117"/>
                    </a:lnTo>
                    <a:lnTo>
                      <a:pt x="3" y="122"/>
                    </a:lnTo>
                    <a:lnTo>
                      <a:pt x="0" y="129"/>
                    </a:lnTo>
                    <a:lnTo>
                      <a:pt x="46" y="124"/>
                    </a:lnTo>
                    <a:lnTo>
                      <a:pt x="92" y="117"/>
                    </a:lnTo>
                    <a:lnTo>
                      <a:pt x="138" y="106"/>
                    </a:lnTo>
                    <a:lnTo>
                      <a:pt x="181" y="92"/>
                    </a:lnTo>
                    <a:lnTo>
                      <a:pt x="221" y="73"/>
                    </a:lnTo>
                    <a:lnTo>
                      <a:pt x="262" y="55"/>
                    </a:lnTo>
                    <a:lnTo>
                      <a:pt x="300" y="30"/>
                    </a:lnTo>
                    <a:lnTo>
                      <a:pt x="335" y="3"/>
                    </a:lnTo>
                    <a:lnTo>
                      <a:pt x="327" y="0"/>
                    </a:lnTo>
                    <a:close/>
                  </a:path>
                </a:pathLst>
              </a:custGeom>
              <a:solidFill>
                <a:srgbClr val="4d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2025720" y="3413160"/>
                <a:ext cx="99720" cy="185760"/>
              </a:xfrm>
              <a:custGeom>
                <a:avLst/>
                <a:gdLst/>
                <a:ahLst/>
                <a:rect l="l" t="t" r="r" b="b"/>
                <a:pathLst>
                  <a:path w="610" h="1220">
                    <a:moveTo>
                      <a:pt x="30" y="0"/>
                    </a:moveTo>
                    <a:lnTo>
                      <a:pt x="40" y="44"/>
                    </a:lnTo>
                    <a:lnTo>
                      <a:pt x="65" y="154"/>
                    </a:lnTo>
                    <a:lnTo>
                      <a:pt x="81" y="230"/>
                    </a:lnTo>
                    <a:lnTo>
                      <a:pt x="95" y="316"/>
                    </a:lnTo>
                    <a:lnTo>
                      <a:pt x="108" y="410"/>
                    </a:lnTo>
                    <a:lnTo>
                      <a:pt x="116" y="513"/>
                    </a:lnTo>
                    <a:lnTo>
                      <a:pt x="122" y="599"/>
                    </a:lnTo>
                    <a:lnTo>
                      <a:pt x="122" y="688"/>
                    </a:lnTo>
                    <a:lnTo>
                      <a:pt x="118" y="778"/>
                    </a:lnTo>
                    <a:lnTo>
                      <a:pt x="108" y="863"/>
                    </a:lnTo>
                    <a:lnTo>
                      <a:pt x="102" y="907"/>
                    </a:lnTo>
                    <a:lnTo>
                      <a:pt x="95" y="949"/>
                    </a:lnTo>
                    <a:lnTo>
                      <a:pt x="84" y="990"/>
                    </a:lnTo>
                    <a:lnTo>
                      <a:pt x="70" y="1028"/>
                    </a:lnTo>
                    <a:lnTo>
                      <a:pt x="56" y="1066"/>
                    </a:lnTo>
                    <a:lnTo>
                      <a:pt x="40" y="1103"/>
                    </a:lnTo>
                    <a:lnTo>
                      <a:pt x="22" y="1138"/>
                    </a:lnTo>
                    <a:lnTo>
                      <a:pt x="0" y="1170"/>
                    </a:lnTo>
                    <a:lnTo>
                      <a:pt x="11" y="1177"/>
                    </a:lnTo>
                    <a:lnTo>
                      <a:pt x="38" y="1188"/>
                    </a:lnTo>
                    <a:lnTo>
                      <a:pt x="81" y="1200"/>
                    </a:lnTo>
                    <a:lnTo>
                      <a:pt x="108" y="1206"/>
                    </a:lnTo>
                    <a:lnTo>
                      <a:pt x="138" y="1211"/>
                    </a:lnTo>
                    <a:lnTo>
                      <a:pt x="173" y="1216"/>
                    </a:lnTo>
                    <a:lnTo>
                      <a:pt x="210" y="1220"/>
                    </a:lnTo>
                    <a:lnTo>
                      <a:pt x="254" y="1220"/>
                    </a:lnTo>
                    <a:lnTo>
                      <a:pt x="297" y="1216"/>
                    </a:lnTo>
                    <a:lnTo>
                      <a:pt x="346" y="1211"/>
                    </a:lnTo>
                    <a:lnTo>
                      <a:pt x="397" y="1204"/>
                    </a:lnTo>
                    <a:lnTo>
                      <a:pt x="451" y="1190"/>
                    </a:lnTo>
                    <a:lnTo>
                      <a:pt x="507" y="1170"/>
                    </a:lnTo>
                    <a:lnTo>
                      <a:pt x="518" y="1142"/>
                    </a:lnTo>
                    <a:lnTo>
                      <a:pt x="546" y="1057"/>
                    </a:lnTo>
                    <a:lnTo>
                      <a:pt x="559" y="999"/>
                    </a:lnTo>
                    <a:lnTo>
                      <a:pt x="575" y="931"/>
                    </a:lnTo>
                    <a:lnTo>
                      <a:pt x="589" y="852"/>
                    </a:lnTo>
                    <a:lnTo>
                      <a:pt x="599" y="769"/>
                    </a:lnTo>
                    <a:lnTo>
                      <a:pt x="608" y="680"/>
                    </a:lnTo>
                    <a:lnTo>
                      <a:pt x="610" y="585"/>
                    </a:lnTo>
                    <a:lnTo>
                      <a:pt x="608" y="537"/>
                    </a:lnTo>
                    <a:lnTo>
                      <a:pt x="608" y="488"/>
                    </a:lnTo>
                    <a:lnTo>
                      <a:pt x="602" y="440"/>
                    </a:lnTo>
                    <a:lnTo>
                      <a:pt x="597" y="391"/>
                    </a:lnTo>
                    <a:lnTo>
                      <a:pt x="589" y="340"/>
                    </a:lnTo>
                    <a:lnTo>
                      <a:pt x="578" y="292"/>
                    </a:lnTo>
                    <a:lnTo>
                      <a:pt x="564" y="240"/>
                    </a:lnTo>
                    <a:lnTo>
                      <a:pt x="551" y="191"/>
                    </a:lnTo>
                    <a:lnTo>
                      <a:pt x="532" y="143"/>
                    </a:lnTo>
                    <a:lnTo>
                      <a:pt x="511" y="95"/>
                    </a:lnTo>
                    <a:lnTo>
                      <a:pt x="486" y="49"/>
                    </a:lnTo>
                    <a:lnTo>
                      <a:pt x="459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3d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2025720" y="341136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624" h="1234">
                    <a:moveTo>
                      <a:pt x="36" y="7"/>
                    </a:moveTo>
                    <a:lnTo>
                      <a:pt x="28" y="10"/>
                    </a:lnTo>
                    <a:lnTo>
                      <a:pt x="39" y="51"/>
                    </a:lnTo>
                    <a:lnTo>
                      <a:pt x="57" y="129"/>
                    </a:lnTo>
                    <a:lnTo>
                      <a:pt x="80" y="239"/>
                    </a:lnTo>
                    <a:lnTo>
                      <a:pt x="90" y="301"/>
                    </a:lnTo>
                    <a:lnTo>
                      <a:pt x="98" y="371"/>
                    </a:lnTo>
                    <a:lnTo>
                      <a:pt x="108" y="444"/>
                    </a:lnTo>
                    <a:lnTo>
                      <a:pt x="114" y="520"/>
                    </a:lnTo>
                    <a:lnTo>
                      <a:pt x="119" y="592"/>
                    </a:lnTo>
                    <a:lnTo>
                      <a:pt x="119" y="668"/>
                    </a:lnTo>
                    <a:lnTo>
                      <a:pt x="119" y="739"/>
                    </a:lnTo>
                    <a:lnTo>
                      <a:pt x="114" y="808"/>
                    </a:lnTo>
                    <a:lnTo>
                      <a:pt x="106" y="876"/>
                    </a:lnTo>
                    <a:lnTo>
                      <a:pt x="96" y="940"/>
                    </a:lnTo>
                    <a:lnTo>
                      <a:pt x="80" y="1006"/>
                    </a:lnTo>
                    <a:lnTo>
                      <a:pt x="57" y="1064"/>
                    </a:lnTo>
                    <a:lnTo>
                      <a:pt x="46" y="1094"/>
                    </a:lnTo>
                    <a:lnTo>
                      <a:pt x="34" y="1121"/>
                    </a:lnTo>
                    <a:lnTo>
                      <a:pt x="17" y="1149"/>
                    </a:lnTo>
                    <a:lnTo>
                      <a:pt x="0" y="1172"/>
                    </a:lnTo>
                    <a:lnTo>
                      <a:pt x="0" y="1181"/>
                    </a:lnTo>
                    <a:lnTo>
                      <a:pt x="4" y="1186"/>
                    </a:lnTo>
                    <a:lnTo>
                      <a:pt x="20" y="1195"/>
                    </a:lnTo>
                    <a:lnTo>
                      <a:pt x="41" y="1202"/>
                    </a:lnTo>
                    <a:lnTo>
                      <a:pt x="68" y="1211"/>
                    </a:lnTo>
                    <a:lnTo>
                      <a:pt x="101" y="1218"/>
                    </a:lnTo>
                    <a:lnTo>
                      <a:pt x="144" y="1227"/>
                    </a:lnTo>
                    <a:lnTo>
                      <a:pt x="190" y="1234"/>
                    </a:lnTo>
                    <a:lnTo>
                      <a:pt x="244" y="1234"/>
                    </a:lnTo>
                    <a:lnTo>
                      <a:pt x="306" y="1232"/>
                    </a:lnTo>
                    <a:lnTo>
                      <a:pt x="370" y="1223"/>
                    </a:lnTo>
                    <a:lnTo>
                      <a:pt x="405" y="1218"/>
                    </a:lnTo>
                    <a:lnTo>
                      <a:pt x="441" y="1211"/>
                    </a:lnTo>
                    <a:lnTo>
                      <a:pt x="478" y="1200"/>
                    </a:lnTo>
                    <a:lnTo>
                      <a:pt x="517" y="1186"/>
                    </a:lnTo>
                    <a:lnTo>
                      <a:pt x="522" y="1181"/>
                    </a:lnTo>
                    <a:lnTo>
                      <a:pt x="538" y="1135"/>
                    </a:lnTo>
                    <a:lnTo>
                      <a:pt x="554" y="1078"/>
                    </a:lnTo>
                    <a:lnTo>
                      <a:pt x="573" y="1006"/>
                    </a:lnTo>
                    <a:lnTo>
                      <a:pt x="591" y="919"/>
                    </a:lnTo>
                    <a:lnTo>
                      <a:pt x="608" y="820"/>
                    </a:lnTo>
                    <a:lnTo>
                      <a:pt x="614" y="765"/>
                    </a:lnTo>
                    <a:lnTo>
                      <a:pt x="619" y="709"/>
                    </a:lnTo>
                    <a:lnTo>
                      <a:pt x="621" y="652"/>
                    </a:lnTo>
                    <a:lnTo>
                      <a:pt x="624" y="590"/>
                    </a:lnTo>
                    <a:lnTo>
                      <a:pt x="621" y="520"/>
                    </a:lnTo>
                    <a:lnTo>
                      <a:pt x="616" y="444"/>
                    </a:lnTo>
                    <a:lnTo>
                      <a:pt x="605" y="369"/>
                    </a:lnTo>
                    <a:lnTo>
                      <a:pt x="591" y="295"/>
                    </a:lnTo>
                    <a:lnTo>
                      <a:pt x="570" y="221"/>
                    </a:lnTo>
                    <a:lnTo>
                      <a:pt x="546" y="147"/>
                    </a:lnTo>
                    <a:lnTo>
                      <a:pt x="529" y="110"/>
                    </a:lnTo>
                    <a:lnTo>
                      <a:pt x="511" y="74"/>
                    </a:lnTo>
                    <a:lnTo>
                      <a:pt x="492" y="39"/>
                    </a:lnTo>
                    <a:lnTo>
                      <a:pt x="473" y="5"/>
                    </a:lnTo>
                    <a:lnTo>
                      <a:pt x="465" y="0"/>
                    </a:lnTo>
                    <a:lnTo>
                      <a:pt x="36" y="0"/>
                    </a:lnTo>
                    <a:lnTo>
                      <a:pt x="28" y="5"/>
                    </a:lnTo>
                    <a:lnTo>
                      <a:pt x="28" y="10"/>
                    </a:lnTo>
                    <a:lnTo>
                      <a:pt x="36" y="7"/>
                    </a:lnTo>
                    <a:lnTo>
                      <a:pt x="36" y="16"/>
                    </a:lnTo>
                    <a:lnTo>
                      <a:pt x="465" y="16"/>
                    </a:lnTo>
                    <a:lnTo>
                      <a:pt x="465" y="7"/>
                    </a:lnTo>
                    <a:lnTo>
                      <a:pt x="460" y="12"/>
                    </a:lnTo>
                    <a:lnTo>
                      <a:pt x="478" y="48"/>
                    </a:lnTo>
                    <a:lnTo>
                      <a:pt x="497" y="83"/>
                    </a:lnTo>
                    <a:lnTo>
                      <a:pt x="513" y="118"/>
                    </a:lnTo>
                    <a:lnTo>
                      <a:pt x="529" y="152"/>
                    </a:lnTo>
                    <a:lnTo>
                      <a:pt x="554" y="226"/>
                    </a:lnTo>
                    <a:lnTo>
                      <a:pt x="575" y="299"/>
                    </a:lnTo>
                    <a:lnTo>
                      <a:pt x="589" y="371"/>
                    </a:lnTo>
                    <a:lnTo>
                      <a:pt x="600" y="447"/>
                    </a:lnTo>
                    <a:lnTo>
                      <a:pt x="605" y="520"/>
                    </a:lnTo>
                    <a:lnTo>
                      <a:pt x="608" y="590"/>
                    </a:lnTo>
                    <a:lnTo>
                      <a:pt x="605" y="649"/>
                    </a:lnTo>
                    <a:lnTo>
                      <a:pt x="603" y="709"/>
                    </a:lnTo>
                    <a:lnTo>
                      <a:pt x="598" y="762"/>
                    </a:lnTo>
                    <a:lnTo>
                      <a:pt x="591" y="817"/>
                    </a:lnTo>
                    <a:lnTo>
                      <a:pt x="575" y="916"/>
                    </a:lnTo>
                    <a:lnTo>
                      <a:pt x="557" y="1002"/>
                    </a:lnTo>
                    <a:lnTo>
                      <a:pt x="538" y="1075"/>
                    </a:lnTo>
                    <a:lnTo>
                      <a:pt x="522" y="1129"/>
                    </a:lnTo>
                    <a:lnTo>
                      <a:pt x="511" y="1165"/>
                    </a:lnTo>
                    <a:lnTo>
                      <a:pt x="508" y="1175"/>
                    </a:lnTo>
                    <a:lnTo>
                      <a:pt x="513" y="1177"/>
                    </a:lnTo>
                    <a:lnTo>
                      <a:pt x="511" y="1170"/>
                    </a:lnTo>
                    <a:lnTo>
                      <a:pt x="473" y="1184"/>
                    </a:lnTo>
                    <a:lnTo>
                      <a:pt x="439" y="1195"/>
                    </a:lnTo>
                    <a:lnTo>
                      <a:pt x="368" y="1207"/>
                    </a:lnTo>
                    <a:lnTo>
                      <a:pt x="303" y="1216"/>
                    </a:lnTo>
                    <a:lnTo>
                      <a:pt x="244" y="1218"/>
                    </a:lnTo>
                    <a:lnTo>
                      <a:pt x="193" y="1218"/>
                    </a:lnTo>
                    <a:lnTo>
                      <a:pt x="147" y="1211"/>
                    </a:lnTo>
                    <a:lnTo>
                      <a:pt x="106" y="1205"/>
                    </a:lnTo>
                    <a:lnTo>
                      <a:pt x="71" y="1195"/>
                    </a:lnTo>
                    <a:lnTo>
                      <a:pt x="46" y="1186"/>
                    </a:lnTo>
                    <a:lnTo>
                      <a:pt x="28" y="1177"/>
                    </a:lnTo>
                    <a:lnTo>
                      <a:pt x="14" y="1172"/>
                    </a:lnTo>
                    <a:lnTo>
                      <a:pt x="11" y="1170"/>
                    </a:lnTo>
                    <a:lnTo>
                      <a:pt x="6" y="1177"/>
                    </a:lnTo>
                    <a:lnTo>
                      <a:pt x="14" y="1184"/>
                    </a:lnTo>
                    <a:lnTo>
                      <a:pt x="30" y="1156"/>
                    </a:lnTo>
                    <a:lnTo>
                      <a:pt x="46" y="1129"/>
                    </a:lnTo>
                    <a:lnTo>
                      <a:pt x="60" y="1100"/>
                    </a:lnTo>
                    <a:lnTo>
                      <a:pt x="73" y="1070"/>
                    </a:lnTo>
                    <a:lnTo>
                      <a:pt x="96" y="1011"/>
                    </a:lnTo>
                    <a:lnTo>
                      <a:pt x="112" y="946"/>
                    </a:lnTo>
                    <a:lnTo>
                      <a:pt x="122" y="878"/>
                    </a:lnTo>
                    <a:lnTo>
                      <a:pt x="131" y="808"/>
                    </a:lnTo>
                    <a:lnTo>
                      <a:pt x="136" y="739"/>
                    </a:lnTo>
                    <a:lnTo>
                      <a:pt x="136" y="668"/>
                    </a:lnTo>
                    <a:lnTo>
                      <a:pt x="136" y="592"/>
                    </a:lnTo>
                    <a:lnTo>
                      <a:pt x="131" y="520"/>
                    </a:lnTo>
                    <a:lnTo>
                      <a:pt x="122" y="417"/>
                    </a:lnTo>
                    <a:lnTo>
                      <a:pt x="108" y="323"/>
                    </a:lnTo>
                    <a:lnTo>
                      <a:pt x="96" y="237"/>
                    </a:lnTo>
                    <a:lnTo>
                      <a:pt x="80" y="159"/>
                    </a:lnTo>
                    <a:lnTo>
                      <a:pt x="52" y="48"/>
                    </a:lnTo>
                    <a:lnTo>
                      <a:pt x="41" y="7"/>
                    </a:lnTo>
                    <a:lnTo>
                      <a:pt x="36" y="7"/>
                    </a:lnTo>
                    <a:lnTo>
                      <a:pt x="36" y="16"/>
                    </a:lnTo>
                    <a:lnTo>
                      <a:pt x="36" y="7"/>
                    </a:lnTo>
                    <a:close/>
                  </a:path>
                </a:pathLst>
              </a:custGeom>
              <a:solidFill>
                <a:srgbClr val="773f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2036880" y="3413160"/>
                <a:ext cx="101520" cy="185760"/>
              </a:xfrm>
              <a:custGeom>
                <a:avLst/>
                <a:gdLst/>
                <a:ahLst/>
                <a:rect l="l" t="t" r="r" b="b"/>
                <a:pathLst>
                  <a:path w="621" h="1227">
                    <a:moveTo>
                      <a:pt x="41" y="0"/>
                    </a:moveTo>
                    <a:lnTo>
                      <a:pt x="48" y="38"/>
                    </a:lnTo>
                    <a:lnTo>
                      <a:pt x="71" y="135"/>
                    </a:lnTo>
                    <a:lnTo>
                      <a:pt x="84" y="203"/>
                    </a:lnTo>
                    <a:lnTo>
                      <a:pt x="94" y="281"/>
                    </a:lnTo>
                    <a:lnTo>
                      <a:pt x="108" y="367"/>
                    </a:lnTo>
                    <a:lnTo>
                      <a:pt x="117" y="459"/>
                    </a:lnTo>
                    <a:lnTo>
                      <a:pt x="124" y="555"/>
                    </a:lnTo>
                    <a:lnTo>
                      <a:pt x="127" y="656"/>
                    </a:lnTo>
                    <a:lnTo>
                      <a:pt x="124" y="755"/>
                    </a:lnTo>
                    <a:lnTo>
                      <a:pt x="119" y="804"/>
                    </a:lnTo>
                    <a:lnTo>
                      <a:pt x="117" y="852"/>
                    </a:lnTo>
                    <a:lnTo>
                      <a:pt x="108" y="901"/>
                    </a:lnTo>
                    <a:lnTo>
                      <a:pt x="100" y="947"/>
                    </a:lnTo>
                    <a:lnTo>
                      <a:pt x="89" y="995"/>
                    </a:lnTo>
                    <a:lnTo>
                      <a:pt x="76" y="1039"/>
                    </a:lnTo>
                    <a:lnTo>
                      <a:pt x="60" y="1082"/>
                    </a:lnTo>
                    <a:lnTo>
                      <a:pt x="43" y="1122"/>
                    </a:lnTo>
                    <a:lnTo>
                      <a:pt x="25" y="1160"/>
                    </a:lnTo>
                    <a:lnTo>
                      <a:pt x="0" y="1198"/>
                    </a:lnTo>
                    <a:lnTo>
                      <a:pt x="11" y="1200"/>
                    </a:lnTo>
                    <a:lnTo>
                      <a:pt x="38" y="1209"/>
                    </a:lnTo>
                    <a:lnTo>
                      <a:pt x="84" y="1220"/>
                    </a:lnTo>
                    <a:lnTo>
                      <a:pt x="144" y="1225"/>
                    </a:lnTo>
                    <a:lnTo>
                      <a:pt x="181" y="1227"/>
                    </a:lnTo>
                    <a:lnTo>
                      <a:pt x="219" y="1227"/>
                    </a:lnTo>
                    <a:lnTo>
                      <a:pt x="262" y="1227"/>
                    </a:lnTo>
                    <a:lnTo>
                      <a:pt x="308" y="1222"/>
                    </a:lnTo>
                    <a:lnTo>
                      <a:pt x="356" y="1214"/>
                    </a:lnTo>
                    <a:lnTo>
                      <a:pt x="407" y="1204"/>
                    </a:lnTo>
                    <a:lnTo>
                      <a:pt x="464" y="1190"/>
                    </a:lnTo>
                    <a:lnTo>
                      <a:pt x="522" y="1170"/>
                    </a:lnTo>
                    <a:lnTo>
                      <a:pt x="532" y="1142"/>
                    </a:lnTo>
                    <a:lnTo>
                      <a:pt x="556" y="1057"/>
                    </a:lnTo>
                    <a:lnTo>
                      <a:pt x="570" y="999"/>
                    </a:lnTo>
                    <a:lnTo>
                      <a:pt x="586" y="931"/>
                    </a:lnTo>
                    <a:lnTo>
                      <a:pt x="600" y="852"/>
                    </a:lnTo>
                    <a:lnTo>
                      <a:pt x="610" y="769"/>
                    </a:lnTo>
                    <a:lnTo>
                      <a:pt x="618" y="680"/>
                    </a:lnTo>
                    <a:lnTo>
                      <a:pt x="621" y="585"/>
                    </a:lnTo>
                    <a:lnTo>
                      <a:pt x="621" y="537"/>
                    </a:lnTo>
                    <a:lnTo>
                      <a:pt x="618" y="488"/>
                    </a:lnTo>
                    <a:lnTo>
                      <a:pt x="613" y="440"/>
                    </a:lnTo>
                    <a:lnTo>
                      <a:pt x="607" y="391"/>
                    </a:lnTo>
                    <a:lnTo>
                      <a:pt x="600" y="340"/>
                    </a:lnTo>
                    <a:lnTo>
                      <a:pt x="589" y="292"/>
                    </a:lnTo>
                    <a:lnTo>
                      <a:pt x="578" y="240"/>
                    </a:lnTo>
                    <a:lnTo>
                      <a:pt x="561" y="191"/>
                    </a:lnTo>
                    <a:lnTo>
                      <a:pt x="543" y="143"/>
                    </a:lnTo>
                    <a:lnTo>
                      <a:pt x="522" y="95"/>
                    </a:lnTo>
                    <a:lnTo>
                      <a:pt x="499" y="49"/>
                    </a:lnTo>
                    <a:lnTo>
                      <a:pt x="473" y="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f8f6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2036880" y="3411360"/>
                <a:ext cx="102960" cy="189000"/>
              </a:xfrm>
              <a:custGeom>
                <a:avLst/>
                <a:gdLst/>
                <a:ahLst/>
                <a:rect l="l" t="t" r="r" b="b"/>
                <a:pathLst>
                  <a:path w="638" h="1243">
                    <a:moveTo>
                      <a:pt x="49" y="7"/>
                    </a:moveTo>
                    <a:lnTo>
                      <a:pt x="40" y="10"/>
                    </a:lnTo>
                    <a:lnTo>
                      <a:pt x="54" y="67"/>
                    </a:lnTo>
                    <a:lnTo>
                      <a:pt x="76" y="169"/>
                    </a:lnTo>
                    <a:lnTo>
                      <a:pt x="86" y="237"/>
                    </a:lnTo>
                    <a:lnTo>
                      <a:pt x="100" y="313"/>
                    </a:lnTo>
                    <a:lnTo>
                      <a:pt x="108" y="396"/>
                    </a:lnTo>
                    <a:lnTo>
                      <a:pt x="119" y="482"/>
                    </a:lnTo>
                    <a:lnTo>
                      <a:pt x="125" y="574"/>
                    </a:lnTo>
                    <a:lnTo>
                      <a:pt x="127" y="668"/>
                    </a:lnTo>
                    <a:lnTo>
                      <a:pt x="125" y="741"/>
                    </a:lnTo>
                    <a:lnTo>
                      <a:pt x="119" y="813"/>
                    </a:lnTo>
                    <a:lnTo>
                      <a:pt x="111" y="887"/>
                    </a:lnTo>
                    <a:lnTo>
                      <a:pt x="100" y="956"/>
                    </a:lnTo>
                    <a:lnTo>
                      <a:pt x="81" y="1024"/>
                    </a:lnTo>
                    <a:lnTo>
                      <a:pt x="63" y="1087"/>
                    </a:lnTo>
                    <a:lnTo>
                      <a:pt x="49" y="1116"/>
                    </a:lnTo>
                    <a:lnTo>
                      <a:pt x="35" y="1145"/>
                    </a:lnTo>
                    <a:lnTo>
                      <a:pt x="19" y="1172"/>
                    </a:lnTo>
                    <a:lnTo>
                      <a:pt x="3" y="1200"/>
                    </a:lnTo>
                    <a:lnTo>
                      <a:pt x="0" y="1207"/>
                    </a:lnTo>
                    <a:lnTo>
                      <a:pt x="5" y="1213"/>
                    </a:lnTo>
                    <a:lnTo>
                      <a:pt x="19" y="1218"/>
                    </a:lnTo>
                    <a:lnTo>
                      <a:pt x="63" y="1229"/>
                    </a:lnTo>
                    <a:lnTo>
                      <a:pt x="92" y="1234"/>
                    </a:lnTo>
                    <a:lnTo>
                      <a:pt x="127" y="1237"/>
                    </a:lnTo>
                    <a:lnTo>
                      <a:pt x="168" y="1243"/>
                    </a:lnTo>
                    <a:lnTo>
                      <a:pt x="213" y="1243"/>
                    </a:lnTo>
                    <a:lnTo>
                      <a:pt x="281" y="1240"/>
                    </a:lnTo>
                    <a:lnTo>
                      <a:pt x="318" y="1237"/>
                    </a:lnTo>
                    <a:lnTo>
                      <a:pt x="357" y="1232"/>
                    </a:lnTo>
                    <a:lnTo>
                      <a:pt x="399" y="1223"/>
                    </a:lnTo>
                    <a:lnTo>
                      <a:pt x="440" y="1213"/>
                    </a:lnTo>
                    <a:lnTo>
                      <a:pt x="486" y="1200"/>
                    </a:lnTo>
                    <a:lnTo>
                      <a:pt x="532" y="1186"/>
                    </a:lnTo>
                    <a:lnTo>
                      <a:pt x="537" y="1181"/>
                    </a:lnTo>
                    <a:lnTo>
                      <a:pt x="551" y="1135"/>
                    </a:lnTo>
                    <a:lnTo>
                      <a:pt x="567" y="1078"/>
                    </a:lnTo>
                    <a:lnTo>
                      <a:pt x="586" y="1006"/>
                    </a:lnTo>
                    <a:lnTo>
                      <a:pt x="604" y="919"/>
                    </a:lnTo>
                    <a:lnTo>
                      <a:pt x="621" y="820"/>
                    </a:lnTo>
                    <a:lnTo>
                      <a:pt x="629" y="765"/>
                    </a:lnTo>
                    <a:lnTo>
                      <a:pt x="632" y="709"/>
                    </a:lnTo>
                    <a:lnTo>
                      <a:pt x="638" y="652"/>
                    </a:lnTo>
                    <a:lnTo>
                      <a:pt x="638" y="590"/>
                    </a:lnTo>
                    <a:lnTo>
                      <a:pt x="634" y="520"/>
                    </a:lnTo>
                    <a:lnTo>
                      <a:pt x="629" y="444"/>
                    </a:lnTo>
                    <a:lnTo>
                      <a:pt x="621" y="369"/>
                    </a:lnTo>
                    <a:lnTo>
                      <a:pt x="604" y="295"/>
                    </a:lnTo>
                    <a:lnTo>
                      <a:pt x="586" y="221"/>
                    </a:lnTo>
                    <a:lnTo>
                      <a:pt x="559" y="147"/>
                    </a:lnTo>
                    <a:lnTo>
                      <a:pt x="543" y="110"/>
                    </a:lnTo>
                    <a:lnTo>
                      <a:pt x="527" y="74"/>
                    </a:lnTo>
                    <a:lnTo>
                      <a:pt x="507" y="39"/>
                    </a:lnTo>
                    <a:lnTo>
                      <a:pt x="486" y="5"/>
                    </a:lnTo>
                    <a:lnTo>
                      <a:pt x="481" y="0"/>
                    </a:lnTo>
                    <a:lnTo>
                      <a:pt x="49" y="0"/>
                    </a:lnTo>
                    <a:lnTo>
                      <a:pt x="40" y="5"/>
                    </a:lnTo>
                    <a:lnTo>
                      <a:pt x="40" y="10"/>
                    </a:lnTo>
                    <a:lnTo>
                      <a:pt x="49" y="7"/>
                    </a:lnTo>
                    <a:lnTo>
                      <a:pt x="49" y="16"/>
                    </a:lnTo>
                    <a:lnTo>
                      <a:pt x="481" y="16"/>
                    </a:lnTo>
                    <a:lnTo>
                      <a:pt x="481" y="7"/>
                    </a:lnTo>
                    <a:lnTo>
                      <a:pt x="472" y="12"/>
                    </a:lnTo>
                    <a:lnTo>
                      <a:pt x="494" y="48"/>
                    </a:lnTo>
                    <a:lnTo>
                      <a:pt x="510" y="83"/>
                    </a:lnTo>
                    <a:lnTo>
                      <a:pt x="530" y="118"/>
                    </a:lnTo>
                    <a:lnTo>
                      <a:pt x="543" y="152"/>
                    </a:lnTo>
                    <a:lnTo>
                      <a:pt x="569" y="226"/>
                    </a:lnTo>
                    <a:lnTo>
                      <a:pt x="588" y="299"/>
                    </a:lnTo>
                    <a:lnTo>
                      <a:pt x="604" y="371"/>
                    </a:lnTo>
                    <a:lnTo>
                      <a:pt x="613" y="447"/>
                    </a:lnTo>
                    <a:lnTo>
                      <a:pt x="618" y="520"/>
                    </a:lnTo>
                    <a:lnTo>
                      <a:pt x="621" y="590"/>
                    </a:lnTo>
                    <a:lnTo>
                      <a:pt x="621" y="649"/>
                    </a:lnTo>
                    <a:lnTo>
                      <a:pt x="615" y="709"/>
                    </a:lnTo>
                    <a:lnTo>
                      <a:pt x="613" y="762"/>
                    </a:lnTo>
                    <a:lnTo>
                      <a:pt x="604" y="817"/>
                    </a:lnTo>
                    <a:lnTo>
                      <a:pt x="588" y="916"/>
                    </a:lnTo>
                    <a:lnTo>
                      <a:pt x="572" y="1002"/>
                    </a:lnTo>
                    <a:lnTo>
                      <a:pt x="553" y="1075"/>
                    </a:lnTo>
                    <a:lnTo>
                      <a:pt x="537" y="1129"/>
                    </a:lnTo>
                    <a:lnTo>
                      <a:pt x="527" y="1165"/>
                    </a:lnTo>
                    <a:lnTo>
                      <a:pt x="521" y="1175"/>
                    </a:lnTo>
                    <a:lnTo>
                      <a:pt x="530" y="1177"/>
                    </a:lnTo>
                    <a:lnTo>
                      <a:pt x="527" y="1170"/>
                    </a:lnTo>
                    <a:lnTo>
                      <a:pt x="481" y="1186"/>
                    </a:lnTo>
                    <a:lnTo>
                      <a:pt x="438" y="1197"/>
                    </a:lnTo>
                    <a:lnTo>
                      <a:pt x="394" y="1207"/>
                    </a:lnTo>
                    <a:lnTo>
                      <a:pt x="353" y="1216"/>
                    </a:lnTo>
                    <a:lnTo>
                      <a:pt x="316" y="1221"/>
                    </a:lnTo>
                    <a:lnTo>
                      <a:pt x="281" y="1223"/>
                    </a:lnTo>
                    <a:lnTo>
                      <a:pt x="213" y="1227"/>
                    </a:lnTo>
                    <a:lnTo>
                      <a:pt x="168" y="1227"/>
                    </a:lnTo>
                    <a:lnTo>
                      <a:pt x="127" y="1223"/>
                    </a:lnTo>
                    <a:lnTo>
                      <a:pt x="95" y="1218"/>
                    </a:lnTo>
                    <a:lnTo>
                      <a:pt x="65" y="1213"/>
                    </a:lnTo>
                    <a:lnTo>
                      <a:pt x="24" y="1202"/>
                    </a:lnTo>
                    <a:lnTo>
                      <a:pt x="17" y="1200"/>
                    </a:lnTo>
                    <a:lnTo>
                      <a:pt x="12" y="1197"/>
                    </a:lnTo>
                    <a:lnTo>
                      <a:pt x="8" y="1205"/>
                    </a:lnTo>
                    <a:lnTo>
                      <a:pt x="17" y="1211"/>
                    </a:lnTo>
                    <a:lnTo>
                      <a:pt x="33" y="1181"/>
                    </a:lnTo>
                    <a:lnTo>
                      <a:pt x="49" y="1154"/>
                    </a:lnTo>
                    <a:lnTo>
                      <a:pt x="63" y="1124"/>
                    </a:lnTo>
                    <a:lnTo>
                      <a:pt x="76" y="1092"/>
                    </a:lnTo>
                    <a:lnTo>
                      <a:pt x="97" y="1027"/>
                    </a:lnTo>
                    <a:lnTo>
                      <a:pt x="116" y="960"/>
                    </a:lnTo>
                    <a:lnTo>
                      <a:pt x="127" y="889"/>
                    </a:lnTo>
                    <a:lnTo>
                      <a:pt x="135" y="817"/>
                    </a:lnTo>
                    <a:lnTo>
                      <a:pt x="141" y="741"/>
                    </a:lnTo>
                    <a:lnTo>
                      <a:pt x="143" y="668"/>
                    </a:lnTo>
                    <a:lnTo>
                      <a:pt x="141" y="603"/>
                    </a:lnTo>
                    <a:lnTo>
                      <a:pt x="138" y="541"/>
                    </a:lnTo>
                    <a:lnTo>
                      <a:pt x="130" y="423"/>
                    </a:lnTo>
                    <a:lnTo>
                      <a:pt x="116" y="309"/>
                    </a:lnTo>
                    <a:lnTo>
                      <a:pt x="100" y="212"/>
                    </a:lnTo>
                    <a:lnTo>
                      <a:pt x="84" y="126"/>
                    </a:lnTo>
                    <a:lnTo>
                      <a:pt x="70" y="62"/>
                    </a:lnTo>
                    <a:lnTo>
                      <a:pt x="56" y="7"/>
                    </a:lnTo>
                    <a:lnTo>
                      <a:pt x="49" y="7"/>
                    </a:lnTo>
                    <a:lnTo>
                      <a:pt x="49" y="16"/>
                    </a:lnTo>
                    <a:lnTo>
                      <a:pt x="49" y="7"/>
                    </a:lnTo>
                    <a:close/>
                  </a:path>
                </a:pathLst>
              </a:custGeom>
              <a:solidFill>
                <a:srgbClr val="773f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2039760" y="3512880"/>
                <a:ext cx="96840" cy="86040"/>
              </a:xfrm>
              <a:custGeom>
                <a:avLst/>
                <a:gdLst/>
                <a:ahLst/>
                <a:rect l="l" t="t" r="r" b="b"/>
                <a:pathLst>
                  <a:path w="599" h="567">
                    <a:moveTo>
                      <a:pt x="599" y="0"/>
                    </a:moveTo>
                    <a:lnTo>
                      <a:pt x="570" y="29"/>
                    </a:lnTo>
                    <a:lnTo>
                      <a:pt x="540" y="56"/>
                    </a:lnTo>
                    <a:lnTo>
                      <a:pt x="508" y="81"/>
                    </a:lnTo>
                    <a:lnTo>
                      <a:pt x="475" y="102"/>
                    </a:lnTo>
                    <a:lnTo>
                      <a:pt x="443" y="119"/>
                    </a:lnTo>
                    <a:lnTo>
                      <a:pt x="405" y="132"/>
                    </a:lnTo>
                    <a:lnTo>
                      <a:pt x="367" y="137"/>
                    </a:lnTo>
                    <a:lnTo>
                      <a:pt x="329" y="141"/>
                    </a:lnTo>
                    <a:lnTo>
                      <a:pt x="305" y="141"/>
                    </a:lnTo>
                    <a:lnTo>
                      <a:pt x="278" y="137"/>
                    </a:lnTo>
                    <a:lnTo>
                      <a:pt x="251" y="132"/>
                    </a:lnTo>
                    <a:lnTo>
                      <a:pt x="224" y="125"/>
                    </a:lnTo>
                    <a:lnTo>
                      <a:pt x="197" y="107"/>
                    </a:lnTo>
                    <a:lnTo>
                      <a:pt x="170" y="91"/>
                    </a:lnTo>
                    <a:lnTo>
                      <a:pt x="146" y="73"/>
                    </a:lnTo>
                    <a:lnTo>
                      <a:pt x="119" y="51"/>
                    </a:lnTo>
                    <a:lnTo>
                      <a:pt x="116" y="119"/>
                    </a:lnTo>
                    <a:lnTo>
                      <a:pt x="110" y="183"/>
                    </a:lnTo>
                    <a:lnTo>
                      <a:pt x="103" y="251"/>
                    </a:lnTo>
                    <a:lnTo>
                      <a:pt x="89" y="312"/>
                    </a:lnTo>
                    <a:lnTo>
                      <a:pt x="73" y="375"/>
                    </a:lnTo>
                    <a:lnTo>
                      <a:pt x="54" y="434"/>
                    </a:lnTo>
                    <a:lnTo>
                      <a:pt x="29" y="489"/>
                    </a:lnTo>
                    <a:lnTo>
                      <a:pt x="13" y="515"/>
                    </a:lnTo>
                    <a:lnTo>
                      <a:pt x="0" y="540"/>
                    </a:lnTo>
                    <a:lnTo>
                      <a:pt x="2" y="542"/>
                    </a:lnTo>
                    <a:lnTo>
                      <a:pt x="43" y="553"/>
                    </a:lnTo>
                    <a:lnTo>
                      <a:pt x="73" y="558"/>
                    </a:lnTo>
                    <a:lnTo>
                      <a:pt x="105" y="563"/>
                    </a:lnTo>
                    <a:lnTo>
                      <a:pt x="146" y="567"/>
                    </a:lnTo>
                    <a:lnTo>
                      <a:pt x="191" y="567"/>
                    </a:lnTo>
                    <a:lnTo>
                      <a:pt x="257" y="563"/>
                    </a:lnTo>
                    <a:lnTo>
                      <a:pt x="294" y="561"/>
                    </a:lnTo>
                    <a:lnTo>
                      <a:pt x="331" y="556"/>
                    </a:lnTo>
                    <a:lnTo>
                      <a:pt x="372" y="547"/>
                    </a:lnTo>
                    <a:lnTo>
                      <a:pt x="413" y="540"/>
                    </a:lnTo>
                    <a:lnTo>
                      <a:pt x="456" y="526"/>
                    </a:lnTo>
                    <a:lnTo>
                      <a:pt x="499" y="512"/>
                    </a:lnTo>
                    <a:lnTo>
                      <a:pt x="505" y="505"/>
                    </a:lnTo>
                    <a:lnTo>
                      <a:pt x="515" y="469"/>
                    </a:lnTo>
                    <a:lnTo>
                      <a:pt x="531" y="415"/>
                    </a:lnTo>
                    <a:lnTo>
                      <a:pt x="550" y="342"/>
                    </a:lnTo>
                    <a:lnTo>
                      <a:pt x="564" y="270"/>
                    </a:lnTo>
                    <a:lnTo>
                      <a:pt x="580" y="186"/>
                    </a:lnTo>
                    <a:lnTo>
                      <a:pt x="591" y="95"/>
                    </a:lnTo>
                    <a:lnTo>
                      <a:pt x="599" y="0"/>
                    </a:lnTo>
                    <a:close/>
                  </a:path>
                </a:pathLst>
              </a:custGeom>
              <a:solidFill>
                <a:srgbClr val="f2e6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2036880" y="3511440"/>
                <a:ext cx="101520" cy="87480"/>
              </a:xfrm>
              <a:custGeom>
                <a:avLst/>
                <a:gdLst/>
                <a:ahLst/>
                <a:rect l="l" t="t" r="r" b="b"/>
                <a:pathLst>
                  <a:path w="618" h="585">
                    <a:moveTo>
                      <a:pt x="618" y="0"/>
                    </a:moveTo>
                    <a:lnTo>
                      <a:pt x="613" y="11"/>
                    </a:lnTo>
                    <a:lnTo>
                      <a:pt x="605" y="106"/>
                    </a:lnTo>
                    <a:lnTo>
                      <a:pt x="594" y="197"/>
                    </a:lnTo>
                    <a:lnTo>
                      <a:pt x="578" y="281"/>
                    </a:lnTo>
                    <a:lnTo>
                      <a:pt x="564" y="353"/>
                    </a:lnTo>
                    <a:lnTo>
                      <a:pt x="545" y="426"/>
                    </a:lnTo>
                    <a:lnTo>
                      <a:pt x="529" y="480"/>
                    </a:lnTo>
                    <a:lnTo>
                      <a:pt x="519" y="516"/>
                    </a:lnTo>
                    <a:lnTo>
                      <a:pt x="513" y="523"/>
                    </a:lnTo>
                    <a:lnTo>
                      <a:pt x="470" y="537"/>
                    </a:lnTo>
                    <a:lnTo>
                      <a:pt x="427" y="551"/>
                    </a:lnTo>
                    <a:lnTo>
                      <a:pt x="386" y="558"/>
                    </a:lnTo>
                    <a:lnTo>
                      <a:pt x="345" y="567"/>
                    </a:lnTo>
                    <a:lnTo>
                      <a:pt x="308" y="572"/>
                    </a:lnTo>
                    <a:lnTo>
                      <a:pt x="271" y="574"/>
                    </a:lnTo>
                    <a:lnTo>
                      <a:pt x="205" y="578"/>
                    </a:lnTo>
                    <a:lnTo>
                      <a:pt x="160" y="578"/>
                    </a:lnTo>
                    <a:lnTo>
                      <a:pt x="119" y="574"/>
                    </a:lnTo>
                    <a:lnTo>
                      <a:pt x="87" y="569"/>
                    </a:lnTo>
                    <a:lnTo>
                      <a:pt x="57" y="564"/>
                    </a:lnTo>
                    <a:lnTo>
                      <a:pt x="16" y="553"/>
                    </a:lnTo>
                    <a:lnTo>
                      <a:pt x="14" y="551"/>
                    </a:lnTo>
                    <a:lnTo>
                      <a:pt x="27" y="526"/>
                    </a:lnTo>
                    <a:lnTo>
                      <a:pt x="43" y="500"/>
                    </a:lnTo>
                    <a:lnTo>
                      <a:pt x="68" y="445"/>
                    </a:lnTo>
                    <a:lnTo>
                      <a:pt x="87" y="386"/>
                    </a:lnTo>
                    <a:lnTo>
                      <a:pt x="103" y="323"/>
                    </a:lnTo>
                    <a:lnTo>
                      <a:pt x="117" y="262"/>
                    </a:lnTo>
                    <a:lnTo>
                      <a:pt x="124" y="194"/>
                    </a:lnTo>
                    <a:lnTo>
                      <a:pt x="130" y="130"/>
                    </a:lnTo>
                    <a:lnTo>
                      <a:pt x="133" y="62"/>
                    </a:lnTo>
                    <a:lnTo>
                      <a:pt x="124" y="54"/>
                    </a:lnTo>
                    <a:lnTo>
                      <a:pt x="122" y="125"/>
                    </a:lnTo>
                    <a:lnTo>
                      <a:pt x="117" y="192"/>
                    </a:lnTo>
                    <a:lnTo>
                      <a:pt x="108" y="259"/>
                    </a:lnTo>
                    <a:lnTo>
                      <a:pt x="94" y="327"/>
                    </a:lnTo>
                    <a:lnTo>
                      <a:pt x="78" y="389"/>
                    </a:lnTo>
                    <a:lnTo>
                      <a:pt x="57" y="448"/>
                    </a:lnTo>
                    <a:lnTo>
                      <a:pt x="32" y="505"/>
                    </a:lnTo>
                    <a:lnTo>
                      <a:pt x="16" y="532"/>
                    </a:lnTo>
                    <a:lnTo>
                      <a:pt x="0" y="556"/>
                    </a:lnTo>
                    <a:lnTo>
                      <a:pt x="14" y="562"/>
                    </a:lnTo>
                    <a:lnTo>
                      <a:pt x="55" y="572"/>
                    </a:lnTo>
                    <a:lnTo>
                      <a:pt x="84" y="578"/>
                    </a:lnTo>
                    <a:lnTo>
                      <a:pt x="119" y="583"/>
                    </a:lnTo>
                    <a:lnTo>
                      <a:pt x="160" y="585"/>
                    </a:lnTo>
                    <a:lnTo>
                      <a:pt x="205" y="585"/>
                    </a:lnTo>
                    <a:lnTo>
                      <a:pt x="273" y="583"/>
                    </a:lnTo>
                    <a:lnTo>
                      <a:pt x="310" y="580"/>
                    </a:lnTo>
                    <a:lnTo>
                      <a:pt x="349" y="574"/>
                    </a:lnTo>
                    <a:lnTo>
                      <a:pt x="389" y="567"/>
                    </a:lnTo>
                    <a:lnTo>
                      <a:pt x="432" y="556"/>
                    </a:lnTo>
                    <a:lnTo>
                      <a:pt x="476" y="546"/>
                    </a:lnTo>
                    <a:lnTo>
                      <a:pt x="522" y="528"/>
                    </a:lnTo>
                    <a:lnTo>
                      <a:pt x="535" y="489"/>
                    </a:lnTo>
                    <a:lnTo>
                      <a:pt x="548" y="440"/>
                    </a:lnTo>
                    <a:lnTo>
                      <a:pt x="567" y="375"/>
                    </a:lnTo>
                    <a:lnTo>
                      <a:pt x="584" y="297"/>
                    </a:lnTo>
                    <a:lnTo>
                      <a:pt x="600" y="208"/>
                    </a:lnTo>
                    <a:lnTo>
                      <a:pt x="613" y="108"/>
                    </a:lnTo>
                    <a:lnTo>
                      <a:pt x="616" y="54"/>
                    </a:lnTo>
                    <a:lnTo>
                      <a:pt x="618" y="0"/>
                    </a:lnTo>
                    <a:close/>
                  </a:path>
                </a:pathLst>
              </a:custGeom>
              <a:solidFill>
                <a:srgbClr val="753c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468360" y="3301920"/>
                <a:ext cx="539640" cy="34920"/>
              </a:xfrm>
              <a:custGeom>
                <a:avLst/>
                <a:gdLst/>
                <a:ahLst/>
                <a:rect l="l" t="t" r="r" b="b"/>
                <a:pathLst>
                  <a:path w="3351" h="238">
                    <a:moveTo>
                      <a:pt x="0" y="0"/>
                    </a:moveTo>
                    <a:lnTo>
                      <a:pt x="2" y="9"/>
                    </a:lnTo>
                    <a:lnTo>
                      <a:pt x="81" y="28"/>
                    </a:lnTo>
                    <a:lnTo>
                      <a:pt x="161" y="44"/>
                    </a:lnTo>
                    <a:lnTo>
                      <a:pt x="323" y="76"/>
                    </a:lnTo>
                    <a:lnTo>
                      <a:pt x="490" y="103"/>
                    </a:lnTo>
                    <a:lnTo>
                      <a:pt x="663" y="131"/>
                    </a:lnTo>
                    <a:lnTo>
                      <a:pt x="893" y="159"/>
                    </a:lnTo>
                    <a:lnTo>
                      <a:pt x="1119" y="182"/>
                    </a:lnTo>
                    <a:lnTo>
                      <a:pt x="1349" y="203"/>
                    </a:lnTo>
                    <a:lnTo>
                      <a:pt x="1572" y="217"/>
                    </a:lnTo>
                    <a:lnTo>
                      <a:pt x="1791" y="228"/>
                    </a:lnTo>
                    <a:lnTo>
                      <a:pt x="2005" y="233"/>
                    </a:lnTo>
                    <a:lnTo>
                      <a:pt x="2210" y="238"/>
                    </a:lnTo>
                    <a:lnTo>
                      <a:pt x="2404" y="238"/>
                    </a:lnTo>
                    <a:lnTo>
                      <a:pt x="2591" y="238"/>
                    </a:lnTo>
                    <a:lnTo>
                      <a:pt x="2760" y="235"/>
                    </a:lnTo>
                    <a:lnTo>
                      <a:pt x="3049" y="225"/>
                    </a:lnTo>
                    <a:lnTo>
                      <a:pt x="3252" y="217"/>
                    </a:lnTo>
                    <a:lnTo>
                      <a:pt x="3351" y="212"/>
                    </a:lnTo>
                    <a:lnTo>
                      <a:pt x="3351" y="209"/>
                    </a:lnTo>
                    <a:lnTo>
                      <a:pt x="3351" y="203"/>
                    </a:lnTo>
                    <a:lnTo>
                      <a:pt x="3341" y="203"/>
                    </a:lnTo>
                    <a:lnTo>
                      <a:pt x="3224" y="209"/>
                    </a:lnTo>
                    <a:lnTo>
                      <a:pt x="3022" y="219"/>
                    </a:lnTo>
                    <a:lnTo>
                      <a:pt x="2744" y="228"/>
                    </a:lnTo>
                    <a:lnTo>
                      <a:pt x="2580" y="230"/>
                    </a:lnTo>
                    <a:lnTo>
                      <a:pt x="2404" y="230"/>
                    </a:lnTo>
                    <a:lnTo>
                      <a:pt x="2210" y="230"/>
                    </a:lnTo>
                    <a:lnTo>
                      <a:pt x="2005" y="225"/>
                    </a:lnTo>
                    <a:lnTo>
                      <a:pt x="1795" y="219"/>
                    </a:lnTo>
                    <a:lnTo>
                      <a:pt x="1572" y="209"/>
                    </a:lnTo>
                    <a:lnTo>
                      <a:pt x="1349" y="195"/>
                    </a:lnTo>
                    <a:lnTo>
                      <a:pt x="1123" y="173"/>
                    </a:lnTo>
                    <a:lnTo>
                      <a:pt x="893" y="152"/>
                    </a:lnTo>
                    <a:lnTo>
                      <a:pt x="666" y="122"/>
                    </a:lnTo>
                    <a:lnTo>
                      <a:pt x="493" y="95"/>
                    </a:lnTo>
                    <a:lnTo>
                      <a:pt x="323" y="69"/>
                    </a:lnTo>
                    <a:lnTo>
                      <a:pt x="159" y="36"/>
                    </a:lnTo>
                    <a:lnTo>
                      <a:pt x="81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1008000" y="3247920"/>
                <a:ext cx="106200" cy="115920"/>
              </a:xfrm>
              <a:custGeom>
                <a:avLst/>
                <a:gdLst/>
                <a:ahLst/>
                <a:rect l="l" t="t" r="r" b="b"/>
                <a:pathLst>
                  <a:path w="651" h="755">
                    <a:moveTo>
                      <a:pt x="89" y="108"/>
                    </a:moveTo>
                    <a:lnTo>
                      <a:pt x="95" y="111"/>
                    </a:lnTo>
                    <a:lnTo>
                      <a:pt x="103" y="103"/>
                    </a:lnTo>
                    <a:lnTo>
                      <a:pt x="111" y="92"/>
                    </a:lnTo>
                    <a:lnTo>
                      <a:pt x="135" y="76"/>
                    </a:lnTo>
                    <a:lnTo>
                      <a:pt x="165" y="60"/>
                    </a:lnTo>
                    <a:lnTo>
                      <a:pt x="203" y="44"/>
                    </a:lnTo>
                    <a:lnTo>
                      <a:pt x="243" y="32"/>
                    </a:lnTo>
                    <a:lnTo>
                      <a:pt x="287" y="22"/>
                    </a:lnTo>
                    <a:lnTo>
                      <a:pt x="333" y="16"/>
                    </a:lnTo>
                    <a:lnTo>
                      <a:pt x="378" y="16"/>
                    </a:lnTo>
                    <a:lnTo>
                      <a:pt x="410" y="16"/>
                    </a:lnTo>
                    <a:lnTo>
                      <a:pt x="440" y="20"/>
                    </a:lnTo>
                    <a:lnTo>
                      <a:pt x="470" y="25"/>
                    </a:lnTo>
                    <a:lnTo>
                      <a:pt x="497" y="32"/>
                    </a:lnTo>
                    <a:lnTo>
                      <a:pt x="522" y="44"/>
                    </a:lnTo>
                    <a:lnTo>
                      <a:pt x="543" y="55"/>
                    </a:lnTo>
                    <a:lnTo>
                      <a:pt x="564" y="71"/>
                    </a:lnTo>
                    <a:lnTo>
                      <a:pt x="578" y="89"/>
                    </a:lnTo>
                    <a:lnTo>
                      <a:pt x="591" y="108"/>
                    </a:lnTo>
                    <a:lnTo>
                      <a:pt x="602" y="130"/>
                    </a:lnTo>
                    <a:lnTo>
                      <a:pt x="613" y="154"/>
                    </a:lnTo>
                    <a:lnTo>
                      <a:pt x="621" y="179"/>
                    </a:lnTo>
                    <a:lnTo>
                      <a:pt x="626" y="205"/>
                    </a:lnTo>
                    <a:lnTo>
                      <a:pt x="632" y="232"/>
                    </a:lnTo>
                    <a:lnTo>
                      <a:pt x="635" y="262"/>
                    </a:lnTo>
                    <a:lnTo>
                      <a:pt x="635" y="289"/>
                    </a:lnTo>
                    <a:lnTo>
                      <a:pt x="632" y="335"/>
                    </a:lnTo>
                    <a:lnTo>
                      <a:pt x="626" y="378"/>
                    </a:lnTo>
                    <a:lnTo>
                      <a:pt x="616" y="424"/>
                    </a:lnTo>
                    <a:lnTo>
                      <a:pt x="605" y="467"/>
                    </a:lnTo>
                    <a:lnTo>
                      <a:pt x="586" y="511"/>
                    </a:lnTo>
                    <a:lnTo>
                      <a:pt x="568" y="548"/>
                    </a:lnTo>
                    <a:lnTo>
                      <a:pt x="543" y="586"/>
                    </a:lnTo>
                    <a:lnTo>
                      <a:pt x="513" y="619"/>
                    </a:lnTo>
                    <a:lnTo>
                      <a:pt x="467" y="661"/>
                    </a:lnTo>
                    <a:lnTo>
                      <a:pt x="443" y="683"/>
                    </a:lnTo>
                    <a:lnTo>
                      <a:pt x="416" y="702"/>
                    </a:lnTo>
                    <a:lnTo>
                      <a:pt x="389" y="718"/>
                    </a:lnTo>
                    <a:lnTo>
                      <a:pt x="362" y="729"/>
                    </a:lnTo>
                    <a:lnTo>
                      <a:pt x="333" y="737"/>
                    </a:lnTo>
                    <a:lnTo>
                      <a:pt x="299" y="739"/>
                    </a:lnTo>
                    <a:lnTo>
                      <a:pt x="271" y="737"/>
                    </a:lnTo>
                    <a:lnTo>
                      <a:pt x="241" y="729"/>
                    </a:lnTo>
                    <a:lnTo>
                      <a:pt x="205" y="716"/>
                    </a:lnTo>
                    <a:lnTo>
                      <a:pt x="173" y="697"/>
                    </a:lnTo>
                    <a:lnTo>
                      <a:pt x="135" y="672"/>
                    </a:lnTo>
                    <a:lnTo>
                      <a:pt x="97" y="640"/>
                    </a:lnTo>
                    <a:lnTo>
                      <a:pt x="57" y="599"/>
                    </a:lnTo>
                    <a:lnTo>
                      <a:pt x="14" y="550"/>
                    </a:lnTo>
                    <a:lnTo>
                      <a:pt x="9" y="557"/>
                    </a:lnTo>
                    <a:lnTo>
                      <a:pt x="16" y="557"/>
                    </a:lnTo>
                    <a:lnTo>
                      <a:pt x="97" y="108"/>
                    </a:lnTo>
                    <a:lnTo>
                      <a:pt x="89" y="108"/>
                    </a:lnTo>
                    <a:lnTo>
                      <a:pt x="95" y="111"/>
                    </a:lnTo>
                    <a:lnTo>
                      <a:pt x="89" y="108"/>
                    </a:lnTo>
                    <a:lnTo>
                      <a:pt x="81" y="106"/>
                    </a:lnTo>
                    <a:lnTo>
                      <a:pt x="0" y="554"/>
                    </a:lnTo>
                    <a:lnTo>
                      <a:pt x="3" y="562"/>
                    </a:lnTo>
                    <a:lnTo>
                      <a:pt x="46" y="610"/>
                    </a:lnTo>
                    <a:lnTo>
                      <a:pt x="87" y="651"/>
                    </a:lnTo>
                    <a:lnTo>
                      <a:pt x="124" y="686"/>
                    </a:lnTo>
                    <a:lnTo>
                      <a:pt x="163" y="709"/>
                    </a:lnTo>
                    <a:lnTo>
                      <a:pt x="200" y="732"/>
                    </a:lnTo>
                    <a:lnTo>
                      <a:pt x="235" y="745"/>
                    </a:lnTo>
                    <a:lnTo>
                      <a:pt x="267" y="753"/>
                    </a:lnTo>
                    <a:lnTo>
                      <a:pt x="299" y="755"/>
                    </a:lnTo>
                    <a:lnTo>
                      <a:pt x="335" y="753"/>
                    </a:lnTo>
                    <a:lnTo>
                      <a:pt x="368" y="745"/>
                    </a:lnTo>
                    <a:lnTo>
                      <a:pt x="397" y="732"/>
                    </a:lnTo>
                    <a:lnTo>
                      <a:pt x="424" y="716"/>
                    </a:lnTo>
                    <a:lnTo>
                      <a:pt x="453" y="697"/>
                    </a:lnTo>
                    <a:lnTo>
                      <a:pt x="478" y="675"/>
                    </a:lnTo>
                    <a:lnTo>
                      <a:pt x="527" y="629"/>
                    </a:lnTo>
                    <a:lnTo>
                      <a:pt x="554" y="594"/>
                    </a:lnTo>
                    <a:lnTo>
                      <a:pt x="580" y="557"/>
                    </a:lnTo>
                    <a:lnTo>
                      <a:pt x="602" y="516"/>
                    </a:lnTo>
                    <a:lnTo>
                      <a:pt x="619" y="472"/>
                    </a:lnTo>
                    <a:lnTo>
                      <a:pt x="632" y="426"/>
                    </a:lnTo>
                    <a:lnTo>
                      <a:pt x="642" y="381"/>
                    </a:lnTo>
                    <a:lnTo>
                      <a:pt x="648" y="335"/>
                    </a:lnTo>
                    <a:lnTo>
                      <a:pt x="651" y="289"/>
                    </a:lnTo>
                    <a:lnTo>
                      <a:pt x="651" y="260"/>
                    </a:lnTo>
                    <a:lnTo>
                      <a:pt x="648" y="230"/>
                    </a:lnTo>
                    <a:lnTo>
                      <a:pt x="642" y="203"/>
                    </a:lnTo>
                    <a:lnTo>
                      <a:pt x="637" y="176"/>
                    </a:lnTo>
                    <a:lnTo>
                      <a:pt x="630" y="149"/>
                    </a:lnTo>
                    <a:lnTo>
                      <a:pt x="619" y="124"/>
                    </a:lnTo>
                    <a:lnTo>
                      <a:pt x="605" y="101"/>
                    </a:lnTo>
                    <a:lnTo>
                      <a:pt x="591" y="78"/>
                    </a:lnTo>
                    <a:lnTo>
                      <a:pt x="575" y="60"/>
                    </a:lnTo>
                    <a:lnTo>
                      <a:pt x="554" y="41"/>
                    </a:lnTo>
                    <a:lnTo>
                      <a:pt x="529" y="27"/>
                    </a:lnTo>
                    <a:lnTo>
                      <a:pt x="502" y="16"/>
                    </a:lnTo>
                    <a:lnTo>
                      <a:pt x="472" y="9"/>
                    </a:lnTo>
                    <a:lnTo>
                      <a:pt x="443" y="4"/>
                    </a:lnTo>
                    <a:lnTo>
                      <a:pt x="410" y="0"/>
                    </a:lnTo>
                    <a:lnTo>
                      <a:pt x="378" y="0"/>
                    </a:lnTo>
                    <a:lnTo>
                      <a:pt x="333" y="0"/>
                    </a:lnTo>
                    <a:lnTo>
                      <a:pt x="283" y="9"/>
                    </a:lnTo>
                    <a:lnTo>
                      <a:pt x="241" y="16"/>
                    </a:lnTo>
                    <a:lnTo>
                      <a:pt x="198" y="30"/>
                    </a:lnTo>
                    <a:lnTo>
                      <a:pt x="159" y="44"/>
                    </a:lnTo>
                    <a:lnTo>
                      <a:pt x="127" y="62"/>
                    </a:lnTo>
                    <a:lnTo>
                      <a:pt x="101" y="82"/>
                    </a:lnTo>
                    <a:lnTo>
                      <a:pt x="89" y="92"/>
                    </a:lnTo>
                    <a:lnTo>
                      <a:pt x="81" y="103"/>
                    </a:lnTo>
                    <a:lnTo>
                      <a:pt x="81" y="106"/>
                    </a:lnTo>
                    <a:lnTo>
                      <a:pt x="89" y="108"/>
                    </a:lnTo>
                    <a:close/>
                  </a:path>
                </a:pathLst>
              </a:custGeom>
              <a:solidFill>
                <a:srgbClr val="773f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1065240" y="2631960"/>
                <a:ext cx="612720" cy="666720"/>
              </a:xfrm>
              <a:custGeom>
                <a:avLst/>
                <a:gdLst/>
                <a:ahLst/>
                <a:rect l="l" t="t" r="r" b="b"/>
                <a:pathLst>
                  <a:path w="3779" h="4373">
                    <a:moveTo>
                      <a:pt x="8" y="4224"/>
                    </a:moveTo>
                    <a:lnTo>
                      <a:pt x="14" y="4230"/>
                    </a:lnTo>
                    <a:lnTo>
                      <a:pt x="54" y="4181"/>
                    </a:lnTo>
                    <a:lnTo>
                      <a:pt x="793" y="3334"/>
                    </a:lnTo>
                    <a:lnTo>
                      <a:pt x="1384" y="2660"/>
                    </a:lnTo>
                    <a:lnTo>
                      <a:pt x="2033" y="1923"/>
                    </a:lnTo>
                    <a:lnTo>
                      <a:pt x="2664" y="1211"/>
                    </a:lnTo>
                    <a:lnTo>
                      <a:pt x="2953" y="887"/>
                    </a:lnTo>
                    <a:lnTo>
                      <a:pt x="3211" y="599"/>
                    </a:lnTo>
                    <a:lnTo>
                      <a:pt x="3433" y="359"/>
                    </a:lnTo>
                    <a:lnTo>
                      <a:pt x="3605" y="175"/>
                    </a:lnTo>
                    <a:lnTo>
                      <a:pt x="3671" y="105"/>
                    </a:lnTo>
                    <a:lnTo>
                      <a:pt x="3722" y="57"/>
                    </a:lnTo>
                    <a:lnTo>
                      <a:pt x="3757" y="25"/>
                    </a:lnTo>
                    <a:lnTo>
                      <a:pt x="3768" y="19"/>
                    </a:lnTo>
                    <a:lnTo>
                      <a:pt x="3770" y="16"/>
                    </a:lnTo>
                    <a:lnTo>
                      <a:pt x="3768" y="14"/>
                    </a:lnTo>
                    <a:lnTo>
                      <a:pt x="3768" y="16"/>
                    </a:lnTo>
                    <a:lnTo>
                      <a:pt x="3770" y="16"/>
                    </a:lnTo>
                    <a:lnTo>
                      <a:pt x="3768" y="14"/>
                    </a:lnTo>
                    <a:lnTo>
                      <a:pt x="3768" y="16"/>
                    </a:lnTo>
                    <a:lnTo>
                      <a:pt x="3768" y="11"/>
                    </a:lnTo>
                    <a:lnTo>
                      <a:pt x="3765" y="14"/>
                    </a:lnTo>
                    <a:lnTo>
                      <a:pt x="3768" y="16"/>
                    </a:lnTo>
                    <a:lnTo>
                      <a:pt x="3768" y="11"/>
                    </a:lnTo>
                    <a:lnTo>
                      <a:pt x="3765" y="14"/>
                    </a:lnTo>
                    <a:lnTo>
                      <a:pt x="3768" y="11"/>
                    </a:lnTo>
                    <a:lnTo>
                      <a:pt x="3762" y="11"/>
                    </a:lnTo>
                    <a:lnTo>
                      <a:pt x="3765" y="14"/>
                    </a:lnTo>
                    <a:lnTo>
                      <a:pt x="3768" y="11"/>
                    </a:lnTo>
                    <a:lnTo>
                      <a:pt x="3762" y="11"/>
                    </a:lnTo>
                    <a:lnTo>
                      <a:pt x="3759" y="19"/>
                    </a:lnTo>
                    <a:lnTo>
                      <a:pt x="3752" y="32"/>
                    </a:lnTo>
                    <a:lnTo>
                      <a:pt x="3719" y="81"/>
                    </a:lnTo>
                    <a:lnTo>
                      <a:pt x="3665" y="154"/>
                    </a:lnTo>
                    <a:lnTo>
                      <a:pt x="3495" y="375"/>
                    </a:lnTo>
                    <a:lnTo>
                      <a:pt x="3230" y="704"/>
                    </a:lnTo>
                    <a:lnTo>
                      <a:pt x="2864" y="1158"/>
                    </a:lnTo>
                    <a:lnTo>
                      <a:pt x="2383" y="1740"/>
                    </a:lnTo>
                    <a:lnTo>
                      <a:pt x="1787" y="2460"/>
                    </a:lnTo>
                    <a:lnTo>
                      <a:pt x="1064" y="3332"/>
                    </a:lnTo>
                    <a:lnTo>
                      <a:pt x="205" y="4359"/>
                    </a:lnTo>
                    <a:lnTo>
                      <a:pt x="211" y="4364"/>
                    </a:lnTo>
                    <a:lnTo>
                      <a:pt x="217" y="4357"/>
                    </a:lnTo>
                    <a:lnTo>
                      <a:pt x="14" y="4216"/>
                    </a:lnTo>
                    <a:lnTo>
                      <a:pt x="8" y="4224"/>
                    </a:lnTo>
                    <a:lnTo>
                      <a:pt x="14" y="4230"/>
                    </a:lnTo>
                    <a:lnTo>
                      <a:pt x="8" y="4224"/>
                    </a:lnTo>
                    <a:lnTo>
                      <a:pt x="3" y="4230"/>
                    </a:lnTo>
                    <a:lnTo>
                      <a:pt x="208" y="4370"/>
                    </a:lnTo>
                    <a:lnTo>
                      <a:pt x="213" y="4373"/>
                    </a:lnTo>
                    <a:lnTo>
                      <a:pt x="219" y="4370"/>
                    </a:lnTo>
                    <a:lnTo>
                      <a:pt x="1136" y="3270"/>
                    </a:lnTo>
                    <a:lnTo>
                      <a:pt x="1897" y="2353"/>
                    </a:lnTo>
                    <a:lnTo>
                      <a:pt x="2516" y="1605"/>
                    </a:lnTo>
                    <a:lnTo>
                      <a:pt x="2995" y="1020"/>
                    </a:lnTo>
                    <a:lnTo>
                      <a:pt x="3352" y="577"/>
                    </a:lnTo>
                    <a:lnTo>
                      <a:pt x="3595" y="269"/>
                    </a:lnTo>
                    <a:lnTo>
                      <a:pt x="3676" y="165"/>
                    </a:lnTo>
                    <a:lnTo>
                      <a:pt x="3733" y="87"/>
                    </a:lnTo>
                    <a:lnTo>
                      <a:pt x="3768" y="38"/>
                    </a:lnTo>
                    <a:lnTo>
                      <a:pt x="3775" y="21"/>
                    </a:lnTo>
                    <a:lnTo>
                      <a:pt x="3779" y="11"/>
                    </a:lnTo>
                    <a:lnTo>
                      <a:pt x="3775" y="2"/>
                    </a:lnTo>
                    <a:lnTo>
                      <a:pt x="3768" y="0"/>
                    </a:lnTo>
                    <a:lnTo>
                      <a:pt x="3762" y="2"/>
                    </a:lnTo>
                    <a:lnTo>
                      <a:pt x="3757" y="5"/>
                    </a:lnTo>
                    <a:lnTo>
                      <a:pt x="3727" y="30"/>
                    </a:lnTo>
                    <a:lnTo>
                      <a:pt x="3681" y="73"/>
                    </a:lnTo>
                    <a:lnTo>
                      <a:pt x="3547" y="210"/>
                    </a:lnTo>
                    <a:lnTo>
                      <a:pt x="3363" y="410"/>
                    </a:lnTo>
                    <a:lnTo>
                      <a:pt x="3133" y="663"/>
                    </a:lnTo>
                    <a:lnTo>
                      <a:pt x="2871" y="955"/>
                    </a:lnTo>
                    <a:lnTo>
                      <a:pt x="2272" y="1630"/>
                    </a:lnTo>
                    <a:lnTo>
                      <a:pt x="1633" y="2355"/>
                    </a:lnTo>
                    <a:lnTo>
                      <a:pt x="1018" y="3053"/>
                    </a:lnTo>
                    <a:lnTo>
                      <a:pt x="500" y="3650"/>
                    </a:lnTo>
                    <a:lnTo>
                      <a:pt x="3" y="4219"/>
                    </a:lnTo>
                    <a:lnTo>
                      <a:pt x="0" y="4224"/>
                    </a:lnTo>
                    <a:lnTo>
                      <a:pt x="3" y="4230"/>
                    </a:lnTo>
                    <a:lnTo>
                      <a:pt x="8" y="4224"/>
                    </a:lnTo>
                    <a:close/>
                  </a:path>
                </a:pathLst>
              </a:custGeom>
              <a:solidFill>
                <a:srgbClr val="773f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1628640" y="2636640"/>
                <a:ext cx="50760" cy="60480"/>
              </a:xfrm>
              <a:custGeom>
                <a:avLst/>
                <a:gdLst/>
                <a:ahLst/>
                <a:rect l="l" t="t" r="r" b="b"/>
                <a:pathLst>
                  <a:path w="316" h="405">
                    <a:moveTo>
                      <a:pt x="316" y="0"/>
                    </a:moveTo>
                    <a:lnTo>
                      <a:pt x="305" y="8"/>
                    </a:lnTo>
                    <a:lnTo>
                      <a:pt x="283" y="30"/>
                    </a:lnTo>
                    <a:lnTo>
                      <a:pt x="261" y="62"/>
                    </a:lnTo>
                    <a:lnTo>
                      <a:pt x="208" y="138"/>
                    </a:lnTo>
                    <a:lnTo>
                      <a:pt x="129" y="237"/>
                    </a:lnTo>
                    <a:lnTo>
                      <a:pt x="0" y="405"/>
                    </a:lnTo>
                    <a:lnTo>
                      <a:pt x="146" y="221"/>
                    </a:lnTo>
                    <a:lnTo>
                      <a:pt x="245" y="97"/>
                    </a:lnTo>
                    <a:lnTo>
                      <a:pt x="302" y="24"/>
                    </a:lnTo>
                    <a:lnTo>
                      <a:pt x="313" y="5"/>
                    </a:lnTo>
                    <a:lnTo>
                      <a:pt x="316" y="0"/>
                    </a:lnTo>
                    <a:close/>
                  </a:path>
                </a:pathLst>
              </a:custGeom>
              <a:solidFill>
                <a:srgbClr val="197f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1533600" y="2639880"/>
                <a:ext cx="139680" cy="166680"/>
              </a:xfrm>
              <a:custGeom>
                <a:avLst/>
                <a:gdLst/>
                <a:ahLst/>
                <a:rect l="l" t="t" r="r" b="b"/>
                <a:pathLst>
                  <a:path w="872" h="1089">
                    <a:moveTo>
                      <a:pt x="872" y="0"/>
                    </a:moveTo>
                    <a:lnTo>
                      <a:pt x="834" y="40"/>
                    </a:lnTo>
                    <a:lnTo>
                      <a:pt x="778" y="116"/>
                    </a:lnTo>
                    <a:lnTo>
                      <a:pt x="702" y="212"/>
                    </a:lnTo>
                    <a:lnTo>
                      <a:pt x="459" y="520"/>
                    </a:lnTo>
                    <a:lnTo>
                      <a:pt x="102" y="963"/>
                    </a:lnTo>
                    <a:lnTo>
                      <a:pt x="0" y="1089"/>
                    </a:lnTo>
                    <a:lnTo>
                      <a:pt x="589" y="375"/>
                    </a:lnTo>
                    <a:lnTo>
                      <a:pt x="718" y="207"/>
                    </a:lnTo>
                    <a:lnTo>
                      <a:pt x="797" y="108"/>
                    </a:lnTo>
                    <a:lnTo>
                      <a:pt x="850" y="32"/>
                    </a:lnTo>
                    <a:lnTo>
                      <a:pt x="872" y="0"/>
                    </a:lnTo>
                    <a:close/>
                  </a:path>
                </a:pathLst>
              </a:custGeom>
              <a:solidFill>
                <a:srgbClr val="6731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1084320" y="2647800"/>
                <a:ext cx="583920" cy="649440"/>
              </a:xfrm>
              <a:custGeom>
                <a:avLst/>
                <a:gdLst/>
                <a:ahLst/>
                <a:rect l="l" t="t" r="r" b="b"/>
                <a:pathLst>
                  <a:path w="3616" h="4267">
                    <a:moveTo>
                      <a:pt x="3616" y="0"/>
                    </a:moveTo>
                    <a:lnTo>
                      <a:pt x="3492" y="138"/>
                    </a:lnTo>
                    <a:lnTo>
                      <a:pt x="3368" y="297"/>
                    </a:lnTo>
                    <a:lnTo>
                      <a:pt x="3203" y="502"/>
                    </a:lnTo>
                    <a:lnTo>
                      <a:pt x="2753" y="1061"/>
                    </a:lnTo>
                    <a:lnTo>
                      <a:pt x="2274" y="1640"/>
                    </a:lnTo>
                    <a:lnTo>
                      <a:pt x="1678" y="2360"/>
                    </a:lnTo>
                    <a:lnTo>
                      <a:pt x="955" y="3229"/>
                    </a:lnTo>
                    <a:lnTo>
                      <a:pt x="100" y="4257"/>
                    </a:lnTo>
                    <a:lnTo>
                      <a:pt x="5" y="4191"/>
                    </a:lnTo>
                    <a:lnTo>
                      <a:pt x="0" y="4197"/>
                    </a:lnTo>
                    <a:lnTo>
                      <a:pt x="100" y="4267"/>
                    </a:lnTo>
                    <a:lnTo>
                      <a:pt x="1697" y="2353"/>
                    </a:lnTo>
                    <a:lnTo>
                      <a:pt x="2782" y="1049"/>
                    </a:lnTo>
                    <a:lnTo>
                      <a:pt x="2884" y="923"/>
                    </a:lnTo>
                    <a:lnTo>
                      <a:pt x="3241" y="480"/>
                    </a:lnTo>
                    <a:lnTo>
                      <a:pt x="3484" y="172"/>
                    </a:lnTo>
                    <a:lnTo>
                      <a:pt x="3560" y="76"/>
                    </a:lnTo>
                    <a:lnTo>
                      <a:pt x="3616" y="0"/>
                    </a:lnTo>
                    <a:close/>
                  </a:path>
                </a:pathLst>
              </a:custGeom>
              <a:solidFill>
                <a:srgbClr val="6731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1035000" y="3330360"/>
                <a:ext cx="42840" cy="42840"/>
              </a:xfrm>
              <a:custGeom>
                <a:avLst/>
                <a:gdLst/>
                <a:ahLst/>
                <a:rect l="l" t="t" r="r" b="b"/>
                <a:pathLst>
                  <a:path w="265" h="283">
                    <a:moveTo>
                      <a:pt x="251" y="234"/>
                    </a:moveTo>
                    <a:lnTo>
                      <a:pt x="259" y="237"/>
                    </a:lnTo>
                    <a:lnTo>
                      <a:pt x="265" y="215"/>
                    </a:lnTo>
                    <a:lnTo>
                      <a:pt x="265" y="194"/>
                    </a:lnTo>
                    <a:lnTo>
                      <a:pt x="262" y="166"/>
                    </a:lnTo>
                    <a:lnTo>
                      <a:pt x="256" y="139"/>
                    </a:lnTo>
                    <a:lnTo>
                      <a:pt x="249" y="110"/>
                    </a:lnTo>
                    <a:lnTo>
                      <a:pt x="235" y="83"/>
                    </a:lnTo>
                    <a:lnTo>
                      <a:pt x="216" y="58"/>
                    </a:lnTo>
                    <a:lnTo>
                      <a:pt x="194" y="37"/>
                    </a:lnTo>
                    <a:lnTo>
                      <a:pt x="184" y="26"/>
                    </a:lnTo>
                    <a:lnTo>
                      <a:pt x="170" y="21"/>
                    </a:lnTo>
                    <a:lnTo>
                      <a:pt x="157" y="12"/>
                    </a:lnTo>
                    <a:lnTo>
                      <a:pt x="141" y="7"/>
                    </a:lnTo>
                    <a:lnTo>
                      <a:pt x="106" y="0"/>
                    </a:lnTo>
                    <a:lnTo>
                      <a:pt x="76" y="0"/>
                    </a:lnTo>
                    <a:lnTo>
                      <a:pt x="56" y="0"/>
                    </a:lnTo>
                    <a:lnTo>
                      <a:pt x="44" y="2"/>
                    </a:lnTo>
                    <a:lnTo>
                      <a:pt x="30" y="7"/>
                    </a:lnTo>
                    <a:lnTo>
                      <a:pt x="19" y="16"/>
                    </a:lnTo>
                    <a:lnTo>
                      <a:pt x="10" y="24"/>
                    </a:lnTo>
                    <a:lnTo>
                      <a:pt x="5" y="35"/>
                    </a:lnTo>
                    <a:lnTo>
                      <a:pt x="3" y="45"/>
                    </a:lnTo>
                    <a:lnTo>
                      <a:pt x="0" y="58"/>
                    </a:lnTo>
                    <a:lnTo>
                      <a:pt x="3" y="72"/>
                    </a:lnTo>
                    <a:lnTo>
                      <a:pt x="5" y="86"/>
                    </a:lnTo>
                    <a:lnTo>
                      <a:pt x="16" y="113"/>
                    </a:lnTo>
                    <a:lnTo>
                      <a:pt x="33" y="145"/>
                    </a:lnTo>
                    <a:lnTo>
                      <a:pt x="54" y="175"/>
                    </a:lnTo>
                    <a:lnTo>
                      <a:pt x="78" y="201"/>
                    </a:lnTo>
                    <a:lnTo>
                      <a:pt x="100" y="223"/>
                    </a:lnTo>
                    <a:lnTo>
                      <a:pt x="118" y="242"/>
                    </a:lnTo>
                    <a:lnTo>
                      <a:pt x="138" y="258"/>
                    </a:lnTo>
                    <a:lnTo>
                      <a:pt x="157" y="269"/>
                    </a:lnTo>
                    <a:lnTo>
                      <a:pt x="173" y="277"/>
                    </a:lnTo>
                    <a:lnTo>
                      <a:pt x="189" y="283"/>
                    </a:lnTo>
                    <a:lnTo>
                      <a:pt x="203" y="283"/>
                    </a:lnTo>
                    <a:lnTo>
                      <a:pt x="213" y="283"/>
                    </a:lnTo>
                    <a:lnTo>
                      <a:pt x="221" y="280"/>
                    </a:lnTo>
                    <a:lnTo>
                      <a:pt x="232" y="274"/>
                    </a:lnTo>
                    <a:lnTo>
                      <a:pt x="238" y="269"/>
                    </a:lnTo>
                    <a:lnTo>
                      <a:pt x="251" y="256"/>
                    </a:lnTo>
                    <a:lnTo>
                      <a:pt x="259" y="237"/>
                    </a:lnTo>
                    <a:lnTo>
                      <a:pt x="251" y="234"/>
                    </a:lnTo>
                    <a:lnTo>
                      <a:pt x="243" y="231"/>
                    </a:lnTo>
                    <a:lnTo>
                      <a:pt x="238" y="247"/>
                    </a:lnTo>
                    <a:lnTo>
                      <a:pt x="226" y="258"/>
                    </a:lnTo>
                    <a:lnTo>
                      <a:pt x="216" y="263"/>
                    </a:lnTo>
                    <a:lnTo>
                      <a:pt x="203" y="267"/>
                    </a:lnTo>
                    <a:lnTo>
                      <a:pt x="192" y="267"/>
                    </a:lnTo>
                    <a:lnTo>
                      <a:pt x="178" y="261"/>
                    </a:lnTo>
                    <a:lnTo>
                      <a:pt x="164" y="256"/>
                    </a:lnTo>
                    <a:lnTo>
                      <a:pt x="148" y="245"/>
                    </a:lnTo>
                    <a:lnTo>
                      <a:pt x="129" y="231"/>
                    </a:lnTo>
                    <a:lnTo>
                      <a:pt x="111" y="212"/>
                    </a:lnTo>
                    <a:lnTo>
                      <a:pt x="90" y="191"/>
                    </a:lnTo>
                    <a:lnTo>
                      <a:pt x="67" y="164"/>
                    </a:lnTo>
                    <a:lnTo>
                      <a:pt x="46" y="134"/>
                    </a:lnTo>
                    <a:lnTo>
                      <a:pt x="30" y="107"/>
                    </a:lnTo>
                    <a:lnTo>
                      <a:pt x="21" y="81"/>
                    </a:lnTo>
                    <a:lnTo>
                      <a:pt x="16" y="58"/>
                    </a:lnTo>
                    <a:lnTo>
                      <a:pt x="19" y="48"/>
                    </a:lnTo>
                    <a:lnTo>
                      <a:pt x="21" y="40"/>
                    </a:lnTo>
                    <a:lnTo>
                      <a:pt x="24" y="32"/>
                    </a:lnTo>
                    <a:lnTo>
                      <a:pt x="30" y="26"/>
                    </a:lnTo>
                    <a:lnTo>
                      <a:pt x="38" y="21"/>
                    </a:lnTo>
                    <a:lnTo>
                      <a:pt x="49" y="19"/>
                    </a:lnTo>
                    <a:lnTo>
                      <a:pt x="60" y="16"/>
                    </a:lnTo>
                    <a:lnTo>
                      <a:pt x="76" y="16"/>
                    </a:lnTo>
                    <a:lnTo>
                      <a:pt x="102" y="16"/>
                    </a:lnTo>
                    <a:lnTo>
                      <a:pt x="134" y="24"/>
                    </a:lnTo>
                    <a:lnTo>
                      <a:pt x="148" y="29"/>
                    </a:lnTo>
                    <a:lnTo>
                      <a:pt x="162" y="35"/>
                    </a:lnTo>
                    <a:lnTo>
                      <a:pt x="184" y="48"/>
                    </a:lnTo>
                    <a:lnTo>
                      <a:pt x="203" y="70"/>
                    </a:lnTo>
                    <a:lnTo>
                      <a:pt x="219" y="91"/>
                    </a:lnTo>
                    <a:lnTo>
                      <a:pt x="232" y="115"/>
                    </a:lnTo>
                    <a:lnTo>
                      <a:pt x="240" y="143"/>
                    </a:lnTo>
                    <a:lnTo>
                      <a:pt x="245" y="169"/>
                    </a:lnTo>
                    <a:lnTo>
                      <a:pt x="249" y="194"/>
                    </a:lnTo>
                    <a:lnTo>
                      <a:pt x="249" y="215"/>
                    </a:lnTo>
                    <a:lnTo>
                      <a:pt x="243" y="231"/>
                    </a:lnTo>
                    <a:lnTo>
                      <a:pt x="251" y="234"/>
                    </a:lnTo>
                    <a:close/>
                  </a:path>
                </a:pathLst>
              </a:custGeom>
              <a:solidFill>
                <a:srgbClr val="773f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1050840" y="3309840"/>
                <a:ext cx="60480" cy="49320"/>
              </a:xfrm>
              <a:custGeom>
                <a:avLst/>
                <a:gdLst/>
                <a:ahLst/>
                <a:rect l="l" t="t" r="r" b="b"/>
                <a:pathLst>
                  <a:path w="378" h="321">
                    <a:moveTo>
                      <a:pt x="362" y="253"/>
                    </a:moveTo>
                    <a:lnTo>
                      <a:pt x="369" y="256"/>
                    </a:lnTo>
                    <a:lnTo>
                      <a:pt x="378" y="237"/>
                    </a:lnTo>
                    <a:lnTo>
                      <a:pt x="378" y="221"/>
                    </a:lnTo>
                    <a:lnTo>
                      <a:pt x="375" y="199"/>
                    </a:lnTo>
                    <a:lnTo>
                      <a:pt x="369" y="180"/>
                    </a:lnTo>
                    <a:lnTo>
                      <a:pt x="359" y="159"/>
                    </a:lnTo>
                    <a:lnTo>
                      <a:pt x="348" y="140"/>
                    </a:lnTo>
                    <a:lnTo>
                      <a:pt x="332" y="122"/>
                    </a:lnTo>
                    <a:lnTo>
                      <a:pt x="313" y="104"/>
                    </a:lnTo>
                    <a:lnTo>
                      <a:pt x="291" y="86"/>
                    </a:lnTo>
                    <a:lnTo>
                      <a:pt x="270" y="70"/>
                    </a:lnTo>
                    <a:lnTo>
                      <a:pt x="224" y="43"/>
                    </a:lnTo>
                    <a:lnTo>
                      <a:pt x="199" y="30"/>
                    </a:lnTo>
                    <a:lnTo>
                      <a:pt x="175" y="19"/>
                    </a:lnTo>
                    <a:lnTo>
                      <a:pt x="151" y="10"/>
                    </a:lnTo>
                    <a:lnTo>
                      <a:pt x="127" y="5"/>
                    </a:lnTo>
                    <a:lnTo>
                      <a:pt x="102" y="0"/>
                    </a:lnTo>
                    <a:lnTo>
                      <a:pt x="81" y="0"/>
                    </a:lnTo>
                    <a:lnTo>
                      <a:pt x="62" y="0"/>
                    </a:lnTo>
                    <a:lnTo>
                      <a:pt x="42" y="5"/>
                    </a:lnTo>
                    <a:lnTo>
                      <a:pt x="26" y="14"/>
                    </a:lnTo>
                    <a:lnTo>
                      <a:pt x="14" y="26"/>
                    </a:lnTo>
                    <a:lnTo>
                      <a:pt x="5" y="37"/>
                    </a:lnTo>
                    <a:lnTo>
                      <a:pt x="3" y="46"/>
                    </a:lnTo>
                    <a:lnTo>
                      <a:pt x="0" y="56"/>
                    </a:lnTo>
                    <a:lnTo>
                      <a:pt x="0" y="67"/>
                    </a:lnTo>
                    <a:lnTo>
                      <a:pt x="3" y="86"/>
                    </a:lnTo>
                    <a:lnTo>
                      <a:pt x="5" y="108"/>
                    </a:lnTo>
                    <a:lnTo>
                      <a:pt x="14" y="127"/>
                    </a:lnTo>
                    <a:lnTo>
                      <a:pt x="24" y="148"/>
                    </a:lnTo>
                    <a:lnTo>
                      <a:pt x="37" y="170"/>
                    </a:lnTo>
                    <a:lnTo>
                      <a:pt x="51" y="189"/>
                    </a:lnTo>
                    <a:lnTo>
                      <a:pt x="70" y="210"/>
                    </a:lnTo>
                    <a:lnTo>
                      <a:pt x="86" y="229"/>
                    </a:lnTo>
                    <a:lnTo>
                      <a:pt x="108" y="248"/>
                    </a:lnTo>
                    <a:lnTo>
                      <a:pt x="127" y="265"/>
                    </a:lnTo>
                    <a:lnTo>
                      <a:pt x="148" y="281"/>
                    </a:lnTo>
                    <a:lnTo>
                      <a:pt x="173" y="293"/>
                    </a:lnTo>
                    <a:lnTo>
                      <a:pt x="194" y="304"/>
                    </a:lnTo>
                    <a:lnTo>
                      <a:pt x="219" y="313"/>
                    </a:lnTo>
                    <a:lnTo>
                      <a:pt x="240" y="318"/>
                    </a:lnTo>
                    <a:lnTo>
                      <a:pt x="265" y="321"/>
                    </a:lnTo>
                    <a:lnTo>
                      <a:pt x="291" y="318"/>
                    </a:lnTo>
                    <a:lnTo>
                      <a:pt x="305" y="313"/>
                    </a:lnTo>
                    <a:lnTo>
                      <a:pt x="318" y="307"/>
                    </a:lnTo>
                    <a:lnTo>
                      <a:pt x="329" y="299"/>
                    </a:lnTo>
                    <a:lnTo>
                      <a:pt x="343" y="291"/>
                    </a:lnTo>
                    <a:lnTo>
                      <a:pt x="353" y="281"/>
                    </a:lnTo>
                    <a:lnTo>
                      <a:pt x="362" y="267"/>
                    </a:lnTo>
                    <a:lnTo>
                      <a:pt x="369" y="256"/>
                    </a:lnTo>
                    <a:lnTo>
                      <a:pt x="362" y="253"/>
                    </a:lnTo>
                    <a:lnTo>
                      <a:pt x="356" y="248"/>
                    </a:lnTo>
                    <a:lnTo>
                      <a:pt x="348" y="258"/>
                    </a:lnTo>
                    <a:lnTo>
                      <a:pt x="356" y="265"/>
                    </a:lnTo>
                    <a:lnTo>
                      <a:pt x="350" y="258"/>
                    </a:lnTo>
                    <a:lnTo>
                      <a:pt x="332" y="281"/>
                    </a:lnTo>
                    <a:lnTo>
                      <a:pt x="311" y="293"/>
                    </a:lnTo>
                    <a:lnTo>
                      <a:pt x="288" y="302"/>
                    </a:lnTo>
                    <a:lnTo>
                      <a:pt x="265" y="304"/>
                    </a:lnTo>
                    <a:lnTo>
                      <a:pt x="242" y="302"/>
                    </a:lnTo>
                    <a:lnTo>
                      <a:pt x="224" y="297"/>
                    </a:lnTo>
                    <a:lnTo>
                      <a:pt x="203" y="288"/>
                    </a:lnTo>
                    <a:lnTo>
                      <a:pt x="180" y="281"/>
                    </a:lnTo>
                    <a:lnTo>
                      <a:pt x="159" y="267"/>
                    </a:lnTo>
                    <a:lnTo>
                      <a:pt x="137" y="251"/>
                    </a:lnTo>
                    <a:lnTo>
                      <a:pt x="118" y="235"/>
                    </a:lnTo>
                    <a:lnTo>
                      <a:pt x="100" y="219"/>
                    </a:lnTo>
                    <a:lnTo>
                      <a:pt x="81" y="199"/>
                    </a:lnTo>
                    <a:lnTo>
                      <a:pt x="65" y="180"/>
                    </a:lnTo>
                    <a:lnTo>
                      <a:pt x="51" y="159"/>
                    </a:lnTo>
                    <a:lnTo>
                      <a:pt x="37" y="140"/>
                    </a:lnTo>
                    <a:lnTo>
                      <a:pt x="30" y="122"/>
                    </a:lnTo>
                    <a:lnTo>
                      <a:pt x="21" y="102"/>
                    </a:lnTo>
                    <a:lnTo>
                      <a:pt x="16" y="83"/>
                    </a:lnTo>
                    <a:lnTo>
                      <a:pt x="16" y="67"/>
                    </a:lnTo>
                    <a:lnTo>
                      <a:pt x="19" y="51"/>
                    </a:lnTo>
                    <a:lnTo>
                      <a:pt x="24" y="37"/>
                    </a:lnTo>
                    <a:lnTo>
                      <a:pt x="35" y="26"/>
                    </a:lnTo>
                    <a:lnTo>
                      <a:pt x="49" y="21"/>
                    </a:lnTo>
                    <a:lnTo>
                      <a:pt x="65" y="16"/>
                    </a:lnTo>
                    <a:lnTo>
                      <a:pt x="81" y="16"/>
                    </a:lnTo>
                    <a:lnTo>
                      <a:pt x="102" y="16"/>
                    </a:lnTo>
                    <a:lnTo>
                      <a:pt x="124" y="21"/>
                    </a:lnTo>
                    <a:lnTo>
                      <a:pt x="146" y="26"/>
                    </a:lnTo>
                    <a:lnTo>
                      <a:pt x="170" y="35"/>
                    </a:lnTo>
                    <a:lnTo>
                      <a:pt x="215" y="56"/>
                    </a:lnTo>
                    <a:lnTo>
                      <a:pt x="261" y="83"/>
                    </a:lnTo>
                    <a:lnTo>
                      <a:pt x="283" y="99"/>
                    </a:lnTo>
                    <a:lnTo>
                      <a:pt x="302" y="116"/>
                    </a:lnTo>
                    <a:lnTo>
                      <a:pt x="318" y="132"/>
                    </a:lnTo>
                    <a:lnTo>
                      <a:pt x="334" y="150"/>
                    </a:lnTo>
                    <a:lnTo>
                      <a:pt x="345" y="170"/>
                    </a:lnTo>
                    <a:lnTo>
                      <a:pt x="356" y="186"/>
                    </a:lnTo>
                    <a:lnTo>
                      <a:pt x="362" y="202"/>
                    </a:lnTo>
                    <a:lnTo>
                      <a:pt x="362" y="221"/>
                    </a:lnTo>
                    <a:lnTo>
                      <a:pt x="362" y="235"/>
                    </a:lnTo>
                    <a:lnTo>
                      <a:pt x="356" y="248"/>
                    </a:lnTo>
                    <a:lnTo>
                      <a:pt x="362" y="253"/>
                    </a:lnTo>
                    <a:close/>
                  </a:path>
                </a:pathLst>
              </a:custGeom>
              <a:solidFill>
                <a:srgbClr val="773f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1090440" y="3257280"/>
                <a:ext cx="63720" cy="46080"/>
              </a:xfrm>
              <a:custGeom>
                <a:avLst/>
                <a:gdLst/>
                <a:ahLst/>
                <a:rect l="l" t="t" r="r" b="b"/>
                <a:pathLst>
                  <a:path w="399" h="297">
                    <a:moveTo>
                      <a:pt x="376" y="265"/>
                    </a:moveTo>
                    <a:lnTo>
                      <a:pt x="381" y="270"/>
                    </a:lnTo>
                    <a:lnTo>
                      <a:pt x="388" y="260"/>
                    </a:lnTo>
                    <a:lnTo>
                      <a:pt x="394" y="249"/>
                    </a:lnTo>
                    <a:lnTo>
                      <a:pt x="397" y="232"/>
                    </a:lnTo>
                    <a:lnTo>
                      <a:pt x="399" y="219"/>
                    </a:lnTo>
                    <a:lnTo>
                      <a:pt x="394" y="186"/>
                    </a:lnTo>
                    <a:lnTo>
                      <a:pt x="386" y="152"/>
                    </a:lnTo>
                    <a:lnTo>
                      <a:pt x="378" y="138"/>
                    </a:lnTo>
                    <a:lnTo>
                      <a:pt x="370" y="124"/>
                    </a:lnTo>
                    <a:lnTo>
                      <a:pt x="358" y="111"/>
                    </a:lnTo>
                    <a:lnTo>
                      <a:pt x="346" y="97"/>
                    </a:lnTo>
                    <a:lnTo>
                      <a:pt x="313" y="73"/>
                    </a:lnTo>
                    <a:lnTo>
                      <a:pt x="275" y="49"/>
                    </a:lnTo>
                    <a:lnTo>
                      <a:pt x="232" y="30"/>
                    </a:lnTo>
                    <a:lnTo>
                      <a:pt x="189" y="14"/>
                    </a:lnTo>
                    <a:lnTo>
                      <a:pt x="146" y="3"/>
                    </a:lnTo>
                    <a:lnTo>
                      <a:pt x="127" y="0"/>
                    </a:lnTo>
                    <a:lnTo>
                      <a:pt x="105" y="0"/>
                    </a:lnTo>
                    <a:lnTo>
                      <a:pt x="81" y="3"/>
                    </a:lnTo>
                    <a:lnTo>
                      <a:pt x="57" y="9"/>
                    </a:lnTo>
                    <a:lnTo>
                      <a:pt x="35" y="19"/>
                    </a:lnTo>
                    <a:lnTo>
                      <a:pt x="27" y="25"/>
                    </a:lnTo>
                    <a:lnTo>
                      <a:pt x="19" y="32"/>
                    </a:lnTo>
                    <a:lnTo>
                      <a:pt x="11" y="46"/>
                    </a:lnTo>
                    <a:lnTo>
                      <a:pt x="6" y="57"/>
                    </a:lnTo>
                    <a:lnTo>
                      <a:pt x="0" y="71"/>
                    </a:lnTo>
                    <a:lnTo>
                      <a:pt x="0" y="83"/>
                    </a:lnTo>
                    <a:lnTo>
                      <a:pt x="3" y="103"/>
                    </a:lnTo>
                    <a:lnTo>
                      <a:pt x="8" y="122"/>
                    </a:lnTo>
                    <a:lnTo>
                      <a:pt x="19" y="141"/>
                    </a:lnTo>
                    <a:lnTo>
                      <a:pt x="33" y="159"/>
                    </a:lnTo>
                    <a:lnTo>
                      <a:pt x="59" y="186"/>
                    </a:lnTo>
                    <a:lnTo>
                      <a:pt x="89" y="214"/>
                    </a:lnTo>
                    <a:lnTo>
                      <a:pt x="125" y="235"/>
                    </a:lnTo>
                    <a:lnTo>
                      <a:pt x="160" y="256"/>
                    </a:lnTo>
                    <a:lnTo>
                      <a:pt x="197" y="272"/>
                    </a:lnTo>
                    <a:lnTo>
                      <a:pt x="238" y="286"/>
                    </a:lnTo>
                    <a:lnTo>
                      <a:pt x="273" y="295"/>
                    </a:lnTo>
                    <a:lnTo>
                      <a:pt x="307" y="297"/>
                    </a:lnTo>
                    <a:lnTo>
                      <a:pt x="330" y="297"/>
                    </a:lnTo>
                    <a:lnTo>
                      <a:pt x="351" y="292"/>
                    </a:lnTo>
                    <a:lnTo>
                      <a:pt x="367" y="283"/>
                    </a:lnTo>
                    <a:lnTo>
                      <a:pt x="381" y="270"/>
                    </a:lnTo>
                    <a:lnTo>
                      <a:pt x="376" y="265"/>
                    </a:lnTo>
                    <a:lnTo>
                      <a:pt x="381" y="270"/>
                    </a:lnTo>
                    <a:lnTo>
                      <a:pt x="376" y="265"/>
                    </a:lnTo>
                    <a:lnTo>
                      <a:pt x="370" y="260"/>
                    </a:lnTo>
                    <a:lnTo>
                      <a:pt x="358" y="270"/>
                    </a:lnTo>
                    <a:lnTo>
                      <a:pt x="346" y="276"/>
                    </a:lnTo>
                    <a:lnTo>
                      <a:pt x="326" y="281"/>
                    </a:lnTo>
                    <a:lnTo>
                      <a:pt x="307" y="281"/>
                    </a:lnTo>
                    <a:lnTo>
                      <a:pt x="286" y="281"/>
                    </a:lnTo>
                    <a:lnTo>
                      <a:pt x="264" y="276"/>
                    </a:lnTo>
                    <a:lnTo>
                      <a:pt x="240" y="270"/>
                    </a:lnTo>
                    <a:lnTo>
                      <a:pt x="216" y="262"/>
                    </a:lnTo>
                    <a:lnTo>
                      <a:pt x="167" y="243"/>
                    </a:lnTo>
                    <a:lnTo>
                      <a:pt x="121" y="214"/>
                    </a:lnTo>
                    <a:lnTo>
                      <a:pt x="97" y="200"/>
                    </a:lnTo>
                    <a:lnTo>
                      <a:pt x="79" y="184"/>
                    </a:lnTo>
                    <a:lnTo>
                      <a:pt x="59" y="168"/>
                    </a:lnTo>
                    <a:lnTo>
                      <a:pt x="45" y="148"/>
                    </a:lnTo>
                    <a:lnTo>
                      <a:pt x="33" y="132"/>
                    </a:lnTo>
                    <a:lnTo>
                      <a:pt x="24" y="116"/>
                    </a:lnTo>
                    <a:lnTo>
                      <a:pt x="19" y="100"/>
                    </a:lnTo>
                    <a:lnTo>
                      <a:pt x="17" y="83"/>
                    </a:lnTo>
                    <a:lnTo>
                      <a:pt x="17" y="73"/>
                    </a:lnTo>
                    <a:lnTo>
                      <a:pt x="19" y="62"/>
                    </a:lnTo>
                    <a:lnTo>
                      <a:pt x="24" y="54"/>
                    </a:lnTo>
                    <a:lnTo>
                      <a:pt x="33" y="44"/>
                    </a:lnTo>
                    <a:lnTo>
                      <a:pt x="45" y="32"/>
                    </a:lnTo>
                    <a:lnTo>
                      <a:pt x="63" y="25"/>
                    </a:lnTo>
                    <a:lnTo>
                      <a:pt x="84" y="19"/>
                    </a:lnTo>
                    <a:lnTo>
                      <a:pt x="105" y="16"/>
                    </a:lnTo>
                    <a:lnTo>
                      <a:pt x="143" y="19"/>
                    </a:lnTo>
                    <a:lnTo>
                      <a:pt x="186" y="30"/>
                    </a:lnTo>
                    <a:lnTo>
                      <a:pt x="227" y="44"/>
                    </a:lnTo>
                    <a:lnTo>
                      <a:pt x="268" y="62"/>
                    </a:lnTo>
                    <a:lnTo>
                      <a:pt x="302" y="83"/>
                    </a:lnTo>
                    <a:lnTo>
                      <a:pt x="335" y="108"/>
                    </a:lnTo>
                    <a:lnTo>
                      <a:pt x="356" y="132"/>
                    </a:lnTo>
                    <a:lnTo>
                      <a:pt x="364" y="146"/>
                    </a:lnTo>
                    <a:lnTo>
                      <a:pt x="370" y="157"/>
                    </a:lnTo>
                    <a:lnTo>
                      <a:pt x="381" y="189"/>
                    </a:lnTo>
                    <a:lnTo>
                      <a:pt x="383" y="219"/>
                    </a:lnTo>
                    <a:lnTo>
                      <a:pt x="381" y="232"/>
                    </a:lnTo>
                    <a:lnTo>
                      <a:pt x="378" y="243"/>
                    </a:lnTo>
                    <a:lnTo>
                      <a:pt x="376" y="251"/>
                    </a:lnTo>
                    <a:lnTo>
                      <a:pt x="370" y="260"/>
                    </a:lnTo>
                    <a:lnTo>
                      <a:pt x="376" y="265"/>
                    </a:lnTo>
                    <a:close/>
                  </a:path>
                </a:pathLst>
              </a:custGeom>
              <a:solidFill>
                <a:srgbClr val="773f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1113120" y="2584440"/>
                <a:ext cx="103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本节内容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1119240" y="2925720"/>
                <a:ext cx="1095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1.2.2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7" name=""/>
          <p:cNvGraphicFramePr/>
          <p:nvPr/>
        </p:nvGraphicFramePr>
        <p:xfrm>
          <a:off x="2378160" y="398520"/>
          <a:ext cx="3174840" cy="86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8160" y="398520"/>
                    <a:ext cx="3174840" cy="8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9" name=""/>
          <p:cNvGraphicFramePr/>
          <p:nvPr/>
        </p:nvGraphicFramePr>
        <p:xfrm>
          <a:off x="6804000" y="4797360"/>
          <a:ext cx="914400" cy="76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04000" y="4797360"/>
                    <a:ext cx="9144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1" name=""/>
          <p:cNvSpPr/>
          <p:nvPr/>
        </p:nvSpPr>
        <p:spPr>
          <a:xfrm>
            <a:off x="2195640" y="1484280"/>
            <a:ext cx="4724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黑体"/>
                <a:ea typeface="黑体"/>
              </a:rPr>
              <a:t>解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  <a:ea typeface="黑体"/>
              </a:rPr>
              <a:t>: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 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①</a:t>
            </a:r>
            <a:r>
              <a:rPr b="1" lang="en-US" sz="2500" spc="-1" strike="noStrike">
                <a:solidFill>
                  <a:srgbClr val="0000ff"/>
                </a:solidFill>
                <a:latin typeface="黑体"/>
                <a:ea typeface="黑体"/>
              </a:rPr>
              <a:t>-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② 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，</a:t>
            </a:r>
            <a:r>
              <a:rPr b="1" lang="zh-CN" sz="2500" spc="-1" strike="noStrike">
                <a:solidFill>
                  <a:srgbClr val="0000ff"/>
                </a:solidFill>
                <a:latin typeface="黑体"/>
                <a:ea typeface="黑体"/>
              </a:rPr>
              <a:t>得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</a:t>
            </a:r>
            <a:r>
              <a:rPr b="1" lang="en-US" sz="2500" spc="-1" strike="noStrike">
                <a:solidFill>
                  <a:srgbClr val="0000ff"/>
                </a:solidFill>
                <a:latin typeface="黑体"/>
                <a:ea typeface="黑体"/>
              </a:rPr>
              <a:t>-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5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y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=1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2843280" y="2133720"/>
            <a:ext cx="4724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解得                     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y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=</a:t>
            </a:r>
            <a:r>
              <a:rPr b="1" lang="en-US" sz="2500" spc="-1" strike="noStrike">
                <a:solidFill>
                  <a:srgbClr val="0000ff"/>
                </a:solidFill>
                <a:latin typeface="黑体"/>
                <a:ea typeface="黑体"/>
              </a:rPr>
              <a:t>-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2771640" y="2781360"/>
            <a:ext cx="4724640" cy="9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把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</a:rPr>
              <a:t>y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=</a:t>
            </a:r>
            <a:r>
              <a:rPr b="1" lang="en-US" sz="2500" spc="-1" strike="noStrike">
                <a:solidFill>
                  <a:srgbClr val="0000ff"/>
                </a:solidFill>
                <a:latin typeface="黑体"/>
                <a:ea typeface="黑体"/>
              </a:rPr>
              <a:t>-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2500" spc="-1" strike="noStrike">
                <a:solidFill>
                  <a:srgbClr val="0000ff"/>
                </a:solidFill>
                <a:latin typeface="黑体"/>
                <a:ea typeface="黑体"/>
              </a:rPr>
              <a:t>代入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</a:rPr>
              <a:t>①</a:t>
            </a:r>
            <a:r>
              <a:rPr b="1" lang="zh-CN" sz="2500" spc="-1" strike="noStrike">
                <a:solidFill>
                  <a:srgbClr val="0000ff"/>
                </a:solidFill>
                <a:latin typeface="黑体"/>
                <a:ea typeface="黑体"/>
              </a:rPr>
              <a:t>，得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Times New Roman"/>
              </a:rPr>
              <a:t>          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5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en-US" sz="2500" spc="-1" strike="noStrike">
                <a:solidFill>
                  <a:srgbClr val="0000ff"/>
                </a:solidFill>
                <a:latin typeface="黑体"/>
                <a:ea typeface="黑体"/>
              </a:rPr>
              <a:t>-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2×</a:t>
            </a:r>
            <a:r>
              <a:rPr b="1" lang="en-US" sz="2500" spc="-1" strike="noStrike">
                <a:solidFill>
                  <a:srgbClr val="0000ff"/>
                </a:solidFill>
                <a:latin typeface="宋体"/>
              </a:rPr>
              <a:t>(</a:t>
            </a:r>
            <a:r>
              <a:rPr b="1" lang="en-US" sz="2500" spc="-1" strike="noStrike">
                <a:solidFill>
                  <a:srgbClr val="0000ff"/>
                </a:solidFill>
                <a:latin typeface="黑体"/>
                <a:ea typeface="黑体"/>
              </a:rPr>
              <a:t>-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en-US" sz="2500" spc="-1" strike="noStrike">
                <a:solidFill>
                  <a:srgbClr val="0000ff"/>
                </a:solidFill>
                <a:latin typeface="宋体"/>
              </a:rPr>
              <a:t>)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=1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2843280" y="4005360"/>
            <a:ext cx="4724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解得                     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x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=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2556000" y="4941720"/>
            <a:ext cx="4724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因此原方程组的一个解是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6" name=""/>
          <p:cNvGraphicFramePr/>
          <p:nvPr/>
        </p:nvGraphicFramePr>
        <p:xfrm>
          <a:off x="6012000" y="4554360"/>
          <a:ext cx="1092240" cy="129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2000" y="4554360"/>
                    <a:ext cx="1092240" cy="12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8" name=""/>
          <p:cNvSpPr/>
          <p:nvPr/>
        </p:nvSpPr>
        <p:spPr>
          <a:xfrm>
            <a:off x="2097000" y="1268280"/>
            <a:ext cx="47246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黑体"/>
                <a:ea typeface="黑体"/>
              </a:rPr>
              <a:t>解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  <a:ea typeface="黑体"/>
              </a:rPr>
              <a:t>: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  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①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+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② 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，</a:t>
            </a:r>
            <a:r>
              <a:rPr b="1" lang="zh-CN" sz="2500" spc="-1" strike="noStrike">
                <a:solidFill>
                  <a:srgbClr val="0000ff"/>
                </a:solidFill>
                <a:latin typeface="黑体"/>
                <a:ea typeface="黑体"/>
              </a:rPr>
              <a:t>得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8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x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=7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9" name=""/>
          <p:cNvGraphicFramePr/>
          <p:nvPr/>
        </p:nvGraphicFramePr>
        <p:xfrm>
          <a:off x="3897360" y="3203640"/>
          <a:ext cx="1689120" cy="58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97360" y="3203640"/>
                    <a:ext cx="168912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51" name=""/>
          <p:cNvGrpSpPr/>
          <p:nvPr/>
        </p:nvGrpSpPr>
        <p:grpSpPr>
          <a:xfrm>
            <a:off x="2727360" y="1943280"/>
            <a:ext cx="4724280" cy="628560"/>
            <a:chOff x="2727360" y="1943280"/>
            <a:chExt cx="4724280" cy="628560"/>
          </a:xfrm>
        </p:grpSpPr>
        <p:graphicFrame>
          <p:nvGraphicFramePr>
            <p:cNvPr id="1252" name=""/>
            <p:cNvGraphicFramePr/>
            <p:nvPr/>
          </p:nvGraphicFramePr>
          <p:xfrm>
            <a:off x="4998960" y="1987560"/>
            <a:ext cx="787680" cy="5842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25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998960" y="1987560"/>
                      <a:ext cx="787680" cy="58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4" name=""/>
            <p:cNvSpPr/>
            <p:nvPr/>
          </p:nvSpPr>
          <p:spPr>
            <a:xfrm>
              <a:off x="2727360" y="1943280"/>
              <a:ext cx="472428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解得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5" name=""/>
          <p:cNvGrpSpPr/>
          <p:nvPr/>
        </p:nvGrpSpPr>
        <p:grpSpPr>
          <a:xfrm>
            <a:off x="2681280" y="2440080"/>
            <a:ext cx="4724280" cy="674280"/>
            <a:chOff x="2681280" y="2440080"/>
            <a:chExt cx="4724280" cy="674280"/>
          </a:xfrm>
        </p:grpSpPr>
        <p:graphicFrame>
          <p:nvGraphicFramePr>
            <p:cNvPr id="1256" name=""/>
            <p:cNvGraphicFramePr/>
            <p:nvPr/>
          </p:nvGraphicFramePr>
          <p:xfrm>
            <a:off x="3085920" y="2531880"/>
            <a:ext cx="787680" cy="5824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25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085920" y="2531880"/>
                      <a:ext cx="787680" cy="582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8" name=""/>
            <p:cNvSpPr/>
            <p:nvPr/>
          </p:nvSpPr>
          <p:spPr>
            <a:xfrm>
              <a:off x="2681280" y="2440080"/>
              <a:ext cx="472428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把</a:t>
              </a:r>
              <a:r>
                <a:rPr b="1" i="1" lang="zh-CN" sz="2500" spc="-1" strike="noStrike">
                  <a:solidFill>
                    <a:srgbClr val="0000ff"/>
                  </a:solidFill>
                  <a:latin typeface="Times New Roman"/>
                </a:rPr>
                <a:t>           </a:t>
              </a:r>
              <a:r>
                <a:rPr b="1" lang="zh-CN" sz="25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代入</a:t>
              </a:r>
              <a:r>
                <a:rPr b="1" lang="zh-CN" sz="2500" spc="-1" strike="noStrike">
                  <a:solidFill>
                    <a:srgbClr val="0000ff"/>
                  </a:solidFill>
                  <a:latin typeface="Times New Roman"/>
                </a:rPr>
                <a:t>①</a:t>
              </a:r>
              <a:r>
                <a:rPr b="1" lang="zh-CN" sz="25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，得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9" name=""/>
          <p:cNvGrpSpPr/>
          <p:nvPr/>
        </p:nvGrpSpPr>
        <p:grpSpPr>
          <a:xfrm>
            <a:off x="2367000" y="3833640"/>
            <a:ext cx="4724280" cy="716040"/>
            <a:chOff x="2367000" y="3833640"/>
            <a:chExt cx="4724280" cy="716040"/>
          </a:xfrm>
        </p:grpSpPr>
        <p:graphicFrame>
          <p:nvGraphicFramePr>
            <p:cNvPr id="1260" name=""/>
            <p:cNvGraphicFramePr/>
            <p:nvPr/>
          </p:nvGraphicFramePr>
          <p:xfrm>
            <a:off x="4660920" y="3965400"/>
            <a:ext cx="977760" cy="5842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261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660920" y="3965400"/>
                      <a:ext cx="977760" cy="58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62" name=""/>
            <p:cNvSpPr/>
            <p:nvPr/>
          </p:nvSpPr>
          <p:spPr>
            <a:xfrm>
              <a:off x="2367000" y="3833640"/>
              <a:ext cx="472428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解得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3" name=""/>
          <p:cNvSpPr/>
          <p:nvPr/>
        </p:nvSpPr>
        <p:spPr>
          <a:xfrm>
            <a:off x="2050920" y="4869000"/>
            <a:ext cx="47246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因此原方程组的一个解是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4" name=""/>
          <p:cNvGrpSpPr/>
          <p:nvPr/>
        </p:nvGrpSpPr>
        <p:grpSpPr>
          <a:xfrm>
            <a:off x="1987200" y="115920"/>
            <a:ext cx="3763440" cy="1091880"/>
            <a:chOff x="1987200" y="115920"/>
            <a:chExt cx="3763440" cy="1091880"/>
          </a:xfrm>
        </p:grpSpPr>
        <mc:AlternateContent>
          <mc:Choice xmlns:a14="http://schemas.microsoft.com/office/drawing/2010/main" Requires="a14">
            <p:sp>
              <p:nvSpPr>
                <p:cNvPr id="1265" name=""/>
                <p:cNvSpPr txBox="1"/>
                <p:nvPr/>
              </p:nvSpPr>
              <p:spPr>
                <a:xfrm>
                  <a:off x="2759760" y="163080"/>
                  <a:ext cx="1698480" cy="501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66" name=""/>
                <p:cNvSpPr txBox="1"/>
                <p:nvPr/>
              </p:nvSpPr>
              <p:spPr>
                <a:xfrm>
                  <a:off x="2805120" y="741960"/>
                  <a:ext cx="1743840" cy="46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64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267" name=""/>
            <p:cNvSpPr/>
            <p:nvPr/>
          </p:nvSpPr>
          <p:spPr>
            <a:xfrm>
              <a:off x="2622240" y="260280"/>
              <a:ext cx="137160" cy="819720"/>
            </a:xfrm>
            <a:custGeom>
              <a:avLst/>
              <a:gdLst>
                <a:gd name="textAreaLeft" fmla="*/ 87840 w 137160"/>
                <a:gd name="textAreaRight" fmla="*/ 137520 w 137160"/>
                <a:gd name="textAreaTop" fmla="*/ 21240 h 819720"/>
                <a:gd name="textAreaBottom" fmla="*/ 79848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1987200" y="357120"/>
              <a:ext cx="5493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(3)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5329080" y="115920"/>
              <a:ext cx="4215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20816"/>
                  </a:solidFill>
                  <a:latin typeface="Times New Roman"/>
                </a:rPr>
                <a:t>①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5329080" y="646560"/>
              <a:ext cx="4215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20816"/>
                  </a:solidFill>
                  <a:latin typeface="Times New Roman"/>
                </a:rPr>
                <a:t>②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"/>
          <p:cNvSpPr/>
          <p:nvPr/>
        </p:nvSpPr>
        <p:spPr>
          <a:xfrm>
            <a:off x="684360" y="189000"/>
            <a:ext cx="76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黑体"/>
              </a:rPr>
              <a:t>三、指出下列方程组求解过程中有错误步骤，并给予订正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468360" y="2133720"/>
            <a:ext cx="3672000" cy="15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解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:①-②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，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　　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2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x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＝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4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-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4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　　　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x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＝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2951280" y="3244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4716360" y="2133720"/>
            <a:ext cx="3816360" cy="16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解　①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-②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，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　　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-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2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x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=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　　　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x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=-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395280" y="3860640"/>
            <a:ext cx="338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解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　①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-②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，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　　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　　　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6" name=""/>
          <p:cNvGrpSpPr/>
          <p:nvPr/>
        </p:nvGrpSpPr>
        <p:grpSpPr>
          <a:xfrm>
            <a:off x="900000" y="1125360"/>
            <a:ext cx="2142360" cy="871560"/>
            <a:chOff x="900000" y="1125360"/>
            <a:chExt cx="2142360" cy="871560"/>
          </a:xfrm>
        </p:grpSpPr>
        <p:sp>
          <p:nvSpPr>
            <p:cNvPr id="1277" name=""/>
            <p:cNvSpPr/>
            <p:nvPr/>
          </p:nvSpPr>
          <p:spPr>
            <a:xfrm>
              <a:off x="900000" y="1332000"/>
              <a:ext cx="144360" cy="50472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12960 h 504720"/>
                <a:gd name="textAreaBottom" fmla="*/ 49176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1018080" y="1125360"/>
              <a:ext cx="200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7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-4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=4    </a:t>
              </a:r>
              <a:r>
                <a:rPr b="1" lang="zh-CN" sz="2600" spc="-1" strike="noStrike">
                  <a:solidFill>
                    <a:srgbClr val="000066"/>
                  </a:solidFill>
                  <a:latin typeface="Arial"/>
                  <a:ea typeface="黑体"/>
                </a:rPr>
                <a:t>①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1005480" y="1476360"/>
              <a:ext cx="203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5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-4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=-4   </a:t>
              </a:r>
              <a:r>
                <a:rPr b="1" lang="zh-CN" sz="2600" spc="-1" strike="noStrike">
                  <a:solidFill>
                    <a:srgbClr val="000066"/>
                  </a:solidFill>
                  <a:latin typeface="Arial"/>
                </a:rPr>
                <a:t>②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0" name=""/>
          <p:cNvGrpSpPr/>
          <p:nvPr/>
        </p:nvGrpSpPr>
        <p:grpSpPr>
          <a:xfrm>
            <a:off x="5076720" y="1197000"/>
            <a:ext cx="2302560" cy="871200"/>
            <a:chOff x="5076720" y="1197000"/>
            <a:chExt cx="2302560" cy="871200"/>
          </a:xfrm>
        </p:grpSpPr>
        <p:sp>
          <p:nvSpPr>
            <p:cNvPr id="1281" name=""/>
            <p:cNvSpPr/>
            <p:nvPr/>
          </p:nvSpPr>
          <p:spPr>
            <a:xfrm>
              <a:off x="5076720" y="1403280"/>
              <a:ext cx="144360" cy="50436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12960 h 504360"/>
                <a:gd name="textAreaBottom" fmla="*/ 491400 h 50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5194440" y="1197000"/>
              <a:ext cx="2184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3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-4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=14    </a:t>
              </a:r>
              <a:r>
                <a:rPr b="1" lang="zh-CN" sz="2600" spc="-1" strike="noStrike">
                  <a:solidFill>
                    <a:srgbClr val="000066"/>
                  </a:solidFill>
                  <a:latin typeface="Arial"/>
                  <a:ea typeface="黑体"/>
                </a:rPr>
                <a:t>①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5182920" y="1547640"/>
              <a:ext cx="217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5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+4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=2     </a:t>
              </a:r>
              <a:r>
                <a:rPr b="1" lang="zh-CN" sz="2600" spc="-1" strike="noStrike">
                  <a:solidFill>
                    <a:srgbClr val="000066"/>
                  </a:solidFill>
                  <a:latin typeface="Arial"/>
                </a:rPr>
                <a:t>②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4" name=""/>
          <p:cNvSpPr/>
          <p:nvPr/>
        </p:nvSpPr>
        <p:spPr>
          <a:xfrm>
            <a:off x="4788000" y="4005360"/>
            <a:ext cx="3319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解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　①＋②，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　　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8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　　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1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1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1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"/>
          <p:cNvSpPr/>
          <p:nvPr/>
        </p:nvSpPr>
        <p:spPr>
          <a:xfrm>
            <a:off x="7164360" y="1413000"/>
            <a:ext cx="181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分别相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3494160" y="206064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7" name=""/>
          <p:cNvGrpSpPr/>
          <p:nvPr/>
        </p:nvGrpSpPr>
        <p:grpSpPr>
          <a:xfrm>
            <a:off x="179280" y="1197000"/>
            <a:ext cx="8964720" cy="1446120"/>
            <a:chOff x="179280" y="1197000"/>
            <a:chExt cx="8964720" cy="1446120"/>
          </a:xfrm>
        </p:grpSpPr>
        <p:sp>
          <p:nvSpPr>
            <p:cNvPr id="1288" name=""/>
            <p:cNvSpPr/>
            <p:nvPr/>
          </p:nvSpPr>
          <p:spPr>
            <a:xfrm>
              <a:off x="179280" y="1269720"/>
              <a:ext cx="896472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1.</a:t>
              </a:r>
              <a:r>
                <a:rPr b="1" lang="zh-CN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已知方程组         ，两个方程只要两边</a:t>
              </a:r>
              <a:r>
                <a:rPr b="1" lang="zh-CN" sz="2800" spc="-1" strike="noStrike" u="sng">
                  <a:solidFill>
                    <a:srgbClr val="000066"/>
                  </a:solidFill>
                  <a:uFillTx/>
                  <a:latin typeface="黑体"/>
                  <a:ea typeface="黑体"/>
                </a:rPr>
                <a:t>       </a:t>
              </a:r>
              <a:r>
                <a:rPr b="1" lang="zh-CN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，就可以消去未知数</a:t>
              </a:r>
              <a:r>
                <a:rPr b="1" lang="zh-CN" sz="2800" spc="-1" strike="noStrike" u="sng">
                  <a:solidFill>
                    <a:srgbClr val="000066"/>
                  </a:solidFill>
                  <a:uFillTx/>
                  <a:latin typeface="黑体"/>
                  <a:ea typeface="黑体"/>
                </a:rPr>
                <a:t>     </a:t>
              </a:r>
              <a:r>
                <a:rPr b="1" lang="zh-CN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9" name=""/>
            <p:cNvGrpSpPr/>
            <p:nvPr/>
          </p:nvGrpSpPr>
          <p:grpSpPr>
            <a:xfrm>
              <a:off x="2447640" y="1197000"/>
              <a:ext cx="1530360" cy="904680"/>
              <a:chOff x="2447640" y="1197000"/>
              <a:chExt cx="1530360" cy="904680"/>
            </a:xfrm>
          </p:grpSpPr>
          <p:sp>
            <p:nvSpPr>
              <p:cNvPr id="1290" name=""/>
              <p:cNvSpPr/>
              <p:nvPr/>
            </p:nvSpPr>
            <p:spPr>
              <a:xfrm>
                <a:off x="2447640" y="1438200"/>
                <a:ext cx="144360" cy="503280"/>
              </a:xfrm>
              <a:custGeom>
                <a:avLst/>
                <a:gdLst>
                  <a:gd name="textAreaLeft" fmla="*/ 92160 w 144360"/>
                  <a:gd name="textAreaRight" fmla="*/ 144360 w 144360"/>
                  <a:gd name="textAreaTop" fmla="*/ 12960 h 503280"/>
                  <a:gd name="textAreaBottom" fmla="*/ 490320 h 503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2521800" y="1197000"/>
                <a:ext cx="1456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+3</a:t>
                </a: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y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=17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2521800" y="1581120"/>
                <a:ext cx="1372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2</a:t>
                </a: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-3</a:t>
                </a: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y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=6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93" name=""/>
          <p:cNvSpPr/>
          <p:nvPr/>
        </p:nvSpPr>
        <p:spPr>
          <a:xfrm>
            <a:off x="7525080" y="3068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分别相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3420000" y="371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5" name=""/>
          <p:cNvGrpSpPr/>
          <p:nvPr/>
        </p:nvGrpSpPr>
        <p:grpSpPr>
          <a:xfrm>
            <a:off x="250920" y="0"/>
            <a:ext cx="2476440" cy="736200"/>
            <a:chOff x="250920" y="0"/>
            <a:chExt cx="2476440" cy="736200"/>
          </a:xfrm>
        </p:grpSpPr>
        <p:sp>
          <p:nvSpPr>
            <p:cNvPr id="1296" name=""/>
            <p:cNvSpPr/>
            <p:nvPr/>
          </p:nvSpPr>
          <p:spPr>
            <a:xfrm>
              <a:off x="250920" y="0"/>
              <a:ext cx="2476440" cy="636120"/>
            </a:xfrm>
            <a:prstGeom prst="rect">
              <a:avLst/>
            </a:prstGeom>
            <a:gradFill rotWithShape="0">
              <a:gsLst>
                <a:gs pos="0">
                  <a:srgbClr val="b8e0be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561240" y="459360"/>
              <a:ext cx="2106000" cy="176760"/>
            </a:xfrm>
            <a:prstGeom prst="pi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8" name=""/>
            <p:cNvGrpSpPr/>
            <p:nvPr/>
          </p:nvGrpSpPr>
          <p:grpSpPr>
            <a:xfrm>
              <a:off x="297360" y="46800"/>
              <a:ext cx="518400" cy="589320"/>
              <a:chOff x="297360" y="46800"/>
              <a:chExt cx="518400" cy="589320"/>
            </a:xfrm>
          </p:grpSpPr>
          <p:grpSp>
            <p:nvGrpSpPr>
              <p:cNvPr id="1299" name=""/>
              <p:cNvGrpSpPr/>
              <p:nvPr/>
            </p:nvGrpSpPr>
            <p:grpSpPr>
              <a:xfrm>
                <a:off x="332280" y="109800"/>
                <a:ext cx="483480" cy="526320"/>
                <a:chOff x="332280" y="109800"/>
                <a:chExt cx="483480" cy="526320"/>
              </a:xfrm>
            </p:grpSpPr>
            <p:sp>
              <p:nvSpPr>
                <p:cNvPr id="1300" name=""/>
                <p:cNvSpPr/>
                <p:nvPr/>
              </p:nvSpPr>
              <p:spPr>
                <a:xfrm>
                  <a:off x="360000" y="109800"/>
                  <a:ext cx="416880" cy="49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66"/>
                    </a:gs>
                    <a:gs pos="100000">
                      <a:srgbClr val="ffcc00"/>
                    </a:gs>
                  </a:gsLst>
                  <a:lin ang="13500000"/>
                </a:gradFill>
                <a:ln w="1260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01" name=""/>
                <p:cNvGrpSpPr/>
                <p:nvPr/>
              </p:nvGrpSpPr>
              <p:grpSpPr>
                <a:xfrm>
                  <a:off x="332280" y="179640"/>
                  <a:ext cx="483480" cy="456480"/>
                  <a:chOff x="332280" y="179640"/>
                  <a:chExt cx="483480" cy="456480"/>
                </a:xfrm>
              </p:grpSpPr>
              <p:sp>
                <p:nvSpPr>
                  <p:cNvPr id="1302" name="未知"/>
                  <p:cNvSpPr/>
                  <p:nvPr/>
                </p:nvSpPr>
                <p:spPr>
                  <a:xfrm>
                    <a:off x="332280" y="295920"/>
                    <a:ext cx="367560" cy="69480"/>
                  </a:xfrm>
                  <a:custGeom>
                    <a:avLst/>
                    <a:gdLst/>
                    <a:ahLst/>
                    <a:rect l="l" t="t" r="r" b="b"/>
                    <a:pathLst>
                      <a:path w="1497" h="317">
                        <a:moveTo>
                          <a:pt x="0" y="0"/>
                        </a:moveTo>
                        <a:lnTo>
                          <a:pt x="817" y="227"/>
                        </a:lnTo>
                        <a:lnTo>
                          <a:pt x="1497" y="45"/>
                        </a:lnTo>
                        <a:lnTo>
                          <a:pt x="1497" y="136"/>
                        </a:lnTo>
                        <a:lnTo>
                          <a:pt x="817" y="317"/>
                        </a:lnTo>
                        <a:lnTo>
                          <a:pt x="0" y="9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100000">
                        <a:srgbClr val="ff9900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3" name="未知"/>
                  <p:cNvSpPr/>
                  <p:nvPr/>
                </p:nvSpPr>
                <p:spPr>
                  <a:xfrm>
                    <a:off x="332280" y="255960"/>
                    <a:ext cx="367560" cy="8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497" h="409">
                        <a:moveTo>
                          <a:pt x="0" y="182"/>
                        </a:moveTo>
                        <a:lnTo>
                          <a:pt x="817" y="409"/>
                        </a:lnTo>
                        <a:lnTo>
                          <a:pt x="1497" y="227"/>
                        </a:lnTo>
                        <a:lnTo>
                          <a:pt x="590" y="0"/>
                        </a:lnTo>
                        <a:lnTo>
                          <a:pt x="0" y="182"/>
                        </a:lnTo>
                        <a:close/>
                      </a:path>
                    </a:pathLst>
                  </a:custGeom>
                  <a:blipFill rotWithShape="0">
                    <a:blip r:embed="rId1"/>
                    <a:srcRect/>
                    <a:tile tx="0" ty="0" sx="100000" sy="100000" algn="ctr"/>
                  </a:blipFill>
                  <a:ln w="38160">
                    <a:solidFill>
                      <a:srgbClr val="9966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840" bIns="42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4" name="未知"/>
                  <p:cNvSpPr/>
                  <p:nvPr/>
                </p:nvSpPr>
                <p:spPr>
                  <a:xfrm>
                    <a:off x="365760" y="325800"/>
                    <a:ext cx="289800" cy="89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80" h="408">
                        <a:moveTo>
                          <a:pt x="0" y="0"/>
                        </a:moveTo>
                        <a:lnTo>
                          <a:pt x="726" y="181"/>
                        </a:lnTo>
                        <a:lnTo>
                          <a:pt x="1180" y="45"/>
                        </a:lnTo>
                        <a:lnTo>
                          <a:pt x="1134" y="227"/>
                        </a:lnTo>
                        <a:lnTo>
                          <a:pt x="726" y="408"/>
                        </a:lnTo>
                        <a:lnTo>
                          <a:pt x="46" y="18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blipFill rotWithShape="0">
                    <a:blip r:embed="rId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480" bIns="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5" name="未知"/>
                  <p:cNvSpPr/>
                  <p:nvPr/>
                </p:nvSpPr>
                <p:spPr>
                  <a:xfrm>
                    <a:off x="488160" y="395280"/>
                    <a:ext cx="33480" cy="11952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545">
                        <a:moveTo>
                          <a:pt x="0" y="0"/>
                        </a:moveTo>
                        <a:lnTo>
                          <a:pt x="136" y="46"/>
                        </a:lnTo>
                        <a:lnTo>
                          <a:pt x="91" y="136"/>
                        </a:lnTo>
                        <a:lnTo>
                          <a:pt x="136" y="318"/>
                        </a:lnTo>
                        <a:lnTo>
                          <a:pt x="136" y="545"/>
                        </a:lnTo>
                        <a:lnTo>
                          <a:pt x="46" y="545"/>
                        </a:lnTo>
                        <a:lnTo>
                          <a:pt x="0" y="318"/>
                        </a:lnTo>
                        <a:lnTo>
                          <a:pt x="0" y="18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6699"/>
                      </a:gs>
                      <a:gs pos="50000">
                        <a:srgbClr val="ffffff"/>
                      </a:gs>
                      <a:gs pos="100000">
                        <a:srgbClr val="666699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6" name="未知"/>
                  <p:cNvSpPr/>
                  <p:nvPr/>
                </p:nvSpPr>
                <p:spPr>
                  <a:xfrm>
                    <a:off x="477720" y="500400"/>
                    <a:ext cx="6408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370" h="158">
                        <a:moveTo>
                          <a:pt x="181" y="106"/>
                        </a:moveTo>
                        <a:cubicBezTo>
                          <a:pt x="151" y="106"/>
                          <a:pt x="106" y="121"/>
                          <a:pt x="91" y="106"/>
                        </a:cubicBezTo>
                        <a:cubicBezTo>
                          <a:pt x="76" y="91"/>
                          <a:pt x="106" y="15"/>
                          <a:pt x="91" y="15"/>
                        </a:cubicBezTo>
                        <a:cubicBezTo>
                          <a:pt x="76" y="15"/>
                          <a:pt x="0" y="83"/>
                          <a:pt x="0" y="106"/>
                        </a:cubicBezTo>
                        <a:cubicBezTo>
                          <a:pt x="0" y="129"/>
                          <a:pt x="46" y="144"/>
                          <a:pt x="91" y="151"/>
                        </a:cubicBezTo>
                        <a:cubicBezTo>
                          <a:pt x="136" y="158"/>
                          <a:pt x="227" y="158"/>
                          <a:pt x="272" y="151"/>
                        </a:cubicBezTo>
                        <a:cubicBezTo>
                          <a:pt x="317" y="144"/>
                          <a:pt x="356" y="129"/>
                          <a:pt x="363" y="106"/>
                        </a:cubicBezTo>
                        <a:cubicBezTo>
                          <a:pt x="370" y="83"/>
                          <a:pt x="340" y="30"/>
                          <a:pt x="317" y="15"/>
                        </a:cubicBezTo>
                        <a:cubicBezTo>
                          <a:pt x="294" y="0"/>
                          <a:pt x="234" y="0"/>
                          <a:pt x="227" y="15"/>
                        </a:cubicBezTo>
                        <a:cubicBezTo>
                          <a:pt x="220" y="30"/>
                          <a:pt x="280" y="91"/>
                          <a:pt x="272" y="106"/>
                        </a:cubicBezTo>
                        <a:cubicBezTo>
                          <a:pt x="264" y="121"/>
                          <a:pt x="211" y="106"/>
                          <a:pt x="181" y="106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ec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7" name="未知"/>
                  <p:cNvSpPr/>
                  <p:nvPr/>
                </p:nvSpPr>
                <p:spPr>
                  <a:xfrm>
                    <a:off x="383400" y="495720"/>
                    <a:ext cx="275400" cy="140400"/>
                  </a:xfrm>
                  <a:custGeom>
                    <a:avLst/>
                    <a:gdLst/>
                    <a:ahLst/>
                    <a:rect l="l" t="t" r="r" b="b"/>
                    <a:pathLst>
                      <a:path w="1587" h="907">
                        <a:moveTo>
                          <a:pt x="1496" y="0"/>
                        </a:moveTo>
                        <a:lnTo>
                          <a:pt x="1587" y="90"/>
                        </a:lnTo>
                        <a:lnTo>
                          <a:pt x="1496" y="181"/>
                        </a:lnTo>
                        <a:lnTo>
                          <a:pt x="907" y="499"/>
                        </a:lnTo>
                        <a:lnTo>
                          <a:pt x="1224" y="589"/>
                        </a:lnTo>
                        <a:lnTo>
                          <a:pt x="1406" y="725"/>
                        </a:lnTo>
                        <a:lnTo>
                          <a:pt x="1360" y="861"/>
                        </a:lnTo>
                        <a:lnTo>
                          <a:pt x="1270" y="907"/>
                        </a:lnTo>
                        <a:lnTo>
                          <a:pt x="1134" y="816"/>
                        </a:lnTo>
                        <a:lnTo>
                          <a:pt x="771" y="725"/>
                        </a:lnTo>
                        <a:lnTo>
                          <a:pt x="226" y="635"/>
                        </a:lnTo>
                        <a:lnTo>
                          <a:pt x="90" y="635"/>
                        </a:lnTo>
                        <a:lnTo>
                          <a:pt x="0" y="544"/>
                        </a:lnTo>
                        <a:lnTo>
                          <a:pt x="90" y="453"/>
                        </a:lnTo>
                        <a:lnTo>
                          <a:pt x="362" y="453"/>
                        </a:lnTo>
                        <a:lnTo>
                          <a:pt x="589" y="453"/>
                        </a:lnTo>
                        <a:lnTo>
                          <a:pt x="680" y="453"/>
                        </a:lnTo>
                        <a:lnTo>
                          <a:pt x="635" y="362"/>
                        </a:lnTo>
                        <a:lnTo>
                          <a:pt x="589" y="226"/>
                        </a:lnTo>
                        <a:lnTo>
                          <a:pt x="544" y="136"/>
                        </a:lnTo>
                        <a:lnTo>
                          <a:pt x="635" y="181"/>
                        </a:lnTo>
                        <a:lnTo>
                          <a:pt x="771" y="181"/>
                        </a:lnTo>
                        <a:lnTo>
                          <a:pt x="861" y="181"/>
                        </a:lnTo>
                        <a:lnTo>
                          <a:pt x="907" y="90"/>
                        </a:lnTo>
                        <a:lnTo>
                          <a:pt x="907" y="226"/>
                        </a:lnTo>
                        <a:lnTo>
                          <a:pt x="861" y="362"/>
                        </a:lnTo>
                        <a:lnTo>
                          <a:pt x="1224" y="181"/>
                        </a:lnTo>
                        <a:lnTo>
                          <a:pt x="1360" y="136"/>
                        </a:lnTo>
                        <a:lnTo>
                          <a:pt x="1406" y="45"/>
                        </a:lnTo>
                        <a:lnTo>
                          <a:pt x="1496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66699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8" name="未知"/>
                  <p:cNvSpPr/>
                  <p:nvPr/>
                </p:nvSpPr>
                <p:spPr>
                  <a:xfrm>
                    <a:off x="635400" y="404280"/>
                    <a:ext cx="141480" cy="112320"/>
                  </a:xfrm>
                  <a:custGeom>
                    <a:avLst/>
                    <a:gdLst/>
                    <a:ahLst/>
                    <a:rect l="l" t="t" r="r" b="b"/>
                    <a:pathLst>
                      <a:path w="817" h="726">
                        <a:moveTo>
                          <a:pt x="182" y="0"/>
                        </a:moveTo>
                        <a:lnTo>
                          <a:pt x="182" y="136"/>
                        </a:lnTo>
                        <a:lnTo>
                          <a:pt x="227" y="317"/>
                        </a:lnTo>
                        <a:lnTo>
                          <a:pt x="227" y="408"/>
                        </a:lnTo>
                        <a:lnTo>
                          <a:pt x="0" y="499"/>
                        </a:lnTo>
                        <a:lnTo>
                          <a:pt x="0" y="590"/>
                        </a:lnTo>
                        <a:lnTo>
                          <a:pt x="136" y="635"/>
                        </a:lnTo>
                        <a:lnTo>
                          <a:pt x="136" y="726"/>
                        </a:lnTo>
                        <a:lnTo>
                          <a:pt x="272" y="635"/>
                        </a:lnTo>
                        <a:lnTo>
                          <a:pt x="363" y="590"/>
                        </a:lnTo>
                        <a:lnTo>
                          <a:pt x="454" y="590"/>
                        </a:lnTo>
                        <a:lnTo>
                          <a:pt x="635" y="635"/>
                        </a:lnTo>
                        <a:lnTo>
                          <a:pt x="771" y="635"/>
                        </a:lnTo>
                        <a:lnTo>
                          <a:pt x="817" y="544"/>
                        </a:lnTo>
                        <a:lnTo>
                          <a:pt x="635" y="453"/>
                        </a:lnTo>
                        <a:lnTo>
                          <a:pt x="499" y="453"/>
                        </a:lnTo>
                        <a:lnTo>
                          <a:pt x="408" y="272"/>
                        </a:lnTo>
                        <a:lnTo>
                          <a:pt x="408" y="45"/>
                        </a:lnTo>
                        <a:lnTo>
                          <a:pt x="182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66699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9" name="未知"/>
                  <p:cNvSpPr/>
                  <p:nvPr/>
                </p:nvSpPr>
                <p:spPr>
                  <a:xfrm>
                    <a:off x="603720" y="179640"/>
                    <a:ext cx="212040" cy="231840"/>
                  </a:xfrm>
                  <a:custGeom>
                    <a:avLst/>
                    <a:gdLst/>
                    <a:ahLst/>
                    <a:rect l="l" t="t" r="r" b="b"/>
                    <a:pathLst>
                      <a:path w="1224" h="1497">
                        <a:moveTo>
                          <a:pt x="0" y="1361"/>
                        </a:moveTo>
                        <a:lnTo>
                          <a:pt x="136" y="1316"/>
                        </a:lnTo>
                        <a:lnTo>
                          <a:pt x="635" y="1407"/>
                        </a:lnTo>
                        <a:lnTo>
                          <a:pt x="1088" y="1044"/>
                        </a:lnTo>
                        <a:lnTo>
                          <a:pt x="1043" y="227"/>
                        </a:lnTo>
                        <a:lnTo>
                          <a:pt x="317" y="136"/>
                        </a:lnTo>
                        <a:lnTo>
                          <a:pt x="317" y="46"/>
                        </a:lnTo>
                        <a:lnTo>
                          <a:pt x="453" y="0"/>
                        </a:lnTo>
                        <a:lnTo>
                          <a:pt x="1134" y="91"/>
                        </a:lnTo>
                        <a:lnTo>
                          <a:pt x="1224" y="1134"/>
                        </a:lnTo>
                        <a:lnTo>
                          <a:pt x="861" y="1407"/>
                        </a:lnTo>
                        <a:lnTo>
                          <a:pt x="680" y="1497"/>
                        </a:lnTo>
                        <a:lnTo>
                          <a:pt x="0" y="136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006600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0" name="未知"/>
                  <p:cNvSpPr/>
                  <p:nvPr/>
                </p:nvSpPr>
                <p:spPr>
                  <a:xfrm>
                    <a:off x="619560" y="200520"/>
                    <a:ext cx="172800" cy="189720"/>
                  </a:xfrm>
                  <a:custGeom>
                    <a:avLst/>
                    <a:gdLst/>
                    <a:ahLst/>
                    <a:rect l="l" t="t" r="r" b="b"/>
                    <a:pathLst>
                      <a:path w="998" h="1225">
                        <a:moveTo>
                          <a:pt x="227" y="0"/>
                        </a:moveTo>
                        <a:lnTo>
                          <a:pt x="227" y="454"/>
                        </a:lnTo>
                        <a:lnTo>
                          <a:pt x="136" y="590"/>
                        </a:lnTo>
                        <a:lnTo>
                          <a:pt x="454" y="635"/>
                        </a:lnTo>
                        <a:lnTo>
                          <a:pt x="454" y="817"/>
                        </a:lnTo>
                        <a:lnTo>
                          <a:pt x="227" y="862"/>
                        </a:lnTo>
                        <a:lnTo>
                          <a:pt x="136" y="1089"/>
                        </a:lnTo>
                        <a:lnTo>
                          <a:pt x="0" y="1180"/>
                        </a:lnTo>
                        <a:lnTo>
                          <a:pt x="545" y="1225"/>
                        </a:lnTo>
                        <a:lnTo>
                          <a:pt x="998" y="908"/>
                        </a:lnTo>
                        <a:lnTo>
                          <a:pt x="953" y="91"/>
                        </a:lnTo>
                        <a:lnTo>
                          <a:pt x="227" y="0"/>
                        </a:lnTo>
                        <a:close/>
                      </a:path>
                    </a:pathLst>
                  </a:custGeom>
                  <a:blipFill rotWithShape="0">
                    <a:blip r:embed="rId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11" name=""/>
              <p:cNvGrpSpPr/>
              <p:nvPr/>
            </p:nvGrpSpPr>
            <p:grpSpPr>
              <a:xfrm>
                <a:off x="297360" y="46800"/>
                <a:ext cx="243720" cy="168120"/>
                <a:chOff x="297360" y="46800"/>
                <a:chExt cx="243720" cy="168120"/>
              </a:xfrm>
            </p:grpSpPr>
            <p:sp>
              <p:nvSpPr>
                <p:cNvPr id="1312" name="未知"/>
                <p:cNvSpPr/>
                <p:nvPr/>
              </p:nvSpPr>
              <p:spPr>
                <a:xfrm>
                  <a:off x="297360" y="116640"/>
                  <a:ext cx="141480" cy="98280"/>
                </a:xfrm>
                <a:custGeom>
                  <a:avLst/>
                  <a:gdLst/>
                  <a:ahLst/>
                  <a:rect l="l" t="t" r="r" b="b"/>
                  <a:pathLst>
                    <a:path w="816" h="635">
                      <a:moveTo>
                        <a:pt x="816" y="499"/>
                      </a:moveTo>
                      <a:lnTo>
                        <a:pt x="635" y="635"/>
                      </a:lnTo>
                      <a:lnTo>
                        <a:pt x="45" y="136"/>
                      </a:lnTo>
                      <a:lnTo>
                        <a:pt x="0" y="0"/>
                      </a:lnTo>
                      <a:lnTo>
                        <a:pt x="816" y="49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0099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3" name="未知"/>
                <p:cNvSpPr/>
                <p:nvPr/>
              </p:nvSpPr>
              <p:spPr>
                <a:xfrm>
                  <a:off x="367920" y="46800"/>
                  <a:ext cx="117720" cy="140400"/>
                </a:xfrm>
                <a:custGeom>
                  <a:avLst/>
                  <a:gdLst/>
                  <a:ahLst/>
                  <a:rect l="l" t="t" r="r" b="b"/>
                  <a:pathLst>
                    <a:path w="680" h="907">
                      <a:moveTo>
                        <a:pt x="453" y="907"/>
                      </a:moveTo>
                      <a:lnTo>
                        <a:pt x="680" y="771"/>
                      </a:lnTo>
                      <a:lnTo>
                        <a:pt x="0" y="0"/>
                      </a:lnTo>
                      <a:lnTo>
                        <a:pt x="0" y="136"/>
                      </a:lnTo>
                      <a:lnTo>
                        <a:pt x="453" y="90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008a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4" name="未知"/>
                <p:cNvSpPr/>
                <p:nvPr/>
              </p:nvSpPr>
              <p:spPr>
                <a:xfrm>
                  <a:off x="470520" y="67680"/>
                  <a:ext cx="70560" cy="83880"/>
                </a:xfrm>
                <a:custGeom>
                  <a:avLst/>
                  <a:gdLst/>
                  <a:ahLst/>
                  <a:rect l="l" t="t" r="r" b="b"/>
                  <a:pathLst>
                    <a:path w="408" h="544">
                      <a:moveTo>
                        <a:pt x="226" y="544"/>
                      </a:moveTo>
                      <a:lnTo>
                        <a:pt x="408" y="499"/>
                      </a:lnTo>
                      <a:lnTo>
                        <a:pt x="90" y="0"/>
                      </a:lnTo>
                      <a:lnTo>
                        <a:pt x="0" y="90"/>
                      </a:lnTo>
                      <a:lnTo>
                        <a:pt x="226" y="54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35ad35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15" name=""/>
            <p:cNvSpPr txBox="1"/>
            <p:nvPr/>
          </p:nvSpPr>
          <p:spPr>
            <a:xfrm>
              <a:off x="856800" y="47880"/>
              <a:ext cx="1820520" cy="41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6000" spc="-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4"/>
                    <a:srcRect/>
                    <a:stretch/>
                  </a:blip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黑体"/>
                </a:rPr>
                <a:t>课时练习</a:t>
              </a:r>
              <a:endParaRPr b="1" i="1" lang="en-US" sz="60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黑体"/>
                <a:ea typeface="黑体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1274040" y="369360"/>
              <a:ext cx="8553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7" name=""/>
          <p:cNvSpPr/>
          <p:nvPr/>
        </p:nvSpPr>
        <p:spPr>
          <a:xfrm>
            <a:off x="3751920" y="549360"/>
            <a:ext cx="177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一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填空题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8" name=""/>
          <p:cNvGrpSpPr/>
          <p:nvPr/>
        </p:nvGrpSpPr>
        <p:grpSpPr>
          <a:xfrm>
            <a:off x="179280" y="2925720"/>
            <a:ext cx="8964720" cy="1446120"/>
            <a:chOff x="179280" y="2925720"/>
            <a:chExt cx="8964720" cy="1446120"/>
          </a:xfrm>
        </p:grpSpPr>
        <p:sp>
          <p:nvSpPr>
            <p:cNvPr id="1319" name=""/>
            <p:cNvSpPr/>
            <p:nvPr/>
          </p:nvSpPr>
          <p:spPr>
            <a:xfrm>
              <a:off x="179280" y="2998440"/>
              <a:ext cx="896472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2.</a:t>
              </a:r>
              <a:r>
                <a:rPr b="1" lang="zh-CN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已知方程组         ，两个方程只要两边</a:t>
              </a:r>
              <a:r>
                <a:rPr b="1" lang="zh-CN" sz="2800" spc="-1" strike="noStrike" u="sng">
                  <a:solidFill>
                    <a:srgbClr val="000066"/>
                  </a:solidFill>
                  <a:uFillTx/>
                  <a:latin typeface="黑体"/>
                  <a:ea typeface="黑体"/>
                </a:rPr>
                <a:t>       </a:t>
              </a:r>
              <a:r>
                <a:rPr b="1" lang="zh-CN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，就可以消去未知数</a:t>
              </a:r>
              <a:r>
                <a:rPr b="1" lang="zh-CN" sz="2800" spc="-1" strike="noStrike" u="sng">
                  <a:solidFill>
                    <a:srgbClr val="000066"/>
                  </a:solidFill>
                  <a:uFillTx/>
                  <a:latin typeface="黑体"/>
                  <a:ea typeface="黑体"/>
                </a:rPr>
                <a:t>     </a:t>
              </a:r>
              <a:r>
                <a:rPr b="1" lang="zh-CN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0" name=""/>
            <p:cNvGrpSpPr/>
            <p:nvPr/>
          </p:nvGrpSpPr>
          <p:grpSpPr>
            <a:xfrm>
              <a:off x="2447640" y="2925720"/>
              <a:ext cx="1886760" cy="904680"/>
              <a:chOff x="2447640" y="2925720"/>
              <a:chExt cx="1886760" cy="904680"/>
            </a:xfrm>
          </p:grpSpPr>
          <p:sp>
            <p:nvSpPr>
              <p:cNvPr id="1321" name=""/>
              <p:cNvSpPr/>
              <p:nvPr/>
            </p:nvSpPr>
            <p:spPr>
              <a:xfrm>
                <a:off x="2447640" y="3166920"/>
                <a:ext cx="144360" cy="503280"/>
              </a:xfrm>
              <a:custGeom>
                <a:avLst/>
                <a:gdLst>
                  <a:gd name="textAreaLeft" fmla="*/ 92160 w 144360"/>
                  <a:gd name="textAreaRight" fmla="*/ 144360 w 144360"/>
                  <a:gd name="textAreaTop" fmla="*/ 12960 h 503280"/>
                  <a:gd name="textAreaBottom" fmla="*/ 490320 h 503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2521080" y="2925720"/>
                <a:ext cx="1729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25</a:t>
                </a: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-7</a:t>
                </a: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y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=16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2521440" y="3309840"/>
                <a:ext cx="1812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25</a:t>
                </a: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+6</a:t>
                </a: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y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=1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24" name=""/>
          <p:cNvGrpSpPr/>
          <p:nvPr/>
        </p:nvGrpSpPr>
        <p:grpSpPr>
          <a:xfrm>
            <a:off x="932760" y="4869000"/>
            <a:ext cx="7095240" cy="921960"/>
            <a:chOff x="932760" y="4869000"/>
            <a:chExt cx="7095240" cy="921960"/>
          </a:xfrm>
        </p:grpSpPr>
        <p:sp>
          <p:nvSpPr>
            <p:cNvPr id="1325" name=""/>
            <p:cNvSpPr/>
            <p:nvPr/>
          </p:nvSpPr>
          <p:spPr>
            <a:xfrm>
              <a:off x="7093080" y="5049720"/>
              <a:ext cx="183960" cy="5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932760" y="5084640"/>
              <a:ext cx="2570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3</a:t>
              </a:r>
              <a:r>
                <a:rPr b="1" lang="zh-CN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、已知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a</a:t>
              </a:r>
              <a:r>
                <a:rPr b="1" i="1" lang="zh-CN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、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b</a:t>
              </a:r>
              <a:r>
                <a:rPr b="1" lang="zh-CN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满足方程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7" name=""/>
            <p:cNvGrpSpPr/>
            <p:nvPr/>
          </p:nvGrpSpPr>
          <p:grpSpPr>
            <a:xfrm>
              <a:off x="4140360" y="4869000"/>
              <a:ext cx="1335240" cy="921960"/>
              <a:chOff x="4140360" y="4869000"/>
              <a:chExt cx="1335240" cy="921960"/>
            </a:xfrm>
          </p:grpSpPr>
          <p:sp>
            <p:nvSpPr>
              <p:cNvPr id="1328" name=""/>
              <p:cNvSpPr/>
              <p:nvPr/>
            </p:nvSpPr>
            <p:spPr>
              <a:xfrm>
                <a:off x="4140360" y="5110200"/>
                <a:ext cx="71640" cy="502920"/>
              </a:xfrm>
              <a:custGeom>
                <a:avLst/>
                <a:gdLst>
                  <a:gd name="textAreaLeft" fmla="*/ 45720 w 71640"/>
                  <a:gd name="textAreaRight" fmla="*/ 72000 w 71640"/>
                  <a:gd name="textAreaTop" fmla="*/ 12960 h 502920"/>
                  <a:gd name="textAreaBottom" fmla="*/ 489960 h 502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232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4176720" y="4869000"/>
                <a:ext cx="1298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+2</a:t>
                </a: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b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=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4168800" y="5270400"/>
                <a:ext cx="1298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2</a:t>
                </a: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+</a:t>
                </a: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b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=7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1" name=""/>
            <p:cNvSpPr/>
            <p:nvPr/>
          </p:nvSpPr>
          <p:spPr>
            <a:xfrm>
              <a:off x="5508720" y="5084640"/>
              <a:ext cx="251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则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a+b= </a:t>
              </a:r>
              <a:r>
                <a:rPr b="1" i="1" lang="en-US" sz="2800" spc="-1" strike="noStrike" u="sng">
                  <a:solidFill>
                    <a:srgbClr val="000066"/>
                  </a:solidFill>
                  <a:uFillTx/>
                  <a:latin typeface="Times New Roman"/>
                  <a:ea typeface="黑体"/>
                </a:rPr>
                <a:t>           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2" name=""/>
          <p:cNvSpPr/>
          <p:nvPr/>
        </p:nvSpPr>
        <p:spPr>
          <a:xfrm>
            <a:off x="6948720" y="5013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8" dur="5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8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"/>
          <p:cNvSpPr/>
          <p:nvPr/>
        </p:nvSpPr>
        <p:spPr>
          <a:xfrm>
            <a:off x="2124000" y="189000"/>
            <a:ext cx="239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二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选择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4" name=""/>
          <p:cNvGrpSpPr/>
          <p:nvPr/>
        </p:nvGrpSpPr>
        <p:grpSpPr>
          <a:xfrm>
            <a:off x="179280" y="765000"/>
            <a:ext cx="8498160" cy="1810800"/>
            <a:chOff x="179280" y="765000"/>
            <a:chExt cx="8498160" cy="1810800"/>
          </a:xfrm>
        </p:grpSpPr>
        <p:grpSp>
          <p:nvGrpSpPr>
            <p:cNvPr id="1335" name=""/>
            <p:cNvGrpSpPr/>
            <p:nvPr/>
          </p:nvGrpSpPr>
          <p:grpSpPr>
            <a:xfrm>
              <a:off x="179280" y="765000"/>
              <a:ext cx="7564320" cy="919080"/>
              <a:chOff x="179280" y="765000"/>
              <a:chExt cx="7564320" cy="919080"/>
            </a:xfrm>
          </p:grpSpPr>
          <p:sp>
            <p:nvSpPr>
              <p:cNvPr id="1336" name=""/>
              <p:cNvSpPr/>
              <p:nvPr/>
            </p:nvSpPr>
            <p:spPr>
              <a:xfrm>
                <a:off x="179280" y="981000"/>
                <a:ext cx="434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66"/>
                    </a:solidFill>
                    <a:latin typeface="黑体"/>
                    <a:ea typeface="黑体"/>
                  </a:rPr>
                  <a:t>1. </a:t>
                </a:r>
                <a:r>
                  <a:rPr b="1" lang="zh-CN" sz="2800" spc="-1" strike="noStrike">
                    <a:solidFill>
                      <a:srgbClr val="000066"/>
                    </a:solidFill>
                    <a:latin typeface="黑体"/>
                    <a:ea typeface="黑体"/>
                  </a:rPr>
                  <a:t>用加减法解方程组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7" name=""/>
              <p:cNvGrpSpPr/>
              <p:nvPr/>
            </p:nvGrpSpPr>
            <p:grpSpPr>
              <a:xfrm>
                <a:off x="3671640" y="765000"/>
                <a:ext cx="2824200" cy="919080"/>
                <a:chOff x="3671640" y="765000"/>
                <a:chExt cx="2824200" cy="919080"/>
              </a:xfrm>
            </p:grpSpPr>
            <p:sp>
              <p:nvSpPr>
                <p:cNvPr id="1338" name=""/>
                <p:cNvSpPr/>
                <p:nvPr/>
              </p:nvSpPr>
              <p:spPr>
                <a:xfrm>
                  <a:off x="3671640" y="981000"/>
                  <a:ext cx="144720" cy="576360"/>
                </a:xfrm>
                <a:custGeom>
                  <a:avLst/>
                  <a:gdLst>
                    <a:gd name="textAreaLeft" fmla="*/ 92520 w 144720"/>
                    <a:gd name="textAreaRight" fmla="*/ 145080 w 144720"/>
                    <a:gd name="textAreaTop" fmla="*/ 14760 h 576360"/>
                    <a:gd name="textAreaBottom" fmla="*/ 561600 h 576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5400" y="10800"/>
                        <a:pt x="0" y="10800"/>
                      </a:cubicBezTo>
                      <a:cubicBezTo>
                        <a:pt x="54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255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9" name=""/>
                <p:cNvSpPr/>
                <p:nvPr/>
              </p:nvSpPr>
              <p:spPr>
                <a:xfrm>
                  <a:off x="3752640" y="765000"/>
                  <a:ext cx="2743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66"/>
                      </a:solidFill>
                      <a:latin typeface="Times New Roman"/>
                    </a:rPr>
                    <a:t>6</a:t>
                  </a:r>
                  <a:r>
                    <a:rPr b="1" i="1" lang="en-US" sz="2800" spc="-1" strike="noStrike">
                      <a:solidFill>
                        <a:srgbClr val="000066"/>
                      </a:solidFill>
                      <a:latin typeface="Times New Roman"/>
                    </a:rPr>
                    <a:t>x</a:t>
                  </a:r>
                  <a:r>
                    <a:rPr b="1" lang="en-US" sz="2800" spc="-1" strike="noStrike">
                      <a:solidFill>
                        <a:srgbClr val="000066"/>
                      </a:solidFill>
                      <a:latin typeface="Times New Roman"/>
                    </a:rPr>
                    <a:t>+7</a:t>
                  </a:r>
                  <a:r>
                    <a:rPr b="1" i="1" lang="en-US" sz="2800" spc="-1" strike="noStrike">
                      <a:solidFill>
                        <a:srgbClr val="000066"/>
                      </a:solidFill>
                      <a:latin typeface="Times New Roman"/>
                    </a:rPr>
                    <a:t>y</a:t>
                  </a:r>
                  <a:r>
                    <a:rPr b="1" lang="en-US" sz="2800" spc="-1" strike="noStrike">
                      <a:solidFill>
                        <a:srgbClr val="000066"/>
                      </a:solidFill>
                      <a:latin typeface="Times New Roman"/>
                    </a:rPr>
                    <a:t>=-19</a:t>
                  </a:r>
                  <a:r>
                    <a:rPr b="1" lang="en-US" sz="2600" spc="-1" strike="noStrike">
                      <a:solidFill>
                        <a:srgbClr val="000066"/>
                      </a:solidFill>
                      <a:latin typeface="Times New Roman"/>
                    </a:rPr>
                    <a:t>①</a:t>
                  </a:r>
                  <a:endParaRPr b="0" lang="en-US" sz="2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0" name=""/>
                <p:cNvSpPr/>
                <p:nvPr/>
              </p:nvSpPr>
              <p:spPr>
                <a:xfrm>
                  <a:off x="3749760" y="1163520"/>
                  <a:ext cx="23619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66"/>
                      </a:solidFill>
                      <a:latin typeface="Times New Roman"/>
                    </a:rPr>
                    <a:t>6</a:t>
                  </a:r>
                  <a:r>
                    <a:rPr b="1" i="1" lang="en-US" sz="2800" spc="-1" strike="noStrike">
                      <a:solidFill>
                        <a:srgbClr val="000066"/>
                      </a:solidFill>
                      <a:latin typeface="Times New Roman"/>
                    </a:rPr>
                    <a:t>x</a:t>
                  </a:r>
                  <a:r>
                    <a:rPr b="1" lang="en-US" sz="2800" spc="-1" strike="noStrike">
                      <a:solidFill>
                        <a:srgbClr val="000066"/>
                      </a:solidFill>
                      <a:latin typeface="Times New Roman"/>
                    </a:rPr>
                    <a:t>-5</a:t>
                  </a:r>
                  <a:r>
                    <a:rPr b="1" i="1" lang="en-US" sz="2800" spc="-1" strike="noStrike">
                      <a:solidFill>
                        <a:srgbClr val="000066"/>
                      </a:solidFill>
                      <a:latin typeface="Times New Roman"/>
                    </a:rPr>
                    <a:t>y</a:t>
                  </a:r>
                  <a:r>
                    <a:rPr b="1" lang="en-US" sz="2800" spc="-1" strike="noStrike">
                      <a:solidFill>
                        <a:srgbClr val="000066"/>
                      </a:solidFill>
                      <a:latin typeface="Times New Roman"/>
                    </a:rPr>
                    <a:t>=17  </a:t>
                  </a:r>
                  <a:r>
                    <a:rPr b="1" lang="en-US" sz="2600" spc="-1" strike="noStrike">
                      <a:solidFill>
                        <a:srgbClr val="000066"/>
                      </a:solidFill>
                      <a:latin typeface="Times New Roman"/>
                    </a:rPr>
                    <a:t>②</a:t>
                  </a:r>
                  <a:endParaRPr b="0" lang="en-US" sz="2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41" name=""/>
              <p:cNvSpPr/>
              <p:nvPr/>
            </p:nvSpPr>
            <p:spPr>
              <a:xfrm>
                <a:off x="6069240" y="981000"/>
                <a:ext cx="1674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66"/>
                    </a:solidFill>
                    <a:latin typeface="黑体"/>
                    <a:ea typeface="黑体"/>
                  </a:rPr>
                  <a:t>应用（   ）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2" name=""/>
            <p:cNvSpPr/>
            <p:nvPr/>
          </p:nvSpPr>
          <p:spPr>
            <a:xfrm>
              <a:off x="395280" y="1628640"/>
              <a:ext cx="8282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A.  </a:t>
              </a:r>
              <a:r>
                <a:rPr b="1" lang="en-US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①-②</a:t>
              </a:r>
              <a:r>
                <a:rPr b="1" lang="zh-CN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消去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y</a:t>
              </a:r>
              <a:r>
                <a:rPr b="1" lang="en-US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          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B.  </a:t>
              </a:r>
              <a:r>
                <a:rPr b="1" lang="en-US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①-②</a:t>
              </a:r>
              <a:r>
                <a:rPr b="1" lang="zh-CN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消去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x</a:t>
              </a:r>
              <a:r>
                <a:rPr b="1" lang="en-US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C.  </a:t>
              </a:r>
              <a:r>
                <a:rPr b="1" lang="en-US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②- ①</a:t>
              </a:r>
              <a:r>
                <a:rPr b="1" lang="zh-CN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消去常数项    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D.</a:t>
              </a:r>
              <a:r>
                <a:rPr b="1" lang="en-US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以上都不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3" name=""/>
          <p:cNvSpPr/>
          <p:nvPr/>
        </p:nvSpPr>
        <p:spPr>
          <a:xfrm>
            <a:off x="7093800" y="90792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7237080" y="313992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5" name=""/>
          <p:cNvGrpSpPr/>
          <p:nvPr/>
        </p:nvGrpSpPr>
        <p:grpSpPr>
          <a:xfrm>
            <a:off x="466560" y="2997360"/>
            <a:ext cx="6994440" cy="1383840"/>
            <a:chOff x="466560" y="2997360"/>
            <a:chExt cx="6994440" cy="1383840"/>
          </a:xfrm>
        </p:grpSpPr>
        <p:sp>
          <p:nvSpPr>
            <p:cNvPr id="1346" name=""/>
            <p:cNvSpPr/>
            <p:nvPr/>
          </p:nvSpPr>
          <p:spPr>
            <a:xfrm>
              <a:off x="893520" y="3213000"/>
              <a:ext cx="656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2.</a:t>
              </a:r>
              <a:r>
                <a:rPr b="1" lang="zh-CN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方程组          消去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y</a:t>
              </a:r>
              <a:r>
                <a:rPr b="1" lang="zh-CN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后所得的方程是（  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7" name=""/>
            <p:cNvGrpSpPr/>
            <p:nvPr/>
          </p:nvGrpSpPr>
          <p:grpSpPr>
            <a:xfrm>
              <a:off x="1834920" y="2997360"/>
              <a:ext cx="1725840" cy="871200"/>
              <a:chOff x="1834920" y="2997360"/>
              <a:chExt cx="1725840" cy="871200"/>
            </a:xfrm>
          </p:grpSpPr>
          <p:sp>
            <p:nvSpPr>
              <p:cNvPr id="1348" name=""/>
              <p:cNvSpPr/>
              <p:nvPr/>
            </p:nvSpPr>
            <p:spPr>
              <a:xfrm>
                <a:off x="1834920" y="3203640"/>
                <a:ext cx="144360" cy="504720"/>
              </a:xfrm>
              <a:custGeom>
                <a:avLst/>
                <a:gdLst>
                  <a:gd name="textAreaLeft" fmla="*/ 92160 w 144360"/>
                  <a:gd name="textAreaRight" fmla="*/ 144360 w 144360"/>
                  <a:gd name="textAreaTop" fmla="*/ 12960 h 504720"/>
                  <a:gd name="textAreaBottom" fmla="*/ 491760 h 504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1926360" y="2997360"/>
                <a:ext cx="1634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3</a:t>
                </a: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+2</a:t>
                </a: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y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=1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1913760" y="3348000"/>
                <a:ext cx="1372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3</a:t>
                </a: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-2</a:t>
                </a: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y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=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1" name=""/>
            <p:cNvSpPr/>
            <p:nvPr/>
          </p:nvSpPr>
          <p:spPr>
            <a:xfrm>
              <a:off x="466560" y="3860640"/>
              <a:ext cx="6913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A. 6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=8    B. 6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=5     C. 6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=18    D. 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=1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2" name=""/>
          <p:cNvGrpSpPr/>
          <p:nvPr/>
        </p:nvGrpSpPr>
        <p:grpSpPr>
          <a:xfrm>
            <a:off x="179280" y="4581360"/>
            <a:ext cx="7200720" cy="1644840"/>
            <a:chOff x="179280" y="4581360"/>
            <a:chExt cx="7200720" cy="1644840"/>
          </a:xfrm>
        </p:grpSpPr>
        <p:sp>
          <p:nvSpPr>
            <p:cNvPr id="1353" name=""/>
            <p:cNvSpPr/>
            <p:nvPr/>
          </p:nvSpPr>
          <p:spPr>
            <a:xfrm>
              <a:off x="179280" y="4724280"/>
              <a:ext cx="72007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</a:t>
              </a:r>
              <a:r>
                <a:rPr b="1" lang="en-US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3</a:t>
              </a:r>
              <a:r>
                <a:rPr b="1" lang="zh-CN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、</a:t>
              </a:r>
              <a:r>
                <a:rPr b="1" lang="zh-CN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方程组                    的解是  （        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354" name=""/>
            <p:cNvGraphicFramePr/>
            <p:nvPr/>
          </p:nvGraphicFramePr>
          <p:xfrm>
            <a:off x="2484360" y="4581360"/>
            <a:ext cx="1584360" cy="880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5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84360" y="4581360"/>
                      <a:ext cx="1584360" cy="88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56" name=""/>
            <p:cNvGraphicFramePr/>
            <p:nvPr/>
          </p:nvGraphicFramePr>
          <p:xfrm>
            <a:off x="755640" y="5445000"/>
            <a:ext cx="5688000" cy="781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5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55640" y="5445000"/>
                      <a:ext cx="5688000" cy="78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358" name=""/>
          <p:cNvSpPr/>
          <p:nvPr/>
        </p:nvSpPr>
        <p:spPr>
          <a:xfrm>
            <a:off x="6013800" y="4724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1" dur="5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6" dur="5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"/>
          <p:cNvSpPr/>
          <p:nvPr/>
        </p:nvSpPr>
        <p:spPr>
          <a:xfrm>
            <a:off x="250920" y="2205000"/>
            <a:ext cx="219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主要步骤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5651640" y="1916280"/>
            <a:ext cx="936360" cy="0"/>
          </a:xfrm>
          <a:prstGeom prst="line">
            <a:avLst/>
          </a:prstGeom>
          <a:ln w="4140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913680" y="1669320"/>
            <a:ext cx="133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基本思路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1995480" y="4437000"/>
            <a:ext cx="100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写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2017800" y="386064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求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2052720" y="3211560"/>
            <a:ext cx="100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加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4643280" y="166860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二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6696000" y="163512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一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2785320" y="1628640"/>
            <a:ext cx="133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加减消元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3708360" y="3284640"/>
            <a:ext cx="20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消去一个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4322520" y="3860640"/>
            <a:ext cx="21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求出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两个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未知数的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4229280" y="44370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写出方程组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2119320" y="692280"/>
            <a:ext cx="431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加减消元法解方程组基本思路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主要步骤有哪些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2050920" y="2349360"/>
            <a:ext cx="115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变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3851280" y="2133720"/>
            <a:ext cx="496872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同一个未知数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系数相同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互为相反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468360" y="5084640"/>
            <a:ext cx="83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二元一次方程组解法有</a:t>
            </a:r>
            <a:r>
              <a:rPr b="1" lang="zh-CN" sz="2800" spc="-1" strike="noStrike" u="sng">
                <a:solidFill>
                  <a:srgbClr val="000066"/>
                </a:solidFill>
                <a:uFillTx/>
                <a:latin typeface="黑体"/>
                <a:ea typeface="黑体"/>
              </a:rPr>
              <a:t>                  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5958360" y="494028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代入法、加减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6" name=""/>
          <p:cNvGrpSpPr/>
          <p:nvPr/>
        </p:nvGrpSpPr>
        <p:grpSpPr>
          <a:xfrm>
            <a:off x="250920" y="0"/>
            <a:ext cx="2476440" cy="736200"/>
            <a:chOff x="250920" y="0"/>
            <a:chExt cx="2476440" cy="736200"/>
          </a:xfrm>
        </p:grpSpPr>
        <p:sp>
          <p:nvSpPr>
            <p:cNvPr id="1377" name=""/>
            <p:cNvSpPr/>
            <p:nvPr/>
          </p:nvSpPr>
          <p:spPr>
            <a:xfrm>
              <a:off x="250920" y="0"/>
              <a:ext cx="2476440" cy="636120"/>
            </a:xfrm>
            <a:prstGeom prst="rect">
              <a:avLst/>
            </a:prstGeom>
            <a:gradFill rotWithShape="0">
              <a:gsLst>
                <a:gs pos="0">
                  <a:srgbClr val="b8e0be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561240" y="459360"/>
              <a:ext cx="2106000" cy="176760"/>
            </a:xfrm>
            <a:prstGeom prst="pi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9" name=""/>
            <p:cNvGrpSpPr/>
            <p:nvPr/>
          </p:nvGrpSpPr>
          <p:grpSpPr>
            <a:xfrm>
              <a:off x="297360" y="46800"/>
              <a:ext cx="518400" cy="589320"/>
              <a:chOff x="297360" y="46800"/>
              <a:chExt cx="518400" cy="589320"/>
            </a:xfrm>
          </p:grpSpPr>
          <p:grpSp>
            <p:nvGrpSpPr>
              <p:cNvPr id="1380" name=""/>
              <p:cNvGrpSpPr/>
              <p:nvPr/>
            </p:nvGrpSpPr>
            <p:grpSpPr>
              <a:xfrm>
                <a:off x="332280" y="109800"/>
                <a:ext cx="483480" cy="526320"/>
                <a:chOff x="332280" y="109800"/>
                <a:chExt cx="483480" cy="526320"/>
              </a:xfrm>
            </p:grpSpPr>
            <p:sp>
              <p:nvSpPr>
                <p:cNvPr id="1381" name=""/>
                <p:cNvSpPr/>
                <p:nvPr/>
              </p:nvSpPr>
              <p:spPr>
                <a:xfrm>
                  <a:off x="360000" y="109800"/>
                  <a:ext cx="416880" cy="49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66"/>
                    </a:gs>
                    <a:gs pos="100000">
                      <a:srgbClr val="ffcc00"/>
                    </a:gs>
                  </a:gsLst>
                  <a:lin ang="13500000"/>
                </a:gradFill>
                <a:ln w="1260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82" name=""/>
                <p:cNvGrpSpPr/>
                <p:nvPr/>
              </p:nvGrpSpPr>
              <p:grpSpPr>
                <a:xfrm>
                  <a:off x="332280" y="179640"/>
                  <a:ext cx="483480" cy="456480"/>
                  <a:chOff x="332280" y="179640"/>
                  <a:chExt cx="483480" cy="456480"/>
                </a:xfrm>
              </p:grpSpPr>
              <p:sp>
                <p:nvSpPr>
                  <p:cNvPr id="1383" name="未知"/>
                  <p:cNvSpPr/>
                  <p:nvPr/>
                </p:nvSpPr>
                <p:spPr>
                  <a:xfrm>
                    <a:off x="332280" y="295920"/>
                    <a:ext cx="367560" cy="69480"/>
                  </a:xfrm>
                  <a:custGeom>
                    <a:avLst/>
                    <a:gdLst/>
                    <a:ahLst/>
                    <a:rect l="l" t="t" r="r" b="b"/>
                    <a:pathLst>
                      <a:path w="1497" h="317">
                        <a:moveTo>
                          <a:pt x="0" y="0"/>
                        </a:moveTo>
                        <a:lnTo>
                          <a:pt x="817" y="227"/>
                        </a:lnTo>
                        <a:lnTo>
                          <a:pt x="1497" y="45"/>
                        </a:lnTo>
                        <a:lnTo>
                          <a:pt x="1497" y="136"/>
                        </a:lnTo>
                        <a:lnTo>
                          <a:pt x="817" y="317"/>
                        </a:lnTo>
                        <a:lnTo>
                          <a:pt x="0" y="9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100000">
                        <a:srgbClr val="ff9900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4" name="未知"/>
                  <p:cNvSpPr/>
                  <p:nvPr/>
                </p:nvSpPr>
                <p:spPr>
                  <a:xfrm>
                    <a:off x="332280" y="255960"/>
                    <a:ext cx="367560" cy="8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497" h="409">
                        <a:moveTo>
                          <a:pt x="0" y="182"/>
                        </a:moveTo>
                        <a:lnTo>
                          <a:pt x="817" y="409"/>
                        </a:lnTo>
                        <a:lnTo>
                          <a:pt x="1497" y="227"/>
                        </a:lnTo>
                        <a:lnTo>
                          <a:pt x="590" y="0"/>
                        </a:lnTo>
                        <a:lnTo>
                          <a:pt x="0" y="182"/>
                        </a:lnTo>
                        <a:close/>
                      </a:path>
                    </a:pathLst>
                  </a:custGeom>
                  <a:blipFill rotWithShape="0">
                    <a:blip r:embed="rId1"/>
                    <a:srcRect/>
                    <a:tile tx="0" ty="0" sx="100000" sy="100000" algn="ctr"/>
                  </a:blipFill>
                  <a:ln w="38160">
                    <a:solidFill>
                      <a:srgbClr val="9966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840" bIns="42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5" name="未知"/>
                  <p:cNvSpPr/>
                  <p:nvPr/>
                </p:nvSpPr>
                <p:spPr>
                  <a:xfrm>
                    <a:off x="365760" y="325800"/>
                    <a:ext cx="289800" cy="89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80" h="408">
                        <a:moveTo>
                          <a:pt x="0" y="0"/>
                        </a:moveTo>
                        <a:lnTo>
                          <a:pt x="726" y="181"/>
                        </a:lnTo>
                        <a:lnTo>
                          <a:pt x="1180" y="45"/>
                        </a:lnTo>
                        <a:lnTo>
                          <a:pt x="1134" y="227"/>
                        </a:lnTo>
                        <a:lnTo>
                          <a:pt x="726" y="408"/>
                        </a:lnTo>
                        <a:lnTo>
                          <a:pt x="46" y="18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blipFill rotWithShape="0">
                    <a:blip r:embed="rId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480" bIns="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6" name="未知"/>
                  <p:cNvSpPr/>
                  <p:nvPr/>
                </p:nvSpPr>
                <p:spPr>
                  <a:xfrm>
                    <a:off x="488160" y="395280"/>
                    <a:ext cx="33480" cy="11952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545">
                        <a:moveTo>
                          <a:pt x="0" y="0"/>
                        </a:moveTo>
                        <a:lnTo>
                          <a:pt x="136" y="46"/>
                        </a:lnTo>
                        <a:lnTo>
                          <a:pt x="91" y="136"/>
                        </a:lnTo>
                        <a:lnTo>
                          <a:pt x="136" y="318"/>
                        </a:lnTo>
                        <a:lnTo>
                          <a:pt x="136" y="545"/>
                        </a:lnTo>
                        <a:lnTo>
                          <a:pt x="46" y="545"/>
                        </a:lnTo>
                        <a:lnTo>
                          <a:pt x="0" y="318"/>
                        </a:lnTo>
                        <a:lnTo>
                          <a:pt x="0" y="18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6699"/>
                      </a:gs>
                      <a:gs pos="50000">
                        <a:srgbClr val="ffffff"/>
                      </a:gs>
                      <a:gs pos="100000">
                        <a:srgbClr val="666699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7" name="未知"/>
                  <p:cNvSpPr/>
                  <p:nvPr/>
                </p:nvSpPr>
                <p:spPr>
                  <a:xfrm>
                    <a:off x="477720" y="500400"/>
                    <a:ext cx="6408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370" h="158">
                        <a:moveTo>
                          <a:pt x="181" y="106"/>
                        </a:moveTo>
                        <a:cubicBezTo>
                          <a:pt x="151" y="106"/>
                          <a:pt x="106" y="121"/>
                          <a:pt x="91" y="106"/>
                        </a:cubicBezTo>
                        <a:cubicBezTo>
                          <a:pt x="76" y="91"/>
                          <a:pt x="106" y="15"/>
                          <a:pt x="91" y="15"/>
                        </a:cubicBezTo>
                        <a:cubicBezTo>
                          <a:pt x="76" y="15"/>
                          <a:pt x="0" y="83"/>
                          <a:pt x="0" y="106"/>
                        </a:cubicBezTo>
                        <a:cubicBezTo>
                          <a:pt x="0" y="129"/>
                          <a:pt x="46" y="144"/>
                          <a:pt x="91" y="151"/>
                        </a:cubicBezTo>
                        <a:cubicBezTo>
                          <a:pt x="136" y="158"/>
                          <a:pt x="227" y="158"/>
                          <a:pt x="272" y="151"/>
                        </a:cubicBezTo>
                        <a:cubicBezTo>
                          <a:pt x="317" y="144"/>
                          <a:pt x="356" y="129"/>
                          <a:pt x="363" y="106"/>
                        </a:cubicBezTo>
                        <a:cubicBezTo>
                          <a:pt x="370" y="83"/>
                          <a:pt x="340" y="30"/>
                          <a:pt x="317" y="15"/>
                        </a:cubicBezTo>
                        <a:cubicBezTo>
                          <a:pt x="294" y="0"/>
                          <a:pt x="234" y="0"/>
                          <a:pt x="227" y="15"/>
                        </a:cubicBezTo>
                        <a:cubicBezTo>
                          <a:pt x="220" y="30"/>
                          <a:pt x="280" y="91"/>
                          <a:pt x="272" y="106"/>
                        </a:cubicBezTo>
                        <a:cubicBezTo>
                          <a:pt x="264" y="121"/>
                          <a:pt x="211" y="106"/>
                          <a:pt x="181" y="106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ec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8" name="未知"/>
                  <p:cNvSpPr/>
                  <p:nvPr/>
                </p:nvSpPr>
                <p:spPr>
                  <a:xfrm>
                    <a:off x="383400" y="495720"/>
                    <a:ext cx="275400" cy="140400"/>
                  </a:xfrm>
                  <a:custGeom>
                    <a:avLst/>
                    <a:gdLst/>
                    <a:ahLst/>
                    <a:rect l="l" t="t" r="r" b="b"/>
                    <a:pathLst>
                      <a:path w="1587" h="907">
                        <a:moveTo>
                          <a:pt x="1496" y="0"/>
                        </a:moveTo>
                        <a:lnTo>
                          <a:pt x="1587" y="90"/>
                        </a:lnTo>
                        <a:lnTo>
                          <a:pt x="1496" y="181"/>
                        </a:lnTo>
                        <a:lnTo>
                          <a:pt x="907" y="499"/>
                        </a:lnTo>
                        <a:lnTo>
                          <a:pt x="1224" y="589"/>
                        </a:lnTo>
                        <a:lnTo>
                          <a:pt x="1406" y="725"/>
                        </a:lnTo>
                        <a:lnTo>
                          <a:pt x="1360" y="861"/>
                        </a:lnTo>
                        <a:lnTo>
                          <a:pt x="1270" y="907"/>
                        </a:lnTo>
                        <a:lnTo>
                          <a:pt x="1134" y="816"/>
                        </a:lnTo>
                        <a:lnTo>
                          <a:pt x="771" y="725"/>
                        </a:lnTo>
                        <a:lnTo>
                          <a:pt x="226" y="635"/>
                        </a:lnTo>
                        <a:lnTo>
                          <a:pt x="90" y="635"/>
                        </a:lnTo>
                        <a:lnTo>
                          <a:pt x="0" y="544"/>
                        </a:lnTo>
                        <a:lnTo>
                          <a:pt x="90" y="453"/>
                        </a:lnTo>
                        <a:lnTo>
                          <a:pt x="362" y="453"/>
                        </a:lnTo>
                        <a:lnTo>
                          <a:pt x="589" y="453"/>
                        </a:lnTo>
                        <a:lnTo>
                          <a:pt x="680" y="453"/>
                        </a:lnTo>
                        <a:lnTo>
                          <a:pt x="635" y="362"/>
                        </a:lnTo>
                        <a:lnTo>
                          <a:pt x="589" y="226"/>
                        </a:lnTo>
                        <a:lnTo>
                          <a:pt x="544" y="136"/>
                        </a:lnTo>
                        <a:lnTo>
                          <a:pt x="635" y="181"/>
                        </a:lnTo>
                        <a:lnTo>
                          <a:pt x="771" y="181"/>
                        </a:lnTo>
                        <a:lnTo>
                          <a:pt x="861" y="181"/>
                        </a:lnTo>
                        <a:lnTo>
                          <a:pt x="907" y="90"/>
                        </a:lnTo>
                        <a:lnTo>
                          <a:pt x="907" y="226"/>
                        </a:lnTo>
                        <a:lnTo>
                          <a:pt x="861" y="362"/>
                        </a:lnTo>
                        <a:lnTo>
                          <a:pt x="1224" y="181"/>
                        </a:lnTo>
                        <a:lnTo>
                          <a:pt x="1360" y="136"/>
                        </a:lnTo>
                        <a:lnTo>
                          <a:pt x="1406" y="45"/>
                        </a:lnTo>
                        <a:lnTo>
                          <a:pt x="1496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66699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9" name="未知"/>
                  <p:cNvSpPr/>
                  <p:nvPr/>
                </p:nvSpPr>
                <p:spPr>
                  <a:xfrm>
                    <a:off x="635400" y="404280"/>
                    <a:ext cx="141480" cy="112320"/>
                  </a:xfrm>
                  <a:custGeom>
                    <a:avLst/>
                    <a:gdLst/>
                    <a:ahLst/>
                    <a:rect l="l" t="t" r="r" b="b"/>
                    <a:pathLst>
                      <a:path w="817" h="726">
                        <a:moveTo>
                          <a:pt x="182" y="0"/>
                        </a:moveTo>
                        <a:lnTo>
                          <a:pt x="182" y="136"/>
                        </a:lnTo>
                        <a:lnTo>
                          <a:pt x="227" y="317"/>
                        </a:lnTo>
                        <a:lnTo>
                          <a:pt x="227" y="408"/>
                        </a:lnTo>
                        <a:lnTo>
                          <a:pt x="0" y="499"/>
                        </a:lnTo>
                        <a:lnTo>
                          <a:pt x="0" y="590"/>
                        </a:lnTo>
                        <a:lnTo>
                          <a:pt x="136" y="635"/>
                        </a:lnTo>
                        <a:lnTo>
                          <a:pt x="136" y="726"/>
                        </a:lnTo>
                        <a:lnTo>
                          <a:pt x="272" y="635"/>
                        </a:lnTo>
                        <a:lnTo>
                          <a:pt x="363" y="590"/>
                        </a:lnTo>
                        <a:lnTo>
                          <a:pt x="454" y="590"/>
                        </a:lnTo>
                        <a:lnTo>
                          <a:pt x="635" y="635"/>
                        </a:lnTo>
                        <a:lnTo>
                          <a:pt x="771" y="635"/>
                        </a:lnTo>
                        <a:lnTo>
                          <a:pt x="817" y="544"/>
                        </a:lnTo>
                        <a:lnTo>
                          <a:pt x="635" y="453"/>
                        </a:lnTo>
                        <a:lnTo>
                          <a:pt x="499" y="453"/>
                        </a:lnTo>
                        <a:lnTo>
                          <a:pt x="408" y="272"/>
                        </a:lnTo>
                        <a:lnTo>
                          <a:pt x="408" y="45"/>
                        </a:lnTo>
                        <a:lnTo>
                          <a:pt x="182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66699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0" name="未知"/>
                  <p:cNvSpPr/>
                  <p:nvPr/>
                </p:nvSpPr>
                <p:spPr>
                  <a:xfrm>
                    <a:off x="603720" y="179640"/>
                    <a:ext cx="212040" cy="231840"/>
                  </a:xfrm>
                  <a:custGeom>
                    <a:avLst/>
                    <a:gdLst/>
                    <a:ahLst/>
                    <a:rect l="l" t="t" r="r" b="b"/>
                    <a:pathLst>
                      <a:path w="1224" h="1497">
                        <a:moveTo>
                          <a:pt x="0" y="1361"/>
                        </a:moveTo>
                        <a:lnTo>
                          <a:pt x="136" y="1316"/>
                        </a:lnTo>
                        <a:lnTo>
                          <a:pt x="635" y="1407"/>
                        </a:lnTo>
                        <a:lnTo>
                          <a:pt x="1088" y="1044"/>
                        </a:lnTo>
                        <a:lnTo>
                          <a:pt x="1043" y="227"/>
                        </a:lnTo>
                        <a:lnTo>
                          <a:pt x="317" y="136"/>
                        </a:lnTo>
                        <a:lnTo>
                          <a:pt x="317" y="46"/>
                        </a:lnTo>
                        <a:lnTo>
                          <a:pt x="453" y="0"/>
                        </a:lnTo>
                        <a:lnTo>
                          <a:pt x="1134" y="91"/>
                        </a:lnTo>
                        <a:lnTo>
                          <a:pt x="1224" y="1134"/>
                        </a:lnTo>
                        <a:lnTo>
                          <a:pt x="861" y="1407"/>
                        </a:lnTo>
                        <a:lnTo>
                          <a:pt x="680" y="1497"/>
                        </a:lnTo>
                        <a:lnTo>
                          <a:pt x="0" y="136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006600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1" name="未知"/>
                  <p:cNvSpPr/>
                  <p:nvPr/>
                </p:nvSpPr>
                <p:spPr>
                  <a:xfrm>
                    <a:off x="619560" y="200520"/>
                    <a:ext cx="172800" cy="189720"/>
                  </a:xfrm>
                  <a:custGeom>
                    <a:avLst/>
                    <a:gdLst/>
                    <a:ahLst/>
                    <a:rect l="l" t="t" r="r" b="b"/>
                    <a:pathLst>
                      <a:path w="998" h="1225">
                        <a:moveTo>
                          <a:pt x="227" y="0"/>
                        </a:moveTo>
                        <a:lnTo>
                          <a:pt x="227" y="454"/>
                        </a:lnTo>
                        <a:lnTo>
                          <a:pt x="136" y="590"/>
                        </a:lnTo>
                        <a:lnTo>
                          <a:pt x="454" y="635"/>
                        </a:lnTo>
                        <a:lnTo>
                          <a:pt x="454" y="817"/>
                        </a:lnTo>
                        <a:lnTo>
                          <a:pt x="227" y="862"/>
                        </a:lnTo>
                        <a:lnTo>
                          <a:pt x="136" y="1089"/>
                        </a:lnTo>
                        <a:lnTo>
                          <a:pt x="0" y="1180"/>
                        </a:lnTo>
                        <a:lnTo>
                          <a:pt x="545" y="1225"/>
                        </a:lnTo>
                        <a:lnTo>
                          <a:pt x="998" y="908"/>
                        </a:lnTo>
                        <a:lnTo>
                          <a:pt x="953" y="91"/>
                        </a:lnTo>
                        <a:lnTo>
                          <a:pt x="227" y="0"/>
                        </a:lnTo>
                        <a:close/>
                      </a:path>
                    </a:pathLst>
                  </a:custGeom>
                  <a:blipFill rotWithShape="0">
                    <a:blip r:embed="rId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92" name=""/>
              <p:cNvGrpSpPr/>
              <p:nvPr/>
            </p:nvGrpSpPr>
            <p:grpSpPr>
              <a:xfrm>
                <a:off x="297360" y="46800"/>
                <a:ext cx="243720" cy="168120"/>
                <a:chOff x="297360" y="46800"/>
                <a:chExt cx="243720" cy="168120"/>
              </a:xfrm>
            </p:grpSpPr>
            <p:sp>
              <p:nvSpPr>
                <p:cNvPr id="1393" name="未知"/>
                <p:cNvSpPr/>
                <p:nvPr/>
              </p:nvSpPr>
              <p:spPr>
                <a:xfrm>
                  <a:off x="297360" y="116640"/>
                  <a:ext cx="141480" cy="98280"/>
                </a:xfrm>
                <a:custGeom>
                  <a:avLst/>
                  <a:gdLst/>
                  <a:ahLst/>
                  <a:rect l="l" t="t" r="r" b="b"/>
                  <a:pathLst>
                    <a:path w="816" h="635">
                      <a:moveTo>
                        <a:pt x="816" y="499"/>
                      </a:moveTo>
                      <a:lnTo>
                        <a:pt x="635" y="635"/>
                      </a:lnTo>
                      <a:lnTo>
                        <a:pt x="45" y="136"/>
                      </a:lnTo>
                      <a:lnTo>
                        <a:pt x="0" y="0"/>
                      </a:lnTo>
                      <a:lnTo>
                        <a:pt x="816" y="49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0099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4" name="未知"/>
                <p:cNvSpPr/>
                <p:nvPr/>
              </p:nvSpPr>
              <p:spPr>
                <a:xfrm>
                  <a:off x="367920" y="46800"/>
                  <a:ext cx="117720" cy="140400"/>
                </a:xfrm>
                <a:custGeom>
                  <a:avLst/>
                  <a:gdLst/>
                  <a:ahLst/>
                  <a:rect l="l" t="t" r="r" b="b"/>
                  <a:pathLst>
                    <a:path w="680" h="907">
                      <a:moveTo>
                        <a:pt x="453" y="907"/>
                      </a:moveTo>
                      <a:lnTo>
                        <a:pt x="680" y="771"/>
                      </a:lnTo>
                      <a:lnTo>
                        <a:pt x="0" y="0"/>
                      </a:lnTo>
                      <a:lnTo>
                        <a:pt x="0" y="136"/>
                      </a:lnTo>
                      <a:lnTo>
                        <a:pt x="453" y="90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008a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5" name="未知"/>
                <p:cNvSpPr/>
                <p:nvPr/>
              </p:nvSpPr>
              <p:spPr>
                <a:xfrm>
                  <a:off x="470520" y="67680"/>
                  <a:ext cx="70560" cy="83880"/>
                </a:xfrm>
                <a:custGeom>
                  <a:avLst/>
                  <a:gdLst/>
                  <a:ahLst/>
                  <a:rect l="l" t="t" r="r" b="b"/>
                  <a:pathLst>
                    <a:path w="408" h="544">
                      <a:moveTo>
                        <a:pt x="226" y="544"/>
                      </a:moveTo>
                      <a:lnTo>
                        <a:pt x="408" y="499"/>
                      </a:lnTo>
                      <a:lnTo>
                        <a:pt x="90" y="0"/>
                      </a:lnTo>
                      <a:lnTo>
                        <a:pt x="0" y="90"/>
                      </a:lnTo>
                      <a:lnTo>
                        <a:pt x="226" y="54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35ad35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6" name=""/>
            <p:cNvSpPr txBox="1"/>
            <p:nvPr/>
          </p:nvSpPr>
          <p:spPr>
            <a:xfrm>
              <a:off x="856800" y="47880"/>
              <a:ext cx="1820520" cy="41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6000" spc="-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4"/>
                    <a:srcRect/>
                    <a:stretch/>
                  </a:blip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黑体"/>
                </a:rPr>
                <a:t>课堂小结</a:t>
              </a:r>
              <a:endParaRPr b="1" i="1" lang="en-US" sz="60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黑体"/>
                <a:ea typeface="黑体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1274040" y="369360"/>
              <a:ext cx="8553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8" name=""/>
          <p:cNvSpPr/>
          <p:nvPr/>
        </p:nvSpPr>
        <p:spPr>
          <a:xfrm>
            <a:off x="2916360" y="2565360"/>
            <a:ext cx="718920" cy="0"/>
          </a:xfrm>
          <a:prstGeom prst="line">
            <a:avLst/>
          </a:prstGeom>
          <a:ln w="4140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2916360" y="3500280"/>
            <a:ext cx="718920" cy="0"/>
          </a:xfrm>
          <a:prstGeom prst="line">
            <a:avLst/>
          </a:prstGeom>
          <a:ln w="4140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2881440" y="4148280"/>
            <a:ext cx="718920" cy="0"/>
          </a:xfrm>
          <a:prstGeom prst="line">
            <a:avLst/>
          </a:prstGeom>
          <a:ln w="4140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2859120" y="4726080"/>
            <a:ext cx="719280" cy="0"/>
          </a:xfrm>
          <a:prstGeom prst="line">
            <a:avLst/>
          </a:prstGeom>
          <a:ln w="4140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2761200" y="5950080"/>
            <a:ext cx="225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作业：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P10  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4" dur="500"/>
                                        <p:tgtEl>
                                          <p:spTgt spid="1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000"/>
                            </p:stCondLst>
                            <p:childTnLst>
                              <p:par>
                                <p:cTn id="3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500"/>
                            </p:stCondLst>
                            <p:childTnLst>
                              <p:par>
                                <p:cTn id="4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2000"/>
                            </p:stCondLst>
                            <p:childTnLst>
                              <p:par>
                                <p:cTn id="4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"/>
          <p:cNvSpPr/>
          <p:nvPr/>
        </p:nvSpPr>
        <p:spPr>
          <a:xfrm>
            <a:off x="1476360" y="476280"/>
            <a:ext cx="7272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、解二元一次方程组的基本思路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179280" y="1051200"/>
            <a:ext cx="187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基本思路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2050920" y="1052640"/>
            <a:ext cx="39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消元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: 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二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3995640" y="1341360"/>
            <a:ext cx="936720" cy="0"/>
          </a:xfrm>
          <a:prstGeom prst="line">
            <a:avLst/>
          </a:prstGeom>
          <a:ln w="856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4932360" y="1052640"/>
            <a:ext cx="102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一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3439440" y="155736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、用代入法解方程的步骤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324000" y="2060640"/>
            <a:ext cx="2266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主要步骤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1261440" y="2637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变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1187280" y="3500280"/>
            <a:ext cx="9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代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1187280" y="4292640"/>
            <a:ext cx="90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求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1187280" y="5013360"/>
            <a:ext cx="102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写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1979640" y="2924280"/>
            <a:ext cx="936720" cy="0"/>
          </a:xfrm>
          <a:prstGeom prst="line">
            <a:avLst/>
          </a:prstGeom>
          <a:ln w="442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4064400" y="2349360"/>
            <a:ext cx="1602720" cy="10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黑体"/>
              </a:rPr>
              <a:t>用</a:t>
            </a:r>
            <a:r>
              <a:rPr b="1" lang="zh-CN" sz="2800" spc="-1" strike="noStrike">
                <a:solidFill>
                  <a:srgbClr val="ff00ff"/>
                </a:solidFill>
                <a:latin typeface="Verdana"/>
                <a:ea typeface="黑体"/>
              </a:rPr>
              <a:t>一个未知数</a:t>
            </a: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黑体"/>
              </a:rPr>
              <a:t>的代数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黑体"/>
              </a:rPr>
              <a:t>表示</a:t>
            </a:r>
            <a:r>
              <a:rPr b="1" lang="zh-CN" sz="2800" spc="-1" strike="noStrike">
                <a:solidFill>
                  <a:srgbClr val="ff00ff"/>
                </a:solidFill>
                <a:latin typeface="Verdana"/>
                <a:ea typeface="黑体"/>
              </a:rPr>
              <a:t>另一个未知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2987640" y="3500280"/>
            <a:ext cx="22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消去一个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3780360" y="429264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分别求出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两个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未知数的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3492720" y="5013360"/>
            <a:ext cx="167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写出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方程组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的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1" name=""/>
          <p:cNvGrpSpPr/>
          <p:nvPr/>
        </p:nvGrpSpPr>
        <p:grpSpPr>
          <a:xfrm>
            <a:off x="0" y="0"/>
            <a:ext cx="2476440" cy="736200"/>
            <a:chOff x="0" y="0"/>
            <a:chExt cx="2476440" cy="736200"/>
          </a:xfrm>
        </p:grpSpPr>
        <p:sp>
          <p:nvSpPr>
            <p:cNvPr id="1092" name=""/>
            <p:cNvSpPr/>
            <p:nvPr/>
          </p:nvSpPr>
          <p:spPr>
            <a:xfrm>
              <a:off x="0" y="0"/>
              <a:ext cx="2476440" cy="636120"/>
            </a:xfrm>
            <a:prstGeom prst="rect">
              <a:avLst/>
            </a:prstGeom>
            <a:gradFill rotWithShape="0">
              <a:gsLst>
                <a:gs pos="0">
                  <a:srgbClr val="b8e0be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310320" y="459360"/>
              <a:ext cx="2106000" cy="176760"/>
            </a:xfrm>
            <a:prstGeom prst="pi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4" name=""/>
            <p:cNvGrpSpPr/>
            <p:nvPr/>
          </p:nvGrpSpPr>
          <p:grpSpPr>
            <a:xfrm>
              <a:off x="46440" y="46800"/>
              <a:ext cx="518400" cy="589320"/>
              <a:chOff x="46440" y="46800"/>
              <a:chExt cx="518400" cy="589320"/>
            </a:xfrm>
          </p:grpSpPr>
          <p:grpSp>
            <p:nvGrpSpPr>
              <p:cNvPr id="1095" name=""/>
              <p:cNvGrpSpPr/>
              <p:nvPr/>
            </p:nvGrpSpPr>
            <p:grpSpPr>
              <a:xfrm>
                <a:off x="81360" y="109800"/>
                <a:ext cx="483480" cy="526320"/>
                <a:chOff x="81360" y="109800"/>
                <a:chExt cx="483480" cy="526320"/>
              </a:xfrm>
            </p:grpSpPr>
            <p:sp>
              <p:nvSpPr>
                <p:cNvPr id="1096" name=""/>
                <p:cNvSpPr/>
                <p:nvPr/>
              </p:nvSpPr>
              <p:spPr>
                <a:xfrm>
                  <a:off x="109080" y="109800"/>
                  <a:ext cx="416880" cy="49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66"/>
                    </a:gs>
                    <a:gs pos="100000">
                      <a:srgbClr val="ffcc00"/>
                    </a:gs>
                  </a:gsLst>
                  <a:lin ang="13500000"/>
                </a:gradFill>
                <a:ln w="1260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97" name=""/>
                <p:cNvGrpSpPr/>
                <p:nvPr/>
              </p:nvGrpSpPr>
              <p:grpSpPr>
                <a:xfrm>
                  <a:off x="81360" y="179640"/>
                  <a:ext cx="483480" cy="456480"/>
                  <a:chOff x="81360" y="179640"/>
                  <a:chExt cx="483480" cy="456480"/>
                </a:xfrm>
              </p:grpSpPr>
              <p:sp>
                <p:nvSpPr>
                  <p:cNvPr id="1098" name="未知"/>
                  <p:cNvSpPr/>
                  <p:nvPr/>
                </p:nvSpPr>
                <p:spPr>
                  <a:xfrm>
                    <a:off x="81360" y="295920"/>
                    <a:ext cx="367560" cy="69480"/>
                  </a:xfrm>
                  <a:custGeom>
                    <a:avLst/>
                    <a:gdLst/>
                    <a:ahLst/>
                    <a:rect l="l" t="t" r="r" b="b"/>
                    <a:pathLst>
                      <a:path w="1497" h="317">
                        <a:moveTo>
                          <a:pt x="0" y="0"/>
                        </a:moveTo>
                        <a:lnTo>
                          <a:pt x="817" y="227"/>
                        </a:lnTo>
                        <a:lnTo>
                          <a:pt x="1497" y="45"/>
                        </a:lnTo>
                        <a:lnTo>
                          <a:pt x="1497" y="136"/>
                        </a:lnTo>
                        <a:lnTo>
                          <a:pt x="817" y="317"/>
                        </a:lnTo>
                        <a:lnTo>
                          <a:pt x="0" y="9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100000">
                        <a:srgbClr val="ff9900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9" name="未知"/>
                  <p:cNvSpPr/>
                  <p:nvPr/>
                </p:nvSpPr>
                <p:spPr>
                  <a:xfrm>
                    <a:off x="81360" y="255960"/>
                    <a:ext cx="367560" cy="8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497" h="409">
                        <a:moveTo>
                          <a:pt x="0" y="182"/>
                        </a:moveTo>
                        <a:lnTo>
                          <a:pt x="817" y="409"/>
                        </a:lnTo>
                        <a:lnTo>
                          <a:pt x="1497" y="227"/>
                        </a:lnTo>
                        <a:lnTo>
                          <a:pt x="590" y="0"/>
                        </a:lnTo>
                        <a:lnTo>
                          <a:pt x="0" y="182"/>
                        </a:lnTo>
                        <a:close/>
                      </a:path>
                    </a:pathLst>
                  </a:custGeom>
                  <a:blipFill rotWithShape="0">
                    <a:blip r:embed="rId1"/>
                    <a:srcRect/>
                    <a:tile tx="0" ty="0" sx="100000" sy="100000" algn="ctr"/>
                  </a:blipFill>
                  <a:ln w="38160">
                    <a:solidFill>
                      <a:srgbClr val="9966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840" bIns="42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0" name="未知"/>
                  <p:cNvSpPr/>
                  <p:nvPr/>
                </p:nvSpPr>
                <p:spPr>
                  <a:xfrm>
                    <a:off x="114840" y="325800"/>
                    <a:ext cx="289800" cy="89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80" h="408">
                        <a:moveTo>
                          <a:pt x="0" y="0"/>
                        </a:moveTo>
                        <a:lnTo>
                          <a:pt x="726" y="181"/>
                        </a:lnTo>
                        <a:lnTo>
                          <a:pt x="1180" y="45"/>
                        </a:lnTo>
                        <a:lnTo>
                          <a:pt x="1134" y="227"/>
                        </a:lnTo>
                        <a:lnTo>
                          <a:pt x="726" y="408"/>
                        </a:lnTo>
                        <a:lnTo>
                          <a:pt x="46" y="18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blipFill rotWithShape="0">
                    <a:blip r:embed="rId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480" bIns="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1" name="未知"/>
                  <p:cNvSpPr/>
                  <p:nvPr/>
                </p:nvSpPr>
                <p:spPr>
                  <a:xfrm>
                    <a:off x="237240" y="395280"/>
                    <a:ext cx="33480" cy="11952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545">
                        <a:moveTo>
                          <a:pt x="0" y="0"/>
                        </a:moveTo>
                        <a:lnTo>
                          <a:pt x="136" y="46"/>
                        </a:lnTo>
                        <a:lnTo>
                          <a:pt x="91" y="136"/>
                        </a:lnTo>
                        <a:lnTo>
                          <a:pt x="136" y="318"/>
                        </a:lnTo>
                        <a:lnTo>
                          <a:pt x="136" y="545"/>
                        </a:lnTo>
                        <a:lnTo>
                          <a:pt x="46" y="545"/>
                        </a:lnTo>
                        <a:lnTo>
                          <a:pt x="0" y="318"/>
                        </a:lnTo>
                        <a:lnTo>
                          <a:pt x="0" y="18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6699"/>
                      </a:gs>
                      <a:gs pos="50000">
                        <a:srgbClr val="ffffff"/>
                      </a:gs>
                      <a:gs pos="100000">
                        <a:srgbClr val="666699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2" name="未知"/>
                  <p:cNvSpPr/>
                  <p:nvPr/>
                </p:nvSpPr>
                <p:spPr>
                  <a:xfrm>
                    <a:off x="226800" y="500400"/>
                    <a:ext cx="6408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370" h="158">
                        <a:moveTo>
                          <a:pt x="181" y="106"/>
                        </a:moveTo>
                        <a:cubicBezTo>
                          <a:pt x="151" y="106"/>
                          <a:pt x="106" y="121"/>
                          <a:pt x="91" y="106"/>
                        </a:cubicBezTo>
                        <a:cubicBezTo>
                          <a:pt x="76" y="91"/>
                          <a:pt x="106" y="15"/>
                          <a:pt x="91" y="15"/>
                        </a:cubicBezTo>
                        <a:cubicBezTo>
                          <a:pt x="76" y="15"/>
                          <a:pt x="0" y="83"/>
                          <a:pt x="0" y="106"/>
                        </a:cubicBezTo>
                        <a:cubicBezTo>
                          <a:pt x="0" y="129"/>
                          <a:pt x="46" y="144"/>
                          <a:pt x="91" y="151"/>
                        </a:cubicBezTo>
                        <a:cubicBezTo>
                          <a:pt x="136" y="158"/>
                          <a:pt x="227" y="158"/>
                          <a:pt x="272" y="151"/>
                        </a:cubicBezTo>
                        <a:cubicBezTo>
                          <a:pt x="317" y="144"/>
                          <a:pt x="356" y="129"/>
                          <a:pt x="363" y="106"/>
                        </a:cubicBezTo>
                        <a:cubicBezTo>
                          <a:pt x="370" y="83"/>
                          <a:pt x="340" y="30"/>
                          <a:pt x="317" y="15"/>
                        </a:cubicBezTo>
                        <a:cubicBezTo>
                          <a:pt x="294" y="0"/>
                          <a:pt x="234" y="0"/>
                          <a:pt x="227" y="15"/>
                        </a:cubicBezTo>
                        <a:cubicBezTo>
                          <a:pt x="220" y="30"/>
                          <a:pt x="280" y="91"/>
                          <a:pt x="272" y="106"/>
                        </a:cubicBezTo>
                        <a:cubicBezTo>
                          <a:pt x="264" y="121"/>
                          <a:pt x="211" y="106"/>
                          <a:pt x="181" y="106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ec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3" name="未知"/>
                  <p:cNvSpPr/>
                  <p:nvPr/>
                </p:nvSpPr>
                <p:spPr>
                  <a:xfrm>
                    <a:off x="132480" y="495720"/>
                    <a:ext cx="275400" cy="140400"/>
                  </a:xfrm>
                  <a:custGeom>
                    <a:avLst/>
                    <a:gdLst/>
                    <a:ahLst/>
                    <a:rect l="l" t="t" r="r" b="b"/>
                    <a:pathLst>
                      <a:path w="1587" h="907">
                        <a:moveTo>
                          <a:pt x="1496" y="0"/>
                        </a:moveTo>
                        <a:lnTo>
                          <a:pt x="1587" y="90"/>
                        </a:lnTo>
                        <a:lnTo>
                          <a:pt x="1496" y="181"/>
                        </a:lnTo>
                        <a:lnTo>
                          <a:pt x="907" y="499"/>
                        </a:lnTo>
                        <a:lnTo>
                          <a:pt x="1224" y="589"/>
                        </a:lnTo>
                        <a:lnTo>
                          <a:pt x="1406" y="725"/>
                        </a:lnTo>
                        <a:lnTo>
                          <a:pt x="1360" y="861"/>
                        </a:lnTo>
                        <a:lnTo>
                          <a:pt x="1270" y="907"/>
                        </a:lnTo>
                        <a:lnTo>
                          <a:pt x="1134" y="816"/>
                        </a:lnTo>
                        <a:lnTo>
                          <a:pt x="771" y="725"/>
                        </a:lnTo>
                        <a:lnTo>
                          <a:pt x="226" y="635"/>
                        </a:lnTo>
                        <a:lnTo>
                          <a:pt x="90" y="635"/>
                        </a:lnTo>
                        <a:lnTo>
                          <a:pt x="0" y="544"/>
                        </a:lnTo>
                        <a:lnTo>
                          <a:pt x="90" y="453"/>
                        </a:lnTo>
                        <a:lnTo>
                          <a:pt x="362" y="453"/>
                        </a:lnTo>
                        <a:lnTo>
                          <a:pt x="589" y="453"/>
                        </a:lnTo>
                        <a:lnTo>
                          <a:pt x="680" y="453"/>
                        </a:lnTo>
                        <a:lnTo>
                          <a:pt x="635" y="362"/>
                        </a:lnTo>
                        <a:lnTo>
                          <a:pt x="589" y="226"/>
                        </a:lnTo>
                        <a:lnTo>
                          <a:pt x="544" y="136"/>
                        </a:lnTo>
                        <a:lnTo>
                          <a:pt x="635" y="181"/>
                        </a:lnTo>
                        <a:lnTo>
                          <a:pt x="771" y="181"/>
                        </a:lnTo>
                        <a:lnTo>
                          <a:pt x="861" y="181"/>
                        </a:lnTo>
                        <a:lnTo>
                          <a:pt x="907" y="90"/>
                        </a:lnTo>
                        <a:lnTo>
                          <a:pt x="907" y="226"/>
                        </a:lnTo>
                        <a:lnTo>
                          <a:pt x="861" y="362"/>
                        </a:lnTo>
                        <a:lnTo>
                          <a:pt x="1224" y="181"/>
                        </a:lnTo>
                        <a:lnTo>
                          <a:pt x="1360" y="136"/>
                        </a:lnTo>
                        <a:lnTo>
                          <a:pt x="1406" y="45"/>
                        </a:lnTo>
                        <a:lnTo>
                          <a:pt x="1496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66699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4" name="未知"/>
                  <p:cNvSpPr/>
                  <p:nvPr/>
                </p:nvSpPr>
                <p:spPr>
                  <a:xfrm>
                    <a:off x="384480" y="404280"/>
                    <a:ext cx="141480" cy="112320"/>
                  </a:xfrm>
                  <a:custGeom>
                    <a:avLst/>
                    <a:gdLst/>
                    <a:ahLst/>
                    <a:rect l="l" t="t" r="r" b="b"/>
                    <a:pathLst>
                      <a:path w="817" h="726">
                        <a:moveTo>
                          <a:pt x="182" y="0"/>
                        </a:moveTo>
                        <a:lnTo>
                          <a:pt x="182" y="136"/>
                        </a:lnTo>
                        <a:lnTo>
                          <a:pt x="227" y="317"/>
                        </a:lnTo>
                        <a:lnTo>
                          <a:pt x="227" y="408"/>
                        </a:lnTo>
                        <a:lnTo>
                          <a:pt x="0" y="499"/>
                        </a:lnTo>
                        <a:lnTo>
                          <a:pt x="0" y="590"/>
                        </a:lnTo>
                        <a:lnTo>
                          <a:pt x="136" y="635"/>
                        </a:lnTo>
                        <a:lnTo>
                          <a:pt x="136" y="726"/>
                        </a:lnTo>
                        <a:lnTo>
                          <a:pt x="272" y="635"/>
                        </a:lnTo>
                        <a:lnTo>
                          <a:pt x="363" y="590"/>
                        </a:lnTo>
                        <a:lnTo>
                          <a:pt x="454" y="590"/>
                        </a:lnTo>
                        <a:lnTo>
                          <a:pt x="635" y="635"/>
                        </a:lnTo>
                        <a:lnTo>
                          <a:pt x="771" y="635"/>
                        </a:lnTo>
                        <a:lnTo>
                          <a:pt x="817" y="544"/>
                        </a:lnTo>
                        <a:lnTo>
                          <a:pt x="635" y="453"/>
                        </a:lnTo>
                        <a:lnTo>
                          <a:pt x="499" y="453"/>
                        </a:lnTo>
                        <a:lnTo>
                          <a:pt x="408" y="272"/>
                        </a:lnTo>
                        <a:lnTo>
                          <a:pt x="408" y="45"/>
                        </a:lnTo>
                        <a:lnTo>
                          <a:pt x="182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66699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5" name="未知"/>
                  <p:cNvSpPr/>
                  <p:nvPr/>
                </p:nvSpPr>
                <p:spPr>
                  <a:xfrm>
                    <a:off x="352800" y="179640"/>
                    <a:ext cx="212040" cy="231840"/>
                  </a:xfrm>
                  <a:custGeom>
                    <a:avLst/>
                    <a:gdLst/>
                    <a:ahLst/>
                    <a:rect l="l" t="t" r="r" b="b"/>
                    <a:pathLst>
                      <a:path w="1224" h="1497">
                        <a:moveTo>
                          <a:pt x="0" y="1361"/>
                        </a:moveTo>
                        <a:lnTo>
                          <a:pt x="136" y="1316"/>
                        </a:lnTo>
                        <a:lnTo>
                          <a:pt x="635" y="1407"/>
                        </a:lnTo>
                        <a:lnTo>
                          <a:pt x="1088" y="1044"/>
                        </a:lnTo>
                        <a:lnTo>
                          <a:pt x="1043" y="227"/>
                        </a:lnTo>
                        <a:lnTo>
                          <a:pt x="317" y="136"/>
                        </a:lnTo>
                        <a:lnTo>
                          <a:pt x="317" y="46"/>
                        </a:lnTo>
                        <a:lnTo>
                          <a:pt x="453" y="0"/>
                        </a:lnTo>
                        <a:lnTo>
                          <a:pt x="1134" y="91"/>
                        </a:lnTo>
                        <a:lnTo>
                          <a:pt x="1224" y="1134"/>
                        </a:lnTo>
                        <a:lnTo>
                          <a:pt x="861" y="1407"/>
                        </a:lnTo>
                        <a:lnTo>
                          <a:pt x="680" y="1497"/>
                        </a:lnTo>
                        <a:lnTo>
                          <a:pt x="0" y="136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006600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6" name="未知"/>
                  <p:cNvSpPr/>
                  <p:nvPr/>
                </p:nvSpPr>
                <p:spPr>
                  <a:xfrm>
                    <a:off x="368640" y="200520"/>
                    <a:ext cx="172800" cy="189720"/>
                  </a:xfrm>
                  <a:custGeom>
                    <a:avLst/>
                    <a:gdLst/>
                    <a:ahLst/>
                    <a:rect l="l" t="t" r="r" b="b"/>
                    <a:pathLst>
                      <a:path w="998" h="1225">
                        <a:moveTo>
                          <a:pt x="227" y="0"/>
                        </a:moveTo>
                        <a:lnTo>
                          <a:pt x="227" y="454"/>
                        </a:lnTo>
                        <a:lnTo>
                          <a:pt x="136" y="590"/>
                        </a:lnTo>
                        <a:lnTo>
                          <a:pt x="454" y="635"/>
                        </a:lnTo>
                        <a:lnTo>
                          <a:pt x="454" y="817"/>
                        </a:lnTo>
                        <a:lnTo>
                          <a:pt x="227" y="862"/>
                        </a:lnTo>
                        <a:lnTo>
                          <a:pt x="136" y="1089"/>
                        </a:lnTo>
                        <a:lnTo>
                          <a:pt x="0" y="1180"/>
                        </a:lnTo>
                        <a:lnTo>
                          <a:pt x="545" y="1225"/>
                        </a:lnTo>
                        <a:lnTo>
                          <a:pt x="998" y="908"/>
                        </a:lnTo>
                        <a:lnTo>
                          <a:pt x="953" y="91"/>
                        </a:lnTo>
                        <a:lnTo>
                          <a:pt x="227" y="0"/>
                        </a:lnTo>
                        <a:close/>
                      </a:path>
                    </a:pathLst>
                  </a:custGeom>
                  <a:blipFill rotWithShape="0">
                    <a:blip r:embed="rId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07" name=""/>
              <p:cNvGrpSpPr/>
              <p:nvPr/>
            </p:nvGrpSpPr>
            <p:grpSpPr>
              <a:xfrm>
                <a:off x="46440" y="46800"/>
                <a:ext cx="243720" cy="168120"/>
                <a:chOff x="46440" y="46800"/>
                <a:chExt cx="243720" cy="168120"/>
              </a:xfrm>
            </p:grpSpPr>
            <p:sp>
              <p:nvSpPr>
                <p:cNvPr id="1108" name="未知"/>
                <p:cNvSpPr/>
                <p:nvPr/>
              </p:nvSpPr>
              <p:spPr>
                <a:xfrm>
                  <a:off x="46440" y="116640"/>
                  <a:ext cx="141480" cy="98280"/>
                </a:xfrm>
                <a:custGeom>
                  <a:avLst/>
                  <a:gdLst/>
                  <a:ahLst/>
                  <a:rect l="l" t="t" r="r" b="b"/>
                  <a:pathLst>
                    <a:path w="816" h="635">
                      <a:moveTo>
                        <a:pt x="816" y="499"/>
                      </a:moveTo>
                      <a:lnTo>
                        <a:pt x="635" y="635"/>
                      </a:lnTo>
                      <a:lnTo>
                        <a:pt x="45" y="136"/>
                      </a:lnTo>
                      <a:lnTo>
                        <a:pt x="0" y="0"/>
                      </a:lnTo>
                      <a:lnTo>
                        <a:pt x="816" y="49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0099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未知"/>
                <p:cNvSpPr/>
                <p:nvPr/>
              </p:nvSpPr>
              <p:spPr>
                <a:xfrm>
                  <a:off x="117000" y="46800"/>
                  <a:ext cx="117720" cy="140400"/>
                </a:xfrm>
                <a:custGeom>
                  <a:avLst/>
                  <a:gdLst/>
                  <a:ahLst/>
                  <a:rect l="l" t="t" r="r" b="b"/>
                  <a:pathLst>
                    <a:path w="680" h="907">
                      <a:moveTo>
                        <a:pt x="453" y="907"/>
                      </a:moveTo>
                      <a:lnTo>
                        <a:pt x="680" y="771"/>
                      </a:lnTo>
                      <a:lnTo>
                        <a:pt x="0" y="0"/>
                      </a:lnTo>
                      <a:lnTo>
                        <a:pt x="0" y="136"/>
                      </a:lnTo>
                      <a:lnTo>
                        <a:pt x="453" y="90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008a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0" name="未知"/>
                <p:cNvSpPr/>
                <p:nvPr/>
              </p:nvSpPr>
              <p:spPr>
                <a:xfrm>
                  <a:off x="219600" y="67680"/>
                  <a:ext cx="70560" cy="83880"/>
                </a:xfrm>
                <a:custGeom>
                  <a:avLst/>
                  <a:gdLst/>
                  <a:ahLst/>
                  <a:rect l="l" t="t" r="r" b="b"/>
                  <a:pathLst>
                    <a:path w="408" h="544">
                      <a:moveTo>
                        <a:pt x="226" y="544"/>
                      </a:moveTo>
                      <a:lnTo>
                        <a:pt x="408" y="499"/>
                      </a:lnTo>
                      <a:lnTo>
                        <a:pt x="90" y="0"/>
                      </a:lnTo>
                      <a:lnTo>
                        <a:pt x="0" y="90"/>
                      </a:lnTo>
                      <a:lnTo>
                        <a:pt x="226" y="54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35ad35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1" name=""/>
            <p:cNvSpPr txBox="1"/>
            <p:nvPr/>
          </p:nvSpPr>
          <p:spPr>
            <a:xfrm>
              <a:off x="605880" y="47880"/>
              <a:ext cx="1820520" cy="41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6000" spc="-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4"/>
                    <a:srcRect/>
                    <a:stretch/>
                  </a:blip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黑体"/>
                </a:rPr>
                <a:t>复习与回顾</a:t>
              </a:r>
              <a:endParaRPr b="1" i="1" lang="en-US" sz="60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黑体"/>
                <a:ea typeface="黑体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1023120" y="369360"/>
              <a:ext cx="8553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3" name=""/>
          <p:cNvSpPr/>
          <p:nvPr/>
        </p:nvSpPr>
        <p:spPr>
          <a:xfrm>
            <a:off x="2050920" y="3789360"/>
            <a:ext cx="936720" cy="0"/>
          </a:xfrm>
          <a:prstGeom prst="line">
            <a:avLst/>
          </a:prstGeom>
          <a:ln w="442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2050920" y="4581360"/>
            <a:ext cx="936720" cy="0"/>
          </a:xfrm>
          <a:prstGeom prst="line">
            <a:avLst/>
          </a:prstGeom>
          <a:ln w="442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2050920" y="5300640"/>
            <a:ext cx="936720" cy="0"/>
          </a:xfrm>
          <a:prstGeom prst="line">
            <a:avLst/>
          </a:prstGeom>
          <a:ln w="442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500"/>
                            </p:stCondLst>
                            <p:childTnLst>
                              <p:par>
                                <p:cTn id="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6" name=""/>
          <p:cNvGrpSpPr/>
          <p:nvPr/>
        </p:nvGrpSpPr>
        <p:grpSpPr>
          <a:xfrm>
            <a:off x="179280" y="189000"/>
            <a:ext cx="2476440" cy="740880"/>
            <a:chOff x="179280" y="189000"/>
            <a:chExt cx="2476440" cy="740880"/>
          </a:xfrm>
        </p:grpSpPr>
        <p:sp>
          <p:nvSpPr>
            <p:cNvPr id="1117" name=""/>
            <p:cNvSpPr/>
            <p:nvPr/>
          </p:nvSpPr>
          <p:spPr>
            <a:xfrm>
              <a:off x="179280" y="189000"/>
              <a:ext cx="2476440" cy="643320"/>
            </a:xfrm>
            <a:prstGeom prst="rect">
              <a:avLst/>
            </a:prstGeom>
            <a:gradFill rotWithShape="0">
              <a:gsLst>
                <a:gs pos="0">
                  <a:srgbClr val="b8e0be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489600" y="653760"/>
              <a:ext cx="2106000" cy="178560"/>
            </a:xfrm>
            <a:prstGeom prst="pi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9" name=""/>
            <p:cNvGrpSpPr/>
            <p:nvPr/>
          </p:nvGrpSpPr>
          <p:grpSpPr>
            <a:xfrm>
              <a:off x="225720" y="236160"/>
              <a:ext cx="518400" cy="596160"/>
              <a:chOff x="225720" y="236160"/>
              <a:chExt cx="518400" cy="596160"/>
            </a:xfrm>
          </p:grpSpPr>
          <p:grpSp>
            <p:nvGrpSpPr>
              <p:cNvPr id="1120" name=""/>
              <p:cNvGrpSpPr/>
              <p:nvPr/>
            </p:nvGrpSpPr>
            <p:grpSpPr>
              <a:xfrm>
                <a:off x="260640" y="299880"/>
                <a:ext cx="483480" cy="532440"/>
                <a:chOff x="260640" y="299880"/>
                <a:chExt cx="483480" cy="532440"/>
              </a:xfrm>
            </p:grpSpPr>
            <p:sp>
              <p:nvSpPr>
                <p:cNvPr id="1121" name=""/>
                <p:cNvSpPr/>
                <p:nvPr/>
              </p:nvSpPr>
              <p:spPr>
                <a:xfrm>
                  <a:off x="288360" y="299880"/>
                  <a:ext cx="416880" cy="50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66"/>
                    </a:gs>
                    <a:gs pos="100000">
                      <a:srgbClr val="ffcc00"/>
                    </a:gs>
                  </a:gsLst>
                  <a:lin ang="13500000"/>
                </a:gradFill>
                <a:ln w="1260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22" name=""/>
                <p:cNvGrpSpPr/>
                <p:nvPr/>
              </p:nvGrpSpPr>
              <p:grpSpPr>
                <a:xfrm>
                  <a:off x="260640" y="370800"/>
                  <a:ext cx="483480" cy="461520"/>
                  <a:chOff x="260640" y="370800"/>
                  <a:chExt cx="483480" cy="461520"/>
                </a:xfrm>
              </p:grpSpPr>
              <p:sp>
                <p:nvSpPr>
                  <p:cNvPr id="1123" name="未知"/>
                  <p:cNvSpPr/>
                  <p:nvPr/>
                </p:nvSpPr>
                <p:spPr>
                  <a:xfrm>
                    <a:off x="260640" y="488520"/>
                    <a:ext cx="36756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497" h="317">
                        <a:moveTo>
                          <a:pt x="0" y="0"/>
                        </a:moveTo>
                        <a:lnTo>
                          <a:pt x="817" y="227"/>
                        </a:lnTo>
                        <a:lnTo>
                          <a:pt x="1497" y="45"/>
                        </a:lnTo>
                        <a:lnTo>
                          <a:pt x="1497" y="136"/>
                        </a:lnTo>
                        <a:lnTo>
                          <a:pt x="817" y="317"/>
                        </a:lnTo>
                        <a:lnTo>
                          <a:pt x="0" y="9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100000">
                        <a:srgbClr val="ff9900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4" name="未知"/>
                  <p:cNvSpPr/>
                  <p:nvPr/>
                </p:nvSpPr>
                <p:spPr>
                  <a:xfrm>
                    <a:off x="260640" y="447840"/>
                    <a:ext cx="36756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497" h="409">
                        <a:moveTo>
                          <a:pt x="0" y="182"/>
                        </a:moveTo>
                        <a:lnTo>
                          <a:pt x="817" y="409"/>
                        </a:lnTo>
                        <a:lnTo>
                          <a:pt x="1497" y="227"/>
                        </a:lnTo>
                        <a:lnTo>
                          <a:pt x="590" y="0"/>
                        </a:lnTo>
                        <a:lnTo>
                          <a:pt x="0" y="182"/>
                        </a:lnTo>
                        <a:close/>
                      </a:path>
                    </a:pathLst>
                  </a:custGeom>
                  <a:blipFill rotWithShape="0">
                    <a:blip r:embed="rId1"/>
                    <a:srcRect/>
                    <a:tile tx="0" ty="0" sx="100000" sy="100000" algn="ctr"/>
                  </a:blipFill>
                  <a:ln w="38160">
                    <a:solidFill>
                      <a:srgbClr val="9966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5" name="未知"/>
                  <p:cNvSpPr/>
                  <p:nvPr/>
                </p:nvSpPr>
                <p:spPr>
                  <a:xfrm>
                    <a:off x="294120" y="518400"/>
                    <a:ext cx="28980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180" h="408">
                        <a:moveTo>
                          <a:pt x="0" y="0"/>
                        </a:moveTo>
                        <a:lnTo>
                          <a:pt x="726" y="181"/>
                        </a:lnTo>
                        <a:lnTo>
                          <a:pt x="1180" y="45"/>
                        </a:lnTo>
                        <a:lnTo>
                          <a:pt x="1134" y="227"/>
                        </a:lnTo>
                        <a:lnTo>
                          <a:pt x="726" y="408"/>
                        </a:lnTo>
                        <a:lnTo>
                          <a:pt x="46" y="18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blipFill rotWithShape="0">
                    <a:blip r:embed="rId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6" name="未知"/>
                  <p:cNvSpPr/>
                  <p:nvPr/>
                </p:nvSpPr>
                <p:spPr>
                  <a:xfrm>
                    <a:off x="416520" y="588960"/>
                    <a:ext cx="33480" cy="12060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545">
                        <a:moveTo>
                          <a:pt x="0" y="0"/>
                        </a:moveTo>
                        <a:lnTo>
                          <a:pt x="136" y="46"/>
                        </a:lnTo>
                        <a:lnTo>
                          <a:pt x="91" y="136"/>
                        </a:lnTo>
                        <a:lnTo>
                          <a:pt x="136" y="318"/>
                        </a:lnTo>
                        <a:lnTo>
                          <a:pt x="136" y="545"/>
                        </a:lnTo>
                        <a:lnTo>
                          <a:pt x="46" y="545"/>
                        </a:lnTo>
                        <a:lnTo>
                          <a:pt x="0" y="318"/>
                        </a:lnTo>
                        <a:lnTo>
                          <a:pt x="0" y="18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6699"/>
                      </a:gs>
                      <a:gs pos="50000">
                        <a:srgbClr val="ffffff"/>
                      </a:gs>
                      <a:gs pos="100000">
                        <a:srgbClr val="666699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7" name="未知"/>
                  <p:cNvSpPr/>
                  <p:nvPr/>
                </p:nvSpPr>
                <p:spPr>
                  <a:xfrm>
                    <a:off x="406080" y="695160"/>
                    <a:ext cx="6408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370" h="158">
                        <a:moveTo>
                          <a:pt x="181" y="106"/>
                        </a:moveTo>
                        <a:cubicBezTo>
                          <a:pt x="151" y="106"/>
                          <a:pt x="106" y="121"/>
                          <a:pt x="91" y="106"/>
                        </a:cubicBezTo>
                        <a:cubicBezTo>
                          <a:pt x="76" y="91"/>
                          <a:pt x="106" y="15"/>
                          <a:pt x="91" y="15"/>
                        </a:cubicBezTo>
                        <a:cubicBezTo>
                          <a:pt x="76" y="15"/>
                          <a:pt x="0" y="83"/>
                          <a:pt x="0" y="106"/>
                        </a:cubicBezTo>
                        <a:cubicBezTo>
                          <a:pt x="0" y="129"/>
                          <a:pt x="46" y="144"/>
                          <a:pt x="91" y="151"/>
                        </a:cubicBezTo>
                        <a:cubicBezTo>
                          <a:pt x="136" y="158"/>
                          <a:pt x="227" y="158"/>
                          <a:pt x="272" y="151"/>
                        </a:cubicBezTo>
                        <a:cubicBezTo>
                          <a:pt x="317" y="144"/>
                          <a:pt x="356" y="129"/>
                          <a:pt x="363" y="106"/>
                        </a:cubicBezTo>
                        <a:cubicBezTo>
                          <a:pt x="370" y="83"/>
                          <a:pt x="340" y="30"/>
                          <a:pt x="317" y="15"/>
                        </a:cubicBezTo>
                        <a:cubicBezTo>
                          <a:pt x="294" y="0"/>
                          <a:pt x="234" y="0"/>
                          <a:pt x="227" y="15"/>
                        </a:cubicBezTo>
                        <a:cubicBezTo>
                          <a:pt x="220" y="30"/>
                          <a:pt x="280" y="91"/>
                          <a:pt x="272" y="106"/>
                        </a:cubicBezTo>
                        <a:cubicBezTo>
                          <a:pt x="264" y="121"/>
                          <a:pt x="211" y="106"/>
                          <a:pt x="181" y="106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ec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8" name="未知"/>
                  <p:cNvSpPr/>
                  <p:nvPr/>
                </p:nvSpPr>
                <p:spPr>
                  <a:xfrm>
                    <a:off x="311760" y="690480"/>
                    <a:ext cx="275400" cy="141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87" h="907">
                        <a:moveTo>
                          <a:pt x="1496" y="0"/>
                        </a:moveTo>
                        <a:lnTo>
                          <a:pt x="1587" y="90"/>
                        </a:lnTo>
                        <a:lnTo>
                          <a:pt x="1496" y="181"/>
                        </a:lnTo>
                        <a:lnTo>
                          <a:pt x="907" y="499"/>
                        </a:lnTo>
                        <a:lnTo>
                          <a:pt x="1224" y="589"/>
                        </a:lnTo>
                        <a:lnTo>
                          <a:pt x="1406" y="725"/>
                        </a:lnTo>
                        <a:lnTo>
                          <a:pt x="1360" y="861"/>
                        </a:lnTo>
                        <a:lnTo>
                          <a:pt x="1270" y="907"/>
                        </a:lnTo>
                        <a:lnTo>
                          <a:pt x="1134" y="816"/>
                        </a:lnTo>
                        <a:lnTo>
                          <a:pt x="771" y="725"/>
                        </a:lnTo>
                        <a:lnTo>
                          <a:pt x="226" y="635"/>
                        </a:lnTo>
                        <a:lnTo>
                          <a:pt x="90" y="635"/>
                        </a:lnTo>
                        <a:lnTo>
                          <a:pt x="0" y="544"/>
                        </a:lnTo>
                        <a:lnTo>
                          <a:pt x="90" y="453"/>
                        </a:lnTo>
                        <a:lnTo>
                          <a:pt x="362" y="453"/>
                        </a:lnTo>
                        <a:lnTo>
                          <a:pt x="589" y="453"/>
                        </a:lnTo>
                        <a:lnTo>
                          <a:pt x="680" y="453"/>
                        </a:lnTo>
                        <a:lnTo>
                          <a:pt x="635" y="362"/>
                        </a:lnTo>
                        <a:lnTo>
                          <a:pt x="589" y="226"/>
                        </a:lnTo>
                        <a:lnTo>
                          <a:pt x="544" y="136"/>
                        </a:lnTo>
                        <a:lnTo>
                          <a:pt x="635" y="181"/>
                        </a:lnTo>
                        <a:lnTo>
                          <a:pt x="771" y="181"/>
                        </a:lnTo>
                        <a:lnTo>
                          <a:pt x="861" y="181"/>
                        </a:lnTo>
                        <a:lnTo>
                          <a:pt x="907" y="90"/>
                        </a:lnTo>
                        <a:lnTo>
                          <a:pt x="907" y="226"/>
                        </a:lnTo>
                        <a:lnTo>
                          <a:pt x="861" y="362"/>
                        </a:lnTo>
                        <a:lnTo>
                          <a:pt x="1224" y="181"/>
                        </a:lnTo>
                        <a:lnTo>
                          <a:pt x="1360" y="136"/>
                        </a:lnTo>
                        <a:lnTo>
                          <a:pt x="1406" y="45"/>
                        </a:lnTo>
                        <a:lnTo>
                          <a:pt x="1496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66699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9" name="未知"/>
                  <p:cNvSpPr/>
                  <p:nvPr/>
                </p:nvSpPr>
                <p:spPr>
                  <a:xfrm>
                    <a:off x="563760" y="597960"/>
                    <a:ext cx="141480" cy="113400"/>
                  </a:xfrm>
                  <a:custGeom>
                    <a:avLst/>
                    <a:gdLst/>
                    <a:ahLst/>
                    <a:rect l="l" t="t" r="r" b="b"/>
                    <a:pathLst>
                      <a:path w="817" h="726">
                        <a:moveTo>
                          <a:pt x="182" y="0"/>
                        </a:moveTo>
                        <a:lnTo>
                          <a:pt x="182" y="136"/>
                        </a:lnTo>
                        <a:lnTo>
                          <a:pt x="227" y="317"/>
                        </a:lnTo>
                        <a:lnTo>
                          <a:pt x="227" y="408"/>
                        </a:lnTo>
                        <a:lnTo>
                          <a:pt x="0" y="499"/>
                        </a:lnTo>
                        <a:lnTo>
                          <a:pt x="0" y="590"/>
                        </a:lnTo>
                        <a:lnTo>
                          <a:pt x="136" y="635"/>
                        </a:lnTo>
                        <a:lnTo>
                          <a:pt x="136" y="726"/>
                        </a:lnTo>
                        <a:lnTo>
                          <a:pt x="272" y="635"/>
                        </a:lnTo>
                        <a:lnTo>
                          <a:pt x="363" y="590"/>
                        </a:lnTo>
                        <a:lnTo>
                          <a:pt x="454" y="590"/>
                        </a:lnTo>
                        <a:lnTo>
                          <a:pt x="635" y="635"/>
                        </a:lnTo>
                        <a:lnTo>
                          <a:pt x="771" y="635"/>
                        </a:lnTo>
                        <a:lnTo>
                          <a:pt x="817" y="544"/>
                        </a:lnTo>
                        <a:lnTo>
                          <a:pt x="635" y="453"/>
                        </a:lnTo>
                        <a:lnTo>
                          <a:pt x="499" y="453"/>
                        </a:lnTo>
                        <a:lnTo>
                          <a:pt x="408" y="272"/>
                        </a:lnTo>
                        <a:lnTo>
                          <a:pt x="408" y="45"/>
                        </a:lnTo>
                        <a:lnTo>
                          <a:pt x="182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66699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0" name="未知"/>
                  <p:cNvSpPr/>
                  <p:nvPr/>
                </p:nvSpPr>
                <p:spPr>
                  <a:xfrm>
                    <a:off x="532080" y="370800"/>
                    <a:ext cx="212040" cy="234360"/>
                  </a:xfrm>
                  <a:custGeom>
                    <a:avLst/>
                    <a:gdLst/>
                    <a:ahLst/>
                    <a:rect l="l" t="t" r="r" b="b"/>
                    <a:pathLst>
                      <a:path w="1224" h="1497">
                        <a:moveTo>
                          <a:pt x="0" y="1361"/>
                        </a:moveTo>
                        <a:lnTo>
                          <a:pt x="136" y="1316"/>
                        </a:lnTo>
                        <a:lnTo>
                          <a:pt x="635" y="1407"/>
                        </a:lnTo>
                        <a:lnTo>
                          <a:pt x="1088" y="1044"/>
                        </a:lnTo>
                        <a:lnTo>
                          <a:pt x="1043" y="227"/>
                        </a:lnTo>
                        <a:lnTo>
                          <a:pt x="317" y="136"/>
                        </a:lnTo>
                        <a:lnTo>
                          <a:pt x="317" y="46"/>
                        </a:lnTo>
                        <a:lnTo>
                          <a:pt x="453" y="0"/>
                        </a:lnTo>
                        <a:lnTo>
                          <a:pt x="1134" y="91"/>
                        </a:lnTo>
                        <a:lnTo>
                          <a:pt x="1224" y="1134"/>
                        </a:lnTo>
                        <a:lnTo>
                          <a:pt x="861" y="1407"/>
                        </a:lnTo>
                        <a:lnTo>
                          <a:pt x="680" y="1497"/>
                        </a:lnTo>
                        <a:lnTo>
                          <a:pt x="0" y="136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006600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1" name="未知"/>
                  <p:cNvSpPr/>
                  <p:nvPr/>
                </p:nvSpPr>
                <p:spPr>
                  <a:xfrm>
                    <a:off x="547920" y="392040"/>
                    <a:ext cx="172800" cy="191520"/>
                  </a:xfrm>
                  <a:custGeom>
                    <a:avLst/>
                    <a:gdLst/>
                    <a:ahLst/>
                    <a:rect l="l" t="t" r="r" b="b"/>
                    <a:pathLst>
                      <a:path w="998" h="1225">
                        <a:moveTo>
                          <a:pt x="227" y="0"/>
                        </a:moveTo>
                        <a:lnTo>
                          <a:pt x="227" y="454"/>
                        </a:lnTo>
                        <a:lnTo>
                          <a:pt x="136" y="590"/>
                        </a:lnTo>
                        <a:lnTo>
                          <a:pt x="454" y="635"/>
                        </a:lnTo>
                        <a:lnTo>
                          <a:pt x="454" y="817"/>
                        </a:lnTo>
                        <a:lnTo>
                          <a:pt x="227" y="862"/>
                        </a:lnTo>
                        <a:lnTo>
                          <a:pt x="136" y="1089"/>
                        </a:lnTo>
                        <a:lnTo>
                          <a:pt x="0" y="1180"/>
                        </a:lnTo>
                        <a:lnTo>
                          <a:pt x="545" y="1225"/>
                        </a:lnTo>
                        <a:lnTo>
                          <a:pt x="998" y="908"/>
                        </a:lnTo>
                        <a:lnTo>
                          <a:pt x="953" y="91"/>
                        </a:lnTo>
                        <a:lnTo>
                          <a:pt x="227" y="0"/>
                        </a:lnTo>
                        <a:close/>
                      </a:path>
                    </a:pathLst>
                  </a:custGeom>
                  <a:blipFill rotWithShape="0">
                    <a:blip r:embed="rId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32" name=""/>
              <p:cNvGrpSpPr/>
              <p:nvPr/>
            </p:nvGrpSpPr>
            <p:grpSpPr>
              <a:xfrm>
                <a:off x="225720" y="236160"/>
                <a:ext cx="243720" cy="170280"/>
                <a:chOff x="225720" y="236160"/>
                <a:chExt cx="243720" cy="170280"/>
              </a:xfrm>
            </p:grpSpPr>
            <p:sp>
              <p:nvSpPr>
                <p:cNvPr id="1133" name="未知"/>
                <p:cNvSpPr/>
                <p:nvPr/>
              </p:nvSpPr>
              <p:spPr>
                <a:xfrm>
                  <a:off x="225720" y="307080"/>
                  <a:ext cx="141480" cy="99360"/>
                </a:xfrm>
                <a:custGeom>
                  <a:avLst/>
                  <a:gdLst/>
                  <a:ahLst/>
                  <a:rect l="l" t="t" r="r" b="b"/>
                  <a:pathLst>
                    <a:path w="816" h="635">
                      <a:moveTo>
                        <a:pt x="816" y="499"/>
                      </a:moveTo>
                      <a:lnTo>
                        <a:pt x="635" y="635"/>
                      </a:lnTo>
                      <a:lnTo>
                        <a:pt x="45" y="136"/>
                      </a:lnTo>
                      <a:lnTo>
                        <a:pt x="0" y="0"/>
                      </a:lnTo>
                      <a:lnTo>
                        <a:pt x="816" y="49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0099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4" name="未知"/>
                <p:cNvSpPr/>
                <p:nvPr/>
              </p:nvSpPr>
              <p:spPr>
                <a:xfrm>
                  <a:off x="296280" y="236160"/>
                  <a:ext cx="117720" cy="142200"/>
                </a:xfrm>
                <a:custGeom>
                  <a:avLst/>
                  <a:gdLst/>
                  <a:ahLst/>
                  <a:rect l="l" t="t" r="r" b="b"/>
                  <a:pathLst>
                    <a:path w="680" h="907">
                      <a:moveTo>
                        <a:pt x="453" y="907"/>
                      </a:moveTo>
                      <a:lnTo>
                        <a:pt x="680" y="771"/>
                      </a:lnTo>
                      <a:lnTo>
                        <a:pt x="0" y="0"/>
                      </a:lnTo>
                      <a:lnTo>
                        <a:pt x="0" y="136"/>
                      </a:lnTo>
                      <a:lnTo>
                        <a:pt x="453" y="90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008a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5" name="未知"/>
                <p:cNvSpPr/>
                <p:nvPr/>
              </p:nvSpPr>
              <p:spPr>
                <a:xfrm>
                  <a:off x="398880" y="257400"/>
                  <a:ext cx="70560" cy="84960"/>
                </a:xfrm>
                <a:custGeom>
                  <a:avLst/>
                  <a:gdLst/>
                  <a:ahLst/>
                  <a:rect l="l" t="t" r="r" b="b"/>
                  <a:pathLst>
                    <a:path w="408" h="544">
                      <a:moveTo>
                        <a:pt x="226" y="544"/>
                      </a:moveTo>
                      <a:lnTo>
                        <a:pt x="408" y="499"/>
                      </a:lnTo>
                      <a:lnTo>
                        <a:pt x="90" y="0"/>
                      </a:lnTo>
                      <a:lnTo>
                        <a:pt x="0" y="90"/>
                      </a:lnTo>
                      <a:lnTo>
                        <a:pt x="226" y="54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35ad35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160" bIns="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36" name=""/>
            <p:cNvSpPr txBox="1"/>
            <p:nvPr/>
          </p:nvSpPr>
          <p:spPr>
            <a:xfrm>
              <a:off x="785160" y="237600"/>
              <a:ext cx="1820520" cy="417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6000" spc="-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4"/>
                    <a:srcRect/>
                    <a:stretch/>
                  </a:blip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黑体"/>
                </a:rPr>
                <a:t>合作探究</a:t>
              </a:r>
              <a:endParaRPr b="1" i="1" lang="en-US" sz="60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黑体"/>
                <a:ea typeface="黑体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202400" y="564120"/>
              <a:ext cx="85536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8" name=""/>
          <p:cNvSpPr/>
          <p:nvPr/>
        </p:nvSpPr>
        <p:spPr>
          <a:xfrm>
            <a:off x="2862360" y="144360"/>
            <a:ext cx="5957640" cy="5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怎样解下面的二元一次方程组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9" name=""/>
          <p:cNvGrpSpPr/>
          <p:nvPr/>
        </p:nvGrpSpPr>
        <p:grpSpPr>
          <a:xfrm>
            <a:off x="2843280" y="765000"/>
            <a:ext cx="2559240" cy="1023840"/>
            <a:chOff x="2843280" y="765000"/>
            <a:chExt cx="2559240" cy="1023840"/>
          </a:xfrm>
        </p:grpSpPr>
        <p:sp>
          <p:nvSpPr>
            <p:cNvPr id="1140" name=""/>
            <p:cNvSpPr/>
            <p:nvPr/>
          </p:nvSpPr>
          <p:spPr>
            <a:xfrm>
              <a:off x="3015720" y="765000"/>
              <a:ext cx="2356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3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+5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=21     </a:t>
              </a:r>
              <a:r>
                <a:rPr b="1" lang="en-US" sz="2600" spc="-1" strike="noStrike">
                  <a:solidFill>
                    <a:srgbClr val="000066"/>
                  </a:solidFill>
                  <a:latin typeface="Arial"/>
                  <a:ea typeface="黑体"/>
                </a:rPr>
                <a:t>①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2909880" y="1268280"/>
              <a:ext cx="249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2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-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5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=</a:t>
              </a:r>
              <a:r>
                <a:rPr b="1" lang="en-US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-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11    </a:t>
              </a:r>
              <a:r>
                <a:rPr b="1" lang="en-US" sz="2600" spc="-1" strike="noStrike">
                  <a:solidFill>
                    <a:srgbClr val="000066"/>
                  </a:solidFill>
                  <a:latin typeface="Arial"/>
                  <a:ea typeface="黑体"/>
                </a:rPr>
                <a:t>②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2843280" y="907920"/>
              <a:ext cx="144360" cy="72072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18720 h 720720"/>
                <a:gd name="textAreaBottom" fmla="*/ 70200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3" name=""/>
          <p:cNvGrpSpPr/>
          <p:nvPr/>
        </p:nvGrpSpPr>
        <p:grpSpPr>
          <a:xfrm>
            <a:off x="1702800" y="1773360"/>
            <a:ext cx="2782080" cy="835200"/>
            <a:chOff x="1702800" y="1773360"/>
            <a:chExt cx="2782080" cy="835200"/>
          </a:xfrm>
        </p:grpSpPr>
        <p:sp>
          <p:nvSpPr>
            <p:cNvPr id="1144" name=""/>
            <p:cNvSpPr/>
            <p:nvPr/>
          </p:nvSpPr>
          <p:spPr>
            <a:xfrm>
              <a:off x="1702800" y="1976400"/>
              <a:ext cx="96084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Arial"/>
                  <a:ea typeface="黑体"/>
                </a:rPr>
                <a:t>把②变形得：</a:t>
              </a:r>
              <a:r>
                <a:rPr b="1" i="1" lang="en-US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x</a:t>
              </a:r>
              <a:r>
                <a:rPr b="1" lang="en-US" sz="2800" spc="-1" strike="noStrike">
                  <a:solidFill>
                    <a:srgbClr val="0000cc"/>
                  </a:solidFill>
                  <a:latin typeface="Arial"/>
                  <a:ea typeface="黑体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5" name=""/>
            <p:cNvGrpSpPr/>
            <p:nvPr/>
          </p:nvGrpSpPr>
          <p:grpSpPr>
            <a:xfrm>
              <a:off x="3492720" y="1773360"/>
              <a:ext cx="992160" cy="835200"/>
              <a:chOff x="3492720" y="1773360"/>
              <a:chExt cx="992160" cy="835200"/>
            </a:xfrm>
          </p:grpSpPr>
          <p:sp>
            <p:nvSpPr>
              <p:cNvPr id="1146" name=""/>
              <p:cNvSpPr/>
              <p:nvPr/>
            </p:nvSpPr>
            <p:spPr>
              <a:xfrm>
                <a:off x="3493440" y="1773360"/>
                <a:ext cx="991440" cy="43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cc"/>
                    </a:solidFill>
                    <a:latin typeface="Times New Roman"/>
                  </a:rPr>
                  <a:t>5</a:t>
                </a:r>
                <a:r>
                  <a:rPr b="1" i="1" lang="en-US" sz="2800" spc="-1" strike="noStrike">
                    <a:solidFill>
                      <a:srgbClr val="0000cc"/>
                    </a:solidFill>
                    <a:latin typeface="Times New Roman"/>
                  </a:rPr>
                  <a:t>y</a:t>
                </a:r>
                <a:r>
                  <a:rPr b="1" lang="en-US" sz="2800" spc="-1" strike="noStrike">
                    <a:solidFill>
                      <a:srgbClr val="0000cc"/>
                    </a:solidFill>
                    <a:latin typeface="Times New Roman"/>
                  </a:rPr>
                  <a:t>-1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3823920" y="2173320"/>
                <a:ext cx="358920" cy="43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cc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3492720" y="2206080"/>
                <a:ext cx="863280" cy="36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49" name=""/>
          <p:cNvSpPr/>
          <p:nvPr/>
        </p:nvSpPr>
        <p:spPr>
          <a:xfrm>
            <a:off x="5680080" y="2004840"/>
            <a:ext cx="8953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黑体"/>
              </a:rPr>
              <a:t>代入①，不就消去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  <a:ea typeface="黑体"/>
              </a:rPr>
              <a:t>x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黑体"/>
              </a:rPr>
              <a:t>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1728720" y="2924280"/>
            <a:ext cx="24861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黑体"/>
              </a:rPr>
              <a:t>把②变形得：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5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y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=2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x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+11  </a:t>
            </a:r>
            <a:r>
              <a:rPr b="1" lang="en-US" sz="2600" spc="-1" strike="noStrike">
                <a:solidFill>
                  <a:srgbClr val="000066"/>
                </a:solidFill>
                <a:latin typeface="Arial"/>
                <a:ea typeface="黑体"/>
              </a:rPr>
              <a:t>③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5800680" y="2852640"/>
            <a:ext cx="45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黑体"/>
              </a:rPr>
              <a:t>代入①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1476000" y="357336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黑体"/>
              </a:rPr>
              <a:t>实际上就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435240" y="4221000"/>
            <a:ext cx="422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(3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+5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)+(2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-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5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)=21+(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-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5407200" y="4221000"/>
            <a:ext cx="225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黑体"/>
              </a:rPr>
              <a:t>即：方程</a:t>
            </a:r>
            <a:r>
              <a:rPr b="1" lang="zh-CN" sz="2600" spc="-1" strike="noStrike">
                <a:solidFill>
                  <a:srgbClr val="000066"/>
                </a:solidFill>
                <a:latin typeface="Arial"/>
                <a:ea typeface="黑体"/>
              </a:rPr>
              <a:t>①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黑体"/>
              </a:rPr>
              <a:t>加方程</a:t>
            </a:r>
            <a:r>
              <a:rPr b="1" lang="zh-CN" sz="2600" spc="-1" strike="noStrike">
                <a:solidFill>
                  <a:srgbClr val="000066"/>
                </a:solidFill>
                <a:latin typeface="Arial"/>
                <a:ea typeface="黑体"/>
              </a:rPr>
              <a:t>②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1332000" y="486900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5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=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5395320" y="4941720"/>
            <a:ext cx="148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消去未知数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1476360" y="537372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=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3707640" y="5516640"/>
            <a:ext cx="272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求得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x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的值，再代入求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"/>
          <p:cNvSpPr/>
          <p:nvPr/>
        </p:nvSpPr>
        <p:spPr>
          <a:xfrm>
            <a:off x="3411000" y="393120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1511280" y="173664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解：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由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①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+②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得：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5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x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=1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1979640" y="299736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把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x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＝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代入①，得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4068720" y="2421000"/>
            <a:ext cx="73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=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4062600" y="3692520"/>
            <a:ext cx="71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=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5" name=""/>
          <p:cNvGrpSpPr/>
          <p:nvPr/>
        </p:nvGrpSpPr>
        <p:grpSpPr>
          <a:xfrm>
            <a:off x="2556000" y="260280"/>
            <a:ext cx="2559240" cy="1023840"/>
            <a:chOff x="2556000" y="260280"/>
            <a:chExt cx="2559240" cy="1023840"/>
          </a:xfrm>
        </p:grpSpPr>
        <p:sp>
          <p:nvSpPr>
            <p:cNvPr id="1166" name=""/>
            <p:cNvSpPr/>
            <p:nvPr/>
          </p:nvSpPr>
          <p:spPr>
            <a:xfrm>
              <a:off x="2728440" y="260280"/>
              <a:ext cx="2356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3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+5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=21     </a:t>
              </a:r>
              <a:r>
                <a:rPr b="1" lang="en-US" sz="2600" spc="-1" strike="noStrike">
                  <a:solidFill>
                    <a:srgbClr val="000066"/>
                  </a:solidFill>
                  <a:latin typeface="Arial"/>
                  <a:ea typeface="黑体"/>
                </a:rPr>
                <a:t>①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2622600" y="763560"/>
              <a:ext cx="249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2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-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5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=</a:t>
              </a:r>
              <a:r>
                <a:rPr b="1" lang="en-US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-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11    </a:t>
              </a:r>
              <a:r>
                <a:rPr b="1" lang="en-US" sz="2600" spc="-1" strike="noStrike">
                  <a:solidFill>
                    <a:srgbClr val="000066"/>
                  </a:solidFill>
                  <a:latin typeface="Arial"/>
                  <a:ea typeface="黑体"/>
                </a:rPr>
                <a:t>②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2556000" y="403200"/>
              <a:ext cx="144360" cy="72072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18720 h 720720"/>
                <a:gd name="textAreaBottom" fmla="*/ 70200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9" name=""/>
          <p:cNvGrpSpPr/>
          <p:nvPr/>
        </p:nvGrpSpPr>
        <p:grpSpPr>
          <a:xfrm>
            <a:off x="2585880" y="4365720"/>
            <a:ext cx="3714480" cy="860040"/>
            <a:chOff x="2585880" y="4365720"/>
            <a:chExt cx="3714480" cy="860040"/>
          </a:xfrm>
        </p:grpSpPr>
        <p:sp>
          <p:nvSpPr>
            <p:cNvPr id="1170" name=""/>
            <p:cNvSpPr/>
            <p:nvPr/>
          </p:nvSpPr>
          <p:spPr>
            <a:xfrm>
              <a:off x="2585880" y="450828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Arial"/>
                  <a:ea typeface="黑体"/>
                </a:rPr>
                <a:t>所以原方程组的解是</a:t>
              </a:r>
              <a:r>
                <a:rPr b="1" lang="en-US" sz="2800" spc="-1" strike="noStrike">
                  <a:solidFill>
                    <a:srgbClr val="0000cc"/>
                  </a:solidFill>
                  <a:latin typeface="Arial"/>
                  <a:ea typeface="黑体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1" name=""/>
            <p:cNvGrpSpPr/>
            <p:nvPr/>
          </p:nvGrpSpPr>
          <p:grpSpPr>
            <a:xfrm>
              <a:off x="5506920" y="4365720"/>
              <a:ext cx="793440" cy="860040"/>
              <a:chOff x="5506920" y="4365720"/>
              <a:chExt cx="793440" cy="860040"/>
            </a:xfrm>
          </p:grpSpPr>
          <p:sp>
            <p:nvSpPr>
              <p:cNvPr id="1172" name=""/>
              <p:cNvSpPr/>
              <p:nvPr/>
            </p:nvSpPr>
            <p:spPr>
              <a:xfrm>
                <a:off x="5506920" y="4611600"/>
                <a:ext cx="144360" cy="502920"/>
              </a:xfrm>
              <a:custGeom>
                <a:avLst/>
                <a:gdLst>
                  <a:gd name="textAreaLeft" fmla="*/ 92160 w 144360"/>
                  <a:gd name="textAreaRight" fmla="*/ 144360 w 144360"/>
                  <a:gd name="textAreaTop" fmla="*/ 12960 h 502920"/>
                  <a:gd name="textAreaBottom" fmla="*/ 489960 h 502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5560560" y="4365720"/>
                <a:ext cx="739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cc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>
                    <a:solidFill>
                      <a:srgbClr val="0000cc"/>
                    </a:solidFill>
                    <a:latin typeface="Times New Roman"/>
                  </a:rPr>
                  <a:t>=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5581440" y="4705200"/>
                <a:ext cx="718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cc"/>
                    </a:solidFill>
                    <a:latin typeface="Times New Roman"/>
                  </a:rPr>
                  <a:t>y</a:t>
                </a:r>
                <a:r>
                  <a:rPr b="1" lang="en-US" sz="2800" spc="-1" strike="noStrike">
                    <a:solidFill>
                      <a:srgbClr val="0000cc"/>
                    </a:solidFill>
                    <a:latin typeface="Times New Roman"/>
                  </a:rPr>
                  <a:t>=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" dur="2000"/>
                                        <p:tgtEl>
                                          <p:spTgt spid="1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1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5" name=""/>
          <p:cNvGrpSpPr/>
          <p:nvPr/>
        </p:nvGrpSpPr>
        <p:grpSpPr>
          <a:xfrm>
            <a:off x="971640" y="189000"/>
            <a:ext cx="6622920" cy="1011240"/>
            <a:chOff x="971640" y="189000"/>
            <a:chExt cx="6622920" cy="1011240"/>
          </a:xfrm>
        </p:grpSpPr>
        <p:sp>
          <p:nvSpPr>
            <p:cNvPr id="1176" name=""/>
            <p:cNvSpPr/>
            <p:nvPr/>
          </p:nvSpPr>
          <p:spPr>
            <a:xfrm>
              <a:off x="971640" y="333360"/>
              <a:ext cx="329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解二元一次方程组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77" name=""/>
            <p:cNvGraphicFramePr/>
            <p:nvPr/>
          </p:nvGraphicFramePr>
          <p:xfrm>
            <a:off x="4067280" y="189000"/>
            <a:ext cx="3527280" cy="1011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067280" y="189000"/>
                      <a:ext cx="3527280" cy="101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179" name=""/>
          <p:cNvGrpSpPr/>
          <p:nvPr/>
        </p:nvGrpSpPr>
        <p:grpSpPr>
          <a:xfrm>
            <a:off x="468360" y="1555920"/>
            <a:ext cx="8351640" cy="881280"/>
            <a:chOff x="468360" y="1555920"/>
            <a:chExt cx="8351640" cy="881280"/>
          </a:xfrm>
        </p:grpSpPr>
        <p:sp>
          <p:nvSpPr>
            <p:cNvPr id="1180" name=""/>
            <p:cNvSpPr/>
            <p:nvPr/>
          </p:nvSpPr>
          <p:spPr>
            <a:xfrm>
              <a:off x="468360" y="1555920"/>
              <a:ext cx="835164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方法一：</a:t>
              </a:r>
              <a:r>
                <a:rPr b="1" lang="zh-CN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从②得，</a:t>
              </a:r>
              <a:r>
                <a:rPr b="1" i="1" lang="en-US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x</a:t>
              </a:r>
              <a:r>
                <a:rPr b="1" lang="en-US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=</a:t>
              </a:r>
              <a:r>
                <a:rPr b="1" lang="zh-CN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       </a:t>
              </a:r>
              <a:r>
                <a:rPr b="1" lang="zh-CN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，再代入①，得</a:t>
              </a:r>
              <a:r>
                <a:rPr b="1" lang="en-US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3</a:t>
              </a:r>
              <a:r>
                <a:rPr b="1" i="1" lang="en-US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y</a:t>
              </a:r>
              <a:r>
                <a:rPr b="1" lang="en-US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+17+5</a:t>
              </a:r>
              <a:r>
                <a:rPr b="1" i="1" lang="en-US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y</a:t>
              </a:r>
              <a:r>
                <a:rPr b="1" lang="en-US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=9</a:t>
              </a: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，</a:t>
              </a:r>
              <a:r>
                <a:rPr b="1" lang="zh-CN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这就把</a:t>
              </a:r>
              <a:r>
                <a:rPr b="1" i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x</a:t>
              </a:r>
              <a:r>
                <a:rPr b="1" lang="zh-CN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消去了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1" name=""/>
            <p:cNvGrpSpPr/>
            <p:nvPr/>
          </p:nvGrpSpPr>
          <p:grpSpPr>
            <a:xfrm>
              <a:off x="3851280" y="1557360"/>
              <a:ext cx="1081080" cy="879840"/>
              <a:chOff x="3851280" y="1557360"/>
              <a:chExt cx="1081080" cy="879840"/>
            </a:xfrm>
          </p:grpSpPr>
          <p:sp>
            <p:nvSpPr>
              <p:cNvPr id="1182" name=""/>
              <p:cNvSpPr/>
              <p:nvPr/>
            </p:nvSpPr>
            <p:spPr>
              <a:xfrm>
                <a:off x="3852360" y="1557360"/>
                <a:ext cx="1075320" cy="43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cc"/>
                    </a:solidFill>
                    <a:latin typeface="Times New Roman"/>
                  </a:rPr>
                  <a:t>3</a:t>
                </a:r>
                <a:r>
                  <a:rPr b="1" i="1" lang="en-US" sz="2800" spc="-1" strike="noStrike">
                    <a:solidFill>
                      <a:srgbClr val="0000cc"/>
                    </a:solidFill>
                    <a:latin typeface="Times New Roman"/>
                  </a:rPr>
                  <a:t>y</a:t>
                </a:r>
                <a:r>
                  <a:rPr b="1" lang="en-US" sz="2800" spc="-1" strike="noStrike">
                    <a:solidFill>
                      <a:srgbClr val="0000cc"/>
                    </a:solidFill>
                    <a:latin typeface="Times New Roman"/>
                  </a:rPr>
                  <a:t>+17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4205160" y="2001960"/>
                <a:ext cx="358920" cy="43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cc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3851280" y="1989360"/>
                <a:ext cx="108108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5" name=""/>
          <p:cNvSpPr/>
          <p:nvPr/>
        </p:nvSpPr>
        <p:spPr>
          <a:xfrm>
            <a:off x="395280" y="2997360"/>
            <a:ext cx="792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方法二：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直接从②得，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2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x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=3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y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+17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，然后把它代入①得到含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y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的方程：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(3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y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+17)+5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y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=9    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（消去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x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了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468360" y="4221000"/>
            <a:ext cx="79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方法三：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方程①和②中都有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2</a:t>
            </a:r>
            <a:r>
              <a:rPr b="1" i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x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为了消去</a:t>
            </a:r>
            <a:r>
              <a:rPr b="1" i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x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，干脆把方程①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减去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方程②就可以了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1691640" y="544500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比较哪种方法简便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8" name=""/>
          <p:cNvGraphicFramePr/>
          <p:nvPr/>
        </p:nvGraphicFramePr>
        <p:xfrm>
          <a:off x="2700360" y="403200"/>
          <a:ext cx="3887640" cy="110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403200"/>
                    <a:ext cx="3887640" cy="11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0" name=""/>
          <p:cNvSpPr/>
          <p:nvPr/>
        </p:nvSpPr>
        <p:spPr>
          <a:xfrm>
            <a:off x="2509560" y="1895400"/>
            <a:ext cx="382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解：①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-②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，得：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8</a:t>
            </a:r>
            <a:r>
              <a:rPr b="1" i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y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= 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-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8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2861640" y="2565360"/>
            <a:ext cx="23965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解得：   </a:t>
            </a:r>
            <a:r>
              <a:rPr b="1" i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y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=-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1835280" y="3213000"/>
            <a:ext cx="547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把</a:t>
            </a:r>
            <a:r>
              <a:rPr b="1" i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y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=-1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代入①，得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         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2</a:t>
            </a:r>
            <a:r>
              <a:rPr b="1" i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x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+5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×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(-1)=9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2157840" y="4149720"/>
            <a:ext cx="24958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解得：    </a:t>
            </a:r>
            <a:r>
              <a:rPr b="1" i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x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=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4" name=""/>
          <p:cNvGrpSpPr/>
          <p:nvPr/>
        </p:nvGrpSpPr>
        <p:grpSpPr>
          <a:xfrm>
            <a:off x="2298600" y="4797360"/>
            <a:ext cx="3910680" cy="860400"/>
            <a:chOff x="2298600" y="4797360"/>
            <a:chExt cx="3910680" cy="860400"/>
          </a:xfrm>
        </p:grpSpPr>
        <p:sp>
          <p:nvSpPr>
            <p:cNvPr id="1195" name=""/>
            <p:cNvSpPr/>
            <p:nvPr/>
          </p:nvSpPr>
          <p:spPr>
            <a:xfrm>
              <a:off x="2298600" y="494028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Arial"/>
                  <a:ea typeface="黑体"/>
                </a:rPr>
                <a:t>所以原方程组的解是</a:t>
              </a:r>
              <a:r>
                <a:rPr b="1" lang="en-US" sz="2800" spc="-1" strike="noStrike">
                  <a:solidFill>
                    <a:srgbClr val="0000cc"/>
                  </a:solidFill>
                  <a:latin typeface="Arial"/>
                  <a:ea typeface="黑体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6" name=""/>
            <p:cNvGrpSpPr/>
            <p:nvPr/>
          </p:nvGrpSpPr>
          <p:grpSpPr>
            <a:xfrm>
              <a:off x="5219640" y="4797360"/>
              <a:ext cx="989640" cy="860400"/>
              <a:chOff x="5219640" y="4797360"/>
              <a:chExt cx="989640" cy="860400"/>
            </a:xfrm>
          </p:grpSpPr>
          <p:sp>
            <p:nvSpPr>
              <p:cNvPr id="1197" name=""/>
              <p:cNvSpPr/>
              <p:nvPr/>
            </p:nvSpPr>
            <p:spPr>
              <a:xfrm>
                <a:off x="5219640" y="5043600"/>
                <a:ext cx="144360" cy="503280"/>
              </a:xfrm>
              <a:custGeom>
                <a:avLst/>
                <a:gdLst>
                  <a:gd name="textAreaLeft" fmla="*/ 92160 w 144360"/>
                  <a:gd name="textAreaRight" fmla="*/ 144360 w 144360"/>
                  <a:gd name="textAreaTop" fmla="*/ 12960 h 503280"/>
                  <a:gd name="textAreaBottom" fmla="*/ 490320 h 503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5273280" y="4797360"/>
                <a:ext cx="739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cc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>
                    <a:solidFill>
                      <a:srgbClr val="0000cc"/>
                    </a:solidFill>
                    <a:latin typeface="Times New Roman"/>
                  </a:rPr>
                  <a:t>=7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5277240" y="5137200"/>
                <a:ext cx="932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cc"/>
                    </a:solidFill>
                    <a:latin typeface="Times New Roman"/>
                  </a:rPr>
                  <a:t>y</a:t>
                </a:r>
                <a:r>
                  <a:rPr b="1" lang="en-US" sz="2800" spc="-1" strike="noStrike">
                    <a:solidFill>
                      <a:srgbClr val="0000cc"/>
                    </a:solidFill>
                    <a:latin typeface="Times New Roman"/>
                  </a:rPr>
                  <a:t>=</a:t>
                </a:r>
                <a:r>
                  <a:rPr b="1" lang="en-US" sz="2800" spc="-1" strike="noStrike">
                    <a:solidFill>
                      <a:srgbClr val="0000cc"/>
                    </a:solidFill>
                    <a:latin typeface="黑体"/>
                    <a:ea typeface="黑体"/>
                  </a:rPr>
                  <a:t>-</a:t>
                </a:r>
                <a:r>
                  <a:rPr b="1" lang="en-US" sz="2800" spc="-1" strike="noStrike">
                    <a:solidFill>
                      <a:srgbClr val="0000cc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"/>
          <p:cNvSpPr/>
          <p:nvPr/>
        </p:nvSpPr>
        <p:spPr>
          <a:xfrm>
            <a:off x="684360" y="836640"/>
            <a:ext cx="787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bbe0e3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在解上面的方程组中，把方程①减去②，或者把方程①与②相加，便消去了一个未知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1187280" y="189000"/>
            <a:ext cx="77868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bbe0e3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上面两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个方程组中，是如何消去一个未知数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611280" y="3357720"/>
            <a:ext cx="7920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bbe0e3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消去一个未知数的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方法是：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如果两个方程中有一个未知数的系数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相等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或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互为相反数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，那么把这两个方程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相减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或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相加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1042920" y="191628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被消去的未知数的系数有什么特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2136240" y="2565360"/>
            <a:ext cx="41065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被消去的未知数系数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相等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或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互为相反数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684360" y="5300640"/>
            <a:ext cx="78483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这种解二元一次方程组的方法叫做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加减消元法，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简称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加减法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"/>
          <p:cNvSpPr/>
          <p:nvPr/>
        </p:nvSpPr>
        <p:spPr>
          <a:xfrm>
            <a:off x="2050920" y="59364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  <a:ea typeface="黑体"/>
              </a:rPr>
              <a:t>例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  <a:ea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解方程组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7" name=""/>
          <p:cNvGrpSpPr/>
          <p:nvPr/>
        </p:nvGrpSpPr>
        <p:grpSpPr>
          <a:xfrm>
            <a:off x="324000" y="0"/>
            <a:ext cx="1707840" cy="1467000"/>
            <a:chOff x="324000" y="0"/>
            <a:chExt cx="1707840" cy="1467000"/>
          </a:xfrm>
        </p:grpSpPr>
        <p:pic>
          <p:nvPicPr>
            <p:cNvPr id="1208" name="" descr="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1467000" cy="14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9" name=""/>
            <p:cNvSpPr/>
            <p:nvPr/>
          </p:nvSpPr>
          <p:spPr>
            <a:xfrm rot="355800">
              <a:off x="1002240" y="357480"/>
              <a:ext cx="983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210" name=""/>
          <p:cNvGraphicFramePr/>
          <p:nvPr/>
        </p:nvGraphicFramePr>
        <p:xfrm>
          <a:off x="4716360" y="333360"/>
          <a:ext cx="3733920" cy="1117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16360" y="333360"/>
                    <a:ext cx="3733920" cy="111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2" name=""/>
          <p:cNvSpPr/>
          <p:nvPr/>
        </p:nvSpPr>
        <p:spPr>
          <a:xfrm>
            <a:off x="1258920" y="306864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①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+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②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，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得：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9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x =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1908000" y="3716280"/>
            <a:ext cx="24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解得：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x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=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1187280" y="4437000"/>
            <a:ext cx="58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把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x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=1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代入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①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，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得：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7×1+3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y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=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2484360" y="515772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解得：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y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=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-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6" name=""/>
          <p:cNvGrpSpPr/>
          <p:nvPr/>
        </p:nvGrpSpPr>
        <p:grpSpPr>
          <a:xfrm>
            <a:off x="1403280" y="5761080"/>
            <a:ext cx="5410440" cy="841320"/>
            <a:chOff x="1403280" y="5761080"/>
            <a:chExt cx="5410440" cy="841320"/>
          </a:xfrm>
        </p:grpSpPr>
        <p:sp>
          <p:nvSpPr>
            <p:cNvPr id="1217" name=""/>
            <p:cNvSpPr/>
            <p:nvPr/>
          </p:nvSpPr>
          <p:spPr>
            <a:xfrm>
              <a:off x="1403280" y="5877000"/>
              <a:ext cx="5410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因此原方程组的一个解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18" name=""/>
            <p:cNvGraphicFramePr/>
            <p:nvPr/>
          </p:nvGraphicFramePr>
          <p:xfrm>
            <a:off x="5464080" y="5761080"/>
            <a:ext cx="1008000" cy="8413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219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464080" y="5761080"/>
                      <a:ext cx="1008000" cy="841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220" name=""/>
          <p:cNvSpPr/>
          <p:nvPr/>
        </p:nvSpPr>
        <p:spPr>
          <a:xfrm>
            <a:off x="2037960" y="2133720"/>
            <a:ext cx="434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黑体"/>
                <a:ea typeface="黑体"/>
              </a:rPr>
              <a:t>两个方程中的未知数</a:t>
            </a:r>
            <a:r>
              <a:rPr b="1" i="1" lang="en-US" sz="2800" spc="-1" strike="noStrike">
                <a:solidFill>
                  <a:srgbClr val="ff00ff"/>
                </a:solidFill>
                <a:latin typeface="Times New Roman"/>
                <a:ea typeface="黑体"/>
              </a:rPr>
              <a:t>y</a:t>
            </a:r>
            <a:r>
              <a:rPr b="1" lang="zh-CN" sz="2800" spc="-1" strike="noStrike">
                <a:solidFill>
                  <a:srgbClr val="ff00ff"/>
                </a:solidFill>
                <a:latin typeface="黑体"/>
                <a:ea typeface="黑体"/>
              </a:rPr>
              <a:t>的系数互为相反数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黑体"/>
                <a:ea typeface="黑体"/>
              </a:rPr>
              <a:t>可以用加法消去</a:t>
            </a:r>
            <a:r>
              <a:rPr b="1" i="1" lang="en-US" sz="2800" spc="-1" strike="noStrike">
                <a:solidFill>
                  <a:srgbClr val="ff00ff"/>
                </a:solidFill>
                <a:latin typeface="Times New Roman"/>
                <a:ea typeface="黑体"/>
              </a:rPr>
              <a:t>y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108000" y="1557360"/>
            <a:ext cx="90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黑体"/>
              </a:rPr>
              <a:t>可以用加减法吗？用加法还是减法？消去哪个未知数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4716360" y="3645000"/>
            <a:ext cx="3384720" cy="609480"/>
          </a:xfrm>
          <a:prstGeom prst="wedgeRoundRectCallout">
            <a:avLst>
              <a:gd name="adj1" fmla="val -46763"/>
              <a:gd name="adj2" fmla="val -7083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7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+3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+(2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-3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)=1+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3" name=""/>
          <p:cNvGrpSpPr/>
          <p:nvPr/>
        </p:nvGrpSpPr>
        <p:grpSpPr>
          <a:xfrm>
            <a:off x="0" y="0"/>
            <a:ext cx="1752120" cy="1294200"/>
            <a:chOff x="0" y="0"/>
            <a:chExt cx="1752120" cy="1294200"/>
          </a:xfrm>
        </p:grpSpPr>
        <p:sp>
          <p:nvSpPr>
            <p:cNvPr id="1224" name=""/>
            <p:cNvSpPr/>
            <p:nvPr/>
          </p:nvSpPr>
          <p:spPr>
            <a:xfrm>
              <a:off x="0" y="855000"/>
              <a:ext cx="1614240" cy="23796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  <a:effectLst>
              <a:outerShdw dist="17819" dir="2700000" blurRad="0" rotWithShape="0">
                <a:srgbClr val="5b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25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709280" cy="120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6" name=""/>
            <p:cNvSpPr/>
            <p:nvPr/>
          </p:nvSpPr>
          <p:spPr>
            <a:xfrm>
              <a:off x="608040" y="712800"/>
              <a:ext cx="1144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黑体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7" name=""/>
          <p:cNvSpPr/>
          <p:nvPr/>
        </p:nvSpPr>
        <p:spPr>
          <a:xfrm>
            <a:off x="2050920" y="260280"/>
            <a:ext cx="638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用加减消元法解下列方程组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8" name=""/>
          <p:cNvGraphicFramePr/>
          <p:nvPr/>
        </p:nvGraphicFramePr>
        <p:xfrm>
          <a:off x="2484360" y="797040"/>
          <a:ext cx="3456000" cy="904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84360" y="797040"/>
                    <a:ext cx="3456000" cy="90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0" name=""/>
          <p:cNvSpPr/>
          <p:nvPr/>
        </p:nvSpPr>
        <p:spPr>
          <a:xfrm>
            <a:off x="1763640" y="2205000"/>
            <a:ext cx="4724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黑体"/>
                <a:ea typeface="黑体"/>
              </a:rPr>
              <a:t>解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  <a:ea typeface="黑体"/>
              </a:rPr>
              <a:t>: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  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①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</a:rPr>
              <a:t>+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② 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，</a:t>
            </a:r>
            <a:r>
              <a:rPr b="1" lang="zh-CN" sz="2500" spc="-1" strike="noStrike">
                <a:solidFill>
                  <a:srgbClr val="0000ff"/>
                </a:solidFill>
                <a:latin typeface="黑体"/>
                <a:ea typeface="黑体"/>
              </a:rPr>
              <a:t>得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4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y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=1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2195640" y="2852640"/>
            <a:ext cx="4724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解得                   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y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=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2268360" y="3645000"/>
            <a:ext cx="4724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把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</a:rPr>
              <a:t>y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=4</a:t>
            </a:r>
            <a:r>
              <a:rPr b="1" lang="zh-CN" sz="2500" spc="-1" strike="noStrike">
                <a:solidFill>
                  <a:srgbClr val="0000ff"/>
                </a:solidFill>
                <a:latin typeface="黑体"/>
                <a:ea typeface="黑体"/>
              </a:rPr>
              <a:t>代入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</a:rPr>
              <a:t>①</a:t>
            </a:r>
            <a:r>
              <a:rPr b="1" lang="zh-CN" sz="2500" spc="-1" strike="noStrike">
                <a:solidFill>
                  <a:srgbClr val="0000ff"/>
                </a:solidFill>
                <a:latin typeface="黑体"/>
                <a:ea typeface="黑体"/>
              </a:rPr>
              <a:t>，得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Times New Roman"/>
              </a:rPr>
              <a:t>                    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</a:rPr>
              <a:t>x+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4=</a:t>
            </a:r>
            <a:r>
              <a:rPr b="1" lang="en-US" sz="2500" spc="-1" strike="noStrike">
                <a:solidFill>
                  <a:srgbClr val="0000ff"/>
                </a:solidFill>
                <a:latin typeface="黑体"/>
                <a:ea typeface="黑体"/>
              </a:rPr>
              <a:t>-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2097000" y="4552920"/>
            <a:ext cx="4724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解得                    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x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=</a:t>
            </a:r>
            <a:r>
              <a:rPr b="1" lang="en-US" sz="2500" spc="-1" strike="noStrike">
                <a:solidFill>
                  <a:srgbClr val="0000ff"/>
                </a:solidFill>
                <a:latin typeface="黑体"/>
                <a:ea typeface="黑体"/>
              </a:rPr>
              <a:t>-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2050920" y="5140440"/>
            <a:ext cx="4724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因此原方程组的一个解是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5" name=""/>
          <p:cNvGraphicFramePr/>
          <p:nvPr/>
        </p:nvGraphicFramePr>
        <p:xfrm>
          <a:off x="5921280" y="4959360"/>
          <a:ext cx="965160" cy="762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3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921280" y="4959360"/>
                    <a:ext cx="96516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4T07:46:10Z</dcterms:created>
  <dc:creator>User</dc:creator>
  <dc:description/>
  <cp:keywords/>
  <dc:language>en-US</dc:language>
  <cp:lastModifiedBy>xcf</cp:lastModifiedBy>
  <dcterms:modified xsi:type="dcterms:W3CDTF">2016-02-13T08:40:11Z</dcterms:modified>
  <cp:revision>7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