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23.wmf" ContentType="image/x-wmf"/>
  <Override PartName="/ppt/media/image9.gif" ContentType="image/gif"/>
  <Override PartName="/ppt/media/image8.gif" ContentType="image/gif"/>
  <Override PartName="/ppt/media/image21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9.png" ContentType="image/png"/>
  <Override PartName="/ppt/media/image16.wmf" ContentType="image/x-wmf"/>
  <Override PartName="/ppt/media/image17.png" ContentType="image/png"/>
  <Override PartName="/ppt/media/image14.gif" ContentType="image/gif"/>
  <Override PartName="/ppt/media/image25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C41-9339-4BA2-8D1F-161156F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4AF-7417-4F26-9AE0-7187E2E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469-D092-467B-A398-32108FA7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A45-19A6-4532-8EB7-6DFB5219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502-3829-465F-8929-3EB04268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B4D7-14C2-4285-BFB3-964DFCD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FD3-EA85-40DA-AB9A-0C4376E0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DB42-DFFE-463A-9D2D-0143C07C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EEDA-010F-49E1-A04C-B489402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F9EF-49D7-4FEF-991B-AE704AB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5E7-15C1-41F2-A4E5-04B2AC2E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CD6-4529-4B49-A308-E415231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94CB-09D9-4387-BDD4-65471FE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163B-4378-4C84-A10B-8FBE430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7F8-936A-4C41-9F8E-3A85650E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EAA3-8CAB-489C-AB1B-1ADAE9A1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2896-B107-474A-94AE-41D8EF8B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2B9B-2731-49B3-9DCE-91BE55B3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4769-ABC9-46B9-BE06-851B4B1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E3F5-D405-42B8-9258-FE2FF53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98ED-68DD-4E3B-980B-E3347294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80602-62F5-4582-AB0C-10D2579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AE2-647C-4D36-A76B-8B0135E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3BE0-F258-4730-91D6-D1D5FF70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2FCF-62E6-4B4D-81CF-98FBAC5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5F84-5F98-442D-8188-2E95279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6B54-8AE2-43D9-9C68-2FB9D55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443F-A1C7-4A41-9BC8-C45CE5F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3098-D7B1-4254-894E-26338BEA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D37D-FB44-4E78-BA08-7767923D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EFC25-3C5A-4354-8D29-64172079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B4F8-75DE-47DF-8924-94C9259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2189-8D29-450E-B378-FAE2F7E8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A41-6D26-48FD-8F1B-61390D0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4EF4-22DC-49F7-B5EC-4B7BEB2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E0F3-0438-4480-A17B-D004AA0C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E6CF-7D05-41AB-B0E8-51F76E7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B2CE-782D-4C8D-938C-84950E5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12A19-9403-4B61-9B63-E4CA9ADE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19B1-F647-44EE-9DF1-B3578CD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AD33-82F8-4764-86F7-82015AF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59C4B-56EF-4C4D-9568-BC926329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5555E-08CA-4689-9270-054C6587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D0D-7E7E-4CF4-AA69-1B62DB8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6BC-0908-4411-B1C0-045B927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E72-690B-44E8-81E5-F8CB424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218-4C1F-43AC-ABA5-F3E0112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38F-DF22-4E02-85D0-D0D7DA0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BA7-AA5F-4373-8DC7-F7ED03B53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621-234F-41CF-B8AD-1AAA82BB8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013F-A2BB-49B4-ACE1-E831B2E5C7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AD6-BB01-4EC5-99A6-CFB0BCC70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14AEC1-8DCD-495A-A0BB-2107E242CBBA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144160" y="189000"/>
            <a:ext cx="46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SHUXUE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09920" cy="130500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250920" y="189000"/>
            <a:ext cx="1609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468360" y="2276640"/>
            <a:ext cx="7073640" cy="1945440"/>
            <a:chOff x="468360" y="2276640"/>
            <a:chExt cx="7073640" cy="1945440"/>
          </a:xfrm>
        </p:grpSpPr>
        <p:sp>
          <p:nvSpPr>
            <p:cNvPr id="1013" name=""/>
            <p:cNvSpPr/>
            <p:nvPr/>
          </p:nvSpPr>
          <p:spPr>
            <a:xfrm>
              <a:off x="3331080" y="3592080"/>
              <a:ext cx="4091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加减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消元法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 txBox="1"/>
            <p:nvPr/>
          </p:nvSpPr>
          <p:spPr>
            <a:xfrm>
              <a:off x="2901600" y="2276640"/>
              <a:ext cx="4640400" cy="122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68360" y="2346480"/>
              <a:ext cx="2147400" cy="1333440"/>
              <a:chOff x="468360" y="2346480"/>
              <a:chExt cx="2147400" cy="1333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611640" y="3315240"/>
                <a:ext cx="2004120" cy="36468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5920" y="2347920"/>
                <a:ext cx="1631880" cy="122652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34480" y="2346480"/>
                <a:ext cx="1634760" cy="123156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7480" y="2347920"/>
                <a:ext cx="1659960" cy="125280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35920" y="2347920"/>
                <a:ext cx="1631880" cy="122652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34480" y="2347920"/>
                <a:ext cx="1633320" cy="122796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62560" y="2372400"/>
                <a:ext cx="1578240" cy="118116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05040" y="2412000"/>
                <a:ext cx="1491120" cy="110016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05040" y="2410200"/>
                <a:ext cx="1492920" cy="110340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25920" y="2431800"/>
                <a:ext cx="1446840" cy="106200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24120" y="2430360"/>
                <a:ext cx="1450440" cy="106524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925920" y="2724840"/>
                <a:ext cx="1446840" cy="76752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925920" y="2720160"/>
                <a:ext cx="1446840" cy="77364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099440" y="2678760"/>
                <a:ext cx="1082520" cy="2124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099440" y="2889720"/>
                <a:ext cx="880200" cy="1944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099440" y="3098520"/>
                <a:ext cx="882000" cy="1944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041560" y="2851560"/>
                <a:ext cx="264960" cy="34452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215080" y="2851560"/>
                <a:ext cx="14040" cy="34452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170360" y="3448080"/>
                <a:ext cx="190800" cy="5184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68920" y="3447000"/>
                <a:ext cx="193680" cy="5328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71800" y="3466440"/>
                <a:ext cx="189360" cy="3168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70360" y="3465000"/>
                <a:ext cx="190800" cy="3528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27760" y="3448080"/>
                <a:ext cx="192240" cy="5184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425960" y="3447000"/>
                <a:ext cx="194040" cy="5328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29200" y="3466440"/>
                <a:ext cx="190800" cy="3168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27760" y="3465000"/>
                <a:ext cx="192240" cy="3528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61920" y="3332160"/>
                <a:ext cx="318240" cy="18756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58680" y="3330720"/>
                <a:ext cx="323280" cy="19224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63360" y="3344400"/>
                <a:ext cx="263160" cy="15228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61920" y="3341160"/>
                <a:ext cx="53280" cy="15876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82080" y="3351960"/>
                <a:ext cx="320040" cy="18792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880280" y="3350520"/>
                <a:ext cx="323280" cy="19044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883520" y="3388680"/>
                <a:ext cx="90000" cy="14940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882080" y="3387240"/>
                <a:ext cx="99360" cy="15228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86640" y="3403800"/>
                <a:ext cx="14040" cy="2448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89880" y="3403800"/>
                <a:ext cx="12240" cy="3492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02600" y="3368880"/>
                <a:ext cx="299880" cy="17064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02600" y="3367080"/>
                <a:ext cx="301320" cy="17388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05840" y="3373560"/>
                <a:ext cx="127440" cy="16452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02600" y="3381120"/>
                <a:ext cx="113760" cy="15876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14280" y="350784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14280" y="3519720"/>
                <a:ext cx="52200" cy="1980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16360" y="3368880"/>
                <a:ext cx="99000" cy="1785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16360" y="3367080"/>
                <a:ext cx="99000" cy="18000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27520" y="3368880"/>
                <a:ext cx="100800" cy="1785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27520" y="3367080"/>
                <a:ext cx="102240" cy="18144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0400" y="3465000"/>
                <a:ext cx="96120" cy="8244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27520" y="3463560"/>
                <a:ext cx="100800" cy="8388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8360" y="3261960"/>
                <a:ext cx="536400" cy="3348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004760" y="3210120"/>
                <a:ext cx="105480" cy="11124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061640" y="2617920"/>
                <a:ext cx="609120" cy="64080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621800" y="2622600"/>
                <a:ext cx="50400" cy="5796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527120" y="2625480"/>
                <a:ext cx="138600" cy="16020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80720" y="2633040"/>
                <a:ext cx="580320" cy="62424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31400" y="3289320"/>
                <a:ext cx="42480" cy="4104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47240" y="3269520"/>
                <a:ext cx="60120" cy="4716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86480" y="3219120"/>
                <a:ext cx="63000" cy="4428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10600" y="25722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本节内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114920" y="290052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.2.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8" name=""/>
          <p:cNvGraphicFramePr/>
          <p:nvPr/>
        </p:nvGraphicFramePr>
        <p:xfrm>
          <a:off x="5219640" y="5229360"/>
          <a:ext cx="11527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5229360"/>
                    <a:ext cx="11527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1763640" y="162864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4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6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4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268360" y="234936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得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11       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124000" y="292428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1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5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124000" y="342900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050920" y="4005360"/>
            <a:ext cx="603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5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×5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835280" y="4581360"/>
            <a:ext cx="603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547640" y="544500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2271240" y="189000"/>
            <a:ext cx="3939480" cy="1180440"/>
            <a:chOff x="2271240" y="189000"/>
            <a:chExt cx="3939480" cy="1180440"/>
          </a:xfrm>
        </p:grpSpPr>
        <p:sp>
          <p:nvSpPr>
            <p:cNvPr id="1338" name=""/>
            <p:cNvSpPr/>
            <p:nvPr/>
          </p:nvSpPr>
          <p:spPr>
            <a:xfrm>
              <a:off x="2271240" y="41904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9" name=""/>
                <p:cNvSpPr txBox="1"/>
                <p:nvPr/>
              </p:nvSpPr>
              <p:spPr>
                <a:xfrm>
                  <a:off x="3007800" y="305280"/>
                  <a:ext cx="1657080" cy="51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0" name=""/>
                <p:cNvSpPr txBox="1"/>
                <p:nvPr/>
              </p:nvSpPr>
              <p:spPr>
                <a:xfrm>
                  <a:off x="3026520" y="881280"/>
                  <a:ext cx="1816560" cy="48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41" name=""/>
            <p:cNvSpPr/>
            <p:nvPr/>
          </p:nvSpPr>
          <p:spPr>
            <a:xfrm>
              <a:off x="2929680" y="361800"/>
              <a:ext cx="96840" cy="86508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78916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89160" y="765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"/>
          <p:cNvGraphicFramePr/>
          <p:nvPr/>
        </p:nvGraphicFramePr>
        <p:xfrm>
          <a:off x="5651640" y="5589720"/>
          <a:ext cx="10810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589720"/>
                    <a:ext cx="1081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1763640" y="170028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5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0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20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68360" y="242100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×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2         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268360" y="306864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9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5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268360" y="371628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908000" y="4365720"/>
            <a:ext cx="603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×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411280" y="5013360"/>
            <a:ext cx="603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979640" y="5734080"/>
            <a:ext cx="603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274840" y="189000"/>
            <a:ext cx="4052880" cy="1180800"/>
            <a:chOff x="2274840" y="189000"/>
            <a:chExt cx="4052880" cy="1180800"/>
          </a:xfrm>
        </p:grpSpPr>
        <p:sp>
          <p:nvSpPr>
            <p:cNvPr id="1354" name=""/>
            <p:cNvSpPr/>
            <p:nvPr/>
          </p:nvSpPr>
          <p:spPr>
            <a:xfrm>
              <a:off x="2274840" y="41868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5" name=""/>
                <p:cNvSpPr txBox="1"/>
                <p:nvPr/>
              </p:nvSpPr>
              <p:spPr>
                <a:xfrm>
                  <a:off x="3000960" y="304920"/>
                  <a:ext cx="17679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6" name=""/>
                <p:cNvSpPr txBox="1"/>
                <p:nvPr/>
              </p:nvSpPr>
              <p:spPr>
                <a:xfrm>
                  <a:off x="3154320" y="881280"/>
                  <a:ext cx="1661040" cy="48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7" name=""/>
            <p:cNvSpPr/>
            <p:nvPr/>
          </p:nvSpPr>
          <p:spPr>
            <a:xfrm>
              <a:off x="2947320" y="362160"/>
              <a:ext cx="100080" cy="865440"/>
            </a:xfrm>
            <a:custGeom>
              <a:avLst/>
              <a:gdLst>
                <a:gd name="textAreaLeft" fmla="*/ 64080 w 100080"/>
                <a:gd name="textAreaRight" fmla="*/ 100440 w 100080"/>
                <a:gd name="textAreaTop" fmla="*/ 22320 h 865440"/>
                <a:gd name="textAreaBottom" fmla="*/ 84312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906160" y="18900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906160" y="76536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24000" y="1700280"/>
            <a:ext cx="360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+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1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95280" y="3141720"/>
            <a:ext cx="34574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395280" y="4508640"/>
            <a:ext cx="2881440" cy="1585800"/>
            <a:chOff x="395280" y="4508640"/>
            <a:chExt cx="2881440" cy="1585800"/>
          </a:xfrm>
        </p:grpSpPr>
        <p:graphicFrame>
          <p:nvGraphicFramePr>
            <p:cNvPr id="1363" name=""/>
            <p:cNvGraphicFramePr/>
            <p:nvPr/>
          </p:nvGraphicFramePr>
          <p:xfrm>
            <a:off x="1187280" y="5229360"/>
            <a:ext cx="1081080" cy="86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5229360"/>
                      <a:ext cx="1081080" cy="86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5" name=""/>
            <p:cNvSpPr/>
            <p:nvPr/>
          </p:nvSpPr>
          <p:spPr>
            <a:xfrm>
              <a:off x="395280" y="4508640"/>
              <a:ext cx="2881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原方程组的解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5076720" y="1773360"/>
            <a:ext cx="388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得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5.    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219640" y="2924280"/>
            <a:ext cx="3527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7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 baseline="50000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2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896000" y="4005360"/>
            <a:ext cx="424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得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5.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4788000" y="5229360"/>
            <a:ext cx="3529080" cy="1344600"/>
            <a:chOff x="4788000" y="5229360"/>
            <a:chExt cx="3529080" cy="1344600"/>
          </a:xfrm>
        </p:grpSpPr>
        <p:graphicFrame>
          <p:nvGraphicFramePr>
            <p:cNvPr id="1370" name=""/>
            <p:cNvGraphicFramePr/>
            <p:nvPr/>
          </p:nvGraphicFramePr>
          <p:xfrm>
            <a:off x="5653080" y="5734080"/>
            <a:ext cx="107964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3080" y="5734080"/>
                      <a:ext cx="107964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2" name=""/>
            <p:cNvSpPr/>
            <p:nvPr/>
          </p:nvSpPr>
          <p:spPr>
            <a:xfrm>
              <a:off x="4788000" y="5229360"/>
              <a:ext cx="35290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∴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原方程组的解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68360" y="333360"/>
            <a:ext cx="3308400" cy="1126800"/>
            <a:chOff x="468360" y="333360"/>
            <a:chExt cx="3308400" cy="1126800"/>
          </a:xfrm>
        </p:grpSpPr>
        <p:sp>
          <p:nvSpPr>
            <p:cNvPr id="1374" name=""/>
            <p:cNvSpPr/>
            <p:nvPr/>
          </p:nvSpPr>
          <p:spPr>
            <a:xfrm>
              <a:off x="468360" y="655560"/>
              <a:ext cx="12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331640" y="333360"/>
              <a:ext cx="2445120" cy="1126800"/>
              <a:chOff x="1331640" y="333360"/>
              <a:chExt cx="2445120" cy="1126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1484640" y="333360"/>
                <a:ext cx="226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503720" y="939600"/>
                <a:ext cx="2273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0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33164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9" name=""/>
          <p:cNvGrpSpPr/>
          <p:nvPr/>
        </p:nvGrpSpPr>
        <p:grpSpPr>
          <a:xfrm>
            <a:off x="4788000" y="333360"/>
            <a:ext cx="2952720" cy="1126800"/>
            <a:chOff x="4788000" y="333360"/>
            <a:chExt cx="2952720" cy="1126800"/>
          </a:xfrm>
        </p:grpSpPr>
        <p:grpSp>
          <p:nvGrpSpPr>
            <p:cNvPr id="1380" name=""/>
            <p:cNvGrpSpPr/>
            <p:nvPr/>
          </p:nvGrpSpPr>
          <p:grpSpPr>
            <a:xfrm>
              <a:off x="5651640" y="333360"/>
              <a:ext cx="2089080" cy="1126800"/>
              <a:chOff x="5651640" y="333360"/>
              <a:chExt cx="2089080" cy="1126800"/>
            </a:xfrm>
          </p:grpSpPr>
          <p:sp>
            <p:nvSpPr>
              <p:cNvPr id="1381" name=""/>
              <p:cNvSpPr/>
              <p:nvPr/>
            </p:nvSpPr>
            <p:spPr>
              <a:xfrm>
                <a:off x="5803920" y="333360"/>
                <a:ext cx="191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5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24080" y="939600"/>
                <a:ext cx="191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6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65164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4788000" y="622440"/>
              <a:ext cx="12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54072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补充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932040" y="1484280"/>
            <a:ext cx="31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6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4</a:t>
            </a:r>
            <a:r>
              <a:rPr b="1" i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610520" y="1484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–(2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=4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693600" y="198900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79640" y="2708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② ，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115640" y="4437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适当方法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2700720" y="115920"/>
            <a:ext cx="6085440" cy="1476000"/>
            <a:chOff x="2700720" y="115920"/>
            <a:chExt cx="6085440" cy="1476000"/>
          </a:xfrm>
        </p:grpSpPr>
        <p:sp>
          <p:nvSpPr>
            <p:cNvPr id="1392" name=""/>
            <p:cNvSpPr/>
            <p:nvPr/>
          </p:nvSpPr>
          <p:spPr>
            <a:xfrm>
              <a:off x="2700720" y="6192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用加减消元法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5868720" y="115920"/>
              <a:ext cx="2917440" cy="1476000"/>
              <a:chOff x="5868720" y="115920"/>
              <a:chExt cx="2917440" cy="1476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6835320" y="27144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    =1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00960" y="925560"/>
                <a:ext cx="21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"/>
              <p:cNvGrpSpPr/>
              <p:nvPr/>
            </p:nvGrpSpPr>
            <p:grpSpPr>
              <a:xfrm>
                <a:off x="6090840" y="137880"/>
                <a:ext cx="739800" cy="817920"/>
                <a:chOff x="6090840" y="137880"/>
                <a:chExt cx="739800" cy="817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090840" y="137880"/>
                  <a:ext cx="73980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+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89200" y="52056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66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111360" y="547560"/>
                  <a:ext cx="71928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7116480" y="115920"/>
                <a:ext cx="358920" cy="844200"/>
                <a:chOff x="7116480" y="115920"/>
                <a:chExt cx="358920" cy="84420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7128720" y="4701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116480" y="115920"/>
                  <a:ext cx="326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y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140240" y="5511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6228720" y="747720"/>
                <a:ext cx="359280" cy="844200"/>
                <a:chOff x="6228720" y="747720"/>
                <a:chExt cx="359280" cy="84420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241320" y="110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228720" y="74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x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252840" y="1182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6921000" y="747720"/>
                <a:ext cx="359280" cy="844200"/>
                <a:chOff x="6921000" y="747720"/>
                <a:chExt cx="359280" cy="844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6933600" y="110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921000" y="74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944760" y="118296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5868720" y="487080"/>
                <a:ext cx="144360" cy="792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3" name=""/>
          <p:cNvGrpSpPr/>
          <p:nvPr/>
        </p:nvGrpSpPr>
        <p:grpSpPr>
          <a:xfrm>
            <a:off x="5869080" y="2492280"/>
            <a:ext cx="882720" cy="844200"/>
            <a:chOff x="5869080" y="2492280"/>
            <a:chExt cx="882720" cy="844200"/>
          </a:xfrm>
        </p:grpSpPr>
        <p:grpSp>
          <p:nvGrpSpPr>
            <p:cNvPr id="1414" name=""/>
            <p:cNvGrpSpPr/>
            <p:nvPr/>
          </p:nvGrpSpPr>
          <p:grpSpPr>
            <a:xfrm>
              <a:off x="6392520" y="2492280"/>
              <a:ext cx="359280" cy="844200"/>
              <a:chOff x="6392520" y="2492280"/>
              <a:chExt cx="359280" cy="844200"/>
            </a:xfrm>
          </p:grpSpPr>
          <p:sp>
            <p:nvSpPr>
              <p:cNvPr id="1415" name=""/>
              <p:cNvSpPr/>
              <p:nvPr/>
            </p:nvSpPr>
            <p:spPr>
              <a:xfrm>
                <a:off x="6405120" y="28465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92520" y="249228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7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6640" y="2927520"/>
                <a:ext cx="28656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5869080" y="26776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1547640" y="3284640"/>
            <a:ext cx="4430160" cy="1141200"/>
            <a:chOff x="1547640" y="3284640"/>
            <a:chExt cx="4430160" cy="1141200"/>
          </a:xfrm>
        </p:grpSpPr>
        <p:sp>
          <p:nvSpPr>
            <p:cNvPr id="1420" name=""/>
            <p:cNvSpPr/>
            <p:nvPr/>
          </p:nvSpPr>
          <p:spPr>
            <a:xfrm>
              <a:off x="154764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所以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932360" y="3284640"/>
              <a:ext cx="1045440" cy="1141200"/>
              <a:chOff x="4932360" y="3284640"/>
              <a:chExt cx="1045440" cy="1141200"/>
            </a:xfrm>
          </p:grpSpPr>
          <p:grpSp>
            <p:nvGrpSpPr>
              <p:cNvPr id="1422" name=""/>
              <p:cNvGrpSpPr/>
              <p:nvPr/>
            </p:nvGrpSpPr>
            <p:grpSpPr>
              <a:xfrm>
                <a:off x="4984920" y="3284640"/>
                <a:ext cx="882720" cy="844200"/>
                <a:chOff x="4984920" y="3284640"/>
                <a:chExt cx="882720" cy="844200"/>
              </a:xfrm>
            </p:grpSpPr>
            <p:grpSp>
              <p:nvGrpSpPr>
                <p:cNvPr id="1423" name=""/>
                <p:cNvGrpSpPr/>
                <p:nvPr/>
              </p:nvGrpSpPr>
              <p:grpSpPr>
                <a:xfrm>
                  <a:off x="5508360" y="3284640"/>
                  <a:ext cx="359280" cy="844200"/>
                  <a:chOff x="5508360" y="3284640"/>
                  <a:chExt cx="359280" cy="84420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5520960" y="3638880"/>
                    <a:ext cx="346680" cy="48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2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5508360" y="3284640"/>
                    <a:ext cx="346680" cy="48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cc"/>
                        </a:solidFill>
                        <a:latin typeface="Times New Roman"/>
                      </a:rPr>
                      <a:t>7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5532480" y="3719880"/>
                    <a:ext cx="286560" cy="36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4984920" y="3470040"/>
                  <a:ext cx="56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x</a:t>
                  </a: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4957200" y="39052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 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932360" y="3693960"/>
                <a:ext cx="73080" cy="57636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275040" y="5229360"/>
            <a:ext cx="3107520" cy="1055520"/>
            <a:chOff x="275040" y="5229360"/>
            <a:chExt cx="3107520" cy="1055520"/>
          </a:xfrm>
        </p:grpSpPr>
        <p:sp>
          <p:nvSpPr>
            <p:cNvPr id="1431" name=""/>
            <p:cNvSpPr/>
            <p:nvPr/>
          </p:nvSpPr>
          <p:spPr>
            <a:xfrm>
              <a:off x="1170360" y="5229360"/>
              <a:ext cx="109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+y=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83600" y="5764320"/>
              <a:ext cx="229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+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71640" y="5475600"/>
              <a:ext cx="144720" cy="64908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75040" y="5548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4667040" y="5013360"/>
            <a:ext cx="3238560" cy="1312560"/>
            <a:chOff x="4667040" y="5013360"/>
            <a:chExt cx="3238560" cy="1312560"/>
          </a:xfrm>
        </p:grpSpPr>
        <p:grpSp>
          <p:nvGrpSpPr>
            <p:cNvPr id="1436" name=""/>
            <p:cNvGrpSpPr/>
            <p:nvPr/>
          </p:nvGrpSpPr>
          <p:grpSpPr>
            <a:xfrm>
              <a:off x="5725800" y="5013360"/>
              <a:ext cx="739800" cy="817920"/>
              <a:chOff x="5725800" y="5013360"/>
              <a:chExt cx="739800" cy="817920"/>
            </a:xfrm>
          </p:grpSpPr>
          <p:sp>
            <p:nvSpPr>
              <p:cNvPr id="1437" name=""/>
              <p:cNvSpPr/>
              <p:nvPr/>
            </p:nvSpPr>
            <p:spPr>
              <a:xfrm>
                <a:off x="5725800" y="5013360"/>
                <a:ext cx="73980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924160" y="539604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746320" y="5423040"/>
                <a:ext cx="71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5470560" y="522936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667040" y="5445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46880" y="515772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581440" y="580536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1)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740720" y="5300640"/>
            <a:ext cx="807480" cy="865080"/>
            <a:chOff x="7740720" y="5300640"/>
            <a:chExt cx="807480" cy="865080"/>
          </a:xfrm>
        </p:grpSpPr>
        <p:sp>
          <p:nvSpPr>
            <p:cNvPr id="1445" name=""/>
            <p:cNvSpPr/>
            <p:nvPr/>
          </p:nvSpPr>
          <p:spPr>
            <a:xfrm>
              <a:off x="7740720" y="5533920"/>
              <a:ext cx="71280" cy="504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91480" y="530064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29640" y="564516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492360" y="5229360"/>
            <a:ext cx="807480" cy="865080"/>
            <a:chOff x="3492360" y="5229360"/>
            <a:chExt cx="807480" cy="865080"/>
          </a:xfrm>
        </p:grpSpPr>
        <p:sp>
          <p:nvSpPr>
            <p:cNvPr id="1449" name=""/>
            <p:cNvSpPr/>
            <p:nvPr/>
          </p:nvSpPr>
          <p:spPr>
            <a:xfrm>
              <a:off x="3492360" y="5462640"/>
              <a:ext cx="71280" cy="5047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543120" y="522936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81280" y="557388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"/>
          <p:cNvGrpSpPr/>
          <p:nvPr/>
        </p:nvGrpSpPr>
        <p:grpSpPr>
          <a:xfrm>
            <a:off x="2755080" y="3500280"/>
            <a:ext cx="3054240" cy="520560"/>
            <a:chOff x="2755080" y="3500280"/>
            <a:chExt cx="3054240" cy="520560"/>
          </a:xfrm>
        </p:grpSpPr>
        <p:sp>
          <p:nvSpPr>
            <p:cNvPr id="1453" name=""/>
            <p:cNvSpPr/>
            <p:nvPr/>
          </p:nvSpPr>
          <p:spPr>
            <a:xfrm>
              <a:off x="2755080" y="3500280"/>
              <a:ext cx="28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由小张的正确解代入方程    可求出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52840" y="3517560"/>
              <a:ext cx="456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ff00ff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68360" y="407664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小张的正确解代入方程①得到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一个二元一次方程，而小李的解是看错了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到的，说明小李的解满足方程①，故将其代入①也得到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二元一次方程，联立两个方程求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,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85080" y="292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路点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458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461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464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3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474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7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拓展提升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395280" y="414720"/>
            <a:ext cx="8403840" cy="2674440"/>
            <a:chOff x="395280" y="414720"/>
            <a:chExt cx="8403840" cy="2674440"/>
          </a:xfrm>
        </p:grpSpPr>
        <p:sp>
          <p:nvSpPr>
            <p:cNvPr id="1480" name=""/>
            <p:cNvSpPr/>
            <p:nvPr/>
          </p:nvSpPr>
          <p:spPr>
            <a:xfrm>
              <a:off x="395280" y="414720"/>
              <a:ext cx="7993080" cy="26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在解方程组               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时，小张正确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小李由于看错了方程组中的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得到方程组的解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试求方程组中的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i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的值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7812000" y="1413000"/>
              <a:ext cx="987120" cy="865080"/>
              <a:chOff x="7812000" y="1413000"/>
              <a:chExt cx="987120" cy="865080"/>
            </a:xfrm>
          </p:grpSpPr>
          <p:sp>
            <p:nvSpPr>
              <p:cNvPr id="1482" name=""/>
              <p:cNvSpPr/>
              <p:nvPr/>
            </p:nvSpPr>
            <p:spPr>
              <a:xfrm>
                <a:off x="7812000" y="1646280"/>
                <a:ext cx="71280" cy="50472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845840" y="1413000"/>
                <a:ext cx="95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00920" y="175752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268360" y="620640"/>
              <a:ext cx="2124000" cy="984240"/>
              <a:chOff x="2268360" y="620640"/>
              <a:chExt cx="2124000" cy="984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2268360" y="868320"/>
                <a:ext cx="71640" cy="57636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348640" y="620640"/>
                <a:ext cx="200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313000" y="1084320"/>
                <a:ext cx="207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c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5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7812000" y="693720"/>
              <a:ext cx="807480" cy="865080"/>
              <a:chOff x="7812000" y="693720"/>
              <a:chExt cx="807480" cy="865080"/>
            </a:xfrm>
          </p:grpSpPr>
          <p:sp>
            <p:nvSpPr>
              <p:cNvPr id="1490" name=""/>
              <p:cNvSpPr/>
              <p:nvPr/>
            </p:nvSpPr>
            <p:spPr>
              <a:xfrm>
                <a:off x="7812000" y="927000"/>
                <a:ext cx="71280" cy="50472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862760" y="6937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00920" y="103824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2916360" y="1152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基本思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27280" y="458136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、加减法，消去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556000" y="508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两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627280" y="566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原方程组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16360" y="3284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有一个未知数的式子表示另一个未知数。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将同一个未知数的系数相同或互为相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79280" y="189000"/>
            <a:ext cx="2476440" cy="677880"/>
            <a:chOff x="179280" y="189000"/>
            <a:chExt cx="2476440" cy="677880"/>
          </a:xfrm>
        </p:grpSpPr>
        <p:sp>
          <p:nvSpPr>
            <p:cNvPr id="1499" name=""/>
            <p:cNvSpPr/>
            <p:nvPr/>
          </p:nvSpPr>
          <p:spPr>
            <a:xfrm>
              <a:off x="179280" y="18900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9600" y="57636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225720" y="228240"/>
              <a:ext cx="518400" cy="496800"/>
              <a:chOff x="225720" y="228240"/>
              <a:chExt cx="518400" cy="496800"/>
            </a:xfrm>
          </p:grpSpPr>
          <p:grpSp>
            <p:nvGrpSpPr>
              <p:cNvPr id="1502" name=""/>
              <p:cNvGrpSpPr/>
              <p:nvPr/>
            </p:nvGrpSpPr>
            <p:grpSpPr>
              <a:xfrm>
                <a:off x="260640" y="281160"/>
                <a:ext cx="483480" cy="443880"/>
                <a:chOff x="260640" y="281160"/>
                <a:chExt cx="483480" cy="44388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288360" y="28116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"/>
                <p:cNvGrpSpPr/>
                <p:nvPr/>
              </p:nvGrpSpPr>
              <p:grpSpPr>
                <a:xfrm>
                  <a:off x="260640" y="340200"/>
                  <a:ext cx="483480" cy="384840"/>
                  <a:chOff x="260640" y="340200"/>
                  <a:chExt cx="483480" cy="384840"/>
                </a:xfrm>
              </p:grpSpPr>
              <p:sp>
                <p:nvSpPr>
                  <p:cNvPr id="1505" name="未知"/>
                  <p:cNvSpPr/>
                  <p:nvPr/>
                </p:nvSpPr>
                <p:spPr>
                  <a:xfrm>
                    <a:off x="260640" y="43812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未知"/>
                  <p:cNvSpPr/>
                  <p:nvPr/>
                </p:nvSpPr>
                <p:spPr>
                  <a:xfrm>
                    <a:off x="260640" y="40464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未知"/>
                  <p:cNvSpPr/>
                  <p:nvPr/>
                </p:nvSpPr>
                <p:spPr>
                  <a:xfrm>
                    <a:off x="294120" y="46332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未知"/>
                  <p:cNvSpPr/>
                  <p:nvPr/>
                </p:nvSpPr>
                <p:spPr>
                  <a:xfrm>
                    <a:off x="416520" y="52200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未知"/>
                  <p:cNvSpPr/>
                  <p:nvPr/>
                </p:nvSpPr>
                <p:spPr>
                  <a:xfrm>
                    <a:off x="406080" y="61056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未知"/>
                  <p:cNvSpPr/>
                  <p:nvPr/>
                </p:nvSpPr>
                <p:spPr>
                  <a:xfrm>
                    <a:off x="311760" y="60660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未知"/>
                  <p:cNvSpPr/>
                  <p:nvPr/>
                </p:nvSpPr>
                <p:spPr>
                  <a:xfrm>
                    <a:off x="563760" y="52956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未知"/>
                  <p:cNvSpPr/>
                  <p:nvPr/>
                </p:nvSpPr>
                <p:spPr>
                  <a:xfrm>
                    <a:off x="532080" y="34020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未知"/>
                  <p:cNvSpPr/>
                  <p:nvPr/>
                </p:nvSpPr>
                <p:spPr>
                  <a:xfrm>
                    <a:off x="547920" y="35784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225720" y="228240"/>
                <a:ext cx="243720" cy="141840"/>
                <a:chOff x="225720" y="228240"/>
                <a:chExt cx="243720" cy="141840"/>
              </a:xfrm>
            </p:grpSpPr>
            <p:sp>
              <p:nvSpPr>
                <p:cNvPr id="1515" name="未知"/>
                <p:cNvSpPr/>
                <p:nvPr/>
              </p:nvSpPr>
              <p:spPr>
                <a:xfrm>
                  <a:off x="225720" y="28728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>
                  <a:off x="296280" y="22824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未知"/>
                <p:cNvSpPr/>
                <p:nvPr/>
              </p:nvSpPr>
              <p:spPr>
                <a:xfrm>
                  <a:off x="398880" y="24588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"/>
            <p:cNvSpPr txBox="1"/>
            <p:nvPr/>
          </p:nvSpPr>
          <p:spPr>
            <a:xfrm>
              <a:off x="785160" y="22932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02400" y="50040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1809000" y="28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95280" y="1265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的方法？每种方法方程组应具备的特征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3349080" y="549360"/>
            <a:ext cx="4002120" cy="520560"/>
            <a:chOff x="3349080" y="549360"/>
            <a:chExt cx="4002120" cy="520560"/>
          </a:xfrm>
        </p:grpSpPr>
        <p:sp>
          <p:nvSpPr>
            <p:cNvPr id="1523" name=""/>
            <p:cNvSpPr/>
            <p:nvPr/>
          </p:nvSpPr>
          <p:spPr>
            <a:xfrm>
              <a:off x="4356000" y="549360"/>
              <a:ext cx="10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二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56000" y="549360"/>
              <a:ext cx="11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一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49080" y="549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消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292360" y="836640"/>
              <a:ext cx="93636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3037680" y="191628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代入法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一个未知数的系数的绝对值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658320" y="2349360"/>
            <a:ext cx="17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加减法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同一个未知数的系数的绝对值是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829800" y="3573360"/>
            <a:ext cx="1656360" cy="520560"/>
            <a:chOff x="829800" y="3573360"/>
            <a:chExt cx="1656360" cy="520560"/>
          </a:xfrm>
        </p:grpSpPr>
        <p:sp>
          <p:nvSpPr>
            <p:cNvPr id="1530" name=""/>
            <p:cNvSpPr/>
            <p:nvPr/>
          </p:nvSpPr>
          <p:spPr>
            <a:xfrm>
              <a:off x="829800" y="3573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变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549440" y="386064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901080" y="4581360"/>
            <a:ext cx="1656360" cy="520560"/>
            <a:chOff x="901080" y="4581360"/>
            <a:chExt cx="1656360" cy="520560"/>
          </a:xfrm>
        </p:grpSpPr>
        <p:sp>
          <p:nvSpPr>
            <p:cNvPr id="1533" name=""/>
            <p:cNvSpPr/>
            <p:nvPr/>
          </p:nvSpPr>
          <p:spPr>
            <a:xfrm>
              <a:off x="901080" y="45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消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620720" y="486864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901080" y="5084640"/>
            <a:ext cx="1656360" cy="520560"/>
            <a:chOff x="901080" y="5084640"/>
            <a:chExt cx="1656360" cy="520560"/>
          </a:xfrm>
        </p:grpSpPr>
        <p:sp>
          <p:nvSpPr>
            <p:cNvPr id="1536" name=""/>
            <p:cNvSpPr/>
            <p:nvPr/>
          </p:nvSpPr>
          <p:spPr>
            <a:xfrm>
              <a:off x="901080" y="508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求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620720" y="537192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901080" y="5589720"/>
            <a:ext cx="1656360" cy="520560"/>
            <a:chOff x="901080" y="5589720"/>
            <a:chExt cx="1656360" cy="520560"/>
          </a:xfrm>
        </p:grpSpPr>
        <p:sp>
          <p:nvSpPr>
            <p:cNvPr id="1539" name=""/>
            <p:cNvSpPr/>
            <p:nvPr/>
          </p:nvSpPr>
          <p:spPr>
            <a:xfrm>
              <a:off x="901080" y="558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写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20720" y="5877000"/>
              <a:ext cx="9367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3757320" y="6165720"/>
            <a:ext cx="442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1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2   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组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076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1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082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092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5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395280" y="691920"/>
            <a:ext cx="778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加减法解二元一次方程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类方程组的特点是什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主要步骤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788000" y="2563920"/>
            <a:ext cx="93636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56360" y="227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基本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26000" y="223056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96000" y="227664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5744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22600" y="2997360"/>
            <a:ext cx="32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特点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同一个未知数的系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24000" y="3716280"/>
            <a:ext cx="210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主要步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5516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050920" y="458136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求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050920" y="3716280"/>
            <a:ext cx="12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708360" y="378936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去一个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08360" y="4653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分别求出两个未知数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51280" y="5516640"/>
            <a:ext cx="34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写出原方程组的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43280" y="4005360"/>
            <a:ext cx="79200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916360" y="4869000"/>
            <a:ext cx="79200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987640" y="5805360"/>
            <a:ext cx="792360" cy="0"/>
          </a:xfrm>
          <a:prstGeom prst="line">
            <a:avLst/>
          </a:prstGeom>
          <a:ln w="34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"/>
          <p:cNvGrpSpPr/>
          <p:nvPr/>
        </p:nvGrpSpPr>
        <p:grpSpPr>
          <a:xfrm>
            <a:off x="179280" y="0"/>
            <a:ext cx="2476440" cy="726840"/>
            <a:chOff x="179280" y="0"/>
            <a:chExt cx="2476440" cy="726840"/>
          </a:xfrm>
        </p:grpSpPr>
        <p:sp>
          <p:nvSpPr>
            <p:cNvPr id="1115" name=""/>
            <p:cNvSpPr/>
            <p:nvPr/>
          </p:nvSpPr>
          <p:spPr>
            <a:xfrm>
              <a:off x="179280" y="0"/>
              <a:ext cx="2476440" cy="6217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9600" y="448920"/>
              <a:ext cx="2106000" cy="172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225720" y="45720"/>
              <a:ext cx="518400" cy="575280"/>
              <a:chOff x="225720" y="45720"/>
              <a:chExt cx="518400" cy="575280"/>
            </a:xfrm>
          </p:grpSpPr>
          <p:grpSp>
            <p:nvGrpSpPr>
              <p:cNvPr id="1118" name=""/>
              <p:cNvGrpSpPr/>
              <p:nvPr/>
            </p:nvGrpSpPr>
            <p:grpSpPr>
              <a:xfrm>
                <a:off x="260640" y="107280"/>
                <a:ext cx="483480" cy="513720"/>
                <a:chOff x="260640" y="107280"/>
                <a:chExt cx="483480" cy="5137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88360" y="107280"/>
                  <a:ext cx="416880" cy="48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0" name=""/>
                <p:cNvGrpSpPr/>
                <p:nvPr/>
              </p:nvGrpSpPr>
              <p:grpSpPr>
                <a:xfrm>
                  <a:off x="260640" y="175680"/>
                  <a:ext cx="483480" cy="445320"/>
                  <a:chOff x="260640" y="175680"/>
                  <a:chExt cx="483480" cy="445320"/>
                </a:xfrm>
              </p:grpSpPr>
              <p:sp>
                <p:nvSpPr>
                  <p:cNvPr id="1121" name="未知"/>
                  <p:cNvSpPr/>
                  <p:nvPr/>
                </p:nvSpPr>
                <p:spPr>
                  <a:xfrm>
                    <a:off x="260640" y="289080"/>
                    <a:ext cx="36756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未知"/>
                  <p:cNvSpPr/>
                  <p:nvPr/>
                </p:nvSpPr>
                <p:spPr>
                  <a:xfrm>
                    <a:off x="260640" y="250200"/>
                    <a:ext cx="3675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未知"/>
                  <p:cNvSpPr/>
                  <p:nvPr/>
                </p:nvSpPr>
                <p:spPr>
                  <a:xfrm>
                    <a:off x="294120" y="318240"/>
                    <a:ext cx="2898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未知"/>
                  <p:cNvSpPr/>
                  <p:nvPr/>
                </p:nvSpPr>
                <p:spPr>
                  <a:xfrm>
                    <a:off x="416520" y="386280"/>
                    <a:ext cx="3348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未知"/>
                  <p:cNvSpPr/>
                  <p:nvPr/>
                </p:nvSpPr>
                <p:spPr>
                  <a:xfrm>
                    <a:off x="406080" y="488880"/>
                    <a:ext cx="640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未知"/>
                  <p:cNvSpPr/>
                  <p:nvPr/>
                </p:nvSpPr>
                <p:spPr>
                  <a:xfrm>
                    <a:off x="311760" y="484200"/>
                    <a:ext cx="275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未知"/>
                  <p:cNvSpPr/>
                  <p:nvPr/>
                </p:nvSpPr>
                <p:spPr>
                  <a:xfrm>
                    <a:off x="563760" y="395280"/>
                    <a:ext cx="1414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未知"/>
                  <p:cNvSpPr/>
                  <p:nvPr/>
                </p:nvSpPr>
                <p:spPr>
                  <a:xfrm>
                    <a:off x="532080" y="175680"/>
                    <a:ext cx="21204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未知"/>
                  <p:cNvSpPr/>
                  <p:nvPr/>
                </p:nvSpPr>
                <p:spPr>
                  <a:xfrm>
                    <a:off x="547920" y="196200"/>
                    <a:ext cx="17280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225720" y="45720"/>
                <a:ext cx="243720" cy="164160"/>
                <a:chOff x="225720" y="45720"/>
                <a:chExt cx="243720" cy="164160"/>
              </a:xfrm>
            </p:grpSpPr>
            <p:sp>
              <p:nvSpPr>
                <p:cNvPr id="1131" name="未知"/>
                <p:cNvSpPr/>
                <p:nvPr/>
              </p:nvSpPr>
              <p:spPr>
                <a:xfrm>
                  <a:off x="225720" y="114120"/>
                  <a:ext cx="141480" cy="9576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未知"/>
                <p:cNvSpPr/>
                <p:nvPr/>
              </p:nvSpPr>
              <p:spPr>
                <a:xfrm>
                  <a:off x="296280" y="45720"/>
                  <a:ext cx="117720" cy="1368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未知"/>
                <p:cNvSpPr/>
                <p:nvPr/>
              </p:nvSpPr>
              <p:spPr>
                <a:xfrm>
                  <a:off x="398880" y="66240"/>
                  <a:ext cx="70560" cy="820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4" name=""/>
            <p:cNvSpPr txBox="1"/>
            <p:nvPr/>
          </p:nvSpPr>
          <p:spPr>
            <a:xfrm>
              <a:off x="785160" y="46800"/>
              <a:ext cx="1820520" cy="40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02400" y="360720"/>
              <a:ext cx="85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53964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探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1692360" y="260280"/>
            <a:ext cx="6840360" cy="1379160"/>
            <a:chOff x="1692360" y="260280"/>
            <a:chExt cx="6840360" cy="1379160"/>
          </a:xfrm>
        </p:grpSpPr>
        <p:sp>
          <p:nvSpPr>
            <p:cNvPr id="1138" name=""/>
            <p:cNvSpPr/>
            <p:nvPr/>
          </p:nvSpPr>
          <p:spPr>
            <a:xfrm>
              <a:off x="1692360" y="692280"/>
              <a:ext cx="684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解方程组                                的思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3203640" y="260280"/>
              <a:ext cx="3384000" cy="1206360"/>
              <a:chOff x="3203640" y="260280"/>
              <a:chExt cx="3384000" cy="1206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3203640" y="658800"/>
                <a:ext cx="144000" cy="647640"/>
              </a:xfrm>
              <a:custGeom>
                <a:avLst/>
                <a:gdLst>
                  <a:gd name="textAreaLeft" fmla="*/ 92160 w 144000"/>
                  <a:gd name="textAreaRight" fmla="*/ 144360 w 14400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290760" y="432000"/>
                <a:ext cx="32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 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3958560" y="276480"/>
                <a:ext cx="359280" cy="844200"/>
                <a:chOff x="3958560" y="276480"/>
                <a:chExt cx="359280" cy="84420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3971160" y="630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958560" y="27648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7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982680" y="711720"/>
                  <a:ext cx="28620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815000" y="260280"/>
                <a:ext cx="513000" cy="843480"/>
                <a:chOff x="4815000" y="260280"/>
                <a:chExt cx="513000" cy="84348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902480" y="6138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815000" y="260280"/>
                  <a:ext cx="5130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19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915440" y="695880"/>
                  <a:ext cx="28728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0" name=""/>
              <p:cNvSpPr/>
              <p:nvPr/>
            </p:nvSpPr>
            <p:spPr>
              <a:xfrm>
                <a:off x="3375000" y="946080"/>
                <a:ext cx="28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    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1" name=""/>
          <p:cNvSpPr/>
          <p:nvPr/>
        </p:nvSpPr>
        <p:spPr>
          <a:xfrm>
            <a:off x="541440" y="19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1476360" y="1700280"/>
            <a:ext cx="7056360" cy="1235880"/>
            <a:chOff x="1476360" y="1700280"/>
            <a:chExt cx="7056360" cy="1235880"/>
          </a:xfrm>
        </p:grpSpPr>
        <p:sp>
          <p:nvSpPr>
            <p:cNvPr id="1153" name=""/>
            <p:cNvSpPr/>
            <p:nvPr/>
          </p:nvSpPr>
          <p:spPr>
            <a:xfrm>
              <a:off x="1476360" y="1989000"/>
              <a:ext cx="705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与方程组                                    进行比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3059280" y="1700280"/>
              <a:ext cx="3384360" cy="1035000"/>
              <a:chOff x="3059280" y="1700280"/>
              <a:chExt cx="3384360" cy="1035000"/>
            </a:xfrm>
          </p:grpSpPr>
          <p:sp>
            <p:nvSpPr>
              <p:cNvPr id="1155" name=""/>
              <p:cNvSpPr/>
              <p:nvPr/>
            </p:nvSpPr>
            <p:spPr>
              <a:xfrm>
                <a:off x="3059280" y="19274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146400" y="1700280"/>
                <a:ext cx="32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7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9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214080" y="2214720"/>
                <a:ext cx="292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    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"/>
          <p:cNvSpPr/>
          <p:nvPr/>
        </p:nvSpPr>
        <p:spPr>
          <a:xfrm>
            <a:off x="539640" y="3141720"/>
            <a:ext cx="820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方程组的两个方程中某个未知数的系数成整数倍关系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然不能直接用加减法消元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但可将方程的两边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乘以一个适当的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为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变形后的方程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系数相同或互为相反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就可以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减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求解方程组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220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启发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2268360" y="189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何较简便地解下述二元一次方程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178200" y="1916280"/>
            <a:ext cx="3529080" cy="1512720"/>
          </a:xfrm>
          <a:prstGeom prst="wedgeRoundRectCallout">
            <a:avLst>
              <a:gd name="adj1" fmla="val 22060"/>
              <a:gd name="adj2" fmla="val -146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要是①、②两式中，</a:t>
            </a:r>
            <a:r>
              <a:rPr b="1" i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的系数相等或者互为相反数就好办了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250920" y="0"/>
            <a:ext cx="1998720" cy="895320"/>
            <a:chOff x="250920" y="0"/>
            <a:chExt cx="1998720" cy="895320"/>
          </a:xfrm>
        </p:grpSpPr>
        <p:grpSp>
          <p:nvGrpSpPr>
            <p:cNvPr id="1163" name=""/>
            <p:cNvGrpSpPr/>
            <p:nvPr/>
          </p:nvGrpSpPr>
          <p:grpSpPr>
            <a:xfrm>
              <a:off x="250920" y="0"/>
              <a:ext cx="1395360" cy="893520"/>
              <a:chOff x="250920" y="0"/>
              <a:chExt cx="1395360" cy="893520"/>
            </a:xfrm>
          </p:grpSpPr>
          <p:sp>
            <p:nvSpPr>
              <p:cNvPr id="1164" name=""/>
              <p:cNvSpPr/>
              <p:nvPr/>
            </p:nvSpPr>
            <p:spPr>
              <a:xfrm>
                <a:off x="250920" y="602640"/>
                <a:ext cx="1395360" cy="2908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9160" y="0"/>
                <a:ext cx="815760" cy="81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6" name=""/>
            <p:cNvSpPr/>
            <p:nvPr/>
          </p:nvSpPr>
          <p:spPr>
            <a:xfrm>
              <a:off x="782640" y="37476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动脑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7" name=""/>
          <p:cNvGraphicFramePr/>
          <p:nvPr/>
        </p:nvGraphicFramePr>
        <p:xfrm>
          <a:off x="2627280" y="765000"/>
          <a:ext cx="388944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765000"/>
                    <a:ext cx="38894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9" name=""/>
          <p:cNvSpPr/>
          <p:nvPr/>
        </p:nvSpPr>
        <p:spPr>
          <a:xfrm flipH="1" flipV="1">
            <a:off x="3707640" y="5790600"/>
            <a:ext cx="3583080" cy="944280"/>
          </a:xfrm>
          <a:prstGeom prst="wedgeRoundRectCallout">
            <a:avLst>
              <a:gd name="adj1" fmla="val -68476"/>
              <a:gd name="adj2" fmla="val 424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把①式两边乘以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，不就行了么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179280" y="5135400"/>
            <a:ext cx="1438560" cy="172260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5"/>
          <a:stretch/>
        </p:blipFill>
        <p:spPr>
          <a:xfrm>
            <a:off x="7916760" y="5222880"/>
            <a:ext cx="1227240" cy="163512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3419640" y="1844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×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9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3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564000" y="2421000"/>
            <a:ext cx="42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bbe0e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4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= 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211640" y="30686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     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340000" y="3716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得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+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211640" y="4365720"/>
            <a:ext cx="24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得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2771640" y="4797360"/>
            <a:ext cx="4953240" cy="879120"/>
            <a:chOff x="2771640" y="4797360"/>
            <a:chExt cx="4953240" cy="879120"/>
          </a:xfrm>
        </p:grpSpPr>
        <p:sp>
          <p:nvSpPr>
            <p:cNvPr id="1178" name=""/>
            <p:cNvSpPr/>
            <p:nvPr/>
          </p:nvSpPr>
          <p:spPr>
            <a:xfrm>
              <a:off x="2771640" y="494172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156360" y="4797360"/>
              <a:ext cx="1568520" cy="879120"/>
              <a:chOff x="6156360" y="4797360"/>
              <a:chExt cx="1568520" cy="87912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28000" y="479736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28000" y="51559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56360" y="501300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2097000" y="59364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方程组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900000" y="155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①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×2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635280" y="1628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4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0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187280" y="2565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③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得：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0" y="0"/>
            <a:ext cx="1589040" cy="1206360"/>
            <a:chOff x="0" y="0"/>
            <a:chExt cx="1589040" cy="1206360"/>
          </a:xfrm>
        </p:grpSpPr>
        <p:pic>
          <p:nvPicPr>
            <p:cNvPr id="118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348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 rot="355800">
              <a:off x="646920" y="71280"/>
              <a:ext cx="895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427640" y="260280"/>
            <a:ext cx="2788920" cy="1126800"/>
            <a:chOff x="4427640" y="260280"/>
            <a:chExt cx="2788920" cy="1126800"/>
          </a:xfrm>
        </p:grpSpPr>
        <p:sp>
          <p:nvSpPr>
            <p:cNvPr id="1191" name=""/>
            <p:cNvSpPr/>
            <p:nvPr/>
          </p:nvSpPr>
          <p:spPr>
            <a:xfrm>
              <a:off x="4580280" y="260280"/>
              <a:ext cx="262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9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5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00800" y="866520"/>
              <a:ext cx="26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0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27640" y="50616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5003640" y="2421000"/>
            <a:ext cx="1639800" cy="844200"/>
            <a:chOff x="5003640" y="2421000"/>
            <a:chExt cx="1639800" cy="844200"/>
          </a:xfrm>
        </p:grpSpPr>
        <p:sp>
          <p:nvSpPr>
            <p:cNvPr id="1195" name=""/>
            <p:cNvSpPr/>
            <p:nvPr/>
          </p:nvSpPr>
          <p:spPr>
            <a:xfrm>
              <a:off x="5003640" y="255420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68520" y="2421000"/>
              <a:ext cx="359280" cy="844200"/>
              <a:chOff x="6068520" y="2421000"/>
              <a:chExt cx="359280" cy="84420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1120" y="277524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068520" y="2421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092280" y="2856240"/>
                <a:ext cx="28692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0" name=""/>
          <p:cNvGrpSpPr/>
          <p:nvPr/>
        </p:nvGrpSpPr>
        <p:grpSpPr>
          <a:xfrm>
            <a:off x="971640" y="3357720"/>
            <a:ext cx="5148000" cy="844200"/>
            <a:chOff x="971640" y="3357720"/>
            <a:chExt cx="5148000" cy="844200"/>
          </a:xfrm>
        </p:grpSpPr>
        <p:sp>
          <p:nvSpPr>
            <p:cNvPr id="1201" name=""/>
            <p:cNvSpPr/>
            <p:nvPr/>
          </p:nvSpPr>
          <p:spPr>
            <a:xfrm>
              <a:off x="971640" y="3595680"/>
              <a:ext cx="51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把     代入②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,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得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4+4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1417320" y="3357720"/>
              <a:ext cx="1639440" cy="844200"/>
              <a:chOff x="1417320" y="3357720"/>
              <a:chExt cx="1639440" cy="844200"/>
            </a:xfrm>
          </p:grpSpPr>
          <p:sp>
            <p:nvSpPr>
              <p:cNvPr id="1203" name=""/>
              <p:cNvSpPr/>
              <p:nvPr/>
            </p:nvSpPr>
            <p:spPr>
              <a:xfrm>
                <a:off x="1417320" y="3562200"/>
                <a:ext cx="163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1921320" y="3357720"/>
                <a:ext cx="359280" cy="844200"/>
                <a:chOff x="1921320" y="3357720"/>
                <a:chExt cx="359280" cy="8442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1933920" y="3711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921320" y="3357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945440" y="3792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"/>
          <p:cNvGrpSpPr/>
          <p:nvPr/>
        </p:nvGrpSpPr>
        <p:grpSpPr>
          <a:xfrm>
            <a:off x="5867280" y="3429000"/>
            <a:ext cx="1639800" cy="844200"/>
            <a:chOff x="5867280" y="3429000"/>
            <a:chExt cx="1639800" cy="844200"/>
          </a:xfrm>
        </p:grpSpPr>
        <p:sp>
          <p:nvSpPr>
            <p:cNvPr id="1209" name=""/>
            <p:cNvSpPr/>
            <p:nvPr/>
          </p:nvSpPr>
          <p:spPr>
            <a:xfrm>
              <a:off x="5867280" y="3562560"/>
              <a:ext cx="16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932160" y="3429000"/>
              <a:ext cx="359280" cy="844200"/>
              <a:chOff x="6932160" y="3429000"/>
              <a:chExt cx="359280" cy="84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6944760" y="378324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32160" y="3429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955920" y="3864600"/>
                <a:ext cx="286920" cy="3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1332000" y="4437000"/>
            <a:ext cx="5168880" cy="1563480"/>
            <a:chOff x="1332000" y="4437000"/>
            <a:chExt cx="5168880" cy="1563480"/>
          </a:xfrm>
        </p:grpSpPr>
        <p:sp>
          <p:nvSpPr>
            <p:cNvPr id="1215" name=""/>
            <p:cNvSpPr/>
            <p:nvPr/>
          </p:nvSpPr>
          <p:spPr>
            <a:xfrm>
              <a:off x="1332000" y="491508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4861080" y="4437000"/>
              <a:ext cx="1639800" cy="844200"/>
              <a:chOff x="4861080" y="4437000"/>
              <a:chExt cx="1639800" cy="844200"/>
            </a:xfrm>
          </p:grpSpPr>
          <p:sp>
            <p:nvSpPr>
              <p:cNvPr id="1217" name=""/>
              <p:cNvSpPr/>
              <p:nvPr/>
            </p:nvSpPr>
            <p:spPr>
              <a:xfrm>
                <a:off x="4861080" y="4570200"/>
                <a:ext cx="16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5367240" y="4437000"/>
                <a:ext cx="359280" cy="844200"/>
                <a:chOff x="5367240" y="4437000"/>
                <a:chExt cx="359280" cy="8442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379840" y="479124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367240" y="443700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391000" y="487224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2" name=""/>
            <p:cNvGrpSpPr/>
            <p:nvPr/>
          </p:nvGrpSpPr>
          <p:grpSpPr>
            <a:xfrm>
              <a:off x="4861080" y="5156280"/>
              <a:ext cx="1639800" cy="844200"/>
              <a:chOff x="4861080" y="5156280"/>
              <a:chExt cx="1639800" cy="844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4861080" y="5289480"/>
                <a:ext cx="16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5367240" y="5156280"/>
                <a:ext cx="359280" cy="844200"/>
                <a:chOff x="5367240" y="5156280"/>
                <a:chExt cx="359280" cy="84420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5379840" y="55105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367240" y="515628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391000" y="5591520"/>
                  <a:ext cx="286920" cy="3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8" name=""/>
            <p:cNvSpPr/>
            <p:nvPr/>
          </p:nvSpPr>
          <p:spPr>
            <a:xfrm>
              <a:off x="4716360" y="4869000"/>
              <a:ext cx="144720" cy="647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 flipH="1" flipV="1">
            <a:off x="178920" y="3067920"/>
            <a:ext cx="3384720" cy="1655640"/>
          </a:xfrm>
          <a:prstGeom prst="wedgeRoundRectCallout">
            <a:avLst>
              <a:gd name="adj1" fmla="val 40476"/>
              <a:gd name="adj2" fmla="val -8279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能不能使两个方程中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或</a:t>
            </a:r>
            <a:r>
              <a:rPr b="1" i="1" lang="en-US" sz="26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的系数相等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66"/>
                </a:solidFill>
                <a:latin typeface="黑体"/>
                <a:ea typeface="黑体"/>
              </a:rPr>
              <a:t>或互为相反数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1035000" cy="13730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755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1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32.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4328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9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.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780000" y="3141720"/>
            <a:ext cx="5136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35.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1280" y="3716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4365720"/>
            <a:ext cx="51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×5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851280" y="501336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5508000" y="1124640"/>
            <a:ext cx="3421080" cy="574920"/>
          </a:xfrm>
          <a:prstGeom prst="wedgeRoundRectCallout">
            <a:avLst>
              <a:gd name="adj1" fmla="val 61643"/>
              <a:gd name="adj2" fmla="val 87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将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的系数变为相等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68360" y="333360"/>
            <a:ext cx="5322240" cy="1126800"/>
            <a:chOff x="468360" y="333360"/>
            <a:chExt cx="5322240" cy="1126800"/>
          </a:xfrm>
        </p:grpSpPr>
        <p:sp>
          <p:nvSpPr>
            <p:cNvPr id="1239" name=""/>
            <p:cNvSpPr/>
            <p:nvPr/>
          </p:nvSpPr>
          <p:spPr>
            <a:xfrm>
              <a:off x="468360" y="738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3060720" y="333360"/>
              <a:ext cx="2729880" cy="1126800"/>
              <a:chOff x="3060720" y="333360"/>
              <a:chExt cx="2729880" cy="1126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3213720" y="333360"/>
                <a:ext cx="253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8 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234240" y="939600"/>
                <a:ext cx="255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1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60720" y="57924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"/>
          <p:cNvGrpSpPr/>
          <p:nvPr/>
        </p:nvGrpSpPr>
        <p:grpSpPr>
          <a:xfrm>
            <a:off x="2484360" y="5589720"/>
            <a:ext cx="4953240" cy="879120"/>
            <a:chOff x="2484360" y="5589720"/>
            <a:chExt cx="4953240" cy="879120"/>
          </a:xfrm>
        </p:grpSpPr>
        <p:sp>
          <p:nvSpPr>
            <p:cNvPr id="1245" name=""/>
            <p:cNvSpPr/>
            <p:nvPr/>
          </p:nvSpPr>
          <p:spPr>
            <a:xfrm>
              <a:off x="2484360" y="573408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5869080" y="5589720"/>
              <a:ext cx="1568520" cy="879120"/>
              <a:chOff x="5869080" y="5589720"/>
              <a:chExt cx="1568520" cy="879120"/>
            </a:xfrm>
          </p:grpSpPr>
          <p:sp>
            <p:nvSpPr>
              <p:cNvPr id="1247" name=""/>
              <p:cNvSpPr/>
              <p:nvPr/>
            </p:nvSpPr>
            <p:spPr>
              <a:xfrm>
                <a:off x="5940720" y="55897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40720" y="594828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69080" y="580536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4000" y="16261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分析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对于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当方程组中两方程不具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上述特点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时，必须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等式性质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来改变方程组中方程的形式，即得到与原方程组同解的且某未知数系数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黑体"/>
              </a:rPr>
              <a:t>绝对值相等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黑体"/>
              </a:rPr>
              <a:t>的新的方程组，从而为加减消元法解方程组创造条件</a:t>
            </a:r>
            <a:r>
              <a:rPr b="1" lang="zh-CN" sz="2800" spc="-1" strike="noStrike">
                <a:solidFill>
                  <a:srgbClr val="000066"/>
                </a:solidFill>
                <a:latin typeface="华文行楷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547640" y="328392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9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6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627280" y="44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④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得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 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268360" y="5084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①，解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597040" y="3860640"/>
            <a:ext cx="36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×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4     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971640" y="189000"/>
            <a:ext cx="6615720" cy="1126800"/>
            <a:chOff x="971640" y="189000"/>
            <a:chExt cx="6615720" cy="1126800"/>
          </a:xfrm>
        </p:grpSpPr>
        <p:sp>
          <p:nvSpPr>
            <p:cNvPr id="1257" name=""/>
            <p:cNvSpPr/>
            <p:nvPr/>
          </p:nvSpPr>
          <p:spPr>
            <a:xfrm>
              <a:off x="971640" y="54936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用加减法解方程组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4716360" y="189000"/>
              <a:ext cx="2871000" cy="1126800"/>
              <a:chOff x="4716360" y="189000"/>
              <a:chExt cx="2871000" cy="1126800"/>
            </a:xfrm>
          </p:grpSpPr>
          <p:sp>
            <p:nvSpPr>
              <p:cNvPr id="1259" name=""/>
              <p:cNvSpPr/>
              <p:nvPr/>
            </p:nvSpPr>
            <p:spPr>
              <a:xfrm>
                <a:off x="4869360" y="189000"/>
                <a:ext cx="271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2  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889520" y="795240"/>
                <a:ext cx="26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4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7     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</a:t>
                </a:r>
                <a:r>
                  <a:rPr b="1" lang="en-US" sz="26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②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716360" y="434880"/>
                <a:ext cx="144360" cy="647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2124000" y="5589720"/>
            <a:ext cx="4953240" cy="879120"/>
            <a:chOff x="2124000" y="5589720"/>
            <a:chExt cx="4953240" cy="879120"/>
          </a:xfrm>
        </p:grpSpPr>
        <p:sp>
          <p:nvSpPr>
            <p:cNvPr id="1263" name=""/>
            <p:cNvSpPr/>
            <p:nvPr/>
          </p:nvSpPr>
          <p:spPr>
            <a:xfrm>
              <a:off x="2124000" y="5734080"/>
              <a:ext cx="43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因此原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5508720" y="5589720"/>
              <a:ext cx="1568520" cy="879120"/>
              <a:chOff x="5508720" y="5589720"/>
              <a:chExt cx="1568520" cy="879120"/>
            </a:xfrm>
          </p:grpSpPr>
          <p:sp>
            <p:nvSpPr>
              <p:cNvPr id="1265" name=""/>
              <p:cNvSpPr/>
              <p:nvPr/>
            </p:nvSpPr>
            <p:spPr>
              <a:xfrm>
                <a:off x="5580360" y="558972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580360" y="5948280"/>
                <a:ext cx="14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08720" y="5805360"/>
                <a:ext cx="71640" cy="574200"/>
              </a:xfrm>
              <a:custGeom>
                <a:avLst/>
                <a:gdLst>
                  <a:gd name="textAreaLeft" fmla="*/ 45720 w 71640"/>
                  <a:gd name="textAreaRight" fmla="*/ 72000 w 71640"/>
                  <a:gd name="textAreaTop" fmla="*/ 14760 h 574200"/>
                  <a:gd name="textAreaBottom" fmla="*/ 559440 h 57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611280" y="2852640"/>
            <a:ext cx="5310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否则，先把其中一个方程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乘以适当的数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将所得方程与另一个方程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或者先把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两个方程分别乘以适当的数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再把所得到的方程相减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79280" y="765000"/>
            <a:ext cx="576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如果两个方程中有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系数相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互为相反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那么把这两个方程直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相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3840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二元一次方程组的“消元”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179280" y="115920"/>
            <a:ext cx="2476440" cy="677880"/>
            <a:chOff x="179280" y="115920"/>
            <a:chExt cx="2476440" cy="677880"/>
          </a:xfrm>
        </p:grpSpPr>
        <p:sp>
          <p:nvSpPr>
            <p:cNvPr id="1272" name=""/>
            <p:cNvSpPr/>
            <p:nvPr/>
          </p:nvSpPr>
          <p:spPr>
            <a:xfrm>
              <a:off x="179280" y="115920"/>
              <a:ext cx="2476440" cy="53640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9600" y="503280"/>
              <a:ext cx="2106000" cy="148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225720" y="155160"/>
              <a:ext cx="518400" cy="496800"/>
              <a:chOff x="225720" y="155160"/>
              <a:chExt cx="518400" cy="496800"/>
            </a:xfrm>
          </p:grpSpPr>
          <p:grpSp>
            <p:nvGrpSpPr>
              <p:cNvPr id="1275" name=""/>
              <p:cNvGrpSpPr/>
              <p:nvPr/>
            </p:nvGrpSpPr>
            <p:grpSpPr>
              <a:xfrm>
                <a:off x="260640" y="208080"/>
                <a:ext cx="483480" cy="443880"/>
                <a:chOff x="260640" y="208080"/>
                <a:chExt cx="483480" cy="4438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288360" y="208080"/>
                  <a:ext cx="41688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260640" y="267120"/>
                  <a:ext cx="483480" cy="384840"/>
                  <a:chOff x="260640" y="267120"/>
                  <a:chExt cx="483480" cy="384840"/>
                </a:xfrm>
              </p:grpSpPr>
              <p:sp>
                <p:nvSpPr>
                  <p:cNvPr id="1278" name="未知"/>
                  <p:cNvSpPr/>
                  <p:nvPr/>
                </p:nvSpPr>
                <p:spPr>
                  <a:xfrm>
                    <a:off x="260640" y="365040"/>
                    <a:ext cx="3675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未知"/>
                  <p:cNvSpPr/>
                  <p:nvPr/>
                </p:nvSpPr>
                <p:spPr>
                  <a:xfrm>
                    <a:off x="260640" y="331560"/>
                    <a:ext cx="367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未知"/>
                  <p:cNvSpPr/>
                  <p:nvPr/>
                </p:nvSpPr>
                <p:spPr>
                  <a:xfrm>
                    <a:off x="294120" y="390240"/>
                    <a:ext cx="289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未知"/>
                  <p:cNvSpPr/>
                  <p:nvPr/>
                </p:nvSpPr>
                <p:spPr>
                  <a:xfrm>
                    <a:off x="416520" y="448920"/>
                    <a:ext cx="334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未知"/>
                  <p:cNvSpPr/>
                  <p:nvPr/>
                </p:nvSpPr>
                <p:spPr>
                  <a:xfrm>
                    <a:off x="406080" y="537480"/>
                    <a:ext cx="640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未知"/>
                  <p:cNvSpPr/>
                  <p:nvPr/>
                </p:nvSpPr>
                <p:spPr>
                  <a:xfrm>
                    <a:off x="311760" y="533520"/>
                    <a:ext cx="27540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未知"/>
                  <p:cNvSpPr/>
                  <p:nvPr/>
                </p:nvSpPr>
                <p:spPr>
                  <a:xfrm>
                    <a:off x="563760" y="456480"/>
                    <a:ext cx="141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未知"/>
                  <p:cNvSpPr/>
                  <p:nvPr/>
                </p:nvSpPr>
                <p:spPr>
                  <a:xfrm>
                    <a:off x="532080" y="267120"/>
                    <a:ext cx="212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未知"/>
                  <p:cNvSpPr/>
                  <p:nvPr/>
                </p:nvSpPr>
                <p:spPr>
                  <a:xfrm>
                    <a:off x="547920" y="284760"/>
                    <a:ext cx="1728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225720" y="155160"/>
                <a:ext cx="243720" cy="141840"/>
                <a:chOff x="225720" y="155160"/>
                <a:chExt cx="243720" cy="141840"/>
              </a:xfrm>
            </p:grpSpPr>
            <p:sp>
              <p:nvSpPr>
                <p:cNvPr id="1288" name="未知"/>
                <p:cNvSpPr/>
                <p:nvPr/>
              </p:nvSpPr>
              <p:spPr>
                <a:xfrm>
                  <a:off x="225720" y="21420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未知"/>
                <p:cNvSpPr/>
                <p:nvPr/>
              </p:nvSpPr>
              <p:spPr>
                <a:xfrm>
                  <a:off x="296280" y="155160"/>
                  <a:ext cx="117720" cy="11844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未知"/>
                <p:cNvSpPr/>
                <p:nvPr/>
              </p:nvSpPr>
              <p:spPr>
                <a:xfrm>
                  <a:off x="398880" y="172800"/>
                  <a:ext cx="70560" cy="7092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1" name=""/>
            <p:cNvSpPr txBox="1"/>
            <p:nvPr/>
          </p:nvSpPr>
          <p:spPr>
            <a:xfrm>
              <a:off x="785160" y="156240"/>
              <a:ext cx="182052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总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02400" y="427320"/>
              <a:ext cx="85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6084720" y="1197000"/>
            <a:ext cx="2736720" cy="1035000"/>
            <a:chOff x="6084720" y="1197000"/>
            <a:chExt cx="2736720" cy="1035000"/>
          </a:xfrm>
        </p:grpSpPr>
        <p:sp>
          <p:nvSpPr>
            <p:cNvPr id="1294" name=""/>
            <p:cNvSpPr/>
            <p:nvPr/>
          </p:nvSpPr>
          <p:spPr>
            <a:xfrm>
              <a:off x="6805440" y="142416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892560" y="119700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3600" y="1711440"/>
              <a:ext cx="16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84720" y="1406520"/>
              <a:ext cx="11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6012000" y="3068640"/>
            <a:ext cx="2736720" cy="1035000"/>
            <a:chOff x="6012000" y="3068640"/>
            <a:chExt cx="2736720" cy="1035000"/>
          </a:xfrm>
        </p:grpSpPr>
        <p:sp>
          <p:nvSpPr>
            <p:cNvPr id="1299" name=""/>
            <p:cNvSpPr/>
            <p:nvPr/>
          </p:nvSpPr>
          <p:spPr>
            <a:xfrm>
              <a:off x="6732720" y="32958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819840" y="306864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61240" y="3583080"/>
              <a:ext cx="17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6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-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12000" y="3278160"/>
              <a:ext cx="11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  <a:ea typeface="黑体"/>
                </a:rPr>
                <a:t>如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5796000" y="4365720"/>
            <a:ext cx="2736720" cy="1034640"/>
            <a:chOff x="5796000" y="4365720"/>
            <a:chExt cx="2736720" cy="1034640"/>
          </a:xfrm>
        </p:grpSpPr>
        <p:sp>
          <p:nvSpPr>
            <p:cNvPr id="1304" name=""/>
            <p:cNvSpPr/>
            <p:nvPr/>
          </p:nvSpPr>
          <p:spPr>
            <a:xfrm>
              <a:off x="6516720" y="4592520"/>
              <a:ext cx="144360" cy="647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280"/>
                <a:gd name="textAreaBottom" fmla="*/ 6307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03840" y="4365720"/>
              <a:ext cx="19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45240" y="4879800"/>
              <a:ext cx="17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-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6000" y="4574880"/>
              <a:ext cx="113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8" name=""/>
          <p:cNvGraphicFramePr/>
          <p:nvPr/>
        </p:nvGraphicFramePr>
        <p:xfrm>
          <a:off x="5435640" y="5373720"/>
          <a:ext cx="11523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5373720"/>
                    <a:ext cx="11523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"/>
          <p:cNvSpPr/>
          <p:nvPr/>
        </p:nvSpPr>
        <p:spPr>
          <a:xfrm>
            <a:off x="1908000" y="2276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①×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6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68360" y="2852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得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124000" y="3500280"/>
            <a:ext cx="54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835280" y="4076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7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，得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×7=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006640" y="4778280"/>
            <a:ext cx="540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736640" y="5408640"/>
            <a:ext cx="5400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0" y="0"/>
            <a:ext cx="1752120" cy="1405800"/>
            <a:chOff x="0" y="0"/>
            <a:chExt cx="1752120" cy="1405800"/>
          </a:xfrm>
        </p:grpSpPr>
        <p:sp>
          <p:nvSpPr>
            <p:cNvPr id="1317" name=""/>
            <p:cNvSpPr/>
            <p:nvPr/>
          </p:nvSpPr>
          <p:spPr>
            <a:xfrm>
              <a:off x="0" y="987840"/>
              <a:ext cx="1614240" cy="274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0928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608040" y="82440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2124000" y="2602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加减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2271600" y="907920"/>
            <a:ext cx="3848760" cy="1136520"/>
            <a:chOff x="2271600" y="907920"/>
            <a:chExt cx="3848760" cy="1136520"/>
          </a:xfrm>
        </p:grpSpPr>
        <p:sp>
          <p:nvSpPr>
            <p:cNvPr id="1322" name=""/>
            <p:cNvSpPr/>
            <p:nvPr/>
          </p:nvSpPr>
          <p:spPr>
            <a:xfrm>
              <a:off x="2271600" y="1129320"/>
              <a:ext cx="549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3063600" y="1027440"/>
                  <a:ext cx="1481040" cy="49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4" name=""/>
                <p:cNvSpPr txBox="1"/>
                <p:nvPr/>
              </p:nvSpPr>
              <p:spPr>
                <a:xfrm>
                  <a:off x="3016440" y="1574280"/>
                  <a:ext cx="176760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5" name=""/>
            <p:cNvSpPr/>
            <p:nvPr/>
          </p:nvSpPr>
          <p:spPr>
            <a:xfrm>
              <a:off x="2920320" y="1074240"/>
              <a:ext cx="94320" cy="832680"/>
            </a:xfrm>
            <a:custGeom>
              <a:avLst/>
              <a:gdLst>
                <a:gd name="textAreaLeft" fmla="*/ 60480 w 94320"/>
                <a:gd name="textAreaRight" fmla="*/ 94680 w 94320"/>
                <a:gd name="textAreaTop" fmla="*/ 21600 h 832680"/>
                <a:gd name="textAreaBottom" fmla="*/ 81108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698800" y="9079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98800" y="1462320"/>
              <a:ext cx="421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13T12:02:42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