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image21.wmf" ContentType="image/x-wmf"/>
  <Override PartName="/ppt/media/image18.png" ContentType="image/png"/>
  <Override PartName="/ppt/media/image25.gif" ContentType="image/gif"/>
  <Override PartName="/ppt/media/chimes.wav" ContentType="audio/x-wav"/>
  <Override PartName="/ppt/media/image2.wmf" ContentType="image/x-wmf"/>
  <Override PartName="/ppt/media/image3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wmf" ContentType="image/x-wmf"/>
  <Override PartName="/ppt/media/image20.png" ContentType="image/png"/>
  <Override PartName="/ppt/media/hammer.wav" ContentType="audio/x-wav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applause.wav" ContentType="audio/x-wav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31.wmf" ContentType="image/x-wmf"/>
  <Override PartName="/ppt/media/image29.wmf" ContentType="image/x-wmf"/>
  <Override PartName="/ppt/media/image41.wmf" ContentType="image/x-wmf"/>
  <Override PartName="/ppt/media/image44.wmf" ContentType="image/x-wmf"/>
  <Override PartName="/ppt/media/image40.wmf" ContentType="image/x-wmf"/>
  <Override PartName="/ppt/media/push.wav" ContentType="audio/x-wav"/>
  <Override PartName="/ppt/media/image45.wmf" ContentType="image/x-wmf"/>
  <Override PartName="/ppt/media/image46.wmf" ContentType="image/x-wmf"/>
  <Override PartName="/ppt/media/drumroll.wav" ContentType="audio/x-wav"/>
  <Override PartName="/ppt/media/image30.wmf" ContentType="image/x-wmf"/>
  <Override PartName="/ppt/media/image42.wmf" ContentType="image/x-wmf"/>
  <Override PartName="/ppt/media/camera.wav" ContentType="audio/x-wav"/>
  <Override PartName="/ppt/media/image43.png" ContentType="image/png"/>
  <Override PartName="/ppt/media/image51.gif" ContentType="image/gif"/>
  <Override PartName="/ppt/media/image28.wmf" ContentType="image/x-wmf"/>
  <Override PartName="/ppt/media/CHIMES.WAV" ContentType="audio/x-wav"/>
  <Override PartName="/ppt/media/image27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723C-A26A-4B4C-B8B9-2AB3A735D9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940-7E21-4B85-888D-C3B95225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5D2-43B2-4C85-BB3C-A089EBE0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372-52D0-4DEC-8810-47FE13CC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DE6-E061-468D-B583-11BDB052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750E-759A-4B02-A775-F3346031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BA81-3B40-4813-99B1-2D472989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663B-BDFA-4D9D-9E79-BAEC7D9C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2797-B198-4DC4-833E-6C1C472E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5BFE-4519-4EE1-A716-BE16134B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27D3-37F3-4617-87A3-DC752C46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1291-FA21-464B-AC61-A3968843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302-C5E1-4C20-A9BD-CF5710FA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4609-4778-48E8-A286-B2D9FED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7EE0-B92E-4FE9-B690-529BC6A0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565F-0243-43E0-BE30-E97D422B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6571-008D-433E-A4EB-837E57CC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427D-0901-4675-A8D4-BD01EFDD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347-B93B-497A-A23F-0D09C44B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E4A-8454-4654-B219-0B523BFA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3B79-E3DB-4215-B705-37E47B37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144-8A97-4DDA-93D8-E460D3BB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B29B-90E4-4AB3-8F5D-8BDB8F85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590D-8826-4DF3-85A9-53D9054F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1E6D7-955D-417A-B2A3-12CC7D04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F4F0B-84A9-4831-AC15-1DAD9A9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4803-B79B-4DE4-A0FA-97DB66F6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E1D2-6352-4858-BA69-B0DD6C2E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98CF3-A42D-41E0-9EDE-3B8866F7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20BA7-43C2-4316-B474-342FAEF3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3761-02C9-4CF0-9A54-1D0D894F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DCDFD-AD01-436E-ABB6-54C30CE8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8A9-D341-4007-A477-FB851BDB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0B58-68EB-4384-8F98-24AB27BF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A66-1339-4079-BEC1-0DDA8CA0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A3B-B8BE-4588-BB72-8D856676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5F8-BC1B-4CA9-B326-DE922C0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79000"/>
          </a:bodyPr>
          <a:p>
            <a:pPr marL="338400" indent="-3384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200" indent="-2833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2200" indent="-2268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080" indent="-2257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9040" indent="-2268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9040" indent="-2268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9040" indent="-2268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9B8A-2B65-4362-9AF3-D6E13ABA61EB}" type="slidenum"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87000"/>
          </a:bodyPr>
          <a:p>
            <a:pPr marL="372960" indent="-372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31212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47040" indent="-249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745640" indent="-2484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45320" indent="-249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245320" indent="-249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245320" indent="-249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477E-E231-43F4-917C-4A9615DDF444}" type="slidenum"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36600"/>
            <a:ext cx="9134280" cy="1130040"/>
            <a:chOff x="0" y="336600"/>
            <a:chExt cx="9134280" cy="1130040"/>
          </a:xfrm>
        </p:grpSpPr>
        <p:grpSp>
          <p:nvGrpSpPr>
            <p:cNvPr id="83" name=""/>
            <p:cNvGrpSpPr/>
            <p:nvPr/>
          </p:nvGrpSpPr>
          <p:grpSpPr>
            <a:xfrm>
              <a:off x="0" y="336600"/>
              <a:ext cx="9134280" cy="3240"/>
              <a:chOff x="0" y="336600"/>
              <a:chExt cx="9134280" cy="324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336600"/>
                <a:ext cx="9134280" cy="324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0" y="336600"/>
                <a:ext cx="913428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0" y="471960"/>
              <a:ext cx="9134280" cy="4680"/>
              <a:chOff x="0" y="471960"/>
              <a:chExt cx="9134280" cy="4680"/>
            </a:xfrm>
          </p:grpSpPr>
          <p:sp>
            <p:nvSpPr>
              <p:cNvPr id="87" name=""/>
              <p:cNvSpPr/>
              <p:nvPr/>
            </p:nvSpPr>
            <p:spPr>
              <a:xfrm>
                <a:off x="0" y="471960"/>
                <a:ext cx="9134280" cy="46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0" y="471960"/>
                <a:ext cx="913428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0" y="612000"/>
              <a:ext cx="9134280" cy="5040"/>
              <a:chOff x="0" y="612000"/>
              <a:chExt cx="9134280" cy="5040"/>
            </a:xfrm>
          </p:grpSpPr>
          <p:sp>
            <p:nvSpPr>
              <p:cNvPr id="90" name=""/>
              <p:cNvSpPr/>
              <p:nvPr/>
            </p:nvSpPr>
            <p:spPr>
              <a:xfrm>
                <a:off x="0" y="612000"/>
                <a:ext cx="9134280" cy="504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0" y="612000"/>
                <a:ext cx="9134280" cy="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0" y="757800"/>
              <a:ext cx="9134280" cy="3240"/>
              <a:chOff x="0" y="757800"/>
              <a:chExt cx="9134280" cy="3240"/>
            </a:xfrm>
          </p:grpSpPr>
          <p:sp>
            <p:nvSpPr>
              <p:cNvPr id="93" name=""/>
              <p:cNvSpPr/>
              <p:nvPr/>
            </p:nvSpPr>
            <p:spPr>
              <a:xfrm>
                <a:off x="0" y="757800"/>
                <a:ext cx="9134280" cy="324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0" y="757800"/>
                <a:ext cx="913428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0" y="896400"/>
              <a:ext cx="9134280" cy="4680"/>
              <a:chOff x="0" y="896400"/>
              <a:chExt cx="9134280" cy="4680"/>
            </a:xfrm>
          </p:grpSpPr>
          <p:sp>
            <p:nvSpPr>
              <p:cNvPr id="96" name=""/>
              <p:cNvSpPr/>
              <p:nvPr/>
            </p:nvSpPr>
            <p:spPr>
              <a:xfrm>
                <a:off x="0" y="896400"/>
                <a:ext cx="9134280" cy="46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0" y="896400"/>
                <a:ext cx="913428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0" y="1037160"/>
              <a:ext cx="9134280" cy="4680"/>
              <a:chOff x="0" y="1037160"/>
              <a:chExt cx="9134280" cy="4680"/>
            </a:xfrm>
          </p:grpSpPr>
          <p:sp>
            <p:nvSpPr>
              <p:cNvPr id="99" name=""/>
              <p:cNvSpPr/>
              <p:nvPr/>
            </p:nvSpPr>
            <p:spPr>
              <a:xfrm>
                <a:off x="0" y="1037160"/>
                <a:ext cx="9134280" cy="46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0" y="1037160"/>
                <a:ext cx="913428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0" y="1177560"/>
              <a:ext cx="9134280" cy="4680"/>
              <a:chOff x="0" y="1177560"/>
              <a:chExt cx="9134280" cy="4680"/>
            </a:xfrm>
          </p:grpSpPr>
          <p:sp>
            <p:nvSpPr>
              <p:cNvPr id="102" name=""/>
              <p:cNvSpPr/>
              <p:nvPr/>
            </p:nvSpPr>
            <p:spPr>
              <a:xfrm>
                <a:off x="0" y="1177560"/>
                <a:ext cx="9134280" cy="46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0" y="1177560"/>
                <a:ext cx="913428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0" y="1317600"/>
              <a:ext cx="9134280" cy="3240"/>
              <a:chOff x="0" y="1317600"/>
              <a:chExt cx="9134280" cy="3240"/>
            </a:xfrm>
          </p:grpSpPr>
          <p:sp>
            <p:nvSpPr>
              <p:cNvPr id="105" name=""/>
              <p:cNvSpPr/>
              <p:nvPr/>
            </p:nvSpPr>
            <p:spPr>
              <a:xfrm>
                <a:off x="0" y="1317600"/>
                <a:ext cx="9134280" cy="324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0" y="1317600"/>
                <a:ext cx="913428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0" y="1461960"/>
              <a:ext cx="9134280" cy="4680"/>
              <a:chOff x="0" y="1461960"/>
              <a:chExt cx="9134280" cy="468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461960"/>
                <a:ext cx="9134280" cy="46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0" y="1461960"/>
                <a:ext cx="913428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未知"/>
          <p:cNvSpPr/>
          <p:nvPr/>
        </p:nvSpPr>
        <p:spPr>
          <a:xfrm>
            <a:off x="1271520" y="0"/>
            <a:ext cx="6024600" cy="5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163" y="19926"/>
                </a:lnTo>
                <a:lnTo>
                  <a:pt x="341" y="18253"/>
                </a:lnTo>
                <a:lnTo>
                  <a:pt x="532" y="16884"/>
                </a:lnTo>
                <a:lnTo>
                  <a:pt x="696" y="15211"/>
                </a:lnTo>
                <a:lnTo>
                  <a:pt x="874" y="13842"/>
                </a:lnTo>
                <a:lnTo>
                  <a:pt x="1051" y="12321"/>
                </a:lnTo>
                <a:lnTo>
                  <a:pt x="1229" y="10951"/>
                </a:lnTo>
                <a:lnTo>
                  <a:pt x="1420" y="9582"/>
                </a:lnTo>
                <a:lnTo>
                  <a:pt x="1598" y="8365"/>
                </a:lnTo>
                <a:lnTo>
                  <a:pt x="1775" y="6996"/>
                </a:lnTo>
                <a:lnTo>
                  <a:pt x="1953" y="5780"/>
                </a:lnTo>
                <a:lnTo>
                  <a:pt x="2144" y="4563"/>
                </a:lnTo>
                <a:lnTo>
                  <a:pt x="2336" y="3346"/>
                </a:lnTo>
                <a:lnTo>
                  <a:pt x="2513" y="2129"/>
                </a:lnTo>
                <a:lnTo>
                  <a:pt x="2691" y="1064"/>
                </a:lnTo>
                <a:lnTo>
                  <a:pt x="2868" y="0"/>
                </a:lnTo>
                <a:lnTo>
                  <a:pt x="1912" y="0"/>
                </a:lnTo>
                <a:lnTo>
                  <a:pt x="1775" y="1216"/>
                </a:lnTo>
                <a:lnTo>
                  <a:pt x="1666" y="2281"/>
                </a:lnTo>
                <a:lnTo>
                  <a:pt x="1529" y="3498"/>
                </a:lnTo>
                <a:lnTo>
                  <a:pt x="1407" y="4715"/>
                </a:lnTo>
                <a:lnTo>
                  <a:pt x="1284" y="6084"/>
                </a:lnTo>
                <a:lnTo>
                  <a:pt x="1161" y="7301"/>
                </a:lnTo>
                <a:lnTo>
                  <a:pt x="1038" y="8670"/>
                </a:lnTo>
                <a:lnTo>
                  <a:pt x="928" y="9887"/>
                </a:lnTo>
                <a:lnTo>
                  <a:pt x="805" y="11408"/>
                </a:lnTo>
                <a:lnTo>
                  <a:pt x="696" y="12625"/>
                </a:lnTo>
                <a:lnTo>
                  <a:pt x="559" y="14146"/>
                </a:lnTo>
                <a:lnTo>
                  <a:pt x="450" y="15515"/>
                </a:lnTo>
                <a:lnTo>
                  <a:pt x="327" y="17036"/>
                </a:lnTo>
                <a:lnTo>
                  <a:pt x="218" y="18405"/>
                </a:lnTo>
                <a:lnTo>
                  <a:pt x="95" y="20078"/>
                </a:lnTo>
                <a:lnTo>
                  <a:pt x="0" y="21600"/>
                </a:lnTo>
                <a:close/>
                <a:moveTo>
                  <a:pt x="21558" y="0"/>
                </a:moveTo>
                <a:lnTo>
                  <a:pt x="21586" y="0"/>
                </a:lnTo>
                <a:lnTo>
                  <a:pt x="21600" y="0"/>
                </a:lnTo>
                <a:lnTo>
                  <a:pt x="21586" y="0"/>
                </a:lnTo>
                <a:lnTo>
                  <a:pt x="21572" y="0"/>
                </a:lnTo>
                <a:lnTo>
                  <a:pt x="21558" y="0"/>
                </a:lnTo>
              </a:path>
            </a:pathLst>
          </a:custGeom>
          <a:solidFill>
            <a:srgbClr val="c3c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61800" y="0"/>
            <a:ext cx="1660320" cy="2266560"/>
            <a:chOff x="361800" y="0"/>
            <a:chExt cx="1660320" cy="2266560"/>
          </a:xfrm>
        </p:grpSpPr>
        <p:sp>
          <p:nvSpPr>
            <p:cNvPr id="112" name="未知"/>
            <p:cNvSpPr/>
            <p:nvPr/>
          </p:nvSpPr>
          <p:spPr>
            <a:xfrm>
              <a:off x="361800" y="2160720"/>
              <a:ext cx="107280" cy="105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56" y="0"/>
                  </a:moveTo>
                  <a:lnTo>
                    <a:pt x="10028" y="0"/>
                  </a:lnTo>
                  <a:lnTo>
                    <a:pt x="11571" y="0"/>
                  </a:lnTo>
                  <a:lnTo>
                    <a:pt x="12342" y="0"/>
                  </a:lnTo>
                  <a:lnTo>
                    <a:pt x="13114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971" y="1542"/>
                  </a:lnTo>
                  <a:lnTo>
                    <a:pt x="17742" y="2314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4628"/>
                  </a:lnTo>
                  <a:lnTo>
                    <a:pt x="20056" y="5400"/>
                  </a:lnTo>
                  <a:lnTo>
                    <a:pt x="20828" y="6171"/>
                  </a:lnTo>
                  <a:lnTo>
                    <a:pt x="21600" y="7714"/>
                  </a:lnTo>
                  <a:lnTo>
                    <a:pt x="21600" y="8485"/>
                  </a:lnTo>
                  <a:lnTo>
                    <a:pt x="21600" y="9256"/>
                  </a:lnTo>
                  <a:lnTo>
                    <a:pt x="21600" y="10028"/>
                  </a:lnTo>
                  <a:lnTo>
                    <a:pt x="21600" y="11571"/>
                  </a:lnTo>
                  <a:lnTo>
                    <a:pt x="21600" y="12342"/>
                  </a:lnTo>
                  <a:lnTo>
                    <a:pt x="21600" y="13885"/>
                  </a:lnTo>
                  <a:lnTo>
                    <a:pt x="20828" y="14656"/>
                  </a:lnTo>
                  <a:lnTo>
                    <a:pt x="20828" y="15428"/>
                  </a:lnTo>
                  <a:lnTo>
                    <a:pt x="20056" y="16971"/>
                  </a:lnTo>
                  <a:lnTo>
                    <a:pt x="19285" y="17742"/>
                  </a:lnTo>
                  <a:lnTo>
                    <a:pt x="18514" y="18514"/>
                  </a:lnTo>
                  <a:lnTo>
                    <a:pt x="17742" y="19285"/>
                  </a:lnTo>
                  <a:lnTo>
                    <a:pt x="16971" y="20056"/>
                  </a:lnTo>
                  <a:lnTo>
                    <a:pt x="16200" y="20056"/>
                  </a:lnTo>
                  <a:lnTo>
                    <a:pt x="15428" y="20828"/>
                  </a:lnTo>
                  <a:lnTo>
                    <a:pt x="13885" y="21600"/>
                  </a:lnTo>
                  <a:lnTo>
                    <a:pt x="13114" y="21600"/>
                  </a:lnTo>
                  <a:lnTo>
                    <a:pt x="12342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8485" y="21600"/>
                  </a:lnTo>
                  <a:lnTo>
                    <a:pt x="6942" y="21600"/>
                  </a:lnTo>
                  <a:lnTo>
                    <a:pt x="6942" y="21600"/>
                  </a:lnTo>
                  <a:lnTo>
                    <a:pt x="6171" y="20828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085" y="18514"/>
                  </a:lnTo>
                  <a:lnTo>
                    <a:pt x="2314" y="18514"/>
                  </a:lnTo>
                  <a:lnTo>
                    <a:pt x="1542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2342"/>
                  </a:lnTo>
                  <a:lnTo>
                    <a:pt x="0" y="10800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0" y="8485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1542" y="5400"/>
                  </a:lnTo>
                  <a:lnTo>
                    <a:pt x="2314" y="3856"/>
                  </a:lnTo>
                  <a:lnTo>
                    <a:pt x="2314" y="3085"/>
                  </a:lnTo>
                  <a:lnTo>
                    <a:pt x="3085" y="2314"/>
                  </a:lnTo>
                  <a:lnTo>
                    <a:pt x="4628" y="1542"/>
                  </a:lnTo>
                  <a:lnTo>
                    <a:pt x="5400" y="1542"/>
                  </a:lnTo>
                  <a:lnTo>
                    <a:pt x="6171" y="771"/>
                  </a:lnTo>
                  <a:lnTo>
                    <a:pt x="6942" y="771"/>
                  </a:lnTo>
                  <a:lnTo>
                    <a:pt x="7714" y="0"/>
                  </a:lnTo>
                  <a:lnTo>
                    <a:pt x="9256" y="0"/>
                  </a:lnTo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601920" y="303840"/>
              <a:ext cx="103680" cy="10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3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4399" y="0"/>
                  </a:lnTo>
                  <a:lnTo>
                    <a:pt x="15199" y="771"/>
                  </a:lnTo>
                  <a:lnTo>
                    <a:pt x="15999" y="771"/>
                  </a:lnTo>
                  <a:lnTo>
                    <a:pt x="17599" y="1542"/>
                  </a:lnTo>
                  <a:lnTo>
                    <a:pt x="18399" y="2314"/>
                  </a:lnTo>
                  <a:lnTo>
                    <a:pt x="19199" y="2314"/>
                  </a:lnTo>
                  <a:lnTo>
                    <a:pt x="19999" y="3856"/>
                  </a:lnTo>
                  <a:lnTo>
                    <a:pt x="20799" y="4628"/>
                  </a:lnTo>
                  <a:lnTo>
                    <a:pt x="20799" y="5400"/>
                  </a:lnTo>
                  <a:lnTo>
                    <a:pt x="21600" y="6171"/>
                  </a:lnTo>
                  <a:lnTo>
                    <a:pt x="21600" y="7714"/>
                  </a:lnTo>
                  <a:lnTo>
                    <a:pt x="21600" y="7714"/>
                  </a:lnTo>
                  <a:lnTo>
                    <a:pt x="21600" y="8485"/>
                  </a:lnTo>
                  <a:lnTo>
                    <a:pt x="21600" y="10028"/>
                  </a:lnTo>
                  <a:lnTo>
                    <a:pt x="21600" y="11571"/>
                  </a:lnTo>
                  <a:lnTo>
                    <a:pt x="21600" y="12342"/>
                  </a:lnTo>
                  <a:lnTo>
                    <a:pt x="21600" y="13114"/>
                  </a:lnTo>
                  <a:lnTo>
                    <a:pt x="21600" y="14656"/>
                  </a:lnTo>
                  <a:lnTo>
                    <a:pt x="21600" y="15428"/>
                  </a:lnTo>
                  <a:lnTo>
                    <a:pt x="20799" y="16200"/>
                  </a:lnTo>
                  <a:lnTo>
                    <a:pt x="19999" y="17742"/>
                  </a:lnTo>
                  <a:lnTo>
                    <a:pt x="19199" y="18514"/>
                  </a:lnTo>
                  <a:lnTo>
                    <a:pt x="19199" y="19285"/>
                  </a:lnTo>
                  <a:lnTo>
                    <a:pt x="17599" y="20056"/>
                  </a:lnTo>
                  <a:lnTo>
                    <a:pt x="16799" y="20056"/>
                  </a:lnTo>
                  <a:lnTo>
                    <a:pt x="15999" y="20828"/>
                  </a:lnTo>
                  <a:lnTo>
                    <a:pt x="14399" y="21600"/>
                  </a:lnTo>
                  <a:lnTo>
                    <a:pt x="13599" y="21600"/>
                  </a:lnTo>
                  <a:lnTo>
                    <a:pt x="12799" y="21600"/>
                  </a:lnTo>
                  <a:lnTo>
                    <a:pt x="11199" y="21600"/>
                  </a:lnTo>
                  <a:lnTo>
                    <a:pt x="103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199" y="20828"/>
                  </a:lnTo>
                  <a:lnTo>
                    <a:pt x="6399" y="20828"/>
                  </a:lnTo>
                  <a:lnTo>
                    <a:pt x="5599" y="20056"/>
                  </a:lnTo>
                  <a:lnTo>
                    <a:pt x="3999" y="19285"/>
                  </a:lnTo>
                  <a:lnTo>
                    <a:pt x="3199" y="19285"/>
                  </a:lnTo>
                  <a:lnTo>
                    <a:pt x="2399" y="17742"/>
                  </a:lnTo>
                  <a:lnTo>
                    <a:pt x="1599" y="16971"/>
                  </a:lnTo>
                  <a:lnTo>
                    <a:pt x="1599" y="16200"/>
                  </a:lnTo>
                  <a:lnTo>
                    <a:pt x="799" y="15428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800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0" y="7714"/>
                  </a:lnTo>
                  <a:lnTo>
                    <a:pt x="799" y="6942"/>
                  </a:lnTo>
                  <a:lnTo>
                    <a:pt x="799" y="6171"/>
                  </a:lnTo>
                  <a:lnTo>
                    <a:pt x="1599" y="4628"/>
                  </a:lnTo>
                  <a:lnTo>
                    <a:pt x="2399" y="3856"/>
                  </a:lnTo>
                  <a:lnTo>
                    <a:pt x="3199" y="3085"/>
                  </a:lnTo>
                  <a:lnTo>
                    <a:pt x="3999" y="2314"/>
                  </a:lnTo>
                  <a:lnTo>
                    <a:pt x="4799" y="1542"/>
                  </a:lnTo>
                  <a:lnTo>
                    <a:pt x="5599" y="1542"/>
                  </a:lnTo>
                  <a:lnTo>
                    <a:pt x="6399" y="771"/>
                  </a:lnTo>
                  <a:lnTo>
                    <a:pt x="7999" y="0"/>
                  </a:lnTo>
                  <a:lnTo>
                    <a:pt x="8799" y="0"/>
                  </a:lnTo>
                  <a:lnTo>
                    <a:pt x="10399" y="0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1033200" y="1040040"/>
              <a:ext cx="10584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56" y="0"/>
                  </a:move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99"/>
                  </a:lnTo>
                  <a:lnTo>
                    <a:pt x="16200" y="799"/>
                  </a:lnTo>
                  <a:lnTo>
                    <a:pt x="16200" y="1599"/>
                  </a:lnTo>
                  <a:lnTo>
                    <a:pt x="16971" y="2399"/>
                  </a:lnTo>
                  <a:lnTo>
                    <a:pt x="18514" y="2399"/>
                  </a:lnTo>
                  <a:lnTo>
                    <a:pt x="19285" y="3999"/>
                  </a:lnTo>
                  <a:lnTo>
                    <a:pt x="20056" y="4799"/>
                  </a:lnTo>
                  <a:lnTo>
                    <a:pt x="20056" y="4799"/>
                  </a:lnTo>
                  <a:lnTo>
                    <a:pt x="20828" y="5599"/>
                  </a:lnTo>
                  <a:lnTo>
                    <a:pt x="21600" y="7199"/>
                  </a:lnTo>
                  <a:lnTo>
                    <a:pt x="21600" y="7999"/>
                  </a:lnTo>
                  <a:lnTo>
                    <a:pt x="21600" y="95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3599"/>
                  </a:lnTo>
                  <a:lnTo>
                    <a:pt x="20828" y="15199"/>
                  </a:lnTo>
                  <a:lnTo>
                    <a:pt x="20828" y="15999"/>
                  </a:lnTo>
                  <a:lnTo>
                    <a:pt x="20056" y="16799"/>
                  </a:lnTo>
                  <a:lnTo>
                    <a:pt x="19285" y="17599"/>
                  </a:lnTo>
                  <a:lnTo>
                    <a:pt x="18514" y="18399"/>
                  </a:lnTo>
                  <a:lnTo>
                    <a:pt x="17742" y="19199"/>
                  </a:lnTo>
                  <a:lnTo>
                    <a:pt x="16971" y="19999"/>
                  </a:lnTo>
                  <a:lnTo>
                    <a:pt x="16200" y="19999"/>
                  </a:lnTo>
                  <a:lnTo>
                    <a:pt x="15428" y="20799"/>
                  </a:lnTo>
                  <a:lnTo>
                    <a:pt x="14656" y="21600"/>
                  </a:lnTo>
                  <a:lnTo>
                    <a:pt x="13114" y="21600"/>
                  </a:lnTo>
                  <a:lnTo>
                    <a:pt x="12342" y="21600"/>
                  </a:lnTo>
                  <a:lnTo>
                    <a:pt x="10800" y="21600"/>
                  </a:lnTo>
                  <a:lnTo>
                    <a:pt x="10028" y="21600"/>
                  </a:lnTo>
                  <a:lnTo>
                    <a:pt x="8485" y="21600"/>
                  </a:lnTo>
                  <a:lnTo>
                    <a:pt x="7714" y="21600"/>
                  </a:lnTo>
                  <a:lnTo>
                    <a:pt x="6171" y="20799"/>
                  </a:lnTo>
                  <a:lnTo>
                    <a:pt x="5400" y="20799"/>
                  </a:lnTo>
                  <a:lnTo>
                    <a:pt x="5400" y="19999"/>
                  </a:lnTo>
                  <a:lnTo>
                    <a:pt x="4628" y="19199"/>
                  </a:lnTo>
                  <a:lnTo>
                    <a:pt x="3085" y="18399"/>
                  </a:lnTo>
                  <a:lnTo>
                    <a:pt x="2314" y="17599"/>
                  </a:lnTo>
                  <a:lnTo>
                    <a:pt x="1542" y="16799"/>
                  </a:lnTo>
                  <a:lnTo>
                    <a:pt x="1542" y="15999"/>
                  </a:lnTo>
                  <a:lnTo>
                    <a:pt x="771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27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999"/>
                  </a:lnTo>
                  <a:lnTo>
                    <a:pt x="0" y="6399"/>
                  </a:lnTo>
                  <a:lnTo>
                    <a:pt x="771" y="5599"/>
                  </a:lnTo>
                  <a:lnTo>
                    <a:pt x="1542" y="4799"/>
                  </a:lnTo>
                  <a:lnTo>
                    <a:pt x="2314" y="3999"/>
                  </a:lnTo>
                  <a:lnTo>
                    <a:pt x="3085" y="3199"/>
                  </a:lnTo>
                  <a:lnTo>
                    <a:pt x="3856" y="2399"/>
                  </a:lnTo>
                  <a:lnTo>
                    <a:pt x="4628" y="1599"/>
                  </a:lnTo>
                  <a:lnTo>
                    <a:pt x="5400" y="1599"/>
                  </a:lnTo>
                  <a:lnTo>
                    <a:pt x="5400" y="799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949320" y="441720"/>
              <a:ext cx="105840" cy="10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56" y="0"/>
                  </a:move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5428" y="0"/>
                  </a:lnTo>
                  <a:lnTo>
                    <a:pt x="16200" y="0"/>
                  </a:lnTo>
                  <a:lnTo>
                    <a:pt x="16971" y="771"/>
                  </a:lnTo>
                  <a:lnTo>
                    <a:pt x="17742" y="1542"/>
                  </a:lnTo>
                  <a:lnTo>
                    <a:pt x="18514" y="2314"/>
                  </a:lnTo>
                  <a:lnTo>
                    <a:pt x="19285" y="3085"/>
                  </a:lnTo>
                  <a:lnTo>
                    <a:pt x="20056" y="3856"/>
                  </a:lnTo>
                  <a:lnTo>
                    <a:pt x="20056" y="4628"/>
                  </a:lnTo>
                  <a:lnTo>
                    <a:pt x="20828" y="5400"/>
                  </a:lnTo>
                  <a:lnTo>
                    <a:pt x="21600" y="6171"/>
                  </a:lnTo>
                  <a:lnTo>
                    <a:pt x="21600" y="7714"/>
                  </a:lnTo>
                  <a:lnTo>
                    <a:pt x="21600" y="9256"/>
                  </a:lnTo>
                  <a:lnTo>
                    <a:pt x="21600" y="10028"/>
                  </a:lnTo>
                  <a:lnTo>
                    <a:pt x="21600" y="10800"/>
                  </a:lnTo>
                  <a:lnTo>
                    <a:pt x="21600" y="11571"/>
                  </a:lnTo>
                  <a:lnTo>
                    <a:pt x="21600" y="12342"/>
                  </a:lnTo>
                  <a:lnTo>
                    <a:pt x="21600" y="13885"/>
                  </a:lnTo>
                  <a:lnTo>
                    <a:pt x="20828" y="14656"/>
                  </a:lnTo>
                  <a:lnTo>
                    <a:pt x="20056" y="15428"/>
                  </a:lnTo>
                  <a:lnTo>
                    <a:pt x="19285" y="16971"/>
                  </a:lnTo>
                  <a:lnTo>
                    <a:pt x="18514" y="17742"/>
                  </a:lnTo>
                  <a:lnTo>
                    <a:pt x="17742" y="18514"/>
                  </a:lnTo>
                  <a:lnTo>
                    <a:pt x="16971" y="19285"/>
                  </a:lnTo>
                  <a:lnTo>
                    <a:pt x="16971" y="19285"/>
                  </a:lnTo>
                  <a:lnTo>
                    <a:pt x="16200" y="20056"/>
                  </a:lnTo>
                  <a:lnTo>
                    <a:pt x="14656" y="20828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0800" y="21600"/>
                  </a:lnTo>
                  <a:lnTo>
                    <a:pt x="10028" y="21600"/>
                  </a:lnTo>
                  <a:lnTo>
                    <a:pt x="9256" y="20828"/>
                  </a:lnTo>
                  <a:lnTo>
                    <a:pt x="7714" y="20828"/>
                  </a:lnTo>
                  <a:lnTo>
                    <a:pt x="6942" y="20056"/>
                  </a:lnTo>
                  <a:lnTo>
                    <a:pt x="6171" y="20056"/>
                  </a:lnTo>
                  <a:lnTo>
                    <a:pt x="5400" y="19285"/>
                  </a:lnTo>
                  <a:lnTo>
                    <a:pt x="4628" y="18514"/>
                  </a:lnTo>
                  <a:lnTo>
                    <a:pt x="3856" y="17742"/>
                  </a:lnTo>
                  <a:lnTo>
                    <a:pt x="2314" y="16971"/>
                  </a:lnTo>
                  <a:lnTo>
                    <a:pt x="2314" y="16200"/>
                  </a:lnTo>
                  <a:lnTo>
                    <a:pt x="1542" y="15428"/>
                  </a:lnTo>
                  <a:lnTo>
                    <a:pt x="771" y="14656"/>
                  </a:lnTo>
                  <a:lnTo>
                    <a:pt x="771" y="13114"/>
                  </a:lnTo>
                  <a:lnTo>
                    <a:pt x="0" y="12342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0" y="7714"/>
                  </a:lnTo>
                  <a:lnTo>
                    <a:pt x="771" y="6171"/>
                  </a:lnTo>
                  <a:lnTo>
                    <a:pt x="771" y="5400"/>
                  </a:lnTo>
                  <a:lnTo>
                    <a:pt x="1542" y="4628"/>
                  </a:lnTo>
                  <a:lnTo>
                    <a:pt x="2314" y="3085"/>
                  </a:lnTo>
                  <a:lnTo>
                    <a:pt x="3085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5400" y="771"/>
                  </a:lnTo>
                  <a:lnTo>
                    <a:pt x="6171" y="0"/>
                  </a:lnTo>
                  <a:lnTo>
                    <a:pt x="6942" y="0"/>
                  </a:lnTo>
                  <a:lnTo>
                    <a:pt x="8485" y="0"/>
                  </a:lnTo>
                  <a:lnTo>
                    <a:pt x="9256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42440" y="1033200"/>
              <a:ext cx="10224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799" y="0"/>
                  </a:moveTo>
                  <a:lnTo>
                    <a:pt x="10399" y="0"/>
                  </a:lnTo>
                  <a:lnTo>
                    <a:pt x="11199" y="0"/>
                  </a:lnTo>
                  <a:lnTo>
                    <a:pt x="11999" y="0"/>
                  </a:lnTo>
                  <a:lnTo>
                    <a:pt x="13599" y="0"/>
                  </a:lnTo>
                  <a:lnTo>
                    <a:pt x="14399" y="744"/>
                  </a:lnTo>
                  <a:lnTo>
                    <a:pt x="15199" y="744"/>
                  </a:lnTo>
                  <a:lnTo>
                    <a:pt x="16799" y="1489"/>
                  </a:lnTo>
                  <a:lnTo>
                    <a:pt x="17599" y="2234"/>
                  </a:lnTo>
                  <a:lnTo>
                    <a:pt x="18399" y="2979"/>
                  </a:lnTo>
                  <a:lnTo>
                    <a:pt x="19199" y="3724"/>
                  </a:lnTo>
                  <a:lnTo>
                    <a:pt x="19999" y="4468"/>
                  </a:lnTo>
                  <a:lnTo>
                    <a:pt x="19999" y="5213"/>
                  </a:lnTo>
                  <a:lnTo>
                    <a:pt x="20799" y="5958"/>
                  </a:lnTo>
                  <a:lnTo>
                    <a:pt x="21600" y="6703"/>
                  </a:lnTo>
                  <a:lnTo>
                    <a:pt x="21600" y="7448"/>
                  </a:lnTo>
                  <a:lnTo>
                    <a:pt x="21600" y="8937"/>
                  </a:lnTo>
                  <a:lnTo>
                    <a:pt x="21600" y="10427"/>
                  </a:lnTo>
                  <a:lnTo>
                    <a:pt x="21600" y="11172"/>
                  </a:lnTo>
                  <a:lnTo>
                    <a:pt x="21600" y="12661"/>
                  </a:lnTo>
                  <a:lnTo>
                    <a:pt x="21600" y="13406"/>
                  </a:lnTo>
                  <a:lnTo>
                    <a:pt x="21600" y="14896"/>
                  </a:lnTo>
                  <a:lnTo>
                    <a:pt x="20799" y="15641"/>
                  </a:lnTo>
                  <a:lnTo>
                    <a:pt x="19999" y="15641"/>
                  </a:lnTo>
                  <a:lnTo>
                    <a:pt x="19199" y="17130"/>
                  </a:lnTo>
                  <a:lnTo>
                    <a:pt x="18399" y="17875"/>
                  </a:lnTo>
                  <a:lnTo>
                    <a:pt x="18399" y="18620"/>
                  </a:lnTo>
                  <a:lnTo>
                    <a:pt x="16799" y="19365"/>
                  </a:lnTo>
                  <a:lnTo>
                    <a:pt x="15999" y="19365"/>
                  </a:lnTo>
                  <a:lnTo>
                    <a:pt x="15199" y="20110"/>
                  </a:lnTo>
                  <a:lnTo>
                    <a:pt x="13599" y="20855"/>
                  </a:lnTo>
                  <a:lnTo>
                    <a:pt x="12799" y="20855"/>
                  </a:lnTo>
                  <a:lnTo>
                    <a:pt x="11199" y="20855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0855"/>
                  </a:lnTo>
                  <a:lnTo>
                    <a:pt x="7199" y="20855"/>
                  </a:lnTo>
                  <a:lnTo>
                    <a:pt x="6399" y="20110"/>
                  </a:lnTo>
                  <a:lnTo>
                    <a:pt x="5599" y="20110"/>
                  </a:lnTo>
                  <a:lnTo>
                    <a:pt x="3999" y="19365"/>
                  </a:lnTo>
                  <a:lnTo>
                    <a:pt x="3199" y="18620"/>
                  </a:lnTo>
                  <a:lnTo>
                    <a:pt x="2399" y="17875"/>
                  </a:lnTo>
                  <a:lnTo>
                    <a:pt x="1599" y="17130"/>
                  </a:lnTo>
                  <a:lnTo>
                    <a:pt x="799" y="16385"/>
                  </a:lnTo>
                  <a:lnTo>
                    <a:pt x="799" y="15641"/>
                  </a:lnTo>
                  <a:lnTo>
                    <a:pt x="0" y="15641"/>
                  </a:lnTo>
                  <a:lnTo>
                    <a:pt x="0" y="14151"/>
                  </a:lnTo>
                  <a:lnTo>
                    <a:pt x="0" y="13406"/>
                  </a:lnTo>
                  <a:lnTo>
                    <a:pt x="0" y="11916"/>
                  </a:lnTo>
                  <a:lnTo>
                    <a:pt x="0" y="10427"/>
                  </a:lnTo>
                  <a:lnTo>
                    <a:pt x="0" y="9682"/>
                  </a:lnTo>
                  <a:lnTo>
                    <a:pt x="0" y="8937"/>
                  </a:lnTo>
                  <a:lnTo>
                    <a:pt x="0" y="7448"/>
                  </a:lnTo>
                  <a:lnTo>
                    <a:pt x="0" y="6703"/>
                  </a:lnTo>
                  <a:lnTo>
                    <a:pt x="0" y="5213"/>
                  </a:lnTo>
                  <a:lnTo>
                    <a:pt x="799" y="5213"/>
                  </a:lnTo>
                  <a:lnTo>
                    <a:pt x="1599" y="4468"/>
                  </a:lnTo>
                  <a:lnTo>
                    <a:pt x="2399" y="3724"/>
                  </a:lnTo>
                  <a:lnTo>
                    <a:pt x="2399" y="2234"/>
                  </a:lnTo>
                  <a:lnTo>
                    <a:pt x="3999" y="2234"/>
                  </a:lnTo>
                  <a:lnTo>
                    <a:pt x="4799" y="1489"/>
                  </a:lnTo>
                  <a:lnTo>
                    <a:pt x="5599" y="744"/>
                  </a:lnTo>
                  <a:lnTo>
                    <a:pt x="7199" y="744"/>
                  </a:lnTo>
                  <a:lnTo>
                    <a:pt x="7999" y="0"/>
                  </a:lnTo>
                  <a:lnTo>
                    <a:pt x="8799" y="0"/>
                  </a:lnTo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1889640" y="228600"/>
              <a:ext cx="102240" cy="11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7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3599" y="0"/>
                  </a:lnTo>
                  <a:lnTo>
                    <a:pt x="15199" y="0"/>
                  </a:lnTo>
                  <a:lnTo>
                    <a:pt x="15999" y="744"/>
                  </a:lnTo>
                  <a:lnTo>
                    <a:pt x="16799" y="1489"/>
                  </a:lnTo>
                  <a:lnTo>
                    <a:pt x="17599" y="1489"/>
                  </a:lnTo>
                  <a:lnTo>
                    <a:pt x="18399" y="2234"/>
                  </a:lnTo>
                  <a:lnTo>
                    <a:pt x="19199" y="2979"/>
                  </a:lnTo>
                  <a:lnTo>
                    <a:pt x="19999" y="4468"/>
                  </a:lnTo>
                  <a:lnTo>
                    <a:pt x="19999" y="5213"/>
                  </a:lnTo>
                  <a:lnTo>
                    <a:pt x="20799" y="5958"/>
                  </a:lnTo>
                  <a:lnTo>
                    <a:pt x="21600" y="7448"/>
                  </a:lnTo>
                  <a:lnTo>
                    <a:pt x="21600" y="8192"/>
                  </a:lnTo>
                  <a:lnTo>
                    <a:pt x="21600" y="8192"/>
                  </a:lnTo>
                  <a:lnTo>
                    <a:pt x="21600" y="9682"/>
                  </a:lnTo>
                  <a:lnTo>
                    <a:pt x="21600" y="11172"/>
                  </a:lnTo>
                  <a:lnTo>
                    <a:pt x="21600" y="11916"/>
                  </a:lnTo>
                  <a:lnTo>
                    <a:pt x="21600" y="12661"/>
                  </a:lnTo>
                  <a:lnTo>
                    <a:pt x="20799" y="14151"/>
                  </a:lnTo>
                  <a:lnTo>
                    <a:pt x="20799" y="14896"/>
                  </a:lnTo>
                  <a:lnTo>
                    <a:pt x="19999" y="15641"/>
                  </a:lnTo>
                  <a:lnTo>
                    <a:pt x="19199" y="17130"/>
                  </a:lnTo>
                  <a:lnTo>
                    <a:pt x="18399" y="17875"/>
                  </a:lnTo>
                  <a:lnTo>
                    <a:pt x="17599" y="18620"/>
                  </a:lnTo>
                  <a:lnTo>
                    <a:pt x="17599" y="19365"/>
                  </a:lnTo>
                  <a:lnTo>
                    <a:pt x="16799" y="19365"/>
                  </a:lnTo>
                  <a:lnTo>
                    <a:pt x="15999" y="20110"/>
                  </a:lnTo>
                  <a:lnTo>
                    <a:pt x="14399" y="20855"/>
                  </a:lnTo>
                  <a:lnTo>
                    <a:pt x="13599" y="20855"/>
                  </a:lnTo>
                  <a:lnTo>
                    <a:pt x="119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0855"/>
                  </a:lnTo>
                  <a:lnTo>
                    <a:pt x="7199" y="20855"/>
                  </a:lnTo>
                  <a:lnTo>
                    <a:pt x="6399" y="20855"/>
                  </a:lnTo>
                  <a:lnTo>
                    <a:pt x="6399" y="20110"/>
                  </a:lnTo>
                  <a:lnTo>
                    <a:pt x="4799" y="19365"/>
                  </a:lnTo>
                  <a:lnTo>
                    <a:pt x="3999" y="19365"/>
                  </a:lnTo>
                  <a:lnTo>
                    <a:pt x="3199" y="18620"/>
                  </a:lnTo>
                  <a:lnTo>
                    <a:pt x="2399" y="17875"/>
                  </a:lnTo>
                  <a:lnTo>
                    <a:pt x="1599" y="16385"/>
                  </a:lnTo>
                  <a:lnTo>
                    <a:pt x="1599" y="15641"/>
                  </a:lnTo>
                  <a:lnTo>
                    <a:pt x="799" y="14896"/>
                  </a:lnTo>
                  <a:lnTo>
                    <a:pt x="0" y="13406"/>
                  </a:lnTo>
                  <a:lnTo>
                    <a:pt x="0" y="12661"/>
                  </a:lnTo>
                  <a:lnTo>
                    <a:pt x="0" y="11172"/>
                  </a:lnTo>
                  <a:lnTo>
                    <a:pt x="0" y="10427"/>
                  </a:lnTo>
                  <a:lnTo>
                    <a:pt x="0" y="8937"/>
                  </a:lnTo>
                  <a:lnTo>
                    <a:pt x="0" y="8192"/>
                  </a:lnTo>
                  <a:lnTo>
                    <a:pt x="0" y="7448"/>
                  </a:lnTo>
                  <a:lnTo>
                    <a:pt x="0" y="6703"/>
                  </a:lnTo>
                  <a:lnTo>
                    <a:pt x="799" y="5958"/>
                  </a:lnTo>
                  <a:lnTo>
                    <a:pt x="1599" y="4468"/>
                  </a:lnTo>
                  <a:lnTo>
                    <a:pt x="2399" y="3724"/>
                  </a:lnTo>
                  <a:lnTo>
                    <a:pt x="3199" y="2979"/>
                  </a:lnTo>
                  <a:lnTo>
                    <a:pt x="3199" y="2234"/>
                  </a:lnTo>
                  <a:lnTo>
                    <a:pt x="4799" y="1489"/>
                  </a:lnTo>
                  <a:lnTo>
                    <a:pt x="5599" y="1489"/>
                  </a:lnTo>
                  <a:lnTo>
                    <a:pt x="6399" y="744"/>
                  </a:lnTo>
                  <a:lnTo>
                    <a:pt x="7199" y="0"/>
                  </a:lnTo>
                  <a:lnTo>
                    <a:pt x="7999" y="0"/>
                  </a:lnTo>
                  <a:lnTo>
                    <a:pt x="8799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1234800" y="0"/>
              <a:ext cx="468360" cy="28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229" y="19894"/>
                  </a:lnTo>
                  <a:lnTo>
                    <a:pt x="2634" y="18757"/>
                  </a:lnTo>
                  <a:lnTo>
                    <a:pt x="3863" y="17336"/>
                  </a:lnTo>
                  <a:lnTo>
                    <a:pt x="5268" y="15631"/>
                  </a:lnTo>
                  <a:lnTo>
                    <a:pt x="6497" y="14494"/>
                  </a:lnTo>
                  <a:lnTo>
                    <a:pt x="8077" y="13073"/>
                  </a:lnTo>
                  <a:lnTo>
                    <a:pt x="9307" y="11652"/>
                  </a:lnTo>
                  <a:lnTo>
                    <a:pt x="10711" y="10515"/>
                  </a:lnTo>
                  <a:lnTo>
                    <a:pt x="11941" y="9094"/>
                  </a:lnTo>
                  <a:lnTo>
                    <a:pt x="13346" y="7673"/>
                  </a:lnTo>
                  <a:lnTo>
                    <a:pt x="14751" y="6536"/>
                  </a:lnTo>
                  <a:lnTo>
                    <a:pt x="16155" y="5115"/>
                  </a:lnTo>
                  <a:lnTo>
                    <a:pt x="17385" y="3694"/>
                  </a:lnTo>
                  <a:lnTo>
                    <a:pt x="18789" y="2273"/>
                  </a:lnTo>
                  <a:lnTo>
                    <a:pt x="20019" y="1136"/>
                  </a:lnTo>
                  <a:lnTo>
                    <a:pt x="21600" y="0"/>
                  </a:lnTo>
                </a:path>
              </a:pathLst>
            </a:custGeom>
            <a:noFill/>
            <a:ln w="720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1280160" y="0"/>
              <a:ext cx="741960" cy="62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218" y="20028"/>
                  </a:lnTo>
                  <a:lnTo>
                    <a:pt x="2547" y="18327"/>
                  </a:lnTo>
                  <a:lnTo>
                    <a:pt x="3876" y="16887"/>
                  </a:lnTo>
                  <a:lnTo>
                    <a:pt x="5095" y="15447"/>
                  </a:lnTo>
                  <a:lnTo>
                    <a:pt x="6535" y="14007"/>
                  </a:lnTo>
                  <a:lnTo>
                    <a:pt x="7864" y="12567"/>
                  </a:lnTo>
                  <a:lnTo>
                    <a:pt x="9082" y="11258"/>
                  </a:lnTo>
                  <a:lnTo>
                    <a:pt x="10522" y="9818"/>
                  </a:lnTo>
                  <a:lnTo>
                    <a:pt x="11852" y="8509"/>
                  </a:lnTo>
                  <a:lnTo>
                    <a:pt x="13181" y="7199"/>
                  </a:lnTo>
                  <a:lnTo>
                    <a:pt x="14621" y="5890"/>
                  </a:lnTo>
                  <a:lnTo>
                    <a:pt x="15950" y="4712"/>
                  </a:lnTo>
                  <a:lnTo>
                    <a:pt x="17390" y="3403"/>
                  </a:lnTo>
                  <a:lnTo>
                    <a:pt x="18719" y="2225"/>
                  </a:lnTo>
                  <a:lnTo>
                    <a:pt x="20159" y="1047"/>
                  </a:lnTo>
                  <a:lnTo>
                    <a:pt x="21600" y="0"/>
                  </a:lnTo>
                  <a:lnTo>
                    <a:pt x="14621" y="0"/>
                  </a:lnTo>
                  <a:lnTo>
                    <a:pt x="13513" y="1047"/>
                  </a:lnTo>
                  <a:lnTo>
                    <a:pt x="12627" y="2356"/>
                  </a:lnTo>
                  <a:lnTo>
                    <a:pt x="11630" y="3534"/>
                  </a:lnTo>
                  <a:lnTo>
                    <a:pt x="10633" y="4843"/>
                  </a:lnTo>
                  <a:lnTo>
                    <a:pt x="9747" y="6021"/>
                  </a:lnTo>
                  <a:lnTo>
                    <a:pt x="8750" y="7461"/>
                  </a:lnTo>
                  <a:lnTo>
                    <a:pt x="7864" y="8770"/>
                  </a:lnTo>
                  <a:lnTo>
                    <a:pt x="6867" y="9948"/>
                  </a:lnTo>
                  <a:lnTo>
                    <a:pt x="6092" y="11388"/>
                  </a:lnTo>
                  <a:lnTo>
                    <a:pt x="5095" y="12828"/>
                  </a:lnTo>
                  <a:lnTo>
                    <a:pt x="4319" y="14138"/>
                  </a:lnTo>
                  <a:lnTo>
                    <a:pt x="3322" y="15708"/>
                  </a:lnTo>
                  <a:lnTo>
                    <a:pt x="2547" y="17018"/>
                  </a:lnTo>
                  <a:lnTo>
                    <a:pt x="1661" y="18458"/>
                  </a:lnTo>
                  <a:lnTo>
                    <a:pt x="775" y="20028"/>
                  </a:lnTo>
                  <a:lnTo>
                    <a:pt x="0" y="21600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532800" y="0"/>
              <a:ext cx="1348200" cy="187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26" y="20767"/>
                  </a:lnTo>
                  <a:lnTo>
                    <a:pt x="976" y="19934"/>
                  </a:lnTo>
                  <a:lnTo>
                    <a:pt x="1403" y="19146"/>
                  </a:lnTo>
                  <a:lnTo>
                    <a:pt x="2013" y="18357"/>
                  </a:lnTo>
                  <a:lnTo>
                    <a:pt x="2501" y="17569"/>
                  </a:lnTo>
                  <a:lnTo>
                    <a:pt x="3111" y="16780"/>
                  </a:lnTo>
                  <a:lnTo>
                    <a:pt x="3660" y="16035"/>
                  </a:lnTo>
                  <a:lnTo>
                    <a:pt x="4209" y="15290"/>
                  </a:lnTo>
                  <a:lnTo>
                    <a:pt x="4820" y="14545"/>
                  </a:lnTo>
                  <a:lnTo>
                    <a:pt x="5369" y="13800"/>
                  </a:lnTo>
                  <a:lnTo>
                    <a:pt x="6040" y="13099"/>
                  </a:lnTo>
                  <a:lnTo>
                    <a:pt x="6650" y="12399"/>
                  </a:lnTo>
                  <a:lnTo>
                    <a:pt x="7260" y="11698"/>
                  </a:lnTo>
                  <a:lnTo>
                    <a:pt x="7931" y="10997"/>
                  </a:lnTo>
                  <a:lnTo>
                    <a:pt x="8603" y="10296"/>
                  </a:lnTo>
                  <a:lnTo>
                    <a:pt x="9274" y="9638"/>
                  </a:lnTo>
                  <a:lnTo>
                    <a:pt x="9945" y="8981"/>
                  </a:lnTo>
                  <a:lnTo>
                    <a:pt x="10616" y="8324"/>
                  </a:lnTo>
                  <a:lnTo>
                    <a:pt x="11349" y="7667"/>
                  </a:lnTo>
                  <a:lnTo>
                    <a:pt x="12081" y="7053"/>
                  </a:lnTo>
                  <a:lnTo>
                    <a:pt x="12813" y="6352"/>
                  </a:lnTo>
                  <a:lnTo>
                    <a:pt x="13545" y="5739"/>
                  </a:lnTo>
                  <a:lnTo>
                    <a:pt x="14338" y="5169"/>
                  </a:lnTo>
                  <a:lnTo>
                    <a:pt x="15071" y="4556"/>
                  </a:lnTo>
                  <a:lnTo>
                    <a:pt x="15803" y="3942"/>
                  </a:lnTo>
                  <a:lnTo>
                    <a:pt x="16596" y="3373"/>
                  </a:lnTo>
                  <a:lnTo>
                    <a:pt x="17450" y="2759"/>
                  </a:lnTo>
                  <a:lnTo>
                    <a:pt x="18243" y="2190"/>
                  </a:lnTo>
                  <a:lnTo>
                    <a:pt x="19037" y="1620"/>
                  </a:lnTo>
                  <a:lnTo>
                    <a:pt x="19830" y="1095"/>
                  </a:lnTo>
                  <a:lnTo>
                    <a:pt x="20684" y="481"/>
                  </a:lnTo>
                  <a:lnTo>
                    <a:pt x="21600" y="0"/>
                  </a:lnTo>
                  <a:lnTo>
                    <a:pt x="14094" y="0"/>
                  </a:lnTo>
                  <a:lnTo>
                    <a:pt x="13423" y="525"/>
                  </a:lnTo>
                  <a:lnTo>
                    <a:pt x="12752" y="1095"/>
                  </a:lnTo>
                  <a:lnTo>
                    <a:pt x="12142" y="1664"/>
                  </a:lnTo>
                  <a:lnTo>
                    <a:pt x="11471" y="2190"/>
                  </a:lnTo>
                  <a:lnTo>
                    <a:pt x="10921" y="2759"/>
                  </a:lnTo>
                  <a:lnTo>
                    <a:pt x="10311" y="3373"/>
                  </a:lnTo>
                  <a:lnTo>
                    <a:pt x="9762" y="3986"/>
                  </a:lnTo>
                  <a:lnTo>
                    <a:pt x="9213" y="4556"/>
                  </a:lnTo>
                  <a:lnTo>
                    <a:pt x="8603" y="5169"/>
                  </a:lnTo>
                  <a:lnTo>
                    <a:pt x="8115" y="5783"/>
                  </a:lnTo>
                  <a:lnTo>
                    <a:pt x="7566" y="6396"/>
                  </a:lnTo>
                  <a:lnTo>
                    <a:pt x="7077" y="7053"/>
                  </a:lnTo>
                  <a:lnTo>
                    <a:pt x="6528" y="7711"/>
                  </a:lnTo>
                  <a:lnTo>
                    <a:pt x="6101" y="8368"/>
                  </a:lnTo>
                  <a:lnTo>
                    <a:pt x="5613" y="9025"/>
                  </a:lnTo>
                  <a:lnTo>
                    <a:pt x="5186" y="9682"/>
                  </a:lnTo>
                  <a:lnTo>
                    <a:pt x="4698" y="10339"/>
                  </a:lnTo>
                  <a:lnTo>
                    <a:pt x="4271" y="11040"/>
                  </a:lnTo>
                  <a:lnTo>
                    <a:pt x="3904" y="11741"/>
                  </a:lnTo>
                  <a:lnTo>
                    <a:pt x="3477" y="12442"/>
                  </a:lnTo>
                  <a:lnTo>
                    <a:pt x="3111" y="13143"/>
                  </a:lnTo>
                  <a:lnTo>
                    <a:pt x="2745" y="13844"/>
                  </a:lnTo>
                  <a:lnTo>
                    <a:pt x="2379" y="14589"/>
                  </a:lnTo>
                  <a:lnTo>
                    <a:pt x="2074" y="15334"/>
                  </a:lnTo>
                  <a:lnTo>
                    <a:pt x="1769" y="16079"/>
                  </a:lnTo>
                  <a:lnTo>
                    <a:pt x="1403" y="16824"/>
                  </a:lnTo>
                  <a:lnTo>
                    <a:pt x="1098" y="17612"/>
                  </a:lnTo>
                  <a:lnTo>
                    <a:pt x="914" y="18357"/>
                  </a:lnTo>
                  <a:lnTo>
                    <a:pt x="610" y="19146"/>
                  </a:lnTo>
                  <a:lnTo>
                    <a:pt x="365" y="19978"/>
                  </a:lnTo>
                  <a:lnTo>
                    <a:pt x="121" y="20767"/>
                  </a:lnTo>
                  <a:lnTo>
                    <a:pt x="0" y="21600"/>
                  </a:lnTo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11840" y="0"/>
              <a:ext cx="864720" cy="217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94" y="20767"/>
                  </a:lnTo>
                  <a:lnTo>
                    <a:pt x="190" y="20011"/>
                  </a:lnTo>
                  <a:lnTo>
                    <a:pt x="285" y="19216"/>
                  </a:lnTo>
                  <a:lnTo>
                    <a:pt x="570" y="18422"/>
                  </a:lnTo>
                  <a:lnTo>
                    <a:pt x="856" y="17627"/>
                  </a:lnTo>
                  <a:lnTo>
                    <a:pt x="1141" y="16871"/>
                  </a:lnTo>
                  <a:lnTo>
                    <a:pt x="1522" y="16152"/>
                  </a:lnTo>
                  <a:lnTo>
                    <a:pt x="1807" y="15396"/>
                  </a:lnTo>
                  <a:lnTo>
                    <a:pt x="2283" y="14677"/>
                  </a:lnTo>
                  <a:lnTo>
                    <a:pt x="2759" y="13920"/>
                  </a:lnTo>
                  <a:lnTo>
                    <a:pt x="3330" y="13202"/>
                  </a:lnTo>
                  <a:lnTo>
                    <a:pt x="3806" y="12483"/>
                  </a:lnTo>
                  <a:lnTo>
                    <a:pt x="4376" y="11802"/>
                  </a:lnTo>
                  <a:lnTo>
                    <a:pt x="4947" y="11121"/>
                  </a:lnTo>
                  <a:lnTo>
                    <a:pt x="5613" y="10440"/>
                  </a:lnTo>
                  <a:lnTo>
                    <a:pt x="6375" y="9759"/>
                  </a:lnTo>
                  <a:lnTo>
                    <a:pt x="7041" y="9078"/>
                  </a:lnTo>
                  <a:lnTo>
                    <a:pt x="7802" y="8435"/>
                  </a:lnTo>
                  <a:lnTo>
                    <a:pt x="8563" y="7754"/>
                  </a:lnTo>
                  <a:lnTo>
                    <a:pt x="9420" y="7111"/>
                  </a:lnTo>
                  <a:lnTo>
                    <a:pt x="10181" y="6468"/>
                  </a:lnTo>
                  <a:lnTo>
                    <a:pt x="11037" y="5863"/>
                  </a:lnTo>
                  <a:lnTo>
                    <a:pt x="11989" y="5257"/>
                  </a:lnTo>
                  <a:lnTo>
                    <a:pt x="12940" y="4614"/>
                  </a:lnTo>
                  <a:lnTo>
                    <a:pt x="13987" y="4009"/>
                  </a:lnTo>
                  <a:lnTo>
                    <a:pt x="14938" y="3404"/>
                  </a:lnTo>
                  <a:lnTo>
                    <a:pt x="15985" y="2837"/>
                  </a:lnTo>
                  <a:lnTo>
                    <a:pt x="17032" y="2231"/>
                  </a:lnTo>
                  <a:lnTo>
                    <a:pt x="18174" y="1626"/>
                  </a:lnTo>
                  <a:lnTo>
                    <a:pt x="19221" y="1096"/>
                  </a:lnTo>
                  <a:lnTo>
                    <a:pt x="20362" y="529"/>
                  </a:lnTo>
                  <a:lnTo>
                    <a:pt x="21600" y="0"/>
                  </a:lnTo>
                </a:path>
              </a:pathLst>
            </a:custGeom>
            <a:noFill/>
            <a:ln w="720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82440" y="1698480"/>
            <a:ext cx="7623000" cy="442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71680" indent="-2858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2858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Windings"/>
              <a:buChar char="–"/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-2858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Windings"/>
              <a:buChar char="•"/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2284560" indent="-2858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Windings"/>
              <a:buChar char="–"/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855880" indent="-2858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Windings"/>
              <a:buChar char="»"/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855880" indent="-2858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Windings"/>
              <a:buChar char="»"/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855880" indent="-2858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Windings"/>
              <a:buChar char="»"/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73160" y="261720"/>
            <a:ext cx="8013600" cy="123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38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3206880"/>
            <a:ext cx="9134280" cy="1132920"/>
            <a:chOff x="0" y="3206880"/>
            <a:chExt cx="9134280" cy="1132920"/>
          </a:xfrm>
        </p:grpSpPr>
        <p:grpSp>
          <p:nvGrpSpPr>
            <p:cNvPr id="161" name=""/>
            <p:cNvGrpSpPr/>
            <p:nvPr/>
          </p:nvGrpSpPr>
          <p:grpSpPr>
            <a:xfrm>
              <a:off x="0" y="3206880"/>
              <a:ext cx="9134280" cy="3240"/>
              <a:chOff x="0" y="3206880"/>
              <a:chExt cx="9134280" cy="324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3206880"/>
                <a:ext cx="9134280" cy="324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0" y="3206880"/>
                <a:ext cx="913428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3347280"/>
              <a:ext cx="9134280" cy="3240"/>
              <a:chOff x="0" y="3347280"/>
              <a:chExt cx="9134280" cy="324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3347280"/>
                <a:ext cx="9134280" cy="324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0" y="3347280"/>
                <a:ext cx="913428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3488400"/>
              <a:ext cx="9134280" cy="3240"/>
              <a:chOff x="0" y="3488400"/>
              <a:chExt cx="9134280" cy="324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3488400"/>
                <a:ext cx="9134280" cy="324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0" y="3488400"/>
                <a:ext cx="913428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3629160"/>
              <a:ext cx="9134280" cy="3240"/>
              <a:chOff x="0" y="3629160"/>
              <a:chExt cx="9134280" cy="324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3629160"/>
                <a:ext cx="9134280" cy="324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0" y="3629160"/>
                <a:ext cx="913428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3768120"/>
              <a:ext cx="9134280" cy="4680"/>
              <a:chOff x="0" y="3768120"/>
              <a:chExt cx="9134280" cy="468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3768120"/>
                <a:ext cx="9134280" cy="46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0" y="3768120"/>
                <a:ext cx="913428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3914280"/>
              <a:ext cx="9134280" cy="3240"/>
              <a:chOff x="0" y="3914280"/>
              <a:chExt cx="9134280" cy="324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3914280"/>
                <a:ext cx="9134280" cy="324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0" y="3914280"/>
                <a:ext cx="913428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4054680"/>
              <a:ext cx="9134280" cy="3240"/>
              <a:chOff x="0" y="4054680"/>
              <a:chExt cx="9134280" cy="32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054680"/>
                <a:ext cx="9134280" cy="324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0" y="4054680"/>
                <a:ext cx="913428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4190400"/>
              <a:ext cx="9134280" cy="3240"/>
              <a:chOff x="0" y="4190400"/>
              <a:chExt cx="9134280" cy="324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4190400"/>
                <a:ext cx="9134280" cy="324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0" y="4190400"/>
                <a:ext cx="913428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4335120"/>
              <a:ext cx="9134280" cy="4680"/>
              <a:chOff x="0" y="4335120"/>
              <a:chExt cx="9134280" cy="468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4335120"/>
                <a:ext cx="9134280" cy="46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480" rIns="96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0" y="4335120"/>
                <a:ext cx="913428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6840" rIns="9684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361800" y="708120"/>
            <a:ext cx="7813440" cy="4403160"/>
            <a:chOff x="361800" y="708120"/>
            <a:chExt cx="7813440" cy="4403160"/>
          </a:xfrm>
        </p:grpSpPr>
        <p:sp>
          <p:nvSpPr>
            <p:cNvPr id="189" name="未知"/>
            <p:cNvSpPr/>
            <p:nvPr/>
          </p:nvSpPr>
          <p:spPr>
            <a:xfrm>
              <a:off x="1246680" y="2087280"/>
              <a:ext cx="6348960" cy="1051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530" y="19565"/>
                  </a:lnTo>
                  <a:lnTo>
                    <a:pt x="1049" y="17608"/>
                  </a:lnTo>
                  <a:lnTo>
                    <a:pt x="1580" y="15730"/>
                  </a:lnTo>
                  <a:lnTo>
                    <a:pt x="2098" y="13930"/>
                  </a:lnTo>
                  <a:lnTo>
                    <a:pt x="2630" y="12286"/>
                  </a:lnTo>
                  <a:lnTo>
                    <a:pt x="3148" y="10643"/>
                  </a:lnTo>
                  <a:lnTo>
                    <a:pt x="3692" y="9156"/>
                  </a:lnTo>
                  <a:lnTo>
                    <a:pt x="4236" y="7669"/>
                  </a:lnTo>
                  <a:lnTo>
                    <a:pt x="4768" y="6339"/>
                  </a:lnTo>
                  <a:lnTo>
                    <a:pt x="5325" y="5165"/>
                  </a:lnTo>
                  <a:lnTo>
                    <a:pt x="5882" y="4147"/>
                  </a:lnTo>
                  <a:lnTo>
                    <a:pt x="6452" y="3130"/>
                  </a:lnTo>
                  <a:lnTo>
                    <a:pt x="7035" y="2269"/>
                  </a:lnTo>
                  <a:lnTo>
                    <a:pt x="7631" y="1564"/>
                  </a:lnTo>
                  <a:lnTo>
                    <a:pt x="8227" y="939"/>
                  </a:lnTo>
                  <a:lnTo>
                    <a:pt x="8849" y="547"/>
                  </a:lnTo>
                  <a:lnTo>
                    <a:pt x="9484" y="156"/>
                  </a:lnTo>
                  <a:lnTo>
                    <a:pt x="10132" y="0"/>
                  </a:lnTo>
                  <a:lnTo>
                    <a:pt x="10793" y="0"/>
                  </a:lnTo>
                  <a:lnTo>
                    <a:pt x="11479" y="78"/>
                  </a:lnTo>
                  <a:lnTo>
                    <a:pt x="12192" y="391"/>
                  </a:lnTo>
                  <a:lnTo>
                    <a:pt x="12931" y="860"/>
                  </a:lnTo>
                  <a:lnTo>
                    <a:pt x="13669" y="1408"/>
                  </a:lnTo>
                  <a:lnTo>
                    <a:pt x="14447" y="2191"/>
                  </a:lnTo>
                  <a:lnTo>
                    <a:pt x="15237" y="3208"/>
                  </a:lnTo>
                  <a:lnTo>
                    <a:pt x="16053" y="4304"/>
                  </a:lnTo>
                  <a:lnTo>
                    <a:pt x="16909" y="5634"/>
                  </a:lnTo>
                  <a:lnTo>
                    <a:pt x="17777" y="7121"/>
                  </a:lnTo>
                  <a:lnTo>
                    <a:pt x="18684" y="8765"/>
                  </a:lnTo>
                  <a:lnTo>
                    <a:pt x="19630" y="10643"/>
                  </a:lnTo>
                  <a:lnTo>
                    <a:pt x="20602" y="12756"/>
                  </a:lnTo>
                  <a:lnTo>
                    <a:pt x="21600" y="15026"/>
                  </a:lnTo>
                </a:path>
              </a:pathLst>
            </a:custGeom>
            <a:noFill/>
            <a:ln w="720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276920" y="1663920"/>
              <a:ext cx="5217120" cy="146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567" y="19799"/>
                  </a:lnTo>
                  <a:lnTo>
                    <a:pt x="1135" y="18112"/>
                  </a:lnTo>
                  <a:lnTo>
                    <a:pt x="1702" y="16537"/>
                  </a:lnTo>
                  <a:lnTo>
                    <a:pt x="2286" y="15018"/>
                  </a:lnTo>
                  <a:lnTo>
                    <a:pt x="2885" y="13556"/>
                  </a:lnTo>
                  <a:lnTo>
                    <a:pt x="3468" y="12206"/>
                  </a:lnTo>
                  <a:lnTo>
                    <a:pt x="4067" y="10968"/>
                  </a:lnTo>
                  <a:lnTo>
                    <a:pt x="4650" y="9731"/>
                  </a:lnTo>
                  <a:lnTo>
                    <a:pt x="5265" y="8606"/>
                  </a:lnTo>
                  <a:lnTo>
                    <a:pt x="5865" y="7593"/>
                  </a:lnTo>
                  <a:lnTo>
                    <a:pt x="6495" y="6637"/>
                  </a:lnTo>
                  <a:lnTo>
                    <a:pt x="7110" y="5737"/>
                  </a:lnTo>
                  <a:lnTo>
                    <a:pt x="7741" y="4949"/>
                  </a:lnTo>
                  <a:lnTo>
                    <a:pt x="8371" y="4162"/>
                  </a:lnTo>
                  <a:lnTo>
                    <a:pt x="9018" y="3543"/>
                  </a:lnTo>
                  <a:lnTo>
                    <a:pt x="9664" y="2868"/>
                  </a:lnTo>
                  <a:lnTo>
                    <a:pt x="10326" y="2362"/>
                  </a:lnTo>
                  <a:lnTo>
                    <a:pt x="11004" y="1856"/>
                  </a:lnTo>
                  <a:lnTo>
                    <a:pt x="11667" y="1406"/>
                  </a:lnTo>
                  <a:lnTo>
                    <a:pt x="12360" y="1012"/>
                  </a:lnTo>
                  <a:lnTo>
                    <a:pt x="13070" y="731"/>
                  </a:lnTo>
                  <a:lnTo>
                    <a:pt x="13764" y="449"/>
                  </a:lnTo>
                  <a:lnTo>
                    <a:pt x="14504" y="281"/>
                  </a:lnTo>
                  <a:lnTo>
                    <a:pt x="15230" y="112"/>
                  </a:lnTo>
                  <a:lnTo>
                    <a:pt x="15987" y="0"/>
                  </a:lnTo>
                  <a:lnTo>
                    <a:pt x="16743" y="0"/>
                  </a:lnTo>
                  <a:lnTo>
                    <a:pt x="17516" y="0"/>
                  </a:lnTo>
                  <a:lnTo>
                    <a:pt x="18288" y="0"/>
                  </a:lnTo>
                  <a:lnTo>
                    <a:pt x="19092" y="0"/>
                  </a:lnTo>
                  <a:lnTo>
                    <a:pt x="19912" y="112"/>
                  </a:lnTo>
                  <a:lnTo>
                    <a:pt x="20748" y="337"/>
                  </a:lnTo>
                  <a:lnTo>
                    <a:pt x="21600" y="506"/>
                  </a:lnTo>
                </a:path>
              </a:pathLst>
            </a:custGeom>
            <a:noFill/>
            <a:ln w="720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271880" y="2048760"/>
              <a:ext cx="6023160" cy="1337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587" y="19446"/>
                  </a:lnTo>
                  <a:lnTo>
                    <a:pt x="1188" y="17538"/>
                  </a:lnTo>
                  <a:lnTo>
                    <a:pt x="1789" y="15753"/>
                  </a:lnTo>
                  <a:lnTo>
                    <a:pt x="2390" y="14092"/>
                  </a:lnTo>
                  <a:lnTo>
                    <a:pt x="3019" y="12553"/>
                  </a:lnTo>
                  <a:lnTo>
                    <a:pt x="3647" y="11199"/>
                  </a:lnTo>
                  <a:lnTo>
                    <a:pt x="4276" y="9969"/>
                  </a:lnTo>
                  <a:lnTo>
                    <a:pt x="4918" y="8922"/>
                  </a:lnTo>
                  <a:lnTo>
                    <a:pt x="5560" y="7938"/>
                  </a:lnTo>
                  <a:lnTo>
                    <a:pt x="6216" y="7076"/>
                  </a:lnTo>
                  <a:lnTo>
                    <a:pt x="6858" y="6338"/>
                  </a:lnTo>
                  <a:lnTo>
                    <a:pt x="7513" y="5784"/>
                  </a:lnTo>
                  <a:lnTo>
                    <a:pt x="8183" y="5292"/>
                  </a:lnTo>
                  <a:lnTo>
                    <a:pt x="8853" y="4861"/>
                  </a:lnTo>
                  <a:lnTo>
                    <a:pt x="9522" y="4676"/>
                  </a:lnTo>
                  <a:lnTo>
                    <a:pt x="10205" y="4491"/>
                  </a:lnTo>
                  <a:lnTo>
                    <a:pt x="10888" y="4430"/>
                  </a:lnTo>
                  <a:lnTo>
                    <a:pt x="11585" y="4491"/>
                  </a:lnTo>
                  <a:lnTo>
                    <a:pt x="12268" y="4615"/>
                  </a:lnTo>
                  <a:lnTo>
                    <a:pt x="12965" y="4799"/>
                  </a:lnTo>
                  <a:lnTo>
                    <a:pt x="13675" y="5107"/>
                  </a:lnTo>
                  <a:lnTo>
                    <a:pt x="14372" y="5476"/>
                  </a:lnTo>
                  <a:lnTo>
                    <a:pt x="15083" y="5907"/>
                  </a:lnTo>
                  <a:lnTo>
                    <a:pt x="15793" y="6461"/>
                  </a:lnTo>
                  <a:lnTo>
                    <a:pt x="16517" y="7076"/>
                  </a:lnTo>
                  <a:lnTo>
                    <a:pt x="17227" y="7753"/>
                  </a:lnTo>
                  <a:lnTo>
                    <a:pt x="17965" y="8492"/>
                  </a:lnTo>
                  <a:lnTo>
                    <a:pt x="18689" y="9292"/>
                  </a:lnTo>
                  <a:lnTo>
                    <a:pt x="19400" y="10092"/>
                  </a:lnTo>
                  <a:lnTo>
                    <a:pt x="20137" y="11015"/>
                  </a:lnTo>
                  <a:lnTo>
                    <a:pt x="20862" y="11999"/>
                  </a:lnTo>
                  <a:lnTo>
                    <a:pt x="21600" y="12984"/>
                  </a:lnTo>
                  <a:lnTo>
                    <a:pt x="20766" y="11323"/>
                  </a:lnTo>
                  <a:lnTo>
                    <a:pt x="19932" y="9845"/>
                  </a:lnTo>
                  <a:lnTo>
                    <a:pt x="19113" y="8368"/>
                  </a:lnTo>
                  <a:lnTo>
                    <a:pt x="18307" y="7015"/>
                  </a:lnTo>
                  <a:lnTo>
                    <a:pt x="17501" y="5845"/>
                  </a:lnTo>
                  <a:lnTo>
                    <a:pt x="16708" y="4738"/>
                  </a:lnTo>
                  <a:lnTo>
                    <a:pt x="15930" y="3753"/>
                  </a:lnTo>
                  <a:lnTo>
                    <a:pt x="15151" y="2830"/>
                  </a:lnTo>
                  <a:lnTo>
                    <a:pt x="14386" y="2030"/>
                  </a:lnTo>
                  <a:lnTo>
                    <a:pt x="13648" y="1415"/>
                  </a:lnTo>
                  <a:lnTo>
                    <a:pt x="12896" y="861"/>
                  </a:lnTo>
                  <a:lnTo>
                    <a:pt x="12172" y="492"/>
                  </a:lnTo>
                  <a:lnTo>
                    <a:pt x="11448" y="184"/>
                  </a:lnTo>
                  <a:lnTo>
                    <a:pt x="10738" y="0"/>
                  </a:lnTo>
                  <a:lnTo>
                    <a:pt x="10041" y="0"/>
                  </a:lnTo>
                  <a:lnTo>
                    <a:pt x="9344" y="61"/>
                  </a:lnTo>
                  <a:lnTo>
                    <a:pt x="8675" y="307"/>
                  </a:lnTo>
                  <a:lnTo>
                    <a:pt x="8006" y="738"/>
                  </a:lnTo>
                  <a:lnTo>
                    <a:pt x="7363" y="1230"/>
                  </a:lnTo>
                  <a:lnTo>
                    <a:pt x="6721" y="1846"/>
                  </a:lnTo>
                  <a:lnTo>
                    <a:pt x="6079" y="2645"/>
                  </a:lnTo>
                  <a:lnTo>
                    <a:pt x="5464" y="3630"/>
                  </a:lnTo>
                  <a:lnTo>
                    <a:pt x="4863" y="4676"/>
                  </a:lnTo>
                  <a:lnTo>
                    <a:pt x="4276" y="5907"/>
                  </a:lnTo>
                  <a:lnTo>
                    <a:pt x="3688" y="7322"/>
                  </a:lnTo>
                  <a:lnTo>
                    <a:pt x="3114" y="8861"/>
                  </a:lnTo>
                  <a:lnTo>
                    <a:pt x="2568" y="10584"/>
                  </a:lnTo>
                  <a:lnTo>
                    <a:pt x="2021" y="12430"/>
                  </a:lnTo>
                  <a:lnTo>
                    <a:pt x="1489" y="14461"/>
                  </a:lnTo>
                  <a:lnTo>
                    <a:pt x="983" y="16676"/>
                  </a:lnTo>
                  <a:lnTo>
                    <a:pt x="491" y="19076"/>
                  </a:lnTo>
                  <a:lnTo>
                    <a:pt x="0" y="2160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280520" y="1793520"/>
              <a:ext cx="5903640" cy="168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543" y="19693"/>
                  </a:lnTo>
                  <a:lnTo>
                    <a:pt x="1100" y="17934"/>
                  </a:lnTo>
                  <a:lnTo>
                    <a:pt x="1672" y="16224"/>
                  </a:lnTo>
                  <a:lnTo>
                    <a:pt x="2243" y="14709"/>
                  </a:lnTo>
                  <a:lnTo>
                    <a:pt x="2828" y="13292"/>
                  </a:lnTo>
                  <a:lnTo>
                    <a:pt x="3428" y="11923"/>
                  </a:lnTo>
                  <a:lnTo>
                    <a:pt x="4041" y="10702"/>
                  </a:lnTo>
                  <a:lnTo>
                    <a:pt x="4654" y="9578"/>
                  </a:lnTo>
                  <a:lnTo>
                    <a:pt x="5267" y="8551"/>
                  </a:lnTo>
                  <a:lnTo>
                    <a:pt x="5922" y="7623"/>
                  </a:lnTo>
                  <a:lnTo>
                    <a:pt x="6549" y="6792"/>
                  </a:lnTo>
                  <a:lnTo>
                    <a:pt x="7204" y="6059"/>
                  </a:lnTo>
                  <a:lnTo>
                    <a:pt x="7859" y="5424"/>
                  </a:lnTo>
                  <a:lnTo>
                    <a:pt x="8542" y="4886"/>
                  </a:lnTo>
                  <a:lnTo>
                    <a:pt x="9211" y="4349"/>
                  </a:lnTo>
                  <a:lnTo>
                    <a:pt x="9893" y="4007"/>
                  </a:lnTo>
                  <a:lnTo>
                    <a:pt x="10576" y="3616"/>
                  </a:lnTo>
                  <a:lnTo>
                    <a:pt x="11273" y="3371"/>
                  </a:lnTo>
                  <a:lnTo>
                    <a:pt x="11984" y="3225"/>
                  </a:lnTo>
                  <a:lnTo>
                    <a:pt x="12695" y="3127"/>
                  </a:lnTo>
                  <a:lnTo>
                    <a:pt x="13405" y="3078"/>
                  </a:lnTo>
                  <a:lnTo>
                    <a:pt x="14130" y="3078"/>
                  </a:lnTo>
                  <a:lnTo>
                    <a:pt x="14854" y="3176"/>
                  </a:lnTo>
                  <a:lnTo>
                    <a:pt x="15579" y="3322"/>
                  </a:lnTo>
                  <a:lnTo>
                    <a:pt x="16304" y="3469"/>
                  </a:lnTo>
                  <a:lnTo>
                    <a:pt x="17056" y="3713"/>
                  </a:lnTo>
                  <a:lnTo>
                    <a:pt x="17795" y="4055"/>
                  </a:lnTo>
                  <a:lnTo>
                    <a:pt x="18547" y="4349"/>
                  </a:lnTo>
                  <a:lnTo>
                    <a:pt x="19314" y="4740"/>
                  </a:lnTo>
                  <a:lnTo>
                    <a:pt x="20067" y="5131"/>
                  </a:lnTo>
                  <a:lnTo>
                    <a:pt x="20819" y="5619"/>
                  </a:lnTo>
                  <a:lnTo>
                    <a:pt x="21600" y="6059"/>
                  </a:lnTo>
                  <a:lnTo>
                    <a:pt x="20707" y="5131"/>
                  </a:lnTo>
                  <a:lnTo>
                    <a:pt x="19830" y="4251"/>
                  </a:lnTo>
                  <a:lnTo>
                    <a:pt x="18965" y="3469"/>
                  </a:lnTo>
                  <a:lnTo>
                    <a:pt x="18129" y="2736"/>
                  </a:lnTo>
                  <a:lnTo>
                    <a:pt x="17279" y="2101"/>
                  </a:lnTo>
                  <a:lnTo>
                    <a:pt x="16457" y="1563"/>
                  </a:lnTo>
                  <a:lnTo>
                    <a:pt x="15635" y="1074"/>
                  </a:lnTo>
                  <a:lnTo>
                    <a:pt x="14841" y="683"/>
                  </a:lnTo>
                  <a:lnTo>
                    <a:pt x="14046" y="390"/>
                  </a:lnTo>
                  <a:lnTo>
                    <a:pt x="13266" y="146"/>
                  </a:lnTo>
                  <a:lnTo>
                    <a:pt x="12527" y="0"/>
                  </a:lnTo>
                  <a:lnTo>
                    <a:pt x="11775" y="0"/>
                  </a:lnTo>
                  <a:lnTo>
                    <a:pt x="11036" y="48"/>
                  </a:lnTo>
                  <a:lnTo>
                    <a:pt x="10312" y="195"/>
                  </a:lnTo>
                  <a:lnTo>
                    <a:pt x="9615" y="488"/>
                  </a:lnTo>
                  <a:lnTo>
                    <a:pt x="8918" y="830"/>
                  </a:lnTo>
                  <a:lnTo>
                    <a:pt x="8249" y="1319"/>
                  </a:lnTo>
                  <a:lnTo>
                    <a:pt x="7580" y="1856"/>
                  </a:lnTo>
                  <a:lnTo>
                    <a:pt x="6925" y="2492"/>
                  </a:lnTo>
                  <a:lnTo>
                    <a:pt x="6298" y="3322"/>
                  </a:lnTo>
                  <a:lnTo>
                    <a:pt x="5685" y="4153"/>
                  </a:lnTo>
                  <a:lnTo>
                    <a:pt x="5086" y="5131"/>
                  </a:lnTo>
                  <a:lnTo>
                    <a:pt x="4500" y="6254"/>
                  </a:lnTo>
                  <a:lnTo>
                    <a:pt x="3929" y="7476"/>
                  </a:lnTo>
                  <a:lnTo>
                    <a:pt x="3372" y="8845"/>
                  </a:lnTo>
                  <a:lnTo>
                    <a:pt x="2856" y="10262"/>
                  </a:lnTo>
                  <a:lnTo>
                    <a:pt x="2326" y="11826"/>
                  </a:lnTo>
                  <a:lnTo>
                    <a:pt x="1825" y="13536"/>
                  </a:lnTo>
                  <a:lnTo>
                    <a:pt x="1337" y="15393"/>
                  </a:lnTo>
                  <a:lnTo>
                    <a:pt x="877" y="17348"/>
                  </a:lnTo>
                  <a:lnTo>
                    <a:pt x="417" y="19400"/>
                  </a:lnTo>
                  <a:lnTo>
                    <a:pt x="0" y="21600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533160" y="1062360"/>
              <a:ext cx="5085720" cy="365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339" y="20474"/>
                  </a:lnTo>
                  <a:lnTo>
                    <a:pt x="744" y="19372"/>
                  </a:lnTo>
                  <a:lnTo>
                    <a:pt x="1148" y="18314"/>
                  </a:lnTo>
                  <a:lnTo>
                    <a:pt x="1601" y="17279"/>
                  </a:lnTo>
                  <a:lnTo>
                    <a:pt x="2054" y="16267"/>
                  </a:lnTo>
                  <a:lnTo>
                    <a:pt x="2540" y="15322"/>
                  </a:lnTo>
                  <a:lnTo>
                    <a:pt x="3057" y="14399"/>
                  </a:lnTo>
                  <a:lnTo>
                    <a:pt x="3591" y="13500"/>
                  </a:lnTo>
                  <a:lnTo>
                    <a:pt x="4141" y="12667"/>
                  </a:lnTo>
                  <a:lnTo>
                    <a:pt x="4724" y="11834"/>
                  </a:lnTo>
                  <a:lnTo>
                    <a:pt x="5322" y="11024"/>
                  </a:lnTo>
                  <a:lnTo>
                    <a:pt x="5937" y="10259"/>
                  </a:lnTo>
                  <a:lnTo>
                    <a:pt x="6568" y="9539"/>
                  </a:lnTo>
                  <a:lnTo>
                    <a:pt x="7232" y="8819"/>
                  </a:lnTo>
                  <a:lnTo>
                    <a:pt x="7911" y="8167"/>
                  </a:lnTo>
                  <a:lnTo>
                    <a:pt x="8591" y="7492"/>
                  </a:lnTo>
                  <a:lnTo>
                    <a:pt x="9303" y="6862"/>
                  </a:lnTo>
                  <a:lnTo>
                    <a:pt x="10031" y="6277"/>
                  </a:lnTo>
                  <a:lnTo>
                    <a:pt x="10759" y="5692"/>
                  </a:lnTo>
                  <a:lnTo>
                    <a:pt x="11519" y="5129"/>
                  </a:lnTo>
                  <a:lnTo>
                    <a:pt x="12296" y="4612"/>
                  </a:lnTo>
                  <a:lnTo>
                    <a:pt x="13089" y="4094"/>
                  </a:lnTo>
                  <a:lnTo>
                    <a:pt x="13881" y="3622"/>
                  </a:lnTo>
                  <a:lnTo>
                    <a:pt x="14691" y="3149"/>
                  </a:lnTo>
                  <a:lnTo>
                    <a:pt x="15516" y="2677"/>
                  </a:lnTo>
                  <a:lnTo>
                    <a:pt x="16357" y="2249"/>
                  </a:lnTo>
                  <a:lnTo>
                    <a:pt x="17198" y="1844"/>
                  </a:lnTo>
                  <a:lnTo>
                    <a:pt x="18056" y="1439"/>
                  </a:lnTo>
                  <a:lnTo>
                    <a:pt x="18913" y="1057"/>
                  </a:lnTo>
                  <a:lnTo>
                    <a:pt x="19803" y="675"/>
                  </a:lnTo>
                  <a:lnTo>
                    <a:pt x="20693" y="337"/>
                  </a:lnTo>
                  <a:lnTo>
                    <a:pt x="21600" y="0"/>
                  </a:lnTo>
                  <a:lnTo>
                    <a:pt x="20499" y="202"/>
                  </a:lnTo>
                  <a:lnTo>
                    <a:pt x="19415" y="449"/>
                  </a:lnTo>
                  <a:lnTo>
                    <a:pt x="18363" y="697"/>
                  </a:lnTo>
                  <a:lnTo>
                    <a:pt x="17344" y="989"/>
                  </a:lnTo>
                  <a:lnTo>
                    <a:pt x="16341" y="1327"/>
                  </a:lnTo>
                  <a:lnTo>
                    <a:pt x="15354" y="1664"/>
                  </a:lnTo>
                  <a:lnTo>
                    <a:pt x="14415" y="2025"/>
                  </a:lnTo>
                  <a:lnTo>
                    <a:pt x="13477" y="2407"/>
                  </a:lnTo>
                  <a:lnTo>
                    <a:pt x="12587" y="2834"/>
                  </a:lnTo>
                  <a:lnTo>
                    <a:pt x="11697" y="3262"/>
                  </a:lnTo>
                  <a:lnTo>
                    <a:pt x="10856" y="3757"/>
                  </a:lnTo>
                  <a:lnTo>
                    <a:pt x="10031" y="4252"/>
                  </a:lnTo>
                  <a:lnTo>
                    <a:pt x="9238" y="4792"/>
                  </a:lnTo>
                  <a:lnTo>
                    <a:pt x="8461" y="5354"/>
                  </a:lnTo>
                  <a:lnTo>
                    <a:pt x="7717" y="5962"/>
                  </a:lnTo>
                  <a:lnTo>
                    <a:pt x="7021" y="6592"/>
                  </a:lnTo>
                  <a:lnTo>
                    <a:pt x="6326" y="7267"/>
                  </a:lnTo>
                  <a:lnTo>
                    <a:pt x="5694" y="7964"/>
                  </a:lnTo>
                  <a:lnTo>
                    <a:pt x="5064" y="8684"/>
                  </a:lnTo>
                  <a:lnTo>
                    <a:pt x="4465" y="9450"/>
                  </a:lnTo>
                  <a:lnTo>
                    <a:pt x="3915" y="10259"/>
                  </a:lnTo>
                  <a:lnTo>
                    <a:pt x="3381" y="11114"/>
                  </a:lnTo>
                  <a:lnTo>
                    <a:pt x="2896" y="11969"/>
                  </a:lnTo>
                  <a:lnTo>
                    <a:pt x="2442" y="12892"/>
                  </a:lnTo>
                  <a:lnTo>
                    <a:pt x="2006" y="13859"/>
                  </a:lnTo>
                  <a:lnTo>
                    <a:pt x="1617" y="14827"/>
                  </a:lnTo>
                  <a:lnTo>
                    <a:pt x="1245" y="15862"/>
                  </a:lnTo>
                  <a:lnTo>
                    <a:pt x="922" y="16919"/>
                  </a:lnTo>
                  <a:lnTo>
                    <a:pt x="630" y="18044"/>
                  </a:lnTo>
                  <a:lnTo>
                    <a:pt x="372" y="19169"/>
                  </a:lnTo>
                  <a:lnTo>
                    <a:pt x="161" y="20362"/>
                  </a:lnTo>
                  <a:lnTo>
                    <a:pt x="0" y="21600"/>
                  </a:lnTo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411840" y="708120"/>
              <a:ext cx="5405040" cy="431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5" y="20417"/>
                  </a:lnTo>
                  <a:lnTo>
                    <a:pt x="182" y="19293"/>
                  </a:lnTo>
                  <a:lnTo>
                    <a:pt x="350" y="18168"/>
                  </a:lnTo>
                  <a:lnTo>
                    <a:pt x="578" y="17100"/>
                  </a:lnTo>
                  <a:lnTo>
                    <a:pt x="867" y="16090"/>
                  </a:lnTo>
                  <a:lnTo>
                    <a:pt x="1202" y="15079"/>
                  </a:lnTo>
                  <a:lnTo>
                    <a:pt x="1567" y="14126"/>
                  </a:lnTo>
                  <a:lnTo>
                    <a:pt x="2009" y="13192"/>
                  </a:lnTo>
                  <a:lnTo>
                    <a:pt x="2481" y="12296"/>
                  </a:lnTo>
                  <a:lnTo>
                    <a:pt x="2983" y="11438"/>
                  </a:lnTo>
                  <a:lnTo>
                    <a:pt x="3546" y="10618"/>
                  </a:lnTo>
                  <a:lnTo>
                    <a:pt x="4125" y="9818"/>
                  </a:lnTo>
                  <a:lnTo>
                    <a:pt x="4764" y="9055"/>
                  </a:lnTo>
                  <a:lnTo>
                    <a:pt x="5418" y="8331"/>
                  </a:lnTo>
                  <a:lnTo>
                    <a:pt x="6134" y="7625"/>
                  </a:lnTo>
                  <a:lnTo>
                    <a:pt x="6865" y="6958"/>
                  </a:lnTo>
                  <a:lnTo>
                    <a:pt x="7626" y="6329"/>
                  </a:lnTo>
                  <a:lnTo>
                    <a:pt x="8417" y="5719"/>
                  </a:lnTo>
                  <a:lnTo>
                    <a:pt x="9224" y="5128"/>
                  </a:lnTo>
                  <a:lnTo>
                    <a:pt x="10076" y="4575"/>
                  </a:lnTo>
                  <a:lnTo>
                    <a:pt x="10944" y="4060"/>
                  </a:lnTo>
                  <a:lnTo>
                    <a:pt x="11827" y="3564"/>
                  </a:lnTo>
                  <a:lnTo>
                    <a:pt x="12740" y="3088"/>
                  </a:lnTo>
                  <a:lnTo>
                    <a:pt x="13669" y="2649"/>
                  </a:lnTo>
                  <a:lnTo>
                    <a:pt x="14613" y="2230"/>
                  </a:lnTo>
                  <a:lnTo>
                    <a:pt x="15571" y="1848"/>
                  </a:lnTo>
                  <a:lnTo>
                    <a:pt x="16546" y="1486"/>
                  </a:lnTo>
                  <a:lnTo>
                    <a:pt x="17550" y="1143"/>
                  </a:lnTo>
                  <a:lnTo>
                    <a:pt x="18555" y="819"/>
                  </a:lnTo>
                  <a:lnTo>
                    <a:pt x="19560" y="514"/>
                  </a:lnTo>
                  <a:lnTo>
                    <a:pt x="20579" y="247"/>
                  </a:lnTo>
                  <a:lnTo>
                    <a:pt x="21600" y="0"/>
                  </a:lnTo>
                </a:path>
              </a:pathLst>
            </a:custGeom>
            <a:noFill/>
            <a:ln w="720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134120" y="2631600"/>
              <a:ext cx="10368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7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4399" y="799"/>
                  </a:lnTo>
                  <a:lnTo>
                    <a:pt x="15199" y="799"/>
                  </a:lnTo>
                  <a:lnTo>
                    <a:pt x="15999" y="1599"/>
                  </a:lnTo>
                  <a:lnTo>
                    <a:pt x="17599" y="2399"/>
                  </a:lnTo>
                  <a:lnTo>
                    <a:pt x="18399" y="3199"/>
                  </a:lnTo>
                  <a:lnTo>
                    <a:pt x="19199" y="3999"/>
                  </a:lnTo>
                  <a:lnTo>
                    <a:pt x="19199" y="4799"/>
                  </a:lnTo>
                  <a:lnTo>
                    <a:pt x="19999" y="5599"/>
                  </a:lnTo>
                  <a:lnTo>
                    <a:pt x="20799" y="6399"/>
                  </a:lnTo>
                  <a:lnTo>
                    <a:pt x="20799" y="7999"/>
                  </a:lnTo>
                  <a:lnTo>
                    <a:pt x="21600" y="8799"/>
                  </a:lnTo>
                  <a:lnTo>
                    <a:pt x="21600" y="87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3599"/>
                  </a:lnTo>
                  <a:lnTo>
                    <a:pt x="20799" y="15199"/>
                  </a:lnTo>
                  <a:lnTo>
                    <a:pt x="20799" y="15999"/>
                  </a:lnTo>
                  <a:lnTo>
                    <a:pt x="19999" y="16799"/>
                  </a:lnTo>
                  <a:lnTo>
                    <a:pt x="19199" y="18399"/>
                  </a:lnTo>
                  <a:lnTo>
                    <a:pt x="18399" y="19199"/>
                  </a:lnTo>
                  <a:lnTo>
                    <a:pt x="17599" y="19999"/>
                  </a:lnTo>
                  <a:lnTo>
                    <a:pt x="16799" y="19999"/>
                  </a:lnTo>
                  <a:lnTo>
                    <a:pt x="15999" y="19999"/>
                  </a:lnTo>
                  <a:lnTo>
                    <a:pt x="15199" y="20799"/>
                  </a:lnTo>
                  <a:lnTo>
                    <a:pt x="13599" y="21600"/>
                  </a:lnTo>
                  <a:lnTo>
                    <a:pt x="12799" y="21600"/>
                  </a:lnTo>
                  <a:lnTo>
                    <a:pt x="119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199" y="21600"/>
                  </a:lnTo>
                  <a:lnTo>
                    <a:pt x="6399" y="20799"/>
                  </a:lnTo>
                  <a:lnTo>
                    <a:pt x="5599" y="20799"/>
                  </a:lnTo>
                  <a:lnTo>
                    <a:pt x="3999" y="19999"/>
                  </a:lnTo>
                  <a:lnTo>
                    <a:pt x="3199" y="19999"/>
                  </a:lnTo>
                  <a:lnTo>
                    <a:pt x="2399" y="19199"/>
                  </a:lnTo>
                  <a:lnTo>
                    <a:pt x="1599" y="18399"/>
                  </a:lnTo>
                  <a:lnTo>
                    <a:pt x="799" y="17599"/>
                  </a:lnTo>
                  <a:lnTo>
                    <a:pt x="799" y="16799"/>
                  </a:lnTo>
                  <a:lnTo>
                    <a:pt x="799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19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999"/>
                  </a:lnTo>
                  <a:lnTo>
                    <a:pt x="0" y="7199"/>
                  </a:lnTo>
                  <a:lnTo>
                    <a:pt x="799" y="6399"/>
                  </a:lnTo>
                  <a:lnTo>
                    <a:pt x="799" y="4799"/>
                  </a:lnTo>
                  <a:lnTo>
                    <a:pt x="1599" y="3999"/>
                  </a:lnTo>
                  <a:lnTo>
                    <a:pt x="2399" y="3199"/>
                  </a:lnTo>
                  <a:lnTo>
                    <a:pt x="2399" y="2399"/>
                  </a:lnTo>
                  <a:lnTo>
                    <a:pt x="3999" y="1599"/>
                  </a:lnTo>
                  <a:lnTo>
                    <a:pt x="4799" y="1599"/>
                  </a:lnTo>
                  <a:lnTo>
                    <a:pt x="5599" y="799"/>
                  </a:lnTo>
                  <a:lnTo>
                    <a:pt x="7199" y="0"/>
                  </a:lnTo>
                  <a:lnTo>
                    <a:pt x="7999" y="0"/>
                  </a:lnTo>
                  <a:lnTo>
                    <a:pt x="8799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3759480" y="1744560"/>
              <a:ext cx="10728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28" y="0"/>
                  </a:moveTo>
                  <a:lnTo>
                    <a:pt x="10800" y="0"/>
                  </a:lnTo>
                  <a:lnTo>
                    <a:pt x="12342" y="0"/>
                  </a:lnTo>
                  <a:lnTo>
                    <a:pt x="12342" y="0"/>
                  </a:lnTo>
                  <a:lnTo>
                    <a:pt x="13885" y="0"/>
                  </a:lnTo>
                  <a:lnTo>
                    <a:pt x="14656" y="799"/>
                  </a:lnTo>
                  <a:lnTo>
                    <a:pt x="15428" y="799"/>
                  </a:lnTo>
                  <a:lnTo>
                    <a:pt x="16971" y="1599"/>
                  </a:lnTo>
                  <a:lnTo>
                    <a:pt x="17742" y="2399"/>
                  </a:lnTo>
                  <a:lnTo>
                    <a:pt x="18514" y="3199"/>
                  </a:lnTo>
                  <a:lnTo>
                    <a:pt x="19285" y="3999"/>
                  </a:lnTo>
                  <a:lnTo>
                    <a:pt x="20056" y="4799"/>
                  </a:lnTo>
                  <a:lnTo>
                    <a:pt x="20056" y="5599"/>
                  </a:lnTo>
                  <a:lnTo>
                    <a:pt x="20828" y="6399"/>
                  </a:lnTo>
                  <a:lnTo>
                    <a:pt x="21600" y="7999"/>
                  </a:lnTo>
                  <a:lnTo>
                    <a:pt x="21600" y="7999"/>
                  </a:lnTo>
                  <a:lnTo>
                    <a:pt x="21600" y="95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4399"/>
                  </a:lnTo>
                  <a:lnTo>
                    <a:pt x="21600" y="15199"/>
                  </a:lnTo>
                  <a:lnTo>
                    <a:pt x="20828" y="15999"/>
                  </a:lnTo>
                  <a:lnTo>
                    <a:pt x="20056" y="17599"/>
                  </a:lnTo>
                  <a:lnTo>
                    <a:pt x="19285" y="18399"/>
                  </a:lnTo>
                  <a:lnTo>
                    <a:pt x="18514" y="19199"/>
                  </a:lnTo>
                  <a:lnTo>
                    <a:pt x="18514" y="19199"/>
                  </a:lnTo>
                  <a:lnTo>
                    <a:pt x="16971" y="19999"/>
                  </a:lnTo>
                  <a:lnTo>
                    <a:pt x="16200" y="19999"/>
                  </a:lnTo>
                  <a:lnTo>
                    <a:pt x="15428" y="20799"/>
                  </a:lnTo>
                  <a:lnTo>
                    <a:pt x="13885" y="21600"/>
                  </a:lnTo>
                  <a:lnTo>
                    <a:pt x="13114" y="21600"/>
                  </a:lnTo>
                  <a:lnTo>
                    <a:pt x="12342" y="21600"/>
                  </a:lnTo>
                  <a:lnTo>
                    <a:pt x="11571" y="21600"/>
                  </a:lnTo>
                  <a:lnTo>
                    <a:pt x="10028" y="21600"/>
                  </a:lnTo>
                  <a:lnTo>
                    <a:pt x="9256" y="21600"/>
                  </a:lnTo>
                  <a:lnTo>
                    <a:pt x="8485" y="21600"/>
                  </a:lnTo>
                  <a:lnTo>
                    <a:pt x="6942" y="20799"/>
                  </a:lnTo>
                  <a:lnTo>
                    <a:pt x="6171" y="20799"/>
                  </a:lnTo>
                  <a:lnTo>
                    <a:pt x="5400" y="19999"/>
                  </a:lnTo>
                  <a:lnTo>
                    <a:pt x="3856" y="19199"/>
                  </a:lnTo>
                  <a:lnTo>
                    <a:pt x="3085" y="19199"/>
                  </a:lnTo>
                  <a:lnTo>
                    <a:pt x="2314" y="18399"/>
                  </a:lnTo>
                  <a:lnTo>
                    <a:pt x="1542" y="17599"/>
                  </a:lnTo>
                  <a:lnTo>
                    <a:pt x="1542" y="16799"/>
                  </a:lnTo>
                  <a:lnTo>
                    <a:pt x="771" y="15999"/>
                  </a:lnTo>
                  <a:lnTo>
                    <a:pt x="771" y="14399"/>
                  </a:lnTo>
                  <a:lnTo>
                    <a:pt x="0" y="13599"/>
                  </a:lnTo>
                  <a:lnTo>
                    <a:pt x="0" y="127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999"/>
                  </a:lnTo>
                  <a:lnTo>
                    <a:pt x="771" y="7199"/>
                  </a:lnTo>
                  <a:lnTo>
                    <a:pt x="771" y="6399"/>
                  </a:lnTo>
                  <a:lnTo>
                    <a:pt x="1542" y="5599"/>
                  </a:lnTo>
                  <a:lnTo>
                    <a:pt x="2314" y="3999"/>
                  </a:lnTo>
                  <a:lnTo>
                    <a:pt x="3085" y="3199"/>
                  </a:lnTo>
                  <a:lnTo>
                    <a:pt x="3856" y="2399"/>
                  </a:lnTo>
                  <a:lnTo>
                    <a:pt x="4628" y="1599"/>
                  </a:lnTo>
                  <a:lnTo>
                    <a:pt x="5400" y="1599"/>
                  </a:lnTo>
                  <a:lnTo>
                    <a:pt x="6171" y="799"/>
                  </a:lnTo>
                  <a:lnTo>
                    <a:pt x="7714" y="0"/>
                  </a:lnTo>
                  <a:lnTo>
                    <a:pt x="8485" y="0"/>
                  </a:lnTo>
                  <a:lnTo>
                    <a:pt x="10028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4312440" y="1640160"/>
              <a:ext cx="102240" cy="10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99" y="0"/>
                  </a:moveTo>
                  <a:lnTo>
                    <a:pt x="10399" y="0"/>
                  </a:lnTo>
                  <a:lnTo>
                    <a:pt x="111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4399" y="771"/>
                  </a:lnTo>
                  <a:lnTo>
                    <a:pt x="15199" y="771"/>
                  </a:lnTo>
                  <a:lnTo>
                    <a:pt x="16799" y="1542"/>
                  </a:lnTo>
                  <a:lnTo>
                    <a:pt x="17599" y="2314"/>
                  </a:lnTo>
                  <a:lnTo>
                    <a:pt x="18399" y="3085"/>
                  </a:lnTo>
                  <a:lnTo>
                    <a:pt x="19199" y="3856"/>
                  </a:lnTo>
                  <a:lnTo>
                    <a:pt x="19999" y="4628"/>
                  </a:lnTo>
                  <a:lnTo>
                    <a:pt x="19999" y="5400"/>
                  </a:lnTo>
                  <a:lnTo>
                    <a:pt x="20799" y="6171"/>
                  </a:lnTo>
                  <a:lnTo>
                    <a:pt x="21600" y="7714"/>
                  </a:lnTo>
                  <a:lnTo>
                    <a:pt x="21600" y="8485"/>
                  </a:lnTo>
                  <a:lnTo>
                    <a:pt x="21600" y="10028"/>
                  </a:lnTo>
                  <a:lnTo>
                    <a:pt x="21600" y="10800"/>
                  </a:lnTo>
                  <a:lnTo>
                    <a:pt x="21600" y="12342"/>
                  </a:lnTo>
                  <a:lnTo>
                    <a:pt x="21600" y="13114"/>
                  </a:lnTo>
                  <a:lnTo>
                    <a:pt x="21600" y="14656"/>
                  </a:lnTo>
                  <a:lnTo>
                    <a:pt x="20799" y="14656"/>
                  </a:lnTo>
                  <a:lnTo>
                    <a:pt x="20799" y="15428"/>
                  </a:lnTo>
                  <a:lnTo>
                    <a:pt x="19999" y="16971"/>
                  </a:lnTo>
                  <a:lnTo>
                    <a:pt x="19199" y="17742"/>
                  </a:lnTo>
                  <a:lnTo>
                    <a:pt x="18399" y="18514"/>
                  </a:lnTo>
                  <a:lnTo>
                    <a:pt x="17599" y="19285"/>
                  </a:lnTo>
                  <a:lnTo>
                    <a:pt x="16799" y="20056"/>
                  </a:lnTo>
                  <a:lnTo>
                    <a:pt x="15999" y="20056"/>
                  </a:lnTo>
                  <a:lnTo>
                    <a:pt x="15199" y="20828"/>
                  </a:lnTo>
                  <a:lnTo>
                    <a:pt x="13599" y="21600"/>
                  </a:lnTo>
                  <a:lnTo>
                    <a:pt x="12799" y="21600"/>
                  </a:lnTo>
                  <a:lnTo>
                    <a:pt x="119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999" y="21600"/>
                  </a:lnTo>
                  <a:lnTo>
                    <a:pt x="6399" y="20828"/>
                  </a:lnTo>
                  <a:lnTo>
                    <a:pt x="5599" y="20828"/>
                  </a:lnTo>
                  <a:lnTo>
                    <a:pt x="4799" y="20056"/>
                  </a:lnTo>
                  <a:lnTo>
                    <a:pt x="3199" y="19285"/>
                  </a:lnTo>
                  <a:lnTo>
                    <a:pt x="2399" y="18514"/>
                  </a:lnTo>
                  <a:lnTo>
                    <a:pt x="1599" y="17742"/>
                  </a:lnTo>
                  <a:lnTo>
                    <a:pt x="799" y="16971"/>
                  </a:lnTo>
                  <a:lnTo>
                    <a:pt x="799" y="16200"/>
                  </a:lnTo>
                  <a:lnTo>
                    <a:pt x="0" y="15428"/>
                  </a:lnTo>
                  <a:lnTo>
                    <a:pt x="0" y="14656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0" y="6942"/>
                  </a:lnTo>
                  <a:lnTo>
                    <a:pt x="0" y="6171"/>
                  </a:lnTo>
                  <a:lnTo>
                    <a:pt x="799" y="5400"/>
                  </a:lnTo>
                  <a:lnTo>
                    <a:pt x="1599" y="3856"/>
                  </a:lnTo>
                  <a:lnTo>
                    <a:pt x="1599" y="3085"/>
                  </a:lnTo>
                  <a:lnTo>
                    <a:pt x="3199" y="2314"/>
                  </a:lnTo>
                  <a:lnTo>
                    <a:pt x="3999" y="1542"/>
                  </a:lnTo>
                  <a:lnTo>
                    <a:pt x="4799" y="1542"/>
                  </a:lnTo>
                  <a:lnTo>
                    <a:pt x="5599" y="771"/>
                  </a:lnTo>
                  <a:lnTo>
                    <a:pt x="7199" y="0"/>
                  </a:lnTo>
                  <a:lnTo>
                    <a:pt x="7999" y="0"/>
                  </a:lnTo>
                  <a:lnTo>
                    <a:pt x="959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5739840" y="2166480"/>
              <a:ext cx="110520" cy="10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937" y="0"/>
                  </a:moveTo>
                  <a:lnTo>
                    <a:pt x="10427" y="0"/>
                  </a:lnTo>
                  <a:lnTo>
                    <a:pt x="11172" y="0"/>
                  </a:lnTo>
                  <a:lnTo>
                    <a:pt x="12661" y="0"/>
                  </a:lnTo>
                  <a:lnTo>
                    <a:pt x="13406" y="0"/>
                  </a:lnTo>
                  <a:lnTo>
                    <a:pt x="14896" y="0"/>
                  </a:lnTo>
                  <a:lnTo>
                    <a:pt x="15641" y="771"/>
                  </a:lnTo>
                  <a:lnTo>
                    <a:pt x="16385" y="1542"/>
                  </a:lnTo>
                  <a:lnTo>
                    <a:pt x="17875" y="2314"/>
                  </a:lnTo>
                  <a:lnTo>
                    <a:pt x="18620" y="3085"/>
                  </a:lnTo>
                  <a:lnTo>
                    <a:pt x="19365" y="3085"/>
                  </a:lnTo>
                  <a:lnTo>
                    <a:pt x="19365" y="4628"/>
                  </a:lnTo>
                  <a:lnTo>
                    <a:pt x="19365" y="5400"/>
                  </a:lnTo>
                  <a:lnTo>
                    <a:pt x="20110" y="6171"/>
                  </a:lnTo>
                  <a:lnTo>
                    <a:pt x="20855" y="7714"/>
                  </a:lnTo>
                  <a:lnTo>
                    <a:pt x="20855" y="8485"/>
                  </a:lnTo>
                  <a:lnTo>
                    <a:pt x="20855" y="8485"/>
                  </a:lnTo>
                  <a:lnTo>
                    <a:pt x="21600" y="10028"/>
                  </a:lnTo>
                  <a:lnTo>
                    <a:pt x="21600" y="11571"/>
                  </a:lnTo>
                  <a:lnTo>
                    <a:pt x="20855" y="12342"/>
                  </a:lnTo>
                  <a:lnTo>
                    <a:pt x="20855" y="13885"/>
                  </a:lnTo>
                  <a:lnTo>
                    <a:pt x="20110" y="14656"/>
                  </a:lnTo>
                  <a:lnTo>
                    <a:pt x="20110" y="15428"/>
                  </a:lnTo>
                  <a:lnTo>
                    <a:pt x="19365" y="16971"/>
                  </a:lnTo>
                  <a:lnTo>
                    <a:pt x="19365" y="17742"/>
                  </a:lnTo>
                  <a:lnTo>
                    <a:pt x="18620" y="18514"/>
                  </a:lnTo>
                  <a:lnTo>
                    <a:pt x="17875" y="19285"/>
                  </a:lnTo>
                  <a:lnTo>
                    <a:pt x="17130" y="20056"/>
                  </a:lnTo>
                  <a:lnTo>
                    <a:pt x="16385" y="20056"/>
                  </a:lnTo>
                  <a:lnTo>
                    <a:pt x="15641" y="20828"/>
                  </a:lnTo>
                  <a:lnTo>
                    <a:pt x="14151" y="21600"/>
                  </a:lnTo>
                  <a:lnTo>
                    <a:pt x="13406" y="21600"/>
                  </a:lnTo>
                  <a:lnTo>
                    <a:pt x="11916" y="21600"/>
                  </a:lnTo>
                  <a:lnTo>
                    <a:pt x="10427" y="21600"/>
                  </a:lnTo>
                  <a:lnTo>
                    <a:pt x="9682" y="21600"/>
                  </a:lnTo>
                  <a:lnTo>
                    <a:pt x="8192" y="21600"/>
                  </a:lnTo>
                  <a:lnTo>
                    <a:pt x="8192" y="21600"/>
                  </a:lnTo>
                  <a:lnTo>
                    <a:pt x="7448" y="21600"/>
                  </a:lnTo>
                  <a:lnTo>
                    <a:pt x="5958" y="20828"/>
                  </a:lnTo>
                  <a:lnTo>
                    <a:pt x="5213" y="20056"/>
                  </a:lnTo>
                  <a:lnTo>
                    <a:pt x="4468" y="19285"/>
                  </a:lnTo>
                  <a:lnTo>
                    <a:pt x="3724" y="18514"/>
                  </a:lnTo>
                  <a:lnTo>
                    <a:pt x="2234" y="18514"/>
                  </a:lnTo>
                  <a:lnTo>
                    <a:pt x="1489" y="16971"/>
                  </a:lnTo>
                  <a:lnTo>
                    <a:pt x="1489" y="16200"/>
                  </a:lnTo>
                  <a:lnTo>
                    <a:pt x="744" y="15428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800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0" y="7714"/>
                  </a:lnTo>
                  <a:lnTo>
                    <a:pt x="744" y="6942"/>
                  </a:lnTo>
                  <a:lnTo>
                    <a:pt x="744" y="6171"/>
                  </a:lnTo>
                  <a:lnTo>
                    <a:pt x="1489" y="4628"/>
                  </a:lnTo>
                  <a:lnTo>
                    <a:pt x="2234" y="3856"/>
                  </a:lnTo>
                  <a:lnTo>
                    <a:pt x="2979" y="3085"/>
                  </a:lnTo>
                  <a:lnTo>
                    <a:pt x="3724" y="2314"/>
                  </a:lnTo>
                  <a:lnTo>
                    <a:pt x="4468" y="1542"/>
                  </a:lnTo>
                  <a:lnTo>
                    <a:pt x="5213" y="1542"/>
                  </a:lnTo>
                  <a:lnTo>
                    <a:pt x="6703" y="771"/>
                  </a:lnTo>
                  <a:lnTo>
                    <a:pt x="7448" y="0"/>
                  </a:lnTo>
                  <a:lnTo>
                    <a:pt x="8192" y="0"/>
                  </a:lnTo>
                  <a:lnTo>
                    <a:pt x="8937" y="0"/>
                  </a:lnTo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6411960" y="1625400"/>
              <a:ext cx="102240" cy="10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3599" y="0"/>
                  </a:lnTo>
                  <a:lnTo>
                    <a:pt x="15199" y="799"/>
                  </a:lnTo>
                  <a:lnTo>
                    <a:pt x="15999" y="799"/>
                  </a:lnTo>
                  <a:lnTo>
                    <a:pt x="16799" y="1599"/>
                  </a:lnTo>
                  <a:lnTo>
                    <a:pt x="18399" y="2399"/>
                  </a:lnTo>
                  <a:lnTo>
                    <a:pt x="19199" y="3199"/>
                  </a:lnTo>
                  <a:lnTo>
                    <a:pt x="19999" y="3999"/>
                  </a:lnTo>
                  <a:lnTo>
                    <a:pt x="20799" y="4799"/>
                  </a:lnTo>
                  <a:lnTo>
                    <a:pt x="20799" y="5599"/>
                  </a:lnTo>
                  <a:lnTo>
                    <a:pt x="20799" y="63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95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4399"/>
                  </a:lnTo>
                  <a:lnTo>
                    <a:pt x="20799" y="15199"/>
                  </a:lnTo>
                  <a:lnTo>
                    <a:pt x="20799" y="15999"/>
                  </a:lnTo>
                  <a:lnTo>
                    <a:pt x="20799" y="17599"/>
                  </a:lnTo>
                  <a:lnTo>
                    <a:pt x="19999" y="18399"/>
                  </a:lnTo>
                  <a:lnTo>
                    <a:pt x="19999" y="19199"/>
                  </a:lnTo>
                  <a:lnTo>
                    <a:pt x="18399" y="19999"/>
                  </a:lnTo>
                  <a:lnTo>
                    <a:pt x="17599" y="20799"/>
                  </a:lnTo>
                  <a:lnTo>
                    <a:pt x="16799" y="20799"/>
                  </a:lnTo>
                  <a:lnTo>
                    <a:pt x="15999" y="20799"/>
                  </a:lnTo>
                  <a:lnTo>
                    <a:pt x="14399" y="21600"/>
                  </a:lnTo>
                  <a:lnTo>
                    <a:pt x="13599" y="21600"/>
                  </a:lnTo>
                  <a:lnTo>
                    <a:pt x="119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199" y="21600"/>
                  </a:lnTo>
                  <a:lnTo>
                    <a:pt x="6399" y="20799"/>
                  </a:lnTo>
                  <a:lnTo>
                    <a:pt x="4799" y="20799"/>
                  </a:lnTo>
                  <a:lnTo>
                    <a:pt x="3999" y="19999"/>
                  </a:lnTo>
                  <a:lnTo>
                    <a:pt x="3199" y="19199"/>
                  </a:lnTo>
                  <a:lnTo>
                    <a:pt x="2399" y="19199"/>
                  </a:lnTo>
                  <a:lnTo>
                    <a:pt x="1599" y="17599"/>
                  </a:lnTo>
                  <a:lnTo>
                    <a:pt x="1599" y="16799"/>
                  </a:lnTo>
                  <a:lnTo>
                    <a:pt x="799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27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799" y="7199"/>
                  </a:lnTo>
                  <a:lnTo>
                    <a:pt x="799" y="6399"/>
                  </a:lnTo>
                  <a:lnTo>
                    <a:pt x="1599" y="5599"/>
                  </a:lnTo>
                  <a:lnTo>
                    <a:pt x="2399" y="3999"/>
                  </a:lnTo>
                  <a:lnTo>
                    <a:pt x="2399" y="3199"/>
                  </a:lnTo>
                  <a:lnTo>
                    <a:pt x="3999" y="2399"/>
                  </a:lnTo>
                  <a:lnTo>
                    <a:pt x="4799" y="1599"/>
                  </a:lnTo>
                  <a:lnTo>
                    <a:pt x="5599" y="1599"/>
                  </a:lnTo>
                  <a:lnTo>
                    <a:pt x="6399" y="799"/>
                  </a:lnTo>
                  <a:lnTo>
                    <a:pt x="7999" y="0"/>
                  </a:lnTo>
                  <a:lnTo>
                    <a:pt x="8799" y="0"/>
                  </a:lnTo>
                  <a:lnTo>
                    <a:pt x="9599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2770560" y="1610280"/>
              <a:ext cx="10224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4399" y="0"/>
                  </a:lnTo>
                  <a:lnTo>
                    <a:pt x="15199" y="0"/>
                  </a:lnTo>
                  <a:lnTo>
                    <a:pt x="15999" y="799"/>
                  </a:lnTo>
                  <a:lnTo>
                    <a:pt x="17599" y="1599"/>
                  </a:lnTo>
                  <a:lnTo>
                    <a:pt x="18399" y="2399"/>
                  </a:lnTo>
                  <a:lnTo>
                    <a:pt x="18399" y="3199"/>
                  </a:lnTo>
                  <a:lnTo>
                    <a:pt x="19199" y="3199"/>
                  </a:lnTo>
                  <a:lnTo>
                    <a:pt x="19999" y="4799"/>
                  </a:lnTo>
                  <a:lnTo>
                    <a:pt x="19999" y="5599"/>
                  </a:lnTo>
                  <a:lnTo>
                    <a:pt x="20799" y="63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95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4399"/>
                  </a:lnTo>
                  <a:lnTo>
                    <a:pt x="20799" y="15199"/>
                  </a:lnTo>
                  <a:lnTo>
                    <a:pt x="20799" y="15999"/>
                  </a:lnTo>
                  <a:lnTo>
                    <a:pt x="19999" y="17599"/>
                  </a:lnTo>
                  <a:lnTo>
                    <a:pt x="19199" y="18399"/>
                  </a:lnTo>
                  <a:lnTo>
                    <a:pt x="18399" y="19199"/>
                  </a:lnTo>
                  <a:lnTo>
                    <a:pt x="18399" y="19999"/>
                  </a:lnTo>
                  <a:lnTo>
                    <a:pt x="17599" y="20799"/>
                  </a:lnTo>
                  <a:lnTo>
                    <a:pt x="16799" y="20799"/>
                  </a:lnTo>
                  <a:lnTo>
                    <a:pt x="15999" y="20799"/>
                  </a:lnTo>
                  <a:lnTo>
                    <a:pt x="14399" y="21600"/>
                  </a:lnTo>
                  <a:lnTo>
                    <a:pt x="13599" y="21600"/>
                  </a:lnTo>
                  <a:lnTo>
                    <a:pt x="127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999" y="21600"/>
                  </a:lnTo>
                  <a:lnTo>
                    <a:pt x="7199" y="20799"/>
                  </a:lnTo>
                  <a:lnTo>
                    <a:pt x="6399" y="20799"/>
                  </a:lnTo>
                  <a:lnTo>
                    <a:pt x="5599" y="20799"/>
                  </a:lnTo>
                  <a:lnTo>
                    <a:pt x="3999" y="19999"/>
                  </a:lnTo>
                  <a:lnTo>
                    <a:pt x="3199" y="19199"/>
                  </a:lnTo>
                  <a:lnTo>
                    <a:pt x="2399" y="18399"/>
                  </a:lnTo>
                  <a:lnTo>
                    <a:pt x="1599" y="17599"/>
                  </a:lnTo>
                  <a:lnTo>
                    <a:pt x="1599" y="16799"/>
                  </a:lnTo>
                  <a:lnTo>
                    <a:pt x="799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27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199"/>
                  </a:lnTo>
                  <a:lnTo>
                    <a:pt x="799" y="6399"/>
                  </a:lnTo>
                  <a:lnTo>
                    <a:pt x="1599" y="5599"/>
                  </a:lnTo>
                  <a:lnTo>
                    <a:pt x="2399" y="3999"/>
                  </a:lnTo>
                  <a:lnTo>
                    <a:pt x="3199" y="3199"/>
                  </a:lnTo>
                  <a:lnTo>
                    <a:pt x="3999" y="2399"/>
                  </a:lnTo>
                  <a:lnTo>
                    <a:pt x="4799" y="1599"/>
                  </a:lnTo>
                  <a:lnTo>
                    <a:pt x="5599" y="1599"/>
                  </a:lnTo>
                  <a:lnTo>
                    <a:pt x="6399" y="799"/>
                  </a:lnTo>
                  <a:lnTo>
                    <a:pt x="7199" y="0"/>
                  </a:lnTo>
                  <a:lnTo>
                    <a:pt x="7999" y="0"/>
                  </a:lnTo>
                  <a:lnTo>
                    <a:pt x="9599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5645880" y="1454040"/>
              <a:ext cx="110520" cy="10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937" y="0"/>
                  </a:moveTo>
                  <a:lnTo>
                    <a:pt x="10427" y="0"/>
                  </a:lnTo>
                  <a:lnTo>
                    <a:pt x="11172" y="0"/>
                  </a:lnTo>
                  <a:lnTo>
                    <a:pt x="12661" y="0"/>
                  </a:lnTo>
                  <a:lnTo>
                    <a:pt x="13406" y="0"/>
                  </a:lnTo>
                  <a:lnTo>
                    <a:pt x="14896" y="771"/>
                  </a:lnTo>
                  <a:lnTo>
                    <a:pt x="15641" y="771"/>
                  </a:lnTo>
                  <a:lnTo>
                    <a:pt x="16385" y="1542"/>
                  </a:lnTo>
                  <a:lnTo>
                    <a:pt x="17875" y="2314"/>
                  </a:lnTo>
                  <a:lnTo>
                    <a:pt x="18620" y="3085"/>
                  </a:lnTo>
                  <a:lnTo>
                    <a:pt x="19365" y="3856"/>
                  </a:lnTo>
                  <a:lnTo>
                    <a:pt x="20110" y="4628"/>
                  </a:lnTo>
                  <a:lnTo>
                    <a:pt x="20110" y="5400"/>
                  </a:lnTo>
                  <a:lnTo>
                    <a:pt x="20110" y="6171"/>
                  </a:lnTo>
                  <a:lnTo>
                    <a:pt x="20855" y="7714"/>
                  </a:lnTo>
                  <a:lnTo>
                    <a:pt x="20855" y="8485"/>
                  </a:lnTo>
                  <a:lnTo>
                    <a:pt x="20855" y="10028"/>
                  </a:lnTo>
                  <a:lnTo>
                    <a:pt x="21600" y="10800"/>
                  </a:lnTo>
                  <a:lnTo>
                    <a:pt x="21600" y="12342"/>
                  </a:lnTo>
                  <a:lnTo>
                    <a:pt x="20855" y="13114"/>
                  </a:lnTo>
                  <a:lnTo>
                    <a:pt x="20855" y="14656"/>
                  </a:lnTo>
                  <a:lnTo>
                    <a:pt x="20110" y="15428"/>
                  </a:lnTo>
                  <a:lnTo>
                    <a:pt x="20110" y="16200"/>
                  </a:lnTo>
                  <a:lnTo>
                    <a:pt x="20110" y="16971"/>
                  </a:lnTo>
                  <a:lnTo>
                    <a:pt x="19365" y="17742"/>
                  </a:lnTo>
                  <a:lnTo>
                    <a:pt x="18620" y="18514"/>
                  </a:lnTo>
                  <a:lnTo>
                    <a:pt x="17875" y="19285"/>
                  </a:lnTo>
                  <a:lnTo>
                    <a:pt x="17130" y="20056"/>
                  </a:lnTo>
                  <a:lnTo>
                    <a:pt x="16385" y="20056"/>
                  </a:lnTo>
                  <a:lnTo>
                    <a:pt x="15641" y="20828"/>
                  </a:lnTo>
                  <a:lnTo>
                    <a:pt x="14151" y="21600"/>
                  </a:lnTo>
                  <a:lnTo>
                    <a:pt x="13406" y="21600"/>
                  </a:lnTo>
                  <a:lnTo>
                    <a:pt x="11916" y="21600"/>
                  </a:lnTo>
                  <a:lnTo>
                    <a:pt x="11172" y="21600"/>
                  </a:lnTo>
                  <a:lnTo>
                    <a:pt x="9682" y="21600"/>
                  </a:lnTo>
                  <a:lnTo>
                    <a:pt x="8937" y="21600"/>
                  </a:lnTo>
                  <a:lnTo>
                    <a:pt x="8192" y="21600"/>
                  </a:lnTo>
                  <a:lnTo>
                    <a:pt x="7448" y="20828"/>
                  </a:lnTo>
                  <a:lnTo>
                    <a:pt x="5958" y="20828"/>
                  </a:lnTo>
                  <a:lnTo>
                    <a:pt x="5213" y="20056"/>
                  </a:lnTo>
                  <a:lnTo>
                    <a:pt x="4468" y="19285"/>
                  </a:lnTo>
                  <a:lnTo>
                    <a:pt x="3724" y="18514"/>
                  </a:lnTo>
                  <a:lnTo>
                    <a:pt x="2234" y="17742"/>
                  </a:lnTo>
                  <a:lnTo>
                    <a:pt x="2234" y="16971"/>
                  </a:lnTo>
                  <a:lnTo>
                    <a:pt x="1489" y="16971"/>
                  </a:lnTo>
                  <a:lnTo>
                    <a:pt x="744" y="16200"/>
                  </a:lnTo>
                  <a:lnTo>
                    <a:pt x="744" y="14656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744" y="6942"/>
                  </a:lnTo>
                  <a:lnTo>
                    <a:pt x="744" y="6171"/>
                  </a:lnTo>
                  <a:lnTo>
                    <a:pt x="1489" y="5400"/>
                  </a:lnTo>
                  <a:lnTo>
                    <a:pt x="2234" y="3856"/>
                  </a:lnTo>
                  <a:lnTo>
                    <a:pt x="2979" y="3085"/>
                  </a:lnTo>
                  <a:lnTo>
                    <a:pt x="3724" y="2314"/>
                  </a:lnTo>
                  <a:lnTo>
                    <a:pt x="4468" y="1542"/>
                  </a:lnTo>
                  <a:lnTo>
                    <a:pt x="5213" y="1542"/>
                  </a:lnTo>
                  <a:lnTo>
                    <a:pt x="6703" y="771"/>
                  </a:lnTo>
                  <a:lnTo>
                    <a:pt x="7448" y="0"/>
                  </a:lnTo>
                  <a:lnTo>
                    <a:pt x="8192" y="0"/>
                  </a:lnTo>
                  <a:lnTo>
                    <a:pt x="8937" y="0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5039280" y="885960"/>
              <a:ext cx="102240" cy="10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7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3599" y="0"/>
                  </a:lnTo>
                  <a:lnTo>
                    <a:pt x="14399" y="799"/>
                  </a:lnTo>
                  <a:lnTo>
                    <a:pt x="15199" y="799"/>
                  </a:lnTo>
                  <a:lnTo>
                    <a:pt x="15999" y="1599"/>
                  </a:lnTo>
                  <a:lnTo>
                    <a:pt x="17599" y="2399"/>
                  </a:lnTo>
                  <a:lnTo>
                    <a:pt x="18399" y="2399"/>
                  </a:lnTo>
                  <a:lnTo>
                    <a:pt x="19199" y="3999"/>
                  </a:lnTo>
                  <a:lnTo>
                    <a:pt x="19999" y="4799"/>
                  </a:lnTo>
                  <a:lnTo>
                    <a:pt x="19999" y="5599"/>
                  </a:lnTo>
                  <a:lnTo>
                    <a:pt x="20799" y="6399"/>
                  </a:lnTo>
                  <a:lnTo>
                    <a:pt x="21600" y="71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3599"/>
                  </a:lnTo>
                  <a:lnTo>
                    <a:pt x="20799" y="15199"/>
                  </a:lnTo>
                  <a:lnTo>
                    <a:pt x="20799" y="15999"/>
                  </a:lnTo>
                  <a:lnTo>
                    <a:pt x="19999" y="17599"/>
                  </a:lnTo>
                  <a:lnTo>
                    <a:pt x="19199" y="17599"/>
                  </a:lnTo>
                  <a:lnTo>
                    <a:pt x="18399" y="18399"/>
                  </a:lnTo>
                  <a:lnTo>
                    <a:pt x="17599" y="19199"/>
                  </a:lnTo>
                  <a:lnTo>
                    <a:pt x="16799" y="19999"/>
                  </a:lnTo>
                  <a:lnTo>
                    <a:pt x="15999" y="19999"/>
                  </a:lnTo>
                  <a:lnTo>
                    <a:pt x="15199" y="20799"/>
                  </a:lnTo>
                  <a:lnTo>
                    <a:pt x="14399" y="21600"/>
                  </a:lnTo>
                  <a:lnTo>
                    <a:pt x="13599" y="21600"/>
                  </a:lnTo>
                  <a:lnTo>
                    <a:pt x="119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199" y="21600"/>
                  </a:lnTo>
                  <a:lnTo>
                    <a:pt x="6399" y="20799"/>
                  </a:lnTo>
                  <a:lnTo>
                    <a:pt x="5599" y="20799"/>
                  </a:lnTo>
                  <a:lnTo>
                    <a:pt x="3999" y="19999"/>
                  </a:lnTo>
                  <a:lnTo>
                    <a:pt x="3199" y="19199"/>
                  </a:lnTo>
                  <a:lnTo>
                    <a:pt x="3199" y="19199"/>
                  </a:lnTo>
                  <a:lnTo>
                    <a:pt x="2399" y="17599"/>
                  </a:lnTo>
                  <a:lnTo>
                    <a:pt x="1599" y="17599"/>
                  </a:lnTo>
                  <a:lnTo>
                    <a:pt x="1599" y="16799"/>
                  </a:lnTo>
                  <a:lnTo>
                    <a:pt x="799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27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999"/>
                  </a:lnTo>
                  <a:lnTo>
                    <a:pt x="0" y="6399"/>
                  </a:lnTo>
                  <a:lnTo>
                    <a:pt x="799" y="6399"/>
                  </a:lnTo>
                  <a:lnTo>
                    <a:pt x="1599" y="5599"/>
                  </a:lnTo>
                  <a:lnTo>
                    <a:pt x="2399" y="3999"/>
                  </a:lnTo>
                  <a:lnTo>
                    <a:pt x="3199" y="3199"/>
                  </a:lnTo>
                  <a:lnTo>
                    <a:pt x="3199" y="2399"/>
                  </a:lnTo>
                  <a:lnTo>
                    <a:pt x="3999" y="1599"/>
                  </a:lnTo>
                  <a:lnTo>
                    <a:pt x="4799" y="1599"/>
                  </a:lnTo>
                  <a:lnTo>
                    <a:pt x="5599" y="799"/>
                  </a:lnTo>
                  <a:lnTo>
                    <a:pt x="7199" y="0"/>
                  </a:lnTo>
                  <a:lnTo>
                    <a:pt x="7999" y="0"/>
                  </a:lnTo>
                  <a:lnTo>
                    <a:pt x="8799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361800" y="5009040"/>
              <a:ext cx="10728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56" y="0"/>
                  </a:moveTo>
                  <a:lnTo>
                    <a:pt x="10028" y="0"/>
                  </a:lnTo>
                  <a:lnTo>
                    <a:pt x="11571" y="0"/>
                  </a:lnTo>
                  <a:lnTo>
                    <a:pt x="12342" y="0"/>
                  </a:lnTo>
                  <a:lnTo>
                    <a:pt x="13114" y="0"/>
                  </a:lnTo>
                  <a:lnTo>
                    <a:pt x="14656" y="799"/>
                  </a:lnTo>
                  <a:lnTo>
                    <a:pt x="15428" y="799"/>
                  </a:lnTo>
                  <a:lnTo>
                    <a:pt x="16971" y="1599"/>
                  </a:lnTo>
                  <a:lnTo>
                    <a:pt x="17742" y="2399"/>
                  </a:lnTo>
                  <a:lnTo>
                    <a:pt x="18514" y="3199"/>
                  </a:lnTo>
                  <a:lnTo>
                    <a:pt x="19285" y="3199"/>
                  </a:lnTo>
                  <a:lnTo>
                    <a:pt x="20056" y="3999"/>
                  </a:lnTo>
                  <a:lnTo>
                    <a:pt x="20056" y="4799"/>
                  </a:lnTo>
                  <a:lnTo>
                    <a:pt x="20828" y="5599"/>
                  </a:lnTo>
                  <a:lnTo>
                    <a:pt x="21600" y="71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4399"/>
                  </a:lnTo>
                  <a:lnTo>
                    <a:pt x="20828" y="14399"/>
                  </a:lnTo>
                  <a:lnTo>
                    <a:pt x="20828" y="15199"/>
                  </a:lnTo>
                  <a:lnTo>
                    <a:pt x="20056" y="16799"/>
                  </a:lnTo>
                  <a:lnTo>
                    <a:pt x="19285" y="17599"/>
                  </a:lnTo>
                  <a:lnTo>
                    <a:pt x="18514" y="18399"/>
                  </a:lnTo>
                  <a:lnTo>
                    <a:pt x="17742" y="19199"/>
                  </a:lnTo>
                  <a:lnTo>
                    <a:pt x="16971" y="19999"/>
                  </a:lnTo>
                  <a:lnTo>
                    <a:pt x="16200" y="19999"/>
                  </a:lnTo>
                  <a:lnTo>
                    <a:pt x="15428" y="20799"/>
                  </a:lnTo>
                  <a:lnTo>
                    <a:pt x="13885" y="21600"/>
                  </a:lnTo>
                  <a:lnTo>
                    <a:pt x="13114" y="21600"/>
                  </a:lnTo>
                  <a:lnTo>
                    <a:pt x="12342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8485" y="21600"/>
                  </a:lnTo>
                  <a:lnTo>
                    <a:pt x="6942" y="21600"/>
                  </a:lnTo>
                  <a:lnTo>
                    <a:pt x="6942" y="21600"/>
                  </a:lnTo>
                  <a:lnTo>
                    <a:pt x="6171" y="20799"/>
                  </a:lnTo>
                  <a:lnTo>
                    <a:pt x="4628" y="19999"/>
                  </a:lnTo>
                  <a:lnTo>
                    <a:pt x="3856" y="19199"/>
                  </a:lnTo>
                  <a:lnTo>
                    <a:pt x="3085" y="18399"/>
                  </a:lnTo>
                  <a:lnTo>
                    <a:pt x="2314" y="18399"/>
                  </a:lnTo>
                  <a:lnTo>
                    <a:pt x="1542" y="16799"/>
                  </a:lnTo>
                  <a:lnTo>
                    <a:pt x="1542" y="15999"/>
                  </a:lnTo>
                  <a:lnTo>
                    <a:pt x="771" y="151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19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199"/>
                  </a:lnTo>
                  <a:lnTo>
                    <a:pt x="0" y="6399"/>
                  </a:lnTo>
                  <a:lnTo>
                    <a:pt x="771" y="5599"/>
                  </a:lnTo>
                  <a:lnTo>
                    <a:pt x="1542" y="3999"/>
                  </a:lnTo>
                  <a:lnTo>
                    <a:pt x="2314" y="3199"/>
                  </a:lnTo>
                  <a:lnTo>
                    <a:pt x="2314" y="3199"/>
                  </a:lnTo>
                  <a:lnTo>
                    <a:pt x="3085" y="2399"/>
                  </a:lnTo>
                  <a:lnTo>
                    <a:pt x="4628" y="1599"/>
                  </a:lnTo>
                  <a:lnTo>
                    <a:pt x="5400" y="1599"/>
                  </a:lnTo>
                  <a:lnTo>
                    <a:pt x="6171" y="799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8067960" y="2508840"/>
              <a:ext cx="107280" cy="10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485" y="0"/>
                  </a:moveTo>
                  <a:lnTo>
                    <a:pt x="10028" y="0"/>
                  </a:lnTo>
                  <a:lnTo>
                    <a:pt x="11571" y="0"/>
                  </a:lnTo>
                  <a:lnTo>
                    <a:pt x="12342" y="0"/>
                  </a:lnTo>
                  <a:lnTo>
                    <a:pt x="13114" y="0"/>
                  </a:lnTo>
                  <a:lnTo>
                    <a:pt x="14656" y="799"/>
                  </a:lnTo>
                  <a:lnTo>
                    <a:pt x="15428" y="799"/>
                  </a:lnTo>
                  <a:lnTo>
                    <a:pt x="16200" y="1599"/>
                  </a:lnTo>
                  <a:lnTo>
                    <a:pt x="17742" y="2399"/>
                  </a:lnTo>
                  <a:lnTo>
                    <a:pt x="18514" y="3199"/>
                  </a:lnTo>
                  <a:lnTo>
                    <a:pt x="19285" y="3199"/>
                  </a:lnTo>
                  <a:lnTo>
                    <a:pt x="20056" y="4799"/>
                  </a:lnTo>
                  <a:lnTo>
                    <a:pt x="20056" y="5599"/>
                  </a:lnTo>
                  <a:lnTo>
                    <a:pt x="20828" y="63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95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3599"/>
                  </a:lnTo>
                  <a:lnTo>
                    <a:pt x="21600" y="15199"/>
                  </a:lnTo>
                  <a:lnTo>
                    <a:pt x="20828" y="15999"/>
                  </a:lnTo>
                  <a:lnTo>
                    <a:pt x="20056" y="16799"/>
                  </a:lnTo>
                  <a:lnTo>
                    <a:pt x="19285" y="18399"/>
                  </a:lnTo>
                  <a:lnTo>
                    <a:pt x="18514" y="19199"/>
                  </a:lnTo>
                  <a:lnTo>
                    <a:pt x="18514" y="19999"/>
                  </a:lnTo>
                  <a:lnTo>
                    <a:pt x="16971" y="20799"/>
                  </a:lnTo>
                  <a:lnTo>
                    <a:pt x="16200" y="20799"/>
                  </a:lnTo>
                  <a:lnTo>
                    <a:pt x="15428" y="21600"/>
                  </a:lnTo>
                  <a:lnTo>
                    <a:pt x="13885" y="21600"/>
                  </a:lnTo>
                  <a:lnTo>
                    <a:pt x="13114" y="21600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8485" y="21600"/>
                  </a:lnTo>
                  <a:lnTo>
                    <a:pt x="6942" y="21600"/>
                  </a:lnTo>
                  <a:lnTo>
                    <a:pt x="6942" y="21600"/>
                  </a:lnTo>
                  <a:lnTo>
                    <a:pt x="6171" y="21600"/>
                  </a:lnTo>
                  <a:lnTo>
                    <a:pt x="4628" y="20799"/>
                  </a:lnTo>
                  <a:lnTo>
                    <a:pt x="3856" y="19999"/>
                  </a:lnTo>
                  <a:lnTo>
                    <a:pt x="3085" y="19199"/>
                  </a:lnTo>
                  <a:lnTo>
                    <a:pt x="2314" y="18399"/>
                  </a:lnTo>
                  <a:lnTo>
                    <a:pt x="1542" y="17599"/>
                  </a:lnTo>
                  <a:lnTo>
                    <a:pt x="1542" y="16799"/>
                  </a:lnTo>
                  <a:lnTo>
                    <a:pt x="771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1999"/>
                  </a:lnTo>
                  <a:lnTo>
                    <a:pt x="0" y="11199"/>
                  </a:lnTo>
                  <a:lnTo>
                    <a:pt x="0" y="10399"/>
                  </a:lnTo>
                  <a:lnTo>
                    <a:pt x="0" y="9599"/>
                  </a:lnTo>
                  <a:lnTo>
                    <a:pt x="0" y="7999"/>
                  </a:lnTo>
                  <a:lnTo>
                    <a:pt x="0" y="7199"/>
                  </a:lnTo>
                  <a:lnTo>
                    <a:pt x="771" y="6399"/>
                  </a:lnTo>
                  <a:lnTo>
                    <a:pt x="1542" y="4799"/>
                  </a:lnTo>
                  <a:lnTo>
                    <a:pt x="2314" y="3999"/>
                  </a:lnTo>
                  <a:lnTo>
                    <a:pt x="3085" y="3199"/>
                  </a:lnTo>
                  <a:lnTo>
                    <a:pt x="3085" y="2399"/>
                  </a:lnTo>
                  <a:lnTo>
                    <a:pt x="4628" y="1599"/>
                  </a:lnTo>
                  <a:lnTo>
                    <a:pt x="5400" y="1599"/>
                  </a:lnTo>
                  <a:lnTo>
                    <a:pt x="6171" y="799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8485" y="0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7290360" y="1877040"/>
              <a:ext cx="10728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56" y="0"/>
                  </a:moveTo>
                  <a:lnTo>
                    <a:pt x="10800" y="0"/>
                  </a:lnTo>
                  <a:lnTo>
                    <a:pt x="12342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5428" y="799"/>
                  </a:lnTo>
                  <a:lnTo>
                    <a:pt x="16200" y="799"/>
                  </a:lnTo>
                  <a:lnTo>
                    <a:pt x="16200" y="1599"/>
                  </a:lnTo>
                  <a:lnTo>
                    <a:pt x="17742" y="2399"/>
                  </a:lnTo>
                  <a:lnTo>
                    <a:pt x="18514" y="3199"/>
                  </a:lnTo>
                  <a:lnTo>
                    <a:pt x="19285" y="3999"/>
                  </a:lnTo>
                  <a:lnTo>
                    <a:pt x="20056" y="4799"/>
                  </a:lnTo>
                  <a:lnTo>
                    <a:pt x="20056" y="5599"/>
                  </a:lnTo>
                  <a:lnTo>
                    <a:pt x="20828" y="6399"/>
                  </a:lnTo>
                  <a:lnTo>
                    <a:pt x="21600" y="71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3599"/>
                  </a:lnTo>
                  <a:lnTo>
                    <a:pt x="20828" y="15199"/>
                  </a:lnTo>
                  <a:lnTo>
                    <a:pt x="20828" y="15999"/>
                  </a:lnTo>
                  <a:lnTo>
                    <a:pt x="20056" y="16799"/>
                  </a:lnTo>
                  <a:lnTo>
                    <a:pt x="19285" y="17599"/>
                  </a:lnTo>
                  <a:lnTo>
                    <a:pt x="18514" y="18399"/>
                  </a:lnTo>
                  <a:lnTo>
                    <a:pt x="17742" y="19199"/>
                  </a:lnTo>
                  <a:lnTo>
                    <a:pt x="16971" y="19999"/>
                  </a:lnTo>
                  <a:lnTo>
                    <a:pt x="16200" y="19999"/>
                  </a:lnTo>
                  <a:lnTo>
                    <a:pt x="16200" y="20799"/>
                  </a:lnTo>
                  <a:lnTo>
                    <a:pt x="14656" y="21600"/>
                  </a:lnTo>
                  <a:lnTo>
                    <a:pt x="13885" y="21600"/>
                  </a:lnTo>
                  <a:lnTo>
                    <a:pt x="12342" y="21600"/>
                  </a:lnTo>
                  <a:lnTo>
                    <a:pt x="11571" y="21600"/>
                  </a:lnTo>
                  <a:lnTo>
                    <a:pt x="10028" y="21600"/>
                  </a:lnTo>
                  <a:lnTo>
                    <a:pt x="9256" y="21600"/>
                  </a:lnTo>
                  <a:lnTo>
                    <a:pt x="7714" y="21600"/>
                  </a:lnTo>
                  <a:lnTo>
                    <a:pt x="6942" y="21600"/>
                  </a:lnTo>
                  <a:lnTo>
                    <a:pt x="6171" y="20799"/>
                  </a:lnTo>
                  <a:lnTo>
                    <a:pt x="4628" y="19999"/>
                  </a:lnTo>
                  <a:lnTo>
                    <a:pt x="3856" y="19199"/>
                  </a:lnTo>
                  <a:lnTo>
                    <a:pt x="3085" y="18399"/>
                  </a:lnTo>
                  <a:lnTo>
                    <a:pt x="2314" y="18399"/>
                  </a:lnTo>
                  <a:lnTo>
                    <a:pt x="1542" y="17599"/>
                  </a:lnTo>
                  <a:lnTo>
                    <a:pt x="1542" y="16799"/>
                  </a:lnTo>
                  <a:lnTo>
                    <a:pt x="771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19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199"/>
                  </a:lnTo>
                  <a:lnTo>
                    <a:pt x="771" y="6399"/>
                  </a:lnTo>
                  <a:lnTo>
                    <a:pt x="771" y="6399"/>
                  </a:lnTo>
                  <a:lnTo>
                    <a:pt x="1542" y="4799"/>
                  </a:lnTo>
                  <a:lnTo>
                    <a:pt x="2314" y="3999"/>
                  </a:lnTo>
                  <a:lnTo>
                    <a:pt x="3085" y="3199"/>
                  </a:lnTo>
                  <a:lnTo>
                    <a:pt x="3856" y="2399"/>
                  </a:lnTo>
                  <a:lnTo>
                    <a:pt x="4628" y="1599"/>
                  </a:lnTo>
                  <a:lnTo>
                    <a:pt x="5400" y="1599"/>
                  </a:lnTo>
                  <a:lnTo>
                    <a:pt x="6171" y="799"/>
                  </a:lnTo>
                  <a:lnTo>
                    <a:pt x="7714" y="0"/>
                  </a:lnTo>
                  <a:lnTo>
                    <a:pt x="8485" y="0"/>
                  </a:lnTo>
                  <a:lnTo>
                    <a:pt x="925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3280" y="3034800"/>
            <a:ext cx="7191360" cy="1467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45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3E39-8879-43B3-B4EA-05BEF482E1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png"/><Relationship Id="rId7" Type="http://schemas.openxmlformats.org/officeDocument/2006/relationships/image" Target="../media/image44.wm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pu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4.wm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image" Target="../media/image5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gi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956720" y="2349360"/>
            <a:ext cx="707760" cy="419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692360" y="2852640"/>
            <a:ext cx="598320" cy="4557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6516720" y="2852640"/>
            <a:ext cx="1182600" cy="4190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-34920" y="0"/>
            <a:ext cx="111600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萨斜塔是意大利的一座著名的斜塔，据说物理学家伽利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曾在塔顶上做过著名的                        自由落体试验：在地球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一地点，不同质量的                        物体从同一高度同时下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除地球引力外不考                        虑其他外力的作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它们的落地时间相                        同，即物体的下落距离         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落的时间           之间                         的关系约为                   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已知比萨斜塔的高度                        你能计算试验物大约经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少时间落地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332000" y="909720"/>
            <a:ext cx="55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下列各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380960" y="1724040"/>
            <a:ext cx="1447920" cy="9651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9200" y="1952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33800" y="1952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3938760" y="1608120"/>
            <a:ext cx="1977840" cy="11923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395280" y="2638440"/>
            <a:ext cx="8763120" cy="1572120"/>
            <a:chOff x="395280" y="2638440"/>
            <a:chExt cx="8763120" cy="1572120"/>
          </a:xfrm>
        </p:grpSpPr>
        <p:grpSp>
          <p:nvGrpSpPr>
            <p:cNvPr id="398" name=""/>
            <p:cNvGrpSpPr/>
            <p:nvPr/>
          </p:nvGrpSpPr>
          <p:grpSpPr>
            <a:xfrm>
              <a:off x="395280" y="2638440"/>
              <a:ext cx="8763120" cy="996840"/>
              <a:chOff x="395280" y="2638440"/>
              <a:chExt cx="8763120" cy="996840"/>
            </a:xfrm>
          </p:grpSpPr>
          <p:sp>
            <p:nvSpPr>
              <p:cNvPr id="399" name=""/>
              <p:cNvSpPr/>
              <p:nvPr/>
            </p:nvSpPr>
            <p:spPr>
              <a:xfrm>
                <a:off x="395280" y="2867040"/>
                <a:ext cx="876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若                             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则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的取值范围为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       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7400" y="2638440"/>
                <a:ext cx="3581280" cy="99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1" name=""/>
            <p:cNvSpPr/>
            <p:nvPr/>
          </p:nvSpPr>
          <p:spPr>
            <a:xfrm>
              <a:off x="471600" y="3629160"/>
              <a:ext cx="83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. x≤1  B. x≥1  C. 0≤x≤1  D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切有理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174680" y="4200480"/>
            <a:ext cx="6107040" cy="1292760"/>
            <a:chOff x="1174680" y="4200480"/>
            <a:chExt cx="6107040" cy="1292760"/>
          </a:xfrm>
        </p:grpSpPr>
        <p:sp>
          <p:nvSpPr>
            <p:cNvPr id="403" name=""/>
            <p:cNvSpPr/>
            <p:nvPr/>
          </p:nvSpPr>
          <p:spPr>
            <a:xfrm>
              <a:off x="1174680" y="4302000"/>
              <a:ext cx="61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000000"/>
                </a:buClr>
                <a:buFont typeface="Times New Roman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与                是一样的吗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你的理由是什么，请互相讨论一下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5"/>
            <a:stretch/>
          </p:blipFill>
          <p:spPr>
            <a:xfrm>
              <a:off x="1219320" y="4276800"/>
              <a:ext cx="842760" cy="79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5" name=""/>
            <p:cNvGrpSpPr/>
            <p:nvPr/>
          </p:nvGrpSpPr>
          <p:grpSpPr>
            <a:xfrm>
              <a:off x="2974320" y="4200480"/>
              <a:ext cx="1490400" cy="779760"/>
              <a:chOff x="2974320" y="4200480"/>
              <a:chExt cx="1490400" cy="77976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3139920" y="4276800"/>
                <a:ext cx="1310760" cy="703440"/>
                <a:chOff x="3139920" y="4276800"/>
                <a:chExt cx="1310760" cy="70344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3139920" y="4276800"/>
                  <a:ext cx="1310760" cy="703440"/>
                  <a:chOff x="3139920" y="4276800"/>
                  <a:chExt cx="1310760" cy="7034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3139920" y="4276800"/>
                    <a:ext cx="131076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√</a:t>
                    </a:r>
                    <a:r>
                      <a:rPr b="1" lang="zh-CN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612600" y="4429080"/>
                    <a:ext cx="456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0" name=""/>
                <p:cNvSpPr/>
                <p:nvPr/>
              </p:nvSpPr>
              <p:spPr>
                <a:xfrm>
                  <a:off x="3613680" y="435312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2974320" y="4200480"/>
                <a:ext cx="1490400" cy="752760"/>
                <a:chOff x="2974320" y="4200480"/>
                <a:chExt cx="1490400" cy="7527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2974320" y="4371840"/>
                  <a:ext cx="1404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（       ）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131720" y="4200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4" name=""/>
          <p:cNvSpPr txBox="1"/>
          <p:nvPr/>
        </p:nvSpPr>
        <p:spPr>
          <a:xfrm>
            <a:off x="3348000" y="189000"/>
            <a:ext cx="2664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宋体"/>
              </a:rPr>
              <a:t>小试牛刀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179280" y="189000"/>
            <a:ext cx="1008000" cy="1390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8317440" y="292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3114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7"/>
          <a:stretch/>
        </p:blipFill>
        <p:spPr>
          <a:xfrm>
            <a:off x="2266920" y="5518080"/>
            <a:ext cx="3498840" cy="638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419640" y="117360"/>
            <a:ext cx="2743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d20000"/>
                </a:solidFill>
                <a:latin typeface="Times New Roman"/>
                <a:ea typeface="华文行楷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54560" y="1052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节课我们有什么收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15800" y="17017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3114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e03114"/>
                </a:solidFill>
                <a:latin typeface="Times New Roman"/>
              </a:rPr>
              <a:t>二次根式的概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1692360" y="2205000"/>
            <a:ext cx="5584680" cy="48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2215800" y="278136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3114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e03114"/>
                </a:solidFill>
                <a:latin typeface="Times New Roman"/>
              </a:rPr>
              <a:t>二次根式的性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1908000" y="3429000"/>
            <a:ext cx="2232360" cy="13809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4500720" y="3645000"/>
            <a:ext cx="3498840" cy="639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050920" y="83664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课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页</a:t>
            </a: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1700280"/>
            <a:ext cx="748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幼圆"/>
                <a:ea typeface="幼圆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幼圆"/>
                <a:ea typeface="幼圆"/>
              </a:rPr>
              <a:t>1.(2),(4)  2.(2),(4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幼圆"/>
                <a:ea typeface="幼圆"/>
              </a:rPr>
              <a:t>B</a:t>
            </a: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幼圆"/>
                <a:ea typeface="幼圆"/>
              </a:rPr>
              <a:t>1.(2),(4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71640" y="1125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业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203640" y="117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4423af"/>
                </a:solidFill>
                <a:latin typeface="Times New Roman"/>
              </a:rPr>
              <a:t>课后提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413320" cy="7300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381560" cy="718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826920" y="3068640"/>
            <a:ext cx="6337440" cy="2716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36360" y="549360"/>
            <a:ext cx="9107640" cy="55483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108000" y="4581360"/>
            <a:ext cx="5105520" cy="1828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484360" y="2276640"/>
            <a:ext cx="453708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8f8f8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.1.1 </a:t>
            </a:r>
            <a:r>
              <a:rPr b="1" lang="zh-CN" sz="2400" spc="1" strike="noStrike">
                <a:ln w="19080">
                  <a:solidFill>
                    <a:srgbClr val="f8f8f8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次根式</a:t>
            </a:r>
            <a:endParaRPr b="1" lang="en-US" sz="2400" spc="1" strike="noStrike">
              <a:ln w="19080">
                <a:solidFill>
                  <a:srgbClr val="f8f8f8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101080" y="6453360"/>
            <a:ext cx="863640" cy="36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9360">
                  <a:solidFill>
                    <a:srgbClr val="f8f8f8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009.3</a:t>
            </a:r>
            <a:endParaRPr b="0" lang="en-US" sz="4000" spc="-1" strike="noStrike">
              <a:ln w="9360">
                <a:solidFill>
                  <a:srgbClr val="f8f8f8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79280" y="3933720"/>
            <a:ext cx="90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正实数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平方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   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平方根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_______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负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平方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836640"/>
            <a:ext cx="90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141300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9640" y="27097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没有平方根？有没有算术平方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20606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73040" y="115920"/>
            <a:ext cx="2232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hink  </a:t>
            </a: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744480" cy="509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7380360" y="692280"/>
            <a:ext cx="431640" cy="5634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385920" cy="540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7093080" y="1341360"/>
            <a:ext cx="385560" cy="540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3203640" y="1901880"/>
            <a:ext cx="1009440" cy="6112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7380360" y="1844640"/>
            <a:ext cx="720720" cy="642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7308720" y="2637000"/>
            <a:ext cx="16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114"/>
                </a:solidFill>
                <a:latin typeface="Times New Roman"/>
              </a:rPr>
              <a:t>没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16160" y="38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114"/>
                </a:solidFill>
                <a:latin typeface="Times New Roman"/>
              </a:rPr>
              <a:t>两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7740720" y="3789360"/>
            <a:ext cx="385560" cy="539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116000" y="436572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114"/>
                </a:solidFill>
                <a:latin typeface="Times New Roman"/>
              </a:rPr>
              <a:t>没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206280" y="260280"/>
            <a:ext cx="8369280" cy="20574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4140360" y="1773360"/>
            <a:ext cx="1223640" cy="563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429080" y="26028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68720" y="765000"/>
            <a:ext cx="17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算术平方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250920" y="3502080"/>
            <a:ext cx="8331120" cy="1679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085080" y="350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二次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97440" y="40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二次根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88720" y="40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根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16360" y="465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被开方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2556000" y="3500280"/>
            <a:ext cx="1341360" cy="5065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7524720" y="142920"/>
            <a:ext cx="865080" cy="5554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7093080" y="765000"/>
            <a:ext cx="576000" cy="5446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8"/>
          <a:stretch/>
        </p:blipFill>
        <p:spPr>
          <a:xfrm>
            <a:off x="2773440" y="1278000"/>
            <a:ext cx="792000" cy="5079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9"/>
          <a:stretch/>
        </p:blipFill>
        <p:spPr>
          <a:xfrm>
            <a:off x="2771640" y="184464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0"/>
          <a:stretch/>
        </p:blipFill>
        <p:spPr>
          <a:xfrm>
            <a:off x="1187280" y="26370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5640" y="2637000"/>
            <a:ext cx="683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二次根式的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476360" y="909720"/>
            <a:ext cx="6629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说一说</a:t>
            </a: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92360" y="9810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下列各式是二次根式吗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-85320" y="195120"/>
            <a:ext cx="2010600" cy="1939320"/>
            <a:chOff x="-85320" y="195120"/>
            <a:chExt cx="2010600" cy="1939320"/>
          </a:xfrm>
        </p:grpSpPr>
        <p:sp>
          <p:nvSpPr>
            <p:cNvPr id="332" name="未知"/>
            <p:cNvSpPr/>
            <p:nvPr/>
          </p:nvSpPr>
          <p:spPr>
            <a:xfrm>
              <a:off x="612000" y="549360"/>
              <a:ext cx="131328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135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 rot="961200">
              <a:off x="183600" y="259920"/>
              <a:ext cx="65628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135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74160" y="1247760"/>
              <a:ext cx="87552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135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 rot="1629000">
              <a:off x="-34920" y="1772640"/>
              <a:ext cx="33444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51560" y="260280"/>
            <a:ext cx="1780200" cy="1427040"/>
            <a:chOff x="151560" y="260280"/>
            <a:chExt cx="1780200" cy="1427040"/>
          </a:xfrm>
        </p:grpSpPr>
        <p:sp>
          <p:nvSpPr>
            <p:cNvPr id="337" name="未知"/>
            <p:cNvSpPr/>
            <p:nvPr/>
          </p:nvSpPr>
          <p:spPr>
            <a:xfrm rot="158400">
              <a:off x="179280" y="42552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cc66"/>
                </a:gs>
              </a:gsLst>
              <a:lin ang="81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836640" y="26028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81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57120" y="40320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7380360" y="5302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8345520" cy="22687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114560" y="3502080"/>
            <a:ext cx="50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87280" y="2638440"/>
            <a:ext cx="5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58920" y="170172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27280" y="2492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m≤0)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48360" y="2492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x,y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号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4221000"/>
            <a:ext cx="734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二次根式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特点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含有二次根号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被开方数是</a:t>
            </a:r>
            <a:r>
              <a:rPr b="1" lang="zh-CN" sz="3600" spc="-1" strike="noStrike">
                <a:solidFill>
                  <a:srgbClr val="d20000"/>
                </a:solidFill>
                <a:latin typeface="华文新魏"/>
                <a:ea typeface="华文新魏"/>
              </a:rPr>
              <a:t>非负实数</a:t>
            </a:r>
            <a:r>
              <a:rPr b="1" lang="en-US" sz="3600" spc="-1" strike="noStrike">
                <a:solidFill>
                  <a:srgbClr val="d2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106200" y="0"/>
            <a:ext cx="3122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火眼金睛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93348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34920" y="117360"/>
            <a:ext cx="1227240" cy="574560"/>
            <a:chOff x="34920" y="117360"/>
            <a:chExt cx="1227240" cy="574560"/>
          </a:xfrm>
        </p:grpSpPr>
        <p:sp>
          <p:nvSpPr>
            <p:cNvPr id="351" name=""/>
            <p:cNvSpPr/>
            <p:nvPr/>
          </p:nvSpPr>
          <p:spPr>
            <a:xfrm>
              <a:off x="34920" y="159840"/>
              <a:ext cx="1008000" cy="53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dffdd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7840" y="117360"/>
              <a:ext cx="10843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  <a:ea typeface="黑体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8064360" cy="471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1763640" y="888840"/>
            <a:ext cx="3168720" cy="451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3924360" y="1557360"/>
            <a:ext cx="888840" cy="496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1044720" y="2349360"/>
            <a:ext cx="6576840" cy="5162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108000" y="2709720"/>
            <a:ext cx="790560" cy="1665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044720" y="37893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只有当被开方数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非负实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时，二次根式才在实数范围内有意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12720" y="117360"/>
            <a:ext cx="2158920" cy="8683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07160" y="333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619280" y="1052640"/>
            <a:ext cx="5545080" cy="24066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2052720" y="4076640"/>
            <a:ext cx="5371920" cy="129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-106200" y="3502080"/>
            <a:ext cx="2157120" cy="934920"/>
          </a:xfrm>
          <a:prstGeom prst="lightningBol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7280" y="3502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答案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4403880" cy="13464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484360" y="44280"/>
            <a:ext cx="470376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次根式的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1480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932360" y="981000"/>
            <a:ext cx="1469880" cy="808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6516720" y="1197000"/>
            <a:ext cx="444600" cy="4888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7164360" y="1125360"/>
            <a:ext cx="1224000" cy="592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844720" y="3286080"/>
            <a:ext cx="3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000" y="1125360"/>
            <a:ext cx="352728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次根式的性质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35280" y="1413000"/>
            <a:ext cx="129708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8000" y="2421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3114"/>
                </a:solidFill>
                <a:latin typeface="华文行楷"/>
                <a:ea typeface="华文行楷"/>
              </a:rPr>
              <a:t>试一试</a:t>
            </a:r>
            <a:r>
              <a:rPr b="1" lang="en-US" sz="3600" spc="-1" strike="noStrike">
                <a:solidFill>
                  <a:srgbClr val="e03114"/>
                </a:solidFill>
                <a:latin typeface="华文行楷"/>
                <a:ea typeface="华文行楷"/>
              </a:rPr>
              <a:t>(1)</a:t>
            </a:r>
            <a:r>
              <a:rPr b="1" lang="zh-CN" sz="3600" spc="-1" strike="noStrike">
                <a:solidFill>
                  <a:srgbClr val="e03114"/>
                </a:solidFill>
                <a:latin typeface="华文行楷"/>
                <a:ea typeface="华文行楷"/>
              </a:rPr>
              <a:t>计算</a:t>
            </a:r>
            <a:r>
              <a:rPr b="1" lang="zh-CN" sz="3600" spc="-1" strike="noStrike">
                <a:solidFill>
                  <a:srgbClr val="e03114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3132000" y="3860640"/>
            <a:ext cx="2049480" cy="750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5219640" y="4076640"/>
            <a:ext cx="1152720" cy="4399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446160" y="400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5108760" cy="2646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08000" y="1125360"/>
            <a:ext cx="352728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次根式的性质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08360" y="1413000"/>
            <a:ext cx="57636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84360" y="44280"/>
            <a:ext cx="470376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次根式的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4356000" y="1125360"/>
            <a:ext cx="1079640" cy="6350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661080" y="981000"/>
            <a:ext cx="2448000" cy="1087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52360" y="1989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3114"/>
                </a:solidFill>
                <a:latin typeface="华文行楷"/>
                <a:ea typeface="华文行楷"/>
              </a:rPr>
              <a:t>做一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44720" y="3213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3114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08720" y="3213000"/>
            <a:ext cx="2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3114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3933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3114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e03114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00360" y="465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3114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32720" y="4653000"/>
            <a:ext cx="13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3114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e03114"/>
                </a:solidFill>
                <a:latin typeface="Times New Roman"/>
              </a:rPr>
              <a:t>4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3933720"/>
            <a:ext cx="2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3114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5508720" y="1125360"/>
            <a:ext cx="9363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0:49:27Z</dcterms:created>
  <dc:creator/>
  <dc:description/>
  <dc:language>en-US</dc:language>
  <cp:lastModifiedBy>微软用户</cp:lastModifiedBy>
  <cp:lastPrinted>2001-09-13T10:59:37Z</cp:lastPrinted>
  <dcterms:modified xsi:type="dcterms:W3CDTF">2012-08-03T02:12:34Z</dcterms:modified>
  <cp:revision>2</cp:revision>
  <dc:subject>12999数学网 www.12999.com</dc:subject>
  <dc:title>12999数学网 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NXTAG2">
    <vt:lpwstr>000800d00c0000000000010250600207f7000400038000</vt:lpwstr>
  </property>
</Properties>
</file>