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Franklin Gothic Medium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ACCE-ED79-45D4-B3AA-0FD4DF52E0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399-121C-4BB5-9C20-923958BE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F5D-1ED7-46C9-8D28-F951C50B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BE1-EE02-4638-A37F-AAABAB73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4E2-46BA-48E4-9FAB-FD59FAAC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E581-5A86-45EE-9A53-F60349AA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00CA-455F-47C4-A430-C736F286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DC82-7290-4C1A-BB0A-04DCA5CE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03B5-7E66-4D0D-9C7E-557A1B63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5F97-36FE-41CE-96E2-93D7C210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D809-7167-4198-95B1-2FCC6C84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9F54-C9CB-4E63-AC21-49BDFC73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851-81DC-4640-95BB-BC08D842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8DC9-4C3C-4B7D-813D-973F5CBC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BC2E-49EF-4D9F-9A1C-E6234ABE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E028-585F-4615-807F-BAD38493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6E43-6CFA-4AC9-84B2-775A2F20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D311-AF2A-45A3-B24B-162F70B5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37C92-4C93-4CAA-8108-A6F20E47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BA5C-DF78-4AB7-8B43-AE630CCE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9512-11FB-4A6E-AECD-F47AD6EC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0506-4C7C-4AEC-AAAE-38BC015A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DBD5A-A5ED-4DF0-980B-09147462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162-6CFB-4AB1-A452-335124BE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F0A63-98EC-428D-B82F-561B5FDA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6A9C5-9F5F-4FD1-941B-EDBC17A7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5F248-2FA4-4AC5-913C-34700CE4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F6B98-BD41-4CA9-9B7D-28EB820D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8352C-B8E2-4F9A-8AEA-DCE10D9F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91EDB-0C6F-4790-912D-A5178ACC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DB79C-C417-4BDE-8FC6-099DF0A8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512C4-DDC0-4D47-A22C-825C226F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50D3C-D21D-4F7E-9EDE-4B5680A6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AEF10-08EE-458D-B5B4-DA02CEC5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38A-6A88-4043-B736-5CBFBCBD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C7958-1617-408D-93D2-5F0A0049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ECF15-6EFA-4826-87E0-7F2BA270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C57CA-9E35-4C49-B625-C8574185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6D153-189F-490F-89C4-B8F7DE42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0E2C-765F-4CFD-A926-83AEEC41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9AB8D-4FC2-49FD-96C3-57C26844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61B89-C9DB-4ABD-AB63-8648A169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D00F8-93D6-4C6F-90F8-E36225B2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76457-03AE-40BE-B201-4DAD5180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9C4-34FB-4304-B442-9F58D43D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BF6-B1BF-4580-87E7-811A0B4C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DEB-5769-42E6-B2E3-77476641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312-D524-4FDF-A727-00C14E1B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46C-2092-46F8-9430-C8229814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BB80-DF35-4FBC-82CB-7AFED9FFF194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A82A-A3A5-408F-BCAE-D86A4DBBF0AB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5BAE-E4FA-4A8A-8A56-287D2350ECF6}" type="slidenum">
              <a:rPr b="1" lang="zh-CN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0808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1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0808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2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0808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EBE1-5BC9-497D-816E-A38C21558521}" type="slidenum">
              <a:rPr b="0" lang="zh-CN" sz="1000" spc="-1" strike="noStrike">
                <a:solidFill>
                  <a:srgbClr val="80808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808080"/>
              </a:buClr>
              <a:buSzPct val="200000"/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2514600" y="2819520"/>
            <a:ext cx="1676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第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章 平行四边形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03640" y="3716280"/>
            <a:ext cx="5040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3.6 </a:t>
            </a: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多边形的内角和与外角和（第</a:t>
            </a: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课时）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41520" y="533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3.      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画两个菱形，使它们的边长都为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2c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836640"/>
            <a:ext cx="8137440" cy="3024000"/>
          </a:xfrm>
          <a:prstGeom prst="flowChartAlternateProcess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30200" y="119700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角形的三个外角的和等于多少度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4360" y="2133720"/>
            <a:ext cx="2592360" cy="720720"/>
          </a:xfrm>
          <a:prstGeom prst="cloudCallout">
            <a:avLst>
              <a:gd name="adj1" fmla="val -77680"/>
              <a:gd name="adj2" fmla="val 55726"/>
            </a:avLst>
          </a:prstGeom>
          <a:gradFill rotWithShape="0">
            <a:gsLst>
              <a:gs pos="0">
                <a:srgbClr val="edfad2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14560" y="5527800"/>
            <a:ext cx="633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6699"/>
                </a:solidFill>
                <a:latin typeface="Times New Roman"/>
              </a:rPr>
              <a:t>在每个顶点处取这个多边形的一个外角，它们的和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Times New Roman"/>
              </a:rPr>
              <a:t>叫作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这个多边形的外角和．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68360" y="404640"/>
            <a:ext cx="1828800" cy="685800"/>
            <a:chOff x="468360" y="404640"/>
            <a:chExt cx="1828800" cy="685800"/>
          </a:xfrm>
        </p:grpSpPr>
        <p:sp>
          <p:nvSpPr>
            <p:cNvPr id="262" name=""/>
            <p:cNvSpPr/>
            <p:nvPr/>
          </p:nvSpPr>
          <p:spPr>
            <a:xfrm>
              <a:off x="468360" y="404640"/>
              <a:ext cx="1828800" cy="685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00ff"/>
                </a:gs>
                <a:gs pos="50000">
                  <a:srgbClr val="ffffff"/>
                </a:gs>
                <a:gs pos="100000">
                  <a:srgbClr val="ff00ff"/>
                </a:gs>
              </a:gsLst>
              <a:lin ang="5400000"/>
            </a:gra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696960" y="523800"/>
              <a:ext cx="1400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399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说一说</a:t>
              </a:r>
              <a:endParaRPr b="1" lang="en-US" sz="18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492360" y="2133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0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60360" y="436572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6699"/>
                </a:solidFill>
                <a:latin typeface="Times New Roman"/>
              </a:rPr>
              <a:t>多边形的角的一边与另一边的反向延长线所组成的角叫作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这个多边形的外角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40360" y="2220840"/>
            <a:ext cx="1584360" cy="1079640"/>
          </a:xfrm>
          <a:custGeom>
            <a:avLst/>
            <a:gdLst/>
            <a:ahLst/>
            <a:rect l="l" t="t" r="r" b="b"/>
            <a:pathLst>
              <a:path w="998" h="680">
                <a:moveTo>
                  <a:pt x="0" y="680"/>
                </a:moveTo>
                <a:lnTo>
                  <a:pt x="998" y="680"/>
                </a:lnTo>
                <a:lnTo>
                  <a:pt x="771" y="91"/>
                </a:lnTo>
                <a:lnTo>
                  <a:pt x="90" y="0"/>
                </a:lnTo>
                <a:lnTo>
                  <a:pt x="0" y="680"/>
                </a:lnTo>
                <a:close/>
              </a:path>
            </a:pathLst>
          </a:custGeom>
          <a:noFill/>
          <a:ln w="284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24720" y="3286080"/>
            <a:ext cx="216000" cy="503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4360" y="2349360"/>
            <a:ext cx="576360" cy="716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363640" y="330048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083280" y="1788840"/>
            <a:ext cx="73080" cy="4316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51640" y="32288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24720" y="30844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20000" y="20048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24360" y="200484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08720" y="3300480"/>
            <a:ext cx="287640" cy="168120"/>
          </a:xfrm>
          <a:custGeom>
            <a:avLst/>
            <a:gdLst/>
            <a:ahLst/>
            <a:rect l="l" t="t" r="r" b="b"/>
            <a:pathLst>
              <a:path w="181" h="106">
                <a:moveTo>
                  <a:pt x="0" y="0"/>
                </a:moveTo>
                <a:cubicBezTo>
                  <a:pt x="7" y="38"/>
                  <a:pt x="15" y="76"/>
                  <a:pt x="45" y="91"/>
                </a:cubicBezTo>
                <a:cubicBezTo>
                  <a:pt x="75" y="106"/>
                  <a:pt x="128" y="98"/>
                  <a:pt x="181" y="91"/>
                </a:cubicBezTo>
              </a:path>
            </a:pathLst>
          </a:custGeom>
          <a:noFill/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36000" y="2363760"/>
            <a:ext cx="168120" cy="1684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91" y="0"/>
                </a:moveTo>
                <a:cubicBezTo>
                  <a:pt x="98" y="38"/>
                  <a:pt x="106" y="76"/>
                  <a:pt x="91" y="91"/>
                </a:cubicBezTo>
                <a:cubicBezTo>
                  <a:pt x="76" y="106"/>
                  <a:pt x="38" y="98"/>
                  <a:pt x="0" y="91"/>
                </a:cubicBezTo>
              </a:path>
            </a:pathLst>
          </a:custGeom>
          <a:noFill/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56360" y="2004840"/>
            <a:ext cx="127080" cy="216000"/>
          </a:xfrm>
          <a:custGeom>
            <a:avLst/>
            <a:gdLst/>
            <a:ahLst/>
            <a:rect l="l" t="t" r="r" b="b"/>
            <a:pathLst>
              <a:path w="106" h="181">
                <a:moveTo>
                  <a:pt x="0" y="0"/>
                </a:moveTo>
                <a:cubicBezTo>
                  <a:pt x="38" y="7"/>
                  <a:pt x="76" y="15"/>
                  <a:pt x="91" y="45"/>
                </a:cubicBezTo>
                <a:cubicBezTo>
                  <a:pt x="106" y="75"/>
                  <a:pt x="98" y="128"/>
                  <a:pt x="91" y="181"/>
                </a:cubicBezTo>
              </a:path>
            </a:pathLst>
          </a:custGeom>
          <a:noFill/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51640" y="3133800"/>
            <a:ext cx="288720" cy="166680"/>
          </a:xfrm>
          <a:custGeom>
            <a:avLst/>
            <a:gdLst/>
            <a:ahLst/>
            <a:rect l="l" t="t" r="r" b="b"/>
            <a:pathLst>
              <a:path w="182" h="105">
                <a:moveTo>
                  <a:pt x="0" y="105"/>
                </a:moveTo>
                <a:cubicBezTo>
                  <a:pt x="30" y="67"/>
                  <a:pt x="61" y="30"/>
                  <a:pt x="91" y="15"/>
                </a:cubicBezTo>
                <a:cubicBezTo>
                  <a:pt x="121" y="0"/>
                  <a:pt x="151" y="7"/>
                  <a:pt x="182" y="15"/>
                </a:cubicBezTo>
              </a:path>
            </a:pathLst>
          </a:custGeom>
          <a:noFill/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68360" y="2492280"/>
            <a:ext cx="12254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908000" y="511956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·180°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（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·180°= 360°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44136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形的外角和是多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大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正整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4616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这个总和减去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边形的内角和所得的差是否等于四边形的外角和？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00000" y="5727600"/>
            <a:ext cx="6194520" cy="1015920"/>
          </a:xfrm>
          <a:prstGeom prst="rect">
            <a:avLst/>
          </a:prstGeom>
          <a:gradFill rotWithShape="0">
            <a:gsLst>
              <a:gs pos="0">
                <a:srgbClr val="edfad2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由此得出：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任意多边形的外角和等于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60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207972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如图，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边形的每一个顶点处取一个外角，其中每一个外角与它相邻的内角的和等于多少度？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3537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这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个外角分别与它相邻的内角的和加起来是多少度？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798640"/>
            <a:ext cx="64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在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边形的每一个顶点处取一个外角，其中每一个外角与跟它相邻的内角的和等于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80°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411156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这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个外角分别与它相邻的内角的和加起来是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·180°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492360" y="-27000"/>
            <a:ext cx="3673440" cy="2025000"/>
            <a:chOff x="3492360" y="-27000"/>
            <a:chExt cx="3673440" cy="2025000"/>
          </a:xfrm>
        </p:grpSpPr>
        <p:sp>
          <p:nvSpPr>
            <p:cNvPr id="289" name=""/>
            <p:cNvSpPr/>
            <p:nvPr/>
          </p:nvSpPr>
          <p:spPr>
            <a:xfrm>
              <a:off x="3492360" y="115920"/>
              <a:ext cx="3673440" cy="1800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851280" y="-27000"/>
              <a:ext cx="3241800" cy="2025000"/>
              <a:chOff x="3851280" y="-27000"/>
              <a:chExt cx="3241800" cy="2025000"/>
            </a:xfrm>
          </p:grpSpPr>
          <p:sp>
            <p:nvSpPr>
              <p:cNvPr id="291" name=""/>
              <p:cNvSpPr/>
              <p:nvPr/>
            </p:nvSpPr>
            <p:spPr>
              <a:xfrm>
                <a:off x="4283280" y="333360"/>
                <a:ext cx="2263680" cy="1295280"/>
              </a:xfrm>
              <a:custGeom>
                <a:avLst/>
                <a:gdLst/>
                <a:ahLst/>
                <a:rect l="l" t="t" r="r" b="b"/>
                <a:pathLst>
                  <a:path w="1426" h="816">
                    <a:moveTo>
                      <a:pt x="182" y="91"/>
                    </a:moveTo>
                    <a:lnTo>
                      <a:pt x="0" y="454"/>
                    </a:lnTo>
                    <a:lnTo>
                      <a:pt x="318" y="816"/>
                    </a:lnTo>
                    <a:lnTo>
                      <a:pt x="1134" y="816"/>
                    </a:lnTo>
                    <a:lnTo>
                      <a:pt x="1426" y="444"/>
                    </a:lnTo>
                    <a:lnTo>
                      <a:pt x="1180" y="0"/>
                    </a:ln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572000" y="333000"/>
                <a:ext cx="1584360" cy="144360"/>
              </a:xfrm>
              <a:prstGeom prst="line">
                <a:avLst/>
              </a:prstGeom>
              <a:ln w="9360">
                <a:solidFill>
                  <a:srgbClr val="0066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83280" y="1054080"/>
                <a:ext cx="223200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4282920" y="333360"/>
                <a:ext cx="1873080" cy="720720"/>
              </a:xfrm>
              <a:prstGeom prst="line">
                <a:avLst/>
              </a:prstGeom>
              <a:ln w="9360">
                <a:solidFill>
                  <a:srgbClr val="0066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83280" y="1054080"/>
                <a:ext cx="1800000" cy="574560"/>
              </a:xfrm>
              <a:prstGeom prst="line">
                <a:avLst/>
              </a:prstGeom>
              <a:ln w="9360">
                <a:solidFill>
                  <a:srgbClr val="0066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51280" y="909720"/>
                <a:ext cx="505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6699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66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27640" y="1557360"/>
                <a:ext cx="504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6699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6699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867640" y="1557360"/>
                <a:ext cx="504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6699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6699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8360" y="909720"/>
                <a:ext cx="504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6699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6699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083280" y="-27000"/>
                <a:ext cx="505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6699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6699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40360" y="117360"/>
                <a:ext cx="504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6699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6699"/>
                    </a:solidFill>
                    <a:latin typeface="Times New Roman"/>
                  </a:rPr>
                  <a:t>n</a:t>
                </a:r>
                <a:endParaRPr b="0" lang="en-US" sz="20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940360" y="1628640"/>
              <a:ext cx="719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473880" y="475920"/>
              <a:ext cx="503280" cy="649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54760" y="0"/>
              <a:ext cx="288720" cy="476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811680" y="447840"/>
              <a:ext cx="1008000" cy="7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4009680" y="865080"/>
              <a:ext cx="360360" cy="72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86400" y="1427040"/>
              <a:ext cx="431640" cy="43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39640" y="1160640"/>
            <a:ext cx="79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多边形的内角和等于它外角和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，它是几边形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2560" y="1916280"/>
            <a:ext cx="5041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: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多边形的边数为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则它的内角和等于（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·180°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由题意是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50920" y="260280"/>
            <a:ext cx="1066680" cy="533520"/>
            <a:chOff x="250920" y="260280"/>
            <a:chExt cx="1066680" cy="533520"/>
          </a:xfrm>
        </p:grpSpPr>
        <p:sp>
          <p:nvSpPr>
            <p:cNvPr id="311" name=""/>
            <p:cNvSpPr/>
            <p:nvPr/>
          </p:nvSpPr>
          <p:spPr>
            <a:xfrm>
              <a:off x="250920" y="260280"/>
              <a:ext cx="1066680" cy="5335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550800" y="355680"/>
              <a:ext cx="4618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例</a:t>
              </a: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2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203640" y="429264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解得   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=12             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29080" y="51926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因此这个多边形是十二边形．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40000" y="34639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·180°= 5× 360°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280836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0000" y="2205000"/>
            <a:ext cx="6840720" cy="2519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10224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边三角形、正方形、正六边形的地砖，足球上呈正五边形的黑块，这些多边形的边有什么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有什么特点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537372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平面内，边都相等，角也都相等的多边形叫作正多边形．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03280" y="2924280"/>
            <a:ext cx="1152720" cy="86364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925720"/>
            <a:ext cx="936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8920" y="2925720"/>
            <a:ext cx="1009800" cy="863640"/>
          </a:xfrm>
          <a:prstGeom prst="hexagon">
            <a:avLst>
              <a:gd name="adj" fmla="val 29231"/>
              <a:gd name="vf" fmla="val 115470"/>
            </a:avLst>
          </a:prstGeom>
          <a:solidFill>
            <a:srgbClr val="9966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40360" y="2852640"/>
            <a:ext cx="1224000" cy="935280"/>
          </a:xfrm>
          <a:prstGeom prst="pentagon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9080" y="44280"/>
            <a:ext cx="1600200" cy="990720"/>
            <a:chOff x="19080" y="44280"/>
            <a:chExt cx="1600200" cy="990720"/>
          </a:xfrm>
        </p:grpSpPr>
        <p:sp>
          <p:nvSpPr>
            <p:cNvPr id="325" name=""/>
            <p:cNvSpPr/>
            <p:nvPr/>
          </p:nvSpPr>
          <p:spPr>
            <a:xfrm>
              <a:off x="19080" y="44280"/>
              <a:ext cx="990360" cy="990720"/>
            </a:xfrm>
            <a:prstGeom prst="diamond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8560" y="44280"/>
              <a:ext cx="990720" cy="990720"/>
            </a:xfrm>
            <a:prstGeom prst="diamond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247680" y="3283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66ff"/>
                    </a:solidFill>
                    <a:miter/>
                  </a:ln>
                  <a:solidFill>
                    <a:srgbClr val="006699"/>
                  </a:solidFill>
                  <a:latin typeface="黑体"/>
                </a:rPr>
                <a:t>观</a:t>
              </a:r>
              <a:endParaRPr b="1" lang="en-US" sz="18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006699"/>
                </a:solidFill>
                <a:latin typeface="黑体"/>
                <a:ea typeface="黑体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933480" y="3283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66ff"/>
                    </a:solidFill>
                    <a:miter/>
                  </a:ln>
                  <a:solidFill>
                    <a:srgbClr val="006699"/>
                  </a:solidFill>
                  <a:latin typeface="黑体"/>
                </a:rPr>
                <a:t>察</a:t>
              </a:r>
              <a:endParaRPr b="1" lang="en-US" sz="1800" spc="1" strike="noStrike">
                <a:ln w="9360">
                  <a:solidFill>
                    <a:srgbClr val="ff66ff"/>
                  </a:solidFill>
                  <a:miter/>
                </a:ln>
                <a:solidFill>
                  <a:srgbClr val="006699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34920" y="3573360"/>
            <a:ext cx="70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Times New Roman"/>
              </a:rPr>
              <a:t>四条边都相等的四边形（即菱形），它的四个角一定相等吗？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1280" y="4653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图中的三个菱形，它们的边长都相等，但是只有菱形（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的四个角相等，其余两个菱形的四个角不相等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568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6699"/>
                </a:solidFill>
                <a:latin typeface="Times New Roman"/>
              </a:rPr>
              <a:t>上述例子也表明：虽然四边形的边长不变，但是它的形状改变了，这叫作四边形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不稳定性．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69840" y="115920"/>
            <a:ext cx="1980720" cy="720360"/>
            <a:chOff x="69840" y="115920"/>
            <a:chExt cx="1980720" cy="720360"/>
          </a:xfrm>
        </p:grpSpPr>
        <p:grpSp>
          <p:nvGrpSpPr>
            <p:cNvPr id="333" name=""/>
            <p:cNvGrpSpPr/>
            <p:nvPr/>
          </p:nvGrpSpPr>
          <p:grpSpPr>
            <a:xfrm>
              <a:off x="69840" y="115920"/>
              <a:ext cx="1980720" cy="720360"/>
              <a:chOff x="69840" y="115920"/>
              <a:chExt cx="1980720" cy="720360"/>
            </a:xfrm>
          </p:grpSpPr>
          <p:sp>
            <p:nvSpPr>
              <p:cNvPr id="334" name=""/>
              <p:cNvSpPr/>
              <p:nvPr/>
            </p:nvSpPr>
            <p:spPr>
              <a:xfrm>
                <a:off x="69840" y="115920"/>
                <a:ext cx="1980720" cy="72036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0200" y="205560"/>
                <a:ext cx="1620360" cy="540360"/>
              </a:xfrm>
              <a:prstGeom prst="ellipse">
                <a:avLst/>
              </a:prstGeom>
              <a:solidFill>
                <a:srgbClr val="edfa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 txBox="1"/>
            <p:nvPr/>
          </p:nvSpPr>
          <p:spPr>
            <a:xfrm>
              <a:off x="541440" y="304560"/>
              <a:ext cx="1018800" cy="33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动脑筋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900000" y="4076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一定相等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00000" y="1197000"/>
            <a:ext cx="7272360" cy="2133720"/>
            <a:chOff x="900000" y="1197000"/>
            <a:chExt cx="7272360" cy="2133720"/>
          </a:xfrm>
        </p:grpSpPr>
        <p:grpSp>
          <p:nvGrpSpPr>
            <p:cNvPr id="339" name=""/>
            <p:cNvGrpSpPr/>
            <p:nvPr/>
          </p:nvGrpSpPr>
          <p:grpSpPr>
            <a:xfrm>
              <a:off x="900000" y="1197000"/>
              <a:ext cx="7272360" cy="2133720"/>
              <a:chOff x="900000" y="1197000"/>
              <a:chExt cx="7272360" cy="2133720"/>
            </a:xfrm>
          </p:grpSpPr>
          <p:sp>
            <p:nvSpPr>
              <p:cNvPr id="340" name=""/>
              <p:cNvSpPr/>
              <p:nvPr/>
            </p:nvSpPr>
            <p:spPr>
              <a:xfrm>
                <a:off x="900000" y="1197000"/>
                <a:ext cx="7272360" cy="2133720"/>
              </a:xfrm>
              <a:prstGeom prst="rect">
                <a:avLst/>
              </a:prstGeom>
              <a:solidFill>
                <a:srgbClr val="edfad2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62000" y="1413000"/>
                <a:ext cx="917640" cy="1800000"/>
              </a:xfrm>
              <a:prstGeom prst="diamond">
                <a:avLst/>
              </a:prstGeom>
              <a:solidFill>
                <a:srgbClr val="ff00ff"/>
              </a:solidFill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75000" y="1557360"/>
                <a:ext cx="1411200" cy="1368360"/>
              </a:xfrm>
              <a:prstGeom prst="diamond">
                <a:avLst/>
              </a:prstGeom>
              <a:solidFill>
                <a:srgbClr val="006666"/>
              </a:solidFill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34120" y="1916280"/>
                <a:ext cx="2117520" cy="792000"/>
              </a:xfrm>
              <a:prstGeom prst="diamond">
                <a:avLst/>
              </a:prstGeom>
              <a:solidFill>
                <a:srgbClr val="cc99ff"/>
              </a:solidFill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2627280" y="2781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Times New Roman"/>
                </a:rPr>
                <a:t>(1)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82920" y="28526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Times New Roman"/>
                </a:rPr>
                <a:t>(2)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15280" y="2887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Times New Roman"/>
                </a:rPr>
                <a:t>(3)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539640" y="476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  <a:ea typeface="黑体"/>
              </a:rPr>
              <a:t>活动的铁门就是利用了四边形的不稳定性，而在木栅栏上加钉斜木条构成了三角形，是为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利用三角形的稳定性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55640" y="2467080"/>
            <a:ext cx="7848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3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68360" y="14842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Times New Roman"/>
              </a:rPr>
              <a:t>1.</a:t>
            </a:r>
            <a:r>
              <a:rPr b="1" lang="zh-CN" sz="2000" spc="-1" strike="noStrike">
                <a:solidFill>
                  <a:srgbClr val="006699"/>
                </a:solidFill>
                <a:latin typeface="Times New Roman"/>
              </a:rPr>
              <a:t>一个多边形的每一个外角都等于</a:t>
            </a:r>
            <a:r>
              <a:rPr b="1" lang="zh-CN" sz="2000" spc="-1" strike="noStrike">
                <a:solidFill>
                  <a:srgbClr val="006699"/>
                </a:solidFill>
                <a:latin typeface="Times New Roman"/>
              </a:rPr>
              <a:t>45°</a:t>
            </a:r>
            <a:r>
              <a:rPr b="1" lang="zh-CN" sz="2000" spc="-1" strike="noStrike">
                <a:solidFill>
                  <a:srgbClr val="006699"/>
                </a:solidFill>
                <a:latin typeface="Times New Roman"/>
              </a:rPr>
              <a:t>，这个多边形是几边形？它的每一个内角是多少度？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24000" y="260280"/>
            <a:ext cx="1981080" cy="838080"/>
            <a:chOff x="324000" y="260280"/>
            <a:chExt cx="1981080" cy="838080"/>
          </a:xfrm>
        </p:grpSpPr>
        <p:sp>
          <p:nvSpPr>
            <p:cNvPr id="351" name=""/>
            <p:cNvSpPr/>
            <p:nvPr/>
          </p:nvSpPr>
          <p:spPr>
            <a:xfrm>
              <a:off x="324000" y="260280"/>
              <a:ext cx="1981080" cy="838080"/>
            </a:xfrm>
            <a:prstGeom prst="roundRect">
              <a:avLst>
                <a:gd name="adj" fmla="val 40907"/>
              </a:avLst>
            </a:prstGeom>
            <a:gradFill rotWithShape="0">
              <a:gsLst>
                <a:gs pos="0">
                  <a:srgbClr val="6e7461"/>
                </a:gs>
                <a:gs pos="50000">
                  <a:srgbClr val="ffffcc"/>
                </a:gs>
                <a:gs pos="100000">
                  <a:srgbClr val="6e7461"/>
                </a:gs>
              </a:gsLst>
              <a:lin ang="5400000"/>
            </a:gra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566640" y="384120"/>
              <a:ext cx="1447560" cy="57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练 习</a:t>
              </a:r>
              <a:endPara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3059280" y="23954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八边形    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356000" y="3213000"/>
          <a:ext cx="2089080" cy="76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3213000"/>
                    <a:ext cx="20890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3564000" y="4149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Times New Roman"/>
              </a:rPr>
              <a:t>解得  </a:t>
            </a: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=8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3564000" y="4869000"/>
          <a:ext cx="2232000" cy="77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4869000"/>
                    <a:ext cx="2232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564000" y="598500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外角＝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180°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150°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30°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30200" y="33195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因为正多边形所以有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6920" y="2349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616120" y="1892160"/>
          <a:ext cx="914400" cy="19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16120" y="1892160"/>
                    <a:ext cx="91440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4" name="" descr=""/>
          <p:cNvPicPr/>
          <p:nvPr/>
        </p:nvPicPr>
        <p:blipFill>
          <a:blip r:embed="rId8"/>
          <a:stretch/>
        </p:blipFill>
        <p:spPr>
          <a:xfrm>
            <a:off x="324000" y="4365720"/>
            <a:ext cx="259236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39640" y="40464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正十二边形的每一个内角是多少度？每一个外角是多少度？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71640" y="148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60720" y="1413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由多边形内角和公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33800" y="2133720"/>
            <a:ext cx="30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180°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1800°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29242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∵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正十二边形每个内角都相等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067280" y="3716280"/>
          <a:ext cx="1512720" cy="78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3716280"/>
                    <a:ext cx="15127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3276720" y="5013360"/>
            <a:ext cx="38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每个外角＝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180°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150°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30°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23763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3:43:48Z</dcterms:created>
  <dc:creator/>
  <dc:description/>
  <dc:language>en-US</dc:language>
  <cp:lastModifiedBy>微软用户</cp:lastModifiedBy>
  <dcterms:modified xsi:type="dcterms:W3CDTF">2012-08-03T02:36:54Z</dcterms:modified>
  <cp:revision>2</cp:revision>
  <dc:subject/>
  <dc:title>12999数学网 www.12999.com</dc:title>
</cp:coreProperties>
</file>