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3.png" ContentType="image/png"/>
  <Override PartName="/ppt/media/image10.gif" ContentType="image/gif"/>
  <Override PartName="/ppt/media/image17.png" ContentType="image/png"/>
  <Override PartName="/ppt/media/image16.png" ContentType="image/png"/>
  <Override PartName="/ppt/media/image7.gif" ContentType="image/gif"/>
  <Override PartName="/ppt/media/image18.png" ContentType="image/png"/>
  <Override PartName="/ppt/media/image15.gif" ContentType="image/gif"/>
  <Override PartName="/ppt/media/image1.jpeg" ContentType="image/jpeg"/>
  <Override PartName="/ppt/media/image2.wmf" ContentType="image/x-wmf"/>
  <Override PartName="/ppt/media/image12.png" ContentType="image/png"/>
  <Override PartName="/ppt/media/image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58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a58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2720" y="2061720"/>
            <a:ext cx="640872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4.1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随机事件与可能性</a:t>
            </a:r>
            <a:endParaRPr b="0" lang="en-US" sz="32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12720" y="3357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914400" y="1219320"/>
            <a:ext cx="1371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问：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819520" y="1676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张彩票，那么你一定能买到一等奖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1219320" y="2971800"/>
            <a:ext cx="9428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beve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答：</a:t>
            </a:r>
            <a:endParaRPr b="1" lang="en-US" sz="1800" spc="1" strike="noStrike">
              <a:ln w="9360">
                <a:solidFill>
                  <a:srgbClr val="cc99ff"/>
                </a:solidFill>
                <a:beve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209680" y="33526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买到一等奖有可能发生，也有可能不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627280" y="479736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3d00"/>
                </a:solidFill>
                <a:latin typeface="Times New Roman"/>
              </a:rPr>
              <a:t>这是随机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s001"/>
          <p:cNvPicPr/>
          <p:nvPr/>
        </p:nvPicPr>
        <p:blipFill>
          <a:blip r:embed="rId2"/>
          <a:stretch/>
        </p:blipFill>
        <p:spPr>
          <a:xfrm>
            <a:off x="7162920" y="2514600"/>
            <a:ext cx="1234800" cy="1554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857160" y="4857840"/>
            <a:ext cx="18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必然事件：</a:t>
            </a:r>
            <a:endParaRPr b="0" lang="en-US" sz="32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2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58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da5800"/>
                </a:solidFill>
                <a:latin typeface="Arial"/>
              </a:rPr>
              <a:t>在一定条件下重复进行试验时，有的事件在每次试验中必然会发生。</a:t>
            </a: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326840" y="3141720"/>
            <a:ext cx="756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定条件下重复进行试验时，有的事件是不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78280" y="2513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可能事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67480" y="5157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随机事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067640" y="6021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定条件下，可能发生也可能不发生的事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418640" y="43657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必然事件与不可能事件统称为确定性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79280" y="-255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5280" y="260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3300"/>
                </a:solidFill>
                <a:latin typeface="Arial"/>
              </a:rPr>
              <a:t>练一练，看谁做得快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195280" y="1125360"/>
            <a:ext cx="5087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出下列事件中，哪些是必然发生的，哪些是不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生的，哪些是随机事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常加热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水沸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篮球队员在罚球线上投篮时，未投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掷一次骰子，向上的一面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度量三角形的内角和，结果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城市中某一有交通信号灯的路口，遇到红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射击运动员射击一次，命中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300360" y="198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必然事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249680" y="28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随机事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964560" y="443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不可能事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58944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随机事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16600" y="5734080"/>
            <a:ext cx="23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随机事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516720" y="6338880"/>
            <a:ext cx="23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随机事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活动四：</a:t>
            </a:r>
            <a:r>
              <a:rPr b="1" lang="zh-CN" sz="2800" spc="-1" strike="noStrike">
                <a:solidFill>
                  <a:srgbClr val="da5800"/>
                </a:solidFill>
                <a:latin typeface="Arial"/>
              </a:rPr>
              <a:t>袋子中装有</a:t>
            </a:r>
            <a:r>
              <a:rPr b="1" lang="en-US" sz="2800" spc="-1" strike="noStrike">
                <a:solidFill>
                  <a:srgbClr val="da58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da5800"/>
                </a:solidFill>
                <a:latin typeface="Arial"/>
              </a:rPr>
              <a:t>个黑球</a:t>
            </a:r>
            <a:r>
              <a:rPr b="1" lang="en-US" sz="28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da5800"/>
                </a:solidFill>
                <a:latin typeface="Arial"/>
              </a:rPr>
              <a:t>个白球，这些球形状、大小、质地等完全相同，在看不到球的条件下，随机地从袋子中摸出一个球。</a:t>
            </a: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09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5800"/>
                </a:solidFill>
                <a:latin typeface="Arial"/>
              </a:rPr>
              <a:t>⑴</a:t>
            </a:r>
            <a:r>
              <a:rPr b="1" lang="zh-CN" sz="1800" spc="-1" strike="noStrike">
                <a:solidFill>
                  <a:srgbClr val="da5800"/>
                </a:solidFill>
                <a:latin typeface="Arial"/>
              </a:rPr>
              <a:t>摸出的这个球是白球还是黑球？</a:t>
            </a:r>
            <a:endParaRPr b="0" lang="en-US" sz="1800" spc="-1" strike="noStrike">
              <a:solidFill>
                <a:srgbClr val="da58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58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a58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5800"/>
                </a:solidFill>
                <a:latin typeface="Arial"/>
              </a:rPr>
              <a:t>⑵</a:t>
            </a:r>
            <a:r>
              <a:rPr b="1" lang="zh-CN" sz="1800" spc="-1" strike="noStrike">
                <a:solidFill>
                  <a:srgbClr val="da5800"/>
                </a:solidFill>
                <a:latin typeface="Arial"/>
              </a:rPr>
              <a:t>如果两种球都有可能被摸出，那么“摸出黑球”和“摸出白球”的可能性一样大吗？</a:t>
            </a:r>
            <a:endParaRPr b="0" lang="en-US" sz="1800" spc="-1" strike="noStrike">
              <a:solidFill>
                <a:srgbClr val="da58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58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58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3839400" y="4365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试着做一做，再讨论一下，结果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268000" y="234936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大家通过实践，不难发现，摸出的这个球可能是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球，也有可能是黑球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2212200" y="5084640"/>
            <a:ext cx="535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由于两种球的数量不等，所以“摸出黑球”和“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出白球”的可能性的大小是不一样的，且“摸出黑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的可能性大于“摸出白球”的可能性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通过从袋中摸球的实验，你能得到什么启示？</a:t>
            </a:r>
            <a:endParaRPr b="0" lang="en-US" sz="32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115" name="WordArt 5" descr=""/>
          <p:cNvPicPr/>
          <p:nvPr/>
        </p:nvPicPr>
        <p:blipFill>
          <a:blip r:embed="rId1"/>
          <a:stretch/>
        </p:blipFill>
        <p:spPr>
          <a:xfrm>
            <a:off x="3054240" y="1920960"/>
            <a:ext cx="4919760" cy="2992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4030200" y="2708280"/>
            <a:ext cx="110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般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66ff66"/>
                </a:solidFill>
                <a:latin typeface="Arial"/>
              </a:rPr>
              <a:t>、随机事件发生的可能性是有大小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66ff66"/>
                </a:solidFill>
                <a:latin typeface="Arial"/>
              </a:rPr>
              <a:t>、不同的随机事件发生的可能性的大小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66ff66"/>
                </a:solidFill>
                <a:latin typeface="Arial"/>
              </a:rPr>
              <a:t>可能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， 一个质地均匀的小正方体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面，其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面涂成红色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面涂成黄色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面涂成蓝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桌面掷这个小正方体，正面朝上的颜色可能出现哪些结果？这些结果发生的可能性一样大吗？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021"/>
                </a:solidFill>
                <a:latin typeface="Arial"/>
              </a:rPr>
              <a:t>解  小正方体落在桌面上，可能出现：“红色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021"/>
                </a:solidFill>
                <a:latin typeface="Arial"/>
              </a:rPr>
              <a:t>朝上”、“黄色朝上”、“蓝色朝上”</a:t>
            </a:r>
            <a:r>
              <a:rPr b="0" lang="zh-CN" sz="2000" spc="-1" strike="noStrike">
                <a:solidFill>
                  <a:srgbClr val="ff9021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9021"/>
                </a:solidFill>
                <a:latin typeface="Arial"/>
              </a:rPr>
              <a:t>种情况</a:t>
            </a:r>
            <a:r>
              <a:rPr b="0" lang="zh-CN" sz="2000" spc="-1" strike="noStrike">
                <a:solidFill>
                  <a:srgbClr val="ff902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021"/>
                </a:solidFill>
                <a:latin typeface="Arial"/>
              </a:rPr>
              <a:t>由于小正方体涂成蓝色的面最多，黄色次之，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021"/>
                </a:solidFill>
                <a:latin typeface="Arial"/>
              </a:rPr>
              <a:t>红色最少，因此，发生“蓝色朝上”的可能性最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021"/>
                </a:solidFill>
                <a:latin typeface="Arial"/>
              </a:rPr>
              <a:t>大，发生“黄色朝上”的可能性次之，发生“红色朝上”的可能性最小</a:t>
            </a:r>
            <a:r>
              <a:rPr b="0" lang="zh-CN" sz="2000" spc="-1" strike="noStrike">
                <a:solidFill>
                  <a:srgbClr val="ff902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6156360" y="2781360"/>
            <a:ext cx="2190600" cy="20286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4645080" y="5373720"/>
            <a:ext cx="3384360" cy="1584360"/>
          </a:xfrm>
          <a:prstGeom prst="cloudCallout">
            <a:avLst>
              <a:gd name="adj1" fmla="val -59263"/>
              <a:gd name="adj2" fmla="val 48509"/>
            </a:avLst>
          </a:prstGeom>
          <a:solidFill>
            <a:srgbClr val="963d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505480" y="5445000"/>
            <a:ext cx="182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dac0"/>
                </a:solidFill>
                <a:latin typeface="Arial"/>
              </a:rPr>
              <a:t>想一想，若请你来设计这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dac0"/>
                </a:solidFill>
                <a:latin typeface="Arial"/>
              </a:rPr>
              <a:t>小正方形的颜色，你有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dac0"/>
                </a:solidFill>
                <a:latin typeface="Arial"/>
              </a:rPr>
              <a:t>办法可使得“红色朝上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dac0"/>
                </a:solidFill>
                <a:latin typeface="Arial"/>
              </a:rPr>
              <a:t>、“黄色朝上”、“蓝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dac0"/>
                </a:solidFill>
                <a:latin typeface="Arial"/>
              </a:rPr>
              <a:t>朝上”的可能性一样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00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80024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袋子中装有许多大小、质地都相同的球，搅均匀后，从中取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球，发现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红球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白球；将取出的球放回后搅乱，又取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球，发现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红球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白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是否可以认为袋中的红球有可能比红球多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能否肯定袋中的红球一定比白球多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袋中还可能有其他颜色的球吗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324000" y="765000"/>
            <a:ext cx="4824360" cy="2880000"/>
          </a:xfrm>
          <a:prstGeom prst="cloudCallout">
            <a:avLst>
              <a:gd name="adj1" fmla="val 54185"/>
              <a:gd name="adj2" fmla="val 47000"/>
            </a:avLst>
          </a:prstGeom>
          <a:solidFill>
            <a:srgbClr val="963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5292720" y="3933720"/>
            <a:ext cx="3382920" cy="1943280"/>
          </a:xfrm>
          <a:prstGeom prst="cloudCallout">
            <a:avLst>
              <a:gd name="adj1" fmla="val -78541"/>
              <a:gd name="adj2" fmla="val 36453"/>
            </a:avLst>
          </a:prstGeom>
          <a:solidFill>
            <a:srgbClr val="963d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044720" y="1125360"/>
            <a:ext cx="36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e9d3"/>
                </a:solidFill>
                <a:latin typeface="Arial"/>
              </a:rPr>
              <a:t>从两次取球的情况分析 ，因为每次取的红球多，所以我猜想袋中的红球很可能比白球多，因此取得红球的可能性大；但每次取球都是搅乱后随意取出的，不可避免带有偶然性，所以不能绝对肯定红球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e9d3"/>
                </a:solidFill>
                <a:latin typeface="Arial"/>
              </a:rPr>
              <a:t>定比白球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848200" y="4227480"/>
            <a:ext cx="22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e9d3"/>
                </a:solidFill>
                <a:latin typeface="Arial"/>
              </a:rPr>
              <a:t>取球有一定的偶然性，因此袋中有可能还有其它颜色的球，只是这两次取球还没有取到它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较下列随机事件发生的可能性大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图，一个能自由转动的转盘，指针指向红色区域和指向白色区域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小明和小亮做掷硬币的游戏，他们商定：将一枚硬币掷两次，如果两次朝上的面相同，那么小明获胜；如果两次朝上的面不同，那么小亮获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谁获胜的可能性大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>
            <a:biLevel thresh="50000"/>
            <a:lum bright="12000"/>
          </a:blip>
          <a:stretch/>
        </p:blipFill>
        <p:spPr>
          <a:xfrm>
            <a:off x="6156360" y="2565360"/>
            <a:ext cx="15685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971640" y="3284640"/>
            <a:ext cx="489564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答：指向白色区域的可能性比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260360" y="6021360"/>
            <a:ext cx="489600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答：小亮获胜的可能性比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扑克牌中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黑桃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方片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红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中任意抽取一张，抽到哪一种花色牌的可能性最大？抽到哪一种花色牌的可能性最小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2720" y="3502080"/>
            <a:ext cx="741204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答：抽到红桃的可能性最大；抽到方片的可能性最小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5800"/>
                </a:solidFill>
                <a:latin typeface="Arial"/>
              </a:rPr>
              <a:t>活动一：我校</a:t>
            </a:r>
            <a:r>
              <a:rPr b="0" lang="en-US" sz="3200" spc="-1" strike="noStrike">
                <a:solidFill>
                  <a:srgbClr val="da5800"/>
                </a:solidFill>
                <a:latin typeface="Arial"/>
              </a:rPr>
              <a:t>2006</a:t>
            </a:r>
            <a:r>
              <a:rPr b="0" lang="zh-CN" sz="3200" spc="-1" strike="noStrike">
                <a:solidFill>
                  <a:srgbClr val="da58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da58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da5800"/>
                </a:solidFill>
                <a:latin typeface="Arial"/>
              </a:rPr>
              <a:t>月体育室新添置部分球类器材，数量如下表所示：</a:t>
            </a:r>
            <a:endParaRPr b="0" lang="en-US" sz="32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4920" y="285228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8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a5800"/>
                </a:solidFill>
                <a:latin typeface="Arial"/>
              </a:rPr>
              <a:t>试计算并回答：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144000" indent="-144000">
              <a:lnSpc>
                <a:spcPct val="8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a5800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da5800"/>
                </a:solidFill>
                <a:latin typeface="Arial"/>
              </a:rPr>
              <a:t>　学校一共添置了多少个球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144000" indent="-144000">
              <a:lnSpc>
                <a:spcPct val="8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a5800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da5800"/>
                </a:solidFill>
                <a:latin typeface="Arial"/>
              </a:rPr>
              <a:t>哪种球在添置的器材中所占的比例最大？哪种又最小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144000" indent="-144000">
              <a:lnSpc>
                <a:spcPct val="8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a5800"/>
                </a:solidFill>
                <a:latin typeface="Arial"/>
              </a:rPr>
              <a:t>⑶</a:t>
            </a:r>
            <a:r>
              <a:rPr b="1" lang="zh-CN" sz="2400" spc="-1" strike="noStrike">
                <a:solidFill>
                  <a:srgbClr val="da5800"/>
                </a:solidFill>
                <a:latin typeface="Arial"/>
              </a:rPr>
              <a:t>我班同学在上体育课时，想在体育室领取新添的球类中，可以领到排球吗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144000" indent="-144000">
              <a:lnSpc>
                <a:spcPct val="8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a5800"/>
                </a:solidFill>
                <a:latin typeface="Arial"/>
              </a:rPr>
              <a:t>⑷</a:t>
            </a:r>
            <a:r>
              <a:rPr b="1" lang="zh-CN" sz="2400" spc="-1" strike="noStrike">
                <a:solidFill>
                  <a:srgbClr val="da5800"/>
                </a:solidFill>
                <a:latin typeface="Arial"/>
              </a:rPr>
              <a:t>若在上体育课时，想在新添置的球中选取一种球，可以有几种方法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1341360"/>
          <a:ext cx="7991280" cy="1354320"/>
        </p:xfrm>
        <a:graphic>
          <a:graphicData uri="http://schemas.openxmlformats.org/drawingml/2006/table">
            <a:tbl>
              <a:tblPr/>
              <a:tblGrid>
                <a:gridCol w="1996920"/>
                <a:gridCol w="1378080"/>
                <a:gridCol w="1520640"/>
                <a:gridCol w="1555920"/>
                <a:gridCol w="1539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微软雅黑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微软雅黑"/>
                        </a:rPr>
                        <a:t>篮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微软雅黑"/>
                        </a:rPr>
                        <a:t>乒乓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微软雅黑"/>
                        </a:rPr>
                        <a:t>足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微软雅黑"/>
                        </a:rPr>
                        <a:t>羽毛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微软雅黑"/>
                        </a:rPr>
                        <a:t>数量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a5800"/>
                          </a:solidFill>
                          <a:latin typeface="Arial"/>
                          <a:ea typeface="微软雅黑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a5800"/>
                          </a:solidFill>
                          <a:latin typeface="Arial"/>
                          <a:ea typeface="微软雅黑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a5800"/>
                          </a:solidFill>
                          <a:latin typeface="Arial"/>
                          <a:ea typeface="微软雅黑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a5800"/>
                          </a:solidFill>
                          <a:latin typeface="Arial"/>
                          <a:ea typeface="微软雅黑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2"/>
          <p:cNvSpPr/>
          <p:nvPr/>
        </p:nvSpPr>
        <p:spPr>
          <a:xfrm>
            <a:off x="5364000" y="3141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68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1565280" y="4149720"/>
            <a:ext cx="65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乒乓球所占比例最大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9.5%)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足球所占的比例最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.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4"/>
          <p:cNvSpPr/>
          <p:nvPr/>
        </p:nvSpPr>
        <p:spPr>
          <a:xfrm>
            <a:off x="4769640" y="50846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可能，因为新添的球类中没有排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5216760" y="6199200"/>
            <a:ext cx="591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有四种，挑选其中的任意一种都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4320" y="1058400"/>
            <a:ext cx="342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385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生活是数学的源泉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da58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139" name="Picture 5" descr="gif1450"/>
            <p:cNvPicPr/>
            <p:nvPr/>
          </p:nvPicPr>
          <p:blipFill>
            <a:blip r:embed="rId2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6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141" name="AutoShape 7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8"/>
              <p:cNvSpPr/>
              <p:nvPr/>
            </p:nvSpPr>
            <p:spPr>
              <a:xfrm>
                <a:off x="6419520" y="11916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Text Box 9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WordArt 10" descr=""/>
          <p:cNvPicPr/>
          <p:nvPr/>
        </p:nvPicPr>
        <p:blipFill>
          <a:blip r:embed="rId4"/>
          <a:stretch/>
        </p:blipFill>
        <p:spPr>
          <a:xfrm>
            <a:off x="3054240" y="4230720"/>
            <a:ext cx="2803680" cy="2163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457200" y="3276720"/>
            <a:ext cx="838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ad5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探索是数学的生命线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005826175718623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2005826175718623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活动二：</a:t>
            </a:r>
            <a:r>
              <a:rPr b="1" lang="zh-CN" sz="2800" spc="-1" strike="noStrike">
                <a:solidFill>
                  <a:srgbClr val="da5800"/>
                </a:solidFill>
                <a:latin typeface="Arial"/>
              </a:rPr>
              <a:t>５名同学参加讲演比赛，以抽签方式决定每个人的出场顺序。签筒中有５根形状大小、完全相同的纸签，上面分别标有出场的序号１、２、３、４、５，小军首先抽签，他在看不到纸签上数字的情况下从筒中随机（任意）地取一根纸签，请考虑以下问题：</a:t>
            </a: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63480" y="2944800"/>
            <a:ext cx="700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有几种可能情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会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4360" y="342900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每次抽签的结果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种，每次不一定相同，可能是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的任意一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722320" y="465300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只能是这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张中的一张，序号肯定是小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460160" y="551664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抽到序号不会是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只会大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933200" y="6400800"/>
            <a:ext cx="49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抽到的序号可能是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也可能不是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但事先无法确定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j0232133"/>
          <p:cNvPicPr/>
          <p:nvPr/>
        </p:nvPicPr>
        <p:blipFill>
          <a:blip r:embed="rId2"/>
          <a:stretch/>
        </p:blipFill>
        <p:spPr>
          <a:xfrm>
            <a:off x="250920" y="371628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AR_065"/>
          <p:cNvPicPr/>
          <p:nvPr/>
        </p:nvPicPr>
        <p:blipFill>
          <a:blip r:embed="rId3"/>
          <a:stretch/>
        </p:blipFill>
        <p:spPr>
          <a:xfrm>
            <a:off x="108000" y="0"/>
            <a:ext cx="1485720" cy="752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20041221131236701"/>
          <p:cNvPicPr/>
          <p:nvPr/>
        </p:nvPicPr>
        <p:blipFill>
          <a:blip r:embed="rId4"/>
          <a:stretch/>
        </p:blipFill>
        <p:spPr>
          <a:xfrm>
            <a:off x="1547640" y="836640"/>
            <a:ext cx="5977080" cy="508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0066233225817521"/>
          <p:cNvPicPr/>
          <p:nvPr/>
        </p:nvPicPr>
        <p:blipFill>
          <a:blip r:embed="rId5"/>
          <a:stretch/>
        </p:blipFill>
        <p:spPr>
          <a:xfrm>
            <a:off x="421164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20066233225817521"/>
          <p:cNvPicPr/>
          <p:nvPr/>
        </p:nvPicPr>
        <p:blipFill>
          <a:blip r:embed="rId6"/>
          <a:stretch/>
        </p:blipFill>
        <p:spPr>
          <a:xfrm>
            <a:off x="4788000" y="3429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395280" y="765000"/>
            <a:ext cx="165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我们一起玩</a:t>
            </a:r>
            <a:endParaRPr b="1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987640" y="3645000"/>
            <a:ext cx="3808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67520" y="26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73800" y="1380960"/>
            <a:ext cx="481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活动二抽签过程中，能抽到的序号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活动三掷骼子过程中，能掷出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746800" y="366552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能，这些事件都必然会发生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811520" y="4508640"/>
            <a:ext cx="518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3d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63d00"/>
                </a:solidFill>
                <a:latin typeface="Arial"/>
              </a:rPr>
              <a:t>象以上的这些事件，在实验过程中是必然会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3d00"/>
                </a:solidFill>
                <a:latin typeface="Arial"/>
              </a:rPr>
              <a:t>生的。我们称之为必然事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685800" y="99072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ff0066"/>
                </a:solidFill>
                <a:latin typeface="宋体"/>
              </a:rPr>
              <a:t>问：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14600" y="1981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块铁放入水中，会不会下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627280" y="5084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021"/>
                </a:solidFill>
                <a:latin typeface="Times New Roman"/>
              </a:rPr>
              <a:t>这是必然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762120" y="28195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da58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答：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da58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286000" y="3276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铁</a:t>
            </a:r>
            <a:r>
              <a:rPr b="1" lang="zh-CN" sz="3200" spc="-1" strike="noStrike">
                <a:solidFill>
                  <a:srgbClr val="ff9021"/>
                </a:solidFill>
                <a:latin typeface="Times New Roman"/>
              </a:rPr>
              <a:t>必然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会沉入水中，即</a:t>
            </a:r>
            <a:r>
              <a:rPr b="1" lang="en-US" sz="3200" spc="-1" strike="noStrike">
                <a:solidFill>
                  <a:srgbClr val="ff9021"/>
                </a:solidFill>
                <a:latin typeface="Times New Roman"/>
              </a:rPr>
              <a:t>100%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沉入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043"/>
          <p:cNvPicPr/>
          <p:nvPr/>
        </p:nvPicPr>
        <p:blipFill>
          <a:blip r:embed="rId2"/>
          <a:stretch/>
        </p:blipFill>
        <p:spPr>
          <a:xfrm>
            <a:off x="4800600" y="609480"/>
            <a:ext cx="1463760" cy="1336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468360" y="501336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行楷"/>
              </a:rPr>
              <a:t>结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2034720" y="1236600"/>
            <a:ext cx="502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活动一领取体育器材过程中，想在体育室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取新添的球类（篮球、乒乓球、足球、羽毛球）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领到排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活动二抽签过程中，能抽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的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活动三掷骼子过程中，能掷出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点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67520" y="26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99400" y="373680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不能，都不可能发生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722240" y="4602240"/>
            <a:ext cx="539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3d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63d00"/>
                </a:solidFill>
                <a:latin typeface="Arial"/>
              </a:rPr>
              <a:t>象这样的事件，在实验过程中是不可能发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3d00"/>
                </a:solidFill>
                <a:latin typeface="Arial"/>
              </a:rPr>
              <a:t>我们称之为不可能事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914400" y="990720"/>
            <a:ext cx="1614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问：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666880" y="1413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跑一百米只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秒钟，信不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WordArt 4" descr="白色大理石"/>
          <p:cNvPicPr/>
          <p:nvPr/>
        </p:nvPicPr>
        <p:blipFill>
          <a:blip r:embed="rId4"/>
          <a:stretch/>
        </p:blipFill>
        <p:spPr>
          <a:xfrm>
            <a:off x="895320" y="3103560"/>
            <a:ext cx="1298520" cy="950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895480" y="3581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绝对不可能，即可能性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627280" y="50846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021"/>
                </a:solidFill>
                <a:latin typeface="Times New Roman"/>
              </a:rPr>
              <a:t>这是不可能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r146"/>
          <p:cNvPicPr/>
          <p:nvPr/>
        </p:nvPicPr>
        <p:blipFill>
          <a:blip r:embed="rId5"/>
          <a:stretch/>
        </p:blipFill>
        <p:spPr>
          <a:xfrm>
            <a:off x="4419720" y="1981080"/>
            <a:ext cx="1981080" cy="1352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468360" y="501336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行楷"/>
              </a:rPr>
              <a:t>结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11080" y="1236600"/>
            <a:ext cx="571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活动一领取体育器材过程中，想在体育室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取新添的球类（篮球、乒乓球、足球、羽毛球）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领到篮球吗？乒乓球、足球、羽毛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活动二抽签过程中，能抽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的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活动三掷骼子过程中，能掷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点数吗？还有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点（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7520" y="26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326320" y="481824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能，或者不能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3520" y="5394240"/>
            <a:ext cx="561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3d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63d00"/>
                </a:solidFill>
                <a:latin typeface="Arial"/>
              </a:rPr>
              <a:t>象这样的事件，在实验过程中是可能发生的，也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3d00"/>
                </a:solidFill>
                <a:latin typeface="Arial"/>
              </a:rPr>
              <a:t>能不发生。我们称之为随机事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徐华昌</cp:lastModifiedBy>
  <dcterms:modified xsi:type="dcterms:W3CDTF">2015-07-30T05:21:33Z</dcterms:modified>
  <cp:revision>3</cp:revision>
  <dc:subject/>
  <dc:title>4.1 随机事件与可能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