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58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a58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2720" y="2061720"/>
            <a:ext cx="640872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a5800"/>
                </a:solidFill>
                <a:latin typeface="Arial"/>
              </a:rPr>
              <a:t>4.2.1  </a:t>
            </a:r>
            <a:r>
              <a:rPr b="1" lang="zh-CN" sz="3600" spc="-1" strike="noStrike">
                <a:solidFill>
                  <a:srgbClr val="da5800"/>
                </a:solidFill>
                <a:latin typeface="Arial"/>
              </a:rPr>
              <a:t>概率的概念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假定按同一种方式掷两枚均匀硬币，如果第一枚出现正面（即正面朝上），第二枚出现反面，就记为</a:t>
            </a:r>
            <a:endParaRPr b="0" lang="en-US" sz="2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正，反），如此类推（如图）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写出掷两枚硬币的所有可能结果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写出下列随机事件发生的所有可能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“两枚都出现反面”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“一枚出现正面、一枚出现反面”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“至少有一枚出现反面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“求事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,B,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概率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7164360" y="1486080"/>
            <a:ext cx="1655640" cy="1552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7164360" y="3141720"/>
            <a:ext cx="17557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da5800"/>
                </a:solidFill>
                <a:latin typeface="Arial"/>
              </a:rPr>
              <a:t>解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掷两枚均匀硬币，所有可能的结果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个，即（正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正），（正，反），（反，正），（反，反），而且这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中结果出现的可能性相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事件发生的所有可能结果分别是：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:(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反，反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B: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正，反），（反，正）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C: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反，正），（正，反），（反，反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由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、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可知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(A)=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 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(B)=         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=    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5435640" y="5013360"/>
                <a:ext cx="216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7093080" y="5013360"/>
                <a:ext cx="6476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2050920" y="5518080"/>
                <a:ext cx="216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17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练一练：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002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掷一枚均匀的骰子，骰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面分别刻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,2,3,4,5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，求下列事件的概率：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点数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点数为偶数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点数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点数大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只自由飞行的小鸟，将随意地落在如图所示的方格地面上（每个小方格都是边长相等的正方形），则小鸟落在阴影方格地面上的概率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2989440" y="2062080"/>
                <a:ext cx="222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3348000" y="2492280"/>
                <a:ext cx="222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3851280" y="3502080"/>
                <a:ext cx="222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7"/>
          <p:cNvSpPr/>
          <p:nvPr/>
        </p:nvSpPr>
        <p:spPr>
          <a:xfrm>
            <a:off x="313308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7164360" y="5445000"/>
            <a:ext cx="1047600" cy="99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5003640" y="5157720"/>
                <a:ext cx="2224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4320" y="1058400"/>
            <a:ext cx="342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385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生活是数学的源泉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da58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108" name="Picture 5" descr="gif1450"/>
            <p:cNvPicPr/>
            <p:nvPr/>
          </p:nvPicPr>
          <p:blipFill>
            <a:blip r:embed="rId1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Group 6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110" name="AutoShape 7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 Box 8"/>
              <p:cNvSpPr/>
              <p:nvPr/>
            </p:nvSpPr>
            <p:spPr>
              <a:xfrm>
                <a:off x="6419520" y="11916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 Box 9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WordArt 10" descr=""/>
          <p:cNvPicPr/>
          <p:nvPr/>
        </p:nvPicPr>
        <p:blipFill>
          <a:blip r:embed="rId3"/>
          <a:stretch/>
        </p:blipFill>
        <p:spPr>
          <a:xfrm>
            <a:off x="3054240" y="4230720"/>
            <a:ext cx="2803680" cy="2163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1"/>
          <p:cNvSpPr/>
          <p:nvPr/>
        </p:nvSpPr>
        <p:spPr>
          <a:xfrm>
            <a:off x="457200" y="3276720"/>
            <a:ext cx="838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ad5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探索是数学的生命线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2005826175718623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2005826175718623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a5800"/>
                </a:solidFill>
                <a:latin typeface="Arial"/>
              </a:rPr>
              <a:t>在同样的条件下，某一随机事件可能发生也可能不发生，那么它发生的可能性究竟有多大？能否用数值来进行刻画呢？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ff"/>
                </a:solidFill>
                <a:latin typeface="Arial"/>
              </a:rPr>
              <a:t>我们来看两个实验：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0" name="WordArt 4"/>
          <p:cNvSpPr txBox="1"/>
          <p:nvPr/>
        </p:nvSpPr>
        <p:spPr>
          <a:xfrm>
            <a:off x="828720" y="909720"/>
            <a:ext cx="244800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9000" y="28548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实验一：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一个箱子里放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白球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红球，它们除了颜色外，大小、质地都相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箱子中随机取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球，它可能是红球也可能是白球，那么谁的可能性更大一些呢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348000" y="3502080"/>
            <a:ext cx="5113440" cy="2663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240080" y="3787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于球的大小和质地都相同，又是随机摸取，所以每个球被取到的可能性是一样大的，很自然地，我们用      表示取到红球的可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性，同理，取到白球的可能性也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5076720" y="4581360"/>
                <a:ext cx="216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7"/>
              <p:cNvSpPr txBox="1"/>
              <p:nvPr/>
            </p:nvSpPr>
            <p:spPr>
              <a:xfrm>
                <a:off x="4645080" y="5445000"/>
                <a:ext cx="216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85720" y="28548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实验二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能自由转动的游戏转盘如图所示，红、黄、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扇形的圆心角度数均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0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让转盘自由转动，当它停止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，指针指向的区域可能是红色、黄色、绿色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情况中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那么指针指向那个区域的可能性更大呢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132000" y="3645000"/>
            <a:ext cx="5688000" cy="29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021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635280" y="4149720"/>
            <a:ext cx="461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于每个扇形的圆心角度数相同，对指针指向“红色区域”、“黄色区域”、“绿色区域”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件事件，发生的条件完全相同，所以出现每种情况的可能性大小相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很自然地，我们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表示指针指向红色区域、黄色区域和绿色区域可能性的大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4643280" y="5214960"/>
                <a:ext cx="216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琥珀"/>
              </a:rPr>
              <a:t>小  结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上述例子和其他大量例子表明，在随机现象中，出现的每一种结果的可能性大小，能够用一个不超过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的非负数来刻画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一般地，对于一个随机事件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我们把刻画其发生可能性大小的数值，称为随机事件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发生的概率，即为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例如，上述摸球实验中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(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摸出红球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)= 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(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摸出白球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)=   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又如，在转盘实验中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(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指针指向红色区域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)=  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6300720" y="3789360"/>
                <a:ext cx="287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1476360" y="4365720"/>
                <a:ext cx="287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6877080" y="4797360"/>
                <a:ext cx="2872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324000" y="404640"/>
            <a:ext cx="2089080" cy="1008360"/>
          </a:xfrm>
          <a:prstGeom prst="flowChartDecision">
            <a:avLst/>
          </a:prstGeom>
          <a:solidFill>
            <a:srgbClr val="ff9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动脑筋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分别写有数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,2,3,4,5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一样的小纸片捻成小纸团放进盒子里，摇匀后，随机取出一个小纸团，试问：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取出的序号可能出几种结果，每一个小纸团被取出的可能性一样吗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取出数字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什么事件？它的概率是多少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“取出数字小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什么事件？它的概率是多少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“取出数字小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什么事件？它的概率是多少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“取出数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什么事件？它的概率是多少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00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）在上实验中，可能取出序号为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1,2,3,4,5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中的任意一个小纸团，而且这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个小纸团被取出的可能性都相等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）“取出数字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3”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是随机事件，它包含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中可能结果中的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种可能结果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，因此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P(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取出数字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3)=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）“取出数字小于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4”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是随机事件，它包含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中可能结果的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种可能结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果，即取出数字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1,2,3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，因此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P(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取出数字小于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4)=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）“取出数字小于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6”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是必然事件，它包含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种可能结果，即取出数字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1,2,3,4,5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，无论取到其中的哪个数字都小于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，因此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,P(</a:t>
            </a: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取出数字小于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a5800"/>
                </a:solidFill>
                <a:latin typeface="Arial"/>
              </a:rPr>
              <a:t>6)=  =1.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286080" y="2143080"/>
                <a:ext cx="216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6072120" y="3571920"/>
                <a:ext cx="216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-25920"/>
            <a:ext cx="800244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a5800"/>
                </a:solidFill>
                <a:latin typeface="Arial"/>
                <a:ea typeface="华文琥珀"/>
              </a:rPr>
              <a:t>小   结：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76464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一般地，如果在一次实验中，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中可能的结果，其中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每一种结果发生的可能性相等，那么出现每一种结果的概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率都是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如果事件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包含其中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种可能结果，那么事件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发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生的概率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971640" y="2781360"/>
                <a:ext cx="42926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AutoShape 5"/>
          <p:cNvSpPr/>
          <p:nvPr/>
        </p:nvSpPr>
        <p:spPr>
          <a:xfrm rot="16140000">
            <a:off x="3177000" y="2878560"/>
            <a:ext cx="126720" cy="1944720"/>
          </a:xfrm>
          <a:custGeom>
            <a:avLst/>
            <a:gdLst>
              <a:gd name="textAreaLeft" fmla="*/ 81000 w 126720"/>
              <a:gd name="textAreaRight" fmla="*/ 127080 w 12672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629080" y="39337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5219640" y="270792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148360" y="3718080"/>
            <a:ext cx="865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6084720" y="2421000"/>
            <a:ext cx="18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含的可能结果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084720" y="3357720"/>
            <a:ext cx="18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次实验所有可能出现的结果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8028000" y="278136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da5800"/>
                </a:solidFill>
                <a:latin typeface="Wingdings"/>
                <a:ea typeface="Wingdings"/>
              </a:rPr>
              <a:t>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式中，由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m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的含义可知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0≤m≤n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因此               ，即                  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特别地，当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为必然事件时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(A) =1;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当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为不可能事件时，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P(A)=0.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事件发生的概率越大，则该事件就越有可能发生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7020000" y="1557360"/>
                <a:ext cx="1225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1403280" y="2133720"/>
                <a:ext cx="1919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Text Box 7"/>
          <p:cNvSpPr/>
          <p:nvPr/>
        </p:nvSpPr>
        <p:spPr>
          <a:xfrm>
            <a:off x="900000" y="501336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可能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187280" y="55180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概率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156360" y="48690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必然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156360" y="544500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概率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629080" y="4797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件发生的可能性越来越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700360" y="5734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件发生的可能性越来越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箭头 120"/>
          <p:cNvSpPr/>
          <p:nvPr/>
        </p:nvSpPr>
        <p:spPr>
          <a:xfrm>
            <a:off x="2340000" y="5157720"/>
            <a:ext cx="381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箭头 122"/>
          <p:cNvSpPr/>
          <p:nvPr/>
        </p:nvSpPr>
        <p:spPr>
          <a:xfrm flipH="1">
            <a:off x="2268000" y="5661000"/>
            <a:ext cx="381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2124000" y="54450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徐华昌</cp:lastModifiedBy>
  <dcterms:modified xsi:type="dcterms:W3CDTF">2015-07-30T05:22:38Z</dcterms:modified>
  <cp:revision>4</cp:revision>
  <dc:subject/>
  <dc:title>4.2.1  概率的概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