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6.png" ContentType="image/png"/>
  <Override PartName="/ppt/media/image11.png" ContentType="image/png"/>
  <Override PartName="/ppt/media/image8.gif" ContentType="image/gif"/>
  <Override PartName="/ppt/media/image9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4.2.2  </a:t>
            </a: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用列举法求概率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12720" y="3357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58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da5800"/>
                </a:solidFill>
                <a:latin typeface="Arial"/>
              </a:rPr>
              <a:t>课时  用树状图法求概率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24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6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26" name="AutoShape 7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8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9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WordArt 10" descr=""/>
          <p:cNvPicPr/>
          <p:nvPr/>
        </p:nvPicPr>
        <p:blipFill>
          <a:blip r:embed="rId4"/>
          <a:stretch/>
        </p:blipFill>
        <p:spPr>
          <a:xfrm>
            <a:off x="3054240" y="4230720"/>
            <a:ext cx="2803680" cy="2163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ad5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2005826175718623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200582617571862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动脑筋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明和小华做“剪刀、石头、布”游戏，游戏规则是：若两人出的不同，则石头胜剪刀、剪刀胜布、布胜石头；若两人出的相同，则为平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怎样表示和列举一次游戏的所有可能的结果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指定事件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: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明胜”；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: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华胜”；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: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局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事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概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42800" y="42840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了不重不漏地列出所有可能的结果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了列表法，我们还可以借助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树状图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4071600"/>
            <a:ext cx="80024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一次游戏共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个可能结果，而且它们出现的可能性相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>
            <a:biLevel thresh="50000"/>
            <a:lum bright="-10000"/>
          </a:blip>
          <a:stretch/>
        </p:blipFill>
        <p:spPr>
          <a:xfrm>
            <a:off x="1071720" y="1714680"/>
            <a:ext cx="52941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所有可能结果：（石头，剪刀），（剪刀，布），（布，石头）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所有可能结果：（石头，布），（剪刀，石头），（布，剪刀）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所有可能结果：（石头，石头），（剪刀，剪刀），（布，布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因此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A)=               P(B)=                     P(C)=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2268360" y="4510080"/>
                <a:ext cx="63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4356000" y="4437000"/>
                <a:ext cx="631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6804000" y="4437000"/>
                <a:ext cx="631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6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16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16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800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，甲、乙、丙三人做传球的游戏，开始时，球在甲手中，每次传球，持球的人将球任意传给其余两人中的一人，如此传球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3643200"/>
            <a:ext cx="8002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传球的所有可能结果（即传球的方式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指定事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“传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后，球又回到甲的手中”，写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生的所有可能结果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075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解：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一种可能传球的方式（结果）是：甲传给乙、乙传给丙、丙又传给甲，即球依次落入乙、丙、甲手中，记为（乙，丙，甲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我们可以用“树状图”表示所有可能结果：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共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个可能结果，而且它们出现的可能性相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传球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次后，球又回到甲手中，即事件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发生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个可能结果：（乙，丙，甲），（丙，乙，甲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P(A)=     =0.25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>
            <a:biLevel thresh="50000"/>
            <a:lum bright="-10000"/>
          </a:blip>
          <a:stretch/>
        </p:blipFill>
        <p:spPr>
          <a:xfrm>
            <a:off x="1044720" y="2133720"/>
            <a:ext cx="5037120" cy="25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1835280" y="5950080"/>
                <a:ext cx="3603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小球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入口往下落，在每个交叉口都有一个向左或向右两种可能，且可能性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树状图求小球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落出的概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021"/>
                </a:solidFill>
                <a:latin typeface="Arial"/>
              </a:rPr>
              <a:t>解：树状图如下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58" name="Group 39"/>
          <p:cNvGrpSpPr/>
          <p:nvPr/>
        </p:nvGrpSpPr>
        <p:grpSpPr>
          <a:xfrm>
            <a:off x="1187280" y="476280"/>
            <a:ext cx="4895280" cy="760320"/>
            <a:chOff x="1187280" y="476280"/>
            <a:chExt cx="4895280" cy="760320"/>
          </a:xfrm>
        </p:grpSpPr>
        <p:pic>
          <p:nvPicPr>
            <p:cNvPr id="59" name="Picture 40" descr="678"/>
            <p:cNvPicPr/>
            <p:nvPr/>
          </p:nvPicPr>
          <p:blipFill>
            <a:blip r:embed="rId2"/>
            <a:stretch/>
          </p:blipFill>
          <p:spPr>
            <a:xfrm>
              <a:off x="4416480" y="476280"/>
              <a:ext cx="166608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Group 41"/>
            <p:cNvGrpSpPr/>
            <p:nvPr/>
          </p:nvGrpSpPr>
          <p:grpSpPr>
            <a:xfrm>
              <a:off x="1187280" y="523800"/>
              <a:ext cx="3228840" cy="712800"/>
              <a:chOff x="1187280" y="523800"/>
              <a:chExt cx="3228840" cy="712800"/>
            </a:xfrm>
          </p:grpSpPr>
          <p:sp>
            <p:nvSpPr>
              <p:cNvPr id="61" name="Rectangle 42"/>
              <p:cNvSpPr/>
              <p:nvPr/>
            </p:nvSpPr>
            <p:spPr>
              <a:xfrm>
                <a:off x="1187280" y="523800"/>
                <a:ext cx="3228840" cy="7034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43" descr="gif003[1]">
                <a:hlinkClick r:id="" action="ppaction://hlinkshowjump?jump=last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1206720" y="703080"/>
                <a:ext cx="72864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6948360" y="249228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1554120" y="3260880"/>
            <a:ext cx="48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B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左）                 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右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左）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C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右） 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左） 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D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（右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E              F                  G                    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箭头 139"/>
          <p:cNvSpPr/>
          <p:nvPr/>
        </p:nvSpPr>
        <p:spPr>
          <a:xfrm flipH="1">
            <a:off x="2987640" y="3573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箭头 140"/>
          <p:cNvSpPr/>
          <p:nvPr/>
        </p:nvSpPr>
        <p:spPr>
          <a:xfrm>
            <a:off x="4284720" y="350208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箭头 141"/>
          <p:cNvSpPr/>
          <p:nvPr/>
        </p:nvSpPr>
        <p:spPr>
          <a:xfrm flipH="1">
            <a:off x="2339640" y="4076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箭头 142"/>
          <p:cNvSpPr/>
          <p:nvPr/>
        </p:nvSpPr>
        <p:spPr>
          <a:xfrm>
            <a:off x="2916360" y="414972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箭头 143"/>
          <p:cNvSpPr/>
          <p:nvPr/>
        </p:nvSpPr>
        <p:spPr>
          <a:xfrm flipH="1">
            <a:off x="4645080" y="4076640"/>
            <a:ext cx="3585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箭头 144"/>
          <p:cNvSpPr/>
          <p:nvPr/>
        </p:nvSpPr>
        <p:spPr>
          <a:xfrm>
            <a:off x="5292720" y="4076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箭头 145"/>
          <p:cNvSpPr/>
          <p:nvPr/>
        </p:nvSpPr>
        <p:spPr>
          <a:xfrm flipH="1">
            <a:off x="2124000" y="4653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箭头 146"/>
          <p:cNvSpPr/>
          <p:nvPr/>
        </p:nvSpPr>
        <p:spPr>
          <a:xfrm>
            <a:off x="2987640" y="465444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箭头 147"/>
          <p:cNvSpPr/>
          <p:nvPr/>
        </p:nvSpPr>
        <p:spPr>
          <a:xfrm flipH="1">
            <a:off x="4427640" y="465300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箭头 148"/>
          <p:cNvSpPr/>
          <p:nvPr/>
        </p:nvSpPr>
        <p:spPr>
          <a:xfrm>
            <a:off x="5581800" y="458136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044720" y="5373720"/>
            <a:ext cx="66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共有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中可能结果，而且它们的可能性相等，所以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P(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小球从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E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点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出</a:t>
            </a:r>
            <a:r>
              <a:rPr b="0" lang="zh-CN" sz="1800" spc="-1" strike="noStrike">
                <a:solidFill>
                  <a:srgbClr val="ff9021"/>
                </a:solidFill>
                <a:latin typeface="Arial"/>
              </a:rPr>
              <a:t>)=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2"/>
              <p:cNvSpPr txBox="1"/>
              <p:nvPr/>
            </p:nvSpPr>
            <p:spPr>
              <a:xfrm>
                <a:off x="1692360" y="566100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341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是个小马虎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晚上睡觉时将两双不同的袜子放在床头，早上起床没看清随便穿了两只就去上学，问小明正好穿的是相同的一双袜子的概率是多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7380360" y="115920"/>
            <a:ext cx="1684080" cy="1058400"/>
            <a:chOff x="7380360" y="115920"/>
            <a:chExt cx="1684080" cy="1058400"/>
          </a:xfrm>
        </p:grpSpPr>
        <p:pic>
          <p:nvPicPr>
            <p:cNvPr id="79" name="Picture 4" descr="qz_1rejo[1]"/>
            <p:cNvPicPr/>
            <p:nvPr/>
          </p:nvPicPr>
          <p:blipFill>
            <a:blip r:embed="rId2"/>
            <a:stretch/>
          </p:blipFill>
          <p:spPr>
            <a:xfrm>
              <a:off x="7380360" y="115920"/>
              <a:ext cx="168408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" descr="Q_011"/>
            <p:cNvPicPr/>
            <p:nvPr/>
          </p:nvPicPr>
          <p:blipFill>
            <a:blip r:embed="rId3"/>
            <a:stretch/>
          </p:blipFill>
          <p:spPr>
            <a:xfrm>
              <a:off x="7997760" y="142920"/>
              <a:ext cx="253080" cy="29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628640"/>
            <a:ext cx="914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设两双袜子分别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0" y="2959200"/>
            <a:ext cx="8785080" cy="2392200"/>
            <a:chOff x="0" y="2959200"/>
            <a:chExt cx="8785080" cy="2392200"/>
          </a:xfrm>
        </p:grpSpPr>
        <p:sp>
          <p:nvSpPr>
            <p:cNvPr id="83" name="Line 4"/>
            <p:cNvSpPr/>
            <p:nvPr/>
          </p:nvSpPr>
          <p:spPr>
            <a:xfrm flipH="1">
              <a:off x="1368360" y="3317760"/>
              <a:ext cx="216072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4464000" y="3246480"/>
              <a:ext cx="360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3624120" y="3346560"/>
              <a:ext cx="23940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4575960" y="3235680"/>
              <a:ext cx="1949400" cy="48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4608360" y="36781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863640" y="3828960"/>
              <a:ext cx="23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>
              <a:off x="6481800" y="375120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3095640" y="367812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3529080" y="2959200"/>
              <a:ext cx="17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开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H="1">
              <a:off x="431280" y="4470480"/>
              <a:ext cx="39708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H="1">
              <a:off x="1007640" y="4470480"/>
              <a:ext cx="144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1368360" y="4470480"/>
              <a:ext cx="21744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0" y="48308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7"/>
            <p:cNvSpPr/>
            <p:nvPr/>
          </p:nvSpPr>
          <p:spPr>
            <a:xfrm>
              <a:off x="720720" y="48308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8"/>
            <p:cNvSpPr/>
            <p:nvPr/>
          </p:nvSpPr>
          <p:spPr>
            <a:xfrm>
              <a:off x="1368360" y="4815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2232000" y="47754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0"/>
            <p:cNvSpPr/>
            <p:nvPr/>
          </p:nvSpPr>
          <p:spPr>
            <a:xfrm>
              <a:off x="2952720" y="47754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1"/>
            <p:cNvSpPr/>
            <p:nvPr/>
          </p:nvSpPr>
          <p:spPr>
            <a:xfrm>
              <a:off x="3600360" y="4759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2"/>
            <p:cNvSpPr/>
            <p:nvPr/>
          </p:nvSpPr>
          <p:spPr>
            <a:xfrm>
              <a:off x="4537080" y="47754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5257800" y="47754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5905440" y="4759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5"/>
            <p:cNvSpPr/>
            <p:nvPr/>
          </p:nvSpPr>
          <p:spPr>
            <a:xfrm>
              <a:off x="6769080" y="47023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6"/>
            <p:cNvSpPr/>
            <p:nvPr/>
          </p:nvSpPr>
          <p:spPr>
            <a:xfrm>
              <a:off x="7489800" y="47023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A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8137440" y="46864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B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>
              <a:off x="2661840" y="4254480"/>
              <a:ext cx="39708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>
              <a:off x="3238200" y="4254480"/>
              <a:ext cx="144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598920" y="4254480"/>
              <a:ext cx="21744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H="1">
              <a:off x="4824000" y="4399200"/>
              <a:ext cx="7164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>
              <a:off x="5184720" y="4399200"/>
              <a:ext cx="287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>
              <a:off x="5329080" y="4326120"/>
              <a:ext cx="719280" cy="4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4"/>
            <p:cNvSpPr/>
            <p:nvPr/>
          </p:nvSpPr>
          <p:spPr>
            <a:xfrm>
              <a:off x="6769080" y="4254480"/>
              <a:ext cx="287280" cy="5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>
              <a:off x="6985080" y="4183200"/>
              <a:ext cx="64764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>
              <a:off x="7056360" y="4110120"/>
              <a:ext cx="122580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7"/>
          <p:cNvSpPr/>
          <p:nvPr/>
        </p:nvSpPr>
        <p:spPr>
          <a:xfrm>
            <a:off x="250920" y="588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所以穿相同一双袜子的概率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8"/>
              <p:cNvSpPr txBox="1"/>
              <p:nvPr/>
            </p:nvSpPr>
            <p:spPr>
              <a:xfrm>
                <a:off x="6372360" y="5516640"/>
                <a:ext cx="1512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8" name="Group 44"/>
          <p:cNvGrpSpPr/>
          <p:nvPr/>
        </p:nvGrpSpPr>
        <p:grpSpPr>
          <a:xfrm>
            <a:off x="7380360" y="115920"/>
            <a:ext cx="1684080" cy="1058400"/>
            <a:chOff x="7380360" y="115920"/>
            <a:chExt cx="1684080" cy="1058400"/>
          </a:xfrm>
        </p:grpSpPr>
        <p:pic>
          <p:nvPicPr>
            <p:cNvPr id="119" name="Picture 45" descr="qz_1rejo[1]"/>
            <p:cNvPicPr/>
            <p:nvPr/>
          </p:nvPicPr>
          <p:blipFill>
            <a:blip r:embed="rId1"/>
            <a:stretch/>
          </p:blipFill>
          <p:spPr>
            <a:xfrm>
              <a:off x="7380360" y="115920"/>
              <a:ext cx="168408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6" descr="Q_011"/>
            <p:cNvPicPr/>
            <p:nvPr/>
          </p:nvPicPr>
          <p:blipFill>
            <a:blip r:embed="rId2"/>
            <a:stretch/>
          </p:blipFill>
          <p:spPr>
            <a:xfrm>
              <a:off x="7997760" y="142920"/>
              <a:ext cx="253080" cy="29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24:57Z</dcterms:modified>
  <cp:revision>2</cp:revision>
  <dc:subject/>
  <dc:title>4.2.2  用列举法求概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