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844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976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552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976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552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002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844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58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a58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2720" y="2061720"/>
            <a:ext cx="6408720" cy="11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a5800"/>
                </a:solidFill>
                <a:latin typeface="Arial"/>
              </a:rPr>
              <a:t>4.3</a:t>
            </a:r>
            <a:r>
              <a:rPr b="1" lang="zh-CN" sz="3600" spc="-1" strike="noStrike">
                <a:solidFill>
                  <a:srgbClr val="da5800"/>
                </a:solidFill>
                <a:latin typeface="Arial"/>
              </a:rPr>
              <a:t>用频率估计概率</a:t>
            </a:r>
            <a:endParaRPr b="0" lang="en-US" sz="36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da5800"/>
                </a:solidFill>
                <a:latin typeface="Arial"/>
              </a:rPr>
              <a:t>小结</a:t>
            </a: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研究随机现象与随机事件的基本方法就是重复地对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现象进行观察，在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次观察中，如果某个随机事件发生了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次，则在这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次观察中这个事件发生的频率为    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如果随机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事件发生的概率（即可能性）大，则它在多次的重复观察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中出现的次数越多，因而其频率就大，所以频率在一定程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度上也放映了随机事件的可能性的大小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6732720" y="2565360"/>
                <a:ext cx="312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可以发现，在抛瓶盖实验中，“开口朝上”的频率    一般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会随着抛掷次数的增加，稳定在某个常数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附近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这个常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数就是“开口朝上”发生的可能性，即事件“开口朝上”的概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率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所以，在大量重复试验中，如果事件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发生的频率为          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那么用    作为事件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发生的概率的估计是合理的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7451640" y="1557360"/>
                <a:ext cx="314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8101080" y="3068640"/>
                <a:ext cx="3128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1692360" y="3573360"/>
                <a:ext cx="312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AutoShape 7"/>
          <p:cNvSpPr/>
          <p:nvPr/>
        </p:nvSpPr>
        <p:spPr>
          <a:xfrm>
            <a:off x="3780000" y="4437000"/>
            <a:ext cx="4248000" cy="187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抛瓶盖试验中，“开口朝上”的频率稳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于哪一个数值？你能估计出瓶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开口朝上”的概率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9021"/>
                </a:solidFill>
                <a:latin typeface="Arial"/>
              </a:rPr>
              <a:t>                  </a:t>
            </a:r>
            <a:r>
              <a:rPr b="0" lang="zh-CN" sz="3000" spc="-1" strike="noStrike">
                <a:solidFill>
                  <a:srgbClr val="ff9021"/>
                </a:solidFill>
                <a:latin typeface="Arial"/>
              </a:rPr>
              <a:t>：</a:t>
            </a: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需要指出的是，频率和概率都是随机事件可能性大小的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定量的刻画，但频率与试验次数具体的试验有关，因此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，频率具有随机性；而概率是刻画随机事件发生可能性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大小的数值，是一个固定的值，不具有随机性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因此，掷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次硬币不一定能得到“正面朝上”的频率是    和“反面朝上”的频率是    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pic>
        <p:nvPicPr>
          <p:cNvPr id="76" name="WordArt 4" descr=""/>
          <p:cNvPicPr/>
          <p:nvPr/>
        </p:nvPicPr>
        <p:blipFill>
          <a:blip r:embed="rId2"/>
          <a:stretch/>
        </p:blipFill>
        <p:spPr>
          <a:xfrm>
            <a:off x="822240" y="298440"/>
            <a:ext cx="1440000" cy="1066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7143840" y="3571920"/>
                <a:ext cx="2872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3571920" y="3929040"/>
                <a:ext cx="2887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  瓷砖生产受烧制时间、温度、材质的影响，一块砖坯放在炉中烧制，可能成为合格品，也可能成为次品或废品，究竟发生哪种结果，在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烧制前无法预知，所以这是一种随机现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而烧制的结果是“合格品”是一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随机事件，这个事件的概率称为“合格品率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由于烧制结果不是等可能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，我们常用“合格品”的频率作为“合格率”的估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瓷砖厂对最近出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炉的一大批某型号瓷砖进行质量抽检，结果如下：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24000" y="3213000"/>
          <a:ext cx="8785080" cy="2152800"/>
        </p:xfrm>
        <a:graphic>
          <a:graphicData uri="http://schemas.openxmlformats.org/drawingml/2006/table">
            <a:tbl>
              <a:tblPr/>
              <a:tblGrid>
                <a:gridCol w="1971360"/>
                <a:gridCol w="838440"/>
                <a:gridCol w="708120"/>
                <a:gridCol w="691920"/>
                <a:gridCol w="812880"/>
                <a:gridCol w="797040"/>
                <a:gridCol w="879480"/>
                <a:gridCol w="622080"/>
                <a:gridCol w="689040"/>
                <a:gridCol w="7747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抽取瓷砖数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合格品数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9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合格品频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Object 108"/>
              <p:cNvSpPr txBox="1"/>
              <p:nvPr/>
            </p:nvSpPr>
            <p:spPr>
              <a:xfrm>
                <a:off x="1619280" y="4581360"/>
                <a:ext cx="314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Text Box 109"/>
          <p:cNvSpPr/>
          <p:nvPr/>
        </p:nvSpPr>
        <p:spPr>
          <a:xfrm>
            <a:off x="271440" y="5442120"/>
            <a:ext cx="869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计算上表中合格品的各频率（精确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0.00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估计这种瓷砖的合格品率（精确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若该工厂本月生产该型号瓷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块，试估计合格品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da5800"/>
                </a:solidFill>
                <a:latin typeface="Arial"/>
              </a:rPr>
              <a:t>解  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）逐项计算，填表如下：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8000" y="1628640"/>
          <a:ext cx="8856720" cy="2884680"/>
        </p:xfrm>
        <a:graphic>
          <a:graphicData uri="http://schemas.openxmlformats.org/drawingml/2006/table">
            <a:tbl>
              <a:tblPr/>
              <a:tblGrid>
                <a:gridCol w="1701720"/>
                <a:gridCol w="920880"/>
                <a:gridCol w="836640"/>
                <a:gridCol w="785520"/>
                <a:gridCol w="817560"/>
                <a:gridCol w="806760"/>
                <a:gridCol w="738000"/>
                <a:gridCol w="774720"/>
                <a:gridCol w="750960"/>
                <a:gridCol w="723960"/>
              </a:tblGrid>
              <a:tr h="11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抽取瓷砖数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合格品数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9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合格品频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6" name="Object 107"/>
              <p:cNvSpPr txBox="1"/>
              <p:nvPr/>
            </p:nvSpPr>
            <p:spPr>
              <a:xfrm>
                <a:off x="1476360" y="3718080"/>
                <a:ext cx="312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Text Box 108"/>
          <p:cNvSpPr/>
          <p:nvPr/>
        </p:nvSpPr>
        <p:spPr>
          <a:xfrm>
            <a:off x="507960" y="4811760"/>
            <a:ext cx="809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da58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da5800"/>
                </a:solidFill>
                <a:latin typeface="Arial"/>
              </a:rPr>
              <a:t>）观察上表，可以发现，当抽取的瓷砖数</a:t>
            </a:r>
            <a:r>
              <a:rPr b="0" lang="zh-CN" sz="1800" spc="-1" strike="noStrike">
                <a:solidFill>
                  <a:srgbClr val="da5800"/>
                </a:solidFill>
                <a:latin typeface="Arial"/>
              </a:rPr>
              <a:t>n≥400</a:t>
            </a:r>
            <a:r>
              <a:rPr b="0" lang="zh-CN" sz="1800" spc="-1" strike="noStrike">
                <a:solidFill>
                  <a:srgbClr val="da5800"/>
                </a:solidFill>
                <a:latin typeface="Arial"/>
              </a:rPr>
              <a:t>时，合格品频率     稳定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a5800"/>
                </a:solidFill>
                <a:latin typeface="Arial"/>
              </a:rPr>
              <a:t>0.962</a:t>
            </a:r>
            <a:r>
              <a:rPr b="0" lang="zh-CN" sz="1800" spc="-1" strike="noStrike">
                <a:solidFill>
                  <a:srgbClr val="da5800"/>
                </a:solidFill>
                <a:latin typeface="Arial"/>
              </a:rPr>
              <a:t>的附近，所以我们可取</a:t>
            </a:r>
            <a:r>
              <a:rPr b="0" lang="zh-CN" sz="1800" spc="-1" strike="noStrike">
                <a:solidFill>
                  <a:srgbClr val="da5800"/>
                </a:solidFill>
                <a:latin typeface="Arial"/>
              </a:rPr>
              <a:t>P=0.96</a:t>
            </a:r>
            <a:r>
              <a:rPr b="0" lang="zh-CN" sz="1800" spc="-1" strike="noStrike">
                <a:solidFill>
                  <a:srgbClr val="da5800"/>
                </a:solidFill>
                <a:latin typeface="Arial"/>
              </a:rPr>
              <a:t>作为该型号瓷砖的合格率的估计</a:t>
            </a:r>
            <a:r>
              <a:rPr b="0" lang="zh-CN" sz="18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da58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da58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da5800"/>
                </a:solidFill>
                <a:latin typeface="Arial"/>
              </a:rPr>
              <a:t>500000×96%=480000</a:t>
            </a:r>
            <a:r>
              <a:rPr b="0" lang="zh-CN" sz="1800" spc="-1" strike="noStrike">
                <a:solidFill>
                  <a:srgbClr val="da5800"/>
                </a:solidFill>
                <a:latin typeface="Arial"/>
              </a:rPr>
              <a:t>（块），可以估计该型号合格品数为</a:t>
            </a:r>
            <a:r>
              <a:rPr b="0" lang="zh-CN" sz="1800" spc="-1" strike="noStrike">
                <a:solidFill>
                  <a:srgbClr val="da5800"/>
                </a:solidFill>
                <a:latin typeface="Arial"/>
              </a:rPr>
              <a:t>480000</a:t>
            </a:r>
            <a:r>
              <a:rPr b="0" lang="zh-CN" sz="1800" spc="-1" strike="noStrike">
                <a:solidFill>
                  <a:srgbClr val="da5800"/>
                </a:solidFill>
                <a:latin typeface="Arial"/>
              </a:rPr>
              <a:t>块</a:t>
            </a:r>
            <a:r>
              <a:rPr b="0" lang="zh-CN" sz="18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9"/>
          <p:cNvSpPr/>
          <p:nvPr/>
        </p:nvSpPr>
        <p:spPr>
          <a:xfrm>
            <a:off x="1835280" y="3933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0.9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0"/>
          <p:cNvSpPr/>
          <p:nvPr/>
        </p:nvSpPr>
        <p:spPr>
          <a:xfrm>
            <a:off x="2700360" y="39337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0.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1"/>
          <p:cNvSpPr/>
          <p:nvPr/>
        </p:nvSpPr>
        <p:spPr>
          <a:xfrm>
            <a:off x="3565440" y="39466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0.9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2"/>
          <p:cNvSpPr/>
          <p:nvPr/>
        </p:nvSpPr>
        <p:spPr>
          <a:xfrm>
            <a:off x="4429080" y="393372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0.9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3"/>
          <p:cNvSpPr/>
          <p:nvPr/>
        </p:nvSpPr>
        <p:spPr>
          <a:xfrm>
            <a:off x="5994360" y="3946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0.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4"/>
          <p:cNvSpPr/>
          <p:nvPr/>
        </p:nvSpPr>
        <p:spPr>
          <a:xfrm>
            <a:off x="6804000" y="393372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0.9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5"/>
          <p:cNvSpPr/>
          <p:nvPr/>
        </p:nvSpPr>
        <p:spPr>
          <a:xfrm>
            <a:off x="7451640" y="3933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0.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6"/>
          <p:cNvSpPr/>
          <p:nvPr/>
        </p:nvSpPr>
        <p:spPr>
          <a:xfrm>
            <a:off x="8317080" y="393372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0.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7"/>
          <p:cNvSpPr/>
          <p:nvPr/>
        </p:nvSpPr>
        <p:spPr>
          <a:xfrm>
            <a:off x="5219640" y="3933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0.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18"/>
              <p:cNvSpPr txBox="1"/>
              <p:nvPr/>
            </p:nvSpPr>
            <p:spPr>
              <a:xfrm>
                <a:off x="7308720" y="4653000"/>
                <a:ext cx="312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539640" y="1052640"/>
            <a:ext cx="8282160" cy="4681080"/>
            <a:chOff x="539640" y="1052640"/>
            <a:chExt cx="8282160" cy="4681080"/>
          </a:xfrm>
        </p:grpSpPr>
        <p:sp>
          <p:nvSpPr>
            <p:cNvPr id="99" name="Rectangle 3"/>
            <p:cNvSpPr/>
            <p:nvPr/>
          </p:nvSpPr>
          <p:spPr>
            <a:xfrm>
              <a:off x="601560" y="1052640"/>
              <a:ext cx="1643040" cy="475560"/>
            </a:xfrm>
            <a:prstGeom prst="rect">
              <a:avLst/>
            </a:prstGeom>
            <a:gradFill rotWithShape="0">
              <a:gsLst>
                <a:gs pos="0">
                  <a:srgbClr val="448fb4"/>
                </a:gs>
                <a:gs pos="100000">
                  <a:srgbClr val="006699"/>
                </a:gs>
              </a:gsLst>
              <a:lin ang="0"/>
            </a:gradFill>
            <a:ln w="9360">
              <a:solidFill>
                <a:srgbClr val="f5c207"/>
              </a:solidFill>
              <a:miter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练一练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4" descr="无标题2"/>
            <p:cNvPicPr/>
            <p:nvPr/>
          </p:nvPicPr>
          <p:blipFill>
            <a:blip r:embed="rId2"/>
            <a:stretch/>
          </p:blipFill>
          <p:spPr>
            <a:xfrm>
              <a:off x="539640" y="1576440"/>
              <a:ext cx="8282160" cy="41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Rectangle 5"/>
          <p:cNvSpPr/>
          <p:nvPr/>
        </p:nvSpPr>
        <p:spPr>
          <a:xfrm>
            <a:off x="76320" y="228600"/>
            <a:ext cx="29718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0" y="836640"/>
            <a:ext cx="9144000" cy="5616720"/>
            <a:chOff x="0" y="836640"/>
            <a:chExt cx="9144000" cy="5616720"/>
          </a:xfrm>
        </p:grpSpPr>
        <p:grpSp>
          <p:nvGrpSpPr>
            <p:cNvPr id="103" name="Group 7"/>
            <p:cNvGrpSpPr/>
            <p:nvPr/>
          </p:nvGrpSpPr>
          <p:grpSpPr>
            <a:xfrm>
              <a:off x="0" y="836640"/>
              <a:ext cx="9144000" cy="87480"/>
              <a:chOff x="0" y="836640"/>
              <a:chExt cx="9144000" cy="87480"/>
            </a:xfrm>
          </p:grpSpPr>
          <p:sp>
            <p:nvSpPr>
              <p:cNvPr id="104" name="Line 8"/>
              <p:cNvSpPr/>
              <p:nvPr/>
            </p:nvSpPr>
            <p:spPr>
              <a:xfrm>
                <a:off x="0" y="836640"/>
                <a:ext cx="9070920" cy="44280"/>
              </a:xfrm>
              <a:prstGeom prst="line">
                <a:avLst/>
              </a:prstGeom>
              <a:ln w="38160">
                <a:solidFill>
                  <a:srgbClr val="f8d4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9"/>
              <p:cNvSpPr/>
              <p:nvPr/>
            </p:nvSpPr>
            <p:spPr>
              <a:xfrm>
                <a:off x="0" y="924120"/>
                <a:ext cx="914400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Line 10"/>
            <p:cNvSpPr/>
            <p:nvPr/>
          </p:nvSpPr>
          <p:spPr>
            <a:xfrm>
              <a:off x="0" y="6453360"/>
              <a:ext cx="91440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11"/>
          <p:cNvSpPr/>
          <p:nvPr/>
        </p:nvSpPr>
        <p:spPr>
          <a:xfrm>
            <a:off x="1743120" y="59878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692360" y="5734080"/>
            <a:ext cx="64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d5b"/>
                </a:solidFill>
                <a:latin typeface="宋体"/>
              </a:rPr>
              <a:t>则估计油菜籽发芽的概率为＿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6877080" y="5751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614520" y="1528920"/>
            <a:ext cx="10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836640"/>
            <a:ext cx="9144000" cy="5616720"/>
            <a:chOff x="0" y="836640"/>
            <a:chExt cx="9144000" cy="5616720"/>
          </a:xfrm>
        </p:grpSpPr>
        <p:grpSp>
          <p:nvGrpSpPr>
            <p:cNvPr id="112" name="Group 3"/>
            <p:cNvGrpSpPr/>
            <p:nvPr/>
          </p:nvGrpSpPr>
          <p:grpSpPr>
            <a:xfrm>
              <a:off x="0" y="836640"/>
              <a:ext cx="9144000" cy="87480"/>
              <a:chOff x="0" y="836640"/>
              <a:chExt cx="9144000" cy="87480"/>
            </a:xfrm>
          </p:grpSpPr>
          <p:sp>
            <p:nvSpPr>
              <p:cNvPr id="113" name="Line 4"/>
              <p:cNvSpPr/>
              <p:nvPr/>
            </p:nvSpPr>
            <p:spPr>
              <a:xfrm>
                <a:off x="0" y="836640"/>
                <a:ext cx="9070920" cy="44280"/>
              </a:xfrm>
              <a:prstGeom prst="line">
                <a:avLst/>
              </a:prstGeom>
              <a:ln w="38160">
                <a:solidFill>
                  <a:srgbClr val="f8d4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5"/>
              <p:cNvSpPr/>
              <p:nvPr/>
            </p:nvSpPr>
            <p:spPr>
              <a:xfrm>
                <a:off x="0" y="924120"/>
                <a:ext cx="914400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Line 6"/>
            <p:cNvSpPr/>
            <p:nvPr/>
          </p:nvSpPr>
          <p:spPr>
            <a:xfrm>
              <a:off x="0" y="6453360"/>
              <a:ext cx="91440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7"/>
          <p:cNvSpPr/>
          <p:nvPr/>
        </p:nvSpPr>
        <p:spPr>
          <a:xfrm>
            <a:off x="395280" y="5805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d5b"/>
                </a:solidFill>
                <a:latin typeface="宋体"/>
              </a:rPr>
              <a:t>则估计抛掷一枚硬币正面朝上的概率为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24720" y="5877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o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"/>
          <p:cNvPicPr/>
          <p:nvPr/>
        </p:nvPicPr>
        <p:blipFill>
          <a:blip r:embed="rId2"/>
          <a:stretch/>
        </p:blipFill>
        <p:spPr>
          <a:xfrm>
            <a:off x="1233360" y="1633680"/>
            <a:ext cx="6675480" cy="3590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971640" y="1268280"/>
            <a:ext cx="20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41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图是一个能自由转动的转盘，盘面被分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相同的扇形，颜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色分为红、黄、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转盘的指针固定，让转盘自由转动，当它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停止后，记下指针指向的颜色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此重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，把结果记录在下表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：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试估计当圆盘停下来时，指针指向黄色的概率是多少？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如果自由转动圆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4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，那么指针指向黄色的次数大约是多少？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87280" y="3284640"/>
          <a:ext cx="3927600" cy="1403280"/>
        </p:xfrm>
        <a:graphic>
          <a:graphicData uri="http://schemas.openxmlformats.org/drawingml/2006/table">
            <a:tbl>
              <a:tblPr/>
              <a:tblGrid>
                <a:gridCol w="981360"/>
                <a:gridCol w="982440"/>
                <a:gridCol w="981360"/>
                <a:gridCol w="98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红色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黄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蓝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频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频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4320" y="1058400"/>
            <a:ext cx="342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ff0000"/>
                </a:solidFill>
                <a:latin typeface="Arial"/>
                <a:ea typeface="隶书"/>
              </a:rPr>
              <a:t>结束寄语</a:t>
            </a:r>
            <a:endParaRPr b="0" lang="en-US" sz="51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385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生活是数学的源泉</a:t>
            </a: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6000" spc="-1" strike="noStrike">
              <a:solidFill>
                <a:srgbClr val="da5800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6400800" y="76320"/>
            <a:ext cx="2646360" cy="1547640"/>
            <a:chOff x="6400800" y="76320"/>
            <a:chExt cx="2646360" cy="1547640"/>
          </a:xfrm>
        </p:grpSpPr>
        <p:pic>
          <p:nvPicPr>
            <p:cNvPr id="126" name="Picture 5" descr="gif1450"/>
            <p:cNvPicPr/>
            <p:nvPr/>
          </p:nvPicPr>
          <p:blipFill>
            <a:blip r:embed="rId2"/>
            <a:stretch/>
          </p:blipFill>
          <p:spPr>
            <a:xfrm>
              <a:off x="7848720" y="7632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Group 6"/>
            <p:cNvGrpSpPr/>
            <p:nvPr/>
          </p:nvGrpSpPr>
          <p:grpSpPr>
            <a:xfrm>
              <a:off x="6400800" y="119160"/>
              <a:ext cx="1676520" cy="1191960"/>
              <a:chOff x="6400800" y="119160"/>
              <a:chExt cx="1676520" cy="1191960"/>
            </a:xfrm>
          </p:grpSpPr>
          <p:sp>
            <p:nvSpPr>
              <p:cNvPr id="128" name="AutoShape 7"/>
              <p:cNvSpPr/>
              <p:nvPr/>
            </p:nvSpPr>
            <p:spPr>
              <a:xfrm>
                <a:off x="6400800" y="14364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8"/>
              <p:cNvSpPr/>
              <p:nvPr/>
            </p:nvSpPr>
            <p:spPr>
              <a:xfrm>
                <a:off x="6419520" y="119160"/>
                <a:ext cx="16578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 Box 9"/>
            <p:cNvSpPr/>
            <p:nvPr/>
          </p:nvSpPr>
          <p:spPr>
            <a:xfrm>
              <a:off x="6553080" y="45720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WordArt 10" descr=""/>
          <p:cNvPicPr/>
          <p:nvPr/>
        </p:nvPicPr>
        <p:blipFill>
          <a:blip r:embed="rId4"/>
          <a:stretch/>
        </p:blipFill>
        <p:spPr>
          <a:xfrm>
            <a:off x="3054240" y="4230720"/>
            <a:ext cx="2803680" cy="2163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1"/>
          <p:cNvSpPr/>
          <p:nvPr/>
        </p:nvSpPr>
        <p:spPr>
          <a:xfrm>
            <a:off x="457200" y="3276720"/>
            <a:ext cx="8385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ad5b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探索是数学的生命线</a:t>
            </a: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2005826175718623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2005826175718623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da5800"/>
                </a:solidFill>
                <a:latin typeface="Arial"/>
              </a:rPr>
              <a:t>引言</a:t>
            </a: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我们知道，抛掷一枚均匀硬币，硬币落地后，出现“正面朝上”的可能性和“反面朝上”的可能性是一样的，即“正面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朝上”的概率和“反面朝上”的概率都是   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在实际掷硬币时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，会出现什么情况？若只抛一次说明不了什么问题，我们不妨多抛掷几次试试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" name="Object 4"/>
              <p:cNvSpPr txBox="1"/>
              <p:nvPr/>
            </p:nvSpPr>
            <p:spPr>
              <a:xfrm>
                <a:off x="5940360" y="2421000"/>
                <a:ext cx="3142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da5800"/>
                </a:solidFill>
                <a:latin typeface="Arial"/>
              </a:rPr>
              <a:t>做一做</a:t>
            </a: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）抛掷一枚均匀硬币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400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次，每隔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50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次，分别记录“正面朝上”和“反面朝上”的次数，汇总数据后，完成下表：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1280" y="3213000"/>
          <a:ext cx="8137440" cy="2401920"/>
        </p:xfrm>
        <a:graphic>
          <a:graphicData uri="http://schemas.openxmlformats.org/drawingml/2006/table">
            <a:tbl>
              <a:tblPr/>
              <a:tblGrid>
                <a:gridCol w="1960560"/>
                <a:gridCol w="677880"/>
                <a:gridCol w="836640"/>
                <a:gridCol w="788760"/>
                <a:gridCol w="816120"/>
                <a:gridCol w="801720"/>
                <a:gridCol w="779400"/>
                <a:gridCol w="847800"/>
                <a:gridCol w="628560"/>
              </a:tblGrid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累计抛掷次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正面朝上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的频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正面朝上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的频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da58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da5800"/>
                </a:solidFill>
                <a:latin typeface="Arial"/>
              </a:rPr>
              <a:t>）根据上表的数据，在图中画折线统计图表示“正面朝上”的频率</a:t>
            </a:r>
            <a:r>
              <a:rPr b="0" lang="zh-CN" sz="30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）在图中，用红笔画出表示频率为    的直线，你发现了什么？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900000" y="1413000"/>
            <a:ext cx="4969080" cy="2886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8" name="Object 5"/>
              <p:cNvSpPr txBox="1"/>
              <p:nvPr/>
            </p:nvSpPr>
            <p:spPr>
              <a:xfrm>
                <a:off x="5869080" y="4508640"/>
                <a:ext cx="3124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da5800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da5800"/>
                </a:solidFill>
                <a:latin typeface="Arial"/>
              </a:rPr>
              <a:t>）下表是历史上一些数学家所做的掷硬币的试验数据，这些数据支持你发现的规律吗？</a:t>
            </a: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4360" y="1486080"/>
          <a:ext cx="8002440" cy="250164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160"/>
                <a:gridCol w="2001960"/>
              </a:tblGrid>
              <a:tr h="66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实验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掷硬币次数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正面向上的次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频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蒲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50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皮尔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6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5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皮尔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5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1" name="AutoShape 60"/>
          <p:cNvSpPr/>
          <p:nvPr/>
        </p:nvSpPr>
        <p:spPr>
          <a:xfrm>
            <a:off x="539640" y="4294080"/>
            <a:ext cx="2880000" cy="1798920"/>
          </a:xfrm>
          <a:prstGeom prst="wedgeEllipseCallout">
            <a:avLst>
              <a:gd name="adj1" fmla="val 69722"/>
              <a:gd name="adj2" fmla="val 41731"/>
            </a:avLst>
          </a:prstGeom>
          <a:solidFill>
            <a:srgbClr val="ff9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1"/>
          <p:cNvSpPr/>
          <p:nvPr/>
        </p:nvSpPr>
        <p:spPr>
          <a:xfrm>
            <a:off x="5651640" y="5157720"/>
            <a:ext cx="2449440" cy="1366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2"/>
          <p:cNvSpPr/>
          <p:nvPr/>
        </p:nvSpPr>
        <p:spPr>
          <a:xfrm>
            <a:off x="611280" y="456552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以看出，随着掷硬币次数的增加，“正面朝上”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频率稳定在     左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3"/>
              <p:cNvSpPr txBox="1"/>
              <p:nvPr/>
            </p:nvSpPr>
            <p:spPr>
              <a:xfrm>
                <a:off x="1835280" y="5157720"/>
                <a:ext cx="25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Text Box 64"/>
          <p:cNvSpPr/>
          <p:nvPr/>
        </p:nvSpPr>
        <p:spPr>
          <a:xfrm>
            <a:off x="6049800" y="5261040"/>
            <a:ext cx="16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看来用频率估计硬币出现“正面朝上”额概率是合理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da5800"/>
                </a:solidFill>
                <a:latin typeface="Arial"/>
              </a:rPr>
              <a:t>小结：</a:t>
            </a: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上面的例子说明，通过大量重复试验，可以用随机事件发生的频率来估计该事件发生的概率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对于抛掷硬币试验，它的所有可能结果只有两个，而且出现两种可能结果的可能性相等，而对于一般随机事件，当试验所有的可能结果不是有限个，或者各种可能结果发生的可能性不相等时，就不能用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4.2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节的方法来求概率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频率能否可以估计该随机事件的概率呢？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我们再来做一个抛瓶盖试验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da5800"/>
                </a:solidFill>
                <a:latin typeface="Arial"/>
              </a:rPr>
              <a:t>做一做：</a:t>
            </a: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在一块平整地板上抛掷一个矿泉水瓶盖，瓶盖落地后有两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种可能情况：“开口朝上”和“开口不朝上”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由于瓶盖头重脚轻，上下不对称，“开口朝上”和“开口不朝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上”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的可能性一样吗？如果不一样，出现哪种情况的可能性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大一些？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我们借助重复试验来解决这个问题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2600" spc="-1" strike="noStrike">
                <a:solidFill>
                  <a:srgbClr val="da58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da5800"/>
                </a:solidFill>
                <a:latin typeface="Arial"/>
              </a:rPr>
              <a:t>）全班同学分成</a:t>
            </a:r>
            <a:r>
              <a:rPr b="0" lang="zh-CN" sz="2600" spc="-1" strike="noStrike">
                <a:solidFill>
                  <a:srgbClr val="da5800"/>
                </a:solidFill>
                <a:latin typeface="Arial"/>
              </a:rPr>
              <a:t>6</a:t>
            </a:r>
            <a:r>
              <a:rPr b="0" lang="zh-CN" sz="2600" spc="-1" strike="noStrike">
                <a:solidFill>
                  <a:srgbClr val="da5800"/>
                </a:solidFill>
                <a:latin typeface="Arial"/>
              </a:rPr>
              <a:t>组，每组同学以此抛瓶盖</a:t>
            </a:r>
            <a:r>
              <a:rPr b="0" lang="zh-CN" sz="2600" spc="-1" strike="noStrike">
                <a:solidFill>
                  <a:srgbClr val="da5800"/>
                </a:solidFill>
                <a:latin typeface="Arial"/>
              </a:rPr>
              <a:t>80</a:t>
            </a:r>
            <a:r>
              <a:rPr b="0" lang="zh-CN" sz="2600" spc="-1" strike="noStrike">
                <a:solidFill>
                  <a:srgbClr val="da5800"/>
                </a:solidFill>
                <a:latin typeface="Arial"/>
              </a:rPr>
              <a:t>次，观察瓶盖着地时的情况，并根据全班试验结果填写下表：</a:t>
            </a:r>
            <a:endParaRPr b="0" lang="en-US" sz="2600" spc="-1" strike="noStrike">
              <a:solidFill>
                <a:srgbClr val="da58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00000" y="2205000"/>
          <a:ext cx="6551640" cy="3333960"/>
        </p:xfrm>
        <a:graphic>
          <a:graphicData uri="http://schemas.openxmlformats.org/drawingml/2006/table">
            <a:tbl>
              <a:tblPr/>
              <a:tblGrid>
                <a:gridCol w="2176560"/>
                <a:gridCol w="789120"/>
                <a:gridCol w="687240"/>
                <a:gridCol w="665280"/>
                <a:gridCol w="677880"/>
                <a:gridCol w="788760"/>
                <a:gridCol w="766800"/>
              </a:tblGrid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累计抛掷次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开口朝上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的频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开口朝上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的频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da58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da5800"/>
                </a:solidFill>
                <a:latin typeface="Arial"/>
              </a:rPr>
              <a:t>）根据上表中的数据，在图中画折线统计图表示“开口朝上”的频率</a:t>
            </a:r>
            <a:r>
              <a:rPr b="0" lang="zh-CN" sz="30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971640" y="1557360"/>
            <a:ext cx="5581440" cy="308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971640" y="4797360"/>
            <a:ext cx="729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021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9021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9021"/>
                </a:solidFill>
                <a:latin typeface="Arial"/>
              </a:rPr>
              <a:t>）观察上图，随着抛掷次数的增加，“开口朝上”的频率是如何变化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021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9021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9021"/>
                </a:solidFill>
                <a:latin typeface="Arial"/>
              </a:rPr>
              <a:t>）该试验中，是“开口朝上”的可能性大还是“开口不朝上”的可能性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cp:keywords/>
  <dc:language>en-US</dc:language>
  <cp:lastModifiedBy>徐华昌</cp:lastModifiedBy>
  <dcterms:modified xsi:type="dcterms:W3CDTF">2015-07-30T05:26:25Z</dcterms:modified>
  <cp:revision>2</cp:revision>
  <dc:subject/>
  <dc:title>4.3用频率估计概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</Properties>
</file>