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10.jpeg" ContentType="image/jpeg"/>
  <Override PartName="/ppt/media/image5.png" ContentType="image/png"/>
  <Override PartName="/ppt/media/image12.wmf" ContentType="image/x-wmf"/>
  <Override PartName="/ppt/media/image4.png" ContentType="image/png"/>
  <Override PartName="/ppt/media/image8.png" ContentType="image/png"/>
  <Override PartName="/ppt/media/image16.wmf" ContentType="image/x-wmf"/>
  <Override PartName="/ppt/media/image11.wmf" ContentType="image/x-wmf"/>
  <Override PartName="/ppt/media/image3.png" ContentType="image/png"/>
  <Override PartName="/ppt/media/image22.png" ContentType="image/png"/>
  <Override PartName="/ppt/media/image21.png" ContentType="image/png"/>
  <Override PartName="/ppt/media/image20.gif" ContentType="image/gif"/>
  <Override PartName="/ppt/media/image1.jpeg" ContentType="image/jpeg"/>
  <Override PartName="/ppt/media/image7.png" ContentType="image/png"/>
  <Override PartName="/ppt/media/image19.wmf" ContentType="image/x-wmf"/>
  <Override PartName="/ppt/media/image2.png" ContentType="image/png"/>
  <Override PartName="/ppt/media/image9.jpeg" ContentType="image/jpeg"/>
  <Override PartName="/ppt/media/image18.wmf" ContentType="image/x-wmf"/>
  <Override PartName="/ppt/media/image17.wmf" ContentType="image/x-wmf"/>
  <Override PartName="/ppt/media/image15.png" ContentType="image/png"/>
  <Override PartName="/ppt/media/image1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0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a58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4000" y="1600200"/>
            <a:ext cx="8002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58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84000" y="3964320"/>
            <a:ext cx="8002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58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0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a58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4000" y="1600200"/>
            <a:ext cx="390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58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84400" y="1600200"/>
            <a:ext cx="390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58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4000" y="3964320"/>
            <a:ext cx="390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58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84400" y="3964320"/>
            <a:ext cx="390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58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0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a58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000" y="1600200"/>
            <a:ext cx="2576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58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89760" y="1600200"/>
            <a:ext cx="2576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58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95520" y="1600200"/>
            <a:ext cx="2576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58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84000" y="3964320"/>
            <a:ext cx="2576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58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89760" y="3964320"/>
            <a:ext cx="2576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58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95520" y="3964320"/>
            <a:ext cx="2576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58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0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a58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4000" y="1600200"/>
            <a:ext cx="8002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a58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0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a58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4000" y="1600200"/>
            <a:ext cx="8002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58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0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a58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4000" y="1600200"/>
            <a:ext cx="3904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58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784400" y="1600200"/>
            <a:ext cx="3904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58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0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a58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4000" y="274320"/>
            <a:ext cx="8002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a58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0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a58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4000" y="1600200"/>
            <a:ext cx="390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58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84400" y="1600200"/>
            <a:ext cx="3904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58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4000" y="3964320"/>
            <a:ext cx="390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58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0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a58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84000" y="1600200"/>
            <a:ext cx="8002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a58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0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a58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4000" y="1600200"/>
            <a:ext cx="3904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58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84400" y="1600200"/>
            <a:ext cx="390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58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784400" y="3964320"/>
            <a:ext cx="390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58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0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a58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4000" y="1600200"/>
            <a:ext cx="390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58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84400" y="1600200"/>
            <a:ext cx="390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58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4000" y="3964320"/>
            <a:ext cx="8002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58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0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a58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4000" y="1600200"/>
            <a:ext cx="8002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58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4000" y="3964320"/>
            <a:ext cx="8002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58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0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a58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4000" y="1600200"/>
            <a:ext cx="390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58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84400" y="1600200"/>
            <a:ext cx="390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58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4000" y="3964320"/>
            <a:ext cx="390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58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784400" y="3964320"/>
            <a:ext cx="390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58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0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a58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4000" y="1600200"/>
            <a:ext cx="2576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58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89760" y="1600200"/>
            <a:ext cx="2576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58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95520" y="1600200"/>
            <a:ext cx="2576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58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4000" y="3964320"/>
            <a:ext cx="2576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58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89760" y="3964320"/>
            <a:ext cx="2576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58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95520" y="3964320"/>
            <a:ext cx="2576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58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0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a58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84000" y="1600200"/>
            <a:ext cx="8002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58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0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a58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4000" y="1600200"/>
            <a:ext cx="3904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58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84400" y="1600200"/>
            <a:ext cx="3904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58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0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a58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84000" y="274320"/>
            <a:ext cx="8002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a58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0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a58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000" y="1600200"/>
            <a:ext cx="390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58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84400" y="1600200"/>
            <a:ext cx="3904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58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84000" y="3964320"/>
            <a:ext cx="390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58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0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a58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4000" y="1600200"/>
            <a:ext cx="3904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58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84400" y="1600200"/>
            <a:ext cx="390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58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84400" y="3964320"/>
            <a:ext cx="390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58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0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a58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4000" y="1600200"/>
            <a:ext cx="390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58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84400" y="1600200"/>
            <a:ext cx="390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58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4000" y="3964320"/>
            <a:ext cx="8002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58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0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a5800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da58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000" y="1600200"/>
            <a:ext cx="8002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902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a58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da58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902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a58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da58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ff902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a58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da580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601"/>
              </a:spcBef>
              <a:buClr>
                <a:srgbClr val="ff902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a58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da580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601"/>
              </a:spcBef>
              <a:buClr>
                <a:srgbClr val="da58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a58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da580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a58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da580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a58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da58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12720" y="2061720"/>
            <a:ext cx="6408720" cy="117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a58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da58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a58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da5800"/>
              </a:solidFill>
              <a:latin typeface="Arial"/>
            </a:endParaRPr>
          </a:p>
          <a:p>
            <a:pPr lvl="1" marL="457200" indent="0"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a58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da5800"/>
              </a:solidFill>
              <a:latin typeface="Arial"/>
            </a:endParaRPr>
          </a:p>
          <a:p>
            <a:pPr lvl="2" marL="914400" algn="ctr">
              <a:lnSpc>
                <a:spcPct val="120000"/>
              </a:lnSpc>
              <a:spcBef>
                <a:spcPts val="451"/>
              </a:spcBef>
              <a:buClr>
                <a:srgbClr val="ff9021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a58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da5800"/>
              </a:solidFill>
              <a:latin typeface="Arial"/>
            </a:endParaRPr>
          </a:p>
          <a:p>
            <a:pPr lvl="3" marL="1371600" algn="ctr">
              <a:lnSpc>
                <a:spcPct val="120000"/>
              </a:lnSpc>
              <a:spcBef>
                <a:spcPts val="400"/>
              </a:spcBef>
              <a:buClr>
                <a:srgbClr val="ff9021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da58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da58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da5800"/>
              </a:buClr>
              <a:buFont typeface="Wingdings" charset="2"/>
              <a:buChar char="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a58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da58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a58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da58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a58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da58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18.wmf"/><Relationship Id="rId5" Type="http://schemas.openxmlformats.org/officeDocument/2006/relationships/image" Target="../media/image19.wmf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gif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12720" y="2061720"/>
            <a:ext cx="6408720" cy="117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Arial"/>
              </a:rPr>
              <a:t>3.2  </a:t>
            </a:r>
            <a:r>
              <a:rPr b="1" lang="zh-CN" sz="3200" spc="-1" strike="noStrike">
                <a:solidFill>
                  <a:srgbClr val="003366"/>
                </a:solidFill>
                <a:latin typeface="Arial"/>
              </a:rPr>
              <a:t>直棱柱、圆锥的侧面展开图</a:t>
            </a:r>
            <a:endParaRPr b="1" lang="en-US" sz="3200" spc="-1" strike="noStrike">
              <a:solidFill>
                <a:srgbClr val="da58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612720" y="33573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a58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0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例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2  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如图，小刚用一张半径为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24cm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的扇形纸板做一个圆锥形帽子（接缝忽略不计），如果做成的圆锥形帽子的底面半径为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10cm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，那么这张扇形纸板的面积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是多少？</a:t>
            </a:r>
            <a:endParaRPr b="0" lang="en-US" sz="2600" spc="-1" strike="noStrike">
              <a:solidFill>
                <a:srgbClr val="da58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4000" y="1600200"/>
            <a:ext cx="8002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902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da5800"/>
                </a:solidFill>
                <a:latin typeface="Arial"/>
              </a:rPr>
              <a:t>分析  圆锥形帽子的底面周长就是扇形的弧长</a:t>
            </a:r>
            <a:r>
              <a:rPr b="0" lang="zh-CN" sz="2400" spc="-1" strike="noStrike">
                <a:solidFill>
                  <a:srgbClr val="da58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da58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902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da5800"/>
                </a:solidFill>
                <a:latin typeface="Arial"/>
              </a:rPr>
              <a:t>解  扇形的弧长（即底面圆周长）为</a:t>
            </a:r>
            <a:endParaRPr b="0" lang="en-US" sz="2400" spc="-1" strike="noStrike">
              <a:solidFill>
                <a:srgbClr val="da58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58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58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902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da5800"/>
                </a:solidFill>
                <a:latin typeface="Arial"/>
              </a:rPr>
              <a:t>所以扇形纸板的面积</a:t>
            </a:r>
            <a:endParaRPr b="0" lang="en-US" sz="2400" spc="-1" strike="noStrike">
              <a:solidFill>
                <a:srgbClr val="da58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58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1549440" y="2852640"/>
            <a:ext cx="3744720" cy="50508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3"/>
          <a:stretch/>
        </p:blipFill>
        <p:spPr>
          <a:xfrm>
            <a:off x="3851280" y="3573360"/>
            <a:ext cx="4722840" cy="97632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4">
            <a:lum bright="20000"/>
          </a:blip>
          <a:stretch/>
        </p:blipFill>
        <p:spPr>
          <a:xfrm>
            <a:off x="7451640" y="1628640"/>
            <a:ext cx="1409760" cy="19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7" dur="8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88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61,-10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8" dur="8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88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61,-10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9" dur="8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4" dur="8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88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61,-10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5" dur="8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88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61,-10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6" dur="8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1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6" dur="80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88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61,-10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7" dur="80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88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61,-10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8" dur="80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3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0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a58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4000" y="1600200"/>
            <a:ext cx="8002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da5800"/>
                </a:solidFill>
                <a:latin typeface="Arial"/>
              </a:rPr>
              <a:t>1.</a:t>
            </a:r>
            <a:r>
              <a:rPr b="0" lang="zh-CN" sz="2400" spc="-1" strike="noStrike">
                <a:solidFill>
                  <a:srgbClr val="da5800"/>
                </a:solidFill>
                <a:latin typeface="Arial"/>
              </a:rPr>
              <a:t>某种例题图形的侧面展开图如图所示，它的底面是正三角形，那么这个立体图形是（   ）</a:t>
            </a:r>
            <a:endParaRPr b="0" lang="en-US" sz="2400" spc="-1" strike="noStrike">
              <a:solidFill>
                <a:srgbClr val="da58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902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da5800"/>
                </a:solidFill>
                <a:latin typeface="Arial"/>
              </a:rPr>
              <a:t>A.</a:t>
            </a:r>
            <a:r>
              <a:rPr b="0" lang="zh-CN" sz="2400" spc="-1" strike="noStrike">
                <a:solidFill>
                  <a:srgbClr val="da5800"/>
                </a:solidFill>
                <a:latin typeface="Arial"/>
              </a:rPr>
              <a:t>三棱柱    </a:t>
            </a:r>
            <a:r>
              <a:rPr b="0" lang="zh-CN" sz="2400" spc="-1" strike="noStrike">
                <a:solidFill>
                  <a:srgbClr val="da5800"/>
                </a:solidFill>
                <a:latin typeface="Arial"/>
              </a:rPr>
              <a:t>B.</a:t>
            </a:r>
            <a:r>
              <a:rPr b="0" lang="zh-CN" sz="2400" spc="-1" strike="noStrike">
                <a:solidFill>
                  <a:srgbClr val="da5800"/>
                </a:solidFill>
                <a:latin typeface="Arial"/>
              </a:rPr>
              <a:t>四棱柱      </a:t>
            </a:r>
            <a:r>
              <a:rPr b="0" lang="zh-CN" sz="2400" spc="-1" strike="noStrike">
                <a:solidFill>
                  <a:srgbClr val="da5800"/>
                </a:solidFill>
                <a:latin typeface="Arial"/>
              </a:rPr>
              <a:t>C.</a:t>
            </a:r>
            <a:r>
              <a:rPr b="0" lang="zh-CN" sz="2400" spc="-1" strike="noStrike">
                <a:solidFill>
                  <a:srgbClr val="da5800"/>
                </a:solidFill>
                <a:latin typeface="Arial"/>
              </a:rPr>
              <a:t>三棱柱</a:t>
            </a:r>
            <a:endParaRPr b="0" lang="en-US" sz="2400" spc="-1" strike="noStrike">
              <a:solidFill>
                <a:srgbClr val="da58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55640" y="404640"/>
            <a:ext cx="1728720" cy="792360"/>
          </a:xfrm>
          <a:prstGeom prst="ellipse">
            <a:avLst/>
          </a:prstGeom>
          <a:gradFill rotWithShape="0">
            <a:gsLst>
              <a:gs pos="0">
                <a:srgbClr val="5e9eff">
                  <a:alpha val="73333"/>
                </a:srgbClr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Times New Roman"/>
              </a:rPr>
              <a:t>练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2">
            <a:lum bright="22000"/>
          </a:blip>
          <a:stretch/>
        </p:blipFill>
        <p:spPr>
          <a:xfrm>
            <a:off x="5724360" y="3645000"/>
            <a:ext cx="1543320" cy="89532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5005080" y="2205000"/>
            <a:ext cx="3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2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5219640" y="2492280"/>
            <a:ext cx="3384720" cy="2305080"/>
          </a:xfrm>
          <a:prstGeom prst="rect">
            <a:avLst/>
          </a:prstGeom>
          <a:solidFill>
            <a:srgbClr val="963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3480" y="1249200"/>
            <a:ext cx="184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39640" y="1052640"/>
            <a:ext cx="828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如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: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圆锥的顶点为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是底面圆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一条直径，∠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P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90°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底面半径为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求这个圆锥的侧面积和表面积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992920" y="3927600"/>
            <a:ext cx="1955520" cy="43956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991120" y="3121200"/>
            <a:ext cx="974880" cy="987120"/>
          </a:xfrm>
          <a:custGeom>
            <a:avLst/>
            <a:gdLst/>
            <a:ahLst/>
            <a:rect l="l" t="t" r="r" b="b"/>
            <a:pathLst>
              <a:path w="614" h="622">
                <a:moveTo>
                  <a:pt x="0" y="622"/>
                </a:moveTo>
                <a:lnTo>
                  <a:pt x="614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969240" y="3117960"/>
            <a:ext cx="987480" cy="993600"/>
          </a:xfrm>
          <a:custGeom>
            <a:avLst/>
            <a:gdLst/>
            <a:ahLst/>
            <a:rect l="l" t="t" r="r" b="b"/>
            <a:pathLst>
              <a:path w="622" h="626">
                <a:moveTo>
                  <a:pt x="622" y="626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996160" y="4127400"/>
            <a:ext cx="1960560" cy="1800"/>
          </a:xfrm>
          <a:custGeom>
            <a:avLst/>
            <a:gdLst/>
            <a:ahLst/>
            <a:rect l="l" t="t" r="r" b="b"/>
            <a:pathLst>
              <a:path w="1235" h="1">
                <a:moveTo>
                  <a:pt x="0" y="1"/>
                </a:moveTo>
                <a:lnTo>
                  <a:pt x="123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447560" y="2133720"/>
            <a:ext cx="315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解：连接</a:t>
            </a: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PO</a:t>
            </a: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则</a:t>
            </a: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PO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⊥</a:t>
            </a: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AB</a:t>
            </a: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垂足为</a:t>
            </a: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1574640" y="3581280"/>
            <a:ext cx="2565720" cy="42408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1690560" y="3176640"/>
            <a:ext cx="223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∴</a:t>
            </a: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AO 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= </a:t>
            </a: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PO 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= 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332000" y="440064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底面⊙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O</a:t>
            </a: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的周长</a:t>
            </a: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3564000" y="4365720"/>
            <a:ext cx="928800" cy="33336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1260360" y="4797360"/>
            <a:ext cx="4953240" cy="89388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2018880" y="2637000"/>
            <a:ext cx="240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又∵△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APB</a:t>
            </a: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为等腰直角三角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858000" y="270828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673960" y="39355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7958520" y="38638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581520" y="40798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961320" y="3143160"/>
            <a:ext cx="0" cy="1008000"/>
          </a:xfrm>
          <a:prstGeom prst="line">
            <a:avLst/>
          </a:prstGeom>
          <a:ln w="5724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5"/>
          <a:stretch/>
        </p:blipFill>
        <p:spPr>
          <a:xfrm>
            <a:off x="1332000" y="5661000"/>
            <a:ext cx="6057720" cy="60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5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44320" y="1058400"/>
            <a:ext cx="34225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100" spc="-1" strike="noStrike">
                <a:solidFill>
                  <a:srgbClr val="ff0000"/>
                </a:solidFill>
                <a:latin typeface="Arial"/>
                <a:ea typeface="隶书"/>
              </a:rPr>
              <a:t>结束寄语</a:t>
            </a:r>
            <a:endParaRPr b="0" lang="en-US" sz="5100" spc="-1" strike="noStrike">
              <a:solidFill>
                <a:srgbClr val="da58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362320"/>
            <a:ext cx="838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1500"/>
              </a:spcBef>
              <a:buClr>
                <a:srgbClr val="ff902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隶书"/>
                <a:ea typeface="隶书"/>
              </a:rPr>
              <a:t>生活是数学的源泉</a:t>
            </a:r>
            <a:r>
              <a:rPr b="1" lang="en-US" sz="6000" spc="-1" strike="noStrike">
                <a:solidFill>
                  <a:srgbClr val="ff0000"/>
                </a:solidFill>
                <a:latin typeface="隶书"/>
                <a:ea typeface="隶书"/>
              </a:rPr>
              <a:t>.</a:t>
            </a:r>
            <a:endParaRPr b="0" lang="en-US" sz="6000" spc="-1" strike="noStrike">
              <a:solidFill>
                <a:srgbClr val="da5800"/>
              </a:solidFill>
              <a:latin typeface="Arial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6400800" y="76320"/>
            <a:ext cx="2646360" cy="1547640"/>
            <a:chOff x="6400800" y="76320"/>
            <a:chExt cx="2646360" cy="1547640"/>
          </a:xfrm>
        </p:grpSpPr>
        <p:pic>
          <p:nvPicPr>
            <p:cNvPr id="200" name="" descr=""/>
            <p:cNvPicPr/>
            <p:nvPr/>
          </p:nvPicPr>
          <p:blipFill>
            <a:blip r:embed="rId2"/>
            <a:stretch/>
          </p:blipFill>
          <p:spPr>
            <a:xfrm>
              <a:off x="7848720" y="76320"/>
              <a:ext cx="1198440" cy="1547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01" name=""/>
            <p:cNvGrpSpPr/>
            <p:nvPr/>
          </p:nvGrpSpPr>
          <p:grpSpPr>
            <a:xfrm>
              <a:off x="6400800" y="119160"/>
              <a:ext cx="1676520" cy="1191960"/>
              <a:chOff x="6400800" y="119160"/>
              <a:chExt cx="1676520" cy="1191960"/>
            </a:xfrm>
          </p:grpSpPr>
          <p:sp>
            <p:nvSpPr>
              <p:cNvPr id="202" name=""/>
              <p:cNvSpPr/>
              <p:nvPr/>
            </p:nvSpPr>
            <p:spPr>
              <a:xfrm>
                <a:off x="6400800" y="143640"/>
                <a:ext cx="1638000" cy="1167480"/>
              </a:xfrm>
              <a:prstGeom prst="horizontalScroll">
                <a:avLst>
                  <a:gd name="adj" fmla="val 12500"/>
                </a:avLst>
              </a:prstGeom>
              <a:blipFill rotWithShape="0">
                <a:blip r:embed="rId3"/>
                <a:srcRect/>
                <a:stretch/>
              </a:blipFill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6419520" y="119160"/>
                <a:ext cx="1657800" cy="57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4" name=""/>
            <p:cNvSpPr/>
            <p:nvPr/>
          </p:nvSpPr>
          <p:spPr>
            <a:xfrm>
              <a:off x="6553080" y="457200"/>
              <a:ext cx="1524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0000"/>
                  </a:solidFill>
                  <a:latin typeface="隶书"/>
                  <a:ea typeface="隶书"/>
                </a:rPr>
                <a:t>下课了</a:t>
              </a:r>
              <a:r>
                <a:rPr b="0" lang="en-US" sz="2800" spc="-1" strike="noStrike">
                  <a:solidFill>
                    <a:srgbClr val="ff0000"/>
                  </a:solidFill>
                  <a:latin typeface="隶书"/>
                  <a:ea typeface="隶书"/>
                </a:rPr>
                <a:t>!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5" name=""/>
          <p:cNvSpPr txBox="1"/>
          <p:nvPr/>
        </p:nvSpPr>
        <p:spPr>
          <a:xfrm>
            <a:off x="3060720" y="4292640"/>
            <a:ext cx="2666880" cy="2041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再见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206" name=""/>
          <p:cNvSpPr/>
          <p:nvPr/>
        </p:nvSpPr>
        <p:spPr>
          <a:xfrm>
            <a:off x="457200" y="3276720"/>
            <a:ext cx="838512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ad5b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隶书"/>
                <a:ea typeface="隶书"/>
              </a:rPr>
              <a:t>探索是数学的生命线</a:t>
            </a:r>
            <a:r>
              <a:rPr b="1" lang="en-US" sz="6000" spc="-1" strike="noStrike">
                <a:solidFill>
                  <a:srgbClr val="ff0000"/>
                </a:solidFill>
                <a:latin typeface="隶书"/>
                <a:ea typeface="隶书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4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5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395280" y="-25560"/>
            <a:ext cx="1544760" cy="162720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0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观察</a:t>
            </a:r>
            <a:endParaRPr b="0" lang="en-US" sz="3600" spc="-1" strike="noStrike">
              <a:solidFill>
                <a:srgbClr val="da58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10920" y="1268280"/>
            <a:ext cx="8002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da5800"/>
                </a:solidFill>
                <a:latin typeface="Arial"/>
              </a:rPr>
              <a:t>观察下列立体图形，它们都是直棱柱的物体，想一想它们的形状有什么共同特点？</a:t>
            </a:r>
            <a:endParaRPr b="0" lang="en-US" sz="2400" spc="-1" strike="noStrike">
              <a:solidFill>
                <a:srgbClr val="da58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1332000" y="2492280"/>
            <a:ext cx="2016000" cy="229248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4068720" y="2492280"/>
            <a:ext cx="358632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0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在几何中，我们把上述这样的立体图形称为直棱柱，其中“棱”是指两个面的公共边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da58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4000" y="1600200"/>
            <a:ext cx="8002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da5800"/>
                </a:solidFill>
                <a:latin typeface="Arial"/>
              </a:rPr>
              <a:t>它具有以下特征：</a:t>
            </a:r>
            <a:endParaRPr b="0" lang="en-US" sz="2400" spc="-1" strike="noStrike">
              <a:solidFill>
                <a:srgbClr val="da58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da5800"/>
                </a:solidFill>
                <a:latin typeface="Arial"/>
              </a:rPr>
              <a:t>（</a:t>
            </a:r>
            <a:r>
              <a:rPr b="0" lang="zh-CN" sz="2400" spc="-1" strike="noStrike">
                <a:solidFill>
                  <a:srgbClr val="da58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da5800"/>
                </a:solidFill>
                <a:latin typeface="Arial"/>
              </a:rPr>
              <a:t>）有两个面互相平行，称它们为底面；</a:t>
            </a:r>
            <a:endParaRPr b="0" lang="en-US" sz="2400" spc="-1" strike="noStrike">
              <a:solidFill>
                <a:srgbClr val="da58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da5800"/>
                </a:solidFill>
                <a:latin typeface="Arial"/>
              </a:rPr>
              <a:t>（</a:t>
            </a:r>
            <a:r>
              <a:rPr b="0" lang="zh-CN" sz="2400" spc="-1" strike="noStrike">
                <a:solidFill>
                  <a:srgbClr val="da580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da5800"/>
                </a:solidFill>
                <a:latin typeface="Arial"/>
              </a:rPr>
              <a:t>）其余各个面均为矩形，称它们为侧面；</a:t>
            </a:r>
            <a:endParaRPr b="0" lang="en-US" sz="2400" spc="-1" strike="noStrike">
              <a:solidFill>
                <a:srgbClr val="da58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da5800"/>
                </a:solidFill>
                <a:latin typeface="Arial"/>
              </a:rPr>
              <a:t>（</a:t>
            </a:r>
            <a:r>
              <a:rPr b="0" lang="zh-CN" sz="2400" spc="-1" strike="noStrike">
                <a:solidFill>
                  <a:srgbClr val="da5800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da5800"/>
                </a:solidFill>
                <a:latin typeface="Arial"/>
              </a:rPr>
              <a:t>）侧棱（指两个侧面的公共边）垂直于底面</a:t>
            </a:r>
            <a:r>
              <a:rPr b="0" lang="zh-CN" sz="2400" spc="-1" strike="noStrike">
                <a:solidFill>
                  <a:srgbClr val="da58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da58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" dur="5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" dur="5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" dur="5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0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da58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4000" y="1600200"/>
            <a:ext cx="8002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902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da5800"/>
                </a:solidFill>
                <a:latin typeface="Arial"/>
              </a:rPr>
              <a:t>根据底面图形的边数，我们分别称下图中的立体图形为直三棱柱、直四棱柱、直六棱柱，例如，长方形和正方形都是直四棱柱</a:t>
            </a:r>
            <a:r>
              <a:rPr b="0" lang="zh-CN" sz="2400" spc="-1" strike="noStrike">
                <a:solidFill>
                  <a:srgbClr val="da5800"/>
                </a:solidFill>
                <a:latin typeface="Arial"/>
              </a:rPr>
              <a:t>.</a:t>
            </a:r>
            <a:r>
              <a:rPr b="0" lang="zh-CN" sz="2400" spc="-1" strike="noStrike">
                <a:solidFill>
                  <a:srgbClr val="da5800"/>
                </a:solidFill>
                <a:latin typeface="Arial"/>
              </a:rPr>
              <a:t>底面是正多边形的棱柱叫作正棱柱</a:t>
            </a:r>
            <a:r>
              <a:rPr b="0" lang="zh-CN" sz="2400" spc="-1" strike="noStrike">
                <a:solidFill>
                  <a:srgbClr val="da58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da58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>
            <a:lum bright="20000"/>
          </a:blip>
          <a:stretch/>
        </p:blipFill>
        <p:spPr>
          <a:xfrm>
            <a:off x="1187280" y="3284640"/>
            <a:ext cx="5832720" cy="168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0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例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1  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一个食品包装盒的侧面展开图如图所示，塔的底面是边长为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的正六边形，这个包装盒是什么形状的几何体？试根据已知数据求出它的侧面积。</a:t>
            </a:r>
            <a:endParaRPr b="0" lang="en-US" sz="2600" spc="-1" strike="noStrike">
              <a:solidFill>
                <a:srgbClr val="da58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4000" y="1600200"/>
            <a:ext cx="8002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58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58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58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902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da5800"/>
                </a:solidFill>
                <a:latin typeface="Arial"/>
              </a:rPr>
              <a:t>解  根据图示可知该包装盒的侧面是矩形，又已知上、下底面是正六边形，因此这个几何体是正六边形（如图）</a:t>
            </a:r>
            <a:r>
              <a:rPr b="0" lang="zh-CN" sz="2400" spc="-1" strike="noStrike">
                <a:solidFill>
                  <a:srgbClr val="da58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da58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902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da5800"/>
                </a:solidFill>
                <a:latin typeface="Arial"/>
              </a:rPr>
              <a:t>由已知数据可知它的底面周长</a:t>
            </a:r>
            <a:r>
              <a:rPr b="0" lang="zh-CN" sz="2400" spc="-1" strike="noStrike">
                <a:solidFill>
                  <a:srgbClr val="da5800"/>
                </a:solidFill>
                <a:latin typeface="Arial"/>
              </a:rPr>
              <a:t>2×6=12</a:t>
            </a:r>
            <a:r>
              <a:rPr b="0" lang="zh-CN" sz="2400" spc="-1" strike="noStrike">
                <a:solidFill>
                  <a:srgbClr val="da5800"/>
                </a:solidFill>
                <a:latin typeface="Arial"/>
              </a:rPr>
              <a:t>，</a:t>
            </a:r>
            <a:endParaRPr b="0" lang="en-US" sz="2400" spc="-1" strike="noStrike">
              <a:solidFill>
                <a:srgbClr val="da58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902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da5800"/>
                </a:solidFill>
                <a:latin typeface="Arial"/>
              </a:rPr>
              <a:t>因此它的侧面积为</a:t>
            </a:r>
            <a:r>
              <a:rPr b="0" lang="zh-CN" sz="2400" spc="-1" strike="noStrike">
                <a:solidFill>
                  <a:srgbClr val="da5800"/>
                </a:solidFill>
                <a:latin typeface="Arial"/>
              </a:rPr>
              <a:t>12×6=72.</a:t>
            </a:r>
            <a:endParaRPr b="0" lang="en-US" sz="2400" spc="-1" strike="noStrike">
              <a:solidFill>
                <a:srgbClr val="da58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>
            <a:lum bright="20000"/>
          </a:blip>
          <a:stretch/>
        </p:blipFill>
        <p:spPr>
          <a:xfrm>
            <a:off x="1403280" y="1773360"/>
            <a:ext cx="2162160" cy="10666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>
            <a:lum bright="20000"/>
          </a:blip>
          <a:stretch/>
        </p:blipFill>
        <p:spPr>
          <a:xfrm>
            <a:off x="7308720" y="4653000"/>
            <a:ext cx="1123920" cy="14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" dur="8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88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61,-10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" dur="8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88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61,-10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" dur="8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" dur="8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88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61,-10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" dur="8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88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61,-10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" dur="8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" dur="80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88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61,-10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" dur="80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88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61,-10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" dur="80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539640" y="0"/>
            <a:ext cx="1544760" cy="1628640"/>
          </a:xfrm>
          <a:prstGeom prst="rect">
            <a:avLst/>
          </a:prstGeom>
          <a:ln w="0">
            <a:noFill/>
          </a:ln>
        </p:spPr>
      </p:pic>
      <p:grpSp>
        <p:nvGrpSpPr>
          <p:cNvPr id="93" name=""/>
          <p:cNvGrpSpPr/>
          <p:nvPr/>
        </p:nvGrpSpPr>
        <p:grpSpPr>
          <a:xfrm>
            <a:off x="468360" y="333360"/>
            <a:ext cx="1769760" cy="1406160"/>
            <a:chOff x="468360" y="333360"/>
            <a:chExt cx="1769760" cy="1406160"/>
          </a:xfrm>
        </p:grpSpPr>
        <p:sp>
          <p:nvSpPr>
            <p:cNvPr id="94" name=""/>
            <p:cNvSpPr/>
            <p:nvPr/>
          </p:nvSpPr>
          <p:spPr>
            <a:xfrm>
              <a:off x="468360" y="333360"/>
              <a:ext cx="999360" cy="1406160"/>
            </a:xfrm>
            <a:prstGeom prst="diamond">
              <a:avLst/>
            </a:prstGeom>
            <a:blipFill rotWithShape="0">
              <a:blip r:embed="rId3">
                <a:alphaModFix amt="50000"/>
              </a:blip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3300"/>
                  </a:solidFill>
                  <a:latin typeface="Arial"/>
                </a:rPr>
                <a:t>观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266840" y="333360"/>
              <a:ext cx="971280" cy="1406160"/>
            </a:xfrm>
            <a:prstGeom prst="diamond">
              <a:avLst/>
            </a:prstGeom>
            <a:blipFill rotWithShape="0">
              <a:blip r:embed="rId4">
                <a:alphaModFix amt="50000"/>
              </a:blip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3300"/>
                  </a:solidFill>
                  <a:latin typeface="Arial"/>
                </a:rPr>
                <a:t>察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"/>
          <p:cNvSpPr/>
          <p:nvPr/>
        </p:nvSpPr>
        <p:spPr>
          <a:xfrm>
            <a:off x="181080" y="1892160"/>
            <a:ext cx="899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烟囱帽、沙堆、我国南方一些地区农民戴的斗笠等都是圆锥物体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5"/>
          <a:stretch/>
        </p:blipFill>
        <p:spPr>
          <a:xfrm>
            <a:off x="2698920" y="2997360"/>
            <a:ext cx="2736720" cy="22557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6"/>
          <a:stretch/>
        </p:blipFill>
        <p:spPr>
          <a:xfrm>
            <a:off x="6227640" y="2852640"/>
            <a:ext cx="2521080" cy="2448000"/>
          </a:xfrm>
          <a:prstGeom prst="rect">
            <a:avLst/>
          </a:prstGeom>
          <a:ln w="0">
            <a:noFill/>
          </a:ln>
        </p:spPr>
      </p:pic>
      <p:grpSp>
        <p:nvGrpSpPr>
          <p:cNvPr id="99" name=""/>
          <p:cNvGrpSpPr/>
          <p:nvPr/>
        </p:nvGrpSpPr>
        <p:grpSpPr>
          <a:xfrm>
            <a:off x="250560" y="2997360"/>
            <a:ext cx="1872720" cy="2231640"/>
            <a:chOff x="250560" y="2997360"/>
            <a:chExt cx="1872720" cy="2231640"/>
          </a:xfrm>
        </p:grpSpPr>
        <p:sp>
          <p:nvSpPr>
            <p:cNvPr id="100" name=""/>
            <p:cNvSpPr/>
            <p:nvPr/>
          </p:nvSpPr>
          <p:spPr>
            <a:xfrm>
              <a:off x="501840" y="4207320"/>
              <a:ext cx="1369080" cy="1021680"/>
            </a:xfrm>
            <a:prstGeom prst="can">
              <a:avLst>
                <a:gd name="adj" fmla="val 17287"/>
              </a:avLst>
            </a:prstGeom>
            <a:gradFill rotWithShape="0">
              <a:gsLst>
                <a:gs pos="0">
                  <a:srgbClr val="da5800"/>
                </a:gs>
                <a:gs pos="50000">
                  <a:srgbClr val="ffffff"/>
                </a:gs>
                <a:gs pos="100000">
                  <a:srgbClr val="da5800"/>
                </a:gs>
              </a:gsLst>
              <a:lin ang="10800000"/>
            </a:gradFill>
            <a:ln w="93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01840" y="3816360"/>
              <a:ext cx="0" cy="626400"/>
            </a:xfrm>
            <a:prstGeom prst="line">
              <a:avLst/>
            </a:prstGeom>
            <a:ln w="93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871280" y="3816360"/>
              <a:ext cx="0" cy="706320"/>
            </a:xfrm>
            <a:prstGeom prst="line">
              <a:avLst/>
            </a:prstGeom>
            <a:ln w="93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3" name=""/>
            <p:cNvGrpSpPr/>
            <p:nvPr/>
          </p:nvGrpSpPr>
          <p:grpSpPr>
            <a:xfrm>
              <a:off x="250560" y="2997360"/>
              <a:ext cx="1872720" cy="1015920"/>
              <a:chOff x="250560" y="2997360"/>
              <a:chExt cx="1872720" cy="1015920"/>
            </a:xfrm>
          </p:grpSpPr>
          <p:sp>
            <p:nvSpPr>
              <p:cNvPr id="104" name="z3Oval 2"/>
              <p:cNvSpPr/>
              <p:nvPr/>
            </p:nvSpPr>
            <p:spPr>
              <a:xfrm>
                <a:off x="255600" y="3715560"/>
                <a:ext cx="1867680" cy="297720"/>
              </a:xfrm>
              <a:prstGeom prst="ellipse">
                <a:avLst/>
              </a:prstGeom>
              <a:solidFill>
                <a:srgbClr val="da5800"/>
              </a:solidFill>
              <a:ln w="93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z3Line 3"/>
              <p:cNvSpPr/>
              <p:nvPr/>
            </p:nvSpPr>
            <p:spPr>
              <a:xfrm flipH="1">
                <a:off x="250560" y="2997360"/>
                <a:ext cx="937080" cy="860400"/>
              </a:xfrm>
              <a:prstGeom prst="line">
                <a:avLst/>
              </a:prstGeom>
              <a:ln w="93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z3Line 4"/>
              <p:cNvSpPr/>
              <p:nvPr/>
            </p:nvSpPr>
            <p:spPr>
              <a:xfrm>
                <a:off x="1192680" y="2997360"/>
                <a:ext cx="930600" cy="860400"/>
              </a:xfrm>
              <a:prstGeom prst="line">
                <a:avLst/>
              </a:prstGeom>
              <a:ln w="93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250920" y="3002400"/>
                <a:ext cx="1872360" cy="863640"/>
              </a:xfrm>
              <a:prstGeom prst="flowChartExtra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a58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2556000" y="2997360"/>
            <a:ext cx="3744720" cy="3456000"/>
          </a:xfrm>
          <a:prstGeom prst="rect">
            <a:avLst/>
          </a:prstGeom>
          <a:solidFill>
            <a:srgbClr val="ff9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976120" y="765000"/>
            <a:ext cx="13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圆锥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是由一个底面和一个侧面围成的图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715400" y="1484280"/>
            <a:ext cx="120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如图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圆锥的底面是一个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圆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3884400" y="3862440"/>
            <a:ext cx="1336680" cy="1800720"/>
            <a:chOff x="3884400" y="3862440"/>
            <a:chExt cx="1336680" cy="1800720"/>
          </a:xfrm>
        </p:grpSpPr>
        <p:sp>
          <p:nvSpPr>
            <p:cNvPr id="112" name="d37Arc 2"/>
            <p:cNvSpPr/>
            <p:nvPr/>
          </p:nvSpPr>
          <p:spPr>
            <a:xfrm>
              <a:off x="3884400" y="5148720"/>
              <a:ext cx="1336320" cy="514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8" y="10396"/>
                  </a:moveTo>
                  <a:arcTo wR="10800" hR="10800" stAng="-10671234" swAng="10671234"/>
                  <a:lnTo>
                    <a:pt x="10800" y="10800"/>
                  </a:lnTo>
                  <a:close/>
                </a:path>
                <a:path fill="none" w="21600" h="21600">
                  <a:moveTo>
                    <a:pt x="8" y="10396"/>
                  </a:moveTo>
                  <a:arcTo wR="10800" hR="10800" stAng="-10671234" swAng="10671234"/>
                </a:path>
              </a:pathLst>
            </a:custGeom>
            <a:noFill/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d37Arc 3"/>
            <p:cNvSpPr/>
            <p:nvPr/>
          </p:nvSpPr>
          <p:spPr>
            <a:xfrm flipV="1">
              <a:off x="3885480" y="5150160"/>
              <a:ext cx="1335240" cy="510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" y="10120"/>
                  </a:moveTo>
                  <a:arcTo wR="10800" hR="10800" stAng="-10583430" swAng="1058343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" y="10120"/>
                  </a:moveTo>
                  <a:arcTo wR="10800" hR="10800" stAng="-10583430" swAng="1058343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d37Line 5"/>
            <p:cNvSpPr/>
            <p:nvPr/>
          </p:nvSpPr>
          <p:spPr>
            <a:xfrm flipH="1">
              <a:off x="3884760" y="3862440"/>
              <a:ext cx="668160" cy="15440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d37Line 6"/>
            <p:cNvSpPr/>
            <p:nvPr/>
          </p:nvSpPr>
          <p:spPr>
            <a:xfrm>
              <a:off x="4552920" y="3862440"/>
              <a:ext cx="668160" cy="15440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3917880" y="4365720"/>
            <a:ext cx="58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892680" y="5415120"/>
            <a:ext cx="1328760" cy="1440"/>
          </a:xfrm>
          <a:custGeom>
            <a:avLst/>
            <a:gdLst/>
            <a:ahLst/>
            <a:rect l="l" t="t" r="r" b="b"/>
            <a:pathLst>
              <a:path w="837" h="1">
                <a:moveTo>
                  <a:pt x="0" y="1"/>
                </a:moveTo>
                <a:lnTo>
                  <a:pt x="837" y="0"/>
                </a:ln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500720" y="5397480"/>
            <a:ext cx="36360" cy="36360"/>
          </a:xfrm>
          <a:prstGeom prst="ellipse">
            <a:avLst/>
          </a:prstGeom>
          <a:solidFill>
            <a:srgbClr val="da5800"/>
          </a:solidFill>
          <a:ln w="9360">
            <a:solidFill>
              <a:srgbClr val="da5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460760" y="5288040"/>
            <a:ext cx="58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990960" y="5276880"/>
            <a:ext cx="58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824000" y="1519200"/>
            <a:ext cx="304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连结顶点与底面圆心的线段叫作圆锥的</a:t>
            </a: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高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51480" y="3900600"/>
            <a:ext cx="0" cy="1512720"/>
          </a:xfrm>
          <a:prstGeom prst="line">
            <a:avLst/>
          </a:prstGeom>
          <a:ln w="93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826920" y="2205000"/>
            <a:ext cx="777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圆锥顶点与底面圆上任意一点的连线段都叫作圆锥的</a:t>
            </a: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母线</a:t>
            </a: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母线的长度均相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551480" y="3900600"/>
            <a:ext cx="485640" cy="16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" dur="3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3137760" y="1413000"/>
            <a:ext cx="216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在一张硬纸板上画一个扇形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如图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1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044080" y="461628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917680" y="450864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95280" y="260280"/>
            <a:ext cx="13716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11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ff3300"/>
                  </a:solidFill>
                  <a:miter/>
                </a:ln>
                <a:solidFill>
                  <a:srgbClr val="ff33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做一做</a:t>
            </a:r>
            <a:endParaRPr b="0" lang="en-US" sz="1800" spc="1" strike="noStrike">
              <a:ln w="12600">
                <a:solidFill>
                  <a:srgbClr val="ff3300"/>
                </a:solidFill>
                <a:miter/>
              </a:ln>
              <a:solidFill>
                <a:srgbClr val="ff33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794160" y="2463120"/>
            <a:ext cx="2931120" cy="2858040"/>
            <a:chOff x="794160" y="2463120"/>
            <a:chExt cx="2931120" cy="2858040"/>
          </a:xfrm>
        </p:grpSpPr>
        <p:grpSp>
          <p:nvGrpSpPr>
            <p:cNvPr id="130" name=""/>
            <p:cNvGrpSpPr/>
            <p:nvPr/>
          </p:nvGrpSpPr>
          <p:grpSpPr>
            <a:xfrm>
              <a:off x="794160" y="2463120"/>
              <a:ext cx="2931120" cy="2858040"/>
              <a:chOff x="794160" y="2463120"/>
              <a:chExt cx="2931120" cy="2858040"/>
            </a:xfrm>
          </p:grpSpPr>
          <p:sp>
            <p:nvSpPr>
              <p:cNvPr id="131" name="shp1"/>
              <p:cNvSpPr/>
              <p:nvPr/>
            </p:nvSpPr>
            <p:spPr>
              <a:xfrm rot="3978000">
                <a:off x="1308960" y="2691000"/>
                <a:ext cx="677160" cy="1566720"/>
              </a:xfrm>
              <a:custGeom>
                <a:avLst/>
                <a:gdLst/>
                <a:ahLst/>
                <a:rect l="l" t="t" r="r" b="b"/>
                <a:pathLst>
                  <a:path w="418" h="968">
                    <a:moveTo>
                      <a:pt x="0" y="0"/>
                    </a:moveTo>
                    <a:lnTo>
                      <a:pt x="418" y="968"/>
                    </a:lnTo>
                  </a:path>
                </a:pathLst>
              </a:custGeom>
              <a:solidFill>
                <a:srgbClr val="ff9021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shp2"/>
              <p:cNvSpPr/>
              <p:nvPr/>
            </p:nvSpPr>
            <p:spPr>
              <a:xfrm rot="3978000">
                <a:off x="2205720" y="2880360"/>
                <a:ext cx="1538640" cy="960120"/>
              </a:xfrm>
              <a:custGeom>
                <a:avLst/>
                <a:gdLst/>
                <a:ahLst/>
                <a:rect l="l" t="t" r="r" b="b"/>
                <a:pathLst>
                  <a:path w="950" h="593">
                    <a:moveTo>
                      <a:pt x="950" y="0"/>
                    </a:moveTo>
                    <a:lnTo>
                      <a:pt x="0" y="593"/>
                    </a:lnTo>
                  </a:path>
                </a:pathLst>
              </a:custGeom>
              <a:solidFill>
                <a:srgbClr val="ff9021"/>
              </a:solidFill>
              <a:ln w="9360">
                <a:solidFill>
                  <a:srgbClr val="da58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shape2"/>
              <p:cNvSpPr/>
              <p:nvPr/>
            </p:nvSpPr>
            <p:spPr>
              <a:xfrm rot="7998000">
                <a:off x="1403640" y="3097080"/>
                <a:ext cx="1985040" cy="1781280"/>
              </a:xfrm>
              <a:custGeom>
                <a:avLst/>
                <a:gdLst/>
                <a:ahLst/>
                <a:rect l="l" t="t" r="r" b="b"/>
                <a:pathLst>
                  <a:path w="2001" h="2001">
                    <a:moveTo>
                      <a:pt x="0" y="0"/>
                    </a:moveTo>
                    <a:cubicBezTo>
                      <a:pt x="141" y="5"/>
                      <a:pt x="200" y="10"/>
                      <a:pt x="244" y="15"/>
                    </a:cubicBezTo>
                    <a:cubicBezTo>
                      <a:pt x="282" y="20"/>
                      <a:pt x="315" y="25"/>
                      <a:pt x="345" y="30"/>
                    </a:cubicBezTo>
                    <a:cubicBezTo>
                      <a:pt x="373" y="35"/>
                      <a:pt x="398" y="40"/>
                      <a:pt x="422" y="45"/>
                    </a:cubicBezTo>
                    <a:cubicBezTo>
                      <a:pt x="444" y="50"/>
                      <a:pt x="466" y="55"/>
                      <a:pt x="486" y="60"/>
                    </a:cubicBezTo>
                    <a:cubicBezTo>
                      <a:pt x="506" y="65"/>
                      <a:pt x="525" y="70"/>
                      <a:pt x="543" y="75"/>
                    </a:cubicBezTo>
                    <a:cubicBezTo>
                      <a:pt x="560" y="80"/>
                      <a:pt x="577" y="85"/>
                      <a:pt x="593" y="90"/>
                    </a:cubicBezTo>
                    <a:cubicBezTo>
                      <a:pt x="609" y="95"/>
                      <a:pt x="625" y="100"/>
                      <a:pt x="640" y="105"/>
                    </a:cubicBezTo>
                    <a:cubicBezTo>
                      <a:pt x="654" y="110"/>
                      <a:pt x="668" y="115"/>
                      <a:pt x="682" y="120"/>
                    </a:cubicBezTo>
                    <a:cubicBezTo>
                      <a:pt x="696" y="125"/>
                      <a:pt x="709" y="130"/>
                      <a:pt x="722" y="135"/>
                    </a:cubicBezTo>
                    <a:cubicBezTo>
                      <a:pt x="735" y="140"/>
                      <a:pt x="748" y="145"/>
                      <a:pt x="760" y="150"/>
                    </a:cubicBezTo>
                    <a:cubicBezTo>
                      <a:pt x="772" y="155"/>
                      <a:pt x="784" y="160"/>
                      <a:pt x="795" y="165"/>
                    </a:cubicBezTo>
                    <a:cubicBezTo>
                      <a:pt x="807" y="170"/>
                      <a:pt x="818" y="175"/>
                      <a:pt x="829" y="180"/>
                    </a:cubicBezTo>
                    <a:cubicBezTo>
                      <a:pt x="840" y="185"/>
                      <a:pt x="851" y="190"/>
                      <a:pt x="861" y="195"/>
                    </a:cubicBezTo>
                    <a:cubicBezTo>
                      <a:pt x="872" y="200"/>
                      <a:pt x="882" y="205"/>
                      <a:pt x="892" y="210"/>
                    </a:cubicBezTo>
                    <a:cubicBezTo>
                      <a:pt x="902" y="215"/>
                      <a:pt x="912" y="220"/>
                      <a:pt x="922" y="225"/>
                    </a:cubicBezTo>
                    <a:cubicBezTo>
                      <a:pt x="931" y="230"/>
                      <a:pt x="941" y="235"/>
                      <a:pt x="950" y="240"/>
                    </a:cubicBezTo>
                    <a:cubicBezTo>
                      <a:pt x="959" y="245"/>
                      <a:pt x="968" y="250"/>
                      <a:pt x="977" y="255"/>
                    </a:cubicBezTo>
                    <a:cubicBezTo>
                      <a:pt x="986" y="260"/>
                      <a:pt x="995" y="265"/>
                      <a:pt x="1004" y="270"/>
                    </a:cubicBezTo>
                    <a:cubicBezTo>
                      <a:pt x="1012" y="275"/>
                      <a:pt x="1021" y="280"/>
                      <a:pt x="1029" y="285"/>
                    </a:cubicBezTo>
                    <a:cubicBezTo>
                      <a:pt x="1037" y="290"/>
                      <a:pt x="1045" y="295"/>
                      <a:pt x="1054" y="300"/>
                    </a:cubicBezTo>
                    <a:cubicBezTo>
                      <a:pt x="1062" y="305"/>
                      <a:pt x="1070" y="310"/>
                      <a:pt x="1077" y="315"/>
                    </a:cubicBezTo>
                    <a:cubicBezTo>
                      <a:pt x="1085" y="320"/>
                      <a:pt x="1093" y="325"/>
                      <a:pt x="1101" y="330"/>
                    </a:cubicBezTo>
                    <a:cubicBezTo>
                      <a:pt x="1108" y="335"/>
                      <a:pt x="1116" y="340"/>
                      <a:pt x="1123" y="345"/>
                    </a:cubicBezTo>
                    <a:cubicBezTo>
                      <a:pt x="1130" y="350"/>
                      <a:pt x="1138" y="355"/>
                      <a:pt x="1145" y="360"/>
                    </a:cubicBezTo>
                    <a:cubicBezTo>
                      <a:pt x="1152" y="365"/>
                      <a:pt x="1159" y="370"/>
                      <a:pt x="1166" y="375"/>
                    </a:cubicBezTo>
                    <a:cubicBezTo>
                      <a:pt x="1173" y="380"/>
                      <a:pt x="1180" y="385"/>
                      <a:pt x="1187" y="390"/>
                    </a:cubicBezTo>
                    <a:cubicBezTo>
                      <a:pt x="1193" y="395"/>
                      <a:pt x="1200" y="400"/>
                      <a:pt x="1207" y="405"/>
                    </a:cubicBezTo>
                    <a:cubicBezTo>
                      <a:pt x="1213" y="410"/>
                      <a:pt x="1220" y="415"/>
                      <a:pt x="1226" y="420"/>
                    </a:cubicBezTo>
                    <a:cubicBezTo>
                      <a:pt x="1233" y="425"/>
                      <a:pt x="1239" y="430"/>
                      <a:pt x="1245" y="435"/>
                    </a:cubicBezTo>
                    <a:cubicBezTo>
                      <a:pt x="1252" y="440"/>
                      <a:pt x="1258" y="445"/>
                      <a:pt x="1264" y="450"/>
                    </a:cubicBezTo>
                    <a:cubicBezTo>
                      <a:pt x="1270" y="455"/>
                      <a:pt x="1276" y="460"/>
                      <a:pt x="1282" y="465"/>
                    </a:cubicBezTo>
                    <a:cubicBezTo>
                      <a:pt x="1288" y="470"/>
                      <a:pt x="1294" y="475"/>
                      <a:pt x="1300" y="480"/>
                    </a:cubicBezTo>
                    <a:cubicBezTo>
                      <a:pt x="1306" y="485"/>
                      <a:pt x="1311" y="490"/>
                      <a:pt x="1317" y="495"/>
                    </a:cubicBezTo>
                    <a:cubicBezTo>
                      <a:pt x="1323" y="500"/>
                      <a:pt x="1329" y="505"/>
                      <a:pt x="1334" y="510"/>
                    </a:cubicBezTo>
                    <a:cubicBezTo>
                      <a:pt x="1340" y="515"/>
                      <a:pt x="1345" y="520"/>
                      <a:pt x="1351" y="525"/>
                    </a:cubicBezTo>
                    <a:cubicBezTo>
                      <a:pt x="1356" y="530"/>
                      <a:pt x="1362" y="535"/>
                      <a:pt x="1367" y="540"/>
                    </a:cubicBezTo>
                    <a:cubicBezTo>
                      <a:pt x="1372" y="545"/>
                      <a:pt x="1378" y="550"/>
                      <a:pt x="1383" y="555"/>
                    </a:cubicBezTo>
                    <a:cubicBezTo>
                      <a:pt x="1388" y="560"/>
                      <a:pt x="1393" y="565"/>
                      <a:pt x="1398" y="570"/>
                    </a:cubicBezTo>
                    <a:cubicBezTo>
                      <a:pt x="1403" y="575"/>
                      <a:pt x="1408" y="580"/>
                      <a:pt x="1413" y="585"/>
                    </a:cubicBezTo>
                    <a:cubicBezTo>
                      <a:pt x="1418" y="590"/>
                      <a:pt x="1423" y="595"/>
                      <a:pt x="1428" y="600"/>
                    </a:cubicBezTo>
                    <a:cubicBezTo>
                      <a:pt x="1433" y="605"/>
                      <a:pt x="1438" y="610"/>
                      <a:pt x="1443" y="615"/>
                    </a:cubicBezTo>
                    <a:cubicBezTo>
                      <a:pt x="1448" y="620"/>
                      <a:pt x="1452" y="625"/>
                      <a:pt x="1457" y="630"/>
                    </a:cubicBezTo>
                    <a:cubicBezTo>
                      <a:pt x="1462" y="635"/>
                      <a:pt x="1466" y="640"/>
                      <a:pt x="1471" y="645"/>
                    </a:cubicBezTo>
                    <a:cubicBezTo>
                      <a:pt x="1476" y="650"/>
                      <a:pt x="1480" y="655"/>
                      <a:pt x="1485" y="660"/>
                    </a:cubicBezTo>
                    <a:cubicBezTo>
                      <a:pt x="1489" y="665"/>
                      <a:pt x="1494" y="670"/>
                      <a:pt x="1498" y="675"/>
                    </a:cubicBezTo>
                    <a:cubicBezTo>
                      <a:pt x="1503" y="680"/>
                      <a:pt x="1507" y="685"/>
                      <a:pt x="1511" y="690"/>
                    </a:cubicBezTo>
                    <a:cubicBezTo>
                      <a:pt x="1516" y="695"/>
                      <a:pt x="1520" y="700"/>
                      <a:pt x="1524" y="705"/>
                    </a:cubicBezTo>
                    <a:cubicBezTo>
                      <a:pt x="1528" y="710"/>
                      <a:pt x="1533" y="715"/>
                      <a:pt x="1537" y="720"/>
                    </a:cubicBezTo>
                    <a:cubicBezTo>
                      <a:pt x="1541" y="725"/>
                      <a:pt x="1545" y="730"/>
                      <a:pt x="1549" y="735"/>
                    </a:cubicBezTo>
                    <a:cubicBezTo>
                      <a:pt x="1553" y="740"/>
                      <a:pt x="1557" y="745"/>
                      <a:pt x="1561" y="750"/>
                    </a:cubicBezTo>
                    <a:cubicBezTo>
                      <a:pt x="1565" y="755"/>
                      <a:pt x="1569" y="760"/>
                      <a:pt x="1573" y="765"/>
                    </a:cubicBezTo>
                    <a:cubicBezTo>
                      <a:pt x="1577" y="770"/>
                      <a:pt x="1581" y="775"/>
                      <a:pt x="1585" y="780"/>
                    </a:cubicBezTo>
                    <a:cubicBezTo>
                      <a:pt x="1589" y="785"/>
                      <a:pt x="1592" y="790"/>
                      <a:pt x="1596" y="795"/>
                    </a:cubicBezTo>
                    <a:cubicBezTo>
                      <a:pt x="1600" y="800"/>
                      <a:pt x="1604" y="805"/>
                      <a:pt x="1607" y="810"/>
                    </a:cubicBezTo>
                    <a:cubicBezTo>
                      <a:pt x="1611" y="815"/>
                      <a:pt x="1615" y="820"/>
                      <a:pt x="1618" y="825"/>
                    </a:cubicBezTo>
                    <a:cubicBezTo>
                      <a:pt x="1622" y="830"/>
                      <a:pt x="1626" y="835"/>
                      <a:pt x="1629" y="840"/>
                    </a:cubicBezTo>
                    <a:cubicBezTo>
                      <a:pt x="1633" y="845"/>
                      <a:pt x="1636" y="850"/>
                      <a:pt x="1640" y="855"/>
                    </a:cubicBezTo>
                    <a:cubicBezTo>
                      <a:pt x="1643" y="860"/>
                      <a:pt x="1647" y="865"/>
                      <a:pt x="1650" y="870"/>
                    </a:cubicBezTo>
                    <a:cubicBezTo>
                      <a:pt x="1654" y="875"/>
                      <a:pt x="1657" y="880"/>
                      <a:pt x="1660" y="885"/>
                    </a:cubicBezTo>
                    <a:cubicBezTo>
                      <a:pt x="1664" y="890"/>
                      <a:pt x="1667" y="895"/>
                      <a:pt x="1670" y="900"/>
                    </a:cubicBezTo>
                    <a:cubicBezTo>
                      <a:pt x="1674" y="905"/>
                      <a:pt x="1677" y="910"/>
                      <a:pt x="1680" y="915"/>
                    </a:cubicBezTo>
                    <a:cubicBezTo>
                      <a:pt x="1683" y="920"/>
                      <a:pt x="1687" y="925"/>
                      <a:pt x="1690" y="930"/>
                    </a:cubicBezTo>
                    <a:cubicBezTo>
                      <a:pt x="1693" y="935"/>
                      <a:pt x="1696" y="940"/>
                      <a:pt x="1699" y="945"/>
                    </a:cubicBezTo>
                    <a:cubicBezTo>
                      <a:pt x="1702" y="950"/>
                      <a:pt x="1705" y="955"/>
                      <a:pt x="1708" y="960"/>
                    </a:cubicBezTo>
                    <a:cubicBezTo>
                      <a:pt x="1711" y="965"/>
                      <a:pt x="1714" y="970"/>
                      <a:pt x="1717" y="975"/>
                    </a:cubicBezTo>
                    <a:cubicBezTo>
                      <a:pt x="1720" y="980"/>
                      <a:pt x="1723" y="985"/>
                      <a:pt x="1726" y="990"/>
                    </a:cubicBezTo>
                    <a:cubicBezTo>
                      <a:pt x="1729" y="995"/>
                      <a:pt x="1732" y="1000"/>
                      <a:pt x="1735" y="1005"/>
                    </a:cubicBezTo>
                    <a:cubicBezTo>
                      <a:pt x="1738" y="1010"/>
                      <a:pt x="1741" y="1015"/>
                      <a:pt x="1743" y="1020"/>
                    </a:cubicBezTo>
                    <a:cubicBezTo>
                      <a:pt x="1746" y="1025"/>
                      <a:pt x="1749" y="1030"/>
                      <a:pt x="1752" y="1035"/>
                    </a:cubicBezTo>
                    <a:cubicBezTo>
                      <a:pt x="1755" y="1040"/>
                      <a:pt x="1757" y="1045"/>
                      <a:pt x="1760" y="1050"/>
                    </a:cubicBezTo>
                    <a:cubicBezTo>
                      <a:pt x="1763" y="1055"/>
                      <a:pt x="1765" y="1060"/>
                      <a:pt x="1768" y="1065"/>
                    </a:cubicBezTo>
                    <a:cubicBezTo>
                      <a:pt x="1771" y="1070"/>
                      <a:pt x="1773" y="1075"/>
                      <a:pt x="1776" y="1080"/>
                    </a:cubicBezTo>
                    <a:cubicBezTo>
                      <a:pt x="1778" y="1085"/>
                      <a:pt x="1781" y="1090"/>
                      <a:pt x="1784" y="1095"/>
                    </a:cubicBezTo>
                    <a:cubicBezTo>
                      <a:pt x="1786" y="1100"/>
                      <a:pt x="1789" y="1105"/>
                      <a:pt x="1791" y="1110"/>
                    </a:cubicBezTo>
                    <a:cubicBezTo>
                      <a:pt x="1794" y="1115"/>
                      <a:pt x="1796" y="1120"/>
                      <a:pt x="1798" y="1125"/>
                    </a:cubicBezTo>
                    <a:cubicBezTo>
                      <a:pt x="1801" y="1130"/>
                      <a:pt x="1803" y="1135"/>
                      <a:pt x="1806" y="1140"/>
                    </a:cubicBezTo>
                    <a:cubicBezTo>
                      <a:pt x="1808" y="1145"/>
                      <a:pt x="1810" y="1150"/>
                      <a:pt x="1813" y="1155"/>
                    </a:cubicBezTo>
                    <a:cubicBezTo>
                      <a:pt x="1815" y="1160"/>
                      <a:pt x="1817" y="1165"/>
                      <a:pt x="1820" y="1170"/>
                    </a:cubicBezTo>
                    <a:cubicBezTo>
                      <a:pt x="1822" y="1175"/>
                      <a:pt x="1824" y="1180"/>
                      <a:pt x="1826" y="1185"/>
                    </a:cubicBezTo>
                    <a:cubicBezTo>
                      <a:pt x="1829" y="1190"/>
                      <a:pt x="1831" y="1195"/>
                      <a:pt x="1833" y="1200"/>
                    </a:cubicBezTo>
                    <a:cubicBezTo>
                      <a:pt x="1835" y="1205"/>
                      <a:pt x="1837" y="1210"/>
                      <a:pt x="1840" y="1215"/>
                    </a:cubicBezTo>
                    <a:cubicBezTo>
                      <a:pt x="1842" y="1220"/>
                      <a:pt x="1844" y="1225"/>
                      <a:pt x="1846" y="1230"/>
                    </a:cubicBezTo>
                    <a:cubicBezTo>
                      <a:pt x="1848" y="1235"/>
                      <a:pt x="1850" y="1240"/>
                      <a:pt x="1852" y="1245"/>
                    </a:cubicBezTo>
                    <a:cubicBezTo>
                      <a:pt x="1854" y="1250"/>
                      <a:pt x="1856" y="1255"/>
                      <a:pt x="1858" y="1260"/>
                    </a:cubicBezTo>
                    <a:cubicBezTo>
                      <a:pt x="1860" y="1265"/>
                      <a:pt x="1862" y="1270"/>
                      <a:pt x="1864" y="1275"/>
                    </a:cubicBezTo>
                    <a:cubicBezTo>
                      <a:pt x="1866" y="1280"/>
                      <a:pt x="1868" y="1285"/>
                      <a:pt x="1870" y="1290"/>
                    </a:cubicBezTo>
                    <a:cubicBezTo>
                      <a:pt x="1872" y="1295"/>
                      <a:pt x="1874" y="1300"/>
                      <a:pt x="1875" y="1305"/>
                    </a:cubicBezTo>
                    <a:cubicBezTo>
                      <a:pt x="1877" y="1310"/>
                      <a:pt x="1879" y="1315"/>
                      <a:pt x="1881" y="1320"/>
                    </a:cubicBezTo>
                    <a:cubicBezTo>
                      <a:pt x="1883" y="1325"/>
                      <a:pt x="1884" y="1330"/>
                      <a:pt x="1886" y="1335"/>
                    </a:cubicBezTo>
                    <a:cubicBezTo>
                      <a:pt x="1888" y="1340"/>
                      <a:pt x="1890" y="1345"/>
                      <a:pt x="1891" y="1350"/>
                    </a:cubicBezTo>
                    <a:cubicBezTo>
                      <a:pt x="1893" y="1355"/>
                      <a:pt x="1895" y="1360"/>
                      <a:pt x="1897" y="1365"/>
                    </a:cubicBezTo>
                    <a:cubicBezTo>
                      <a:pt x="1898" y="1370"/>
                      <a:pt x="1900" y="1375"/>
                      <a:pt x="1901" y="1380"/>
                    </a:cubicBezTo>
                    <a:cubicBezTo>
                      <a:pt x="1903" y="1385"/>
                      <a:pt x="1905" y="1390"/>
                      <a:pt x="1906" y="1395"/>
                    </a:cubicBezTo>
                    <a:cubicBezTo>
                      <a:pt x="1908" y="1400"/>
                      <a:pt x="1909" y="1405"/>
                      <a:pt x="1911" y="1410"/>
                    </a:cubicBezTo>
                    <a:cubicBezTo>
                      <a:pt x="1913" y="1415"/>
                      <a:pt x="1914" y="1420"/>
                      <a:pt x="1916" y="1425"/>
                    </a:cubicBezTo>
                    <a:cubicBezTo>
                      <a:pt x="1917" y="1430"/>
                      <a:pt x="1919" y="1435"/>
                      <a:pt x="1920" y="1440"/>
                    </a:cubicBezTo>
                    <a:cubicBezTo>
                      <a:pt x="1921" y="1445"/>
                      <a:pt x="1923" y="1450"/>
                      <a:pt x="1924" y="1455"/>
                    </a:cubicBezTo>
                    <a:cubicBezTo>
                      <a:pt x="1926" y="1460"/>
                      <a:pt x="1927" y="1465"/>
                      <a:pt x="1929" y="1470"/>
                    </a:cubicBezTo>
                    <a:cubicBezTo>
                      <a:pt x="1930" y="1475"/>
                      <a:pt x="1931" y="1480"/>
                      <a:pt x="1933" y="1485"/>
                    </a:cubicBezTo>
                    <a:cubicBezTo>
                      <a:pt x="1934" y="1490"/>
                      <a:pt x="1935" y="1495"/>
                      <a:pt x="1936" y="1500"/>
                    </a:cubicBezTo>
                    <a:cubicBezTo>
                      <a:pt x="1938" y="1505"/>
                      <a:pt x="1939" y="1510"/>
                      <a:pt x="1940" y="1515"/>
                    </a:cubicBezTo>
                    <a:cubicBezTo>
                      <a:pt x="1942" y="1520"/>
                      <a:pt x="1943" y="1525"/>
                      <a:pt x="1944" y="1530"/>
                    </a:cubicBezTo>
                    <a:cubicBezTo>
                      <a:pt x="1945" y="1535"/>
                      <a:pt x="1946" y="1540"/>
                      <a:pt x="1948" y="1545"/>
                    </a:cubicBezTo>
                    <a:cubicBezTo>
                      <a:pt x="1949" y="1550"/>
                      <a:pt x="1950" y="1555"/>
                      <a:pt x="1951" y="1560"/>
                    </a:cubicBezTo>
                    <a:cubicBezTo>
                      <a:pt x="1952" y="1565"/>
                      <a:pt x="1953" y="1570"/>
                      <a:pt x="1954" y="1575"/>
                    </a:cubicBezTo>
                    <a:cubicBezTo>
                      <a:pt x="1955" y="1580"/>
                      <a:pt x="1956" y="1585"/>
                      <a:pt x="1958" y="1590"/>
                    </a:cubicBezTo>
                    <a:cubicBezTo>
                      <a:pt x="1959" y="1595"/>
                      <a:pt x="1960" y="1600"/>
                      <a:pt x="1961" y="1605"/>
                    </a:cubicBezTo>
                    <a:cubicBezTo>
                      <a:pt x="1962" y="1610"/>
                      <a:pt x="1963" y="1615"/>
                      <a:pt x="1964" y="1620"/>
                    </a:cubicBezTo>
                    <a:cubicBezTo>
                      <a:pt x="1965" y="1625"/>
                      <a:pt x="1965" y="1630"/>
                      <a:pt x="1966" y="1635"/>
                    </a:cubicBezTo>
                    <a:cubicBezTo>
                      <a:pt x="1967" y="1640"/>
                      <a:pt x="1968" y="1645"/>
                      <a:pt x="1969" y="1650"/>
                    </a:cubicBezTo>
                    <a:cubicBezTo>
                      <a:pt x="1970" y="1655"/>
                      <a:pt x="1971" y="1660"/>
                      <a:pt x="1972" y="1665"/>
                    </a:cubicBezTo>
                    <a:cubicBezTo>
                      <a:pt x="1973" y="1670"/>
                      <a:pt x="1973" y="1675"/>
                      <a:pt x="1974" y="1680"/>
                    </a:cubicBezTo>
                    <a:cubicBezTo>
                      <a:pt x="1975" y="1685"/>
                      <a:pt x="1976" y="1690"/>
                      <a:pt x="1977" y="1695"/>
                    </a:cubicBezTo>
                    <a:cubicBezTo>
                      <a:pt x="1977" y="1700"/>
                      <a:pt x="1978" y="1705"/>
                      <a:pt x="1979" y="1710"/>
                    </a:cubicBezTo>
                    <a:cubicBezTo>
                      <a:pt x="1980" y="1715"/>
                      <a:pt x="1980" y="1720"/>
                      <a:pt x="1981" y="1725"/>
                    </a:cubicBezTo>
                    <a:cubicBezTo>
                      <a:pt x="1982" y="1730"/>
                      <a:pt x="1982" y="1735"/>
                      <a:pt x="1983" y="1740"/>
                    </a:cubicBezTo>
                    <a:cubicBezTo>
                      <a:pt x="1984" y="1745"/>
                      <a:pt x="1984" y="1750"/>
                      <a:pt x="1985" y="1755"/>
                    </a:cubicBezTo>
                    <a:cubicBezTo>
                      <a:pt x="1986" y="1760"/>
                      <a:pt x="1986" y="1765"/>
                      <a:pt x="1987" y="1770"/>
                    </a:cubicBezTo>
                    <a:cubicBezTo>
                      <a:pt x="1987" y="1775"/>
                      <a:pt x="1988" y="1780"/>
                      <a:pt x="1988" y="1785"/>
                    </a:cubicBezTo>
                    <a:cubicBezTo>
                      <a:pt x="1989" y="1790"/>
                      <a:pt x="1989" y="1795"/>
                      <a:pt x="1990" y="1800"/>
                    </a:cubicBezTo>
                    <a:cubicBezTo>
                      <a:pt x="1990" y="1805"/>
                      <a:pt x="1991" y="1810"/>
                      <a:pt x="1991" y="1815"/>
                    </a:cubicBezTo>
                    <a:cubicBezTo>
                      <a:pt x="1992" y="1820"/>
                      <a:pt x="1992" y="1825"/>
                      <a:pt x="1993" y="1830"/>
                    </a:cubicBezTo>
                    <a:cubicBezTo>
                      <a:pt x="1993" y="1835"/>
                      <a:pt x="1994" y="1840"/>
                      <a:pt x="1994" y="1845"/>
                    </a:cubicBezTo>
                    <a:cubicBezTo>
                      <a:pt x="1994" y="1850"/>
                      <a:pt x="1995" y="1855"/>
                      <a:pt x="1995" y="1860"/>
                    </a:cubicBezTo>
                    <a:cubicBezTo>
                      <a:pt x="1995" y="1865"/>
                      <a:pt x="1996" y="1870"/>
                      <a:pt x="1996" y="1875"/>
                    </a:cubicBezTo>
                    <a:cubicBezTo>
                      <a:pt x="1996" y="1880"/>
                      <a:pt x="1997" y="1885"/>
                      <a:pt x="1997" y="1890"/>
                    </a:cubicBezTo>
                    <a:cubicBezTo>
                      <a:pt x="1997" y="1895"/>
                      <a:pt x="1998" y="1900"/>
                      <a:pt x="1998" y="1905"/>
                    </a:cubicBezTo>
                    <a:cubicBezTo>
                      <a:pt x="1998" y="1910"/>
                      <a:pt x="1998" y="1915"/>
                      <a:pt x="1998" y="1920"/>
                    </a:cubicBezTo>
                    <a:cubicBezTo>
                      <a:pt x="1999" y="1925"/>
                      <a:pt x="1999" y="1930"/>
                      <a:pt x="1999" y="1935"/>
                    </a:cubicBezTo>
                    <a:cubicBezTo>
                      <a:pt x="1999" y="1940"/>
                      <a:pt x="1999" y="1945"/>
                      <a:pt x="1999" y="1950"/>
                    </a:cubicBezTo>
                    <a:cubicBezTo>
                      <a:pt x="1999" y="1955"/>
                      <a:pt x="2000" y="1960"/>
                      <a:pt x="2000" y="1965"/>
                    </a:cubicBezTo>
                    <a:cubicBezTo>
                      <a:pt x="2000" y="1970"/>
                      <a:pt x="2000" y="1975"/>
                      <a:pt x="2000" y="1980"/>
                    </a:cubicBezTo>
                    <a:cubicBezTo>
                      <a:pt x="2000" y="1985"/>
                      <a:pt x="2000" y="1990"/>
                      <a:pt x="2000" y="1995"/>
                    </a:cubicBezTo>
                    <a:cubicBezTo>
                      <a:pt x="2000" y="2000"/>
                      <a:pt x="2000" y="2000"/>
                      <a:pt x="2000" y="2000"/>
                    </a:cubicBezTo>
                  </a:path>
                </a:pathLst>
              </a:custGeom>
              <a:solidFill>
                <a:srgbClr val="ff9021"/>
              </a:solidFill>
              <a:ln w="9360">
                <a:solidFill>
                  <a:srgbClr val="da58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 rot="21318600">
              <a:off x="1029960" y="2858040"/>
              <a:ext cx="2649600" cy="1150920"/>
            </a:xfrm>
            <a:prstGeom prst="triangle">
              <a:avLst>
                <a:gd name="adj" fmla="val 47569"/>
              </a:avLst>
            </a:prstGeom>
            <a:solidFill>
              <a:srgbClr val="ff9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5611320" y="2384280"/>
            <a:ext cx="1336680" cy="1801080"/>
            <a:chOff x="5611320" y="2384280"/>
            <a:chExt cx="1336680" cy="1801080"/>
          </a:xfrm>
        </p:grpSpPr>
        <p:sp>
          <p:nvSpPr>
            <p:cNvPr id="136" name="d37Arc 2"/>
            <p:cNvSpPr/>
            <p:nvPr/>
          </p:nvSpPr>
          <p:spPr>
            <a:xfrm>
              <a:off x="5611320" y="3670920"/>
              <a:ext cx="1336320" cy="514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8" y="10396"/>
                  </a:moveTo>
                  <a:arcTo wR="10800" hR="10800" stAng="-10671234" swAng="10671234"/>
                  <a:lnTo>
                    <a:pt x="10800" y="10800"/>
                  </a:lnTo>
                  <a:close/>
                </a:path>
                <a:path fill="none" w="21600" h="21600">
                  <a:moveTo>
                    <a:pt x="8" y="10396"/>
                  </a:moveTo>
                  <a:arcTo wR="10800" hR="10800" stAng="-10671234" swAng="10671234"/>
                </a:path>
              </a:pathLst>
            </a:custGeom>
            <a:noFill/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d37Arc 3"/>
            <p:cNvSpPr/>
            <p:nvPr/>
          </p:nvSpPr>
          <p:spPr>
            <a:xfrm flipV="1">
              <a:off x="5612400" y="3672360"/>
              <a:ext cx="1335240" cy="510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" y="10120"/>
                  </a:moveTo>
                  <a:arcTo wR="10800" hR="10800" stAng="-10583430" swAng="1058343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" y="10120"/>
                  </a:moveTo>
                  <a:arcTo wR="10800" hR="10800" stAng="-10583430" swAng="1058343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d37Line 5"/>
            <p:cNvSpPr/>
            <p:nvPr/>
          </p:nvSpPr>
          <p:spPr>
            <a:xfrm flipH="1">
              <a:off x="5611680" y="2384280"/>
              <a:ext cx="668160" cy="15444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d37Line 6"/>
            <p:cNvSpPr/>
            <p:nvPr/>
          </p:nvSpPr>
          <p:spPr>
            <a:xfrm>
              <a:off x="6279840" y="2384280"/>
              <a:ext cx="668160" cy="15444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5645160" y="2887560"/>
            <a:ext cx="58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619600" y="3936960"/>
            <a:ext cx="1328760" cy="1800"/>
          </a:xfrm>
          <a:custGeom>
            <a:avLst/>
            <a:gdLst/>
            <a:ahLst/>
            <a:rect l="l" t="t" r="r" b="b"/>
            <a:pathLst>
              <a:path w="837" h="1">
                <a:moveTo>
                  <a:pt x="0" y="1"/>
                </a:moveTo>
                <a:lnTo>
                  <a:pt x="837" y="0"/>
                </a:ln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227640" y="3919680"/>
            <a:ext cx="36720" cy="36360"/>
          </a:xfrm>
          <a:prstGeom prst="ellipse">
            <a:avLst/>
          </a:prstGeom>
          <a:solidFill>
            <a:srgbClr val="da5800"/>
          </a:solidFill>
          <a:ln w="9360">
            <a:solidFill>
              <a:srgbClr val="da5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156360" y="3787920"/>
            <a:ext cx="58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718240" y="3798720"/>
            <a:ext cx="58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635280" y="3068640"/>
            <a:ext cx="1657440" cy="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635280" y="3573360"/>
            <a:ext cx="1584360" cy="0"/>
          </a:xfrm>
          <a:prstGeom prst="line">
            <a:avLst/>
          </a:prstGeom>
          <a:ln w="76320">
            <a:solidFill>
              <a:srgbClr val="ff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3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5" dur="3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395280" y="4149720"/>
            <a:ext cx="806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把圆锥沿它的一条母线剪开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它的侧面可以展成一个平面图形，像这样的平面图形称为圆锥的</a:t>
            </a: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侧面展开图</a:t>
            </a: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5776920" y="2684520"/>
            <a:ext cx="88920" cy="228600"/>
          </a:xfrm>
          <a:prstGeom prst="rect">
            <a:avLst/>
          </a:prstGeom>
          <a:ln w="0">
            <a:noFill/>
          </a:ln>
        </p:spPr>
      </p:pic>
      <p:grpSp>
        <p:nvGrpSpPr>
          <p:cNvPr id="149" name=""/>
          <p:cNvGrpSpPr/>
          <p:nvPr/>
        </p:nvGrpSpPr>
        <p:grpSpPr>
          <a:xfrm>
            <a:off x="4323240" y="1558440"/>
            <a:ext cx="2930400" cy="2857320"/>
            <a:chOff x="4323240" y="1558440"/>
            <a:chExt cx="2930400" cy="2857320"/>
          </a:xfrm>
        </p:grpSpPr>
        <p:grpSp>
          <p:nvGrpSpPr>
            <p:cNvPr id="150" name=""/>
            <p:cNvGrpSpPr/>
            <p:nvPr/>
          </p:nvGrpSpPr>
          <p:grpSpPr>
            <a:xfrm>
              <a:off x="4323240" y="1558440"/>
              <a:ext cx="2930400" cy="2857320"/>
              <a:chOff x="4323240" y="1558440"/>
              <a:chExt cx="2930400" cy="2857320"/>
            </a:xfrm>
          </p:grpSpPr>
          <p:sp>
            <p:nvSpPr>
              <p:cNvPr id="151" name="shp1"/>
              <p:cNvSpPr/>
              <p:nvPr/>
            </p:nvSpPr>
            <p:spPr>
              <a:xfrm rot="3978000">
                <a:off x="4838040" y="1786320"/>
                <a:ext cx="677160" cy="1566720"/>
              </a:xfrm>
              <a:custGeom>
                <a:avLst/>
                <a:gdLst/>
                <a:ahLst/>
                <a:rect l="l" t="t" r="r" b="b"/>
                <a:pathLst>
                  <a:path w="418" h="968">
                    <a:moveTo>
                      <a:pt x="0" y="0"/>
                    </a:moveTo>
                    <a:lnTo>
                      <a:pt x="418" y="968"/>
                    </a:lnTo>
                  </a:path>
                </a:pathLst>
              </a:custGeom>
              <a:solidFill>
                <a:srgbClr val="ff9021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shp2"/>
              <p:cNvSpPr/>
              <p:nvPr/>
            </p:nvSpPr>
            <p:spPr>
              <a:xfrm rot="3978000">
                <a:off x="5735160" y="1975320"/>
                <a:ext cx="1538280" cy="960120"/>
              </a:xfrm>
              <a:custGeom>
                <a:avLst/>
                <a:gdLst/>
                <a:ahLst/>
                <a:rect l="l" t="t" r="r" b="b"/>
                <a:pathLst>
                  <a:path w="950" h="593">
                    <a:moveTo>
                      <a:pt x="950" y="0"/>
                    </a:moveTo>
                    <a:lnTo>
                      <a:pt x="0" y="593"/>
                    </a:lnTo>
                  </a:path>
                </a:pathLst>
              </a:custGeom>
              <a:solidFill>
                <a:srgbClr val="ff9021"/>
              </a:solidFill>
              <a:ln w="9360">
                <a:solidFill>
                  <a:srgbClr val="da58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shape2"/>
              <p:cNvSpPr/>
              <p:nvPr/>
            </p:nvSpPr>
            <p:spPr>
              <a:xfrm rot="7998000">
                <a:off x="4932360" y="2192040"/>
                <a:ext cx="1985040" cy="1780920"/>
              </a:xfrm>
              <a:custGeom>
                <a:avLst/>
                <a:gdLst/>
                <a:ahLst/>
                <a:rect l="l" t="t" r="r" b="b"/>
                <a:pathLst>
                  <a:path w="2001" h="2001">
                    <a:moveTo>
                      <a:pt x="0" y="0"/>
                    </a:moveTo>
                    <a:cubicBezTo>
                      <a:pt x="141" y="5"/>
                      <a:pt x="200" y="10"/>
                      <a:pt x="244" y="15"/>
                    </a:cubicBezTo>
                    <a:cubicBezTo>
                      <a:pt x="282" y="20"/>
                      <a:pt x="315" y="25"/>
                      <a:pt x="345" y="30"/>
                    </a:cubicBezTo>
                    <a:cubicBezTo>
                      <a:pt x="373" y="35"/>
                      <a:pt x="398" y="40"/>
                      <a:pt x="422" y="45"/>
                    </a:cubicBezTo>
                    <a:cubicBezTo>
                      <a:pt x="444" y="50"/>
                      <a:pt x="466" y="55"/>
                      <a:pt x="486" y="60"/>
                    </a:cubicBezTo>
                    <a:cubicBezTo>
                      <a:pt x="506" y="65"/>
                      <a:pt x="525" y="70"/>
                      <a:pt x="543" y="75"/>
                    </a:cubicBezTo>
                    <a:cubicBezTo>
                      <a:pt x="560" y="80"/>
                      <a:pt x="577" y="85"/>
                      <a:pt x="593" y="90"/>
                    </a:cubicBezTo>
                    <a:cubicBezTo>
                      <a:pt x="609" y="95"/>
                      <a:pt x="625" y="100"/>
                      <a:pt x="640" y="105"/>
                    </a:cubicBezTo>
                    <a:cubicBezTo>
                      <a:pt x="654" y="110"/>
                      <a:pt x="668" y="115"/>
                      <a:pt x="682" y="120"/>
                    </a:cubicBezTo>
                    <a:cubicBezTo>
                      <a:pt x="696" y="125"/>
                      <a:pt x="709" y="130"/>
                      <a:pt x="722" y="135"/>
                    </a:cubicBezTo>
                    <a:cubicBezTo>
                      <a:pt x="735" y="140"/>
                      <a:pt x="748" y="145"/>
                      <a:pt x="760" y="150"/>
                    </a:cubicBezTo>
                    <a:cubicBezTo>
                      <a:pt x="772" y="155"/>
                      <a:pt x="784" y="160"/>
                      <a:pt x="795" y="165"/>
                    </a:cubicBezTo>
                    <a:cubicBezTo>
                      <a:pt x="807" y="170"/>
                      <a:pt x="818" y="175"/>
                      <a:pt x="829" y="180"/>
                    </a:cubicBezTo>
                    <a:cubicBezTo>
                      <a:pt x="840" y="185"/>
                      <a:pt x="851" y="190"/>
                      <a:pt x="861" y="195"/>
                    </a:cubicBezTo>
                    <a:cubicBezTo>
                      <a:pt x="872" y="200"/>
                      <a:pt x="882" y="205"/>
                      <a:pt x="892" y="210"/>
                    </a:cubicBezTo>
                    <a:cubicBezTo>
                      <a:pt x="902" y="215"/>
                      <a:pt x="912" y="220"/>
                      <a:pt x="922" y="225"/>
                    </a:cubicBezTo>
                    <a:cubicBezTo>
                      <a:pt x="931" y="230"/>
                      <a:pt x="941" y="235"/>
                      <a:pt x="950" y="240"/>
                    </a:cubicBezTo>
                    <a:cubicBezTo>
                      <a:pt x="959" y="245"/>
                      <a:pt x="968" y="250"/>
                      <a:pt x="977" y="255"/>
                    </a:cubicBezTo>
                    <a:cubicBezTo>
                      <a:pt x="986" y="260"/>
                      <a:pt x="995" y="265"/>
                      <a:pt x="1004" y="270"/>
                    </a:cubicBezTo>
                    <a:cubicBezTo>
                      <a:pt x="1012" y="275"/>
                      <a:pt x="1021" y="280"/>
                      <a:pt x="1029" y="285"/>
                    </a:cubicBezTo>
                    <a:cubicBezTo>
                      <a:pt x="1037" y="290"/>
                      <a:pt x="1045" y="295"/>
                      <a:pt x="1054" y="300"/>
                    </a:cubicBezTo>
                    <a:cubicBezTo>
                      <a:pt x="1062" y="305"/>
                      <a:pt x="1070" y="310"/>
                      <a:pt x="1077" y="315"/>
                    </a:cubicBezTo>
                    <a:cubicBezTo>
                      <a:pt x="1085" y="320"/>
                      <a:pt x="1093" y="325"/>
                      <a:pt x="1101" y="330"/>
                    </a:cubicBezTo>
                    <a:cubicBezTo>
                      <a:pt x="1108" y="335"/>
                      <a:pt x="1116" y="340"/>
                      <a:pt x="1123" y="345"/>
                    </a:cubicBezTo>
                    <a:cubicBezTo>
                      <a:pt x="1130" y="350"/>
                      <a:pt x="1138" y="355"/>
                      <a:pt x="1145" y="360"/>
                    </a:cubicBezTo>
                    <a:cubicBezTo>
                      <a:pt x="1152" y="365"/>
                      <a:pt x="1159" y="370"/>
                      <a:pt x="1166" y="375"/>
                    </a:cubicBezTo>
                    <a:cubicBezTo>
                      <a:pt x="1173" y="380"/>
                      <a:pt x="1180" y="385"/>
                      <a:pt x="1187" y="390"/>
                    </a:cubicBezTo>
                    <a:cubicBezTo>
                      <a:pt x="1193" y="395"/>
                      <a:pt x="1200" y="400"/>
                      <a:pt x="1207" y="405"/>
                    </a:cubicBezTo>
                    <a:cubicBezTo>
                      <a:pt x="1213" y="410"/>
                      <a:pt x="1220" y="415"/>
                      <a:pt x="1226" y="420"/>
                    </a:cubicBezTo>
                    <a:cubicBezTo>
                      <a:pt x="1233" y="425"/>
                      <a:pt x="1239" y="430"/>
                      <a:pt x="1245" y="435"/>
                    </a:cubicBezTo>
                    <a:cubicBezTo>
                      <a:pt x="1252" y="440"/>
                      <a:pt x="1258" y="445"/>
                      <a:pt x="1264" y="450"/>
                    </a:cubicBezTo>
                    <a:cubicBezTo>
                      <a:pt x="1270" y="455"/>
                      <a:pt x="1276" y="460"/>
                      <a:pt x="1282" y="465"/>
                    </a:cubicBezTo>
                    <a:cubicBezTo>
                      <a:pt x="1288" y="470"/>
                      <a:pt x="1294" y="475"/>
                      <a:pt x="1300" y="480"/>
                    </a:cubicBezTo>
                    <a:cubicBezTo>
                      <a:pt x="1306" y="485"/>
                      <a:pt x="1311" y="490"/>
                      <a:pt x="1317" y="495"/>
                    </a:cubicBezTo>
                    <a:cubicBezTo>
                      <a:pt x="1323" y="500"/>
                      <a:pt x="1329" y="505"/>
                      <a:pt x="1334" y="510"/>
                    </a:cubicBezTo>
                    <a:cubicBezTo>
                      <a:pt x="1340" y="515"/>
                      <a:pt x="1345" y="520"/>
                      <a:pt x="1351" y="525"/>
                    </a:cubicBezTo>
                    <a:cubicBezTo>
                      <a:pt x="1356" y="530"/>
                      <a:pt x="1362" y="535"/>
                      <a:pt x="1367" y="540"/>
                    </a:cubicBezTo>
                    <a:cubicBezTo>
                      <a:pt x="1372" y="545"/>
                      <a:pt x="1378" y="550"/>
                      <a:pt x="1383" y="555"/>
                    </a:cubicBezTo>
                    <a:cubicBezTo>
                      <a:pt x="1388" y="560"/>
                      <a:pt x="1393" y="565"/>
                      <a:pt x="1398" y="570"/>
                    </a:cubicBezTo>
                    <a:cubicBezTo>
                      <a:pt x="1403" y="575"/>
                      <a:pt x="1408" y="580"/>
                      <a:pt x="1413" y="585"/>
                    </a:cubicBezTo>
                    <a:cubicBezTo>
                      <a:pt x="1418" y="590"/>
                      <a:pt x="1423" y="595"/>
                      <a:pt x="1428" y="600"/>
                    </a:cubicBezTo>
                    <a:cubicBezTo>
                      <a:pt x="1433" y="605"/>
                      <a:pt x="1438" y="610"/>
                      <a:pt x="1443" y="615"/>
                    </a:cubicBezTo>
                    <a:cubicBezTo>
                      <a:pt x="1448" y="620"/>
                      <a:pt x="1452" y="625"/>
                      <a:pt x="1457" y="630"/>
                    </a:cubicBezTo>
                    <a:cubicBezTo>
                      <a:pt x="1462" y="635"/>
                      <a:pt x="1466" y="640"/>
                      <a:pt x="1471" y="645"/>
                    </a:cubicBezTo>
                    <a:cubicBezTo>
                      <a:pt x="1476" y="650"/>
                      <a:pt x="1480" y="655"/>
                      <a:pt x="1485" y="660"/>
                    </a:cubicBezTo>
                    <a:cubicBezTo>
                      <a:pt x="1489" y="665"/>
                      <a:pt x="1494" y="670"/>
                      <a:pt x="1498" y="675"/>
                    </a:cubicBezTo>
                    <a:cubicBezTo>
                      <a:pt x="1503" y="680"/>
                      <a:pt x="1507" y="685"/>
                      <a:pt x="1511" y="690"/>
                    </a:cubicBezTo>
                    <a:cubicBezTo>
                      <a:pt x="1516" y="695"/>
                      <a:pt x="1520" y="700"/>
                      <a:pt x="1524" y="705"/>
                    </a:cubicBezTo>
                    <a:cubicBezTo>
                      <a:pt x="1528" y="710"/>
                      <a:pt x="1533" y="715"/>
                      <a:pt x="1537" y="720"/>
                    </a:cubicBezTo>
                    <a:cubicBezTo>
                      <a:pt x="1541" y="725"/>
                      <a:pt x="1545" y="730"/>
                      <a:pt x="1549" y="735"/>
                    </a:cubicBezTo>
                    <a:cubicBezTo>
                      <a:pt x="1553" y="740"/>
                      <a:pt x="1557" y="745"/>
                      <a:pt x="1561" y="750"/>
                    </a:cubicBezTo>
                    <a:cubicBezTo>
                      <a:pt x="1565" y="755"/>
                      <a:pt x="1569" y="760"/>
                      <a:pt x="1573" y="765"/>
                    </a:cubicBezTo>
                    <a:cubicBezTo>
                      <a:pt x="1577" y="770"/>
                      <a:pt x="1581" y="775"/>
                      <a:pt x="1585" y="780"/>
                    </a:cubicBezTo>
                    <a:cubicBezTo>
                      <a:pt x="1589" y="785"/>
                      <a:pt x="1592" y="790"/>
                      <a:pt x="1596" y="795"/>
                    </a:cubicBezTo>
                    <a:cubicBezTo>
                      <a:pt x="1600" y="800"/>
                      <a:pt x="1604" y="805"/>
                      <a:pt x="1607" y="810"/>
                    </a:cubicBezTo>
                    <a:cubicBezTo>
                      <a:pt x="1611" y="815"/>
                      <a:pt x="1615" y="820"/>
                      <a:pt x="1618" y="825"/>
                    </a:cubicBezTo>
                    <a:cubicBezTo>
                      <a:pt x="1622" y="830"/>
                      <a:pt x="1626" y="835"/>
                      <a:pt x="1629" y="840"/>
                    </a:cubicBezTo>
                    <a:cubicBezTo>
                      <a:pt x="1633" y="845"/>
                      <a:pt x="1636" y="850"/>
                      <a:pt x="1640" y="855"/>
                    </a:cubicBezTo>
                    <a:cubicBezTo>
                      <a:pt x="1643" y="860"/>
                      <a:pt x="1647" y="865"/>
                      <a:pt x="1650" y="870"/>
                    </a:cubicBezTo>
                    <a:cubicBezTo>
                      <a:pt x="1654" y="875"/>
                      <a:pt x="1657" y="880"/>
                      <a:pt x="1660" y="885"/>
                    </a:cubicBezTo>
                    <a:cubicBezTo>
                      <a:pt x="1664" y="890"/>
                      <a:pt x="1667" y="895"/>
                      <a:pt x="1670" y="900"/>
                    </a:cubicBezTo>
                    <a:cubicBezTo>
                      <a:pt x="1674" y="905"/>
                      <a:pt x="1677" y="910"/>
                      <a:pt x="1680" y="915"/>
                    </a:cubicBezTo>
                    <a:cubicBezTo>
                      <a:pt x="1683" y="920"/>
                      <a:pt x="1687" y="925"/>
                      <a:pt x="1690" y="930"/>
                    </a:cubicBezTo>
                    <a:cubicBezTo>
                      <a:pt x="1693" y="935"/>
                      <a:pt x="1696" y="940"/>
                      <a:pt x="1699" y="945"/>
                    </a:cubicBezTo>
                    <a:cubicBezTo>
                      <a:pt x="1702" y="950"/>
                      <a:pt x="1705" y="955"/>
                      <a:pt x="1708" y="960"/>
                    </a:cubicBezTo>
                    <a:cubicBezTo>
                      <a:pt x="1711" y="965"/>
                      <a:pt x="1714" y="970"/>
                      <a:pt x="1717" y="975"/>
                    </a:cubicBezTo>
                    <a:cubicBezTo>
                      <a:pt x="1720" y="980"/>
                      <a:pt x="1723" y="985"/>
                      <a:pt x="1726" y="990"/>
                    </a:cubicBezTo>
                    <a:cubicBezTo>
                      <a:pt x="1729" y="995"/>
                      <a:pt x="1732" y="1000"/>
                      <a:pt x="1735" y="1005"/>
                    </a:cubicBezTo>
                    <a:cubicBezTo>
                      <a:pt x="1738" y="1010"/>
                      <a:pt x="1741" y="1015"/>
                      <a:pt x="1743" y="1020"/>
                    </a:cubicBezTo>
                    <a:cubicBezTo>
                      <a:pt x="1746" y="1025"/>
                      <a:pt x="1749" y="1030"/>
                      <a:pt x="1752" y="1035"/>
                    </a:cubicBezTo>
                    <a:cubicBezTo>
                      <a:pt x="1755" y="1040"/>
                      <a:pt x="1757" y="1045"/>
                      <a:pt x="1760" y="1050"/>
                    </a:cubicBezTo>
                    <a:cubicBezTo>
                      <a:pt x="1763" y="1055"/>
                      <a:pt x="1765" y="1060"/>
                      <a:pt x="1768" y="1065"/>
                    </a:cubicBezTo>
                    <a:cubicBezTo>
                      <a:pt x="1771" y="1070"/>
                      <a:pt x="1773" y="1075"/>
                      <a:pt x="1776" y="1080"/>
                    </a:cubicBezTo>
                    <a:cubicBezTo>
                      <a:pt x="1778" y="1085"/>
                      <a:pt x="1781" y="1090"/>
                      <a:pt x="1784" y="1095"/>
                    </a:cubicBezTo>
                    <a:cubicBezTo>
                      <a:pt x="1786" y="1100"/>
                      <a:pt x="1789" y="1105"/>
                      <a:pt x="1791" y="1110"/>
                    </a:cubicBezTo>
                    <a:cubicBezTo>
                      <a:pt x="1794" y="1115"/>
                      <a:pt x="1796" y="1120"/>
                      <a:pt x="1798" y="1125"/>
                    </a:cubicBezTo>
                    <a:cubicBezTo>
                      <a:pt x="1801" y="1130"/>
                      <a:pt x="1803" y="1135"/>
                      <a:pt x="1806" y="1140"/>
                    </a:cubicBezTo>
                    <a:cubicBezTo>
                      <a:pt x="1808" y="1145"/>
                      <a:pt x="1810" y="1150"/>
                      <a:pt x="1813" y="1155"/>
                    </a:cubicBezTo>
                    <a:cubicBezTo>
                      <a:pt x="1815" y="1160"/>
                      <a:pt x="1817" y="1165"/>
                      <a:pt x="1820" y="1170"/>
                    </a:cubicBezTo>
                    <a:cubicBezTo>
                      <a:pt x="1822" y="1175"/>
                      <a:pt x="1824" y="1180"/>
                      <a:pt x="1826" y="1185"/>
                    </a:cubicBezTo>
                    <a:cubicBezTo>
                      <a:pt x="1829" y="1190"/>
                      <a:pt x="1831" y="1195"/>
                      <a:pt x="1833" y="1200"/>
                    </a:cubicBezTo>
                    <a:cubicBezTo>
                      <a:pt x="1835" y="1205"/>
                      <a:pt x="1837" y="1210"/>
                      <a:pt x="1840" y="1215"/>
                    </a:cubicBezTo>
                    <a:cubicBezTo>
                      <a:pt x="1842" y="1220"/>
                      <a:pt x="1844" y="1225"/>
                      <a:pt x="1846" y="1230"/>
                    </a:cubicBezTo>
                    <a:cubicBezTo>
                      <a:pt x="1848" y="1235"/>
                      <a:pt x="1850" y="1240"/>
                      <a:pt x="1852" y="1245"/>
                    </a:cubicBezTo>
                    <a:cubicBezTo>
                      <a:pt x="1854" y="1250"/>
                      <a:pt x="1856" y="1255"/>
                      <a:pt x="1858" y="1260"/>
                    </a:cubicBezTo>
                    <a:cubicBezTo>
                      <a:pt x="1860" y="1265"/>
                      <a:pt x="1862" y="1270"/>
                      <a:pt x="1864" y="1275"/>
                    </a:cubicBezTo>
                    <a:cubicBezTo>
                      <a:pt x="1866" y="1280"/>
                      <a:pt x="1868" y="1285"/>
                      <a:pt x="1870" y="1290"/>
                    </a:cubicBezTo>
                    <a:cubicBezTo>
                      <a:pt x="1872" y="1295"/>
                      <a:pt x="1874" y="1300"/>
                      <a:pt x="1875" y="1305"/>
                    </a:cubicBezTo>
                    <a:cubicBezTo>
                      <a:pt x="1877" y="1310"/>
                      <a:pt x="1879" y="1315"/>
                      <a:pt x="1881" y="1320"/>
                    </a:cubicBezTo>
                    <a:cubicBezTo>
                      <a:pt x="1883" y="1325"/>
                      <a:pt x="1884" y="1330"/>
                      <a:pt x="1886" y="1335"/>
                    </a:cubicBezTo>
                    <a:cubicBezTo>
                      <a:pt x="1888" y="1340"/>
                      <a:pt x="1890" y="1345"/>
                      <a:pt x="1891" y="1350"/>
                    </a:cubicBezTo>
                    <a:cubicBezTo>
                      <a:pt x="1893" y="1355"/>
                      <a:pt x="1895" y="1360"/>
                      <a:pt x="1897" y="1365"/>
                    </a:cubicBezTo>
                    <a:cubicBezTo>
                      <a:pt x="1898" y="1370"/>
                      <a:pt x="1900" y="1375"/>
                      <a:pt x="1901" y="1380"/>
                    </a:cubicBezTo>
                    <a:cubicBezTo>
                      <a:pt x="1903" y="1385"/>
                      <a:pt x="1905" y="1390"/>
                      <a:pt x="1906" y="1395"/>
                    </a:cubicBezTo>
                    <a:cubicBezTo>
                      <a:pt x="1908" y="1400"/>
                      <a:pt x="1909" y="1405"/>
                      <a:pt x="1911" y="1410"/>
                    </a:cubicBezTo>
                    <a:cubicBezTo>
                      <a:pt x="1913" y="1415"/>
                      <a:pt x="1914" y="1420"/>
                      <a:pt x="1916" y="1425"/>
                    </a:cubicBezTo>
                    <a:cubicBezTo>
                      <a:pt x="1917" y="1430"/>
                      <a:pt x="1919" y="1435"/>
                      <a:pt x="1920" y="1440"/>
                    </a:cubicBezTo>
                    <a:cubicBezTo>
                      <a:pt x="1921" y="1445"/>
                      <a:pt x="1923" y="1450"/>
                      <a:pt x="1924" y="1455"/>
                    </a:cubicBezTo>
                    <a:cubicBezTo>
                      <a:pt x="1926" y="1460"/>
                      <a:pt x="1927" y="1465"/>
                      <a:pt x="1929" y="1470"/>
                    </a:cubicBezTo>
                    <a:cubicBezTo>
                      <a:pt x="1930" y="1475"/>
                      <a:pt x="1931" y="1480"/>
                      <a:pt x="1933" y="1485"/>
                    </a:cubicBezTo>
                    <a:cubicBezTo>
                      <a:pt x="1934" y="1490"/>
                      <a:pt x="1935" y="1495"/>
                      <a:pt x="1936" y="1500"/>
                    </a:cubicBezTo>
                    <a:cubicBezTo>
                      <a:pt x="1938" y="1505"/>
                      <a:pt x="1939" y="1510"/>
                      <a:pt x="1940" y="1515"/>
                    </a:cubicBezTo>
                    <a:cubicBezTo>
                      <a:pt x="1942" y="1520"/>
                      <a:pt x="1943" y="1525"/>
                      <a:pt x="1944" y="1530"/>
                    </a:cubicBezTo>
                    <a:cubicBezTo>
                      <a:pt x="1945" y="1535"/>
                      <a:pt x="1946" y="1540"/>
                      <a:pt x="1948" y="1545"/>
                    </a:cubicBezTo>
                    <a:cubicBezTo>
                      <a:pt x="1949" y="1550"/>
                      <a:pt x="1950" y="1555"/>
                      <a:pt x="1951" y="1560"/>
                    </a:cubicBezTo>
                    <a:cubicBezTo>
                      <a:pt x="1952" y="1565"/>
                      <a:pt x="1953" y="1570"/>
                      <a:pt x="1954" y="1575"/>
                    </a:cubicBezTo>
                    <a:cubicBezTo>
                      <a:pt x="1955" y="1580"/>
                      <a:pt x="1956" y="1585"/>
                      <a:pt x="1958" y="1590"/>
                    </a:cubicBezTo>
                    <a:cubicBezTo>
                      <a:pt x="1959" y="1595"/>
                      <a:pt x="1960" y="1600"/>
                      <a:pt x="1961" y="1605"/>
                    </a:cubicBezTo>
                    <a:cubicBezTo>
                      <a:pt x="1962" y="1610"/>
                      <a:pt x="1963" y="1615"/>
                      <a:pt x="1964" y="1620"/>
                    </a:cubicBezTo>
                    <a:cubicBezTo>
                      <a:pt x="1965" y="1625"/>
                      <a:pt x="1965" y="1630"/>
                      <a:pt x="1966" y="1635"/>
                    </a:cubicBezTo>
                    <a:cubicBezTo>
                      <a:pt x="1967" y="1640"/>
                      <a:pt x="1968" y="1645"/>
                      <a:pt x="1969" y="1650"/>
                    </a:cubicBezTo>
                    <a:cubicBezTo>
                      <a:pt x="1970" y="1655"/>
                      <a:pt x="1971" y="1660"/>
                      <a:pt x="1972" y="1665"/>
                    </a:cubicBezTo>
                    <a:cubicBezTo>
                      <a:pt x="1973" y="1670"/>
                      <a:pt x="1973" y="1675"/>
                      <a:pt x="1974" y="1680"/>
                    </a:cubicBezTo>
                    <a:cubicBezTo>
                      <a:pt x="1975" y="1685"/>
                      <a:pt x="1976" y="1690"/>
                      <a:pt x="1977" y="1695"/>
                    </a:cubicBezTo>
                    <a:cubicBezTo>
                      <a:pt x="1977" y="1700"/>
                      <a:pt x="1978" y="1705"/>
                      <a:pt x="1979" y="1710"/>
                    </a:cubicBezTo>
                    <a:cubicBezTo>
                      <a:pt x="1980" y="1715"/>
                      <a:pt x="1980" y="1720"/>
                      <a:pt x="1981" y="1725"/>
                    </a:cubicBezTo>
                    <a:cubicBezTo>
                      <a:pt x="1982" y="1730"/>
                      <a:pt x="1982" y="1735"/>
                      <a:pt x="1983" y="1740"/>
                    </a:cubicBezTo>
                    <a:cubicBezTo>
                      <a:pt x="1984" y="1745"/>
                      <a:pt x="1984" y="1750"/>
                      <a:pt x="1985" y="1755"/>
                    </a:cubicBezTo>
                    <a:cubicBezTo>
                      <a:pt x="1986" y="1760"/>
                      <a:pt x="1986" y="1765"/>
                      <a:pt x="1987" y="1770"/>
                    </a:cubicBezTo>
                    <a:cubicBezTo>
                      <a:pt x="1987" y="1775"/>
                      <a:pt x="1988" y="1780"/>
                      <a:pt x="1988" y="1785"/>
                    </a:cubicBezTo>
                    <a:cubicBezTo>
                      <a:pt x="1989" y="1790"/>
                      <a:pt x="1989" y="1795"/>
                      <a:pt x="1990" y="1800"/>
                    </a:cubicBezTo>
                    <a:cubicBezTo>
                      <a:pt x="1990" y="1805"/>
                      <a:pt x="1991" y="1810"/>
                      <a:pt x="1991" y="1815"/>
                    </a:cubicBezTo>
                    <a:cubicBezTo>
                      <a:pt x="1992" y="1820"/>
                      <a:pt x="1992" y="1825"/>
                      <a:pt x="1993" y="1830"/>
                    </a:cubicBezTo>
                    <a:cubicBezTo>
                      <a:pt x="1993" y="1835"/>
                      <a:pt x="1994" y="1840"/>
                      <a:pt x="1994" y="1845"/>
                    </a:cubicBezTo>
                    <a:cubicBezTo>
                      <a:pt x="1994" y="1850"/>
                      <a:pt x="1995" y="1855"/>
                      <a:pt x="1995" y="1860"/>
                    </a:cubicBezTo>
                    <a:cubicBezTo>
                      <a:pt x="1995" y="1865"/>
                      <a:pt x="1996" y="1870"/>
                      <a:pt x="1996" y="1875"/>
                    </a:cubicBezTo>
                    <a:cubicBezTo>
                      <a:pt x="1996" y="1880"/>
                      <a:pt x="1997" y="1885"/>
                      <a:pt x="1997" y="1890"/>
                    </a:cubicBezTo>
                    <a:cubicBezTo>
                      <a:pt x="1997" y="1895"/>
                      <a:pt x="1998" y="1900"/>
                      <a:pt x="1998" y="1905"/>
                    </a:cubicBezTo>
                    <a:cubicBezTo>
                      <a:pt x="1998" y="1910"/>
                      <a:pt x="1998" y="1915"/>
                      <a:pt x="1998" y="1920"/>
                    </a:cubicBezTo>
                    <a:cubicBezTo>
                      <a:pt x="1999" y="1925"/>
                      <a:pt x="1999" y="1930"/>
                      <a:pt x="1999" y="1935"/>
                    </a:cubicBezTo>
                    <a:cubicBezTo>
                      <a:pt x="1999" y="1940"/>
                      <a:pt x="1999" y="1945"/>
                      <a:pt x="1999" y="1950"/>
                    </a:cubicBezTo>
                    <a:cubicBezTo>
                      <a:pt x="1999" y="1955"/>
                      <a:pt x="2000" y="1960"/>
                      <a:pt x="2000" y="1965"/>
                    </a:cubicBezTo>
                    <a:cubicBezTo>
                      <a:pt x="2000" y="1970"/>
                      <a:pt x="2000" y="1975"/>
                      <a:pt x="2000" y="1980"/>
                    </a:cubicBezTo>
                    <a:cubicBezTo>
                      <a:pt x="2000" y="1985"/>
                      <a:pt x="2000" y="1990"/>
                      <a:pt x="2000" y="1995"/>
                    </a:cubicBezTo>
                    <a:cubicBezTo>
                      <a:pt x="2000" y="2000"/>
                      <a:pt x="2000" y="2000"/>
                      <a:pt x="2000" y="2000"/>
                    </a:cubicBezTo>
                  </a:path>
                </a:pathLst>
              </a:custGeom>
              <a:solidFill>
                <a:srgbClr val="ff9021"/>
              </a:solidFill>
              <a:ln w="9360">
                <a:solidFill>
                  <a:srgbClr val="da58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4" name=""/>
            <p:cNvSpPr/>
            <p:nvPr/>
          </p:nvSpPr>
          <p:spPr>
            <a:xfrm rot="21318600">
              <a:off x="4558680" y="1953000"/>
              <a:ext cx="2649600" cy="1150560"/>
            </a:xfrm>
            <a:prstGeom prst="triangle">
              <a:avLst>
                <a:gd name="adj" fmla="val 47569"/>
              </a:avLst>
            </a:prstGeom>
            <a:solidFill>
              <a:srgbClr val="ff9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2010960" y="1844640"/>
            <a:ext cx="1337040" cy="1874160"/>
            <a:chOff x="2010960" y="1844640"/>
            <a:chExt cx="1337040" cy="1874160"/>
          </a:xfrm>
        </p:grpSpPr>
        <p:grpSp>
          <p:nvGrpSpPr>
            <p:cNvPr id="156" name=""/>
            <p:cNvGrpSpPr/>
            <p:nvPr/>
          </p:nvGrpSpPr>
          <p:grpSpPr>
            <a:xfrm>
              <a:off x="2010960" y="1844640"/>
              <a:ext cx="1336680" cy="1801080"/>
              <a:chOff x="2010960" y="1844640"/>
              <a:chExt cx="1336680" cy="1801080"/>
            </a:xfrm>
          </p:grpSpPr>
          <p:sp>
            <p:nvSpPr>
              <p:cNvPr id="157" name="d37Arc 2"/>
              <p:cNvSpPr/>
              <p:nvPr/>
            </p:nvSpPr>
            <p:spPr>
              <a:xfrm>
                <a:off x="2010960" y="3131280"/>
                <a:ext cx="1336320" cy="514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8" y="10396"/>
                    </a:moveTo>
                    <a:arcTo wR="10800" hR="10800" stAng="-10671234" swAng="1067123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8" y="10396"/>
                    </a:moveTo>
                    <a:arcTo wR="10800" hR="10800" stAng="-10671234" swAng="10671234"/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d37Arc 3"/>
              <p:cNvSpPr/>
              <p:nvPr/>
            </p:nvSpPr>
            <p:spPr>
              <a:xfrm flipV="1">
                <a:off x="2012040" y="3132720"/>
                <a:ext cx="1335240" cy="510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" y="10120"/>
                    </a:moveTo>
                    <a:arcTo wR="10800" hR="10800" stAng="-10583430" swAng="1058343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" y="10120"/>
                    </a:moveTo>
                    <a:arcTo wR="10800" hR="10800" stAng="-10583430" swAng="10583430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d37Line 5"/>
              <p:cNvSpPr/>
              <p:nvPr/>
            </p:nvSpPr>
            <p:spPr>
              <a:xfrm flipH="1">
                <a:off x="2011320" y="1844640"/>
                <a:ext cx="668160" cy="154440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d37Line 6"/>
              <p:cNvSpPr/>
              <p:nvPr/>
            </p:nvSpPr>
            <p:spPr>
              <a:xfrm>
                <a:off x="2679480" y="1844640"/>
                <a:ext cx="668160" cy="154440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1" name=""/>
            <p:cNvSpPr/>
            <p:nvPr/>
          </p:nvSpPr>
          <p:spPr>
            <a:xfrm>
              <a:off x="2044800" y="2347920"/>
              <a:ext cx="582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19240" y="3397320"/>
              <a:ext cx="1328760" cy="1440"/>
            </a:xfrm>
            <a:custGeom>
              <a:avLst/>
              <a:gdLst/>
              <a:ahLst/>
              <a:rect l="l" t="t" r="r" b="b"/>
              <a:pathLst>
                <a:path w="837" h="1">
                  <a:moveTo>
                    <a:pt x="0" y="1"/>
                  </a:moveTo>
                  <a:lnTo>
                    <a:pt x="837" y="0"/>
                  </a:lnTo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627280" y="3379680"/>
              <a:ext cx="36360" cy="36720"/>
            </a:xfrm>
            <a:prstGeom prst="ellipse">
              <a:avLst/>
            </a:prstGeom>
            <a:solidFill>
              <a:srgbClr val="da5800"/>
            </a:solidFill>
            <a:ln w="9360">
              <a:solidFill>
                <a:srgbClr val="da58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556000" y="3247920"/>
              <a:ext cx="58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117520" y="3259080"/>
              <a:ext cx="58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" name=""/>
          <p:cNvSpPr/>
          <p:nvPr/>
        </p:nvSpPr>
        <p:spPr>
          <a:xfrm>
            <a:off x="324000" y="5084640"/>
            <a:ext cx="754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圆锥的侧面展开图是一个扇形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这个扇形的半径是圆锥的母线长，弧长是圆锥底面圆的周长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6T01:30:27Z</dcterms:created>
  <dc:creator/>
  <dc:description/>
  <cp:keywords/>
  <dc:language>en-US</dc:language>
  <cp:lastModifiedBy>徐华昌</cp:lastModifiedBy>
  <dcterms:modified xsi:type="dcterms:W3CDTF">2015-07-30T05:19:38Z</dcterms:modified>
  <cp:revision>1</cp:revision>
  <dc:subject/>
  <dc:title>3.2  直棱柱、圆锥的侧面展开图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715</vt:lpwstr>
  </property>
</Properties>
</file>