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csound.wav" ContentType="audio/x-wav"/>
  <Override PartName="/ppt/media/image21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media/image11.png" ContentType="image/png"/>
  <Override PartName="/ppt/media/image19.wmf" ContentType="image/x-wmf"/>
  <Override PartName="/ppt/media/image17.wmf" ContentType="image/x-wmf"/>
  <Override PartName="/ppt/media/image7.jpeg" ContentType="image/jpeg"/>
  <Override PartName="/ppt/media/image18.png" ContentType="image/png"/>
  <Override PartName="/ppt/media/image16.wmf" ContentType="image/x-wmf"/>
  <Override PartName="/ppt/media/image4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20.wmf" ContentType="image/x-wmf"/>
  <Override PartName="/ppt/media/image5.jpeg" ContentType="image/jpeg"/>
  <Override PartName="/ppt/media/image6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DB6F-3660-49E4-B332-2DFA48FE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56C-B94B-4918-A243-1D8759C5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5202EC-82D1-41F0-9EC7-51D161D9459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69502E-CB51-406D-8980-46172381A47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98594-8B33-461D-82C0-3DEF273ACE1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5F7E37-3BDA-41D3-BC78-888B6CAF170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9AFD4D-B528-4184-908D-086649A970E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8F94A9-451C-4E7F-BD57-80A64E9B40D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F5DAD1-D026-43EC-A6AA-2D032672B60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630442-19D9-4EBE-AD9A-8BAA86249A6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7F388F-4B19-4392-928E-48BCA65FA9A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DDB-C09B-43BF-BECC-83527697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5B8-14CB-48C9-B58E-E86A4AF1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3B8E-9307-431D-8FB6-19E19912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037E-DD66-4853-BE6F-F2EC758C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E4DA-12EF-4C6E-8BE8-1805F53F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A00D-BEA5-49CD-8CAF-3D9ECFF3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451F-553B-4F00-8034-14A1A349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12B2-7160-4964-8B27-05133F85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3740-D89C-4031-B29C-F152617B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BD00-986C-495B-8CC8-F2684E17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F569-B04A-4EC8-9BB5-C0D458D0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1D8B-3B0A-4B44-867D-F0782FD7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2BA1-BBA3-4211-9140-02596726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6D8C-54C5-441C-A0C1-36A11DA2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AC38-7066-452F-9B31-F8EC7525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04C67-80DD-407E-9B17-F436DB1A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FF02D-F916-456B-A634-70C5DF2B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2EF9-31CD-4D58-84DC-ED015743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20353-4026-4F3B-BA88-3524658E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761D0-825A-4C3A-80E8-C2F8836B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99CF-3B93-4237-A303-BF16DD32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1DE44-D137-4C0C-9B91-2921E765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43D6E-565D-4DF2-A534-56B1AFC1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2DEC8-509F-4066-9975-A7CB2134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5B842-A599-4B2D-8A47-A7DBE51F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38942-E4F6-4BEB-A3B8-85EF1EA9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4EAE3-A2CC-467E-9108-43C4B7B3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E7F5B-F757-4377-B8F9-E17ED624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6F1A0-BAC0-405A-9946-BFB4489A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72EA8-B6C7-49D8-960F-F0A2B29A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5DE4C-D9D6-4A15-A95F-9B5B0586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D814-E798-42AF-948A-66959FAD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3393B-D3D4-413A-8722-967BC297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7C807-E812-4A5E-8384-4FB4A485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B1929-F180-4AEC-B262-854C6285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5F841-ABB9-4129-A58E-5E71D571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063A6-CE3D-4764-A054-82173DDE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5DC04-7955-43B3-A4BA-6D8A040C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18C87-A3E9-4C90-9375-3AD149B7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EB74A-55B5-467E-AD7C-052BAB6F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9CDE5-E0B2-4EE2-A373-0D7B3C72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DD48E-8478-45A6-87C1-59604BC6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D98F-FA79-4E9C-BD6E-E6D928F6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6358F-9350-4989-BAA0-387A522D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37A16-24EF-474A-A6C1-1FAC0665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D65E8-6C4A-4058-B373-99497E3E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D1EB5-88C6-40B9-A629-69A1740C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8A9F4-4CA0-4D98-BFDF-B29586F4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69F56-FB27-44FC-B63A-9FAC40E3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07275-4B5B-480A-BAD1-DE446CF6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9A562-1988-4CC8-804C-82D51512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DF530-A599-4CC5-B4E6-E1115016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4EF52-6D9F-491E-A023-7C848C4B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2FF-E9DF-4878-B6D0-E166181C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4A647-6E91-4DA1-937E-BA8DAD66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45764-0BEA-482C-A103-16480EA2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2B41A-2189-46D1-B0FF-D4D28749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D0C9B-72A6-42BB-AADD-847E0ED9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0BC54-6C36-494F-BDF6-E9C9766F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821F9-B653-42B1-A22B-479556DD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C9FC4-A1A7-47DE-BC40-8CE84164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DDCC8-7A9F-45AD-B400-C6277F78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C386C-E186-4621-B0E2-735845B3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58C72-DBCC-4446-BB63-155ACC35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3FC2-1CF3-437C-A10D-BDAAB875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B7718-4FA2-4A02-91CE-D6AB6659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CD4D0-6577-4B71-8108-E5A398F6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39ADE-C676-404A-9277-FB188A79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6E3786-5255-4AE9-8913-0A44A4721FA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B729C1-0F43-454A-8C10-DD85819B48D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7E05F7-D7B7-414A-A119-3E41C460A43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A0A3B1-C66A-416D-9093-BA8E7831549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9EE86B-99C8-4427-9924-ECFCBDF6F72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F39D12-7D93-44C4-BF66-B77872B8683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4EE4D5-0364-4452-9C9C-DFD3FD4EC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2E2D-B68D-442B-AF93-D16B9853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6CC949-5B44-48C0-997B-5F59C02875E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EFB16C-85CA-4DAE-A1E8-D39925B9CDF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346955-BAC6-4F77-BA3F-9A2D7ED775C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C7CBA2-49B8-4334-A3C6-2044BCF1D84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773B01-951B-4071-92ED-D1A20568232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F85-F36A-4551-8C0D-93D9EFC3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6B209-D34D-4A10-8006-C9E9F5FE2BF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A77144-4164-47BA-883A-34100B14FEF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DED322-158A-4826-8F15-70A98509C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B9C5-56A8-4F44-BA28-E70A3E7971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21081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3C4F-F1E0-46D2-84B0-5C783A0C51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1F4B-B20B-48C5-A6A4-9C1B20A48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A3C7-9EB6-4077-8A43-762D7EDC9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117A-DD47-4862-886C-C9F8931535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186660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405E-DB05-46B2-8776-B50182FE33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ldNum" idx="19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353C2FC-44EB-4265-ABE6-C392FD680FE9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21081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Num" idx="20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CD7AC93-3ED2-438A-87CA-6A9A9364B373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csound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875560" cy="17146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3048120" y="4952880"/>
            <a:ext cx="5875200" cy="17146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114800" y="57913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839320" y="2924280"/>
            <a:ext cx="31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§18.3.3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一次函数的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4" name="csou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36360" y="260280"/>
          <a:ext cx="9072720" cy="6513480"/>
        </p:xfrm>
        <a:graphic>
          <a:graphicData uri="http://schemas.openxmlformats.org/drawingml/2006/table">
            <a:tbl>
              <a:tblPr/>
              <a:tblGrid>
                <a:gridCol w="1270080"/>
                <a:gridCol w="1239840"/>
                <a:gridCol w="2097000"/>
                <a:gridCol w="2951280"/>
                <a:gridCol w="1514520"/>
              </a:tblGrid>
              <a:tr h="7023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y=kx+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图  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性   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4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直线经过的象限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增减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8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K&lt;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             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         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&lt;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           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6" name=""/>
          <p:cNvGrpSpPr/>
          <p:nvPr/>
        </p:nvGrpSpPr>
        <p:grpSpPr>
          <a:xfrm>
            <a:off x="2843280" y="1844280"/>
            <a:ext cx="1368360" cy="1079640"/>
            <a:chOff x="2843280" y="1844280"/>
            <a:chExt cx="1368360" cy="1079640"/>
          </a:xfrm>
        </p:grpSpPr>
        <p:sp>
          <p:nvSpPr>
            <p:cNvPr id="487" name=""/>
            <p:cNvSpPr/>
            <p:nvPr/>
          </p:nvSpPr>
          <p:spPr>
            <a:xfrm>
              <a:off x="2843280" y="24922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490920" y="184428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771640" y="3428640"/>
            <a:ext cx="1368360" cy="1152360"/>
            <a:chOff x="2771640" y="3428640"/>
            <a:chExt cx="1368360" cy="1152360"/>
          </a:xfrm>
        </p:grpSpPr>
        <p:sp>
          <p:nvSpPr>
            <p:cNvPr id="490" name=""/>
            <p:cNvSpPr/>
            <p:nvPr/>
          </p:nvSpPr>
          <p:spPr>
            <a:xfrm>
              <a:off x="2771640" y="407664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419280" y="3428640"/>
              <a:ext cx="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059280" y="5084280"/>
            <a:ext cx="1150920" cy="1081080"/>
            <a:chOff x="3059280" y="5084280"/>
            <a:chExt cx="1150920" cy="1081080"/>
          </a:xfrm>
        </p:grpSpPr>
        <p:sp>
          <p:nvSpPr>
            <p:cNvPr id="493" name=""/>
            <p:cNvSpPr/>
            <p:nvPr/>
          </p:nvSpPr>
          <p:spPr>
            <a:xfrm>
              <a:off x="3059280" y="573408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62560" y="508428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203640" y="1917720"/>
            <a:ext cx="1008000" cy="86364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643280" y="357336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、四象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451640" y="1916280"/>
            <a:ext cx="2808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随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增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而减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2987280" y="3499920"/>
            <a:ext cx="792360" cy="1008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716360" y="198900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、二、四象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451640" y="3500280"/>
            <a:ext cx="22338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随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增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而减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059280" y="5516640"/>
            <a:ext cx="792000" cy="7189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16360" y="5084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、三、四象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451640" y="5013360"/>
            <a:ext cx="237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随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增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而减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564000" y="1989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0,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916360" y="60930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o,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859280" y="6165720"/>
            <a:ext cx="1187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419640" y="36450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0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038480" y="3809880"/>
            <a:ext cx="4953240" cy="2743200"/>
          </a:xfrm>
          <a:prstGeom prst="cloudCallout">
            <a:avLst>
              <a:gd name="adj1" fmla="val -59518"/>
              <a:gd name="adj2" fmla="val -78125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   &lt;  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，图像定经过第二、第四象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50292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ahoma"/>
              </a:rPr>
              <a:t>【请你来解答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18960" y="105228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判断下列各图中的函数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符号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04920" y="1904760"/>
            <a:ext cx="1752480" cy="1447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52280" y="1447920"/>
            <a:ext cx="2743200" cy="2818800"/>
            <a:chOff x="152280" y="1447920"/>
            <a:chExt cx="2743200" cy="2818800"/>
          </a:xfrm>
        </p:grpSpPr>
        <p:sp>
          <p:nvSpPr>
            <p:cNvPr id="513" name=""/>
            <p:cNvSpPr/>
            <p:nvPr/>
          </p:nvSpPr>
          <p:spPr>
            <a:xfrm>
              <a:off x="152280" y="3068280"/>
              <a:ext cx="247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1288800" y="1730160"/>
              <a:ext cx="0" cy="253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2530440" y="2857320"/>
              <a:ext cx="365040" cy="42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3"/>
            <a:stretch/>
          </p:blipFill>
          <p:spPr>
            <a:xfrm>
              <a:off x="1022400" y="1447920"/>
              <a:ext cx="401400" cy="4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121896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609480" y="43434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 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51055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  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505320" y="4343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  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50532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  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77120" y="4343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 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477120" y="5181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  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124080" y="1523880"/>
            <a:ext cx="2590920" cy="2666520"/>
            <a:chOff x="3124080" y="1523880"/>
            <a:chExt cx="2590920" cy="2666520"/>
          </a:xfrm>
        </p:grpSpPr>
        <p:sp>
          <p:nvSpPr>
            <p:cNvPr id="525" name=""/>
            <p:cNvSpPr/>
            <p:nvPr/>
          </p:nvSpPr>
          <p:spPr>
            <a:xfrm>
              <a:off x="3124080" y="3057480"/>
              <a:ext cx="233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4198680" y="1790280"/>
              <a:ext cx="0" cy="240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7" name="" descr=""/>
            <p:cNvPicPr/>
            <p:nvPr/>
          </p:nvPicPr>
          <p:blipFill>
            <a:blip r:embed="rId4"/>
            <a:stretch/>
          </p:blipFill>
          <p:spPr>
            <a:xfrm>
              <a:off x="5370480" y="2857320"/>
              <a:ext cx="344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5"/>
            <a:stretch/>
          </p:blipFill>
          <p:spPr>
            <a:xfrm>
              <a:off x="3944880" y="1523880"/>
              <a:ext cx="379440" cy="47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9" name=""/>
          <p:cNvSpPr/>
          <p:nvPr/>
        </p:nvSpPr>
        <p:spPr>
          <a:xfrm>
            <a:off x="3429000" y="2133720"/>
            <a:ext cx="190512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267080" y="31240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6095880" y="1523880"/>
            <a:ext cx="2590920" cy="2666520"/>
            <a:chOff x="6095880" y="1523880"/>
            <a:chExt cx="2590920" cy="2666520"/>
          </a:xfrm>
        </p:grpSpPr>
        <p:sp>
          <p:nvSpPr>
            <p:cNvPr id="532" name=""/>
            <p:cNvSpPr/>
            <p:nvPr/>
          </p:nvSpPr>
          <p:spPr>
            <a:xfrm>
              <a:off x="6095880" y="3057480"/>
              <a:ext cx="233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170480" y="1790280"/>
              <a:ext cx="0" cy="240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4" name="" descr=""/>
            <p:cNvPicPr/>
            <p:nvPr/>
          </p:nvPicPr>
          <p:blipFill>
            <a:blip r:embed="rId6"/>
            <a:stretch/>
          </p:blipFill>
          <p:spPr>
            <a:xfrm>
              <a:off x="8342280" y="2857320"/>
              <a:ext cx="344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7"/>
            <a:stretch/>
          </p:blipFill>
          <p:spPr>
            <a:xfrm>
              <a:off x="6916680" y="1523880"/>
              <a:ext cx="379440" cy="47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6" name=""/>
          <p:cNvSpPr/>
          <p:nvPr/>
        </p:nvSpPr>
        <p:spPr>
          <a:xfrm flipV="1">
            <a:off x="6705720" y="2437920"/>
            <a:ext cx="160020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238880" y="31240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826920" y="1701720"/>
            <a:ext cx="8317080" cy="49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次函数                    的图象经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象限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的图象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轴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轴的坐标分别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函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=(k-1)x+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162920" y="198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一、二、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00720" y="2637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781440" y="33591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476360" y="522936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236000" y="5302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减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-2116080" y="2863800"/>
            <a:ext cx="912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2987640" y="1989000"/>
            <a:ext cx="2087640" cy="5511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581800" y="3286080"/>
            <a:ext cx="20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164360" y="2421000"/>
            <a:ext cx="158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796760" y="11239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【请你来参与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52360" y="1413000"/>
            <a:ext cx="9372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画出函数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y=-2x+2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的图象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结合图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回答下列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1)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这个函数中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随着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的增大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,y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将增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还是减小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它的图象从左到右怎样变化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2)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当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取何值时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,y=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当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取何值时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,y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＞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当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0&lt;x&lt;1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时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,y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的取值范围是什么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366920" y="6206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做一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1219320" y="312840"/>
            <a:ext cx="6927840" cy="654516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1332000" y="620640"/>
            <a:ext cx="21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c17"/>
                </a:solidFill>
                <a:latin typeface="Tahoma"/>
              </a:rPr>
              <a:t>Y=-2x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105520" y="762120"/>
            <a:ext cx="365760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0c17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b0c17"/>
                </a:solidFill>
                <a:latin typeface="Tahoma"/>
              </a:rPr>
              <a:t>看</a:t>
            </a:r>
            <a:r>
              <a:rPr b="1" lang="en-US" sz="2400" spc="-1" strike="noStrike">
                <a:solidFill>
                  <a:srgbClr val="0b0c17"/>
                </a:solidFill>
                <a:latin typeface="Tahoma"/>
              </a:rPr>
              <a:t>y=-2x+2</a:t>
            </a:r>
            <a:r>
              <a:rPr b="1" lang="zh-CN" sz="2400" spc="-1" strike="noStrike">
                <a:solidFill>
                  <a:srgbClr val="0b0c17"/>
                </a:solidFill>
                <a:latin typeface="Tahoma"/>
              </a:rPr>
              <a:t>的图象，随</a:t>
            </a:r>
            <a:r>
              <a:rPr b="1" lang="en-US" sz="2400" spc="-1" strike="noStrike">
                <a:solidFill>
                  <a:srgbClr val="0b0c17"/>
                </a:solidFill>
                <a:latin typeface="Tahoma"/>
              </a:rPr>
              <a:t>x</a:t>
            </a:r>
            <a:r>
              <a:rPr b="1" lang="zh-CN" sz="2400" spc="-1" strike="noStrike">
                <a:solidFill>
                  <a:srgbClr val="0b0c17"/>
                </a:solidFill>
                <a:latin typeface="Tahoma"/>
              </a:rPr>
              <a:t>的值增大，</a:t>
            </a:r>
            <a:r>
              <a:rPr b="1" lang="en-US" sz="2400" spc="-1" strike="noStrike">
                <a:solidFill>
                  <a:srgbClr val="0b0c17"/>
                </a:solidFill>
                <a:latin typeface="Tahoma"/>
              </a:rPr>
              <a:t>y</a:t>
            </a:r>
            <a:r>
              <a:rPr b="1" lang="zh-CN" sz="2400" spc="-1" strike="noStrike">
                <a:solidFill>
                  <a:srgbClr val="0b0c17"/>
                </a:solidFill>
                <a:latin typeface="Tahoma"/>
              </a:rPr>
              <a:t>的值有怎样的变化趋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4343400" y="380880"/>
            <a:ext cx="228600" cy="27936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7835760" y="3886200"/>
            <a:ext cx="241560" cy="2160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900000" y="4149720"/>
            <a:ext cx="3095640" cy="1922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取何值 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y=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取何值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y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&lt;x&lt;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y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取值范围是什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056920" y="317340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1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 flipV="1">
            <a:off x="3276720" y="333360"/>
            <a:ext cx="1728720" cy="3456000"/>
          </a:xfrm>
          <a:prstGeom prst="line">
            <a:avLst/>
          </a:prstGeom>
          <a:ln w="88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4642920" y="3068640"/>
            <a:ext cx="360360" cy="72072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71600" y="1127160"/>
            <a:ext cx="820728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函数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</a:rPr>
              <a:t>=(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</a:rPr>
              <a:t>-3)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</a:rPr>
              <a:t>-2/3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华文新魏"/>
              </a:rPr>
              <a:t>(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取何值时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</a:rPr>
              <a:t>,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增大而增大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</a:rPr>
              <a:t>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华文新魏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取何值时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增大而减小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</a:rPr>
              <a:t>?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08000" y="3573360"/>
            <a:ext cx="849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396720" y="3068280"/>
            <a:ext cx="82807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已知点（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-1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）和（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／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）都在直线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2/3x+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上，试比较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大小。你能想出几种判断的方法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68360" y="333360"/>
            <a:ext cx="3311640" cy="6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【请你来解答】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96360" y="62028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【请你来回忆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通过今天的学习，谈谈你今天的收获有哪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-11160" y="333360"/>
            <a:ext cx="8831160" cy="62643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1447920" y="2666880"/>
            <a:ext cx="6553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谢谢大家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79280" y="1989000"/>
            <a:ext cx="84027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请你来帮忙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次函数的图象是一条直线，一般情况下我们画一次函数的图象，取哪两个点比较简便？</a:t>
            </a:r>
            <a:r>
              <a:rPr b="1" i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b0c17"/>
                </a:solidFill>
                <a:latin typeface="Arial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b0c17"/>
                </a:solidFill>
                <a:latin typeface="Arial"/>
                <a:ea typeface="黑体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0c17"/>
                </a:solidFill>
                <a:latin typeface="Arial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36760" y="4292640"/>
            <a:ext cx="395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-b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／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【学习目标】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2060280"/>
            <a:ext cx="77724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掌握一次函数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kx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b(k≠0)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的性质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能根据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k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的值说出函数的有关性质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5" name=""/>
          <p:cNvSpPr/>
          <p:nvPr/>
        </p:nvSpPr>
        <p:spPr>
          <a:xfrm>
            <a:off x="1803960" y="4076640"/>
            <a:ext cx="32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重点   一次函数图象的变化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难点   一次函数图象性质的理解与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684360" y="479736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c17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8360" y="25653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 1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9800" y="37180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 2 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          y=-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x-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964880" y="1844640"/>
            <a:ext cx="52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0c17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b0c17"/>
                </a:solidFill>
                <a:latin typeface="Arial"/>
              </a:rPr>
              <a:t>在平面直角坐标系中画出下列函数的图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4000" y="4797360"/>
            <a:ext cx="809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议一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你所画的一次函数图象中，直线经过几个象限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两个函数中，随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值的增大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值分别如何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2"/>
          <a:stretch/>
        </p:blipFill>
        <p:spPr>
          <a:xfrm>
            <a:off x="1476360" y="2349360"/>
            <a:ext cx="2158920" cy="9907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4196160" y="2637000"/>
            <a:ext cx="16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0c17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b0c17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b0c17"/>
                </a:solidFill>
                <a:latin typeface="Arial"/>
              </a:rPr>
              <a:t>3x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79120" y="404640"/>
            <a:ext cx="34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【请你自己学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自学课本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44-4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31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2"/>
          <a:stretch/>
        </p:blipFill>
        <p:spPr>
          <a:xfrm>
            <a:off x="1476360" y="620640"/>
            <a:ext cx="6121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360" y="406440"/>
            <a:ext cx="779148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　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468360" y="62064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【请你来归纳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21520" y="126828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在所画的一次函数图象中，直线经过了三个象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702440" y="1844640"/>
            <a:ext cx="6059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函数值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随自变量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的增大而增大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　　上述两条直线都经过一、三象限．又由于直线与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轴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交点坐标是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0,b)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所以，当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＞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时，直线与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轴的交点在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的正半轴，也称在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轴的上方；当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＜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时，直线与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轴的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点在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轴的负半轴，也称在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轴的下方．所以当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＞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0,b≠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直线经过一、三、二象限或一、三、四象限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,b=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线经过一、三象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77929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在同一坐标系中，画出函数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＋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和  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y=-3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／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2x-1 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的图象（图略）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179280" y="2637000"/>
            <a:ext cx="813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函数值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随自变量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增大而减小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发现上述两条直线都经过二、四象限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又由于直线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轴的交点坐标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0,b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且当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＞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时，直线与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轴的交点在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轴的正半轴，或在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轴的上方；当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时，直线与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轴的交点在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轴的负半轴，或在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轴的下方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所以当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0,b≠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时，直线经过二、四、一象限或经过二、四、三象限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0,b=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，直线经过二、四象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90512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次函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下列性质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时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增大而增大，这时函数的图象从左到右上升；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时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增大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这时函数的图象从左到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95280" y="404640"/>
            <a:ext cx="5543640" cy="1143000"/>
          </a:xfrm>
          <a:prstGeom prst="cloudCallout">
            <a:avLst>
              <a:gd name="adj1" fmla="val -9611"/>
              <a:gd name="adj2" fmla="val 73472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【请你来概括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627240" y="458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减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5479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下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835280" y="957240"/>
            <a:ext cx="109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835280" y="958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835280" y="95724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49" name=""/>
          <p:cNvSpPr/>
          <p:nvPr/>
        </p:nvSpPr>
        <p:spPr>
          <a:xfrm>
            <a:off x="1835280" y="958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835280" y="95724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958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835280" y="95724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835280" y="957240"/>
            <a:ext cx="109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835280" y="958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35280" y="95724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35280" y="958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95724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835280" y="958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95724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1160" y="765000"/>
          <a:ext cx="9132840" cy="5921280"/>
        </p:xfrm>
        <a:graphic>
          <a:graphicData uri="http://schemas.openxmlformats.org/drawingml/2006/table">
            <a:tbl>
              <a:tblPr/>
              <a:tblGrid>
                <a:gridCol w="1150920"/>
                <a:gridCol w="1219320"/>
                <a:gridCol w="1830240"/>
                <a:gridCol w="2881440"/>
                <a:gridCol w="2050920"/>
              </a:tblGrid>
              <a:tr h="7653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y=kx+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图  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性      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直线经过的象限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增减性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K&gt;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        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        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          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61" name=""/>
          <p:cNvGrpSpPr/>
          <p:nvPr/>
        </p:nvGrpSpPr>
        <p:grpSpPr>
          <a:xfrm>
            <a:off x="2556000" y="3284640"/>
            <a:ext cx="1224000" cy="1287360"/>
            <a:chOff x="2556000" y="3284640"/>
            <a:chExt cx="1224000" cy="1287360"/>
          </a:xfrm>
        </p:grpSpPr>
        <p:sp>
          <p:nvSpPr>
            <p:cNvPr id="462" name=""/>
            <p:cNvSpPr/>
            <p:nvPr/>
          </p:nvSpPr>
          <p:spPr>
            <a:xfrm>
              <a:off x="2556000" y="38530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3059280" y="3284640"/>
              <a:ext cx="0" cy="12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411280" y="4797000"/>
            <a:ext cx="1295280" cy="1368360"/>
            <a:chOff x="2411280" y="4797000"/>
            <a:chExt cx="1295280" cy="1368360"/>
          </a:xfrm>
        </p:grpSpPr>
        <p:sp>
          <p:nvSpPr>
            <p:cNvPr id="465" name=""/>
            <p:cNvSpPr/>
            <p:nvPr/>
          </p:nvSpPr>
          <p:spPr>
            <a:xfrm>
              <a:off x="2411280" y="5589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2985840" y="4797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484360" y="1988640"/>
            <a:ext cx="1224000" cy="1081080"/>
            <a:chOff x="2484360" y="1988640"/>
            <a:chExt cx="1224000" cy="1081080"/>
          </a:xfrm>
        </p:grpSpPr>
        <p:sp>
          <p:nvSpPr>
            <p:cNvPr id="468" name=""/>
            <p:cNvSpPr/>
            <p:nvPr/>
          </p:nvSpPr>
          <p:spPr>
            <a:xfrm>
              <a:off x="2484360" y="249372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87640" y="19886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 flipH="1">
            <a:off x="2410920" y="2060640"/>
            <a:ext cx="792360" cy="7920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796000" y="33336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140360" y="35733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第一、三象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983280" y="335916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随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增大而增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556000" y="3573000"/>
            <a:ext cx="792000" cy="792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40360" y="2060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、二、三象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093080" y="2060640"/>
            <a:ext cx="21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随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而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484360" y="5444640"/>
            <a:ext cx="1150920" cy="86364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284720" y="501336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、三、四象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164360" y="4941720"/>
            <a:ext cx="21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随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增大而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059280" y="1989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(0,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059280" y="5805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0,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76720" y="3429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(0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780000" y="4149720"/>
            <a:ext cx="4952880" cy="2743200"/>
          </a:xfrm>
          <a:prstGeom prst="cloudCallout">
            <a:avLst>
              <a:gd name="adj1" fmla="val -59518"/>
              <a:gd name="adj2" fmla="val -78125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   &gt;  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，图像定经过第一、第三象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08000" y="-15840"/>
            <a:ext cx="825984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一</a:t>
            </a:r>
            <a:r>
              <a:rPr b="1" lang="zh-CN" sz="3200" spc="-1" strike="noStrike">
                <a:solidFill>
                  <a:srgbClr val="0b0c17"/>
                </a:solidFill>
                <a:latin typeface="Times New Roman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次函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=kx+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图像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3-03-27T02:17:2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