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F5C-4B1E-45E3-B8DE-838F208A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B8E-D0AF-489E-BE57-CC3B4BF7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628-AAC3-450D-8CC1-D95A82C6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B23-2889-4073-8404-7004738C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F9E-C2B7-4BCC-8348-4D0F12C1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908-AD42-41CA-B0D1-B0A40055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3C7-0547-48AD-A963-B49217F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933-C819-4701-A239-8A0776B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510C-3973-4DAA-AEBD-0443A118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BF71-E60A-4D63-8F03-A148798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3039-59C1-4454-8392-E99AC32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358-9656-4784-9616-9B2945E8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F2E-12AA-4349-930E-9D18EC2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E41-2718-4BBC-9124-B112A26B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1571-49E5-4E18-A686-A04178B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5BD-C237-402D-861C-C83F0496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B0ED-81AA-4477-B08C-7B2A65EA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E2C5-77AB-470A-9619-AECD715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DD29-C7E5-4782-A50A-BED90541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532A-8200-4CA2-BDF6-A7314EF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9E45-C80F-4584-985D-3FB4D55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0698-5661-4EB6-AC13-5C7E94B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81B-8C58-402C-8D14-D1C3CCD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ACD3-5B47-4EDE-919E-30AFF3A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1882-41C2-4325-9D74-0FC22858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C475-30B7-4E87-B0E7-757CA02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C324-AA98-4681-A63C-7C363E6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CE8D-BEB4-4C89-8560-F8FFFA5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3A3B-280D-42A3-9EC6-BC73B891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51FA-601B-4432-AC20-65F2862D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1D2-CAD5-40FF-B4AC-FF84D202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61A-E161-4DF9-9D0B-46CB8B4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81C-F7E9-4389-8BEF-9234F46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174-B704-4AD8-8611-DEAE2F1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06F-C7FE-4CAB-A79E-8DF2408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395-DCFD-449E-A9A5-A827E69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7CB1-BB64-476A-8940-A161C153C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452" b="0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9337-FE8B-4C27-933C-122D09B43234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0" t="0" r="569" b="0"/>
          <a:stretch/>
        </p:blipFill>
        <p:spPr>
          <a:xfrm>
            <a:off x="0" y="0"/>
            <a:ext cx="91616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8"/>
          <p:cNvGrpSpPr/>
          <p:nvPr/>
        </p:nvGrpSpPr>
        <p:grpSpPr>
          <a:xfrm>
            <a:off x="4390920" y="2479680"/>
            <a:ext cx="4770720" cy="4384800"/>
            <a:chOff x="4390920" y="2479680"/>
            <a:chExt cx="4770720" cy="4384800"/>
          </a:xfrm>
        </p:grpSpPr>
        <p:pic>
          <p:nvPicPr>
            <p:cNvPr id="85" name="图片 9" descr=""/>
            <p:cNvPicPr/>
            <p:nvPr/>
          </p:nvPicPr>
          <p:blipFill>
            <a:blip r:embed="rId3"/>
            <a:srcRect l="0" t="0" r="0" b="6777"/>
            <a:stretch/>
          </p:blipFill>
          <p:spPr>
            <a:xfrm>
              <a:off x="4537080" y="2479680"/>
              <a:ext cx="4362840" cy="43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10" descr=""/>
            <p:cNvPicPr/>
            <p:nvPr/>
          </p:nvPicPr>
          <p:blipFill>
            <a:blip r:embed="rId4"/>
            <a:srcRect l="0" t="0" r="13920" b="0"/>
            <a:stretch/>
          </p:blipFill>
          <p:spPr>
            <a:xfrm>
              <a:off x="6693840" y="5235480"/>
              <a:ext cx="2467800" cy="16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11" descr=""/>
            <p:cNvPicPr/>
            <p:nvPr/>
          </p:nvPicPr>
          <p:blipFill>
            <a:blip r:embed="rId5"/>
            <a:srcRect l="0" t="0" r="0" b="35061"/>
            <a:stretch/>
          </p:blipFill>
          <p:spPr>
            <a:xfrm>
              <a:off x="4390920" y="6365880"/>
              <a:ext cx="83196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图片 12" descr=""/>
          <p:cNvPicPr/>
          <p:nvPr/>
        </p:nvPicPr>
        <p:blipFill>
          <a:blip r:embed="rId6"/>
          <a:srcRect l="0" t="0" r="0" b="21566"/>
          <a:stretch/>
        </p:blipFill>
        <p:spPr>
          <a:xfrm>
            <a:off x="31680" y="6070680"/>
            <a:ext cx="1449360" cy="799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9C4-E92C-4557-8C06-E3F92BA351E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733920" y="45720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方正姚体"/>
              </a:rPr>
              <a:t>华东师大版七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362320" y="2362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第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6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章   一元一次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WordArt 4" descr=""/>
          <p:cNvPicPr/>
          <p:nvPr/>
        </p:nvPicPr>
        <p:blipFill>
          <a:blip r:embed="rId1"/>
          <a:stretch/>
        </p:blipFill>
        <p:spPr>
          <a:xfrm>
            <a:off x="1511280" y="4029120"/>
            <a:ext cx="6273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79280" y="0"/>
            <a:ext cx="647640" cy="9471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42920" y="331920"/>
            <a:ext cx="62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得两个长方形面积的大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能围成面积更大的长方形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948360" y="2205000"/>
            <a:ext cx="1440000" cy="1079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77080" y="981000"/>
            <a:ext cx="1584360" cy="1008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463880" y="12682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392600" y="24922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7451640" y="549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8532720" y="1268280"/>
                <a:ext cx="411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0"/>
              <p:cNvSpPr txBox="1"/>
              <p:nvPr/>
            </p:nvSpPr>
            <p:spPr>
              <a:xfrm>
                <a:off x="8459640" y="2492280"/>
                <a:ext cx="411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7524720" y="3284640"/>
                <a:ext cx="3603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12"/>
          <p:cNvSpPr/>
          <p:nvPr/>
        </p:nvSpPr>
        <p:spPr>
          <a:xfrm>
            <a:off x="1425600" y="1341360"/>
            <a:ext cx="49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长方形的长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946800" y="198900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长方形的面积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4"/>
              <p:cNvSpPr txBox="1"/>
              <p:nvPr/>
            </p:nvSpPr>
            <p:spPr>
              <a:xfrm>
                <a:off x="2771640" y="2060640"/>
                <a:ext cx="90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5"/>
              <p:cNvSpPr txBox="1"/>
              <p:nvPr/>
            </p:nvSpPr>
            <p:spPr>
              <a:xfrm>
                <a:off x="3708360" y="2060640"/>
                <a:ext cx="79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6"/>
          <p:cNvSpPr/>
          <p:nvPr/>
        </p:nvSpPr>
        <p:spPr>
          <a:xfrm>
            <a:off x="4683600" y="1989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平方厘米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797840" y="2637000"/>
            <a:ext cx="41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长方形的长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946800" y="321300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长方形的面积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2916360" y="3284640"/>
                <a:ext cx="90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0"/>
              <p:cNvSpPr txBox="1"/>
              <p:nvPr/>
            </p:nvSpPr>
            <p:spPr>
              <a:xfrm>
                <a:off x="3851280" y="3284640"/>
                <a:ext cx="7970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21"/>
          <p:cNvSpPr/>
          <p:nvPr/>
        </p:nvSpPr>
        <p:spPr>
          <a:xfrm>
            <a:off x="4899240" y="3284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平方厘米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755640" y="3789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方形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面积比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中的长方形面积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684360" y="429264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通过计算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发现随着长方形的长与宽的变化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长方形的面积也发生变化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并且长和宽的差越小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长方形的面积越大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当长和宽相等时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面积最大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611280" y="5445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即当长和宽相等都为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时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围成的长方形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即正方形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面积最大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此时面积为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225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</a:t>
            </a:r>
            <a:r>
              <a:rPr b="1" lang="zh-CN" sz="24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6948360" y="5229360"/>
            <a:ext cx="1295640" cy="1224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8317080" y="5661000"/>
                <a:ext cx="3362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7"/>
              <p:cNvSpPr txBox="1"/>
              <p:nvPr/>
            </p:nvSpPr>
            <p:spPr>
              <a:xfrm>
                <a:off x="7451640" y="6523200"/>
                <a:ext cx="336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28"/>
          <p:cNvSpPr/>
          <p:nvPr/>
        </p:nvSpPr>
        <p:spPr>
          <a:xfrm>
            <a:off x="7320960" y="5661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5564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由解决问题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我们可悟出什么数学道理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55640" y="1125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两个正数的和不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这两个数相等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们的积最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4932360" y="2565360"/>
            <a:ext cx="3168720" cy="1150920"/>
          </a:xfrm>
          <a:prstGeom prst="cloudCallout">
            <a:avLst>
              <a:gd name="adj1" fmla="val -57314"/>
              <a:gd name="adj2" fmla="val -1069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你不妨试一试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755640" y="18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练习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课本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4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页第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11280" y="765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块长、宽、高分别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、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、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的长方体橡皮泥，要用它来捏一个底面半径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的圆柱，它的高是多少？（精确到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取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148360" y="155736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AutoShape 5"/>
          <p:cNvSpPr/>
          <p:nvPr/>
        </p:nvSpPr>
        <p:spPr>
          <a:xfrm>
            <a:off x="6372360" y="2421000"/>
            <a:ext cx="1368360" cy="9367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6588000" y="4076640"/>
            <a:ext cx="936720" cy="1224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74028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7380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717192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588000" y="5013360"/>
            <a:ext cx="936720" cy="287280"/>
          </a:xfrm>
          <a:prstGeom prst="ellipse">
            <a:avLst/>
          </a:prstGeom>
          <a:noFill/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7020000" y="515772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864840" y="4797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018200" y="5373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r=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50920" y="2060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解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设圆柱的高是      厘米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则根据题意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2843280" y="206064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2411280" y="2492280"/>
                <a:ext cx="10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3780000" y="2708280"/>
                <a:ext cx="1655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2195640" y="3213000"/>
                <a:ext cx="215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4356000" y="328464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0"/>
              <p:cNvSpPr txBox="1"/>
              <p:nvPr/>
            </p:nvSpPr>
            <p:spPr>
              <a:xfrm>
                <a:off x="3203640" y="3860640"/>
                <a:ext cx="20178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1"/>
              <p:cNvSpPr txBox="1"/>
              <p:nvPr/>
            </p:nvSpPr>
            <p:spPr>
              <a:xfrm>
                <a:off x="3564000" y="4292640"/>
                <a:ext cx="15112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22"/>
              <p:cNvSpPr txBox="1"/>
              <p:nvPr/>
            </p:nvSpPr>
            <p:spPr>
              <a:xfrm>
                <a:off x="3780000" y="5229360"/>
                <a:ext cx="1096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Rectangle 23"/>
          <p:cNvSpPr/>
          <p:nvPr/>
        </p:nvSpPr>
        <p:spPr>
          <a:xfrm>
            <a:off x="1265400" y="6165720"/>
            <a:ext cx="27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答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圆柱的高是 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3.4 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4"/>
              <p:cNvSpPr txBox="1"/>
              <p:nvPr/>
            </p:nvSpPr>
            <p:spPr>
              <a:xfrm>
                <a:off x="395280" y="2924280"/>
                <a:ext cx="1800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这个方程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5"/>
              <p:cNvSpPr txBox="1"/>
              <p:nvPr/>
            </p:nvSpPr>
            <p:spPr>
              <a:xfrm>
                <a:off x="1116000" y="5589720"/>
                <a:ext cx="2592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经检验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符合题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6"/>
              <p:cNvSpPr txBox="1"/>
              <p:nvPr/>
            </p:nvSpPr>
            <p:spPr>
              <a:xfrm>
                <a:off x="7596360" y="443700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684360" y="260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2.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在一个底面直径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、高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18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的圆柱形瓶内装满水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再将瓶内的水倒入一个底面直径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、高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的圆柱形玻璃杯中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能否完全装下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?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若装不下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那么瓶内水面还有多高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?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若未能装满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求杯内水面离杯口距离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6804000" y="4076640"/>
            <a:ext cx="1297080" cy="1224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6804000" y="1844640"/>
            <a:ext cx="936720" cy="1440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7970400" y="227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7171920" y="328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6804000" y="2997360"/>
            <a:ext cx="936720" cy="287280"/>
          </a:xfrm>
          <a:prstGeom prst="ellipse">
            <a:avLst/>
          </a:prstGeom>
          <a:noFill/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6804000" y="314172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6804000" y="5013360"/>
            <a:ext cx="1297080" cy="287280"/>
          </a:xfrm>
          <a:prstGeom prst="ellipse">
            <a:avLst/>
          </a:prstGeom>
          <a:noFill/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877080" y="515772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7316280" y="530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8186040" y="443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351080" y="3860640"/>
            <a:ext cx="23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所以玻璃杯不能完全装下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042200" y="1844640"/>
            <a:ext cx="20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解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圆柱形瓶内装水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5"/>
              <p:cNvSpPr txBox="1"/>
              <p:nvPr/>
            </p:nvSpPr>
            <p:spPr>
              <a:xfrm>
                <a:off x="1042920" y="2349360"/>
                <a:ext cx="1368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6"/>
              <p:cNvSpPr txBox="1"/>
              <p:nvPr/>
            </p:nvSpPr>
            <p:spPr>
              <a:xfrm>
                <a:off x="1116000" y="3357720"/>
                <a:ext cx="1224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7"/>
              <p:cNvSpPr txBox="1"/>
              <p:nvPr/>
            </p:nvSpPr>
            <p:spPr>
              <a:xfrm>
                <a:off x="2484360" y="2349360"/>
                <a:ext cx="12240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8"/>
              <p:cNvSpPr txBox="1"/>
              <p:nvPr/>
            </p:nvSpPr>
            <p:spPr>
              <a:xfrm>
                <a:off x="2340000" y="3429000"/>
                <a:ext cx="792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19"/>
          <p:cNvSpPr/>
          <p:nvPr/>
        </p:nvSpPr>
        <p:spPr>
          <a:xfrm>
            <a:off x="3374280" y="342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</a:t>
            </a:r>
            <a:r>
              <a:rPr b="1" lang="zh-CN" sz="2400" spc="-1" strike="noStrike" baseline="30000">
                <a:solidFill>
                  <a:srgbClr val="000066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394884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</a:t>
            </a:r>
            <a:r>
              <a:rPr b="1" lang="zh-CN" sz="2400" spc="-1" strike="noStrike" baseline="30000">
                <a:solidFill>
                  <a:srgbClr val="000066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227600" y="292428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圆柱形玻璃杯可装水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1126800" y="4365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设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瓶内水面还有   厘米高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2843280" y="436572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4"/>
              <p:cNvSpPr txBox="1"/>
              <p:nvPr/>
            </p:nvSpPr>
            <p:spPr>
              <a:xfrm>
                <a:off x="1116000" y="4869000"/>
                <a:ext cx="120636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2340000" y="4941720"/>
                <a:ext cx="215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6"/>
              <p:cNvSpPr txBox="1"/>
              <p:nvPr/>
            </p:nvSpPr>
            <p:spPr>
              <a:xfrm>
                <a:off x="1332000" y="5516640"/>
                <a:ext cx="1114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π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2484360" y="5516640"/>
                <a:ext cx="1366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4356000" y="5300640"/>
                <a:ext cx="1393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9"/>
              <p:cNvSpPr txBox="1"/>
              <p:nvPr/>
            </p:nvSpPr>
            <p:spPr>
              <a:xfrm>
                <a:off x="6012000" y="5445000"/>
                <a:ext cx="904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30"/>
          <p:cNvSpPr/>
          <p:nvPr/>
        </p:nvSpPr>
        <p:spPr>
          <a:xfrm>
            <a:off x="1253880" y="6093000"/>
            <a:ext cx="50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答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玻璃杯不能完全装下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瓶内水面还有 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3.6  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厘米高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7296480" y="4797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2"/>
          <p:cNvSpPr/>
          <p:nvPr/>
        </p:nvSpPr>
        <p:spPr>
          <a:xfrm>
            <a:off x="7152120" y="2781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116000" y="333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971640" y="1773360"/>
                <a:ext cx="3133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设这个角为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则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140360" y="1773360"/>
                <a:ext cx="1800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的余角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1619280" y="2349360"/>
                <a:ext cx="18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的补角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1403280" y="2997360"/>
                <a:ext cx="1079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3635280" y="2349360"/>
                <a:ext cx="1555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8"/>
              <p:cNvSpPr txBox="1"/>
              <p:nvPr/>
            </p:nvSpPr>
            <p:spPr>
              <a:xfrm>
                <a:off x="2771640" y="2924280"/>
                <a:ext cx="30243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1692360" y="5229360"/>
                <a:ext cx="1727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0"/>
              <p:cNvSpPr txBox="1"/>
              <p:nvPr/>
            </p:nvSpPr>
            <p:spPr>
              <a:xfrm>
                <a:off x="1332000" y="5805360"/>
                <a:ext cx="2554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答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这个角为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1"/>
          <p:cNvSpPr/>
          <p:nvPr/>
        </p:nvSpPr>
        <p:spPr>
          <a:xfrm>
            <a:off x="755640" y="4365720"/>
            <a:ext cx="6769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39640" y="836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一个角的余角比这个角的补角的一半小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40°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求这个角的度数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3"/>
              <p:cNvSpPr txBox="1"/>
              <p:nvPr/>
            </p:nvSpPr>
            <p:spPr>
              <a:xfrm>
                <a:off x="2340000" y="3573360"/>
                <a:ext cx="4218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4"/>
              <p:cNvSpPr txBox="1"/>
              <p:nvPr/>
            </p:nvSpPr>
            <p:spPr>
              <a:xfrm>
                <a:off x="2411280" y="4292640"/>
                <a:ext cx="2897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5"/>
              <p:cNvSpPr txBox="1"/>
              <p:nvPr/>
            </p:nvSpPr>
            <p:spPr>
              <a:xfrm>
                <a:off x="2446200" y="4699080"/>
                <a:ext cx="1955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6"/>
              <p:cNvSpPr txBox="1"/>
              <p:nvPr/>
            </p:nvSpPr>
            <p:spPr>
              <a:xfrm>
                <a:off x="4788000" y="4724280"/>
                <a:ext cx="1270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7"/>
              <p:cNvSpPr txBox="1"/>
              <p:nvPr/>
            </p:nvSpPr>
            <p:spPr>
              <a:xfrm>
                <a:off x="6084720" y="1700280"/>
                <a:ext cx="14115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468360" y="476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张覆盖在圆柱形罐头侧面的高标纸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展开是一个周长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厘米的正方形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不计接口部分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求这个罐头的容积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精确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14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不计罐壁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4788000" y="141300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AutoShape 4"/>
          <p:cNvSpPr/>
          <p:nvPr/>
        </p:nvSpPr>
        <p:spPr>
          <a:xfrm>
            <a:off x="5508720" y="2133720"/>
            <a:ext cx="934920" cy="1295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443640" y="2276640"/>
            <a:ext cx="1008000" cy="1008000"/>
          </a:xfrm>
          <a:prstGeom prst="rect">
            <a:avLst/>
          </a:prstGeom>
          <a:solidFill>
            <a:srgbClr val="70cfe2"/>
          </a:solidFill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524720" y="2565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673320" y="1844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5783760" y="2943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5508720" y="3068640"/>
            <a:ext cx="936360" cy="360360"/>
          </a:xfrm>
          <a:prstGeom prst="ellipse">
            <a:avLst/>
          </a:prstGeom>
          <a:noFill/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6012000" y="3284640"/>
            <a:ext cx="43308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6017400" y="3357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2"/>
              <p:cNvSpPr txBox="1"/>
              <p:nvPr/>
            </p:nvSpPr>
            <p:spPr>
              <a:xfrm>
                <a:off x="1042920" y="2492280"/>
                <a:ext cx="792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3"/>
              <p:cNvSpPr txBox="1"/>
              <p:nvPr/>
            </p:nvSpPr>
            <p:spPr>
              <a:xfrm>
                <a:off x="1763640" y="2492280"/>
                <a:ext cx="792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4"/>
          <p:cNvSpPr/>
          <p:nvPr/>
        </p:nvSpPr>
        <p:spPr>
          <a:xfrm>
            <a:off x="1135800" y="4437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容积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5"/>
              <p:cNvSpPr txBox="1"/>
              <p:nvPr/>
            </p:nvSpPr>
            <p:spPr>
              <a:xfrm>
                <a:off x="1979640" y="4365720"/>
                <a:ext cx="1079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6"/>
              <p:cNvSpPr txBox="1"/>
              <p:nvPr/>
            </p:nvSpPr>
            <p:spPr>
              <a:xfrm>
                <a:off x="1055520" y="3213000"/>
                <a:ext cx="12733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7"/>
              <p:cNvSpPr txBox="1"/>
              <p:nvPr/>
            </p:nvSpPr>
            <p:spPr>
              <a:xfrm>
                <a:off x="2484360" y="3284640"/>
                <a:ext cx="1008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8"/>
              <p:cNvSpPr txBox="1"/>
              <p:nvPr/>
            </p:nvSpPr>
            <p:spPr>
              <a:xfrm>
                <a:off x="3059280" y="4292640"/>
                <a:ext cx="20700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5219640" y="4292640"/>
                <a:ext cx="1297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0"/>
              <p:cNvSpPr txBox="1"/>
              <p:nvPr/>
            </p:nvSpPr>
            <p:spPr>
              <a:xfrm>
                <a:off x="1692360" y="5157720"/>
                <a:ext cx="1366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132000" y="5300640"/>
                <a:ext cx="1008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22"/>
          <p:cNvSpPr/>
          <p:nvPr/>
        </p:nvSpPr>
        <p:spPr>
          <a:xfrm>
            <a:off x="4495320" y="5229360"/>
            <a:ext cx="14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250920" y="184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解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4"/>
          <p:cNvSpPr/>
          <p:nvPr/>
        </p:nvSpPr>
        <p:spPr>
          <a:xfrm>
            <a:off x="826920" y="591192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这个罐头的容积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4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5"/>
          <p:cNvSpPr/>
          <p:nvPr/>
        </p:nvSpPr>
        <p:spPr>
          <a:xfrm>
            <a:off x="1116000" y="0"/>
            <a:ext cx="56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做一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课本第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1769040" y="1965240"/>
            <a:ext cx="28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设圆柱形底面半径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468360" y="692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有一批截面长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1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厘米、宽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厘米的长方形铁锭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现要铸造一个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42.9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千克的零件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应截取多长的铁锭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铁锭每立方厘米重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7.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克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8440" y="189000"/>
            <a:ext cx="44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6588000" y="2205000"/>
            <a:ext cx="1440000" cy="107964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588000" y="3429000"/>
            <a:ext cx="1656000" cy="14414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09308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028000" y="2492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6962400" y="4941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7440840" y="4005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7956720" y="4581360"/>
                <a:ext cx="423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Rectangle 11"/>
          <p:cNvSpPr/>
          <p:nvPr/>
        </p:nvSpPr>
        <p:spPr>
          <a:xfrm>
            <a:off x="627984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铁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1254960" y="213372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解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设应截取    厘米长的铁锭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2556000" y="220500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4"/>
              <p:cNvSpPr txBox="1"/>
              <p:nvPr/>
            </p:nvSpPr>
            <p:spPr>
              <a:xfrm>
                <a:off x="849240" y="2708280"/>
                <a:ext cx="3398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847880" y="3716280"/>
                <a:ext cx="1846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6"/>
              <p:cNvSpPr txBox="1"/>
              <p:nvPr/>
            </p:nvSpPr>
            <p:spPr>
              <a:xfrm>
                <a:off x="1886040" y="4118040"/>
                <a:ext cx="13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908000" y="5084640"/>
                <a:ext cx="104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8"/>
          <p:cNvSpPr/>
          <p:nvPr/>
        </p:nvSpPr>
        <p:spPr>
          <a:xfrm>
            <a:off x="1097280" y="5805360"/>
            <a:ext cx="35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答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应截取 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50 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厘米长的铁锭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1587960" y="210960"/>
            <a:ext cx="39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做一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课一测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页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24000" y="69228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4.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某市按以下规定收取每月煤气费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如果不超过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立方米，按每立方米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0.8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元收费；如果超过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立方米，超过部分按每立方米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1.2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元收费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已知某用户一个月的煤气费平均每立方米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0.88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元，求该用户这个月应交的煤气费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24000" y="256536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设该用户这个月所用煤气为      立方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则根据题意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5508720" y="2565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2843280" y="3141720"/>
                <a:ext cx="3457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6300720" y="3141720"/>
                <a:ext cx="1295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3995640" y="3716280"/>
                <a:ext cx="3816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2987640" y="4292640"/>
                <a:ext cx="3816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1873080" y="4834080"/>
                <a:ext cx="2013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4054320" y="4653000"/>
                <a:ext cx="1525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5940360" y="4941720"/>
                <a:ext cx="1128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3"/>
              <p:cNvSpPr txBox="1"/>
              <p:nvPr/>
            </p:nvSpPr>
            <p:spPr>
              <a:xfrm>
                <a:off x="1116000" y="5589720"/>
                <a:ext cx="3174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应交煤气费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4356000" y="5589720"/>
                <a:ext cx="1812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5"/>
              <p:cNvSpPr txBox="1"/>
              <p:nvPr/>
            </p:nvSpPr>
            <p:spPr>
              <a:xfrm>
                <a:off x="6300720" y="5589720"/>
                <a:ext cx="854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16"/>
          <p:cNvSpPr/>
          <p:nvPr/>
        </p:nvSpPr>
        <p:spPr>
          <a:xfrm>
            <a:off x="1391760" y="6093000"/>
            <a:ext cx="44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该用户这个月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应交的煤气费为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66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元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481560" y="22766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作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2360" y="339480"/>
            <a:ext cx="799164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讲解点</a:t>
            </a: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：列方程解应用题的一般步骤</a:t>
            </a:r>
            <a:endParaRPr b="1" lang="en-US" sz="36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16000" y="2133720"/>
            <a:ext cx="88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审、设、列、解、验、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360" y="404640"/>
            <a:ext cx="7991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例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：某仓库存放的面粉运出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15%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后，还剩下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42500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千克，这个仓库原来有多少千克面粉？</a:t>
            </a:r>
            <a:endParaRPr b="1" lang="en-US" sz="3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9640" y="1268280"/>
            <a:ext cx="799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设这个仓库原来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千克面粉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根据题意，得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x-15%x=42500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得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x=50000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答：这个仓库原来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5000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千克面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8360" y="3645000"/>
            <a:ext cx="799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评析：本题隐含的相等关系是：</a:t>
            </a:r>
            <a:br>
              <a:rPr sz="3000"/>
            </a:b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      原来重量</a:t>
            </a: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-</a:t>
            </a: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运出重量</a:t>
            </a: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=</a:t>
            </a:r>
            <a:r>
              <a:rPr b="1" lang="zh-CN" sz="3000" spc="-1" strike="noStrike">
                <a:solidFill>
                  <a:srgbClr val="990099"/>
                </a:solidFill>
                <a:latin typeface="宋体"/>
              </a:rPr>
              <a:t>剩余重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-111240"/>
            <a:ext cx="7991280" cy="119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讲解点</a:t>
            </a: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：关于面积、周长、体积等问题中的数量关系</a:t>
            </a:r>
            <a:endParaRPr b="1" lang="en-US" sz="36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44360" y="1268280"/>
            <a:ext cx="882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图形方面的实际问题大多涉及图形的面积、周长和体积等数量关系。要解决这类问题，应从有关图形的面积、周长、体积等计算公式出发，根据题目中这些量的变化，建立相等关系，从而列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08000" y="3068640"/>
            <a:ext cx="882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关公式如下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长方形的周长、面积公式</a:t>
            </a:r>
            <a:br>
              <a:rPr sz="32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Arial"/>
              </a:rPr>
              <a:t>长方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2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Arial"/>
              </a:rPr>
              <a:t>长方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宽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长方体、圆柱的体积公式</a:t>
            </a:r>
            <a:br>
              <a:rPr sz="32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方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圆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∏r</a:t>
            </a:r>
            <a:r>
              <a:rPr b="1" i="1" lang="zh-CN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-28800"/>
            <a:ext cx="8785440" cy="23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例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：在一个底面直径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厘米、高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厘米的圆柱形瓶内装满水，再将瓶内的水倒入一个底面直径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厘米、高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</a:rPr>
              <a:t>厘米的圆柱形玻璃杯中，能否完全装下？若装不下，那么瓶内的水面还有多高？若未能装满，求杯内水面离杯口的距离？</a:t>
            </a:r>
            <a:endParaRPr b="1" lang="en-US" sz="3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1280" y="2421000"/>
            <a:ext cx="8893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解：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）圆柱形瓶内的水为∏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2.5</a:t>
            </a:r>
            <a:r>
              <a:rPr b="1" lang="zh-CN" sz="3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18 =225/2∏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圆柱形玻璃杯的容积为∏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3</a:t>
            </a:r>
            <a:r>
              <a:rPr b="1" lang="zh-CN" sz="3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10=90∏ 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225/2∏&gt;90∏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，所以不能完全装下。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）设圆柱形瓶内的水面还有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厘米。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根据题意，得∏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2.5</a:t>
            </a:r>
            <a:r>
              <a:rPr b="1" lang="zh-CN" sz="3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×x=225/2∏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-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90∏ 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解得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x=3.6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-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3.6=14.4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答：圆柱形内的水面还有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3.6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厘米。离杯口距离为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4.4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厘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建花坛余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长的小围栏，某班同学准备在自己教室前的空地上，建一个一面砖墙、三面围栏的长方形小花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设计一下，使长比宽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算一算这时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再设法改变长与宽，扩大花圃的面积，并和其他同学比一比，看谁设计的花圃面积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5364000" y="5013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4"/>
          <p:cNvSpPr/>
          <p:nvPr/>
        </p:nvSpPr>
        <p:spPr>
          <a:xfrm>
            <a:off x="0" y="251928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:(1)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这个长方形小花圃的宽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米，则长为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+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根据题意，得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+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2x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=7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+3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这时长方形小花圃的面积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×7=70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41440" y="4608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讲解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：综合题的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2843280" y="4797360"/>
            <a:ext cx="3240000" cy="1139760"/>
            <a:chOff x="2843280" y="4797360"/>
            <a:chExt cx="3240000" cy="1139760"/>
          </a:xfrm>
        </p:grpSpPr>
        <p:sp>
          <p:nvSpPr>
            <p:cNvPr id="148" name="Rectangle 7"/>
            <p:cNvSpPr/>
            <p:nvPr/>
          </p:nvSpPr>
          <p:spPr>
            <a:xfrm>
              <a:off x="3564000" y="4929120"/>
              <a:ext cx="1584360" cy="100800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2843280" y="4797360"/>
              <a:ext cx="3240000" cy="1443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3059280" y="508464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3851280" y="5950080"/>
                <a:ext cx="892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建花坛余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长的小围栏，某班同学准备在自己教室前的空地上，建一个一面砖墙、三面围栏的长方形小花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设计一下，使长比宽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算一算这时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再设法改变长与宽，扩大花圃的面积，并和其他同学比一比，看谁设计的花圃面积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5364000" y="5013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4"/>
          <p:cNvSpPr/>
          <p:nvPr/>
        </p:nvSpPr>
        <p:spPr>
          <a:xfrm>
            <a:off x="0" y="2519280"/>
            <a:ext cx="8675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:(2)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当长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，宽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-8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÷2=8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宋体"/>
              </a:rPr>
              <a:t>长方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=8×8=6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当长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，宽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-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÷2=7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宋体"/>
              </a:rPr>
              <a:t>长方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=10×7=7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当长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，宽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-1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÷2=6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宋体"/>
              </a:rPr>
              <a:t>长方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=12×6=7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当长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，宽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-1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÷2=5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宋体"/>
              </a:rPr>
              <a:t>长方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=14×5=7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故当小花圃才长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，宽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时，其面积最大，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7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41440" y="4608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讲解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：综合题的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2843280" y="4797360"/>
            <a:ext cx="3240000" cy="1139760"/>
            <a:chOff x="2843280" y="4797360"/>
            <a:chExt cx="3240000" cy="1139760"/>
          </a:xfrm>
        </p:grpSpPr>
        <p:sp>
          <p:nvSpPr>
            <p:cNvPr id="157" name="Rectangle 7"/>
            <p:cNvSpPr/>
            <p:nvPr/>
          </p:nvSpPr>
          <p:spPr>
            <a:xfrm>
              <a:off x="3564000" y="4929120"/>
              <a:ext cx="1584360" cy="100800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2843280" y="4797360"/>
              <a:ext cx="3240000" cy="1443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3059280" y="508464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3851280" y="5950080"/>
                <a:ext cx="892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69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建花坛余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长的小围栏，某班同学准备在自己教室前的空地上，建一个一面砖墙、三面围栏的长方形小花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设计一下，使长比宽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算一算这时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你再设法改变长与宽，扩大花圃的面积，并和其他同学比一比，看谁设计的花圃面积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364000" y="5013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4"/>
          <p:cNvSpPr/>
          <p:nvPr/>
        </p:nvSpPr>
        <p:spPr>
          <a:xfrm>
            <a:off x="0" y="2519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评析：第一问通过设间接未知数列方程，不难求解。注意其中的数量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是小长方形三边（一长两宽）之和，而不是周长。第二问通过改变长与宽的大小经理计算探索、寻找答案，体现了实践与探索的精神和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41440" y="4608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讲解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：综合题的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2843280" y="4797360"/>
            <a:ext cx="3240000" cy="1139760"/>
            <a:chOff x="2843280" y="4797360"/>
            <a:chExt cx="3240000" cy="1139760"/>
          </a:xfrm>
        </p:grpSpPr>
        <p:sp>
          <p:nvSpPr>
            <p:cNvPr id="166" name="Rectangle 7"/>
            <p:cNvSpPr/>
            <p:nvPr/>
          </p:nvSpPr>
          <p:spPr>
            <a:xfrm>
              <a:off x="3564000" y="4929120"/>
              <a:ext cx="1584360" cy="100800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"/>
            <p:cNvSpPr/>
            <p:nvPr/>
          </p:nvSpPr>
          <p:spPr>
            <a:xfrm>
              <a:off x="2843280" y="4797360"/>
              <a:ext cx="3240000" cy="1443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3059280" y="508464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3851280" y="5950080"/>
                <a:ext cx="892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042920" y="333360"/>
            <a:ext cx="785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一根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的铁丝围成一个长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长方形的宽比长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这个长方形的面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50920" y="260280"/>
            <a:ext cx="647640" cy="9471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71640" y="1413000"/>
            <a:ext cx="54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:(1)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设这个长方形的长为       厘米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则宽为                厘米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据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516720" y="1989000"/>
            <a:ext cx="1584360" cy="10083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4643280" y="1341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2050920" y="1773360"/>
                <a:ext cx="1150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7164360" y="148428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101080" y="2276640"/>
                <a:ext cx="887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1403280" y="227664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1"/>
              <p:cNvSpPr txBox="1"/>
              <p:nvPr/>
            </p:nvSpPr>
            <p:spPr>
              <a:xfrm>
                <a:off x="1835280" y="2276640"/>
                <a:ext cx="1477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3276720" y="2133720"/>
                <a:ext cx="672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2268360" y="2781360"/>
                <a:ext cx="18734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2916360" y="3284640"/>
                <a:ext cx="18730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2987640" y="3789360"/>
                <a:ext cx="12924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3203640" y="4437000"/>
                <a:ext cx="122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17"/>
          <p:cNvSpPr/>
          <p:nvPr/>
        </p:nvSpPr>
        <p:spPr>
          <a:xfrm>
            <a:off x="1897200" y="450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1897200" y="5013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宽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2916360" y="5013360"/>
                <a:ext cx="88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3708360" y="5013360"/>
                <a:ext cx="121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1"/>
              <p:cNvSpPr txBox="1"/>
              <p:nvPr/>
            </p:nvSpPr>
            <p:spPr>
              <a:xfrm>
                <a:off x="4932360" y="5013360"/>
                <a:ext cx="692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22"/>
          <p:cNvSpPr/>
          <p:nvPr/>
        </p:nvSpPr>
        <p:spPr>
          <a:xfrm>
            <a:off x="1655280" y="602136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这个长方形的面积为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平方厘米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1884240" y="5464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长方形的面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4"/>
              <p:cNvSpPr txBox="1"/>
              <p:nvPr/>
            </p:nvSpPr>
            <p:spPr>
              <a:xfrm>
                <a:off x="4211640" y="5516640"/>
                <a:ext cx="90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5219640" y="5516640"/>
                <a:ext cx="7970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26"/>
          <p:cNvSpPr/>
          <p:nvPr/>
        </p:nvSpPr>
        <p:spPr>
          <a:xfrm>
            <a:off x="6339240" y="53737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平方厘米</a:t>
            </a:r>
            <a:r>
              <a:rPr b="1" lang="zh-CN" sz="24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20T06:12:21Z</dcterms:modified>
  <cp:revision>1</cp:revision>
  <dc:subject/>
  <dc:title>幻灯片 1</dc:title>
</cp:coreProperties>
</file>