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4.gif" ContentType="image/gif"/>
  <Override PartName="/ppt/media/image15.wmf" ContentType="image/x-wmf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F070-DC03-49DC-B63F-7D9B5EA29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39840" y="382716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77BE-163C-4FB9-9620-050C6600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3984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456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F0ED-2E19-44CA-B01E-10B3E5B8F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6920" y="11145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4000" y="11145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39840" y="38271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6920" y="38271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4000" y="38271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48B8-2D29-4E6C-B4BD-6DB7A91DD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57FB-8B20-42E5-B5F5-A67361727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39840" y="1114560"/>
            <a:ext cx="836136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1929-CBDC-4F4B-8CE2-ADC4BA4B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836136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D6F8-533C-4D26-B3AB-0AEB3894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9D9C-196B-4413-9903-8B62E323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70CE-E2CD-454D-899B-07F7FEDB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39840" y="101160"/>
            <a:ext cx="83707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FAE7-6CB6-4612-9D6F-5E8D32AA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3984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DECB-5519-4330-9EBF-ED51FD37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39840" y="1114560"/>
            <a:ext cx="836136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A023-8B89-4683-A552-BEA6B560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456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3B50-38F3-4190-BF67-78D19C40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39840" y="382716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CAF0C-58BB-4A18-B95C-503ECC79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9840" y="382716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5CF8-D978-4333-839C-CE89281C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3984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456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8DD66-75AC-4B45-ACF1-9052F781E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66920" y="11145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4000" y="11145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39840" y="38271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66920" y="38271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4000" y="38271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F5F8-EEB9-4439-9D29-E96AC5C67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4E1C7-2D9F-4F7B-9C9E-FD5655FF2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39840" y="1114560"/>
            <a:ext cx="836136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68B97-C66B-4943-ACEF-799ABDBD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836136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835CD-7FBE-4FB3-892B-C272E64B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C1530-94DE-4477-838D-10917BEF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4DC24-B66A-494E-B38C-0F3DE6C6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836136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A96E-EC49-480D-A976-C4F1429B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39840" y="101160"/>
            <a:ext cx="83707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98F8C-06C8-4807-931F-66D175CF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3984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24045-1D00-486E-9D51-F3FA42E0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2456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7C416-3759-471A-8E3A-72CBD357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39840" y="382716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9F3DF-1714-4426-AF9E-55C2BA57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9840" y="382716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A0A7B-ED06-4D87-9011-E7B4E5C8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3984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2456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D95EB-5F56-4354-B835-EA98CC017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66920" y="11145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94000" y="11145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39840" y="38271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166920" y="38271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94000" y="38271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1CF2F-E7D8-4392-8F7A-E08AB4AA4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36A34-27BD-4913-A5CC-B0CC2E9D5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339840" y="1114560"/>
            <a:ext cx="836136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2F840-F971-4FC8-85D8-87779AFE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836136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B74ED-76CC-44BA-A596-8556B344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2837-4B05-437E-A868-EB5AC56E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DBFDB-BB76-4C85-A9E4-08504151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559D7-7127-43B8-9C31-C43CDD10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339840" y="101160"/>
            <a:ext cx="83707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EA99F-001B-4142-A7FA-FD684E5C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3984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7E2F4-7250-47F9-ACF6-52303507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456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7A525-73A7-42A4-98EF-2847307A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39840" y="382716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694F6-D320-43F6-8A73-90C29A81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9840" y="382716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CB411-563C-406A-85ED-2FBD6FAD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33984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456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5109D-1FB7-48C9-9F76-6D81DEB89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66920" y="11145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94000" y="11145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339840" y="38271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166920" y="38271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94000" y="38271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412E1-1B1D-487B-A116-083AD17DE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34B7-48F7-4894-84E2-8C6CF2FA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39840" y="101160"/>
            <a:ext cx="83707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7580-0E62-4BBF-A3FB-F9995D69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3984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1F49-4732-42AF-94FE-1349FEDF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456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8B7D-3884-43E4-AAC7-2A235AB0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39840" y="382716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B7A8-4DCF-44C6-90CF-783A8034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www.1230.org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初中数学资源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1D55-5988-4EF3-9D3F-5F674C6E7C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最新小字"/>
          <p:cNvPicPr/>
          <p:nvPr/>
        </p:nvPicPr>
        <p:blipFill>
          <a:blip r:embed="rId3"/>
          <a:stretch/>
        </p:blipFill>
        <p:spPr>
          <a:xfrm>
            <a:off x="457200" y="2209680"/>
            <a:ext cx="8458200" cy="2390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14" descr=""/>
          <p:cNvPicPr/>
          <p:nvPr/>
        </p:nvPicPr>
        <p:blipFill>
          <a:blip r:embed="rId2"/>
          <a:srcRect l="0" t="0" r="452" b="0"/>
          <a:stretch/>
        </p:blipFill>
        <p:spPr>
          <a:xfrm>
            <a:off x="-11160" y="0"/>
            <a:ext cx="91728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7a8d"/>
                </a:solidFill>
                <a:latin typeface="幼圆"/>
              </a:rPr>
              <a:t>Click to edit the title text format</a:t>
            </a: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39840" y="1114560"/>
            <a:ext cx="836136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7a8d"/>
                </a:solidFill>
                <a:latin typeface="幼圆"/>
              </a:rPr>
              <a:t>Click to edit the outline text format</a:t>
            </a: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97dac9"/>
              </a:buClr>
              <a:buFont typeface="华文新魏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7a8d"/>
                </a:solidFill>
                <a:latin typeface="幼圆"/>
              </a:rPr>
              <a:t>Second Outline Level</a:t>
            </a: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7a8d"/>
                </a:solidFill>
                <a:latin typeface="幼圆"/>
              </a:rPr>
              <a:t>Third Outline Level</a:t>
            </a: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7a8d"/>
                </a:solidFill>
                <a:latin typeface="幼圆"/>
              </a:rPr>
              <a:t>Fourth Outline Level</a:t>
            </a: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7a8d"/>
                </a:solidFill>
                <a:latin typeface="幼圆"/>
              </a:rPr>
              <a:t>Fifth Outline Level</a:t>
            </a: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7a8d"/>
                </a:solidFill>
                <a:latin typeface="幼圆"/>
              </a:rPr>
              <a:t>Sixth Outline Level</a:t>
            </a: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7a8d"/>
                </a:solidFill>
                <a:latin typeface="幼圆"/>
              </a:rPr>
              <a:t>Seventh Outline Level</a:t>
            </a: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24CA-880F-4A9E-9CBE-1E06CE3F10B9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最新小字"/>
          <p:cNvPicPr/>
          <p:nvPr/>
        </p:nvPicPr>
        <p:blipFill>
          <a:blip r:embed="rId3"/>
          <a:stretch/>
        </p:blipFill>
        <p:spPr>
          <a:xfrm>
            <a:off x="5076720" y="5708520"/>
            <a:ext cx="4067280" cy="1149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彩色标志4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3492360" y="563400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www.1230.org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初中数学资源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9A1E-203D-430C-90E6-8954D48D85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7" descr=""/>
          <p:cNvPicPr/>
          <p:nvPr/>
        </p:nvPicPr>
        <p:blipFill>
          <a:blip r:embed="rId2"/>
          <a:srcRect l="0" t="0" r="569" b="0"/>
          <a:stretch/>
        </p:blipFill>
        <p:spPr>
          <a:xfrm>
            <a:off x="0" y="0"/>
            <a:ext cx="9161640" cy="6853320"/>
          </a:xfrm>
          <a:prstGeom prst="rect">
            <a:avLst/>
          </a:prstGeom>
          <a:ln w="0">
            <a:noFill/>
          </a:ln>
        </p:spPr>
      </p:pic>
      <p:grpSp>
        <p:nvGrpSpPr>
          <p:cNvPr id="128" name="组合 8"/>
          <p:cNvGrpSpPr/>
          <p:nvPr/>
        </p:nvGrpSpPr>
        <p:grpSpPr>
          <a:xfrm>
            <a:off x="4390920" y="2479680"/>
            <a:ext cx="4770720" cy="4384800"/>
            <a:chOff x="4390920" y="2479680"/>
            <a:chExt cx="4770720" cy="4384800"/>
          </a:xfrm>
        </p:grpSpPr>
        <p:pic>
          <p:nvPicPr>
            <p:cNvPr id="129" name="图片 9" descr=""/>
            <p:cNvPicPr/>
            <p:nvPr/>
          </p:nvPicPr>
          <p:blipFill>
            <a:blip r:embed="rId3"/>
            <a:srcRect l="0" t="0" r="0" b="6777"/>
            <a:stretch/>
          </p:blipFill>
          <p:spPr>
            <a:xfrm>
              <a:off x="4537080" y="2479680"/>
              <a:ext cx="4362840" cy="43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图片 10" descr=""/>
            <p:cNvPicPr/>
            <p:nvPr/>
          </p:nvPicPr>
          <p:blipFill>
            <a:blip r:embed="rId4"/>
            <a:srcRect l="0" t="0" r="13920" b="0"/>
            <a:stretch/>
          </p:blipFill>
          <p:spPr>
            <a:xfrm>
              <a:off x="6693840" y="5235480"/>
              <a:ext cx="2467800" cy="162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图片 11" descr=""/>
            <p:cNvPicPr/>
            <p:nvPr/>
          </p:nvPicPr>
          <p:blipFill>
            <a:blip r:embed="rId5"/>
            <a:srcRect l="0" t="0" r="0" b="35061"/>
            <a:stretch/>
          </p:blipFill>
          <p:spPr>
            <a:xfrm>
              <a:off x="4390920" y="6365880"/>
              <a:ext cx="831960" cy="49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2" name="图片 12" descr=""/>
          <p:cNvPicPr/>
          <p:nvPr/>
        </p:nvPicPr>
        <p:blipFill>
          <a:blip r:embed="rId6"/>
          <a:srcRect l="0" t="0" r="0" b="21566"/>
          <a:stretch/>
        </p:blipFill>
        <p:spPr>
          <a:xfrm>
            <a:off x="31680" y="6070680"/>
            <a:ext cx="1449360" cy="799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7a8d"/>
                </a:solidFill>
                <a:latin typeface="幼圆"/>
              </a:rPr>
              <a:t>Click to edit the title text format</a:t>
            </a: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339840" y="1114560"/>
            <a:ext cx="836136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7a8d"/>
                </a:solidFill>
                <a:latin typeface="幼圆"/>
              </a:rPr>
              <a:t>Click to edit the outline text format</a:t>
            </a: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97dac9"/>
              </a:buClr>
              <a:buFont typeface="华文新魏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7a8d"/>
                </a:solidFill>
                <a:latin typeface="幼圆"/>
              </a:rPr>
              <a:t>Second Outline Level</a:t>
            </a: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7a8d"/>
                </a:solidFill>
                <a:latin typeface="幼圆"/>
              </a:rPr>
              <a:t>Third Outline Level</a:t>
            </a: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7a8d"/>
                </a:solidFill>
                <a:latin typeface="幼圆"/>
              </a:rPr>
              <a:t>Fourth Outline Level</a:t>
            </a: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7a8d"/>
                </a:solidFill>
                <a:latin typeface="幼圆"/>
              </a:rPr>
              <a:t>Fifth Outline Level</a:t>
            </a: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7a8d"/>
                </a:solidFill>
                <a:latin typeface="幼圆"/>
              </a:rPr>
              <a:t>Sixth Outline Level</a:t>
            </a: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7a8d"/>
                </a:solidFill>
                <a:latin typeface="幼圆"/>
              </a:rPr>
              <a:t>Seventh Outline Level</a:t>
            </a: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8E9F-A31F-41FF-9435-3DC34E805305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3733920" y="457200"/>
            <a:ext cx="526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9933"/>
                </a:solidFill>
                <a:latin typeface="Arial"/>
                <a:ea typeface="方正姚体"/>
              </a:rPr>
              <a:t>华东师大版七年级下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2362320" y="236232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33"/>
                </a:solidFill>
                <a:latin typeface="方正姚体"/>
                <a:ea typeface="方正姚体"/>
              </a:rPr>
              <a:t>第</a:t>
            </a:r>
            <a:r>
              <a:rPr b="1" lang="zh-CN" sz="4000" spc="-1" strike="noStrike">
                <a:solidFill>
                  <a:srgbClr val="339933"/>
                </a:solidFill>
                <a:latin typeface="方正姚体"/>
                <a:ea typeface="方正姚体"/>
              </a:rPr>
              <a:t>6</a:t>
            </a:r>
            <a:r>
              <a:rPr b="1" lang="zh-CN" sz="4000" spc="-1" strike="noStrike">
                <a:solidFill>
                  <a:srgbClr val="339933"/>
                </a:solidFill>
                <a:latin typeface="方正姚体"/>
                <a:ea typeface="方正姚体"/>
              </a:rPr>
              <a:t>章   一元一次方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WordArt 4" descr=""/>
          <p:cNvPicPr/>
          <p:nvPr/>
        </p:nvPicPr>
        <p:blipFill>
          <a:blip r:embed="rId1"/>
          <a:stretch/>
        </p:blipFill>
        <p:spPr>
          <a:xfrm>
            <a:off x="1530360" y="4029120"/>
            <a:ext cx="625464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2"/>
          <p:cNvGrpSpPr/>
          <p:nvPr/>
        </p:nvGrpSpPr>
        <p:grpSpPr>
          <a:xfrm>
            <a:off x="250920" y="476280"/>
            <a:ext cx="3529080" cy="774720"/>
            <a:chOff x="250920" y="476280"/>
            <a:chExt cx="3529080" cy="774720"/>
          </a:xfrm>
        </p:grpSpPr>
        <p:pic>
          <p:nvPicPr>
            <p:cNvPr id="178" name="Picture 3" descr="144"/>
            <p:cNvPicPr/>
            <p:nvPr/>
          </p:nvPicPr>
          <p:blipFill>
            <a:blip r:embed="rId1"/>
            <a:stretch/>
          </p:blipFill>
          <p:spPr>
            <a:xfrm>
              <a:off x="250920" y="549360"/>
              <a:ext cx="280836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4"/>
            <p:cNvSpPr/>
            <p:nvPr/>
          </p:nvSpPr>
          <p:spPr>
            <a:xfrm>
              <a:off x="1116000" y="476280"/>
              <a:ext cx="266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想一想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0" name="Picture 5" descr="EyeAll"/>
            <p:cNvPicPr/>
            <p:nvPr/>
          </p:nvPicPr>
          <p:blipFill>
            <a:blip r:embed="rId2"/>
            <a:stretch/>
          </p:blipFill>
          <p:spPr>
            <a:xfrm>
              <a:off x="468360" y="549360"/>
              <a:ext cx="647640" cy="64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1" name="Text Box 6"/>
          <p:cNvSpPr/>
          <p:nvPr/>
        </p:nvSpPr>
        <p:spPr>
          <a:xfrm>
            <a:off x="2410920" y="1557360"/>
            <a:ext cx="48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行程问题中的基本数量关系有哪些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?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531880" y="2491200"/>
            <a:ext cx="31813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路程＝速度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×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时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8"/>
              <p:cNvSpPr txBox="1"/>
              <p:nvPr/>
            </p:nvSpPr>
            <p:spPr>
              <a:xfrm>
                <a:off x="900000" y="3716280"/>
                <a:ext cx="3240360" cy="15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速度＝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路程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时间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9"/>
              <p:cNvSpPr txBox="1"/>
              <p:nvPr/>
            </p:nvSpPr>
            <p:spPr>
              <a:xfrm>
                <a:off x="4643280" y="3716280"/>
                <a:ext cx="3240360" cy="14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时间</m:t>
                    </m:r>
                    <m:r>
                      <m:t xml:space="preserve">＝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路程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速度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755640" y="1268280"/>
            <a:ext cx="79930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2c2a5"/>
                </a:solidFill>
                <a:latin typeface="华文新魏"/>
                <a:ea typeface="华文新魏"/>
              </a:rPr>
              <a:t>小彬和小明每天早晨坚持跑步，小彬每秒跑</a:t>
            </a:r>
            <a:r>
              <a:rPr b="1" lang="zh-CN" sz="3200" spc="-1" strike="noStrike">
                <a:solidFill>
                  <a:srgbClr val="52c2a5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52c2a5"/>
                </a:solidFill>
                <a:latin typeface="华文新魏"/>
                <a:ea typeface="华文新魏"/>
              </a:rPr>
              <a:t>米，小明每秒跑</a:t>
            </a:r>
            <a:r>
              <a:rPr b="1" lang="zh-CN" sz="3200" spc="-1" strike="noStrike">
                <a:solidFill>
                  <a:srgbClr val="52c2a5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52c2a5"/>
                </a:solidFill>
                <a:latin typeface="华文新魏"/>
                <a:ea typeface="华文新魏"/>
              </a:rPr>
              <a:t>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2c2a5"/>
                </a:solidFill>
                <a:latin typeface="华文新魏"/>
                <a:ea typeface="华文新魏"/>
              </a:rPr>
              <a:t>（</a:t>
            </a:r>
            <a:r>
              <a:rPr b="1" lang="zh-CN" sz="3200" spc="-1" strike="noStrike">
                <a:solidFill>
                  <a:srgbClr val="52c2a5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52c2a5"/>
                </a:solidFill>
                <a:latin typeface="华文新魏"/>
                <a:ea typeface="华文新魏"/>
              </a:rPr>
              <a:t>）如果他们站在百米跑道的两端同时相向起跑，那么几秒后两人相遇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2c2a5"/>
                </a:solidFill>
                <a:latin typeface="华文新魏"/>
                <a:ea typeface="华文新魏"/>
              </a:rPr>
              <a:t>（</a:t>
            </a:r>
            <a:r>
              <a:rPr b="1" lang="zh-CN" sz="3200" spc="-1" strike="noStrike">
                <a:solidFill>
                  <a:srgbClr val="52c2a5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52c2a5"/>
                </a:solidFill>
                <a:latin typeface="华文新魏"/>
                <a:ea typeface="华文新魏"/>
              </a:rPr>
              <a:t>）如果小明站在跑道的起点处，小彬站在他前面</a:t>
            </a:r>
            <a:r>
              <a:rPr b="1" lang="zh-CN" sz="3200" spc="-1" strike="noStrike">
                <a:solidFill>
                  <a:srgbClr val="52c2a5"/>
                </a:solidFill>
                <a:latin typeface="华文新魏"/>
                <a:ea typeface="华文新魏"/>
              </a:rPr>
              <a:t>10</a:t>
            </a:r>
            <a:r>
              <a:rPr b="1" lang="zh-CN" sz="3200" spc="-1" strike="noStrike">
                <a:solidFill>
                  <a:srgbClr val="52c2a5"/>
                </a:solidFill>
                <a:latin typeface="华文新魏"/>
                <a:ea typeface="华文新魏"/>
              </a:rPr>
              <a:t>米处，两人同时同向起跑，几秒后小明能追上小彬</a:t>
            </a:r>
            <a:r>
              <a:rPr b="1" lang="zh-CN" sz="3200" spc="-1" strike="noStrike">
                <a:solidFill>
                  <a:srgbClr val="52c2a5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3"/>
          <p:cNvGrpSpPr/>
          <p:nvPr/>
        </p:nvGrpSpPr>
        <p:grpSpPr>
          <a:xfrm>
            <a:off x="250920" y="476280"/>
            <a:ext cx="3529080" cy="774720"/>
            <a:chOff x="250920" y="476280"/>
            <a:chExt cx="3529080" cy="774720"/>
          </a:xfrm>
        </p:grpSpPr>
        <p:pic>
          <p:nvPicPr>
            <p:cNvPr id="187" name="Picture 4" descr="144"/>
            <p:cNvPicPr/>
            <p:nvPr/>
          </p:nvPicPr>
          <p:blipFill>
            <a:blip r:embed="rId1"/>
            <a:stretch/>
          </p:blipFill>
          <p:spPr>
            <a:xfrm>
              <a:off x="250920" y="549360"/>
              <a:ext cx="280836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5"/>
            <p:cNvSpPr/>
            <p:nvPr/>
          </p:nvSpPr>
          <p:spPr>
            <a:xfrm>
              <a:off x="1116000" y="476280"/>
              <a:ext cx="266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想一想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Picture 6" descr="EyeAll"/>
            <p:cNvPicPr/>
            <p:nvPr/>
          </p:nvPicPr>
          <p:blipFill>
            <a:blip r:embed="rId2"/>
            <a:stretch/>
          </p:blipFill>
          <p:spPr>
            <a:xfrm>
              <a:off x="468360" y="549360"/>
              <a:ext cx="647640" cy="647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1410120" y="839880"/>
            <a:ext cx="6050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99ff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3399ff"/>
                </a:solidFill>
                <a:latin typeface="黑体"/>
                <a:ea typeface="黑体"/>
              </a:rPr>
              <a:t>小张和父亲预定搭乘家门口的公共汽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99ff"/>
                </a:solidFill>
                <a:latin typeface="黑体"/>
                <a:ea typeface="黑体"/>
              </a:rPr>
              <a:t>赶往火车站，去家乡看望爷爷．在行驶了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99ff"/>
                </a:solidFill>
                <a:latin typeface="黑体"/>
                <a:ea typeface="黑体"/>
              </a:rPr>
              <a:t>半路程时，小张向司机询问行车时间，司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99ff"/>
                </a:solidFill>
                <a:latin typeface="黑体"/>
                <a:ea typeface="黑体"/>
              </a:rPr>
              <a:t>估计继续乘公共汽车到火车站时火车将正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99ff"/>
                </a:solidFill>
                <a:latin typeface="黑体"/>
                <a:ea typeface="黑体"/>
              </a:rPr>
              <a:t>开出．根据司机的建议小张和父亲随即下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99ff"/>
                </a:solidFill>
                <a:latin typeface="黑体"/>
                <a:ea typeface="黑体"/>
              </a:rPr>
              <a:t>改乘出租车，车速提高了一倍，结果赶在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99ff"/>
                </a:solidFill>
                <a:latin typeface="黑体"/>
                <a:ea typeface="黑体"/>
              </a:rPr>
              <a:t>车开车前</a:t>
            </a:r>
            <a:r>
              <a:rPr b="0" lang="zh-CN" sz="3600" spc="-1" strike="noStrike">
                <a:solidFill>
                  <a:srgbClr val="3399ff"/>
                </a:solidFill>
                <a:latin typeface="黑体"/>
                <a:ea typeface="黑体"/>
              </a:rPr>
              <a:t>15</a:t>
            </a:r>
            <a:r>
              <a:rPr b="0" lang="zh-CN" sz="3600" spc="-1" strike="noStrike">
                <a:solidFill>
                  <a:srgbClr val="3399ff"/>
                </a:solidFill>
                <a:latin typeface="黑体"/>
                <a:ea typeface="黑体"/>
              </a:rPr>
              <a:t>分钟到达火车站．已知公共汽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99ff"/>
                </a:solidFill>
                <a:latin typeface="黑体"/>
                <a:ea typeface="黑体"/>
              </a:rPr>
              <a:t>的平均速度是</a:t>
            </a:r>
            <a:r>
              <a:rPr b="0" lang="zh-CN" sz="3600" spc="-1" strike="noStrike">
                <a:solidFill>
                  <a:srgbClr val="3399ff"/>
                </a:solidFill>
                <a:latin typeface="黑体"/>
                <a:ea typeface="黑体"/>
              </a:rPr>
              <a:t>30</a:t>
            </a:r>
            <a:r>
              <a:rPr b="0" lang="zh-CN" sz="3600" spc="-1" strike="noStrike">
                <a:solidFill>
                  <a:srgbClr val="3399ff"/>
                </a:solidFill>
                <a:latin typeface="黑体"/>
                <a:ea typeface="黑体"/>
              </a:rPr>
              <a:t>千米／时，问小张家到火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99ff"/>
                </a:solidFill>
                <a:latin typeface="黑体"/>
                <a:ea typeface="黑体"/>
              </a:rPr>
              <a:t>站有多远？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820440" y="490680"/>
            <a:ext cx="714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Times New Roman"/>
              </a:rPr>
              <a:t>解：设小张家到火车站的路程是</a:t>
            </a: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Times New Roman"/>
              </a:rPr>
              <a:t>x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Times New Roman"/>
              </a:rPr>
              <a:t>千米，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Times New Roman"/>
              </a:rPr>
              <a:t>实际乘车时间比原计划乘公共汽车提前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Times New Roman"/>
              </a:rPr>
              <a:t>1/4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Times New Roman"/>
              </a:rPr>
              <a:t>小时，可列出方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4"/>
          <p:cNvGrpSpPr/>
          <p:nvPr/>
        </p:nvGrpSpPr>
        <p:grpSpPr>
          <a:xfrm>
            <a:off x="1042920" y="2349360"/>
            <a:ext cx="7632720" cy="4123440"/>
            <a:chOff x="1042920" y="2349360"/>
            <a:chExt cx="7632720" cy="4123440"/>
          </a:xfrm>
        </p:grpSpPr>
        <p:sp>
          <p:nvSpPr>
            <p:cNvPr id="194" name="Text Box 5"/>
            <p:cNvSpPr/>
            <p:nvPr/>
          </p:nvSpPr>
          <p:spPr>
            <a:xfrm>
              <a:off x="1042920" y="2349360"/>
              <a:ext cx="7632720" cy="412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5" name="Object 6"/>
                <p:cNvSpPr txBox="1"/>
                <p:nvPr/>
              </p:nvSpPr>
              <p:spPr>
                <a:xfrm>
                  <a:off x="2843280" y="2349360"/>
                  <a:ext cx="3311280" cy="15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</m:den>
                      </m:f>
                      <m:r>
                        <m:t xml:space="preserve">−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f>
                                <m:num>
                                  <m:r>
                                    <m:t xml:space="preserve">x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f>
                                <m:num>
                                  <m:r>
                                    <m:t xml:space="preserve">x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60</m:t>
                              </m:r>
                            </m:den>
                          </m:f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6" name="Rectangle 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8"/>
              <p:cNvSpPr txBox="1"/>
              <p:nvPr/>
            </p:nvSpPr>
            <p:spPr>
              <a:xfrm>
                <a:off x="2916360" y="3774960"/>
                <a:ext cx="331128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8" name="Rectangle 9"/>
          <p:cNvSpPr/>
          <p:nvPr/>
        </p:nvSpPr>
        <p:spPr>
          <a:xfrm>
            <a:off x="2987640" y="486828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得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2581560" y="5444640"/>
            <a:ext cx="423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经检验，它符合题意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答： 小张家到火车站的路程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千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978480" y="345960"/>
            <a:ext cx="7371720" cy="2761200"/>
            <a:chOff x="978480" y="345960"/>
            <a:chExt cx="7371720" cy="2761200"/>
          </a:xfrm>
        </p:grpSpPr>
        <p:sp>
          <p:nvSpPr>
            <p:cNvPr id="201" name="Rectangle 3"/>
            <p:cNvSpPr/>
            <p:nvPr/>
          </p:nvSpPr>
          <p:spPr>
            <a:xfrm>
              <a:off x="1101600" y="345960"/>
              <a:ext cx="70200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另解：设实际上乘公共汽车行驶了</a:t>
              </a:r>
              <a:r>
                <a:rPr b="1" i="1" lang="zh-CN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千米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则从小张家到火车站的路程是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i="1" lang="zh-CN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千米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乘出租车行驶了</a:t>
              </a:r>
              <a:r>
                <a:rPr b="1" i="1" lang="zh-CN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千米．注意到提前的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2" name="Object 4"/>
                <p:cNvSpPr txBox="1"/>
                <p:nvPr/>
              </p:nvSpPr>
              <p:spPr>
                <a:xfrm>
                  <a:off x="7956720" y="1268280"/>
                  <a:ext cx="393480" cy="100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03" name="Rectangle 5"/>
            <p:cNvSpPr/>
            <p:nvPr/>
          </p:nvSpPr>
          <p:spPr>
            <a:xfrm>
              <a:off x="978480" y="1915920"/>
              <a:ext cx="5151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小时是由于乘出租车而少用的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可列出方程</a:t>
              </a:r>
              <a:r>
                <a:rPr b="1" lang="zh-CN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Rectangle 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7"/>
              <p:cNvSpPr txBox="1"/>
              <p:nvPr/>
            </p:nvSpPr>
            <p:spPr>
              <a:xfrm>
                <a:off x="3132000" y="2708280"/>
                <a:ext cx="288000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" name="Rectangle 8"/>
          <p:cNvSpPr/>
          <p:nvPr/>
        </p:nvSpPr>
        <p:spPr>
          <a:xfrm>
            <a:off x="1383840" y="3959640"/>
            <a:ext cx="5109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这个方程，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所得的答案与解法一相同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1158480" y="549000"/>
            <a:ext cx="559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Times New Roman"/>
              </a:rPr>
              <a:t>另解：设实际乘公共汽车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Times New Roman"/>
              </a:rPr>
              <a:t>小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Times New Roman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Times New Roman"/>
              </a:rPr>
              <a:t>则可得方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3"/>
              <p:cNvSpPr txBox="1"/>
              <p:nvPr/>
            </p:nvSpPr>
            <p:spPr>
              <a:xfrm>
                <a:off x="2124000" y="1700280"/>
                <a:ext cx="353700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×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4"/>
              <p:cNvSpPr txBox="1"/>
              <p:nvPr/>
            </p:nvSpPr>
            <p:spPr>
              <a:xfrm>
                <a:off x="2514600" y="2743200"/>
                <a:ext cx="257508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得：</m:t>
                    </m:r>
                    <m:r>
                      <m:t xml:space="preserve">x</m:t>
                    </m:r>
                    <m:r>
                      <m:t xml:space="preserve">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5"/>
              <p:cNvSpPr txBox="1"/>
              <p:nvPr/>
            </p:nvSpPr>
            <p:spPr>
              <a:xfrm>
                <a:off x="2050920" y="3789360"/>
                <a:ext cx="465156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Rectangle 6"/>
          <p:cNvSpPr/>
          <p:nvPr/>
        </p:nvSpPr>
        <p:spPr>
          <a:xfrm>
            <a:off x="2964240" y="501336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所得的答案与以上解法相同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755640" y="2205000"/>
            <a:ext cx="7848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(1)</a:t>
            </a:r>
            <a:r>
              <a:rPr b="0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学会借助线段图分析较复杂的数量关系</a:t>
            </a:r>
            <a:r>
              <a:rPr b="0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99ff"/>
                </a:solidFill>
                <a:latin typeface="华文新魏"/>
                <a:ea typeface="华文新魏"/>
              </a:rPr>
              <a:t>(2)</a:t>
            </a:r>
            <a:r>
              <a:rPr b="0" lang="zh-CN" sz="4400" spc="-1" strike="noStrike">
                <a:solidFill>
                  <a:srgbClr val="3399ff"/>
                </a:solidFill>
                <a:latin typeface="华文新魏"/>
                <a:ea typeface="华文新魏"/>
              </a:rPr>
              <a:t>在探索解决实际问题时</a:t>
            </a:r>
            <a:r>
              <a:rPr b="0" lang="zh-CN" sz="4400" spc="-1" strike="noStrike">
                <a:solidFill>
                  <a:srgbClr val="3399ff"/>
                </a:solidFill>
                <a:latin typeface="华文新魏"/>
                <a:ea typeface="华文新魏"/>
              </a:rPr>
              <a:t>,</a:t>
            </a:r>
            <a:r>
              <a:rPr b="0" lang="zh-CN" sz="4400" spc="-1" strike="noStrike">
                <a:solidFill>
                  <a:srgbClr val="3399ff"/>
                </a:solidFill>
                <a:latin typeface="华文新魏"/>
                <a:ea typeface="华文新魏"/>
              </a:rPr>
              <a:t>应从多角度思考问题</a:t>
            </a:r>
            <a:r>
              <a:rPr b="0" lang="zh-CN" sz="4400" spc="-1" strike="noStrike">
                <a:solidFill>
                  <a:srgbClr val="3399ff"/>
                </a:solidFill>
                <a:latin typeface="华文新魏"/>
                <a:ea typeface="华文新魏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2195640" y="981000"/>
            <a:ext cx="187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99ff"/>
                </a:solidFill>
                <a:latin typeface="华文新魏"/>
                <a:ea typeface="华文新魏"/>
              </a:rPr>
              <a:t>小结</a:t>
            </a:r>
            <a:r>
              <a:rPr b="0" lang="zh-CN" sz="4400" spc="-1" strike="noStrike">
                <a:solidFill>
                  <a:srgbClr val="3399ff"/>
                </a:solidFill>
                <a:latin typeface="华文新魏"/>
                <a:ea typeface="华文新魏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j0293234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826920" y="692280"/>
            <a:ext cx="1565280" cy="11541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1828800" y="1219320"/>
            <a:ext cx="225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b0f0"/>
                </a:solidFill>
                <a:latin typeface="Arial"/>
                <a:ea typeface="黑体"/>
              </a:rPr>
              <a:t>作业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2853720" y="3200400"/>
            <a:ext cx="448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b0f0"/>
                </a:solidFill>
                <a:latin typeface="Arial"/>
                <a:ea typeface="黑体"/>
              </a:rPr>
              <a:t>课本习题第</a:t>
            </a:r>
            <a:r>
              <a:rPr b="1" lang="zh-CN" sz="5400" spc="-1" strike="noStrike">
                <a:solidFill>
                  <a:srgbClr val="00b0f0"/>
                </a:solidFill>
                <a:latin typeface="Arial"/>
                <a:ea typeface="黑体"/>
              </a:rPr>
              <a:t>4</a:t>
            </a:r>
            <a:r>
              <a:rPr b="1" lang="zh-CN" sz="5400" spc="-1" strike="noStrike">
                <a:solidFill>
                  <a:srgbClr val="00b0f0"/>
                </a:solidFill>
                <a:latin typeface="Arial"/>
                <a:ea typeface="黑体"/>
              </a:rPr>
              <a:t>～</a:t>
            </a:r>
            <a:r>
              <a:rPr b="1" lang="zh-CN" sz="5400" spc="-1" strike="noStrike">
                <a:solidFill>
                  <a:srgbClr val="00b0f0"/>
                </a:solidFill>
                <a:latin typeface="Arial"/>
                <a:ea typeface="黑体"/>
              </a:rPr>
              <a:t>5</a:t>
            </a:r>
            <a:r>
              <a:rPr b="1" lang="zh-CN" sz="5400" spc="-1" strike="noStrike">
                <a:solidFill>
                  <a:srgbClr val="00b0f0"/>
                </a:solidFill>
                <a:latin typeface="Arial"/>
                <a:ea typeface="黑体"/>
              </a:rPr>
              <a:t>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7T12:10:34Z</dcterms:created>
  <dc:creator>Administrator</dc:creator>
  <dc:description/>
  <cp:keywords/>
  <dc:language>en-US</dc:language>
  <cp:lastModifiedBy>User</cp:lastModifiedBy>
  <dcterms:modified xsi:type="dcterms:W3CDTF">2015-03-20T06:10:15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84</vt:lpwstr>
  </property>
</Properties>
</file>