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A63-E0E6-4F2C-B1BD-ACBB117D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F30-A993-4656-9090-08162D3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279-1170-4A33-93F4-6EED6423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254-D62A-42A8-AFA8-71C2E82E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724-50A9-44F6-9415-43528C47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2E6-D0D7-46F8-A9E3-E1962158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325-AFAC-4438-8174-A9E960E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DCD-0809-42E6-AD30-0BD56515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D17-88DC-4A96-BAF1-6405C2F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A64-5960-4A41-B329-14B42C2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45CF-F56B-415A-B5FB-7E565E1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6C0-51B4-42C1-81B3-C3E2292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B3E6-663A-4C32-A237-708AB01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439-6CD0-4769-AACB-875E75E8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680F-42EF-4A32-AE3C-DC71EA5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122-A1D2-4A0D-883E-B0688E42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996-57C0-44FF-9B40-A61ABF4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BB8F-A0D9-463C-A3A2-FC66D9C5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844E-C681-4204-A478-A0C29F7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A594-F8BE-4162-9159-9CC2B10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26E4-F868-4471-8859-2D782CB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E148-73F5-4AE9-8CD9-A750101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D6B-96A4-43D2-A29E-350660F9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CF92-4A33-4832-9268-3F1E8BD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7761-3C02-4740-919C-3266A71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2F80-A51B-4BAF-9268-4B178B8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C1D6-0DCC-402B-B698-01A1E8E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9134-DDD7-4250-B468-F99AD1A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88BC-4157-4D95-90E4-265AC43B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E72B-9460-4BEA-8F49-9DE3CB4B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43A4-28D9-4234-BF3F-3F0C7614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C004-B840-4C4C-8EFA-3669765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8C55-286F-446E-81EE-D3A79547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A6E-B76E-4DAC-9AC4-AFF01641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435F5-DDC2-455B-9EF8-1F4E50D7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6062-25F8-4C26-A6EA-B61529A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49F9-717B-4589-B32C-2B7E257C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A32A-9C4F-43C5-B5FF-960C7A5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9661-2038-4D94-885E-06A1418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9AF2-AD2C-4FF2-A24E-BE501C2B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2227-9E2A-4E8D-BDB8-0013914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400F-7F72-4195-AB8F-62E3CDE3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4467-8ED2-48D0-9CCF-65BF3D6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989-1C88-41A2-9AA0-C48998E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292-E5CA-4D05-9B63-11916CFF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DB4-CE63-4458-A4BA-BC86636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905-645B-4FA2-8CD0-0334FCB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81E-9CAE-4D19-A5E3-5D142FB4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053-43B5-43A4-9AAA-5BA42F9E0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最新小字2"/>
          <p:cNvPicPr/>
          <p:nvPr/>
        </p:nvPicPr>
        <p:blipFill>
          <a:blip r:embed="rId3"/>
          <a:stretch/>
        </p:blipFill>
        <p:spPr>
          <a:xfrm>
            <a:off x="255600" y="1884240"/>
            <a:ext cx="86598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4" descr=""/>
          <p:cNvPicPr/>
          <p:nvPr/>
        </p:nvPicPr>
        <p:blipFill>
          <a:blip r:embed="rId2"/>
          <a:srcRect l="0" t="0" r="452" b="0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EF3B-39A9-4842-9720-ABD61DDE5E7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最新小字2"/>
          <p:cNvPicPr/>
          <p:nvPr/>
        </p:nvPicPr>
        <p:blipFill>
          <a:blip r:embed="rId3"/>
          <a:stretch/>
        </p:blipFill>
        <p:spPr>
          <a:xfrm>
            <a:off x="0" y="1052640"/>
            <a:ext cx="9504360" cy="267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彩色标志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003640" y="501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中数学资源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F113-042F-482A-93C6-A98EEEB8CF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" descr=""/>
          <p:cNvPicPr/>
          <p:nvPr/>
        </p:nvPicPr>
        <p:blipFill>
          <a:blip r:embed="rId2"/>
          <a:srcRect l="0" t="0" r="569" b="0"/>
          <a:stretch/>
        </p:blipFill>
        <p:spPr>
          <a:xfrm>
            <a:off x="0" y="0"/>
            <a:ext cx="91616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4390920" y="2479680"/>
            <a:ext cx="4770720" cy="4384800"/>
            <a:chOff x="4390920" y="2479680"/>
            <a:chExt cx="4770720" cy="4384800"/>
          </a:xfrm>
        </p:grpSpPr>
        <p:pic>
          <p:nvPicPr>
            <p:cNvPr id="129" name="图片 9" descr=""/>
            <p:cNvPicPr/>
            <p:nvPr/>
          </p:nvPicPr>
          <p:blipFill>
            <a:blip r:embed="rId3"/>
            <a:srcRect l="0" t="0" r="0" b="6777"/>
            <a:stretch/>
          </p:blipFill>
          <p:spPr>
            <a:xfrm>
              <a:off x="4537080" y="2479680"/>
              <a:ext cx="4362840" cy="43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10" descr=""/>
            <p:cNvPicPr/>
            <p:nvPr/>
          </p:nvPicPr>
          <p:blipFill>
            <a:blip r:embed="rId4"/>
            <a:srcRect l="0" t="0" r="13920" b="0"/>
            <a:stretch/>
          </p:blipFill>
          <p:spPr>
            <a:xfrm>
              <a:off x="6693840" y="5235480"/>
              <a:ext cx="2467800" cy="16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11" descr=""/>
            <p:cNvPicPr/>
            <p:nvPr/>
          </p:nvPicPr>
          <p:blipFill>
            <a:blip r:embed="rId5"/>
            <a:srcRect l="0" t="0" r="0" b="35061"/>
            <a:stretch/>
          </p:blipFill>
          <p:spPr>
            <a:xfrm>
              <a:off x="4390920" y="6365880"/>
              <a:ext cx="83196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图片 12" descr=""/>
          <p:cNvPicPr/>
          <p:nvPr/>
        </p:nvPicPr>
        <p:blipFill>
          <a:blip r:embed="rId6"/>
          <a:srcRect l="0" t="0" r="0" b="21566"/>
          <a:stretch/>
        </p:blipFill>
        <p:spPr>
          <a:xfrm>
            <a:off x="31680" y="6070680"/>
            <a:ext cx="1449360" cy="79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11B-1889-458A-B0B8-F3797B55092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733920" y="45720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方正姚体"/>
              </a:rPr>
              <a:t>华东师大版七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362320" y="2362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第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6</a:t>
            </a:r>
            <a:r>
              <a:rPr b="1" lang="zh-CN" sz="4000" spc="-1" strike="noStrike">
                <a:solidFill>
                  <a:srgbClr val="339933"/>
                </a:solidFill>
                <a:latin typeface="方正姚体"/>
                <a:ea typeface="方正姚体"/>
              </a:rPr>
              <a:t>章   一元一次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4" descr=""/>
          <p:cNvPicPr/>
          <p:nvPr/>
        </p:nvPicPr>
        <p:blipFill>
          <a:blip r:embed="rId1"/>
          <a:stretch/>
        </p:blipFill>
        <p:spPr>
          <a:xfrm>
            <a:off x="1511280" y="4029120"/>
            <a:ext cx="6273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763440" y="4723560"/>
            <a:ext cx="174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工作量、工作效率、工作时间之间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怎样的关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183760" y="170028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一件工作，如果甲单独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甲独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完成全部工作量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4200" y="3141720"/>
            <a:ext cx="534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一件工作，如果甲单独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甲独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，完成全部工作量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250920" y="476280"/>
            <a:ext cx="3529080" cy="774720"/>
            <a:chOff x="250920" y="476280"/>
            <a:chExt cx="3529080" cy="774720"/>
          </a:xfrm>
        </p:grpSpPr>
        <p:pic>
          <p:nvPicPr>
            <p:cNvPr id="181" name="Picture 6" descr="144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808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7"/>
            <p:cNvSpPr/>
            <p:nvPr/>
          </p:nvSpPr>
          <p:spPr>
            <a:xfrm>
              <a:off x="1116000" y="476280"/>
              <a:ext cx="26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8" descr="EyeAll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229120" y="765000"/>
            <a:ext cx="44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制作一块广告牌，师傅单独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，徒弟单独做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。小刘提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是：两人合作需要几天完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559880" y="2781000"/>
            <a:ext cx="51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用列方程解决这个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题中的等量关系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887840" y="4292280"/>
            <a:ext cx="52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能提出其他合理的问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试看，并解答这些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866960" y="982440"/>
            <a:ext cx="550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件工作，甲独做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甲、乙合做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现由甲独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剩下的乙独做要几小时完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剩下的由甲、乙合作，还需多少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乙又独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时，然后甲、乙合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需多少小时完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983240" y="1699920"/>
            <a:ext cx="53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节课主要分析了工作问题中工作量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效率和工作时间之间的关系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3"/>
          <p:cNvSpPr txBox="1"/>
          <p:nvPr/>
        </p:nvSpPr>
        <p:spPr>
          <a:xfrm>
            <a:off x="900000" y="404640"/>
            <a:ext cx="18241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 结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962360" y="3141720"/>
            <a:ext cx="50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题时要全面审题，寻找全部工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独完成工作量和合作完成工作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等量关系列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2:10:07Z</dcterms:created>
  <dc:creator>Administrator</dc:creator>
  <dc:description/>
  <cp:keywords/>
  <dc:language>en-US</dc:language>
  <cp:lastModifiedBy>User</cp:lastModifiedBy>
  <dcterms:modified xsi:type="dcterms:W3CDTF">2015-03-20T06:12:5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