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4F7C-15AA-4E78-A6D6-E0F87D02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D0CB-665A-43E4-B13D-EC1D737D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244-882A-494E-A7F2-F8C86F77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337-0449-4584-9981-9238D1DF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27BE-D4B8-42A0-BD6F-74F0CBE8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6F9-5D26-4BE3-8CD3-5D066234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0810-9C43-430E-B6BB-47A62551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9E15-FB86-4B5E-8CAF-FB447CBA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5494-43DA-424E-80FF-A5BA920F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446-FEEC-49B8-8713-5729DBF8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EEF-1CF6-4E49-BED9-456D17BF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EF88-A6ED-450B-AF91-062C0589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5F48-95DE-4BA0-8C03-C39B5C127D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3276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把下面各式写成省略加号的和的形式：       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－（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－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－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说出式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+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两种读法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2096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省略加号？要注意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685800"/>
            <a:ext cx="2438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复习旧知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62320" y="7621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计算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0+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+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31160" y="1752840"/>
            <a:ext cx="341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0+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+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+3+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5+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676520"/>
            <a:ext cx="4343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解： 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0+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 +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=-17-5+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=-22+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=-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 rot="5400000">
            <a:off x="494640" y="418680"/>
            <a:ext cx="12193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med">
    <p:wheel spokes="3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计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228600" y="182844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24+3.2-16-3.5+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80920" y="1676160"/>
            <a:ext cx="5410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24+3.2-16-3.5+0.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382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-20.8-16-3.5+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--36.8-3.5+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-40.3+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41911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-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2362320"/>
            <a:ext cx="304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228600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(-24-16)+(3.2+0.3)-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28954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-40+(3.5-3.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34290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-40+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40384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-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计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85800" y="1981080"/>
                <a:ext cx="7010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解：</m:t>
                    </m:r>
                    <m:r>
                      <m:rPr>
                        <m:lit/>
                        <m:nor/>
                      </m:rPr>
                      <m:t xml:space="preserve">原式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2819520" y="5029200"/>
            <a:ext cx="304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0720" y="1219320"/>
            <a:ext cx="7208640" cy="812160"/>
            <a:chOff x="990720" y="1219320"/>
            <a:chExt cx="7208640" cy="812160"/>
          </a:xfrm>
        </p:grpSpPr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990720" y="1219320"/>
                  <a:ext cx="7208640" cy="76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（</m:t>
                      </m:r>
                      <m:r>
                        <m:t xml:space="preserve">2</m:t>
                      </m:r>
                      <m:r>
                        <m:t xml:space="preserve">）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1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0" name=""/>
            <p:cNvSpPr/>
            <p:nvPr/>
          </p:nvSpPr>
          <p:spPr>
            <a:xfrm>
              <a:off x="1647720" y="1390320"/>
              <a:ext cx="914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447920" y="3962520"/>
            <a:ext cx="67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438280" y="2743200"/>
                <a:ext cx="4051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514600" y="3581280"/>
                <a:ext cx="33526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438280" y="4572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=-21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5334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=-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4920" y="2286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变形是否正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95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   1-4+5-4=1-4+4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5909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  1-2+3-4=2-1+4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962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  4.5-1.7-2.5+1.8=4.5-2.5+1.8-1.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0" y="4876920"/>
            <a:ext cx="7164360" cy="1353960"/>
            <a:chOff x="0" y="4876920"/>
            <a:chExt cx="7164360" cy="1353960"/>
          </a:xfrm>
        </p:grpSpPr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0" y="4876920"/>
                  <a:ext cx="7164360" cy="13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４．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634680" y="5181480"/>
              <a:ext cx="914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 txBox="1"/>
          <p:nvPr/>
        </p:nvSpPr>
        <p:spPr>
          <a:xfrm rot="5400000">
            <a:off x="5828760" y="1409400"/>
            <a:ext cx="266688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随堂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wheel spokes="3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本第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页练习第二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151080" y="1218600"/>
            <a:ext cx="18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两个数相加，和一定大于任一个加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04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483640"/>
            <a:ext cx="82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两个数相加，和小于任一个加数，那么这两个数一定都是负数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93880" y="3809520"/>
            <a:ext cx="14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零减去一个数，仍得这个数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3520" y="4647600"/>
            <a:ext cx="35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两个相反数相减得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13200" y="5486040"/>
            <a:ext cx="14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两个数和是正数，那么这两个数一定是正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62120" y="17524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节课的注意点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2590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在计算过程中要仔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952880"/>
            <a:ext cx="7238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作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本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习题第三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同步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14400" y="154080"/>
            <a:ext cx="160020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3809880"/>
            <a:ext cx="1676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业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wheel spokes="3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9-20T15:44:16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