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DEC9-E5D5-43DD-B952-71C64CA4D0A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1BDC-C16E-4D75-B076-C20DE5E17C6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3C08-0F7E-4AF3-9F1A-917EEA3CAB2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A3A1-C4D3-49D0-99D5-63DB2BB37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A68F-AE56-4DD4-A358-7AE033DF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B953B6-36D4-4605-8ADE-36BB8037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CBDC14-0DD9-465E-B280-0868FCAC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5F2997-4D22-4487-8F31-D2ED06D8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23085E-6A17-4E5B-8AAB-D16E8E3C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2AE90D-19A4-42EE-A6D4-6211B094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2B8DB-03BE-4886-806E-2487D465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260EDB-B699-4346-80BA-0D64B22B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38D036-F51B-4996-A27A-910125685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8584C3-10E9-4D2D-919C-BD6A03794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147D-E175-4334-98B9-A3B4A6D73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F9D3-CE0A-4B98-A6DF-B3ACD8E7A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BDC4-9196-402A-BFF1-4E1A225CE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67E80-5F5F-4FA0-9B40-4D1901EA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70E37-CD41-4EB9-AE78-C177612F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A0371-DAB5-40DA-A57C-3FD6A232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8844C-4121-4459-B9FB-F219AFA5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B8D7-2A87-46E7-AFDF-604655EC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501B-98FB-4AD2-A723-2AB15E30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56E7-BBCB-4261-99DD-CD452639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0D22-C512-42E7-B31D-982F2BE6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2544-4C32-4787-97BD-2FF4C424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0CF1-7947-4F8C-BA90-E58D573D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5001-618E-4B76-95F6-664506C1B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35D2-4B9A-4B29-8617-3925BA088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B7C05-F32F-4900-8324-45B419042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2EAE6-CE57-466F-834C-21C1953C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DA4ED-1B2B-4D71-843B-E3B03BD1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59136-8279-4FCD-A502-53A79AED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C4B01-397F-4255-A02C-8C889E27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5CC0-AB2C-422A-875C-4A0EB543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C03B8-8F60-445E-842A-020F8A40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EC6AC-DD46-42BB-A981-5E8C07D9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C170F-AD48-469B-B12D-29632046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710F1-47C7-4E1A-A1F7-7904D1BB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6424A-8806-44BA-BEAC-905C2E93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1CAFD-601A-434F-B757-1F78A3F35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0F1CC-0C95-4AB3-B46D-1AFDB0FD9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D7D5C-886E-4348-8E68-579521AB5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B0A5B-F117-496B-9658-22457DF4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8505F-4131-4608-BE92-159DCC52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A4EF-0308-4C30-93FB-76E55B1E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2FEFD-FAFC-4574-B2EF-56E981CE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513D8-809F-4AF5-9E11-85238A57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8F5C7-F90B-42D8-9CF1-B4E95A77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648E6-6C67-4878-B7BA-CA097272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AE4A3-16A7-4E89-BAD0-4E08BC62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8E35B-53E7-4D64-A8D2-5DFEED99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36FE9-1FC8-469D-8B80-680DA6F3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BE5E1-27E7-4794-8195-A28FB65BF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3924A-BDBF-4FB3-8CBD-B74E3DBCB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4EE41-E8CB-4B52-BB40-4F525E6DC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3883-506A-44DA-9C96-3A29A0F8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418C0-142D-456A-9601-5AF66270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C539E-53AB-4FDF-AF74-46DF87C1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CFDC3-47CA-4322-BCBB-28DA7174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C95D8-1E17-465A-ACCD-C8FA70DB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56910-81FF-4519-83D3-B21FFCAD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82DD1-B6E7-4846-8A42-A984E4BE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41CE0-3CBA-4514-A031-5947D5B1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CA552-F0B8-4C28-83E0-5A662C4F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5AE9D-A559-4C10-AD7D-8BA9547A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04D71-5BF0-4EAD-A1EB-05D109679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A0FC-C7FA-449F-961F-424FEC51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2C1FE-AED2-4251-B16D-190C64561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C978C-DF7E-42F7-B645-41DE1CCCF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DA827-7165-42D2-9784-3C04F40E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4F172-3A28-4F0A-9713-6D2A9598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D1743-464D-475C-8C73-E8CA59AF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701C9-F1F4-4CAB-98E6-6D7EE915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91C51-78AF-4BD9-93BB-C520F218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8B17E-31B9-43EF-BF7B-B1F168CB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AE994-B73D-4AC4-9217-FBABE852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2E41D-A39F-4FB1-8C04-6688B1EC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6F15-5837-43DC-856D-9CB25408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97392-560D-4441-9106-32BB98A4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02FEF-1145-4D4D-85A8-096721926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AD3D7-36D4-4360-8A4B-F0EB18818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F18EB-F0EB-46CD-BD17-572BF71F1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7D280-9429-47EE-B0D7-160FA0A0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E70F4-49EA-4F17-95D4-AD6F024D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8F3EB-AB55-4A41-828A-AEC795F5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000F5-803C-4D9A-9654-7A4DF232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4FEC3-3D3C-4305-812F-3A90BDB6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3E7CC-ED1D-47BE-93C7-E6A50057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3769-2BCD-421A-B037-AC46C0FD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4EA08-FA58-48FB-A2EF-A8EF9EE7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ED022-107C-4816-9166-453992C9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53C5F-2F00-4F4D-B3F0-DB1B9662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ABAB4-394E-4174-AA1C-BD2B4D574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E8D5A-7797-4A7D-8A3C-46DF84DD8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C1CC5-94D6-4607-89CC-146CDEE71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95057-8E43-47BA-B7D3-0E59D95D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2DC5E-25F9-4D85-9BCD-74F5571A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4D0BD-6949-4065-A982-E86A7402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39F18-3450-40ED-BDC4-6AF7E326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AB07-4D09-4A18-8F2F-DF7F5BD7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194F8-AF59-4A23-BD0A-A2247370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CB56C-8F91-4F50-9B0E-32EF19EB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0C543-9D24-45E9-A83E-C51EE4CD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7C2C7-42B0-452C-A845-C7895009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725C8-D9E7-438D-A3C5-CDA520D8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DF8FD-F673-4D37-8C30-49A62A0D8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81659-6E54-4DEA-937A-759DBB7FE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3E53C9-138F-4650-B5E0-67423BA70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F044A-A47B-419C-9AD2-829BE3FC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70AEF2-A780-445D-BAAE-8F94675D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EB67-957B-4E0C-B57D-32EC157D2FD5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351A-5AAE-4DBE-82A2-DCAA6B36E6F5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7596-C544-47B6-9135-11C901B20CDC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F358-C219-499E-9745-2838B888D42F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28C8-65EE-4253-AC4E-F26EF9C7F55D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59B6-1732-45B7-9B34-D97DD58A5D33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1C9A-A0D4-4C5D-8749-1480DA5C7594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0404-E938-456B-9F28-7A4E0809F1B6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C653-B9F4-434C-8AE1-B4B0301D4115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6" descr=""/>
          <p:cNvPicPr/>
          <p:nvPr/>
        </p:nvPicPr>
        <p:blipFill>
          <a:blip r:embed="rId2"/>
          <a:stretch/>
        </p:blipFill>
        <p:spPr>
          <a:xfrm>
            <a:off x="109440" y="249120"/>
            <a:ext cx="8358120" cy="4226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213840" y="2233440"/>
            <a:ext cx="8675640" cy="45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1</a:t>
            </a:r>
            <a:r>
              <a:rPr b="1" lang="zh-CN" sz="24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、内容：课本</a:t>
            </a:r>
            <a:r>
              <a:rPr b="1" lang="en-US" sz="24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P</a:t>
            </a:r>
            <a:r>
              <a:rPr b="1" lang="en-US" sz="2400" spc="-1" strike="noStrike" baseline="-25000">
                <a:solidFill>
                  <a:srgbClr val="4e3b30"/>
                </a:solidFill>
                <a:latin typeface="Franklin Gothic Book"/>
                <a:ea typeface="华文楷体"/>
              </a:rPr>
              <a:t>60</a:t>
            </a:r>
            <a:r>
              <a:rPr b="1" lang="en-US" sz="24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—P</a:t>
            </a:r>
            <a:r>
              <a:rPr b="1" lang="en-US" sz="2400" spc="-1" strike="noStrike" baseline="-25000">
                <a:solidFill>
                  <a:srgbClr val="4e3b30"/>
                </a:solidFill>
                <a:latin typeface="Franklin Gothic Book"/>
                <a:ea typeface="华文楷体"/>
              </a:rPr>
              <a:t>61</a:t>
            </a:r>
            <a:r>
              <a:rPr b="1" lang="zh-CN" sz="24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页的内容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2</a:t>
            </a:r>
            <a:r>
              <a:rPr b="1" lang="zh-CN" sz="24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、时间：</a:t>
            </a:r>
            <a:r>
              <a:rPr b="1" lang="en-US" sz="24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5</a:t>
            </a:r>
            <a:r>
              <a:rPr b="1" lang="zh-CN" sz="24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分钟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3</a:t>
            </a:r>
            <a:r>
              <a:rPr b="1" lang="zh-CN" sz="24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、方法：前</a:t>
            </a:r>
            <a:r>
              <a:rPr b="1" lang="en-US" sz="24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4</a:t>
            </a:r>
            <a:r>
              <a:rPr b="1" lang="zh-CN" sz="24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分钟自学，后</a:t>
            </a:r>
            <a:r>
              <a:rPr b="1" lang="en-US" sz="24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1</a:t>
            </a:r>
            <a:r>
              <a:rPr b="1" lang="zh-CN" sz="24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分钟小组讨论自学时遇到的问题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4</a:t>
            </a:r>
            <a:r>
              <a:rPr b="1" lang="zh-CN" sz="24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、要求：自学后能独立完成下列问题：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              </a:t>
            </a:r>
            <a:r>
              <a:rPr b="1" lang="zh-CN" sz="24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说出科学记数法的概念是什么？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WordArt 3"/>
          <p:cNvSpPr txBox="1"/>
          <p:nvPr/>
        </p:nvSpPr>
        <p:spPr>
          <a:xfrm>
            <a:off x="500040" y="1500120"/>
            <a:ext cx="335772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自学指导：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4067280" y="292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WordArt 3"/>
          <p:cNvSpPr txBox="1"/>
          <p:nvPr/>
        </p:nvSpPr>
        <p:spPr>
          <a:xfrm>
            <a:off x="428760" y="71280"/>
            <a:ext cx="335736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学习目标：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142920" y="857160"/>
          <a:ext cx="8501040" cy="711360"/>
        </p:xfrm>
        <a:graphic>
          <a:graphicData uri="http://schemas.openxmlformats.org/drawingml/2006/table">
            <a:tbl>
              <a:tblPr/>
              <a:tblGrid>
                <a:gridCol w="8501040"/>
              </a:tblGrid>
              <a:tr h="711360"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ts val="2798"/>
                        </a:lnSpc>
                        <a:tabLst>
                          <a:tab algn="l" pos="0"/>
                          <a:tab algn="l" pos="533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了解科学记数法的意义，学会用科学记数法表示绝对值大于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的数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2" name="TextBox 9"/>
          <p:cNvSpPr/>
          <p:nvPr/>
        </p:nvSpPr>
        <p:spPr>
          <a:xfrm>
            <a:off x="13144680" y="4286160"/>
            <a:ext cx="185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个大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数就记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×1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形式，其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正整数，像这样的记数法叫做科学记数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Box 10"/>
          <p:cNvSpPr/>
          <p:nvPr/>
        </p:nvSpPr>
        <p:spPr>
          <a:xfrm>
            <a:off x="214200" y="750096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928800" y="5072040"/>
          <a:ext cx="6095880" cy="6094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609480">
                <a:tc>
                  <a:txBody>
                    <a:bodyPr lIns="114480" rIns="114480" tIns="0" bIns="0" anchor="t">
                      <a:noAutofit/>
                    </a:bodyPr>
                    <a:p>
                      <a:pPr algn="just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一个大于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的数就记成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a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×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10 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的形式，其中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1 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＜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n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是正整数，像这样的记数法叫做科学记数法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15" name="Object 12"/>
              <p:cNvSpPr txBox="1"/>
              <p:nvPr/>
            </p:nvSpPr>
            <p:spPr>
              <a:xfrm>
                <a:off x="0" y="0"/>
                <a:ext cx="10476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Object 11"/>
              <p:cNvSpPr txBox="1"/>
              <p:nvPr/>
            </p:nvSpPr>
            <p:spPr>
              <a:xfrm>
                <a:off x="0" y="0"/>
                <a:ext cx="23796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WordArt 5"/>
          <p:cNvSpPr txBox="1"/>
          <p:nvPr/>
        </p:nvSpPr>
        <p:spPr>
          <a:xfrm>
            <a:off x="685800" y="-71280"/>
            <a:ext cx="2806560" cy="95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自学检测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785880" y="1500120"/>
          <a:ext cx="7072200" cy="2928960"/>
        </p:xfrm>
        <a:graphic>
          <a:graphicData uri="http://schemas.openxmlformats.org/drawingml/2006/table">
            <a:tbl>
              <a:tblPr/>
              <a:tblGrid>
                <a:gridCol w="7072200"/>
              </a:tblGrid>
              <a:tr h="2928960">
                <a:tc>
                  <a:txBody>
                    <a:bodyPr lIns="114480" rIns="114480" tIns="0" bIns="0" anchor="t">
                      <a:noAutofit/>
                    </a:bodyPr>
                    <a:p>
                      <a:pPr algn="just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填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=2.56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70=1.37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1000=-1.1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3000000=2.13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根据乘方的意义，填写下表：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9" name=""/>
          <p:cNvGraphicFramePr/>
          <p:nvPr/>
        </p:nvGraphicFramePr>
        <p:xfrm>
          <a:off x="571680" y="4000680"/>
          <a:ext cx="7929360" cy="2071440"/>
        </p:xfrm>
        <a:graphic>
          <a:graphicData uri="http://schemas.openxmlformats.org/drawingml/2006/table">
            <a:tbl>
              <a:tblPr/>
              <a:tblGrid>
                <a:gridCol w="947520"/>
                <a:gridCol w="3409920"/>
                <a:gridCol w="1857600"/>
                <a:gridCol w="1714320"/>
              </a:tblGrid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的乘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示的意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运算结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果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的个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2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个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相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0" name=""/>
          <p:cNvGraphicFramePr/>
          <p:nvPr/>
        </p:nvGraphicFramePr>
        <p:xfrm>
          <a:off x="214200" y="3214800"/>
          <a:ext cx="4143600" cy="938160"/>
        </p:xfrm>
        <a:graphic>
          <a:graphicData uri="http://schemas.openxmlformats.org/drawingml/2006/table">
            <a:tbl>
              <a:tblPr/>
              <a:tblGrid>
                <a:gridCol w="4143600"/>
              </a:tblGrid>
              <a:tr h="938160">
                <a:tc>
                  <a:txBody>
                    <a:bodyPr lIns="114480" rIns="114480" tIns="0" bIns="0" anchor="t">
                      <a:noAutofit/>
                    </a:bodyPr>
                    <a:p>
                      <a:pPr marL="888840" indent="-888840" algn="just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21" name="Object 14"/>
              <p:cNvSpPr txBox="1"/>
              <p:nvPr/>
            </p:nvSpPr>
            <p:spPr>
              <a:xfrm>
                <a:off x="2643120" y="1428840"/>
                <a:ext cx="800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15"/>
              <p:cNvSpPr txBox="1"/>
              <p:nvPr/>
            </p:nvSpPr>
            <p:spPr>
              <a:xfrm>
                <a:off x="2786040" y="1857240"/>
                <a:ext cx="685800" cy="6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16"/>
              <p:cNvSpPr txBox="1"/>
              <p:nvPr/>
            </p:nvSpPr>
            <p:spPr>
              <a:xfrm>
                <a:off x="3000240" y="2286000"/>
                <a:ext cx="64296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19"/>
              <p:cNvSpPr txBox="1"/>
              <p:nvPr/>
            </p:nvSpPr>
            <p:spPr>
              <a:xfrm>
                <a:off x="3571920" y="2571840"/>
                <a:ext cx="7570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5" name="TextBox 29"/>
          <p:cNvSpPr/>
          <p:nvPr/>
        </p:nvSpPr>
        <p:spPr>
          <a:xfrm>
            <a:off x="2071800" y="464328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0×10×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Box 30"/>
          <p:cNvSpPr/>
          <p:nvPr/>
        </p:nvSpPr>
        <p:spPr>
          <a:xfrm>
            <a:off x="5362560" y="46432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Box 31"/>
          <p:cNvSpPr/>
          <p:nvPr/>
        </p:nvSpPr>
        <p:spPr>
          <a:xfrm>
            <a:off x="7429680" y="46432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Box 32"/>
          <p:cNvSpPr/>
          <p:nvPr/>
        </p:nvSpPr>
        <p:spPr>
          <a:xfrm>
            <a:off x="1571760" y="507204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×10×10×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Box 33"/>
          <p:cNvSpPr/>
          <p:nvPr/>
        </p:nvSpPr>
        <p:spPr>
          <a:xfrm>
            <a:off x="5434560" y="507204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Box 34"/>
          <p:cNvSpPr/>
          <p:nvPr/>
        </p:nvSpPr>
        <p:spPr>
          <a:xfrm>
            <a:off x="7432200" y="5143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Box 35"/>
          <p:cNvSpPr/>
          <p:nvPr/>
        </p:nvSpPr>
        <p:spPr>
          <a:xfrm>
            <a:off x="2066040" y="557208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×10×10×10×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Box 36"/>
          <p:cNvSpPr/>
          <p:nvPr/>
        </p:nvSpPr>
        <p:spPr>
          <a:xfrm>
            <a:off x="7360560" y="5572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Box 37"/>
          <p:cNvSpPr/>
          <p:nvPr/>
        </p:nvSpPr>
        <p:spPr>
          <a:xfrm>
            <a:off x="5364360" y="5643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4"/>
          <p:cNvSpPr/>
          <p:nvPr/>
        </p:nvSpPr>
        <p:spPr>
          <a:xfrm>
            <a:off x="4067280" y="292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Object 8"/>
              <p:cNvSpPr txBox="1"/>
              <p:nvPr/>
            </p:nvSpPr>
            <p:spPr>
              <a:xfrm>
                <a:off x="4286160" y="1571760"/>
                <a:ext cx="25005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Object 9"/>
              <p:cNvSpPr txBox="1"/>
              <p:nvPr/>
            </p:nvSpPr>
            <p:spPr>
              <a:xfrm>
                <a:off x="4357800" y="2214720"/>
                <a:ext cx="15318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Object 10"/>
              <p:cNvSpPr txBox="1"/>
              <p:nvPr/>
            </p:nvSpPr>
            <p:spPr>
              <a:xfrm>
                <a:off x="4071960" y="2786040"/>
                <a:ext cx="18572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38" name="TextBox 14"/>
          <p:cNvSpPr/>
          <p:nvPr/>
        </p:nvSpPr>
        <p:spPr>
          <a:xfrm>
            <a:off x="2143080" y="42876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Object 11"/>
              <p:cNvSpPr txBox="1"/>
              <p:nvPr/>
            </p:nvSpPr>
            <p:spPr>
              <a:xfrm>
                <a:off x="4214880" y="3357720"/>
                <a:ext cx="118260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40" name="TextBox 16"/>
          <p:cNvSpPr/>
          <p:nvPr/>
        </p:nvSpPr>
        <p:spPr>
          <a:xfrm>
            <a:off x="9786960" y="321480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12"/>
              <p:cNvSpPr txBox="1"/>
              <p:nvPr/>
            </p:nvSpPr>
            <p:spPr>
              <a:xfrm>
                <a:off x="3857760" y="4000680"/>
                <a:ext cx="1679400" cy="38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 txBox="1"/>
          <p:nvPr/>
        </p:nvSpPr>
        <p:spPr>
          <a:xfrm>
            <a:off x="428760" y="85716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3. 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科学记数法表示下列各数：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（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）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10 000 000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（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）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—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1 200 000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（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3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）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800800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 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(4 )-10000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 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(5) -12030000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WordArt 3"/>
          <p:cNvSpPr txBox="1"/>
          <p:nvPr/>
        </p:nvSpPr>
        <p:spPr>
          <a:xfrm>
            <a:off x="714240" y="0"/>
            <a:ext cx="2951280" cy="91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当堂检测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285480" y="1000080"/>
            <a:ext cx="8458200" cy="60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1.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用科学记数法表示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（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）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2015=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（             ）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（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）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12340000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万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=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（              ）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（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3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）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2002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亿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=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（              ）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（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4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）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-36000=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（              ）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（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5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）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94582347=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（                       ）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（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6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）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10000.01=(                  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  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(7)1234×10 =(              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Object 11"/>
              <p:cNvSpPr txBox="1"/>
              <p:nvPr/>
            </p:nvSpPr>
            <p:spPr>
              <a:xfrm>
                <a:off x="9429840" y="307188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12"/>
              <p:cNvSpPr txBox="1"/>
              <p:nvPr/>
            </p:nvSpPr>
            <p:spPr>
              <a:xfrm>
                <a:off x="2857680" y="1643040"/>
                <a:ext cx="13064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13"/>
              <p:cNvSpPr txBox="1"/>
              <p:nvPr/>
            </p:nvSpPr>
            <p:spPr>
              <a:xfrm>
                <a:off x="3929040" y="2214720"/>
                <a:ext cx="178452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14"/>
              <p:cNvSpPr txBox="1"/>
              <p:nvPr/>
            </p:nvSpPr>
            <p:spPr>
              <a:xfrm>
                <a:off x="3214800" y="2857680"/>
                <a:ext cx="1403280" cy="38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2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15"/>
              <p:cNvSpPr txBox="1"/>
              <p:nvPr/>
            </p:nvSpPr>
            <p:spPr>
              <a:xfrm>
                <a:off x="3214800" y="3429000"/>
                <a:ext cx="146196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16"/>
              <p:cNvSpPr txBox="1"/>
              <p:nvPr/>
            </p:nvSpPr>
            <p:spPr>
              <a:xfrm>
                <a:off x="3571920" y="4000680"/>
                <a:ext cx="261792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82347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17"/>
              <p:cNvSpPr txBox="1"/>
              <p:nvPr/>
            </p:nvSpPr>
            <p:spPr>
              <a:xfrm>
                <a:off x="3286080" y="4643280"/>
                <a:ext cx="1719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001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18"/>
              <p:cNvSpPr txBox="1"/>
              <p:nvPr/>
            </p:nvSpPr>
            <p:spPr>
              <a:xfrm>
                <a:off x="3214800" y="5214960"/>
                <a:ext cx="135720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500040" y="713880"/>
            <a:ext cx="814392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2..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写出下列用科学记数法表示的原数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（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）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8.848×10 =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（             ）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（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）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3.021×10 =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（             ）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（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3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）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3×10 =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（               ）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(4)7.5×10 =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（               ）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3..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通过第五次全国人口普查得知，山西人口总数约为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3297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万人，用科学记数法表示是（                     ）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4..  3.65×10 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原数是（   ）位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Object 2"/>
              <p:cNvSpPr txBox="1"/>
              <p:nvPr/>
            </p:nvSpPr>
            <p:spPr>
              <a:xfrm>
                <a:off x="3286080" y="1285920"/>
                <a:ext cx="4017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3"/>
              <p:cNvSpPr txBox="1"/>
              <p:nvPr/>
            </p:nvSpPr>
            <p:spPr>
              <a:xfrm>
                <a:off x="3286080" y="1928880"/>
                <a:ext cx="5032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4"/>
              <p:cNvSpPr txBox="1"/>
              <p:nvPr/>
            </p:nvSpPr>
            <p:spPr>
              <a:xfrm>
                <a:off x="2428920" y="2428920"/>
                <a:ext cx="7840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Object 5"/>
              <p:cNvSpPr txBox="1"/>
              <p:nvPr/>
            </p:nvSpPr>
            <p:spPr>
              <a:xfrm>
                <a:off x="2214720" y="3000240"/>
                <a:ext cx="104436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Object 6"/>
              <p:cNvSpPr txBox="1"/>
              <p:nvPr/>
            </p:nvSpPr>
            <p:spPr>
              <a:xfrm>
                <a:off x="4000680" y="1214280"/>
                <a:ext cx="14572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84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Object 7"/>
              <p:cNvSpPr txBox="1"/>
              <p:nvPr/>
            </p:nvSpPr>
            <p:spPr>
              <a:xfrm>
                <a:off x="4071960" y="1928880"/>
                <a:ext cx="111276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Object 8"/>
              <p:cNvSpPr txBox="1"/>
              <p:nvPr/>
            </p:nvSpPr>
            <p:spPr>
              <a:xfrm>
                <a:off x="3357720" y="2500200"/>
                <a:ext cx="14335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00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9"/>
              <p:cNvSpPr txBox="1"/>
              <p:nvPr/>
            </p:nvSpPr>
            <p:spPr>
              <a:xfrm>
                <a:off x="3000240" y="3071880"/>
                <a:ext cx="175428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50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10"/>
              <p:cNvSpPr txBox="1"/>
              <p:nvPr/>
            </p:nvSpPr>
            <p:spPr>
              <a:xfrm>
                <a:off x="1357200" y="5214960"/>
                <a:ext cx="21430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97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11"/>
              <p:cNvSpPr txBox="1"/>
              <p:nvPr/>
            </p:nvSpPr>
            <p:spPr>
              <a:xfrm>
                <a:off x="4429080" y="5857920"/>
                <a:ext cx="642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685800" y="1785960"/>
            <a:ext cx="7772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通过本节课的学习，你有哪些收获？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5" name="WordArt 4"/>
          <p:cNvSpPr txBox="1"/>
          <p:nvPr/>
        </p:nvSpPr>
        <p:spPr>
          <a:xfrm>
            <a:off x="684360" y="476280"/>
            <a:ext cx="2662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课时小结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6" name="WordArt 4"/>
          <p:cNvSpPr txBox="1"/>
          <p:nvPr/>
        </p:nvSpPr>
        <p:spPr>
          <a:xfrm>
            <a:off x="685800" y="2643120"/>
            <a:ext cx="3238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布置作业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7" name="Rectangle 3"/>
          <p:cNvSpPr/>
          <p:nvPr/>
        </p:nvSpPr>
        <p:spPr>
          <a:xfrm>
            <a:off x="685800" y="4100400"/>
            <a:ext cx="777240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74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习题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2.12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74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1.  4  . 5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WordArt 2"/>
          <p:cNvSpPr txBox="1"/>
          <p:nvPr/>
        </p:nvSpPr>
        <p:spPr>
          <a:xfrm>
            <a:off x="1981080" y="1523880"/>
            <a:ext cx="5456520" cy="28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2204"/>
                <a:gd name="adj2" fmla="val 3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11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再见</a:t>
            </a:r>
            <a:endParaRPr b="0" lang="en-US" sz="2400" spc="1" strike="noStrike">
              <a:ln w="11124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toBVT</cp:lastModifiedBy>
  <dcterms:modified xsi:type="dcterms:W3CDTF">2015-12-01T01:50:20Z</dcterms:modified>
  <cp:revision>105</cp:revision>
  <dc:subject/>
  <dc:title>PowerPoint Presentation</dc:title>
</cp:coreProperties>
</file>