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D85-4927-4E13-8E74-D958E979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0A1-A6A5-4EFC-99FD-F7B6FE6E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2B7-EB86-4790-9556-651FF9F5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686-FA3A-4F52-A8A9-7587D9A1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3627-75A4-48F1-9FF9-12A29B46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A6F-AFBE-4983-9C16-6C5DFF2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C48-4AC2-470B-BFB2-A8B20803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828C-886B-4C81-AC4B-343DF20A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1A07-7EBA-462E-A5DB-68BF54B8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BF2-802C-4F93-8391-800E39C2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8F81-1152-4899-9096-02E56E6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DAD-CCE8-4B59-B78E-5C4AC92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FBEF-D6A4-487E-9604-DDDCB11B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6FA-B8DF-41CF-8297-D69ADBBF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EAD-A6DF-4390-97C3-5AD560A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D1B-E315-4DA4-A615-973414A9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86E-6327-4931-AC38-1FC05A91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DCFC-6327-4143-A512-9CBA199E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290A-3981-4CDE-B935-95F165F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EC42-057F-47CD-AB88-74AC07CF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D3B9-F9A2-4A8F-AF56-00E9072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58EF-9046-4727-BEFC-2167A38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B81-8781-4077-9EC5-862A6B65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280D-BD11-49E8-A99A-7132F5B5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8D7A-983C-4E1F-9613-0D86147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EB5F-9D2F-4F55-8886-6FA128F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4A11-389C-4ED1-89BD-288AB0C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D7A0-F265-4E28-8AB1-C88313AA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301D3-35F2-45CD-B66A-D61E2F42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8226-A193-4773-AB7E-9ECFE9E6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890-7492-4FD7-A89E-77A4B0C8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BCF-034D-4BF0-89EC-ECAE7DBE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27E-1F36-44EB-A652-4D782DC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4CA-7263-4676-B29D-7D0D188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A50-58A7-4CB6-AFC5-97D2392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FBE-A0BE-4D88-A883-892343A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C141-3613-4807-9234-375F87A4D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DE49-430F-4E20-BF9D-B2729F15A27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9040" y="-83880"/>
            <a:ext cx="2432520" cy="2253600"/>
            <a:chOff x="7169040" y="-83880"/>
            <a:chExt cx="2432520" cy="22536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9040" y="-83880"/>
              <a:ext cx="2432520" cy="2253600"/>
              <a:chOff x="7169040" y="-83880"/>
              <a:chExt cx="2432520" cy="22536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9040" y="-83880"/>
                <a:ext cx="2432520" cy="2253600"/>
                <a:chOff x="7169040" y="-83880"/>
                <a:chExt cx="2432520" cy="22536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1040" y="113040"/>
                  <a:ext cx="24444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1360" y="52056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697880" y="282960"/>
                  <a:ext cx="80748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79240" y="-23400"/>
                  <a:ext cx="12117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397000" y="1421640"/>
                  <a:ext cx="2703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27160" y="1275840"/>
                  <a:ext cx="28908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0920" y="324360"/>
                  <a:ext cx="28908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42960" y="214200"/>
                  <a:ext cx="28620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88240" y="4316760"/>
            <a:ext cx="985680" cy="1163160"/>
            <a:chOff x="7788240" y="4316760"/>
            <a:chExt cx="985680" cy="11631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86440" y="4646160"/>
              <a:ext cx="998280" cy="471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73480" y="4632840"/>
              <a:ext cx="995400" cy="467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0080" y="4609440"/>
              <a:ext cx="660240" cy="426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88240" y="4316760"/>
              <a:ext cx="985680" cy="1163160"/>
              <a:chOff x="7788240" y="4316760"/>
              <a:chExt cx="985680" cy="11631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7120" y="5052600"/>
                <a:ext cx="9360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1520" y="4647600"/>
                <a:ext cx="105876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42400" y="4755600"/>
                <a:ext cx="749160" cy="28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2200" y="4548960"/>
                <a:ext cx="10008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47880" y="4749480"/>
                <a:ext cx="306360" cy="16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0B7-957E-45A0-9B2E-8BE1EFBBC8E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4360" y="2205000"/>
            <a:ext cx="7343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Comic Sans MS"/>
              </a:rPr>
              <a:t>整式的加减</a:t>
            </a:r>
            <a:r>
              <a:rPr b="1" lang="en-US" sz="6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zh-CN" sz="6400" spc="-1" strike="noStrike">
                <a:solidFill>
                  <a:srgbClr val="ff3300"/>
                </a:solidFill>
                <a:latin typeface="Comic Sans MS"/>
              </a:rPr>
              <a:t>复习</a:t>
            </a:r>
            <a:r>
              <a:rPr b="1" lang="en-US" sz="6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68360" y="170172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华师大版数学七年级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1"/>
          <p:cNvSpPr/>
          <p:nvPr/>
        </p:nvSpPr>
        <p:spPr>
          <a:xfrm>
            <a:off x="0" y="404640"/>
            <a:ext cx="91440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和是单项式，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n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式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3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m-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同类项，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m+3n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8"/>
          <p:cNvSpPr/>
          <p:nvPr/>
        </p:nvSpPr>
        <p:spPr>
          <a:xfrm>
            <a:off x="1116000" y="119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3278160" y="11239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2989800" y="3860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9"/>
          <p:cNvSpPr/>
          <p:nvPr/>
        </p:nvSpPr>
        <p:spPr>
          <a:xfrm>
            <a:off x="468360" y="1197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并下列同类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468360" y="2205000"/>
            <a:ext cx="78674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y – 4 xy –  xy 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a=(               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8a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+0.2a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(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493236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370836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４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5364000" y="414972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7928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展示点评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2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96720" y="1773360"/>
            <a:ext cx="828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注意：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合并同类项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法则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是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同类项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系数相加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字母和字母的次数不变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合并同类项后也要注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书写格式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如果两个同类项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系数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互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相反数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那么合并同类项后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结果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得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97164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95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内容：课本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5-1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概念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95280" y="33577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时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95280" y="2349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方法：理解、识记，组内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96720" y="4365720"/>
            <a:ext cx="828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要求：能熟练理解概念，能熟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掌握基本题型的解题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79280" y="549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指导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468360" y="620640"/>
            <a:ext cx="77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去括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+5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3780000" y="133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4455000" y="2781360"/>
            <a:ext cx="24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y+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611280" y="4292640"/>
            <a:ext cx="799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+1)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4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+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+q)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4716360" y="43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+y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+z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3851280" y="5661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+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5580000" y="117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检测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08000" y="4064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(5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a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(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a)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179280" y="98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96720" y="1917720"/>
            <a:ext cx="799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原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5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a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6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a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a</a:t>
            </a:r>
            <a:r>
              <a:rPr b="1" lang="en-US" sz="2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+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a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635280" y="4046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整式的加减混合运算步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括号先去括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042920" y="393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找同类项，做好标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利用加法的交换律和结合律把同类项放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利用乘法分配律计算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按要求按“升”或“降”幂排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971640" y="414972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1042920" y="1628640"/>
            <a:ext cx="144360" cy="115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1187280" y="141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括号外的因数是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正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去括号后原括号内各项的符号与原来的符号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括号外的因数是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负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去括号后原括号内各项的符号与原来的符号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相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3097800" y="2997360"/>
            <a:ext cx="28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去括号，看符号。是‘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’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号，不变号，是‘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’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号，全变号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179280" y="10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：去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324000" y="342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：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3788640" y="105264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按照先小括号，再中括号，最后大括号的顺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4920" y="18900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展示点评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3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79280" y="1341360"/>
            <a:ext cx="8137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方形的长为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比长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么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c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252360" y="2924280"/>
            <a:ext cx="845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的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cm  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周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cm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24000" y="4221000"/>
            <a:ext cx="8305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商品原价是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后的售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380880" y="50292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一个三位数的百位数字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位数字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位数字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么这个三位数用代数式可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612720" y="404640"/>
            <a:ext cx="2292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050920" y="2133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[2a+2(a-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435640" y="2060640"/>
            <a:ext cx="107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(a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580000" y="292572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601920" y="3429000"/>
            <a:ext cx="7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πr</a:t>
            </a:r>
            <a:r>
              <a:rPr b="1" lang="zh-CN" sz="3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77080" y="4365720"/>
            <a:ext cx="17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(1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％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)a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828720" y="6093000"/>
            <a:ext cx="220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00a+10b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539640" y="6858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代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2063880" y="476280"/>
            <a:ext cx="504720" cy="866520"/>
            <a:chOff x="2063880" y="476280"/>
            <a:chExt cx="504720" cy="866520"/>
          </a:xfrm>
        </p:grpSpPr>
        <p:sp>
          <p:nvSpPr>
            <p:cNvPr id="318" name="Text Box 4"/>
            <p:cNvSpPr/>
            <p:nvPr/>
          </p:nvSpPr>
          <p:spPr>
            <a:xfrm>
              <a:off x="2063880" y="476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"/>
            <p:cNvSpPr/>
            <p:nvPr/>
          </p:nvSpPr>
          <p:spPr>
            <a:xfrm>
              <a:off x="2063880" y="8222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"/>
            <p:cNvSpPr/>
            <p:nvPr/>
          </p:nvSpPr>
          <p:spPr>
            <a:xfrm>
              <a:off x="2078280" y="93672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7"/>
          <p:cNvGrpSpPr/>
          <p:nvPr/>
        </p:nvGrpSpPr>
        <p:grpSpPr>
          <a:xfrm>
            <a:off x="3740040" y="485640"/>
            <a:ext cx="504720" cy="866520"/>
            <a:chOff x="3740040" y="485640"/>
            <a:chExt cx="504720" cy="866520"/>
          </a:xfrm>
        </p:grpSpPr>
        <p:sp>
          <p:nvSpPr>
            <p:cNvPr id="322" name="Text Box 8"/>
            <p:cNvSpPr/>
            <p:nvPr/>
          </p:nvSpPr>
          <p:spPr>
            <a:xfrm>
              <a:off x="3740040" y="485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9"/>
            <p:cNvSpPr/>
            <p:nvPr/>
          </p:nvSpPr>
          <p:spPr>
            <a:xfrm>
              <a:off x="3740040" y="8316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0"/>
            <p:cNvSpPr/>
            <p:nvPr/>
          </p:nvSpPr>
          <p:spPr>
            <a:xfrm>
              <a:off x="3754440" y="94608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1"/>
          <p:cNvSpPr/>
          <p:nvPr/>
        </p:nvSpPr>
        <p:spPr>
          <a:xfrm>
            <a:off x="612720" y="148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68436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化简得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1520640" y="285264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4"/>
          <p:cNvGrpSpPr/>
          <p:nvPr/>
        </p:nvGrpSpPr>
        <p:grpSpPr>
          <a:xfrm>
            <a:off x="2484360" y="2709720"/>
            <a:ext cx="504720" cy="866520"/>
            <a:chOff x="2484360" y="2709720"/>
            <a:chExt cx="504720" cy="866520"/>
          </a:xfrm>
        </p:grpSpPr>
        <p:sp>
          <p:nvSpPr>
            <p:cNvPr id="329" name="Text Box 15"/>
            <p:cNvSpPr/>
            <p:nvPr/>
          </p:nvSpPr>
          <p:spPr>
            <a:xfrm>
              <a:off x="2484360" y="27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2484360" y="3055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7"/>
            <p:cNvSpPr/>
            <p:nvPr/>
          </p:nvSpPr>
          <p:spPr>
            <a:xfrm>
              <a:off x="2498760" y="317016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8"/>
          <p:cNvGrpSpPr/>
          <p:nvPr/>
        </p:nvGrpSpPr>
        <p:grpSpPr>
          <a:xfrm>
            <a:off x="4068720" y="2637000"/>
            <a:ext cx="504720" cy="866520"/>
            <a:chOff x="4068720" y="2637000"/>
            <a:chExt cx="504720" cy="866520"/>
          </a:xfrm>
        </p:grpSpPr>
        <p:sp>
          <p:nvSpPr>
            <p:cNvPr id="333" name="Text Box 19"/>
            <p:cNvSpPr/>
            <p:nvPr/>
          </p:nvSpPr>
          <p:spPr>
            <a:xfrm>
              <a:off x="4068720" y="2637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0"/>
            <p:cNvSpPr/>
            <p:nvPr/>
          </p:nvSpPr>
          <p:spPr>
            <a:xfrm>
              <a:off x="4068720" y="29829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>
              <a:off x="4083120" y="309744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22"/>
          <p:cNvSpPr/>
          <p:nvPr/>
        </p:nvSpPr>
        <p:spPr>
          <a:xfrm>
            <a:off x="1044720" y="3573360"/>
            <a:ext cx="12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原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3"/>
              <p:cNvSpPr txBox="1"/>
              <p:nvPr/>
            </p:nvSpPr>
            <p:spPr>
              <a:xfrm>
                <a:off x="2050920" y="3573360"/>
                <a:ext cx="36734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6"/>
          <p:cNvSpPr/>
          <p:nvPr/>
        </p:nvSpPr>
        <p:spPr>
          <a:xfrm>
            <a:off x="0" y="62064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括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(3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y+6z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500720" y="141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x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y+6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360" y="2781360"/>
            <a:ext cx="720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b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(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y)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4645080" y="2781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4068720" y="4292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+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57200" y="21816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2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说出代数式、代数式的值等概念，规范代数式的书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，会列代数式及求代数式的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说出单项式、多项式、整式、同类项等概念，会合并同类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说出去添括号法则及整式加减的法则，能熟练进行整式的加减运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24000" y="83664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目标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324000" y="765000"/>
            <a:ext cx="8000640" cy="581400"/>
            <a:chOff x="324000" y="765000"/>
            <a:chExt cx="8000640" cy="581400"/>
          </a:xfrm>
        </p:grpSpPr>
        <p:sp>
          <p:nvSpPr>
            <p:cNvPr id="344" name="Text Box 3"/>
            <p:cNvSpPr/>
            <p:nvPr/>
          </p:nvSpPr>
          <p:spPr>
            <a:xfrm>
              <a:off x="324000" y="765000"/>
              <a:ext cx="800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求整式                    与                     的差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4"/>
                <p:cNvSpPr txBox="1"/>
                <p:nvPr/>
              </p:nvSpPr>
              <p:spPr>
                <a:xfrm>
                  <a:off x="2287080" y="811080"/>
                  <a:ext cx="225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5"/>
                <p:cNvSpPr txBox="1"/>
                <p:nvPr/>
              </p:nvSpPr>
              <p:spPr>
                <a:xfrm>
                  <a:off x="5008320" y="811080"/>
                  <a:ext cx="2326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Text Box 6"/>
          <p:cNvSpPr/>
          <p:nvPr/>
        </p:nvSpPr>
        <p:spPr>
          <a:xfrm>
            <a:off x="900000" y="1773360"/>
            <a:ext cx="44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：由题意可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270080" y="2492280"/>
            <a:ext cx="524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-7x-2)-(-2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+4x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x</a:t>
            </a:r>
            <a:r>
              <a:rPr b="1" lang="zh-CN" sz="3600" spc="-1" strike="noStrike" baseline="30000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-7x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-2+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2x</a:t>
            </a:r>
            <a:r>
              <a:rPr b="1" lang="zh-CN" sz="3600" spc="-1" strike="noStrike" baseline="30000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-4x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=3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-11x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WordArt 6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39434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qgsx600a"/>
          <p:cNvPicPr/>
          <p:nvPr/>
        </p:nvPicPr>
        <p:blipFill>
          <a:blip r:embed="rId1"/>
          <a:stretch/>
        </p:blipFill>
        <p:spPr>
          <a:xfrm>
            <a:off x="152280" y="1523880"/>
            <a:ext cx="8610840" cy="4419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79280" y="549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知识梳理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97164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5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内容：课本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5-9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概念部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95280" y="33577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时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95280" y="2349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方法：背诵，组内交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95280" y="4365720"/>
            <a:ext cx="81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要求：能熟练理解概念部分，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练解决相关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549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指导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9640" y="1197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33520" y="184464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班学生总人数为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男生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生人数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68360" y="3141720"/>
            <a:ext cx="7837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数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意义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" y="3933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整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奇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偶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33520" y="4726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苹果售价为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苹果售价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7928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检测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619280" y="2349360"/>
            <a:ext cx="18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076720" y="3141720"/>
            <a:ext cx="27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差的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364000" y="3860640"/>
            <a:ext cx="8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812000" y="393372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7596360" y="4653000"/>
            <a:ext cx="115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am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80880" y="260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 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代数式的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468360" y="836640"/>
            <a:ext cx="7315200" cy="1065600"/>
            <a:chOff x="468360" y="836640"/>
            <a:chExt cx="7315200" cy="1065600"/>
          </a:xfrm>
        </p:grpSpPr>
        <p:sp>
          <p:nvSpPr>
            <p:cNvPr id="217" name="Text Box 4"/>
            <p:cNvSpPr/>
            <p:nvPr/>
          </p:nvSpPr>
          <p:spPr>
            <a:xfrm>
              <a:off x="468360" y="109584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代数式                  的值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5"/>
            <p:cNvGrpSpPr/>
            <p:nvPr/>
          </p:nvGrpSpPr>
          <p:grpSpPr>
            <a:xfrm>
              <a:off x="4964040" y="836640"/>
              <a:ext cx="1523880" cy="1065600"/>
              <a:chOff x="4964040" y="836640"/>
              <a:chExt cx="1523880" cy="1065600"/>
            </a:xfrm>
          </p:grpSpPr>
          <p:sp>
            <p:nvSpPr>
              <p:cNvPr id="219" name="Text Box 6"/>
              <p:cNvSpPr/>
              <p:nvPr/>
            </p:nvSpPr>
            <p:spPr>
              <a:xfrm>
                <a:off x="4964040" y="83664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7"/>
              <p:cNvSpPr/>
              <p:nvPr/>
            </p:nvSpPr>
            <p:spPr>
              <a:xfrm>
                <a:off x="4992480" y="1381680"/>
                <a:ext cx="141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4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"/>
              <p:cNvSpPr/>
              <p:nvPr/>
            </p:nvSpPr>
            <p:spPr>
              <a:xfrm>
                <a:off x="4964040" y="1474560"/>
                <a:ext cx="1219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9"/>
          <p:cNvGrpSpPr/>
          <p:nvPr/>
        </p:nvGrpSpPr>
        <p:grpSpPr>
          <a:xfrm>
            <a:off x="250920" y="3359160"/>
            <a:ext cx="8458200" cy="846720"/>
            <a:chOff x="250920" y="3359160"/>
            <a:chExt cx="8458200" cy="846720"/>
          </a:xfrm>
        </p:grpSpPr>
        <p:sp>
          <p:nvSpPr>
            <p:cNvPr id="223" name="Text Box 10"/>
            <p:cNvSpPr/>
            <p:nvPr/>
          </p:nvSpPr>
          <p:spPr>
            <a:xfrm>
              <a:off x="250920" y="356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     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代数式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值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1"/>
            <p:cNvGrpSpPr/>
            <p:nvPr/>
          </p:nvGrpSpPr>
          <p:grpSpPr>
            <a:xfrm>
              <a:off x="2079720" y="3376080"/>
              <a:ext cx="504720" cy="829800"/>
              <a:chOff x="2079720" y="3376080"/>
              <a:chExt cx="504720" cy="829800"/>
            </a:xfrm>
          </p:grpSpPr>
          <p:sp>
            <p:nvSpPr>
              <p:cNvPr id="225" name="Text Box 12"/>
              <p:cNvSpPr/>
              <p:nvPr/>
            </p:nvSpPr>
            <p:spPr>
              <a:xfrm>
                <a:off x="2079720" y="33760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3"/>
              <p:cNvSpPr/>
              <p:nvPr/>
            </p:nvSpPr>
            <p:spPr>
              <a:xfrm>
                <a:off x="2079720" y="368532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2094120" y="3787560"/>
                <a:ext cx="287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3327480" y="3359160"/>
              <a:ext cx="504720" cy="829800"/>
              <a:chOff x="3327480" y="3359160"/>
              <a:chExt cx="504720" cy="829800"/>
            </a:xfrm>
          </p:grpSpPr>
          <p:sp>
            <p:nvSpPr>
              <p:cNvPr id="229" name="Text Box 16"/>
              <p:cNvSpPr/>
              <p:nvPr/>
            </p:nvSpPr>
            <p:spPr>
              <a:xfrm>
                <a:off x="3327480" y="335916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7"/>
              <p:cNvSpPr/>
              <p:nvPr/>
            </p:nvSpPr>
            <p:spPr>
              <a:xfrm>
                <a:off x="3327480" y="366840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3341880" y="3770640"/>
                <a:ext cx="287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Text Box 19"/>
          <p:cNvSpPr/>
          <p:nvPr/>
        </p:nvSpPr>
        <p:spPr>
          <a:xfrm>
            <a:off x="539640" y="1773360"/>
            <a:ext cx="35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=6,b=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原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2268360" y="2492280"/>
                <a:ext cx="1901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21"/>
          <p:cNvSpPr/>
          <p:nvPr/>
        </p:nvSpPr>
        <p:spPr>
          <a:xfrm>
            <a:off x="900000" y="422100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：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 =    ,b =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2"/>
              <p:cNvSpPr txBox="1"/>
              <p:nvPr/>
            </p:nvSpPr>
            <p:spPr>
              <a:xfrm>
                <a:off x="2629080" y="4076640"/>
                <a:ext cx="528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3"/>
              <p:cNvSpPr txBox="1"/>
              <p:nvPr/>
            </p:nvSpPr>
            <p:spPr>
              <a:xfrm>
                <a:off x="4140360" y="4005360"/>
                <a:ext cx="385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4"/>
              <p:cNvSpPr txBox="1"/>
              <p:nvPr/>
            </p:nvSpPr>
            <p:spPr>
              <a:xfrm>
                <a:off x="2844720" y="4941720"/>
                <a:ext cx="26812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25"/>
          <p:cNvSpPr/>
          <p:nvPr/>
        </p:nvSpPr>
        <p:spPr>
          <a:xfrm>
            <a:off x="2340000" y="5661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2340000" y="6310440"/>
            <a:ext cx="4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8360" y="1917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理解问题中的数量关系，特别要弄清问题中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差、积、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大、小、多、少、倍、几分之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词语的意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39640" y="39337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弄清问题中的运算顺序，一般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先读的先写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4000" y="692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展示点评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1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5"/>
          <p:cNvSpPr/>
          <p:nvPr/>
        </p:nvSpPr>
        <p:spPr>
          <a:xfrm>
            <a:off x="97164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95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内容：课本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5-1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概念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5280" y="3357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时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95280" y="2349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方法：理解、识记，组内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95280" y="4365720"/>
            <a:ext cx="792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要求：能熟练理解概念能熟练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握基本题型的解题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79280" y="549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指导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2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068"/>
          <p:cNvSpPr/>
          <p:nvPr/>
        </p:nvSpPr>
        <p:spPr>
          <a:xfrm>
            <a:off x="0" y="112536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下列式子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3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39"/>
          <p:cNvSpPr/>
          <p:nvPr/>
        </p:nvSpPr>
        <p:spPr>
          <a:xfrm>
            <a:off x="1800" y="907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44"/>
          <p:cNvSpPr/>
          <p:nvPr/>
        </p:nvSpPr>
        <p:spPr>
          <a:xfrm>
            <a:off x="250920" y="32860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是单项式，哪些是多项式？哪些是整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55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1844640"/>
                <a:ext cx="931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8"/>
              <p:cNvSpPr txBox="1"/>
              <p:nvPr/>
            </p:nvSpPr>
            <p:spPr>
              <a:xfrm>
                <a:off x="2771640" y="1844640"/>
                <a:ext cx="17290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53"/>
          <p:cNvGrpSpPr/>
          <p:nvPr/>
        </p:nvGrpSpPr>
        <p:grpSpPr>
          <a:xfrm>
            <a:off x="6156360" y="1844640"/>
            <a:ext cx="1218240" cy="1006200"/>
            <a:chOff x="6156360" y="1844640"/>
            <a:chExt cx="1218240" cy="1006200"/>
          </a:xfrm>
        </p:grpSpPr>
        <mc:AlternateContent>
          <mc:Choice xmlns:a14="http://schemas.microsoft.com/office/drawing/2010/main" Requires="a14">
            <p:sp>
              <p:nvSpPr>
                <p:cNvPr id="257" name="Object 10"/>
                <p:cNvSpPr txBox="1"/>
                <p:nvPr/>
              </p:nvSpPr>
              <p:spPr>
                <a:xfrm>
                  <a:off x="6156360" y="1844640"/>
                  <a:ext cx="925200" cy="100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Rectangle 1063"/>
            <p:cNvSpPr/>
            <p:nvPr/>
          </p:nvSpPr>
          <p:spPr>
            <a:xfrm>
              <a:off x="6912000" y="20750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4572000" y="1125360"/>
            <a:ext cx="3384720" cy="713880"/>
            <a:chOff x="4572000" y="1125360"/>
            <a:chExt cx="3384720" cy="713880"/>
          </a:xfrm>
        </p:grpSpPr>
        <p:sp>
          <p:nvSpPr>
            <p:cNvPr id="260" name="Rectangle 1064"/>
            <p:cNvSpPr/>
            <p:nvPr/>
          </p:nvSpPr>
          <p:spPr>
            <a:xfrm>
              <a:off x="4572000" y="112536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-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5xy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67"/>
            <p:cNvSpPr/>
            <p:nvPr/>
          </p:nvSpPr>
          <p:spPr>
            <a:xfrm>
              <a:off x="6588000" y="119664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、－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1044720" y="1989000"/>
                <a:ext cx="631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6"/>
              <p:cNvSpPr txBox="1"/>
              <p:nvPr/>
            </p:nvSpPr>
            <p:spPr>
              <a:xfrm>
                <a:off x="4429080" y="1917720"/>
                <a:ext cx="17272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1111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79280" y="333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复习检测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汉仪粗宋简"/>
              </a:rPr>
              <a:t>2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9"/>
              <p:cNvSpPr txBox="1"/>
              <p:nvPr/>
            </p:nvSpPr>
            <p:spPr>
              <a:xfrm>
                <a:off x="2268360" y="4151160"/>
                <a:ext cx="5329440" cy="24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单项式有：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多项式有：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整式有：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2:35:43Z</dcterms:created>
  <dc:creator>Administrator</dc:creator>
  <dc:description/>
  <cp:keywords/>
  <dc:language>en-US</dc:language>
  <cp:lastModifiedBy>AutoBVT</cp:lastModifiedBy>
  <dcterms:modified xsi:type="dcterms:W3CDTF">2015-12-02T02:24:08Z</dcterms:modified>
  <cp:revision>3</cp:revision>
  <dc:subject/>
  <dc:title>整式的加减(复习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