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030-3EF5-41C7-8710-35F19350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DD9-0BA3-4070-8E15-8A36174E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EE0-3C92-4769-A893-B2FDC0CD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4EA-EAA6-499B-B517-212A29B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5244-2053-4A98-9887-801FBC07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776-D254-4BC5-97B5-753A3350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3024-A5B4-4C16-987F-2543976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2896-80F5-47B7-BDBC-0AAFE012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CCD-BA79-42DF-8DEC-DB4F6D0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5CBF-5B87-4C89-8839-4B2676B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7ED1-2D15-4B2D-9602-E2677DF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8FB-5005-4862-A94F-A5EF27D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79D-7EE4-4B55-BA86-9704E3A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D5E-6AE0-4FDC-AC7C-FFF94DA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336-A175-4A07-855D-FB311B5C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C8B9-CC94-4626-B264-2B45849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6FB-5B61-447E-B2CE-4593A93B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88BD-048E-403C-BF76-6CE1174A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62B5-F257-4A9D-9597-EA731022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17EC-DBB2-4540-8EF3-57E585C6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C7FB-37FB-4C4F-8347-149963D5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68C3-F5A9-47BC-BFC4-0AA4DD6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80B-A4D0-4919-82F9-9C965A8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D4F0-990B-4E74-9136-8D1D46F6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063E-F67D-4086-A462-BA60538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ED8A-8F94-4B25-91E0-65E28C8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1C43-3B28-426A-8CBD-96D14CC7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EBBC-1C73-4DCC-BDE0-A855A67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7748-E70B-468B-9379-927C5FE9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480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30560" y="10270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480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30560" y="3739680"/>
            <a:ext cx="2576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6686-BCF5-4B54-9649-2FDA3938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A27-44F5-4175-9710-25478292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5DA-E81A-4B65-AD7E-D1E4D187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646128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D49-2C67-4EE4-AB24-3154701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60D-3B2E-48D1-8392-2169D13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7396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1E2-7C98-4C94-88AA-63C7E4B5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027080"/>
            <a:ext cx="39052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002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3BA-4CF2-455B-A0A7-89E5A15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DFB-41A5-4F09-AB23-31B3BE9A26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FEE-C7AB-430E-87C5-83298B735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0" t="0" r="0" b="113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9e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47AA-9F72-4650-AC73-CB6FA3C36319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D1C-7BCF-43E6-964A-9EFCE685970F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cd620"/>
              </a:buClr>
              <a:buSzPct val="7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8ff3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560" t="168" r="1581" b="190"/>
          <a:stretch/>
        </p:blipFill>
        <p:spPr>
          <a:xfrm>
            <a:off x="0" y="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9e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0028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cd620"/>
              </a:buClr>
              <a:buSzPct val="7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8ff3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a01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618-FF19-494C-89F5-8DD1FC6330B5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0665-A4E8-4BBF-99E5-FD98104609EC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440" y="1466640"/>
            <a:ext cx="88804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c9e00"/>
                </a:solidFill>
                <a:latin typeface="华文行楷"/>
                <a:ea typeface="华文行楷"/>
              </a:rPr>
              <a:t>§</a:t>
            </a:r>
            <a:r>
              <a:rPr b="1" lang="zh-CN" sz="6000" spc="-1" strike="noStrike">
                <a:solidFill>
                  <a:srgbClr val="3f3f3f"/>
                </a:solidFill>
                <a:latin typeface="华文新魏"/>
                <a:ea typeface="华文新魏"/>
              </a:rPr>
              <a:t>4.2.1 </a:t>
            </a:r>
            <a:br>
              <a:rPr sz="6000"/>
            </a:br>
            <a:r>
              <a:rPr b="1" lang="zh-CN" sz="6000" spc="-1" strike="noStrike">
                <a:solidFill>
                  <a:srgbClr val="3f3f3f"/>
                </a:solidFill>
                <a:latin typeface="华文新魏"/>
                <a:ea typeface="华文新魏"/>
              </a:rPr>
              <a:t>由立体图形到视图</a:t>
            </a:r>
            <a:endParaRPr b="1" lang="en-US" sz="6000" spc="-1" strike="noStrike">
              <a:solidFill>
                <a:srgbClr val="3c9e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0480" y="538200"/>
            <a:ext cx="800244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（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组合体的三视图如下图所示：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44" name="自由曲线 283"/>
          <p:cNvSpPr/>
          <p:nvPr/>
        </p:nvSpPr>
        <p:spPr>
          <a:xfrm>
            <a:off x="5262480" y="4308480"/>
            <a:ext cx="360" cy="1440"/>
          </a:xfrm>
          <a:prstGeom prst="pie">
            <a:avLst/>
          </a:prstGeom>
          <a:noFill/>
          <a:ln w="93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436760" y="1589040"/>
            <a:ext cx="5815080" cy="5078880"/>
            <a:chOff x="1436760" y="1589040"/>
            <a:chExt cx="5815080" cy="5078880"/>
          </a:xfrm>
        </p:grpSpPr>
        <p:grpSp>
          <p:nvGrpSpPr>
            <p:cNvPr id="246" name="Group 5"/>
            <p:cNvGrpSpPr/>
            <p:nvPr/>
          </p:nvGrpSpPr>
          <p:grpSpPr>
            <a:xfrm>
              <a:off x="1436760" y="1589040"/>
              <a:ext cx="2743200" cy="2580480"/>
              <a:chOff x="1436760" y="1589040"/>
              <a:chExt cx="2743200" cy="2580480"/>
            </a:xfrm>
          </p:grpSpPr>
          <p:sp>
            <p:nvSpPr>
              <p:cNvPr id="247" name="Text Box 6"/>
              <p:cNvSpPr/>
              <p:nvPr/>
            </p:nvSpPr>
            <p:spPr>
              <a:xfrm>
                <a:off x="2126880" y="3709800"/>
                <a:ext cx="11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主视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1436760" y="25034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8"/>
              <p:cNvSpPr/>
              <p:nvPr/>
            </p:nvSpPr>
            <p:spPr>
              <a:xfrm>
                <a:off x="2351160" y="25034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9"/>
              <p:cNvSpPr/>
              <p:nvPr/>
            </p:nvSpPr>
            <p:spPr>
              <a:xfrm>
                <a:off x="3265560" y="25034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0"/>
              <p:cNvSpPr/>
              <p:nvPr/>
            </p:nvSpPr>
            <p:spPr>
              <a:xfrm>
                <a:off x="1436760" y="15890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1"/>
            <p:cNvGrpSpPr/>
            <p:nvPr/>
          </p:nvGrpSpPr>
          <p:grpSpPr>
            <a:xfrm>
              <a:off x="5315040" y="1589040"/>
              <a:ext cx="1833840" cy="2580480"/>
              <a:chOff x="5315040" y="1589040"/>
              <a:chExt cx="1833840" cy="2580480"/>
            </a:xfrm>
          </p:grpSpPr>
          <p:sp>
            <p:nvSpPr>
              <p:cNvPr id="253" name="Text Box 12"/>
              <p:cNvSpPr/>
              <p:nvPr/>
            </p:nvSpPr>
            <p:spPr>
              <a:xfrm>
                <a:off x="5864040" y="37098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左视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>
                <a:off x="5315040" y="25034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>
                <a:off x="6229440" y="2503440"/>
                <a:ext cx="91944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5"/>
              <p:cNvSpPr/>
              <p:nvPr/>
            </p:nvSpPr>
            <p:spPr>
              <a:xfrm>
                <a:off x="5315040" y="15890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6"/>
            <p:cNvGrpSpPr/>
            <p:nvPr/>
          </p:nvGrpSpPr>
          <p:grpSpPr>
            <a:xfrm>
              <a:off x="1436760" y="4340160"/>
              <a:ext cx="2743200" cy="2327760"/>
              <a:chOff x="1436760" y="4340160"/>
              <a:chExt cx="2743200" cy="2327760"/>
            </a:xfrm>
          </p:grpSpPr>
          <p:sp>
            <p:nvSpPr>
              <p:cNvPr id="258" name="Text Box 17"/>
              <p:cNvSpPr/>
              <p:nvPr/>
            </p:nvSpPr>
            <p:spPr>
              <a:xfrm>
                <a:off x="2310840" y="62082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俯视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8"/>
              <p:cNvSpPr/>
              <p:nvPr/>
            </p:nvSpPr>
            <p:spPr>
              <a:xfrm>
                <a:off x="1436760" y="434016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9"/>
              <p:cNvSpPr/>
              <p:nvPr/>
            </p:nvSpPr>
            <p:spPr>
              <a:xfrm>
                <a:off x="2351160" y="434016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>
                <a:off x="3265560" y="434016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>
                <a:off x="1436760" y="525456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Line 22"/>
            <p:cNvSpPr/>
            <p:nvPr/>
          </p:nvSpPr>
          <p:spPr>
            <a:xfrm>
              <a:off x="2516400" y="1589040"/>
              <a:ext cx="258768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3"/>
            <p:cNvSpPr/>
            <p:nvPr/>
          </p:nvSpPr>
          <p:spPr>
            <a:xfrm>
              <a:off x="1436760" y="3709800"/>
              <a:ext cx="1080" cy="4572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>
              <a:off x="4179960" y="3709800"/>
              <a:ext cx="1080" cy="4572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自由曲线 289"/>
            <p:cNvSpPr/>
            <p:nvPr/>
          </p:nvSpPr>
          <p:spPr>
            <a:xfrm>
              <a:off x="4263840" y="3547800"/>
              <a:ext cx="2988000" cy="2644560"/>
            </a:xfrm>
            <a:prstGeom prst="pie">
              <a:avLst/>
            </a:prstGeom>
            <a:noFill/>
            <a:ln w="936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自由曲线 294"/>
            <p:cNvSpPr/>
            <p:nvPr/>
          </p:nvSpPr>
          <p:spPr>
            <a:xfrm>
              <a:off x="4276440" y="3562560"/>
              <a:ext cx="1076400" cy="753840"/>
            </a:xfrm>
            <a:prstGeom prst="pie">
              <a:avLst/>
            </a:prstGeom>
            <a:noFill/>
            <a:ln w="936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3368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52464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362480" y="3654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43904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619280" y="3654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2533680" y="3654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448080" y="3654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61928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44808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808200" y="617400"/>
            <a:ext cx="66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（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组合体的三视图如下图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84120" y="2905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073280" y="2905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084120" y="568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4362480" y="166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2533680" y="45687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3720" y="26640"/>
            <a:ext cx="646128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行楷"/>
              </a:rPr>
              <a:t>要点归纳</a:t>
            </a:r>
            <a:endParaRPr b="1" lang="en-US" sz="60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0480" y="861480"/>
            <a:ext cx="800244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视图的位置摆放：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视图  左视图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俯视图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25520" y="278460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画三视图应遵循的原则：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长对正，高平齐，宽相等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25520" y="3608280"/>
            <a:ext cx="78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同一物体，由于摆放位置不同，在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同一位置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观察到的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视图可能会不同；同一物体，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在不同位置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观察到的三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也可能会不同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 Black"/>
                <a:ea typeface="华文行楷"/>
              </a:rPr>
              <a:t>              </a:t>
            </a: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新魏"/>
              </a:rPr>
              <a:t>当堂检测</a:t>
            </a:r>
            <a:endParaRPr b="1" lang="en-US" sz="60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40" y="1168200"/>
            <a:ext cx="80042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下列四个几何体中，主视图与左视图相同的几何体有（ ）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    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A. 1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        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B.2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      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C. 3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      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D. 4</a:t>
            </a:r>
            <a:r>
              <a:rPr b="0" lang="zh-CN" sz="20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请你写出一个主视图与左视图相同的立体图形是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________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若一个几何体的三视图形状都相同，则这个几何体可能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是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__________________.(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至少填两种图形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)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39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a018"/>
                </a:solidFill>
                <a:latin typeface="微软雅黑"/>
                <a:ea typeface="微软雅黑"/>
              </a:rPr>
              <a:t> </a:t>
            </a:r>
            <a:endParaRPr b="1" lang="en-US" sz="20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100160" y="2062080"/>
            <a:ext cx="539640" cy="519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838600" y="2041560"/>
            <a:ext cx="365040" cy="534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4164120" y="1835280"/>
            <a:ext cx="761760" cy="931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2"/>
          <a:stretch/>
        </p:blipFill>
        <p:spPr>
          <a:xfrm>
            <a:off x="5592600" y="2041560"/>
            <a:ext cx="725760" cy="7254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7897680" y="116856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927000" y="37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00160" y="5000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正方体，正三棱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9040" y="1026720"/>
            <a:ext cx="800424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如下图是一个由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正方体组成的立体图形，请画出它的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三视图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1809720" y="2495520"/>
            <a:ext cx="76320" cy="7632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886040" y="3363840"/>
            <a:ext cx="121284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778120" y="3363840"/>
            <a:ext cx="121428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3699000" y="3363840"/>
            <a:ext cx="121428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4632480" y="3363840"/>
            <a:ext cx="121428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4305240" y="3665520"/>
            <a:ext cx="1214640" cy="121428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4040280" y="3971880"/>
            <a:ext cx="118404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/>
          <p:cNvSpPr/>
          <p:nvPr/>
        </p:nvSpPr>
        <p:spPr>
          <a:xfrm>
            <a:off x="5224320" y="3665520"/>
            <a:ext cx="1214640" cy="121428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1"/>
          <p:cNvSpPr/>
          <p:nvPr/>
        </p:nvSpPr>
        <p:spPr>
          <a:xfrm>
            <a:off x="4913280" y="3971880"/>
            <a:ext cx="1214640" cy="121464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1886040" y="2451240"/>
            <a:ext cx="1212840" cy="121428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21920" y="262080"/>
            <a:ext cx="800244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解：该组合体的三视图如下图所示：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701640" y="1212840"/>
            <a:ext cx="4572000" cy="2493360"/>
            <a:chOff x="701640" y="1212840"/>
            <a:chExt cx="4572000" cy="2493360"/>
          </a:xfrm>
        </p:grpSpPr>
        <p:sp>
          <p:nvSpPr>
            <p:cNvPr id="309" name="Rectangle 4"/>
            <p:cNvSpPr/>
            <p:nvPr/>
          </p:nvSpPr>
          <p:spPr>
            <a:xfrm>
              <a:off x="70164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161604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253044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344484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435924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701640" y="1212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0"/>
            <p:cNvSpPr/>
            <p:nvPr/>
          </p:nvSpPr>
          <p:spPr>
            <a:xfrm>
              <a:off x="2531520" y="3246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"/>
          <p:cNvGrpSpPr/>
          <p:nvPr/>
        </p:nvGrpSpPr>
        <p:grpSpPr>
          <a:xfrm>
            <a:off x="6137280" y="1212840"/>
            <a:ext cx="2743200" cy="2493360"/>
            <a:chOff x="6137280" y="1212840"/>
            <a:chExt cx="2743200" cy="2493360"/>
          </a:xfrm>
        </p:grpSpPr>
        <p:sp>
          <p:nvSpPr>
            <p:cNvPr id="317" name="Rectangle 12"/>
            <p:cNvSpPr/>
            <p:nvPr/>
          </p:nvSpPr>
          <p:spPr>
            <a:xfrm>
              <a:off x="705168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796608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6137280" y="2127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6137280" y="1212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6"/>
            <p:cNvSpPr/>
            <p:nvPr/>
          </p:nvSpPr>
          <p:spPr>
            <a:xfrm>
              <a:off x="7235640" y="3246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7"/>
          <p:cNvGrpSpPr/>
          <p:nvPr/>
        </p:nvGrpSpPr>
        <p:grpSpPr>
          <a:xfrm>
            <a:off x="701640" y="3876840"/>
            <a:ext cx="4572000" cy="2974320"/>
            <a:chOff x="701640" y="3876840"/>
            <a:chExt cx="4572000" cy="2974320"/>
          </a:xfrm>
        </p:grpSpPr>
        <p:grpSp>
          <p:nvGrpSpPr>
            <p:cNvPr id="323" name="Group 18"/>
            <p:cNvGrpSpPr/>
            <p:nvPr/>
          </p:nvGrpSpPr>
          <p:grpSpPr>
            <a:xfrm>
              <a:off x="701640" y="3876840"/>
              <a:ext cx="4572000" cy="2743200"/>
              <a:chOff x="701640" y="3876840"/>
              <a:chExt cx="4572000" cy="2743200"/>
            </a:xfrm>
          </p:grpSpPr>
          <p:sp>
            <p:nvSpPr>
              <p:cNvPr id="324" name="Rectangle 19"/>
              <p:cNvSpPr/>
              <p:nvPr/>
            </p:nvSpPr>
            <p:spPr>
              <a:xfrm>
                <a:off x="701640" y="3876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0"/>
              <p:cNvSpPr/>
              <p:nvPr/>
            </p:nvSpPr>
            <p:spPr>
              <a:xfrm>
                <a:off x="2530440" y="3876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1"/>
              <p:cNvSpPr/>
              <p:nvPr/>
            </p:nvSpPr>
            <p:spPr>
              <a:xfrm>
                <a:off x="1616040" y="3876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2"/>
              <p:cNvSpPr/>
              <p:nvPr/>
            </p:nvSpPr>
            <p:spPr>
              <a:xfrm>
                <a:off x="3444840" y="47912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3"/>
              <p:cNvSpPr/>
              <p:nvPr/>
            </p:nvSpPr>
            <p:spPr>
              <a:xfrm>
                <a:off x="3444840" y="3876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4"/>
              <p:cNvSpPr/>
              <p:nvPr/>
            </p:nvSpPr>
            <p:spPr>
              <a:xfrm>
                <a:off x="4359240" y="47912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5"/>
              <p:cNvSpPr/>
              <p:nvPr/>
            </p:nvSpPr>
            <p:spPr>
              <a:xfrm>
                <a:off x="4359240" y="57056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6"/>
              <p:cNvSpPr/>
              <p:nvPr/>
            </p:nvSpPr>
            <p:spPr>
              <a:xfrm>
                <a:off x="3444840" y="57056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27"/>
            <p:cNvSpPr/>
            <p:nvPr/>
          </p:nvSpPr>
          <p:spPr>
            <a:xfrm>
              <a:off x="2336400" y="639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20480" y="353520"/>
            <a:ext cx="800244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在桌上，有一个由若干个完全相同的小正方体堆成的几何体，如图所示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）请画出这个几何体的三视图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）若将此几何体的表面喷上红漆（放在桌面上的一面不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喷），则三个面上是红色的小正方体有几个？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4129200" y="3286080"/>
            <a:ext cx="3070080" cy="2428560"/>
            <a:chOff x="4129200" y="3286080"/>
            <a:chExt cx="3070080" cy="2428560"/>
          </a:xfrm>
        </p:grpSpPr>
        <p:grpSp>
          <p:nvGrpSpPr>
            <p:cNvPr id="335" name="Group 4"/>
            <p:cNvGrpSpPr/>
            <p:nvPr/>
          </p:nvGrpSpPr>
          <p:grpSpPr>
            <a:xfrm>
              <a:off x="4129200" y="4194000"/>
              <a:ext cx="3070080" cy="1520640"/>
              <a:chOff x="4129200" y="4194000"/>
              <a:chExt cx="3070080" cy="1520640"/>
            </a:xfrm>
          </p:grpSpPr>
          <p:sp>
            <p:nvSpPr>
              <p:cNvPr id="336" name="AutoShape 5"/>
              <p:cNvSpPr/>
              <p:nvPr/>
            </p:nvSpPr>
            <p:spPr>
              <a:xfrm>
                <a:off x="4437000" y="4194000"/>
                <a:ext cx="1213920" cy="121464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utoShape 6"/>
              <p:cNvSpPr/>
              <p:nvPr/>
            </p:nvSpPr>
            <p:spPr>
              <a:xfrm>
                <a:off x="4129200" y="4500720"/>
                <a:ext cx="1213920" cy="121392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7"/>
              <p:cNvSpPr/>
              <p:nvPr/>
            </p:nvSpPr>
            <p:spPr>
              <a:xfrm>
                <a:off x="5044680" y="4500720"/>
                <a:ext cx="1212480" cy="121392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8"/>
              <p:cNvSpPr/>
              <p:nvPr/>
            </p:nvSpPr>
            <p:spPr>
              <a:xfrm>
                <a:off x="5984640" y="4500720"/>
                <a:ext cx="1214640" cy="121392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AutoShape 9"/>
            <p:cNvSpPr/>
            <p:nvPr/>
          </p:nvSpPr>
          <p:spPr>
            <a:xfrm>
              <a:off x="4414320" y="3286080"/>
              <a:ext cx="1214280" cy="12146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0"/>
            <p:cNvSpPr/>
            <p:nvPr/>
          </p:nvSpPr>
          <p:spPr>
            <a:xfrm>
              <a:off x="5022000" y="3587040"/>
              <a:ext cx="121284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20480" y="158760"/>
            <a:ext cx="800244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何体的三视图如下图所示：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5656320" y="752400"/>
            <a:ext cx="1828800" cy="2507760"/>
            <a:chOff x="5656320" y="752400"/>
            <a:chExt cx="1828800" cy="2507760"/>
          </a:xfrm>
        </p:grpSpPr>
        <p:sp>
          <p:nvSpPr>
            <p:cNvPr id="344" name="Rectangle 4"/>
            <p:cNvSpPr/>
            <p:nvPr/>
          </p:nvSpPr>
          <p:spPr>
            <a:xfrm>
              <a:off x="5656320" y="75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5656320" y="1666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6570720" y="75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6570720" y="1666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6319080" y="2800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9"/>
          <p:cNvGrpSpPr/>
          <p:nvPr/>
        </p:nvGrpSpPr>
        <p:grpSpPr>
          <a:xfrm>
            <a:off x="2055960" y="752400"/>
            <a:ext cx="2743200" cy="2507760"/>
            <a:chOff x="2055960" y="752400"/>
            <a:chExt cx="2743200" cy="2507760"/>
          </a:xfrm>
        </p:grpSpPr>
        <p:sp>
          <p:nvSpPr>
            <p:cNvPr id="350" name="Rectangle 10"/>
            <p:cNvSpPr/>
            <p:nvPr/>
          </p:nvSpPr>
          <p:spPr>
            <a:xfrm>
              <a:off x="2055960" y="1666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"/>
            <p:cNvSpPr/>
            <p:nvPr/>
          </p:nvSpPr>
          <p:spPr>
            <a:xfrm>
              <a:off x="2970360" y="75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"/>
            <p:cNvSpPr/>
            <p:nvPr/>
          </p:nvSpPr>
          <p:spPr>
            <a:xfrm>
              <a:off x="2970360" y="1666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3884760" y="1666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4"/>
            <p:cNvSpPr/>
            <p:nvPr/>
          </p:nvSpPr>
          <p:spPr>
            <a:xfrm>
              <a:off x="2055960" y="75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3153960" y="2800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6"/>
          <p:cNvGrpSpPr/>
          <p:nvPr/>
        </p:nvGrpSpPr>
        <p:grpSpPr>
          <a:xfrm>
            <a:off x="2055960" y="3355920"/>
            <a:ext cx="2743200" cy="2491920"/>
            <a:chOff x="2055960" y="3355920"/>
            <a:chExt cx="2743200" cy="2491920"/>
          </a:xfrm>
        </p:grpSpPr>
        <p:sp>
          <p:nvSpPr>
            <p:cNvPr id="357" name="Rectangle 17"/>
            <p:cNvSpPr/>
            <p:nvPr/>
          </p:nvSpPr>
          <p:spPr>
            <a:xfrm>
              <a:off x="2055960" y="42703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8"/>
            <p:cNvSpPr/>
            <p:nvPr/>
          </p:nvSpPr>
          <p:spPr>
            <a:xfrm>
              <a:off x="3884760" y="42703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9"/>
            <p:cNvSpPr/>
            <p:nvPr/>
          </p:nvSpPr>
          <p:spPr>
            <a:xfrm>
              <a:off x="2970360" y="42703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0"/>
            <p:cNvSpPr/>
            <p:nvPr/>
          </p:nvSpPr>
          <p:spPr>
            <a:xfrm>
              <a:off x="2055960" y="33559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1"/>
            <p:cNvSpPr/>
            <p:nvPr/>
          </p:nvSpPr>
          <p:spPr>
            <a:xfrm>
              <a:off x="2970360" y="5388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19040" y="236520"/>
            <a:ext cx="800424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如图是由几个小立方体堆成的几何体，观察图形，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解答下列问题：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图中共有多少个小立方体？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画出这个几何体的主视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图与俯视图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画出用小正方形中的数字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表示在该位置的小立方块的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数的俯视图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5054760" y="1063800"/>
            <a:ext cx="3644280" cy="4554360"/>
            <a:chOff x="5054760" y="1063800"/>
            <a:chExt cx="3644280" cy="4554360"/>
          </a:xfrm>
        </p:grpSpPr>
        <p:grpSp>
          <p:nvGrpSpPr>
            <p:cNvPr id="364" name="Group 4"/>
            <p:cNvGrpSpPr/>
            <p:nvPr/>
          </p:nvGrpSpPr>
          <p:grpSpPr>
            <a:xfrm>
              <a:off x="5344920" y="1063800"/>
              <a:ext cx="3354120" cy="4248360"/>
              <a:chOff x="5344920" y="1063800"/>
              <a:chExt cx="3354120" cy="4248360"/>
            </a:xfrm>
          </p:grpSpPr>
          <p:grpSp>
            <p:nvGrpSpPr>
              <p:cNvPr id="365" name="Group 5"/>
              <p:cNvGrpSpPr/>
              <p:nvPr/>
            </p:nvGrpSpPr>
            <p:grpSpPr>
              <a:xfrm>
                <a:off x="5663520" y="1063800"/>
                <a:ext cx="3035520" cy="3946320"/>
                <a:chOff x="5663520" y="1063800"/>
                <a:chExt cx="3035520" cy="3946320"/>
              </a:xfrm>
            </p:grpSpPr>
            <p:sp>
              <p:nvSpPr>
                <p:cNvPr id="366" name="AutoShape 6"/>
                <p:cNvSpPr/>
                <p:nvPr/>
              </p:nvSpPr>
              <p:spPr>
                <a:xfrm>
                  <a:off x="5663520" y="3796560"/>
                  <a:ext cx="1214640" cy="121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7"/>
                <p:cNvSpPr/>
                <p:nvPr/>
              </p:nvSpPr>
              <p:spPr>
                <a:xfrm>
                  <a:off x="6557760" y="3795120"/>
                  <a:ext cx="1213920" cy="121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8"/>
                <p:cNvSpPr/>
                <p:nvPr/>
              </p:nvSpPr>
              <p:spPr>
                <a:xfrm>
                  <a:off x="7476480" y="3795120"/>
                  <a:ext cx="1214640" cy="121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cd620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9"/>
                <p:cNvSpPr/>
                <p:nvPr/>
              </p:nvSpPr>
              <p:spPr>
                <a:xfrm>
                  <a:off x="5663520" y="2883600"/>
                  <a:ext cx="1214640" cy="1215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10"/>
                <p:cNvSpPr/>
                <p:nvPr/>
              </p:nvSpPr>
              <p:spPr>
                <a:xfrm>
                  <a:off x="6557760" y="2882520"/>
                  <a:ext cx="1213920" cy="1215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11"/>
                <p:cNvSpPr/>
                <p:nvPr/>
              </p:nvSpPr>
              <p:spPr>
                <a:xfrm>
                  <a:off x="7486200" y="2882520"/>
                  <a:ext cx="1212840" cy="1215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cd620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12"/>
                <p:cNvSpPr/>
                <p:nvPr/>
              </p:nvSpPr>
              <p:spPr>
                <a:xfrm>
                  <a:off x="5663520" y="1976040"/>
                  <a:ext cx="1214640" cy="1214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13"/>
                <p:cNvSpPr/>
                <p:nvPr/>
              </p:nvSpPr>
              <p:spPr>
                <a:xfrm>
                  <a:off x="6557760" y="1974600"/>
                  <a:ext cx="1213920" cy="1214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cd620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4"/>
                <p:cNvSpPr/>
                <p:nvPr/>
              </p:nvSpPr>
              <p:spPr>
                <a:xfrm>
                  <a:off x="7486200" y="1974600"/>
                  <a:ext cx="1212840" cy="1214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cd620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15"/>
                <p:cNvSpPr/>
                <p:nvPr/>
              </p:nvSpPr>
              <p:spPr>
                <a:xfrm>
                  <a:off x="5663520" y="1063800"/>
                  <a:ext cx="1214640" cy="121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cd620"/>
                </a:soli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AutoShape 16"/>
              <p:cNvSpPr/>
              <p:nvPr/>
            </p:nvSpPr>
            <p:spPr>
              <a:xfrm>
                <a:off x="5344920" y="40978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7"/>
              <p:cNvSpPr/>
              <p:nvPr/>
            </p:nvSpPr>
            <p:spPr>
              <a:xfrm>
                <a:off x="6271560" y="40978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8"/>
              <p:cNvSpPr/>
              <p:nvPr/>
            </p:nvSpPr>
            <p:spPr>
              <a:xfrm>
                <a:off x="7201080" y="40978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19"/>
              <p:cNvSpPr/>
              <p:nvPr/>
            </p:nvSpPr>
            <p:spPr>
              <a:xfrm>
                <a:off x="5344920" y="31888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20"/>
              <p:cNvSpPr/>
              <p:nvPr/>
            </p:nvSpPr>
            <p:spPr>
              <a:xfrm>
                <a:off x="6271560" y="31888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21"/>
              <p:cNvSpPr/>
              <p:nvPr/>
            </p:nvSpPr>
            <p:spPr>
              <a:xfrm>
                <a:off x="5344920" y="2276280"/>
                <a:ext cx="1214280" cy="121392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AutoShape 22"/>
            <p:cNvSpPr/>
            <p:nvPr/>
          </p:nvSpPr>
          <p:spPr>
            <a:xfrm>
              <a:off x="5054760" y="4403880"/>
              <a:ext cx="121392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3"/>
            <p:cNvSpPr/>
            <p:nvPr/>
          </p:nvSpPr>
          <p:spPr>
            <a:xfrm>
              <a:off x="5984280" y="4403880"/>
              <a:ext cx="121392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4"/>
            <p:cNvSpPr/>
            <p:nvPr/>
          </p:nvSpPr>
          <p:spPr>
            <a:xfrm>
              <a:off x="6902640" y="4403880"/>
              <a:ext cx="121428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中共有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小立方块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0840" y="861480"/>
            <a:ext cx="1900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图所示：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1397160" y="1657440"/>
            <a:ext cx="2752560" cy="4439520"/>
            <a:chOff x="1397160" y="1657440"/>
            <a:chExt cx="2752560" cy="4439520"/>
          </a:xfrm>
        </p:grpSpPr>
        <p:sp>
          <p:nvSpPr>
            <p:cNvPr id="388" name="Rectangle 5"/>
            <p:cNvSpPr/>
            <p:nvPr/>
          </p:nvSpPr>
          <p:spPr>
            <a:xfrm>
              <a:off x="1397160" y="34858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139716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1405080" y="25714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323388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3225960" y="34858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231948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1"/>
            <p:cNvSpPr/>
            <p:nvPr/>
          </p:nvSpPr>
          <p:spPr>
            <a:xfrm>
              <a:off x="2311560" y="34858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495520" y="5637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3"/>
            <p:cNvSpPr/>
            <p:nvPr/>
          </p:nvSpPr>
          <p:spPr>
            <a:xfrm>
              <a:off x="3235320" y="25714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2320920" y="25714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1406520" y="165744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6"/>
          <p:cNvGrpSpPr/>
          <p:nvPr/>
        </p:nvGrpSpPr>
        <p:grpSpPr>
          <a:xfrm>
            <a:off x="5051520" y="1657440"/>
            <a:ext cx="2743200" cy="4439520"/>
            <a:chOff x="5051520" y="1657440"/>
            <a:chExt cx="2743200" cy="4439520"/>
          </a:xfrm>
        </p:grpSpPr>
        <p:sp>
          <p:nvSpPr>
            <p:cNvPr id="400" name="Rectangle 17"/>
            <p:cNvSpPr/>
            <p:nvPr/>
          </p:nvSpPr>
          <p:spPr>
            <a:xfrm>
              <a:off x="5051520" y="25714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8"/>
            <p:cNvSpPr/>
            <p:nvPr/>
          </p:nvSpPr>
          <p:spPr>
            <a:xfrm>
              <a:off x="505152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"/>
            <p:cNvSpPr/>
            <p:nvPr/>
          </p:nvSpPr>
          <p:spPr>
            <a:xfrm>
              <a:off x="5051520" y="34858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596592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1"/>
            <p:cNvSpPr/>
            <p:nvPr/>
          </p:nvSpPr>
          <p:spPr>
            <a:xfrm>
              <a:off x="6880320" y="44002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2"/>
            <p:cNvSpPr/>
            <p:nvPr/>
          </p:nvSpPr>
          <p:spPr>
            <a:xfrm>
              <a:off x="5965920" y="34858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3"/>
            <p:cNvSpPr/>
            <p:nvPr/>
          </p:nvSpPr>
          <p:spPr>
            <a:xfrm>
              <a:off x="5991120" y="5637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051520" y="165744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5"/>
            <p:cNvSpPr/>
            <p:nvPr/>
          </p:nvSpPr>
          <p:spPr>
            <a:xfrm>
              <a:off x="5965920" y="2571480"/>
              <a:ext cx="9144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2072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行楷"/>
              </a:rPr>
              <a:t>         </a:t>
            </a: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行楷"/>
              </a:rPr>
              <a:t>学习目标</a:t>
            </a:r>
            <a:endParaRPr b="1" lang="en-US" sz="60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4000" y="1765440"/>
            <a:ext cx="6980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a018"/>
                </a:solidFill>
                <a:latin typeface="华文新魏"/>
                <a:ea typeface="华文新魏"/>
              </a:rPr>
              <a:t>知道三视图的定义，能识别简单的三视图</a:t>
            </a:r>
            <a:r>
              <a:rPr b="1" lang="en-US" sz="3600" spc="-1" strike="noStrike">
                <a:solidFill>
                  <a:srgbClr val="69a018"/>
                </a:solidFill>
                <a:latin typeface="华文新魏"/>
                <a:ea typeface="华文新魏"/>
              </a:rPr>
              <a:t>;</a:t>
            </a:r>
            <a:r>
              <a:rPr b="1" lang="zh-CN" sz="3600" spc="-1" strike="noStrike">
                <a:solidFill>
                  <a:srgbClr val="69a018"/>
                </a:solidFill>
                <a:latin typeface="华文新魏"/>
                <a:ea typeface="华文新魏"/>
              </a:rPr>
              <a:t>会画简单立体图形及一些正方体组合体的三视图</a:t>
            </a:r>
            <a:r>
              <a:rPr b="1" lang="en-US" sz="36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9a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646128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c9e00"/>
                </a:solidFill>
                <a:latin typeface="Arial Black"/>
              </a:rPr>
              <a:t> </a:t>
            </a:r>
            <a:r>
              <a:rPr b="0" lang="zh-CN" sz="2800" spc="-1" strike="noStrike">
                <a:solidFill>
                  <a:srgbClr val="3f3f3f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f3f3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3f3f3f"/>
                </a:solidFill>
                <a:latin typeface="华文新魏"/>
                <a:ea typeface="华文新魏"/>
              </a:rPr>
              <a:t>）如图所示：</a:t>
            </a:r>
            <a:endParaRPr b="1" lang="en-US" sz="2800" spc="-1" strike="noStrike">
              <a:solidFill>
                <a:srgbClr val="3c9e00"/>
              </a:solidFill>
              <a:latin typeface="Arial Blac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74720" y="1327320"/>
          <a:ext cx="4900680" cy="4197240"/>
        </p:xfrm>
        <a:graphic>
          <a:graphicData uri="http://schemas.openxmlformats.org/drawingml/2006/table">
            <a:tbl>
              <a:tblPr/>
              <a:tblGrid>
                <a:gridCol w="1633680"/>
                <a:gridCol w="1633320"/>
                <a:gridCol w="1633680"/>
              </a:tblGrid>
              <a:tr h="200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         </a:t>
                      </a:r>
                      <a:r>
                        <a:rPr b="0" lang="zh-CN" sz="6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          </a:t>
                      </a:r>
                      <a:r>
                        <a:rPr b="0" lang="zh-CN" sz="6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0" lang="zh-CN" sz="6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 </a:t>
                      </a:r>
                      <a:r>
                        <a:rPr b="0" lang="zh-CN" sz="66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r>
                        <a:rPr b="0" lang="zh-CN" sz="6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0" lang="zh-CN" sz="6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0" lang="zh-CN" sz="6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0" lang="zh-CN" sz="6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 </a:t>
                      </a:r>
                      <a:r>
                        <a:rPr b="0" lang="zh-CN" sz="6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0" lang="zh-CN" sz="6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0" lang="zh-CN" sz="6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161640"/>
            <a:ext cx="800424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行楷"/>
              </a:rPr>
              <a:t>          </a:t>
            </a:r>
            <a:r>
              <a:rPr b="1" lang="zh-CN" sz="6000" spc="-1" strike="noStrike">
                <a:solidFill>
                  <a:srgbClr val="3f3f3f"/>
                </a:solidFill>
                <a:latin typeface="Arial Black"/>
                <a:ea typeface="华文行楷"/>
              </a:rPr>
              <a:t>自学指导</a:t>
            </a:r>
            <a:endParaRPr b="1" lang="en-US" sz="6000" spc="-1" strike="noStrike">
              <a:solidFill>
                <a:srgbClr val="3c9e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1920" y="1467000"/>
            <a:ext cx="8255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9a018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自学内容：课本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P</a:t>
            </a:r>
            <a:r>
              <a:rPr b="1" lang="zh-CN" sz="2800" spc="-1" strike="noStrike" baseline="-25000">
                <a:solidFill>
                  <a:srgbClr val="69a018"/>
                </a:solidFill>
                <a:latin typeface="华文新魏"/>
                <a:ea typeface="华文新魏"/>
              </a:rPr>
              <a:t>123-126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页的内容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自学时间：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分钟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自学方法：独立自学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同桌讨论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自学要求：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认真阅读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P</a:t>
            </a:r>
            <a:r>
              <a:rPr b="1" lang="zh-CN" sz="2800" spc="-1" strike="noStrike" baseline="-25000">
                <a:solidFill>
                  <a:srgbClr val="69a018"/>
                </a:solidFill>
                <a:latin typeface="华文新魏"/>
                <a:ea typeface="华文新魏"/>
              </a:rPr>
              <a:t>123-124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页的内容，知道什么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是中心投影和平行投影以及三视图的概念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阅读完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P</a:t>
            </a:r>
            <a:r>
              <a:rPr b="1" lang="zh-CN" sz="2800" spc="-1" strike="noStrike" baseline="-25000">
                <a:solidFill>
                  <a:srgbClr val="69a018"/>
                </a:solidFill>
                <a:latin typeface="华文新魏"/>
                <a:ea typeface="华文新魏"/>
              </a:rPr>
              <a:t>125-126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页的内容，独立完成课本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P</a:t>
            </a:r>
            <a:r>
              <a:rPr b="1" lang="zh-CN" sz="2800" spc="-1" strike="noStrike" baseline="-25000">
                <a:solidFill>
                  <a:srgbClr val="69a018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页的练习</a:t>
            </a:r>
            <a:r>
              <a:rPr b="1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3720" y="1103040"/>
            <a:ext cx="81489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填空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(1) 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的主视图是（             ），左视图是（              ），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是（              ）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(2)    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的主视图是（            ），左视图是（               ），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是（               ）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(3) 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的主视图是（             ），左视图是（               ），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是（      ）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(4)   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的主视图是（             ），左视图是（           ），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是（      ）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(5)        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的三视图都是（      ）</a:t>
            </a:r>
            <a:r>
              <a:rPr b="1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139760" y="1628640"/>
            <a:ext cx="539640" cy="517680"/>
          </a:xfrm>
          <a:prstGeom prst="cube">
            <a:avLst>
              <a:gd name="adj" fmla="val 25000"/>
            </a:avLst>
          </a:prstGeom>
          <a:solidFill>
            <a:srgbClr val="8cd62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103400" y="2759040"/>
            <a:ext cx="687240" cy="446040"/>
          </a:xfrm>
          <a:prstGeom prst="cube">
            <a:avLst>
              <a:gd name="adj" fmla="val 25000"/>
            </a:avLst>
          </a:prstGeom>
          <a:solidFill>
            <a:srgbClr val="0070c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14360" y="3770280"/>
            <a:ext cx="365040" cy="53496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139760" y="6040440"/>
            <a:ext cx="725400" cy="725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1103400" y="4776840"/>
            <a:ext cx="761760" cy="74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1978200" y="14292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自学检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116160" y="1628640"/>
            <a:ext cx="13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194520" y="162864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392200" y="2168640"/>
            <a:ext cx="14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500280" y="2759040"/>
            <a:ext cx="12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489040" y="327672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564240" y="26877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278160" y="379404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356520" y="3787920"/>
            <a:ext cx="13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392200" y="4313160"/>
            <a:ext cx="5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408480" y="500364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356520" y="50036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489040" y="552276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724200" y="60418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2280" y="163080"/>
            <a:ext cx="8429760" cy="12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3f3f3f"/>
                </a:solidFill>
                <a:latin typeface="华文新魏"/>
                <a:ea typeface="华文新魏"/>
              </a:rPr>
              <a:t>直立放置在水平面上的圆柱形状的三视图是下列图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f3f3f"/>
                </a:solidFill>
                <a:latin typeface="华文新魏"/>
                <a:ea typeface="华文新魏"/>
              </a:rPr>
              <a:t>   形中的（    ）</a:t>
            </a:r>
            <a:endParaRPr b="1" lang="en-US" sz="2400" spc="-1" strike="noStrike">
              <a:solidFill>
                <a:srgbClr val="3c9e00"/>
              </a:solidFill>
              <a:latin typeface="Arial Black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1028520" y="1677960"/>
            <a:ext cx="2722320" cy="1943280"/>
            <a:chOff x="1028520" y="1677960"/>
            <a:chExt cx="2722320" cy="1943280"/>
          </a:xfrm>
        </p:grpSpPr>
        <p:sp>
          <p:nvSpPr>
            <p:cNvPr id="152" name="AutoShape 4"/>
            <p:cNvSpPr/>
            <p:nvPr/>
          </p:nvSpPr>
          <p:spPr>
            <a:xfrm>
              <a:off x="1818720" y="1785960"/>
              <a:ext cx="380880" cy="77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1820880" y="2765160"/>
              <a:ext cx="380880" cy="77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2806200" y="1969920"/>
              <a:ext cx="380880" cy="3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2960640" y="1677960"/>
              <a:ext cx="7902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1028520" y="2765160"/>
              <a:ext cx="7902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俯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1028520" y="1677960"/>
              <a:ext cx="79020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1030680" y="4232160"/>
            <a:ext cx="6960600" cy="2057040"/>
            <a:chOff x="1030680" y="4232160"/>
            <a:chExt cx="6960600" cy="2057040"/>
          </a:xfrm>
        </p:grpSpPr>
        <p:sp>
          <p:nvSpPr>
            <p:cNvPr id="159" name="AutoShape 11"/>
            <p:cNvSpPr/>
            <p:nvPr/>
          </p:nvSpPr>
          <p:spPr>
            <a:xfrm>
              <a:off x="6885360" y="4367160"/>
              <a:ext cx="380880" cy="77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"/>
            <p:cNvSpPr/>
            <p:nvPr/>
          </p:nvSpPr>
          <p:spPr>
            <a:xfrm>
              <a:off x="5783760" y="4703760"/>
              <a:ext cx="380880" cy="3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3"/>
            <p:cNvSpPr/>
            <p:nvPr/>
          </p:nvSpPr>
          <p:spPr>
            <a:xfrm>
              <a:off x="5715000" y="5697720"/>
              <a:ext cx="669600" cy="353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4993200" y="4349520"/>
              <a:ext cx="790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4993200" y="5373720"/>
              <a:ext cx="7902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俯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6"/>
            <p:cNvGrpSpPr/>
            <p:nvPr/>
          </p:nvGrpSpPr>
          <p:grpSpPr>
            <a:xfrm>
              <a:off x="1030680" y="4232160"/>
              <a:ext cx="2888640" cy="1900080"/>
              <a:chOff x="1030680" y="4232160"/>
              <a:chExt cx="2888640" cy="1900080"/>
            </a:xfrm>
          </p:grpSpPr>
          <p:sp>
            <p:nvSpPr>
              <p:cNvPr id="165" name="AutoShape 17"/>
              <p:cNvSpPr/>
              <p:nvPr/>
            </p:nvSpPr>
            <p:spPr>
              <a:xfrm>
                <a:off x="2806560" y="4282920"/>
                <a:ext cx="380880" cy="707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8"/>
              <p:cNvSpPr/>
              <p:nvPr/>
            </p:nvSpPr>
            <p:spPr>
              <a:xfrm>
                <a:off x="1892160" y="5276520"/>
                <a:ext cx="380880" cy="7747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9"/>
              <p:cNvSpPr/>
              <p:nvPr/>
            </p:nvSpPr>
            <p:spPr>
              <a:xfrm>
                <a:off x="1819080" y="4637160"/>
                <a:ext cx="380880" cy="39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20"/>
              <p:cNvSpPr/>
              <p:nvPr/>
            </p:nvSpPr>
            <p:spPr>
              <a:xfrm>
                <a:off x="1030680" y="4254120"/>
                <a:ext cx="79020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主视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21"/>
              <p:cNvSpPr/>
              <p:nvPr/>
            </p:nvSpPr>
            <p:spPr>
              <a:xfrm>
                <a:off x="1030680" y="5276520"/>
                <a:ext cx="790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俯视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22"/>
              <p:cNvSpPr/>
              <p:nvPr/>
            </p:nvSpPr>
            <p:spPr>
              <a:xfrm>
                <a:off x="3129120" y="4232160"/>
                <a:ext cx="790200" cy="90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左视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23"/>
            <p:cNvSpPr/>
            <p:nvPr/>
          </p:nvSpPr>
          <p:spPr>
            <a:xfrm>
              <a:off x="7201080" y="4349520"/>
              <a:ext cx="7902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4"/>
          <p:cNvGrpSpPr/>
          <p:nvPr/>
        </p:nvGrpSpPr>
        <p:grpSpPr>
          <a:xfrm>
            <a:off x="4993200" y="1677960"/>
            <a:ext cx="2998080" cy="1862280"/>
            <a:chOff x="4993200" y="1677960"/>
            <a:chExt cx="2998080" cy="1862280"/>
          </a:xfrm>
        </p:grpSpPr>
        <p:sp>
          <p:nvSpPr>
            <p:cNvPr id="173" name="AutoShape 25"/>
            <p:cNvSpPr/>
            <p:nvPr/>
          </p:nvSpPr>
          <p:spPr>
            <a:xfrm>
              <a:off x="5783400" y="1785960"/>
              <a:ext cx="380880" cy="776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6"/>
            <p:cNvSpPr/>
            <p:nvPr/>
          </p:nvSpPr>
          <p:spPr>
            <a:xfrm>
              <a:off x="6885360" y="1785960"/>
              <a:ext cx="380880" cy="776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7"/>
            <p:cNvSpPr/>
            <p:nvPr/>
          </p:nvSpPr>
          <p:spPr>
            <a:xfrm>
              <a:off x="5783400" y="2938680"/>
              <a:ext cx="380880" cy="39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4993200" y="1677960"/>
              <a:ext cx="790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主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4993200" y="2685960"/>
              <a:ext cx="79020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俯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0"/>
            <p:cNvSpPr/>
            <p:nvPr/>
          </p:nvSpPr>
          <p:spPr>
            <a:xfrm>
              <a:off x="7201080" y="1745640"/>
              <a:ext cx="79020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左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1"/>
          <p:cNvSpPr/>
          <p:nvPr/>
        </p:nvSpPr>
        <p:spPr>
          <a:xfrm>
            <a:off x="1819440" y="3714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6164280" y="36212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1819440" y="6132600"/>
            <a:ext cx="3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6384960" y="6051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2009880" y="92700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920" y="209160"/>
            <a:ext cx="80024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下列几何体中，主视图与俯视图不同的是（     ）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     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A                  B                       C                     D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下列几何体中，有一个几何体的俯视图的形状与其他三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不一样，这个几何体是（     ）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69a018"/>
                </a:solidFill>
                <a:latin typeface="华文新魏"/>
                <a:ea typeface="华文新魏"/>
              </a:rPr>
              <a:t>A                     B                   C                     D</a:t>
            </a:r>
            <a:r>
              <a:rPr b="1" lang="zh-CN" sz="2400" spc="-1" strike="noStrike">
                <a:solidFill>
                  <a:srgbClr val="69a018"/>
                </a:solidFill>
                <a:latin typeface="微软雅黑"/>
                <a:ea typeface="微软雅黑"/>
              </a:rPr>
              <a:t>  </a:t>
            </a: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  <a:p>
            <a:pPr marL="3499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a018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 rot="16200000">
            <a:off x="1156320" y="1028880"/>
            <a:ext cx="644760" cy="1208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2660760" y="1143000"/>
            <a:ext cx="89352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4440240" y="946080"/>
            <a:ext cx="762120" cy="130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6000840" y="946080"/>
            <a:ext cx="1127160" cy="11271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/>
          <p:cNvSpPr/>
          <p:nvPr/>
        </p:nvSpPr>
        <p:spPr>
          <a:xfrm>
            <a:off x="1082520" y="4390920"/>
            <a:ext cx="157824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233880" y="4019400"/>
            <a:ext cx="642960" cy="1209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4821120" y="3929040"/>
            <a:ext cx="762120" cy="16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4"/>
          <a:stretch/>
        </p:blipFill>
        <p:spPr>
          <a:xfrm>
            <a:off x="6324480" y="4417920"/>
            <a:ext cx="1127160" cy="11257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6575400" y="20952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387680" y="33037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0480" y="396360"/>
            <a:ext cx="845316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5.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下图是一组立方体的组合体，该组合体的主视图是</a:t>
            </a:r>
            <a:endParaRPr b="1" lang="en-US" sz="1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（  ）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左视图是（  ）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是（  ）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r>
              <a:rPr b="0" lang="zh-CN" sz="1800" spc="-1" strike="noStrike">
                <a:solidFill>
                  <a:srgbClr val="69a018"/>
                </a:solidFill>
                <a:latin typeface="华文新魏"/>
                <a:ea typeface="华文新魏"/>
              </a:rPr>
              <a:t>（只填图号）</a:t>
            </a:r>
            <a:endParaRPr b="1" lang="en-US" sz="1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9a018"/>
                </a:solidFill>
                <a:latin typeface="微软雅黑"/>
                <a:ea typeface="微软雅黑"/>
              </a:rPr>
              <a:t> </a:t>
            </a:r>
            <a:endParaRPr b="1" lang="en-US" sz="18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1378080" y="2535120"/>
            <a:ext cx="2701800" cy="1825920"/>
            <a:chOff x="1378080" y="2535120"/>
            <a:chExt cx="2701800" cy="1825920"/>
          </a:xfrm>
        </p:grpSpPr>
        <p:sp>
          <p:nvSpPr>
            <p:cNvPr id="197" name="AutoShape 4"/>
            <p:cNvSpPr/>
            <p:nvPr/>
          </p:nvSpPr>
          <p:spPr>
            <a:xfrm>
              <a:off x="1938960" y="2535120"/>
              <a:ext cx="121392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2867400" y="2535120"/>
              <a:ext cx="1212480" cy="12142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53480" y="2844360"/>
              <a:ext cx="1213560" cy="121608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1378080" y="3146040"/>
              <a:ext cx="1214280" cy="121500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879480" y="3146400"/>
            <a:ext cx="7705800" cy="3338640"/>
            <a:chOff x="879480" y="3146400"/>
            <a:chExt cx="7705800" cy="3338640"/>
          </a:xfrm>
        </p:grpSpPr>
        <p:sp>
          <p:nvSpPr>
            <p:cNvPr id="202" name="Rectangle 9"/>
            <p:cNvSpPr/>
            <p:nvPr/>
          </p:nvSpPr>
          <p:spPr>
            <a:xfrm>
              <a:off x="5200560" y="4975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6756480" y="40608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6756480" y="4975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286160" y="4975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6756480" y="3146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4"/>
            <p:cNvSpPr/>
            <p:nvPr/>
          </p:nvSpPr>
          <p:spPr>
            <a:xfrm>
              <a:off x="879480" y="4938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1793880" y="4938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2708280" y="4938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1984320" y="5889600"/>
              <a:ext cx="5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4873680" y="596448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6978960" y="5964480"/>
              <a:ext cx="49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0"/>
            <p:cNvSpPr/>
            <p:nvPr/>
          </p:nvSpPr>
          <p:spPr>
            <a:xfrm>
              <a:off x="7670880" y="3146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1"/>
          <p:cNvSpPr/>
          <p:nvPr/>
        </p:nvSpPr>
        <p:spPr>
          <a:xfrm>
            <a:off x="658800" y="8683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3801960" y="92700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2247840" y="92700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0720" y="473040"/>
            <a:ext cx="80042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由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个大小相同的正方体搭成的几何体如图所示，则关于它的视图说法正确的是（   ）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主视图的面积最大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左视图的面积最大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俯视图的面积最大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a018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三个视图的面积一样大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4589640" y="2496960"/>
            <a:ext cx="3674880" cy="2739960"/>
            <a:chOff x="4589640" y="2496960"/>
            <a:chExt cx="3674880" cy="2739960"/>
          </a:xfrm>
        </p:grpSpPr>
        <p:grpSp>
          <p:nvGrpSpPr>
            <p:cNvPr id="219" name="Group 4"/>
            <p:cNvGrpSpPr/>
            <p:nvPr/>
          </p:nvGrpSpPr>
          <p:grpSpPr>
            <a:xfrm>
              <a:off x="4589640" y="3415680"/>
              <a:ext cx="3674880" cy="1821240"/>
              <a:chOff x="4589640" y="3415680"/>
              <a:chExt cx="3674880" cy="1821240"/>
            </a:xfrm>
          </p:grpSpPr>
          <p:sp>
            <p:nvSpPr>
              <p:cNvPr id="220" name="AutoShape 5"/>
              <p:cNvSpPr/>
              <p:nvPr/>
            </p:nvSpPr>
            <p:spPr>
              <a:xfrm>
                <a:off x="5195880" y="34156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6"/>
              <p:cNvSpPr/>
              <p:nvPr/>
            </p:nvSpPr>
            <p:spPr>
              <a:xfrm>
                <a:off x="6116760" y="3415680"/>
                <a:ext cx="121428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7"/>
              <p:cNvSpPr/>
              <p:nvPr/>
            </p:nvSpPr>
            <p:spPr>
              <a:xfrm>
                <a:off x="7051680" y="3415680"/>
                <a:ext cx="121284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>
                <a:off x="4902120" y="3723480"/>
                <a:ext cx="121464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9"/>
              <p:cNvSpPr/>
              <p:nvPr/>
            </p:nvSpPr>
            <p:spPr>
              <a:xfrm>
                <a:off x="4589640" y="4021560"/>
                <a:ext cx="1213920" cy="121536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AutoShape 10"/>
            <p:cNvSpPr/>
            <p:nvPr/>
          </p:nvSpPr>
          <p:spPr>
            <a:xfrm>
              <a:off x="5197320" y="2496960"/>
              <a:ext cx="1212840" cy="121572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1"/>
          <p:cNvSpPr/>
          <p:nvPr/>
        </p:nvSpPr>
        <p:spPr>
          <a:xfrm>
            <a:off x="5803920" y="998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22280" y="236160"/>
            <a:ext cx="800424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7.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画出下列立方体简单组合的三视图</a:t>
            </a:r>
            <a:r>
              <a:rPr b="0" lang="zh-CN" sz="2800" spc="-1" strike="noStrike">
                <a:solidFill>
                  <a:srgbClr val="69a018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69a018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579600" y="1463760"/>
            <a:ext cx="3349440" cy="3203640"/>
            <a:chOff x="579600" y="1463760"/>
            <a:chExt cx="3349440" cy="3203640"/>
          </a:xfrm>
        </p:grpSpPr>
        <p:grpSp>
          <p:nvGrpSpPr>
            <p:cNvPr id="229" name="Group 4"/>
            <p:cNvGrpSpPr/>
            <p:nvPr/>
          </p:nvGrpSpPr>
          <p:grpSpPr>
            <a:xfrm>
              <a:off x="579600" y="2378160"/>
              <a:ext cx="3349440" cy="1513440"/>
              <a:chOff x="579600" y="2378160"/>
              <a:chExt cx="3349440" cy="1513440"/>
            </a:xfrm>
          </p:grpSpPr>
          <p:sp>
            <p:nvSpPr>
              <p:cNvPr id="230" name="AutoShape 5"/>
              <p:cNvSpPr/>
              <p:nvPr/>
            </p:nvSpPr>
            <p:spPr>
              <a:xfrm>
                <a:off x="852480" y="2378160"/>
                <a:ext cx="121284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>
                <a:off x="1793520" y="2378160"/>
                <a:ext cx="121464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>
                <a:off x="2714400" y="2378160"/>
                <a:ext cx="1214640" cy="121428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8"/>
              <p:cNvSpPr/>
              <p:nvPr/>
            </p:nvSpPr>
            <p:spPr>
              <a:xfrm>
                <a:off x="579600" y="2676240"/>
                <a:ext cx="1213920" cy="1215360"/>
              </a:xfrm>
              <a:prstGeom prst="cube">
                <a:avLst>
                  <a:gd name="adj" fmla="val 25000"/>
                </a:avLst>
              </a:prstGeom>
              <a:solidFill>
                <a:srgbClr val="8cd620"/>
              </a:soli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AutoShape 9"/>
            <p:cNvSpPr/>
            <p:nvPr/>
          </p:nvSpPr>
          <p:spPr>
            <a:xfrm>
              <a:off x="871560" y="1463760"/>
              <a:ext cx="1212840" cy="12128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0"/>
            <p:cNvSpPr/>
            <p:nvPr/>
          </p:nvSpPr>
          <p:spPr>
            <a:xfrm>
              <a:off x="1873800" y="429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4754520" y="2378160"/>
            <a:ext cx="3957840" cy="2289240"/>
            <a:chOff x="4754520" y="2378160"/>
            <a:chExt cx="3957840" cy="2289240"/>
          </a:xfrm>
        </p:grpSpPr>
        <p:sp>
          <p:nvSpPr>
            <p:cNvPr id="237" name="AutoShape 12"/>
            <p:cNvSpPr/>
            <p:nvPr/>
          </p:nvSpPr>
          <p:spPr>
            <a:xfrm>
              <a:off x="4754520" y="2378160"/>
              <a:ext cx="1214280" cy="12146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3"/>
            <p:cNvSpPr/>
            <p:nvPr/>
          </p:nvSpPr>
          <p:spPr>
            <a:xfrm>
              <a:off x="5684760" y="2378160"/>
              <a:ext cx="1214280" cy="12146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4"/>
            <p:cNvSpPr/>
            <p:nvPr/>
          </p:nvSpPr>
          <p:spPr>
            <a:xfrm>
              <a:off x="6603840" y="2378160"/>
              <a:ext cx="1216080" cy="12146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7498080" y="2378160"/>
              <a:ext cx="1214280" cy="121464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5389560" y="2676600"/>
              <a:ext cx="1214280" cy="1215720"/>
            </a:xfrm>
            <a:prstGeom prst="cube">
              <a:avLst>
                <a:gd name="adj" fmla="val 25000"/>
              </a:avLst>
            </a:prstGeom>
            <a:solidFill>
              <a:srgbClr val="8cd620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6707520" y="429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王鑫鑫</dc:creator>
  <dc:description/>
  <cp:keywords/>
  <dc:language>en-US</dc:language>
  <cp:lastModifiedBy>AutoBVT</cp:lastModifiedBy>
  <dcterms:modified xsi:type="dcterms:W3CDTF">2015-12-02T02:49:5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