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projctor.wav" ContentType="audio/x-wav"/>
  <Override PartName="/ppt/media/type.wav" ContentType="audio/x-wav"/>
  <Override PartName="/ppt/media/image8.png" ContentType="image/png"/>
  <Override PartName="/ppt/media/image13.jpeg" ContentType="image/jpeg"/>
  <Override PartName="/ppt/media/image12.gif" ContentType="image/gif"/>
  <Override PartName="/ppt/media/image14.png" ContentType="image/png"/>
  <Override PartName="/ppt/media/image11.gif" ContentType="image/gif"/>
  <Override PartName="/ppt/media/image10.png" ContentType="image/png"/>
  <Override PartName="/ppt/media/image5.png" ContentType="image/png"/>
  <Override PartName="/ppt/media/image2.jpeg" ContentType="image/jpeg"/>
  <Override PartName="/ppt/media/camera.wav" ContentType="audio/x-wav"/>
  <Override PartName="/ppt/media/image6.png" ContentType="image/png"/>
  <Override PartName="/ppt/media/image3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37D-8807-4980-A717-5E084A90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1D3-9083-4F90-BAFF-6BDCB75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B4B-EF72-4B87-8CEA-6588D9D4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18F-D2E0-452B-9E92-1287D8E5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2BD-41DC-4EDF-869E-8E0861E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559-82FA-4969-9D10-5358E416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5CB-1C3F-4969-AC1B-9F71E99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031-E362-4BC7-91FF-FAF6451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69C-F0A4-4DC8-AD34-1C2E5BE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CF8-D44B-4903-8D07-D6F5350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757-FCD8-4F47-B565-F472A57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991-5928-4436-875D-BCB709D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5E2-B678-4EFD-8127-DF54580F8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" Target="slide3.xml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chimes.wav"/><Relationship Id="rId14" Type="http://schemas.openxmlformats.org/officeDocument/2006/relationships/audio" Target="../media/projctor.wav"/><Relationship Id="rId15" Type="http://schemas.openxmlformats.org/officeDocument/2006/relationships/audio" Target="../media/chimes.wav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69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764640"/>
            <a:ext cx="8964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第五章相交线与平行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复习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图片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52280" y="380880"/>
            <a:ext cx="874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图  已知：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+∠2=180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求证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B∥CD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54080" y="1752480"/>
            <a:ext cx="8523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证明：∵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+∠2=180°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且 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=∠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对顶角相等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=∠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对顶角相等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+∠4=180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等量代换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B//CD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旁内角互补，两直线平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6311160" y="2349360"/>
            <a:ext cx="2463120" cy="1919160"/>
            <a:chOff x="6311160" y="2349360"/>
            <a:chExt cx="2463120" cy="1919160"/>
          </a:xfrm>
        </p:grpSpPr>
        <p:sp>
          <p:nvSpPr>
            <p:cNvPr id="175" name="Freeform 6"/>
            <p:cNvSpPr/>
            <p:nvPr/>
          </p:nvSpPr>
          <p:spPr>
            <a:xfrm>
              <a:off x="7159680" y="2936880"/>
              <a:ext cx="104760" cy="18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7448400" y="3135240"/>
              <a:ext cx="84240" cy="12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7621560" y="3740040"/>
              <a:ext cx="189000" cy="9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650000" y="3547800"/>
              <a:ext cx="295200" cy="177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7789680" y="3341520"/>
              <a:ext cx="7225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6456240" y="3136680"/>
              <a:ext cx="183348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7043760" y="2879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>
              <a:off x="6575400" y="3738600"/>
              <a:ext cx="196704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7537320" y="379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995880" y="2535120"/>
              <a:ext cx="993960" cy="1612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7547040" y="3125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6311160" y="2849400"/>
              <a:ext cx="1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8253360" y="2849400"/>
              <a:ext cx="14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6396840" y="3601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7116480" y="2349360"/>
              <a:ext cx="124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8082360" y="399384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8618040" y="3601800"/>
              <a:ext cx="15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MS Sans Serif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23">
            <a:hlinkClick r:id="rId2" action="ppaction://hlinksldjump"/>
          </p:cNvPr>
          <p:cNvSpPr/>
          <p:nvPr/>
        </p:nvSpPr>
        <p:spPr>
          <a:xfrm>
            <a:off x="788508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28720" y="476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，已知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D∥BC, ∠AEF=∠B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D∥EF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8"/>
          <p:cNvGrpSpPr/>
          <p:nvPr/>
        </p:nvGrpSpPr>
        <p:grpSpPr>
          <a:xfrm>
            <a:off x="5435640" y="1844640"/>
            <a:ext cx="2378160" cy="1904760"/>
            <a:chOff x="5435640" y="1844640"/>
            <a:chExt cx="2378160" cy="1904760"/>
          </a:xfrm>
        </p:grpSpPr>
        <p:grpSp>
          <p:nvGrpSpPr>
            <p:cNvPr id="195" name="Group 49"/>
            <p:cNvGrpSpPr/>
            <p:nvPr/>
          </p:nvGrpSpPr>
          <p:grpSpPr>
            <a:xfrm>
              <a:off x="5435640" y="1844640"/>
              <a:ext cx="2378160" cy="1904760"/>
              <a:chOff x="5435640" y="1844640"/>
              <a:chExt cx="2378160" cy="1904760"/>
            </a:xfrm>
          </p:grpSpPr>
          <p:grpSp>
            <p:nvGrpSpPr>
              <p:cNvPr id="196" name="Group 50"/>
              <p:cNvGrpSpPr/>
              <p:nvPr/>
            </p:nvGrpSpPr>
            <p:grpSpPr>
              <a:xfrm>
                <a:off x="5647320" y="2133360"/>
                <a:ext cx="2064960" cy="1298880"/>
                <a:chOff x="5647320" y="2133360"/>
                <a:chExt cx="2064960" cy="1298880"/>
              </a:xfrm>
            </p:grpSpPr>
            <p:sp>
              <p:nvSpPr>
                <p:cNvPr id="197" name="AutoShape 51"/>
                <p:cNvSpPr/>
                <p:nvPr/>
              </p:nvSpPr>
              <p:spPr>
                <a:xfrm flipH="1" flipV="1">
                  <a:off x="5647320" y="2133360"/>
                  <a:ext cx="2064960" cy="12988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5951520" y="2610360"/>
                  <a:ext cx="1429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99" name="Object 8"/>
                  <p:cNvSpPr txBox="1"/>
                  <p:nvPr/>
                </p:nvSpPr>
                <p:spPr>
                  <a:xfrm>
                    <a:off x="5925240" y="1900080"/>
                    <a:ext cx="26028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0" name="Object 9"/>
                  <p:cNvSpPr txBox="1"/>
                  <p:nvPr/>
                </p:nvSpPr>
                <p:spPr>
                  <a:xfrm>
                    <a:off x="5435640" y="3287880"/>
                    <a:ext cx="26028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1" name="Object 10"/>
                  <p:cNvSpPr txBox="1"/>
                  <p:nvPr/>
                </p:nvSpPr>
                <p:spPr>
                  <a:xfrm>
                    <a:off x="7553520" y="3432240"/>
                    <a:ext cx="26028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2" name="Object 11"/>
                  <p:cNvSpPr txBox="1"/>
                  <p:nvPr/>
                </p:nvSpPr>
                <p:spPr>
                  <a:xfrm>
                    <a:off x="7076880" y="1844640"/>
                    <a:ext cx="28224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3" name="Object 12"/>
                  <p:cNvSpPr txBox="1"/>
                  <p:nvPr/>
                </p:nvSpPr>
                <p:spPr>
                  <a:xfrm>
                    <a:off x="5739840" y="2422080"/>
                    <a:ext cx="26028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4" name="Object 13"/>
                  <p:cNvSpPr txBox="1"/>
                  <p:nvPr/>
                </p:nvSpPr>
                <p:spPr>
                  <a:xfrm>
                    <a:off x="7394760" y="2422080"/>
                    <a:ext cx="28224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5" name="Freeform 59"/>
            <p:cNvSpPr/>
            <p:nvPr/>
          </p:nvSpPr>
          <p:spPr>
            <a:xfrm>
              <a:off x="6041520" y="2421360"/>
              <a:ext cx="118800" cy="235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0"/>
            <p:cNvSpPr/>
            <p:nvPr/>
          </p:nvSpPr>
          <p:spPr>
            <a:xfrm>
              <a:off x="5734440" y="3206160"/>
              <a:ext cx="118440" cy="235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6"/>
          <p:cNvSpPr/>
          <p:nvPr/>
        </p:nvSpPr>
        <p:spPr>
          <a:xfrm>
            <a:off x="395280" y="213372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∵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EF=∠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93640" y="2925720"/>
            <a:ext cx="48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∴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EF∥BC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同位角相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两直线平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468360" y="4149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又 ∵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612720" y="5086440"/>
            <a:ext cx="85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∴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D∥EF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平行于同一条直线的两直线平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79280" y="11253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复习指导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内容：快速浏览课本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7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至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7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时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方法：独立看书，独立思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要求：找出平行线的性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55640" y="189000"/>
            <a:ext cx="4537080" cy="642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复习检测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52360" y="1125360"/>
            <a:ext cx="88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已知直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∥b,∠1 = 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328960" y="23432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8400240" y="330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5737320" y="2851200"/>
            <a:ext cx="2543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5850000" y="3727440"/>
            <a:ext cx="2544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 flipH="1">
            <a:off x="6262200" y="2043000"/>
            <a:ext cx="1513080" cy="246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7686720" y="15192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021440" y="32907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513840" y="281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12"/>
          <p:cNvSpPr/>
          <p:nvPr/>
        </p:nvSpPr>
        <p:spPr>
          <a:xfrm rot="4582200">
            <a:off x="6801840" y="3578040"/>
            <a:ext cx="187200" cy="10476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13"/>
          <p:cNvSpPr/>
          <p:nvPr/>
        </p:nvSpPr>
        <p:spPr>
          <a:xfrm rot="1499400">
            <a:off x="6948360" y="2886120"/>
            <a:ext cx="322560" cy="25380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900000" y="4149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∴∠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= 5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等量代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11280" y="2060640"/>
            <a:ext cx="345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解：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∥b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1260360" y="2637000"/>
            <a:ext cx="4608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∴∠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= ∠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内错角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828720" y="3645000"/>
            <a:ext cx="388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又∵∠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 = 5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469800" y="5300640"/>
            <a:ext cx="84488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变式１：已知条件不变，求∠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∠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度数？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7453440" y="2276640"/>
            <a:ext cx="718560" cy="581400"/>
            <a:chOff x="7453440" y="2276640"/>
            <a:chExt cx="718560" cy="581400"/>
          </a:xfrm>
        </p:grpSpPr>
        <p:sp>
          <p:nvSpPr>
            <p:cNvPr id="230" name="未知"/>
            <p:cNvSpPr/>
            <p:nvPr/>
          </p:nvSpPr>
          <p:spPr>
            <a:xfrm>
              <a:off x="7453440" y="2563560"/>
              <a:ext cx="178920" cy="288720"/>
            </a:xfrm>
            <a:prstGeom prst="pie">
              <a:avLst/>
            </a:prstGeom>
            <a:noFill/>
            <a:ln w="349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7596000" y="22766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22" descr="mapline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4906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24"/>
          <p:cNvGrpSpPr/>
          <p:nvPr/>
        </p:nvGrpSpPr>
        <p:grpSpPr>
          <a:xfrm>
            <a:off x="6959880" y="2607480"/>
            <a:ext cx="925200" cy="898200"/>
            <a:chOff x="6959880" y="2607480"/>
            <a:chExt cx="925200" cy="898200"/>
          </a:xfrm>
        </p:grpSpPr>
        <p:sp>
          <p:nvSpPr>
            <p:cNvPr id="234" name="Text Box 25"/>
            <p:cNvSpPr/>
            <p:nvPr/>
          </p:nvSpPr>
          <p:spPr>
            <a:xfrm>
              <a:off x="7308720" y="2924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26"/>
            <p:cNvSpPr/>
            <p:nvPr/>
          </p:nvSpPr>
          <p:spPr>
            <a:xfrm rot="2186400">
              <a:off x="7009920" y="2707920"/>
              <a:ext cx="442800" cy="314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1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440" y="204480"/>
            <a:ext cx="9178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当堂检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已知∠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3 =∠4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，∠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1=47°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求∠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的度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26920" y="393372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∴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= 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68360" y="1774800"/>
            <a:ext cx="539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∵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∠4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9280" y="2435400"/>
            <a:ext cx="6370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∥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55640" y="3433680"/>
            <a:ext cx="403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又∵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47°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27_4200_701"/>
          <p:cNvPicPr/>
          <p:nvPr/>
        </p:nvPicPr>
        <p:blipFill>
          <a:blip r:embed="rId1"/>
          <a:stretch/>
        </p:blipFill>
        <p:spPr>
          <a:xfrm>
            <a:off x="-179280" y="6381720"/>
            <a:ext cx="9791640" cy="620640"/>
          </a:xfrm>
          <a:prstGeom prst="rect">
            <a:avLst/>
          </a:prstGeom>
          <a:ln w="0">
            <a:noFill/>
          </a:ln>
        </p:spPr>
      </p:pic>
      <p:sp>
        <p:nvSpPr>
          <p:cNvPr id="242" name="Line 8"/>
          <p:cNvSpPr/>
          <p:nvPr/>
        </p:nvSpPr>
        <p:spPr>
          <a:xfrm>
            <a:off x="5580000" y="3139920"/>
            <a:ext cx="3168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5692680" y="4005000"/>
            <a:ext cx="305604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 flipH="1">
            <a:off x="6803640" y="2332080"/>
            <a:ext cx="1801800" cy="296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8517240" y="1808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7956720" y="350028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8459640" y="25653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4"/>
          <p:cNvSpPr/>
          <p:nvPr/>
        </p:nvSpPr>
        <p:spPr>
          <a:xfrm rot="4582200">
            <a:off x="7632360" y="3866760"/>
            <a:ext cx="187560" cy="10476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8244000" y="2849400"/>
            <a:ext cx="179280" cy="289080"/>
          </a:xfrm>
          <a:prstGeom prst="pi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 flipH="1">
            <a:off x="6299280" y="1916280"/>
            <a:ext cx="433440" cy="31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6588000" y="2852640"/>
            <a:ext cx="179640" cy="289080"/>
          </a:xfrm>
          <a:prstGeom prst="pi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6443640" y="3716280"/>
            <a:ext cx="179280" cy="289080"/>
          </a:xfrm>
          <a:prstGeom prst="pi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804000" y="2637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611760" y="34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5592240" y="26226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663160" y="3529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674280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24"/>
          <p:cNvSpPr txBox="1"/>
          <p:nvPr/>
        </p:nvSpPr>
        <p:spPr>
          <a:xfrm>
            <a:off x="1116000" y="4508640"/>
            <a:ext cx="4032360" cy="433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（两直线平行，同位角相等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59" name="WordArt 25" descr=""/>
          <p:cNvPicPr/>
          <p:nvPr/>
        </p:nvPicPr>
        <p:blipFill>
          <a:blip r:embed="rId2"/>
          <a:stretch/>
        </p:blipFill>
        <p:spPr>
          <a:xfrm>
            <a:off x="1536840" y="2840040"/>
            <a:ext cx="2974680" cy="457200"/>
          </a:xfrm>
          <a:prstGeom prst="rect">
            <a:avLst/>
          </a:prstGeom>
          <a:ln w="0">
            <a:noFill/>
          </a:ln>
        </p:spPr>
      </p:pic>
      <p:sp>
        <p:nvSpPr>
          <p:cNvPr id="260" name="WordArt 26"/>
          <p:cNvSpPr txBox="1"/>
          <p:nvPr/>
        </p:nvSpPr>
        <p:spPr>
          <a:xfrm>
            <a:off x="3276720" y="184464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已知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61" name="WordArt 27"/>
          <p:cNvSpPr txBox="1"/>
          <p:nvPr/>
        </p:nvSpPr>
        <p:spPr>
          <a:xfrm>
            <a:off x="3419640" y="3500280"/>
            <a:ext cx="720720" cy="3812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已知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>
            <a:off x="5638320" y="380880"/>
            <a:ext cx="221004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5638680" y="259092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848720" y="380880"/>
            <a:ext cx="76176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6705720" y="1143000"/>
            <a:ext cx="14475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 flipH="1" flipV="1">
            <a:off x="6324120" y="1828440"/>
            <a:ext cx="3812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rc 8"/>
          <p:cNvSpPr/>
          <p:nvPr/>
        </p:nvSpPr>
        <p:spPr>
          <a:xfrm flipV="1" rot="9121200">
            <a:off x="6476760" y="2437560"/>
            <a:ext cx="152280" cy="1530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9"/>
          <p:cNvSpPr/>
          <p:nvPr/>
        </p:nvSpPr>
        <p:spPr>
          <a:xfrm>
            <a:off x="6553080" y="2362320"/>
            <a:ext cx="381240" cy="7596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10"/>
          <p:cNvSpPr/>
          <p:nvPr/>
        </p:nvSpPr>
        <p:spPr>
          <a:xfrm>
            <a:off x="6934320" y="2438280"/>
            <a:ext cx="75960" cy="152640"/>
          </a:xfrm>
          <a:prstGeom prst="pi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769608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5334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85345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55308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60958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80773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6248520" y="2209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6553080" y="1981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0102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24000" y="476280"/>
            <a:ext cx="8458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____,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∥ED  ,(___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50920" y="2514600"/>
            <a:ext cx="744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 ∥______,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= ∠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______________________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22"/>
          <p:cNvSpPr/>
          <p:nvPr/>
        </p:nvSpPr>
        <p:spPr>
          <a:xfrm rot="9967800">
            <a:off x="6241680" y="1944720"/>
            <a:ext cx="204840" cy="1080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617220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rc 24"/>
          <p:cNvSpPr/>
          <p:nvPr/>
        </p:nvSpPr>
        <p:spPr>
          <a:xfrm flipH="1" flipV="1">
            <a:off x="8000280" y="1295280"/>
            <a:ext cx="152280" cy="76320"/>
          </a:xfrm>
          <a:prstGeom prst="pi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7924680" y="1371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304920" y="37339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 ∥___,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= ∠3.    (___________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0" y="4952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8">
            <a:hlinkClick r:id="rId1" action="ppaction://hlinksldjump"/>
          </p:cNvPr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2411280" y="1052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2629080" y="1557360"/>
            <a:ext cx="33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同位角相等，两直线平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362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352680" y="3048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内错角相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1332000" y="3718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2195640" y="3789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3200400" y="42670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,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同位角相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5364000" y="18446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7"/>
          <p:cNvSpPr/>
          <p:nvPr/>
        </p:nvSpPr>
        <p:spPr>
          <a:xfrm>
            <a:off x="5508720" y="1844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判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8"/>
          <p:cNvSpPr/>
          <p:nvPr/>
        </p:nvSpPr>
        <p:spPr>
          <a:xfrm>
            <a:off x="6629400" y="3200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184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800">
                <a:moveTo>
                  <a:pt x="11905" y="17881"/>
                </a:moveTo>
                <a:lnTo>
                  <a:pt x="11905" y="15923"/>
                </a:lnTo>
                <a:cubicBezTo>
                  <a:pt x="11905" y="15096"/>
                  <a:pt x="12236" y="14400"/>
                  <a:pt x="12837" y="14400"/>
                </a:cubicBezTo>
                <a:cubicBezTo>
                  <a:pt x="13968" y="14400"/>
                  <a:pt x="14865" y="13034"/>
                  <a:pt x="14865" y="11449"/>
                </a:cubicBezTo>
                <a:cubicBezTo>
                  <a:pt x="14865" y="9134"/>
                  <a:pt x="13011" y="7394"/>
                  <a:pt x="10800" y="7394"/>
                </a:cubicBezTo>
                <a:cubicBezTo>
                  <a:pt x="8589" y="7394"/>
                  <a:pt x="6918" y="9134"/>
                  <a:pt x="6918" y="11449"/>
                </a:cubicBezTo>
                <a:lnTo>
                  <a:pt x="8772" y="11449"/>
                </a:lnTo>
                <a:cubicBezTo>
                  <a:pt x="8772" y="10309"/>
                  <a:pt x="9695" y="9421"/>
                  <a:pt x="10800" y="9421"/>
                </a:cubicBezTo>
                <a:cubicBezTo>
                  <a:pt x="11905" y="9421"/>
                  <a:pt x="12837" y="10309"/>
                  <a:pt x="12837" y="11449"/>
                </a:cubicBezTo>
                <a:cubicBezTo>
                  <a:pt x="12837" y="12189"/>
                  <a:pt x="12367" y="12920"/>
                  <a:pt x="11905" y="12920"/>
                </a:cubicBezTo>
                <a:cubicBezTo>
                  <a:pt x="10800" y="12920"/>
                  <a:pt x="9695" y="14400"/>
                  <a:pt x="9695" y="15923"/>
                </a:cubicBezTo>
                <a:lnTo>
                  <a:pt x="9695" y="17881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69343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0"/>
          <p:cNvSpPr/>
          <p:nvPr/>
        </p:nvSpPr>
        <p:spPr>
          <a:xfrm>
            <a:off x="670572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1"/>
          <p:cNvSpPr/>
          <p:nvPr/>
        </p:nvSpPr>
        <p:spPr>
          <a:xfrm>
            <a:off x="7076520" y="4282920"/>
            <a:ext cx="5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914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8380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5"/>
          <p:cNvSpPr/>
          <p:nvPr/>
        </p:nvSpPr>
        <p:spPr>
          <a:xfrm>
            <a:off x="91440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1042920" y="5300640"/>
            <a:ext cx="626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片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图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已知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C∥DE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=∠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试证明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B∥CD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1680" y="1752480"/>
            <a:ext cx="85406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证明：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∥DE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D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直线平行，内错角相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∵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∠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∴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=∠ACD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代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相等，两直线平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6324480" y="2286000"/>
            <a:ext cx="3200040" cy="2285280"/>
            <a:chOff x="6324480" y="2286000"/>
            <a:chExt cx="3200040" cy="2285280"/>
          </a:xfrm>
        </p:grpSpPr>
        <p:sp>
          <p:nvSpPr>
            <p:cNvPr id="309" name="Freeform 6"/>
            <p:cNvSpPr/>
            <p:nvPr/>
          </p:nvSpPr>
          <p:spPr>
            <a:xfrm>
              <a:off x="6616440" y="2541960"/>
              <a:ext cx="1098000" cy="1123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7714440" y="2541960"/>
              <a:ext cx="1098360" cy="1123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7494120" y="2541960"/>
              <a:ext cx="109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7063200" y="2286000"/>
              <a:ext cx="6584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0"/>
            <p:cNvSpPr/>
            <p:nvPr/>
          </p:nvSpPr>
          <p:spPr>
            <a:xfrm>
              <a:off x="8604720" y="2320560"/>
              <a:ext cx="6584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1"/>
            <p:cNvSpPr/>
            <p:nvPr/>
          </p:nvSpPr>
          <p:spPr>
            <a:xfrm>
              <a:off x="6324480" y="3542760"/>
              <a:ext cx="6584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8866080" y="3521160"/>
              <a:ext cx="6584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362360" y="2690640"/>
              <a:ext cx="162360" cy="57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8404200" y="2787120"/>
              <a:ext cx="22392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7265520" y="2696760"/>
              <a:ext cx="8794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8301960" y="2823840"/>
              <a:ext cx="8794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7539480" y="3672000"/>
              <a:ext cx="6602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图片63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⊥A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D⊥AB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∴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∥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直于同一条直线的两条直线互相平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∴ 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 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C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两直线平行，同位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∵ 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B=∠GDC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∴ 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CB=∠GDC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等量代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∴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G∥BC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内错角相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线平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∴ 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GD=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两直线平行，同位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6400800" y="1752480"/>
            <a:ext cx="2743200" cy="2666880"/>
            <a:chOff x="6400800" y="1752480"/>
            <a:chExt cx="2743200" cy="2666880"/>
          </a:xfrm>
        </p:grpSpPr>
        <p:grpSp>
          <p:nvGrpSpPr>
            <p:cNvPr id="324" name="Group 5"/>
            <p:cNvGrpSpPr/>
            <p:nvPr/>
          </p:nvGrpSpPr>
          <p:grpSpPr>
            <a:xfrm>
              <a:off x="6744240" y="2160720"/>
              <a:ext cx="2043720" cy="1839600"/>
              <a:chOff x="6744240" y="2160720"/>
              <a:chExt cx="2043720" cy="1839600"/>
            </a:xfrm>
          </p:grpSpPr>
          <p:sp>
            <p:nvSpPr>
              <p:cNvPr id="325" name="Line 6"/>
              <p:cNvSpPr/>
              <p:nvPr/>
            </p:nvSpPr>
            <p:spPr>
              <a:xfrm>
                <a:off x="6744240" y="4000320"/>
                <a:ext cx="204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7"/>
              <p:cNvSpPr/>
              <p:nvPr/>
            </p:nvSpPr>
            <p:spPr>
              <a:xfrm flipV="1">
                <a:off x="6744240" y="2160720"/>
                <a:ext cx="1175400" cy="183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8"/>
              <p:cNvSpPr/>
              <p:nvPr/>
            </p:nvSpPr>
            <p:spPr>
              <a:xfrm>
                <a:off x="7919640" y="2161080"/>
                <a:ext cx="867960" cy="183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9"/>
              <p:cNvSpPr/>
              <p:nvPr/>
            </p:nvSpPr>
            <p:spPr>
              <a:xfrm>
                <a:off x="7286760" y="3182760"/>
                <a:ext cx="1085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0"/>
              <p:cNvSpPr/>
              <p:nvPr/>
            </p:nvSpPr>
            <p:spPr>
              <a:xfrm>
                <a:off x="7268400" y="3182760"/>
                <a:ext cx="1519200" cy="81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1"/>
              <p:cNvSpPr/>
              <p:nvPr/>
            </p:nvSpPr>
            <p:spPr>
              <a:xfrm>
                <a:off x="7051320" y="3591360"/>
                <a:ext cx="867960" cy="40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1" name="Object 12"/>
                <p:cNvSpPr txBox="1"/>
                <p:nvPr/>
              </p:nvSpPr>
              <p:spPr>
                <a:xfrm>
                  <a:off x="7702920" y="1752480"/>
                  <a:ext cx="3553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13"/>
                <p:cNvSpPr txBox="1"/>
                <p:nvPr/>
              </p:nvSpPr>
              <p:spPr>
                <a:xfrm>
                  <a:off x="6400800" y="3795840"/>
                  <a:ext cx="3556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Object 14"/>
                <p:cNvSpPr txBox="1"/>
                <p:nvPr/>
              </p:nvSpPr>
              <p:spPr>
                <a:xfrm>
                  <a:off x="8788320" y="3795840"/>
                  <a:ext cx="3556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Object 15"/>
                <p:cNvSpPr txBox="1"/>
                <p:nvPr/>
              </p:nvSpPr>
              <p:spPr>
                <a:xfrm>
                  <a:off x="6906960" y="2813400"/>
                  <a:ext cx="38556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16"/>
                <p:cNvSpPr txBox="1"/>
                <p:nvPr/>
              </p:nvSpPr>
              <p:spPr>
                <a:xfrm>
                  <a:off x="7702920" y="4000320"/>
                  <a:ext cx="38556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17"/>
                <p:cNvSpPr txBox="1"/>
                <p:nvPr/>
              </p:nvSpPr>
              <p:spPr>
                <a:xfrm>
                  <a:off x="8408160" y="2872440"/>
                  <a:ext cx="3855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18"/>
                <p:cNvSpPr txBox="1"/>
                <p:nvPr/>
              </p:nvSpPr>
              <p:spPr>
                <a:xfrm>
                  <a:off x="6726240" y="3241800"/>
                  <a:ext cx="3553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8" name="Text Box 19"/>
          <p:cNvSpPr/>
          <p:nvPr/>
        </p:nvSpPr>
        <p:spPr>
          <a:xfrm>
            <a:off x="237600" y="260280"/>
            <a:ext cx="82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知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F⊥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D⊥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FB=∠GD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证：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GD=∠AC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5"/>
          <p:cNvSpPr/>
          <p:nvPr/>
        </p:nvSpPr>
        <p:spPr>
          <a:xfrm>
            <a:off x="1044720" y="3357720"/>
            <a:ext cx="6264000" cy="2879640"/>
          </a:xfrm>
          <a:prstGeom prst="cloudCallout">
            <a:avLst>
              <a:gd name="adj1" fmla="val 60569"/>
              <a:gd name="adj2" fmla="val -10942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WordArt 6" descr=""/>
          <p:cNvPicPr/>
          <p:nvPr/>
        </p:nvPicPr>
        <p:blipFill>
          <a:blip r:embed="rId1"/>
          <a:stretch/>
        </p:blipFill>
        <p:spPr>
          <a:xfrm>
            <a:off x="2182680" y="4059360"/>
            <a:ext cx="3943440" cy="1214280"/>
          </a:xfrm>
          <a:prstGeom prst="rect">
            <a:avLst/>
          </a:prstGeom>
          <a:ln w="0">
            <a:noFill/>
          </a:ln>
        </p:spPr>
      </p:pic>
      <p:pic>
        <p:nvPicPr>
          <p:cNvPr id="341" name="WordArt 9" descr=""/>
          <p:cNvPicPr/>
          <p:nvPr/>
        </p:nvPicPr>
        <p:blipFill>
          <a:blip r:embed="rId2"/>
          <a:stretch/>
        </p:blipFill>
        <p:spPr>
          <a:xfrm>
            <a:off x="1036800" y="517680"/>
            <a:ext cx="5851440" cy="3189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"/>
          <p:cNvSpPr/>
          <p:nvPr/>
        </p:nvSpPr>
        <p:spPr>
          <a:xfrm>
            <a:off x="468360" y="3357720"/>
            <a:ext cx="2448000" cy="581400"/>
          </a:xfrm>
          <a:prstGeom prst="rect">
            <a:avLst/>
          </a:prstGeom>
          <a:solidFill>
            <a:srgbClr val="e2f680"/>
          </a:solidFill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4721400" y="2565360"/>
            <a:ext cx="2307960" cy="5814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同位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726080" y="3346560"/>
            <a:ext cx="2307960" cy="5814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内错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653000" y="4067280"/>
            <a:ext cx="2727360" cy="5814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同旁内角互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 flipV="1">
            <a:off x="2997360" y="2709360"/>
            <a:ext cx="1584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2997360" y="3573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3068640" y="3862440"/>
            <a:ext cx="157464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H="1">
            <a:off x="2997360" y="2854440"/>
            <a:ext cx="158400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1092240" y="4762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线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568840" y="486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角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 flipH="1">
            <a:off x="3068280" y="5229360"/>
            <a:ext cx="1955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429000" y="524988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方正姚体"/>
              </a:rPr>
              <a:t>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3070080" y="508644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3429000" y="452772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方正姚体"/>
              </a:rPr>
              <a:t>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7563960" y="189000"/>
            <a:ext cx="1462680" cy="6524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行线的性质和平行线的判定方法的      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区   别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联   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8"/>
          <p:cNvSpPr/>
          <p:nvPr/>
        </p:nvSpPr>
        <p:spPr>
          <a:xfrm>
            <a:off x="1476360" y="765000"/>
            <a:ext cx="3745080" cy="93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ded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zh-CN" sz="6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"/>
          <p:cNvSpPr/>
          <p:nvPr/>
        </p:nvSpPr>
        <p:spPr>
          <a:xfrm flipH="1">
            <a:off x="2925360" y="371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 flipH="1" flipV="1">
            <a:off x="2925360" y="3935520"/>
            <a:ext cx="165564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5720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设计者     谢汝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pic021"/>
          <p:cNvPicPr/>
          <p:nvPr/>
        </p:nvPicPr>
        <p:blipFill>
          <a:blip r:embed="rId1"/>
          <a:stretch/>
        </p:blipFill>
        <p:spPr>
          <a:xfrm>
            <a:off x="-541440" y="0"/>
            <a:ext cx="10058400" cy="7086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28600" y="533520"/>
            <a:ext cx="2666880" cy="6426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七年级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27640" y="3429000"/>
            <a:ext cx="38894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700" spc="-1" strike="noStrike">
                <a:solidFill>
                  <a:srgbClr val="000099"/>
                </a:solidFill>
                <a:latin typeface="华文隶书"/>
                <a:ea typeface="华文隶书"/>
              </a:rPr>
              <a:t> </a:t>
            </a:r>
            <a:r>
              <a:rPr b="0" lang="zh-CN" sz="7700" spc="-1" strike="noStrike">
                <a:solidFill>
                  <a:srgbClr val="000099"/>
                </a:solidFill>
                <a:latin typeface="华文隶书"/>
                <a:ea typeface="华文隶书"/>
              </a:rPr>
              <a:t>平行线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5"/>
          <p:cNvPicPr/>
          <p:nvPr/>
        </p:nvPicPr>
        <p:blipFill>
          <a:blip r:embed="rId2"/>
          <a:stretch/>
        </p:blipFill>
        <p:spPr>
          <a:xfrm>
            <a:off x="1447920" y="48006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914400" y="4343400"/>
            <a:ext cx="106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581280" y="4800600"/>
            <a:ext cx="106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7093080" y="501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复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框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1116000" y="1413000"/>
            <a:ext cx="4248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平行线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132000" y="2565360"/>
            <a:ext cx="39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定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771640" y="4724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定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116000" y="3573360"/>
            <a:ext cx="4248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平行线的判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花4（动）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357336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花4（动）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619280" y="141300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Q_006"/>
          <p:cNvPicPr/>
          <p:nvPr/>
        </p:nvPicPr>
        <p:blipFill>
          <a:blip r:embed="rId6"/>
          <a:stretch/>
        </p:blipFill>
        <p:spPr>
          <a:xfrm>
            <a:off x="324000" y="26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Q_006"/>
          <p:cNvPicPr/>
          <p:nvPr/>
        </p:nvPicPr>
        <p:blipFill>
          <a:blip r:embed="rId7"/>
          <a:stretch/>
        </p:blipFill>
        <p:spPr>
          <a:xfrm>
            <a:off x="8388360" y="26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Q_006"/>
          <p:cNvPicPr/>
          <p:nvPr/>
        </p:nvPicPr>
        <p:blipFill>
          <a:blip r:embed="rId8"/>
          <a:stretch/>
        </p:blipFill>
        <p:spPr>
          <a:xfrm>
            <a:off x="324000" y="609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Q_006"/>
          <p:cNvPicPr/>
          <p:nvPr/>
        </p:nvPicPr>
        <p:blipFill>
          <a:blip r:embed="rId9"/>
          <a:stretch/>
        </p:blipFill>
        <p:spPr>
          <a:xfrm>
            <a:off x="8388360" y="609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5"/>
          <p:cNvPicPr/>
          <p:nvPr/>
        </p:nvPicPr>
        <p:blipFill>
          <a:blip r:embed="rId2"/>
          <a:stretch/>
        </p:blipFill>
        <p:spPr>
          <a:xfrm>
            <a:off x="0" y="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373" name="WordArt 5"/>
          <p:cNvSpPr txBox="1"/>
          <p:nvPr/>
        </p:nvSpPr>
        <p:spPr>
          <a:xfrm>
            <a:off x="2971800" y="2133720"/>
            <a:ext cx="36957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4" name="祈祷.mid" descr=""/>
          <p:cNvPicPr/>
          <p:nvPr/>
        </p:nvPicPr>
        <p:blipFill>
          <a:blip r:embed="rId3"/>
          <a:stretch/>
        </p:blipFill>
        <p:spPr>
          <a:xfrm>
            <a:off x="8839080" y="654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763640" y="404640"/>
            <a:ext cx="230364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第二课时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8360" y="1628640"/>
            <a:ext cx="820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复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能准确说出平行线的概念及平行公理，能作出已知直线的平行线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能灵活选用平行线的判定解决问题，学会简单的说理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能灵活选用平行线的性质解决问题，学会简单的说理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533520" y="1219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三个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371600" y="17524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7200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位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724280" y="1714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952880" y="2362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旁内角互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3505320" y="182880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4343400" y="1447920"/>
            <a:ext cx="422280" cy="1371600"/>
            <a:chOff x="4343400" y="1447920"/>
            <a:chExt cx="422280" cy="1371600"/>
          </a:xfrm>
        </p:grpSpPr>
        <p:sp>
          <p:nvSpPr>
            <p:cNvPr id="60" name="Line 10"/>
            <p:cNvSpPr/>
            <p:nvPr/>
          </p:nvSpPr>
          <p:spPr>
            <a:xfrm>
              <a:off x="4343400" y="1447920"/>
              <a:ext cx="0" cy="1371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>
              <a:off x="4343400" y="1447920"/>
              <a:ext cx="422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2"/>
          <p:cNvSpPr/>
          <p:nvPr/>
        </p:nvSpPr>
        <p:spPr>
          <a:xfrm>
            <a:off x="4343400" y="2133720"/>
            <a:ext cx="563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343400" y="2743200"/>
            <a:ext cx="563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533520" y="2514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线的三个判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18148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37160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位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37160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523880" y="4114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旁内角互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 rot="1445400">
            <a:off x="3733560" y="3276360"/>
            <a:ext cx="1463400" cy="263520"/>
          </a:xfrm>
          <a:prstGeom prst="rightArrow">
            <a:avLst>
              <a:gd name="adj1" fmla="val 50000"/>
              <a:gd name="adj2" fmla="val 138832"/>
            </a:avLst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/>
          <p:cNvSpPr/>
          <p:nvPr/>
        </p:nvSpPr>
        <p:spPr>
          <a:xfrm rot="21524400">
            <a:off x="3733920" y="3657600"/>
            <a:ext cx="1371600" cy="225360"/>
          </a:xfrm>
          <a:prstGeom prst="rightArrow">
            <a:avLst>
              <a:gd name="adj1" fmla="val 50000"/>
              <a:gd name="adj2" fmla="val 152157"/>
            </a:avLst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 rot="20200800">
            <a:off x="3730320" y="4038120"/>
            <a:ext cx="1382760" cy="230400"/>
          </a:xfrm>
          <a:prstGeom prst="rightArrow">
            <a:avLst>
              <a:gd name="adj1" fmla="val 50000"/>
              <a:gd name="adj2" fmla="val 150039"/>
            </a:avLst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-228600" y="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二</a:t>
            </a:r>
            <a:r>
              <a:rPr b="1" lang="en-US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知识梳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尝试说出“平行线的性质与判定”部分的知识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尝试补全知识框架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80880" y="609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线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5228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公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-22860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两条直线都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三条直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这两条直线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互相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-152280" y="5105520"/>
            <a:ext cx="8534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过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直线外一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有且只有一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线与这条直线平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228600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同一平面内不相交的两条直线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线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838080" y="609480"/>
            <a:ext cx="7772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533520" y="914400"/>
            <a:ext cx="75960" cy="4419720"/>
          </a:xfrm>
          <a:custGeom>
            <a:avLst/>
            <a:gdLst>
              <a:gd name="textAreaLeft" fmla="*/ 48600 w 75960"/>
              <a:gd name="textAreaRight" fmla="*/ 76320 w 7596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63360" y="1295280"/>
            <a:ext cx="546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线的性质与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26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内容：快速浏览课本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至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时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方法：独立看书，独立思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要求：找出平行线的概念及两个基本事实，知道两条直线的位置关系，会画已知直线的平行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3203640" y="190440"/>
            <a:ext cx="3673080" cy="790560"/>
            <a:chOff x="3203640" y="190440"/>
            <a:chExt cx="3673080" cy="790560"/>
          </a:xfrm>
        </p:grpSpPr>
        <p:sp>
          <p:nvSpPr>
            <p:cNvPr id="83" name="Text Box 4"/>
            <p:cNvSpPr/>
            <p:nvPr/>
          </p:nvSpPr>
          <p:spPr>
            <a:xfrm>
              <a:off x="3203640" y="190440"/>
              <a:ext cx="36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复习指导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3292200" y="908280"/>
              <a:ext cx="28828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3292200" y="981000"/>
              <a:ext cx="28828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4176720" cy="922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检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00"/>
          <p:cNvGrpSpPr/>
          <p:nvPr/>
        </p:nvGrpSpPr>
        <p:grpSpPr>
          <a:xfrm>
            <a:off x="5148360" y="4005360"/>
            <a:ext cx="3960000" cy="2015640"/>
            <a:chOff x="5148360" y="4005360"/>
            <a:chExt cx="3960000" cy="2015640"/>
          </a:xfrm>
        </p:grpSpPr>
        <p:sp>
          <p:nvSpPr>
            <p:cNvPr id="88" name="直线 81"/>
            <p:cNvSpPr/>
            <p:nvPr/>
          </p:nvSpPr>
          <p:spPr>
            <a:xfrm>
              <a:off x="5938560" y="4480560"/>
              <a:ext cx="2397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9"/>
            <p:cNvGrpSpPr/>
            <p:nvPr/>
          </p:nvGrpSpPr>
          <p:grpSpPr>
            <a:xfrm>
              <a:off x="5148360" y="4005360"/>
              <a:ext cx="3960000" cy="2015640"/>
              <a:chOff x="5148360" y="4005360"/>
              <a:chExt cx="3960000" cy="2015640"/>
            </a:xfrm>
          </p:grpSpPr>
          <p:sp>
            <p:nvSpPr>
              <p:cNvPr id="90" name="直线 81"/>
              <p:cNvSpPr/>
              <p:nvPr/>
            </p:nvSpPr>
            <p:spPr>
              <a:xfrm>
                <a:off x="7665840" y="4968000"/>
                <a:ext cx="506520" cy="65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线 81"/>
              <p:cNvSpPr/>
              <p:nvPr/>
            </p:nvSpPr>
            <p:spPr>
              <a:xfrm flipV="1">
                <a:off x="7656120" y="4516200"/>
                <a:ext cx="639360" cy="46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线 81"/>
              <p:cNvSpPr/>
              <p:nvPr/>
            </p:nvSpPr>
            <p:spPr>
              <a:xfrm flipV="1">
                <a:off x="5835240" y="5604120"/>
                <a:ext cx="2343960" cy="29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线 81"/>
              <p:cNvSpPr/>
              <p:nvPr/>
            </p:nvSpPr>
            <p:spPr>
              <a:xfrm flipV="1">
                <a:off x="5916960" y="4960080"/>
                <a:ext cx="18262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文本框 87"/>
              <p:cNvSpPr/>
              <p:nvPr/>
            </p:nvSpPr>
            <p:spPr>
              <a:xfrm>
                <a:off x="8115120" y="4704120"/>
                <a:ext cx="594720" cy="63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文本框 87"/>
              <p:cNvSpPr/>
              <p:nvPr/>
            </p:nvSpPr>
            <p:spPr>
              <a:xfrm>
                <a:off x="5225040" y="4054680"/>
                <a:ext cx="595080" cy="59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文本框 87"/>
              <p:cNvSpPr/>
              <p:nvPr/>
            </p:nvSpPr>
            <p:spPr>
              <a:xfrm>
                <a:off x="5148360" y="4711320"/>
                <a:ext cx="595080" cy="59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文本框 87"/>
              <p:cNvSpPr/>
              <p:nvPr/>
            </p:nvSpPr>
            <p:spPr>
              <a:xfrm>
                <a:off x="8513280" y="4005360"/>
                <a:ext cx="595080" cy="59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87"/>
              <p:cNvSpPr/>
              <p:nvPr/>
            </p:nvSpPr>
            <p:spPr>
              <a:xfrm>
                <a:off x="8272440" y="5425200"/>
                <a:ext cx="595080" cy="59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文本框 87"/>
              <p:cNvSpPr/>
              <p:nvPr/>
            </p:nvSpPr>
            <p:spPr>
              <a:xfrm>
                <a:off x="5364360" y="5392440"/>
                <a:ext cx="595080" cy="59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Text Box 16"/>
          <p:cNvSpPr/>
          <p:nvPr/>
        </p:nvSpPr>
        <p:spPr>
          <a:xfrm>
            <a:off x="4716360" y="170172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619280" y="436572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EF∥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68360" y="49417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平行于同一条直线的两条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108000" y="12700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同一平面内，直线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⊥b,b∥c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则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位置关系是 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平行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相交但不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垂直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以上都不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08000" y="342900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∥CD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F∥AB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位置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系是▁▁▁▁▁，理由是▁▁▁▁▁▁▁▁▁▁▁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64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过三角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三个顶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分别画对边的平行线，两两相交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98"/>
          <p:cNvGrpSpPr/>
          <p:nvPr/>
        </p:nvGrpSpPr>
        <p:grpSpPr>
          <a:xfrm>
            <a:off x="2916360" y="2852640"/>
            <a:ext cx="2518920" cy="1944360"/>
            <a:chOff x="2916360" y="2852640"/>
            <a:chExt cx="2518920" cy="1944360"/>
          </a:xfrm>
        </p:grpSpPr>
        <p:sp>
          <p:nvSpPr>
            <p:cNvPr id="107" name="等腰三角形 94"/>
            <p:cNvSpPr/>
            <p:nvPr/>
          </p:nvSpPr>
          <p:spPr>
            <a:xfrm>
              <a:off x="3367080" y="3494880"/>
              <a:ext cx="1610640" cy="115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95"/>
            <p:cNvSpPr/>
            <p:nvPr/>
          </p:nvSpPr>
          <p:spPr>
            <a:xfrm>
              <a:off x="5021280" y="4186800"/>
              <a:ext cx="414000" cy="5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95"/>
            <p:cNvSpPr/>
            <p:nvPr/>
          </p:nvSpPr>
          <p:spPr>
            <a:xfrm>
              <a:off x="3940920" y="2852640"/>
              <a:ext cx="414000" cy="5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95"/>
            <p:cNvSpPr/>
            <p:nvPr/>
          </p:nvSpPr>
          <p:spPr>
            <a:xfrm>
              <a:off x="2916360" y="4208400"/>
              <a:ext cx="414000" cy="5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8"/>
          <p:cNvSpPr/>
          <p:nvPr/>
        </p:nvSpPr>
        <p:spPr>
          <a:xfrm>
            <a:off x="1981080" y="3502080"/>
            <a:ext cx="475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050920" y="2925720"/>
            <a:ext cx="2521080" cy="3313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3708360" y="3068640"/>
            <a:ext cx="2521080" cy="324000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86908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484360" y="307008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95640" y="595008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指导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内容：快速浏览课本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至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方法：独立看书，独立思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求：找出平行线的判定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010280" y="609480"/>
            <a:ext cx="1143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 flipH="1">
            <a:off x="6248520" y="60948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8153280" y="6094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248520" y="14479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 flipH="1">
            <a:off x="8305560" y="1447920"/>
            <a:ext cx="5331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934320" y="2438280"/>
            <a:ext cx="14475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H="1">
            <a:off x="6934320" y="609480"/>
            <a:ext cx="121896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7010280" y="609480"/>
            <a:ext cx="12956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6248520" y="1447920"/>
            <a:ext cx="25905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781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001000" y="228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876312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077320" y="2514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629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7913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17"/>
          <p:cNvSpPr/>
          <p:nvPr/>
        </p:nvSpPr>
        <p:spPr>
          <a:xfrm flipH="1" rot="9724800">
            <a:off x="7074720" y="615600"/>
            <a:ext cx="230400" cy="15876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18"/>
          <p:cNvSpPr/>
          <p:nvPr/>
        </p:nvSpPr>
        <p:spPr>
          <a:xfrm flipH="1">
            <a:off x="8076600" y="2209680"/>
            <a:ext cx="75960" cy="22860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7238880" y="609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7696080" y="2057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21"/>
          <p:cNvSpPr/>
          <p:nvPr/>
        </p:nvSpPr>
        <p:spPr>
          <a:xfrm>
            <a:off x="6400800" y="1295280"/>
            <a:ext cx="76320" cy="15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8839080" y="1371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23"/>
          <p:cNvSpPr/>
          <p:nvPr/>
        </p:nvSpPr>
        <p:spPr>
          <a:xfrm>
            <a:off x="7696080" y="1295280"/>
            <a:ext cx="76320" cy="15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647712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7772400" y="1066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26"/>
          <p:cNvSpPr/>
          <p:nvPr/>
        </p:nvSpPr>
        <p:spPr>
          <a:xfrm rot="17050200">
            <a:off x="6868800" y="2122560"/>
            <a:ext cx="76320" cy="25092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27"/>
          <p:cNvSpPr/>
          <p:nvPr/>
        </p:nvSpPr>
        <p:spPr>
          <a:xfrm rot="10889400">
            <a:off x="8076600" y="685440"/>
            <a:ext cx="228600" cy="76320"/>
          </a:xfrm>
          <a:prstGeom prst="pi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6705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800100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0" y="771480"/>
            <a:ext cx="76201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：  填空，并注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∵　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= ∠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∥——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∵　∠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3= ∠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∥——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∵　∠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5= ∠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∥——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  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+ ∠AFE=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∥——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）∵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B ∥FC,     ED ∥F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∥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685800" y="1762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685800" y="2905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85800" y="3895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685800" y="5114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685800" y="618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1523880" y="18381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2438280" y="1838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3505320" y="1685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内错角相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1447920" y="2905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2362320" y="2905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3505320" y="29811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同位角相等，两直线平行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1447920" y="3971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438280" y="3971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4"/>
          <p:cNvSpPr/>
          <p:nvPr/>
        </p:nvSpPr>
        <p:spPr>
          <a:xfrm>
            <a:off x="3276720" y="4114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内错角相等，两直线平行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1447920" y="5114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6"/>
          <p:cNvSpPr/>
          <p:nvPr/>
        </p:nvSpPr>
        <p:spPr>
          <a:xfrm>
            <a:off x="2362320" y="5114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3352680" y="5191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旁内角互补，两直线平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1295280" y="61815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9"/>
          <p:cNvSpPr/>
          <p:nvPr/>
        </p:nvSpPr>
        <p:spPr>
          <a:xfrm>
            <a:off x="2286000" y="6181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3276720" y="625788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平行于同直线的两条直线互相平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">
            <a:hlinkClick r:id="rId1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539640" y="228600"/>
            <a:ext cx="2592360" cy="520560"/>
          </a:xfrm>
          <a:prstGeom prst="rect">
            <a:avLst/>
          </a:prstGeom>
          <a:solidFill>
            <a:srgbClr val="99cc00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复习检测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3"/>
          <p:cNvSpPr/>
          <p:nvPr/>
        </p:nvSpPr>
        <p:spPr>
          <a:xfrm>
            <a:off x="3505320" y="4648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7:21:21Z</dcterms:created>
  <dc:creator>微软用户</dc:creator>
  <dc:description/>
  <cp:keywords/>
  <dc:language>en-US</dc:language>
  <cp:lastModifiedBy>AutoBVT</cp:lastModifiedBy>
  <dcterms:modified xsi:type="dcterms:W3CDTF">2015-12-02T07:18:41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