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8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32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2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22.wmf" ContentType="image/x-wmf"/>
  <Override PartName="/ppt/media/image23.png" ContentType="image/png"/>
  <Override PartName="/ppt/media/image2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9C2-A457-4C33-9868-39F6913B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7C7-FF21-4502-A340-44D9A226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B06-CEDB-4B1F-998B-CF52FEFA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91F-C898-42BE-93B0-AF42F8D4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44E1-3A2C-4044-9EBD-2E746F6E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9564-4388-402C-B1EA-371463EA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A433-70F6-431D-AF45-91A5FD8B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BEB7-B668-449A-863D-CD15FC41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F436-D77D-4DE8-8EAE-B4219E8E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65EE-3DB9-4D43-9185-26854670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7B61-8F3E-4FA7-B9DD-0125D7D3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6CC-D271-41C9-A517-C0B7EA42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3F56-84F9-4608-BBE7-5C16F8C9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5367-8332-4295-A641-B87B7186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9BA7-63C5-44D4-AE2F-AA4CE251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480A-334B-43DB-9E88-9B80997B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F4C1-E316-474A-89CD-8CB3C018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40BF-5B19-41ED-9CAF-1B4A0860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F61E-D03D-4F2F-8DC0-1915312C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7D63-D085-4A0B-9691-C7F41F70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B035-D9C8-4109-8F43-2F25104E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6F12-F2B3-4574-A6F1-8F6512BA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167-B09E-4D7B-A4BD-BBB047B3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7C1C1-2D74-4C19-8884-0D631B75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E4C5-5F0B-4F9D-A7A7-7D5ED997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4054-6D75-4F00-8C21-B71598C1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8B5D-ADDE-4AF1-9763-1792414F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99D3-E8B3-47B9-AA24-9E27F077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0195-5D8E-4A3C-9D56-7804DBE2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1822-A805-4935-896D-2AD9EF78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424-666F-4299-A82B-43FA716C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68F-3780-4D23-87F4-80ABC74C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68D-D744-4C32-9593-440D2DDC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322-15C3-4788-912B-CFFDB59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299-ABBA-4382-B638-5B435C44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048-3727-4672-862B-D1710C2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ADC2-1ACB-4561-824C-ABF5628B94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3A99-D00D-43A0-A838-E591030DD6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8609-6066-41F1-B996-94FFF6AA59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4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4000" y="1052640"/>
          <a:ext cx="8569080" cy="4867200"/>
        </p:xfrm>
        <a:graphic>
          <a:graphicData uri="http://schemas.openxmlformats.org/drawingml/2006/table">
            <a:tbl>
              <a:tblPr/>
              <a:tblGrid>
                <a:gridCol w="1152360"/>
                <a:gridCol w="1295280"/>
                <a:gridCol w="1513080"/>
                <a:gridCol w="4608360"/>
              </a:tblGrid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综合考查圆与统计、概率的知识点，重点在于切线、圆的相关性质、概率的计算、统计图的分析，其中圆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统计与概率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统计图表的分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概率的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的相关性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切线与圆的有关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类讨论、数形结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扇形图考查中位数与众数，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同时利用动点与图形变换，考查圆的有关性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18960" y="1700280"/>
          <a:ext cx="8447040" cy="45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700280"/>
                    <a:ext cx="844704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665800" y="299628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70028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半圆，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逆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此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到了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图中阴影部分的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7742520" y="2262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2852640"/>
            <a:ext cx="281952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18960" y="1341360"/>
          <a:ext cx="8447040" cy="45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41360"/>
                    <a:ext cx="844704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062080" y="1609560"/>
            <a:ext cx="5019840" cy="363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70280" y="17928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下册阶段综合测试五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24000" y="1197000"/>
          <a:ext cx="8562960" cy="467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56296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62200" y="2520000"/>
            <a:ext cx="39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95280" y="1052640"/>
          <a:ext cx="8424720" cy="494964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224000"/>
                <a:gridCol w="4968720"/>
              </a:tblGrid>
              <a:tr h="96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本卷综合考查九年级全学年的内容，共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章节，其中代数部分占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几何部分占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统计与概率占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重点在于考查学生对于九年级所学内容的理解能力和应用能力．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技能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代数与函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几何与图形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统计与概率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综合题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形结合、样本估计总体、分类讨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正方形的性质考查函数，第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阅读理解的方式考查学生的分析能力，第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图形运动考查学生对于压轴题的分析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24040"/>
            <a:ext cx="864216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发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J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(a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若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直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侧，在直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找一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最小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做法如下：作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关于直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对称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′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′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与直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交点就是所求的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再如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等边三角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高，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找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最小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做法如下：作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关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对称点，恰好与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重合，连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一点，则这点就是所求的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最小值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00080" y="1919160"/>
            <a:ext cx="5343840" cy="301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6720" y="1328760"/>
          <a:ext cx="8496000" cy="3828960"/>
        </p:xfrm>
        <a:graphic>
          <a:graphicData uri="http://schemas.openxmlformats.org/drawingml/2006/table">
            <a:tbl>
              <a:tblPr/>
              <a:tblGrid>
                <a:gridCol w="1008000"/>
                <a:gridCol w="936360"/>
                <a:gridCol w="1151280"/>
                <a:gridCol w="5400360"/>
              </a:tblGrid>
              <a:tr h="116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统计与概率是新课改后增加的内容，本卷的考查主要体现在对统计内容的理解及统计与概率的内在联系，重点是统计图的分析和概率的计算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统计图表的分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概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8960" y="1157400"/>
          <a:ext cx="8375760" cy="52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57400"/>
                    <a:ext cx="837576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18960" y="1484280"/>
          <a:ext cx="8375760" cy="38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484280"/>
                    <a:ext cx="837576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18960" y="1052640"/>
          <a:ext cx="830268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30268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18960" y="1222200"/>
          <a:ext cx="8302680" cy="602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222200"/>
                    <a:ext cx="8302680" cy="60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771640" y="2066760"/>
            <a:ext cx="3600720" cy="27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1040760" y="90792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18960" y="1484280"/>
          <a:ext cx="8317080" cy="51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484280"/>
                    <a:ext cx="831708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986200" y="2057400"/>
            <a:ext cx="31716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18960" y="1119240"/>
          <a:ext cx="850608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19240"/>
                    <a:ext cx="850608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57680" y="1919160"/>
            <a:ext cx="3429000" cy="301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18960" y="1201680"/>
          <a:ext cx="8578800" cy="856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201680"/>
                    <a:ext cx="8578800" cy="856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6720" y="1576440"/>
          <a:ext cx="8496000" cy="1276200"/>
        </p:xfrm>
        <a:graphic>
          <a:graphicData uri="http://schemas.openxmlformats.org/drawingml/2006/table">
            <a:tbl>
              <a:tblPr/>
              <a:tblGrid>
                <a:gridCol w="1368360"/>
                <a:gridCol w="7127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形结合思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无理数的概念考查概率，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结合生活实际考查统计知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18960" y="1197000"/>
          <a:ext cx="8506080" cy="53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97000"/>
                    <a:ext cx="850608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18960" y="1247760"/>
          <a:ext cx="8506080" cy="47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247760"/>
                    <a:ext cx="8506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91720" y="2520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初中总复习基础测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1125360"/>
          <a:ext cx="8642160" cy="4867560"/>
        </p:xfrm>
        <a:graphic>
          <a:graphicData uri="http://schemas.openxmlformats.org/drawingml/2006/table">
            <a:tbl>
              <a:tblPr/>
              <a:tblGrid>
                <a:gridCol w="865080"/>
                <a:gridCol w="1655640"/>
                <a:gridCol w="61214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考查初中数学的所有重点内容，以基本知识点的把握为主，其中基础题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能力题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提高题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与代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形与几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统计与概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综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形结合、分类讨论，从特殊到一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探索图形从特殊到一般的规律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考查动手操作能力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函数与等边三角形的性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72404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若不等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解都能使关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次不等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立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≤7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≤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≥7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4732200" y="2276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98360" y="179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九年级下册综合测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18960" y="1484280"/>
          <a:ext cx="8433000" cy="34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484280"/>
                    <a:ext cx="843300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671480" y="2506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17240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、乙两个同学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环形跑道上的同一点出发，同向而行，甲的速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m/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乙的速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m/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，跑道上此两人间的较短部分的长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0≤x≤30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间函数关系可用图象表示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6310440" y="31701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467000" y="2000160"/>
            <a:ext cx="621000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52520" y="1380960"/>
            <a:ext cx="6438960" cy="409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17240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 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　由于两人从同一地点出发，同向而行，所以两人之间的距离从零开始逐渐增大，到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00 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s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时两人之间的距离为最大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然后甲逐渐追上乙，两人之间的距离在不断减小，到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00 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s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时甲追上乙，两人之间的较短距离为零，继而两人的较短距离又在不断增大，所以甲乙的较短距离经历了一个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过程；再者，两人之间的距离是时间的一次函数，所以正确答案为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700280"/>
            <a:ext cx="8642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夷昌中学开展“阳光体育活动”，九年级一班全体同学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分别参加了巴山舞、乒乓球、篮球三个项目的活动，陈老师在此时统计了该班正在参加这三项活动的人数，并绘制了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的频数分布直方图和扇形统计图．根据这两个统计图，可以知道此时该班正在参加乒乓球活动的人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 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112120" y="4064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1557360"/>
            <a:ext cx="8642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斜边分别向外侧作等腰直角三角形，直角顶点分别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顺次连接这四个点，得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G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当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正方形时，我们发现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G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正方形；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当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矩形时，请判断：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G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要求证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当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一般平行四边形时，设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(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1125360"/>
            <a:ext cx="8642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试用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代数式表示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G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什么四边形？并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58920" y="2924280"/>
            <a:ext cx="685800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18960" y="1320840"/>
          <a:ext cx="8359920" cy="441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20840"/>
                    <a:ext cx="835992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18960" y="1000080"/>
          <a:ext cx="835992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00080"/>
                    <a:ext cx="835992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基础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18960" y="982800"/>
          <a:ext cx="835992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982800"/>
                    <a:ext cx="835992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691720" y="2520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初中总复习综合测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24000" y="981000"/>
          <a:ext cx="8569080" cy="5011560"/>
        </p:xfrm>
        <a:graphic>
          <a:graphicData uri="http://schemas.openxmlformats.org/drawingml/2006/table">
            <a:tbl>
              <a:tblPr/>
              <a:tblGrid>
                <a:gridCol w="1223640"/>
                <a:gridCol w="648000"/>
                <a:gridCol w="1728720"/>
                <a:gridCol w="4968720"/>
              </a:tblGrid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本卷的考查范围是初中数学的所有内容，重点在于培养学生的基本解题能力，其中基础题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能力题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提高题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与代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形与几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统计与概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综合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体代入的方法、数形结合、分类讨论、从特殊到一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利用整体代入的方法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考查学生的操作能力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学生对于图形变换的分析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动点为载体，考查学生对于压轴题的分析和解决能力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1557360"/>
            <a:ext cx="8642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①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两个相似比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等腰直角三角形，将两个三角形如图③放置，小直角三角形的斜边与大直角三角形的一直角边重合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图③中，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旋转小直角三角形，使两直角边分别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如图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在图③中，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旋转小直角三角形，使它的斜边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延长线分别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如图⑤，此时结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否仍然成立？若成立，请给出证明；若不成立，请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155736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⑥，在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是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点，满足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周长等于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周长的一半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与对角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试问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否构成三角形的三边长？若能，指出三角形的形状，并给出证明；若不能，请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4429080" cy="4964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57240" y="1676520"/>
            <a:ext cx="722952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/>
          <p:nvPr/>
        </p:nvSpPr>
        <p:spPr>
          <a:xfrm>
            <a:off x="108000" y="1125360"/>
            <a:ext cx="8893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在图④中，由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将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E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绕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旋转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8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得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E′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如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Z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Z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D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连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∵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238140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1125360"/>
            <a:ext cx="86421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在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△BE′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中有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B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又∵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垂直平分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代换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在图⑤中，由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将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绕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旋转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得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′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如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Z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357336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∵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BE′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9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在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△BE′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中有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B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′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又可证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F≌△CE′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E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132000" y="981000"/>
            <a:ext cx="308628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1125360"/>
            <a:ext cx="8642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∴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代换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Z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将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D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绕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顺时针旋转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得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且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G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3267360" cy="2962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96560" y="1792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初中总复习综合测试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/>
          <p:nvPr/>
        </p:nvSpPr>
        <p:spPr>
          <a:xfrm>
            <a:off x="250920" y="1125360"/>
            <a:ext cx="86421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因为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的周长等于正方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周长的一半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所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化简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从而可得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EG≌△A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推出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A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A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5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此时该问题就转化为图⑤中的问题了．由前面的结论知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N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M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N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，再由勾股定理的逆定理知：线段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可构成直角三角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268280"/>
            <a:ext cx="864216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某校开展形式多样的“阳光体育”活动，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班同学积极响应，全班参与，晶晶绘制了该班同学参加体育项目情况的扇形统计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由图可知参加人数最多的体育项目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排球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乒乓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篮球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跳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492920" y="273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322720" cy="281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955800"/>
            <a:ext cx="864216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为广泛开展阳光健身活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红星中学投入维修场地、安装设施、购置器材及其他项目的资金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．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反映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投入资金分配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以来购置器材投入资金的年增长率的具体数据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以上信息，下列判断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总投入中购置器材的资金最多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购置器材投入资金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购置器材投入资金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购置器材投入资金的年增长率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购置器材投入资金的年增长率相同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购置器材的投入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×38%×(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．其中正确判断的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8030160" y="491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1920" y="876240"/>
            <a:ext cx="722016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00360" y="2520000"/>
            <a:ext cx="56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下册阶段综合测试五</a:t>
            </a:r>
            <a:r>
              <a:rPr b="1" lang="en-US" sz="5400" spc="-1" strike="noStrike">
                <a:solidFill>
                  <a:srgbClr val="145bf8"/>
                </a:solidFill>
                <a:latin typeface="宋体"/>
              </a:rPr>
              <a:t>(</a:t>
            </a:r>
            <a:r>
              <a:rPr b="1" lang="zh-CN" sz="5400" spc="-1" strike="noStrike">
                <a:solidFill>
                  <a:srgbClr val="145bf8"/>
                </a:solidFill>
                <a:latin typeface="宋体"/>
              </a:rPr>
              <a:t>月考</a:t>
            </a:r>
            <a:r>
              <a:rPr b="1" lang="en-US" sz="5400" spc="-1" strike="noStrike">
                <a:solidFill>
                  <a:srgbClr val="145bf8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3:35Z</dcterms:modified>
  <cp:revision>315</cp:revision>
  <dc:subject/>
  <dc:title>幻灯片 1</dc:title>
</cp:coreProperties>
</file>