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type.wav" ContentType="audio/x-wav"/>
  <Override PartName="/ppt/media/image9.gif" ContentType="image/gif"/>
  <Override PartName="/ppt/media/image5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550-0238-43EA-B646-316AB3C1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BD1-3598-4F00-9F8E-105EB3DF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300-0BF2-49FC-9164-82DDB96E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B38-8679-47DB-BBCF-F8D644AC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F39D-2E86-4593-A8E6-1BAFCFF1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C48-8A01-4A17-9CD3-0AFFC76F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284-2B1C-46C2-8B25-070FB75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6EF-BB01-4C92-9671-F2F5FC92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C45-7056-40F7-A41A-E0B577D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100D-750E-4C5A-85A4-C367BC9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FAB8-9140-4615-9EF1-3EC0584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13F-E7E2-41BF-9F50-81B8C69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F08-3047-4AEC-BD9A-77C6800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88F4-71FA-4A29-B24D-B594A2D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239-5CA8-4B8C-BB02-55ED7E0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0816-EA4C-4176-A4BB-727880F7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EA0B-207C-4360-9C00-144F94B2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40E-5BC0-4875-9512-0B1E786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5C1-C357-4028-8A18-6F7E283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BB8-8D66-447F-A688-9FDF80C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B7F-D44F-416B-9424-532B73EC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83B-26CB-413B-B576-776987F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148-7AF0-401F-9B8E-FF4BA8F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F20-04E7-4CF3-9123-EDAC012B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891A-5351-4886-B7A0-1AB94F33AA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BA8-A560-4FED-AFD5-9F3B49937E8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" Target="slide15.xm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第一章 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直角三角形的边角关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第一节  从梯子的倾斜程度谈起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二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653000"/>
            <a:ext cx="691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488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八仙过海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尽显才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1981080"/>
            <a:ext cx="5333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∠C=90°,CD⊥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50840"/>
            <a:ext cx="3581280" cy="686880"/>
            <a:chOff x="533520" y="150840"/>
            <a:chExt cx="3581280" cy="686880"/>
          </a:xfrm>
        </p:grpSpPr>
        <p:grpSp>
          <p:nvGrpSpPr>
            <p:cNvPr id="297" name=""/>
            <p:cNvGrpSpPr/>
            <p:nvPr/>
          </p:nvGrpSpPr>
          <p:grpSpPr>
            <a:xfrm>
              <a:off x="533520" y="150840"/>
              <a:ext cx="2361960" cy="519840"/>
              <a:chOff x="533520" y="150840"/>
              <a:chExt cx="2361960" cy="519840"/>
            </a:xfrm>
          </p:grpSpPr>
          <p:sp>
            <p:nvSpPr>
              <p:cNvPr id="298" name=""/>
              <p:cNvSpPr/>
              <p:nvPr/>
            </p:nvSpPr>
            <p:spPr>
              <a:xfrm>
                <a:off x="533520" y="199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13080" y="150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89548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228600" y="41911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上图中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若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BD=6,CD=12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值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5029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提示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模型“双垂直三角形”的有关性质你可曾记得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5280" y="2781360"/>
            <a:ext cx="4897440" cy="1038240"/>
            <a:chOff x="395280" y="2781360"/>
            <a:chExt cx="4897440" cy="1038240"/>
          </a:xfrm>
        </p:grpSpPr>
        <p:sp>
          <p:nvSpPr>
            <p:cNvPr id="305" name=""/>
            <p:cNvSpPr/>
            <p:nvPr/>
          </p:nvSpPr>
          <p:spPr>
            <a:xfrm>
              <a:off x="395280" y="2800440"/>
              <a:ext cx="4897440" cy="1015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35040" y="2781360"/>
              <a:ext cx="4470480" cy="1038240"/>
              <a:chOff x="635040" y="2781360"/>
              <a:chExt cx="4470480" cy="1038240"/>
            </a:xfrm>
          </p:grpSpPr>
          <mc:AlternateContent>
            <mc:Choice xmlns:a14="http://schemas.microsoft.com/office/drawing/2010/main" Requires="a14">
              <p:sp>
                <p:nvSpPr>
                  <p:cNvPr id="307" name=""/>
                  <p:cNvSpPr txBox="1"/>
                  <p:nvPr/>
                </p:nvSpPr>
                <p:spPr>
                  <a:xfrm>
                    <a:off x="635040" y="2857680"/>
                    <a:ext cx="4444920" cy="96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/>
                          <m:den/>
                        </m:f>
                        <m:r>
                          <m:t xml:space="preserve">=</m:t>
                        </m:r>
                        <m:f>
                          <m:num/>
                          <m:den/>
                        </m:f>
                        <m:r>
                          <m:t xml:space="preserve">=</m:t>
                        </m:r>
                        <m:f>
                          <m:num/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"/>
              <p:cNvSpPr/>
              <p:nvPr/>
            </p:nvSpPr>
            <p:spPr>
              <a:xfrm>
                <a:off x="2286000" y="278136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(    )    (    )    (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86000" y="331488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(    )    (    )    (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5562720" y="1752480"/>
            <a:ext cx="3124080" cy="2059920"/>
            <a:chOff x="5562720" y="1752480"/>
            <a:chExt cx="3124080" cy="2059920"/>
          </a:xfrm>
        </p:grpSpPr>
        <p:sp>
          <p:nvSpPr>
            <p:cNvPr id="311" name=""/>
            <p:cNvSpPr/>
            <p:nvPr/>
          </p:nvSpPr>
          <p:spPr>
            <a:xfrm rot="13715400">
              <a:off x="7506360" y="216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04120" y="3048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8760" y="34354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830720" y="2133720"/>
              <a:ext cx="1800" cy="13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867280" y="2130120"/>
              <a:ext cx="1979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67280" y="3429000"/>
              <a:ext cx="26179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48720" y="2133720"/>
              <a:ext cx="672840" cy="13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438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296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01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3715400">
              <a:off x="7506360" y="216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04120" y="3048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272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08760" y="34354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30720" y="2133720"/>
              <a:ext cx="1800" cy="1317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867280" y="2130120"/>
              <a:ext cx="1979640" cy="1298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3429000"/>
              <a:ext cx="2617920" cy="6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2133720"/>
              <a:ext cx="672840" cy="13017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38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96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201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488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八仙过海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尽显才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981080"/>
            <a:ext cx="4343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7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分别根据图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图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∠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三个三角函数值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520" y="150840"/>
            <a:ext cx="3581280" cy="686880"/>
            <a:chOff x="533520" y="150840"/>
            <a:chExt cx="3581280" cy="686880"/>
          </a:xfrm>
        </p:grpSpPr>
        <p:grpSp>
          <p:nvGrpSpPr>
            <p:cNvPr id="336" name=""/>
            <p:cNvGrpSpPr/>
            <p:nvPr/>
          </p:nvGrpSpPr>
          <p:grpSpPr>
            <a:xfrm>
              <a:off x="533520" y="150840"/>
              <a:ext cx="2361960" cy="519840"/>
              <a:chOff x="533520" y="150840"/>
              <a:chExt cx="2361960" cy="519840"/>
            </a:xfrm>
          </p:grpSpPr>
          <p:sp>
            <p:nvSpPr>
              <p:cNvPr id="337" name=""/>
              <p:cNvSpPr/>
              <p:nvPr/>
            </p:nvSpPr>
            <p:spPr>
              <a:xfrm>
                <a:off x="533520" y="199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413080" y="150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289548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228600" y="3921120"/>
            <a:ext cx="7367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8.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∠C=90°, AC=3,AB=6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提示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锐角三角函数时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勾股定理的运用是很重要的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4120" y="1828800"/>
            <a:ext cx="3657600" cy="1831320"/>
            <a:chOff x="5334120" y="1828800"/>
            <a:chExt cx="3657600" cy="1831320"/>
          </a:xfrm>
        </p:grpSpPr>
        <p:sp>
          <p:nvSpPr>
            <p:cNvPr id="344" name=""/>
            <p:cNvSpPr/>
            <p:nvPr/>
          </p:nvSpPr>
          <p:spPr>
            <a:xfrm>
              <a:off x="6400800" y="2743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2940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8168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62720" y="2209680"/>
              <a:ext cx="1218960" cy="91440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588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53280" y="274320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18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059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3452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314480" y="2209680"/>
              <a:ext cx="1219320" cy="91440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960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320040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43800" y="320040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488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八仙过海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尽显才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520" y="150840"/>
            <a:ext cx="3581280" cy="686880"/>
            <a:chOff x="533520" y="150840"/>
            <a:chExt cx="3581280" cy="686880"/>
          </a:xfrm>
        </p:grpSpPr>
        <p:grpSp>
          <p:nvGrpSpPr>
            <p:cNvPr id="362" name=""/>
            <p:cNvGrpSpPr/>
            <p:nvPr/>
          </p:nvGrpSpPr>
          <p:grpSpPr>
            <a:xfrm>
              <a:off x="533520" y="150840"/>
              <a:ext cx="2361960" cy="519840"/>
              <a:chOff x="533520" y="150840"/>
              <a:chExt cx="2361960" cy="519840"/>
            </a:xfrm>
          </p:grpSpPr>
          <p:sp>
            <p:nvSpPr>
              <p:cNvPr id="363" name=""/>
              <p:cNvSpPr/>
              <p:nvPr/>
            </p:nvSpPr>
            <p:spPr>
              <a:xfrm>
                <a:off x="533520" y="199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13080" y="150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289548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228600" y="2052720"/>
            <a:ext cx="635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等腰△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AB=AC=13,BC=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B,co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提示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过点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作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D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垂直于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BC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垂足为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锐角三角函数时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勾股定理的运用是很重要的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313320" y="1916280"/>
            <a:ext cx="2361960" cy="2745720"/>
            <a:chOff x="6313320" y="1916280"/>
            <a:chExt cx="2361960" cy="2745720"/>
          </a:xfrm>
        </p:grpSpPr>
        <p:sp>
          <p:nvSpPr>
            <p:cNvPr id="370" name=""/>
            <p:cNvSpPr/>
            <p:nvPr/>
          </p:nvSpPr>
          <p:spPr>
            <a:xfrm>
              <a:off x="7227720" y="1916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18080" y="4125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13320" y="404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17880" y="2297160"/>
              <a:ext cx="1739880" cy="1947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0080" y="2340000"/>
              <a:ext cx="0" cy="193824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68960" y="38577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03680" y="4202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724280" y="115560"/>
            <a:ext cx="2368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相信自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33520" y="150840"/>
            <a:ext cx="3581280" cy="686880"/>
            <a:chOff x="533520" y="150840"/>
            <a:chExt cx="3581280" cy="686880"/>
          </a:xfrm>
        </p:grpSpPr>
        <p:grpSp>
          <p:nvGrpSpPr>
            <p:cNvPr id="379" name=""/>
            <p:cNvGrpSpPr/>
            <p:nvPr/>
          </p:nvGrpSpPr>
          <p:grpSpPr>
            <a:xfrm>
              <a:off x="533520" y="150840"/>
              <a:ext cx="2361960" cy="519840"/>
              <a:chOff x="533520" y="150840"/>
              <a:chExt cx="2361960" cy="519840"/>
            </a:xfrm>
          </p:grpSpPr>
          <p:sp>
            <p:nvSpPr>
              <p:cNvPr id="380" name=""/>
              <p:cNvSpPr/>
              <p:nvPr/>
            </p:nvSpPr>
            <p:spPr>
              <a:xfrm>
                <a:off x="533520" y="199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13080" y="150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289548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28600" y="1484280"/>
            <a:ext cx="607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梯形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B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D//BC,AB=DC=13,AD=8,BC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sinB,cosB,tan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8000" y="4149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提示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梯形的高是梯形的常用辅助线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借助它可以转化为直角三角形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095880" y="1197000"/>
            <a:ext cx="2743200" cy="2136240"/>
            <a:chOff x="6095880" y="1197000"/>
            <a:chExt cx="2743200" cy="2136240"/>
          </a:xfrm>
        </p:grpSpPr>
        <p:sp>
          <p:nvSpPr>
            <p:cNvPr id="387" name=""/>
            <p:cNvSpPr/>
            <p:nvPr/>
          </p:nvSpPr>
          <p:spPr>
            <a:xfrm>
              <a:off x="6629400" y="119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72400" y="119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5880" y="287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248520" y="1578240"/>
              <a:ext cx="2361960" cy="1371600"/>
            </a:xfrm>
            <a:custGeom>
              <a:avLst/>
              <a:gdLst>
                <a:gd name="textAreaLeft" fmla="*/ 519480 w 2361960"/>
                <a:gd name="textAreaRight" fmla="*/ 1842480 w 2361960"/>
                <a:gd name="textAreaTop" fmla="*/ 301680 h 1371600"/>
                <a:gd name="textAreaBottom" fmla="*/ 10699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81880" y="287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2400" y="287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32720" y="25686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985160" y="1578240"/>
              <a:ext cx="15840" cy="138744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16800" y="287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7120" y="25686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829560" y="1578240"/>
              <a:ext cx="15840" cy="138744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回味无穷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定义中应该注意的几个问题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6320" y="60480"/>
            <a:ext cx="2819160" cy="1297440"/>
            <a:chOff x="76320" y="60480"/>
            <a:chExt cx="2819160" cy="1297440"/>
          </a:xfrm>
        </p:grpSpPr>
        <p:grpSp>
          <p:nvGrpSpPr>
            <p:cNvPr id="401" name=""/>
            <p:cNvGrpSpPr/>
            <p:nvPr/>
          </p:nvGrpSpPr>
          <p:grpSpPr>
            <a:xfrm>
              <a:off x="76320" y="60480"/>
              <a:ext cx="2666520" cy="929880"/>
              <a:chOff x="76320" y="60480"/>
              <a:chExt cx="2666520" cy="9298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320" y="16236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200" y="6048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1143000" y="28908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52280" y="2890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52280" y="198108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.sinA,cosA,ta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是在直角三角形中定义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∠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是锐角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注意数形结合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构造直角三角形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.sinA,cosA,ta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各是一个完整的符号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分别表示∠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正弦、余弦和正切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记号中习惯省去“∠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.sinA,cosA,ta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分别是一个比值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注意比的顺序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,cosA,ta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均大于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无单位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4.sinA,cosA,ta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大小只与∠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大小有关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而与直角三角形的边长无关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角相等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则其三角函数值相等；两锐角的三角函数值相等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则这两个锐角相等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回味无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回顾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反思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深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6320" y="60480"/>
            <a:ext cx="2819160" cy="1297440"/>
            <a:chOff x="76320" y="60480"/>
            <a:chExt cx="2819160" cy="1297440"/>
          </a:xfrm>
        </p:grpSpPr>
        <p:grpSp>
          <p:nvGrpSpPr>
            <p:cNvPr id="410" name=""/>
            <p:cNvGrpSpPr/>
            <p:nvPr/>
          </p:nvGrpSpPr>
          <p:grpSpPr>
            <a:xfrm>
              <a:off x="76320" y="60480"/>
              <a:ext cx="2666520" cy="929880"/>
              <a:chOff x="76320" y="60480"/>
              <a:chExt cx="2666520" cy="929880"/>
            </a:xfrm>
          </p:grpSpPr>
          <p:sp>
            <p:nvSpPr>
              <p:cNvPr id="411" name=""/>
              <p:cNvSpPr/>
              <p:nvPr/>
            </p:nvSpPr>
            <p:spPr>
              <a:xfrm>
                <a:off x="76320" y="16236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6200" y="6048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1143000" y="28908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52280" y="2890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28600" y="184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锐角三角函数定义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441972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请思考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B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有什么关系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648320" y="1981080"/>
            <a:ext cx="4190760" cy="2364840"/>
            <a:chOff x="4648320" y="1981080"/>
            <a:chExt cx="4190760" cy="2364840"/>
          </a:xfrm>
        </p:grpSpPr>
        <p:sp>
          <p:nvSpPr>
            <p:cNvPr id="420" name=""/>
            <p:cNvSpPr/>
            <p:nvPr/>
          </p:nvSpPr>
          <p:spPr>
            <a:xfrm flipH="1">
              <a:off x="4876200" y="2362320"/>
              <a:ext cx="2438280" cy="152388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29560" y="365760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48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343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660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88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∠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A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的对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4120" y="3886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∠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A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的邻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34320" y="350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00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斜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79280" y="2422440"/>
            <a:ext cx="3673440" cy="379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95280" y="2565360"/>
            <a:ext cx="3580920" cy="3586680"/>
            <a:chOff x="395280" y="2565360"/>
            <a:chExt cx="3580920" cy="3586680"/>
          </a:xfrm>
        </p:grpSpPr>
        <p:grpSp>
          <p:nvGrpSpPr>
            <p:cNvPr id="431" name=""/>
            <p:cNvGrpSpPr/>
            <p:nvPr/>
          </p:nvGrpSpPr>
          <p:grpSpPr>
            <a:xfrm>
              <a:off x="395280" y="2565360"/>
              <a:ext cx="3580920" cy="1186560"/>
              <a:chOff x="395280" y="2565360"/>
              <a:chExt cx="3580920" cy="11865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1614240" y="2565360"/>
                <a:ext cx="2361960" cy="792360"/>
                <a:chOff x="1614240" y="2565360"/>
                <a:chExt cx="2361960" cy="792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3" name=""/>
                    <p:cNvSpPr txBox="1"/>
                    <p:nvPr/>
                  </p:nvSpPr>
                  <p:spPr>
                    <a:xfrm>
                      <a:off x="1614240" y="2565360"/>
                      <a:ext cx="2361960" cy="792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∠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的对边</m:t>
                              </m:r>
                            </m:e>
                            <m:e>
                              <m:r>
                                <m:t xml:space="preserve">∠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的邻边</m:t>
                              </m:r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34" name=""/>
                <p:cNvSpPr/>
                <p:nvPr/>
              </p:nvSpPr>
              <p:spPr>
                <a:xfrm>
                  <a:off x="1614240" y="2959200"/>
                  <a:ext cx="236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395280" y="2683080"/>
                <a:ext cx="1295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tanA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71240" y="3803760"/>
              <a:ext cx="3447360" cy="1184760"/>
              <a:chOff x="471240" y="3803760"/>
              <a:chExt cx="3447360" cy="1184760"/>
            </a:xfrm>
          </p:grpSpPr>
          <mc:AlternateContent>
            <mc:Choice xmlns:a14="http://schemas.microsoft.com/office/drawing/2010/main" Requires="a14">
              <p:sp>
                <p:nvSpPr>
                  <p:cNvPr id="437" name=""/>
                  <p:cNvSpPr txBox="1"/>
                  <p:nvPr/>
                </p:nvSpPr>
                <p:spPr>
                  <a:xfrm>
                    <a:off x="1613880" y="3803760"/>
                    <a:ext cx="2274480" cy="84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对边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8" name=""/>
              <p:cNvSpPr/>
              <p:nvPr/>
            </p:nvSpPr>
            <p:spPr>
              <a:xfrm>
                <a:off x="1644120" y="4214880"/>
                <a:ext cx="22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1240" y="3919680"/>
                <a:ext cx="1247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sinA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395280" y="4956120"/>
              <a:ext cx="3447360" cy="1195920"/>
              <a:chOff x="395280" y="4956120"/>
              <a:chExt cx="3447360" cy="1195920"/>
            </a:xfrm>
          </p:grpSpPr>
          <mc:AlternateContent>
            <mc:Choice xmlns:a14="http://schemas.microsoft.com/office/drawing/2010/main" Requires="a14">
              <p:sp>
                <p:nvSpPr>
                  <p:cNvPr id="441" name=""/>
                  <p:cNvSpPr txBox="1"/>
                  <p:nvPr/>
                </p:nvSpPr>
                <p:spPr>
                  <a:xfrm>
                    <a:off x="1568160" y="4956120"/>
                    <a:ext cx="2274480" cy="84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邻边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2" name=""/>
              <p:cNvSpPr/>
              <p:nvPr/>
            </p:nvSpPr>
            <p:spPr>
              <a:xfrm>
                <a:off x="1568160" y="5378400"/>
                <a:ext cx="22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5280" y="5083200"/>
                <a:ext cx="1247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cosA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6320" y="22096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1.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分别求∠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α,∠β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的正弦、余弦和正切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819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在△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ABC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,AB=5,BC=13,AD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BC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边上的高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,AD=4.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:CD,s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320" y="380988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Rt△ABC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,∠BCA=90°,CD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是中线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,BC=8,CD=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sin∠ACD,cos∠ACD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tan∠A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01000" y="1905120"/>
            <a:ext cx="1066680" cy="1371600"/>
          </a:xfrm>
          <a:prstGeom prst="rtTriangl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46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58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 rot="18783000">
            <a:off x="7944480" y="1944720"/>
            <a:ext cx="40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775720" y="3048120"/>
            <a:ext cx="27864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46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693200" y="2486160"/>
                <a:ext cx="307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305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320" y="5043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Rt△ABC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,∠C=90°,sinA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cosB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有什么关系</a:t>
            </a:r>
            <a:r>
              <a:rPr b="1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27000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66"/>
                </a:solidFill>
                <a:latin typeface="Tahoma"/>
                <a:ea typeface="隶书"/>
              </a:rPr>
              <a:t>知识的升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ahoma"/>
                <a:ea typeface="楷体_GB2312"/>
              </a:rPr>
              <a:t>结束寄语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3600" y="1989000"/>
            <a:ext cx="838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学中的某些定理具有这样的特性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们极易从事实中归纳出来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证明却隐藏极深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463" name="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19520" y="11916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 txBox="1"/>
          <p:nvPr/>
        </p:nvSpPr>
        <p:spPr>
          <a:xfrm>
            <a:off x="3129120" y="443700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直角三角形中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一个锐角的对边与邻边的比值是一个定值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么这个角的值也随之确定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140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正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0574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角三角形中边与角的关系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锐角的三角函数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正切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108" name=""/>
            <p:cNvGrpSpPr/>
            <p:nvPr/>
          </p:nvGrpSpPr>
          <p:grpSpPr>
            <a:xfrm>
              <a:off x="304920" y="351000"/>
              <a:ext cx="2361960" cy="461880"/>
              <a:chOff x="304920" y="351000"/>
              <a:chExt cx="2361960" cy="461880"/>
            </a:xfrm>
          </p:grpSpPr>
          <p:sp>
            <p:nvSpPr>
              <p:cNvPr id="109" name=""/>
              <p:cNvSpPr/>
              <p:nvPr/>
            </p:nvSpPr>
            <p:spPr>
              <a:xfrm>
                <a:off x="3049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有的放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8448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26668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049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58840" y="3357720"/>
            <a:ext cx="888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锐角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对边与邻边的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叫做∠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正切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记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anA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080" y="4343400"/>
            <a:ext cx="2438280" cy="1523880"/>
          </a:xfrm>
          <a:prstGeom prst="rtTriangl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29200" y="3962520"/>
            <a:ext cx="4191120" cy="2774880"/>
            <a:chOff x="5029200" y="3962520"/>
            <a:chExt cx="4191120" cy="2774880"/>
          </a:xfrm>
        </p:grpSpPr>
        <p:sp>
          <p:nvSpPr>
            <p:cNvPr id="116" name="">
              <a:hlinkClick r:id="rId5" action="ppaction://hlinksldjump"/>
            </p:cNvPr>
            <p:cNvSpPr/>
            <p:nvPr/>
          </p:nvSpPr>
          <p:spPr>
            <a:xfrm>
              <a:off x="7238880" y="6400800"/>
              <a:ext cx="598680" cy="336600"/>
            </a:xfrm>
            <a:custGeom>
              <a:avLst/>
              <a:gdLst>
                <a:gd name="textAreaLeft" fmla="*/ 21600 w 598680"/>
                <a:gd name="textAreaRight" fmla="*/ 577080 w 598680"/>
                <a:gd name="textAreaTop" fmla="*/ 21600 h 336600"/>
                <a:gd name="textAreaBottom" fmla="*/ 315000 h 336600"/>
              </a:gdLst>
              <a:ahLst/>
              <a:rect l="textAreaLeft" t="textAreaTop" r="textAreaRight" b="textAreaBottom"/>
              <a:pathLst>
                <a:path w="38400" h="21600">
                  <a:moveTo>
                    <a:pt x="0" y="0"/>
                  </a:moveTo>
                  <a:lnTo>
                    <a:pt x="38400" y="0"/>
                  </a:lnTo>
                  <a:lnTo>
                    <a:pt x="38400" y="21600"/>
                  </a:lnTo>
                  <a:lnTo>
                    <a:pt x="0" y="21600"/>
                  </a:lnTo>
                  <a:close/>
                </a:path>
                <a:path fill="lightenLess" w="38400" h="21600">
                  <a:moveTo>
                    <a:pt x="0" y="0"/>
                  </a:moveTo>
                  <a:lnTo>
                    <a:pt x="38400" y="0"/>
                  </a:lnTo>
                  <a:lnTo>
                    <a:pt x="37000" y="1400"/>
                  </a:lnTo>
                  <a:lnTo>
                    <a:pt x="1400" y="1400"/>
                  </a:lnTo>
                  <a:close/>
                </a:path>
                <a:path fill="darken" w="38400" h="21600">
                  <a:moveTo>
                    <a:pt x="38400" y="0"/>
                  </a:moveTo>
                  <a:lnTo>
                    <a:pt x="38400" y="21600"/>
                  </a:lnTo>
                  <a:lnTo>
                    <a:pt x="37000" y="20200"/>
                  </a:lnTo>
                  <a:lnTo>
                    <a:pt x="37000" y="1400"/>
                  </a:lnTo>
                  <a:close/>
                </a:path>
                <a:path fill="darkenLess" w="38400" h="21600">
                  <a:moveTo>
                    <a:pt x="38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000" y="20200"/>
                  </a:lnTo>
                  <a:close/>
                </a:path>
                <a:path fill="lighten" w="38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8400" h="21600">
                  <a:moveTo>
                    <a:pt x="22699" y="10800"/>
                  </a:moveTo>
                  <a:lnTo>
                    <a:pt x="12194" y="17806"/>
                  </a:lnTo>
                  <a:lnTo>
                    <a:pt x="12194" y="3794"/>
                  </a:lnTo>
                  <a:close/>
                </a:path>
                <a:path fill="darken" w="38400" h="21600">
                  <a:moveTo>
                    <a:pt x="24544" y="3794"/>
                  </a:moveTo>
                  <a:lnTo>
                    <a:pt x="24544" y="17806"/>
                  </a:lnTo>
                  <a:lnTo>
                    <a:pt x="26206" y="17806"/>
                  </a:lnTo>
                  <a:lnTo>
                    <a:pt x="26206" y="3794"/>
                  </a:lnTo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440" y="56386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791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7480" y="5791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5105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的对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5867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的邻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52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4572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斜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8920" y="4871880"/>
            <a:ext cx="2808360" cy="1015920"/>
            <a:chOff x="1258920" y="4871880"/>
            <a:chExt cx="2808360" cy="1015920"/>
          </a:xfrm>
        </p:grpSpPr>
        <p:sp>
          <p:nvSpPr>
            <p:cNvPr id="126" name=""/>
            <p:cNvSpPr/>
            <p:nvPr/>
          </p:nvSpPr>
          <p:spPr>
            <a:xfrm>
              <a:off x="1258920" y="4871880"/>
              <a:ext cx="2808360" cy="1015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324080" y="5089320"/>
              <a:ext cx="2484000" cy="642960"/>
              <a:chOff x="1324080" y="5089320"/>
              <a:chExt cx="2484000" cy="6429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390760" y="5089320"/>
                <a:ext cx="1417320" cy="642960"/>
                <a:chOff x="2390760" y="5089320"/>
                <a:chExt cx="1417320" cy="642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29" name=""/>
                    <p:cNvSpPr txBox="1"/>
                    <p:nvPr/>
                  </p:nvSpPr>
                  <p:spPr>
                    <a:xfrm>
                      <a:off x="2390760" y="5089320"/>
                      <a:ext cx="1417320" cy="642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∠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的对边</m:t>
                              </m:r>
                            </m:e>
                            <m:e>
                              <m:r>
                                <m:t xml:space="preserve">∠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的邻边</m:t>
                              </m:r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0" name=""/>
                <p:cNvSpPr/>
                <p:nvPr/>
              </p:nvSpPr>
              <p:spPr>
                <a:xfrm>
                  <a:off x="2390760" y="5409000"/>
                  <a:ext cx="1417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1324080" y="508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tanA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本领大不大 悟心来当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4382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的一个锐角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确定时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它的对边与邻边的比便随之确定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此时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其它边之间的比值也确定吗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227160"/>
            <a:ext cx="2362320" cy="630000"/>
            <a:chOff x="152280" y="227160"/>
            <a:chExt cx="2362320" cy="630000"/>
          </a:xfrm>
        </p:grpSpPr>
        <p:sp>
          <p:nvSpPr>
            <p:cNvPr id="135" name=""/>
            <p:cNvSpPr/>
            <p:nvPr/>
          </p:nvSpPr>
          <p:spPr>
            <a:xfrm>
              <a:off x="152280" y="275760"/>
              <a:ext cx="23623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32200" y="2271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15228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440" y="3733920"/>
            <a:ext cx="5175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结论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果锐角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确定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那么∠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对边与斜边的比、邻边与斜边的比也随之确定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∠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对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76920" y="3886200"/>
            <a:ext cx="2971800" cy="2364840"/>
            <a:chOff x="4876920" y="3886200"/>
            <a:chExt cx="2971800" cy="2364840"/>
          </a:xfrm>
        </p:grpSpPr>
        <p:sp>
          <p:nvSpPr>
            <p:cNvPr id="142" name=""/>
            <p:cNvSpPr/>
            <p:nvPr/>
          </p:nvSpPr>
          <p:spPr>
            <a:xfrm flipH="1">
              <a:off x="5104800" y="4267080"/>
              <a:ext cx="2438280" cy="152424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8160" y="556272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5715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3886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5791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∠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A</a:t>
              </a: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的邻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4495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楷体_GB2312"/>
                  <a:ea typeface="楷体_GB2312"/>
                </a:rPr>
                <a:t>斜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正弦与余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9810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锐角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对边与斜边的比叫做∠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正弦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记作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280" y="227160"/>
            <a:ext cx="3581280" cy="686880"/>
            <a:chOff x="152280" y="227160"/>
            <a:chExt cx="3581280" cy="686880"/>
          </a:xfrm>
        </p:grpSpPr>
        <p:grpSp>
          <p:nvGrpSpPr>
            <p:cNvPr id="153" name=""/>
            <p:cNvGrpSpPr/>
            <p:nvPr/>
          </p:nvGrpSpPr>
          <p:grpSpPr>
            <a:xfrm>
              <a:off x="152280" y="227160"/>
              <a:ext cx="2361960" cy="630000"/>
              <a:chOff x="152280" y="227160"/>
              <a:chExt cx="2361960" cy="630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5228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3184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251424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5228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228600" y="3505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锐角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邻边与斜边的比叫做∠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余弦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记作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5105520"/>
            <a:ext cx="5029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锐角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正弦、余弦、正切都是∠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三角函数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81480" y="4343400"/>
            <a:ext cx="2438640" cy="1523880"/>
          </a:xfrm>
          <a:prstGeom prst="rtTriangl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480" y="563868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79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∠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对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5867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∠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邻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斜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00360" y="4079880"/>
            <a:ext cx="2808360" cy="1015920"/>
            <a:chOff x="2700360" y="4079880"/>
            <a:chExt cx="2808360" cy="1015920"/>
          </a:xfrm>
        </p:grpSpPr>
        <p:sp>
          <p:nvSpPr>
            <p:cNvPr id="171" name=""/>
            <p:cNvSpPr/>
            <p:nvPr/>
          </p:nvSpPr>
          <p:spPr>
            <a:xfrm>
              <a:off x="2700360" y="4079880"/>
              <a:ext cx="2808360" cy="1015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844720" y="4251240"/>
              <a:ext cx="2484000" cy="761040"/>
              <a:chOff x="2844720" y="4251240"/>
              <a:chExt cx="2484000" cy="761040"/>
            </a:xfrm>
          </p:grpSpPr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3911400" y="4251240"/>
                    <a:ext cx="1417320" cy="761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邻边</m:t>
                            </m:r>
                          </m:e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4" name=""/>
              <p:cNvSpPr/>
              <p:nvPr/>
            </p:nvSpPr>
            <p:spPr>
              <a:xfrm>
                <a:off x="3911400" y="4628880"/>
                <a:ext cx="141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44720" y="42512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cosA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00360" y="2492280"/>
            <a:ext cx="2808360" cy="1015920"/>
            <a:chOff x="2700360" y="2492280"/>
            <a:chExt cx="2808360" cy="1015920"/>
          </a:xfrm>
        </p:grpSpPr>
        <p:sp>
          <p:nvSpPr>
            <p:cNvPr id="177" name=""/>
            <p:cNvSpPr/>
            <p:nvPr/>
          </p:nvSpPr>
          <p:spPr>
            <a:xfrm>
              <a:off x="2700360" y="2492280"/>
              <a:ext cx="2808360" cy="1015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808360" y="2626920"/>
              <a:ext cx="2484720" cy="801360"/>
              <a:chOff x="2808360" y="2626920"/>
              <a:chExt cx="2484720" cy="801360"/>
            </a:xfrm>
          </p:grpSpPr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3875400" y="2626920"/>
                    <a:ext cx="1417680" cy="80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对边</m:t>
                            </m:r>
                          </m:e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0" name=""/>
              <p:cNvSpPr/>
              <p:nvPr/>
            </p:nvSpPr>
            <p:spPr>
              <a:xfrm>
                <a:off x="3875400" y="3024360"/>
                <a:ext cx="14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08360" y="26269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楷体_GB2312"/>
                    <a:ea typeface="楷体_GB2312"/>
                  </a:rPr>
                  <a:t>sinA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生活问题数学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05740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结论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梯子的倾斜程度与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有关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越大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梯子越陡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;cosA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越小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梯子越陡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227160"/>
            <a:ext cx="3581280" cy="686880"/>
            <a:chOff x="457200" y="227160"/>
            <a:chExt cx="3581280" cy="686880"/>
          </a:xfrm>
        </p:grpSpPr>
        <p:grpSp>
          <p:nvGrpSpPr>
            <p:cNvPr id="185" name=""/>
            <p:cNvGrpSpPr/>
            <p:nvPr/>
          </p:nvGrpSpPr>
          <p:grpSpPr>
            <a:xfrm>
              <a:off x="457200" y="227160"/>
              <a:ext cx="2361960" cy="630000"/>
              <a:chOff x="457200" y="227160"/>
              <a:chExt cx="2361960" cy="630000"/>
            </a:xfrm>
          </p:grpSpPr>
          <p:sp>
            <p:nvSpPr>
              <p:cNvPr id="186" name=""/>
              <p:cNvSpPr/>
              <p:nvPr/>
            </p:nvSpPr>
            <p:spPr>
              <a:xfrm>
                <a:off x="45720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3676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81916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5720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762120" y="3200400"/>
            <a:ext cx="4267080" cy="1523880"/>
          </a:xfrm>
          <a:prstGeom prst="cloudCallout">
            <a:avLst>
              <a:gd name="adj1" fmla="val -46949"/>
              <a:gd name="adj2" fmla="val 64166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梯子的倾斜程度与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有关吗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05520" y="1143000"/>
            <a:ext cx="52200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rcRect l="5381" t="2388" r="5231" b="-174"/>
          <a:stretch/>
        </p:blipFill>
        <p:spPr>
          <a:xfrm>
            <a:off x="5334120" y="3533760"/>
            <a:ext cx="3746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行家看“门道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例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 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∠B=90</a:t>
            </a:r>
            <a:r>
              <a:rPr b="0" lang="zh-CN" sz="2800" spc="-1" strike="noStrike" baseline="30000">
                <a:solidFill>
                  <a:srgbClr val="ffff66"/>
                </a:solidFill>
                <a:latin typeface="楷体_GB2312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AC=200,sinA=0.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长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320" y="74520"/>
            <a:ext cx="3581280" cy="687600"/>
            <a:chOff x="76320" y="74520"/>
            <a:chExt cx="3581280" cy="687600"/>
          </a:xfrm>
        </p:grpSpPr>
        <p:grpSp>
          <p:nvGrpSpPr>
            <p:cNvPr id="196" name=""/>
            <p:cNvGrpSpPr/>
            <p:nvPr/>
          </p:nvGrpSpPr>
          <p:grpSpPr>
            <a:xfrm>
              <a:off x="76320" y="74520"/>
              <a:ext cx="2361960" cy="630000"/>
              <a:chOff x="76320" y="74520"/>
              <a:chExt cx="2361960" cy="630000"/>
            </a:xfrm>
          </p:grpSpPr>
          <p:sp>
            <p:nvSpPr>
              <p:cNvPr id="197" name=""/>
              <p:cNvSpPr/>
              <p:nvPr/>
            </p:nvSpPr>
            <p:spPr>
              <a:xfrm>
                <a:off x="76320" y="1231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例题欣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55880" y="7452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438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6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105520" y="1143000"/>
            <a:ext cx="522000" cy="609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16000" y="5081760"/>
            <a:ext cx="6400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期望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请你求出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,tanA,sinC,cos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tan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值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你敢应战吗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324480" y="2819520"/>
            <a:ext cx="2362320" cy="2133360"/>
          </a:xfrm>
          <a:prstGeom prst="rtTriangl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4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2819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解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71640" y="3452760"/>
            <a:ext cx="4824360" cy="1580040"/>
            <a:chOff x="971640" y="3452760"/>
            <a:chExt cx="4824360" cy="1580040"/>
          </a:xfrm>
        </p:grpSpPr>
        <p:sp>
          <p:nvSpPr>
            <p:cNvPr id="211" name=""/>
            <p:cNvSpPr/>
            <p:nvPr/>
          </p:nvSpPr>
          <p:spPr>
            <a:xfrm>
              <a:off x="971640" y="3460680"/>
              <a:ext cx="4824360" cy="1572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193760" y="3452760"/>
              <a:ext cx="4098960" cy="1385640"/>
              <a:chOff x="1193760" y="3452760"/>
              <a:chExt cx="4098960" cy="138564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1193760" y="3452760"/>
                    <a:ext cx="368640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4" name=""/>
                  <p:cNvSpPr txBox="1"/>
                  <p:nvPr/>
                </p:nvSpPr>
                <p:spPr>
                  <a:xfrm>
                    <a:off x="2032200" y="4443120"/>
                    <a:ext cx="3260520" cy="3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56920" y="83628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知识的内在联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060640"/>
            <a:ext cx="73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求</a:t>
            </a: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:AB,sin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000" y="44280"/>
            <a:ext cx="3581280" cy="687600"/>
            <a:chOff x="108000" y="44280"/>
            <a:chExt cx="3581280" cy="687600"/>
          </a:xfrm>
        </p:grpSpPr>
        <p:grpSp>
          <p:nvGrpSpPr>
            <p:cNvPr id="218" name=""/>
            <p:cNvGrpSpPr/>
            <p:nvPr/>
          </p:nvGrpSpPr>
          <p:grpSpPr>
            <a:xfrm>
              <a:off x="108000" y="44280"/>
              <a:ext cx="2361960" cy="630000"/>
              <a:chOff x="108000" y="44280"/>
              <a:chExt cx="2361960" cy="630000"/>
            </a:xfrm>
          </p:grpSpPr>
          <p:sp>
            <p:nvSpPr>
              <p:cNvPr id="219" name=""/>
              <p:cNvSpPr/>
              <p:nvPr/>
            </p:nvSpPr>
            <p:spPr>
              <a:xfrm>
                <a:off x="108000" y="9288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87560" y="4428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2469960" y="460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08000" y="1983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5435640" y="2616120"/>
            <a:ext cx="3352680" cy="1678680"/>
            <a:chOff x="5435640" y="2616120"/>
            <a:chExt cx="3352680" cy="1678680"/>
          </a:xfrm>
        </p:grpSpPr>
        <p:sp>
          <p:nvSpPr>
            <p:cNvPr id="225" name=""/>
            <p:cNvSpPr/>
            <p:nvPr/>
          </p:nvSpPr>
          <p:spPr>
            <a:xfrm flipH="1" rot="5400000">
              <a:off x="6644880" y="2014920"/>
              <a:ext cx="974880" cy="278604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02320" y="3835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45160" y="3490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31120" y="383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35640" y="2616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7920" y="383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395960" y="5013360"/>
            <a:ext cx="47844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期望</a:t>
            </a:r>
            <a:r>
              <a:rPr b="0" lang="zh-CN" sz="2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注意到这里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osA=sinB,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其中有没有什么内在的关系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2708280"/>
            <a:ext cx="4356000" cy="3240720"/>
            <a:chOff x="0" y="2708280"/>
            <a:chExt cx="4356000" cy="3240720"/>
          </a:xfrm>
        </p:grpSpPr>
        <p:sp>
          <p:nvSpPr>
            <p:cNvPr id="233" name=""/>
            <p:cNvSpPr/>
            <p:nvPr/>
          </p:nvSpPr>
          <p:spPr>
            <a:xfrm>
              <a:off x="0" y="2708280"/>
              <a:ext cx="4356000" cy="32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28520" y="2781360"/>
              <a:ext cx="4082400" cy="3023640"/>
              <a:chOff x="128520" y="2781360"/>
              <a:chExt cx="4082400" cy="3023640"/>
            </a:xfrm>
          </p:grpSpPr>
          <mc:AlternateContent>
            <mc:Choice xmlns:a14="http://schemas.microsoft.com/office/drawing/2010/main" Requires="a14">
              <p:sp>
                <p:nvSpPr>
                  <p:cNvPr id="235" name=""/>
                  <p:cNvSpPr txBox="1"/>
                  <p:nvPr/>
                </p:nvSpPr>
                <p:spPr>
                  <a:xfrm>
                    <a:off x="128520" y="2781360"/>
                    <a:ext cx="408240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解</m:t>
                        </m:r>
                        <m:r>
                          <m:t xml:space="preserve">: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59800" y="3703320"/>
                    <a:ext cx="289188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502560" y="4501800"/>
                    <a:ext cx="3514320" cy="13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38" name=""/>
          <p:cNvGrpSpPr/>
          <p:nvPr/>
        </p:nvGrpSpPr>
        <p:grpSpPr>
          <a:xfrm>
            <a:off x="0" y="1415880"/>
            <a:ext cx="7524720" cy="1154880"/>
            <a:chOff x="0" y="1415880"/>
            <a:chExt cx="7524720" cy="1154880"/>
          </a:xfrm>
        </p:grpSpPr>
        <p:sp>
          <p:nvSpPr>
            <p:cNvPr id="239" name=""/>
            <p:cNvSpPr/>
            <p:nvPr/>
          </p:nvSpPr>
          <p:spPr>
            <a:xfrm>
              <a:off x="5724360" y="1415880"/>
              <a:ext cx="1800360" cy="1015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0" y="1471680"/>
              <a:ext cx="7331040" cy="1099080"/>
              <a:chOff x="0" y="1471680"/>
              <a:chExt cx="7331040" cy="1099080"/>
            </a:xfrm>
          </p:grpSpPr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715000" y="1471680"/>
                    <a:ext cx="161604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"/>
              <p:cNvSpPr/>
              <p:nvPr/>
            </p:nvSpPr>
            <p:spPr>
              <a:xfrm>
                <a:off x="0" y="1623600"/>
                <a:ext cx="571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333399"/>
                  </a:buClr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如图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: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在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Rt△ABC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中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,∠C=90</a:t>
                </a:r>
                <a:r>
                  <a:rPr b="0" lang="zh-CN" sz="2800" spc="-1" strike="noStrike" baseline="30000">
                    <a:solidFill>
                      <a:srgbClr val="ffff66"/>
                    </a:solidFill>
                    <a:latin typeface="楷体_GB2312"/>
                    <a:ea typeface="楷体_GB2312"/>
                  </a:rPr>
                  <a:t>0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,AC=10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4953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真知在实践中诞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8288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等腰△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AB=AC=5,BC=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 sinB,cosB,tan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880" y="74520"/>
            <a:ext cx="3581280" cy="687600"/>
            <a:chOff x="380880" y="74520"/>
            <a:chExt cx="3581280" cy="687600"/>
          </a:xfrm>
        </p:grpSpPr>
        <p:grpSp>
          <p:nvGrpSpPr>
            <p:cNvPr id="246" name=""/>
            <p:cNvGrpSpPr/>
            <p:nvPr/>
          </p:nvGrpSpPr>
          <p:grpSpPr>
            <a:xfrm>
              <a:off x="380880" y="74520"/>
              <a:ext cx="2361960" cy="630000"/>
              <a:chOff x="380880" y="74520"/>
              <a:chExt cx="2361960" cy="63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880" y="1231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60440" y="7452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74284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497560" y="114300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9680" y="4638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△ABC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周长</a:t>
            </a:r>
            <a:r>
              <a:rPr b="0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3048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老师提示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过点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作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D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垂直于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BC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于</a:t>
            </a:r>
            <a:r>
              <a:rPr b="0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104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48520" y="1752480"/>
            <a:ext cx="2438280" cy="2136240"/>
            <a:chOff x="6248520" y="1752480"/>
            <a:chExt cx="2438280" cy="2136240"/>
          </a:xfrm>
        </p:grpSpPr>
        <p:sp>
          <p:nvSpPr>
            <p:cNvPr id="256" name=""/>
            <p:cNvSpPr/>
            <p:nvPr/>
          </p:nvSpPr>
          <p:spPr>
            <a:xfrm>
              <a:off x="8077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1680" y="2514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629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3080" y="3505320"/>
              <a:ext cx="21337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529320" y="2133720"/>
              <a:ext cx="1090800" cy="1371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0120" y="2133720"/>
              <a:ext cx="1030320" cy="1371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888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67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0120" y="2133720"/>
              <a:ext cx="0" cy="13716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858000" y="4419720"/>
            <a:ext cx="1523880" cy="1843920"/>
            <a:chOff x="6858000" y="4419720"/>
            <a:chExt cx="1523880" cy="1843920"/>
          </a:xfrm>
        </p:grpSpPr>
        <p:sp>
          <p:nvSpPr>
            <p:cNvPr id="268" name=""/>
            <p:cNvSpPr/>
            <p:nvPr/>
          </p:nvSpPr>
          <p:spPr>
            <a:xfrm flipH="1" rot="5400000">
              <a:off x="7074720" y="4686120"/>
              <a:ext cx="1108080" cy="126684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42200" y="5803920"/>
              <a:ext cx="243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10560" y="5484960"/>
              <a:ext cx="2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74160" y="5803920"/>
              <a:ext cx="20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4419720"/>
              <a:ext cx="2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7840" y="5803920"/>
              <a:ext cx="2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9280" y="3809880"/>
            <a:ext cx="6553440" cy="1099440"/>
            <a:chOff x="179280" y="3809880"/>
            <a:chExt cx="6553440" cy="1099440"/>
          </a:xfrm>
        </p:grpSpPr>
        <p:sp>
          <p:nvSpPr>
            <p:cNvPr id="275" name=""/>
            <p:cNvSpPr/>
            <p:nvPr/>
          </p:nvSpPr>
          <p:spPr>
            <a:xfrm>
              <a:off x="5219640" y="3860640"/>
              <a:ext cx="1513080" cy="477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79280" y="3809880"/>
              <a:ext cx="6551640" cy="1099440"/>
              <a:chOff x="179280" y="3809880"/>
              <a:chExt cx="6551640" cy="1099440"/>
            </a:xfrm>
          </p:grpSpPr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5284800" y="3809880"/>
                    <a:ext cx="144612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8" name=""/>
              <p:cNvSpPr/>
              <p:nvPr/>
            </p:nvSpPr>
            <p:spPr>
              <a:xfrm>
                <a:off x="179280" y="3962160"/>
                <a:ext cx="571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333399"/>
                  </a:buClr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2.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在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Rt△ABC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中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,∠C=90</a:t>
                </a:r>
                <a:r>
                  <a:rPr b="0" lang="zh-CN" sz="2800" spc="-1" strike="noStrike" baseline="30000">
                    <a:solidFill>
                      <a:srgbClr val="ffff66"/>
                    </a:solidFill>
                    <a:latin typeface="楷体_GB2312"/>
                    <a:ea typeface="楷体_GB2312"/>
                  </a:rPr>
                  <a:t>0</a:t>
                </a:r>
                <a:r>
                  <a:rPr b="0" lang="zh-CN" sz="2800" spc="-1" strike="noStrike">
                    <a:solidFill>
                      <a:srgbClr val="ffff66"/>
                    </a:solidFill>
                    <a:latin typeface="楷体_GB2312"/>
                    <a:ea typeface="楷体_GB2312"/>
                  </a:rPr>
                  <a:t>,BC=20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488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八仙过海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尽显才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91628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图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Rt△ABC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锐角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对边和邻边同时扩大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倍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sinA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的值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扩大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倍 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缩小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不变      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不能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3520" y="150840"/>
            <a:ext cx="3581280" cy="686880"/>
            <a:chOff x="533520" y="150840"/>
            <a:chExt cx="3581280" cy="686880"/>
          </a:xfrm>
        </p:grpSpPr>
        <p:grpSp>
          <p:nvGrpSpPr>
            <p:cNvPr id="282" name=""/>
            <p:cNvGrpSpPr/>
            <p:nvPr/>
          </p:nvGrpSpPr>
          <p:grpSpPr>
            <a:xfrm>
              <a:off x="533520" y="150840"/>
              <a:ext cx="2361960" cy="519840"/>
              <a:chOff x="533520" y="150840"/>
              <a:chExt cx="2361960" cy="519840"/>
            </a:xfrm>
          </p:grpSpPr>
          <p:sp>
            <p:nvSpPr>
              <p:cNvPr id="283" name=""/>
              <p:cNvSpPr/>
              <p:nvPr/>
            </p:nvSpPr>
            <p:spPr>
              <a:xfrm>
                <a:off x="533520" y="199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13080" y="150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289548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52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152280" y="4267080"/>
            <a:ext cx="6324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已知∠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,∠B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为锐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若∠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=∠B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则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</a:t>
            </a:r>
            <a:r>
              <a:rPr b="0" lang="zh-CN" sz="3200" spc="-1" strike="noStrike" u="sng">
                <a:solidFill>
                  <a:srgbClr val="ffff66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若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sinA=sinB,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则∠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 u="sng">
                <a:solidFill>
                  <a:srgbClr val="ffff66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∠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019920" y="2514600"/>
            <a:ext cx="2971800" cy="2364840"/>
            <a:chOff x="6019920" y="2514600"/>
            <a:chExt cx="2971800" cy="2364840"/>
          </a:xfrm>
        </p:grpSpPr>
        <p:sp>
          <p:nvSpPr>
            <p:cNvPr id="289" name=""/>
            <p:cNvSpPr/>
            <p:nvPr/>
          </p:nvSpPr>
          <p:spPr>
            <a:xfrm flipH="1">
              <a:off x="6248520" y="2930400"/>
              <a:ext cx="2527200" cy="1565280"/>
            </a:xfrm>
            <a:prstGeom prst="rtTriangl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93120" y="251460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70800" y="441972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394840" y="41148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lsh</dc:creator>
  <dc:description/>
  <dc:language>en-US</dc:language>
  <cp:lastModifiedBy>User</cp:lastModifiedBy>
  <dcterms:modified xsi:type="dcterms:W3CDTF">2014-02-18T01:59:52Z</dcterms:modified>
  <cp:revision>359</cp:revision>
  <dc:subject/>
  <dc:title>八年级数学（下册）第四章 相似图形</dc:title>
</cp:coreProperties>
</file>