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type.wav" ContentType="audio/x-wav"/>
  <Override PartName="/ppt/media/chimes.wav" ContentType="audio/x-wav"/>
  <Override PartName="/ppt/media/image8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FD65-D785-4323-A96C-5B50E067A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F7CE-57DD-4EE4-8D1E-142D3B322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C3D5-452C-4FF6-B258-0B2B6846B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0656-0EC8-4DAD-B68A-7527DEFD5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4C006-4BD2-488A-9DAD-E5F5B88BF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F9290-FAB3-48B8-A59A-46E6CB133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C5411-ADB8-439D-A56B-FDB5A4026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F2FAC-B1B1-4F91-B2D1-FF107B3E1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E9638-87A7-4CB2-B296-60381BD34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18D72-DF59-4DC0-8A98-38C026046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00253-DADF-405C-A4A4-20747242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A25C-43FD-418D-94AF-0094E57CB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7A03A-41BA-41C0-821B-7D52874FF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978C9-6DCE-4E7D-AED2-D220F16B8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C073D-609F-4283-A622-F706A9EFF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0C131-978E-4D6E-ABA0-39C693870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0D19D-6FDA-4B8F-8C7E-48A710767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75AB-E990-4F08-B3D2-F99B0A48D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16A8-FFE6-4093-8387-418DBE8FB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346C-98A1-4E47-83CE-E6A550943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5FBF-E9D3-4B52-8F13-BEDEDE849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AC1F-0D84-40ED-977A-09335C3F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87FE-6997-40CD-9D0A-12E0A69B9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95C6-F548-49B3-8BCF-90F3F7BE3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7E1DD-512B-48A8-8F5D-A25FFBCC08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48DCA-1476-42AF-929B-5F5B78D708F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7%F6%CA&#1461;%E7%CC%DD&amp;in=99&amp;cl=2&amp;cm=1&amp;sc=0&amp;lm=-1&amp;pn=98&amp;rn=1" TargetMode="External"/><Relationship Id="rId2" Type="http://schemas.openxmlformats.org/officeDocument/2006/relationships/image" Target="../media/image7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type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332000" y="3284640"/>
            <a:ext cx="61722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第二节 </a:t>
            </a: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30°</a:t>
            </a: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、</a:t>
            </a: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45°</a:t>
            </a: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、</a:t>
            </a: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60°</a:t>
            </a: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角的三角函数值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4360" y="1628640"/>
            <a:ext cx="76197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第一章 直角三角形的边角关系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0" y="537372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隶书"/>
                <a:ea typeface="隶书"/>
              </a:rPr>
              <a:t>∴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最高位置与最低位置的高度差约为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0.34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0" y="2349360"/>
            <a:ext cx="4724280" cy="1099440"/>
            <a:chOff x="0" y="2349360"/>
            <a:chExt cx="4724280" cy="1099440"/>
          </a:xfrm>
        </p:grpSpPr>
        <mc:AlternateContent>
          <mc:Choice xmlns:a14="http://schemas.microsoft.com/office/drawing/2010/main" Requires="a14">
            <p:sp>
              <p:nvSpPr>
                <p:cNvPr id="481" name=""/>
                <p:cNvSpPr txBox="1"/>
                <p:nvPr/>
              </p:nvSpPr>
              <p:spPr>
                <a:xfrm>
                  <a:off x="974520" y="2349360"/>
                  <a:ext cx="2239920" cy="87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×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60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82" name=""/>
            <p:cNvSpPr/>
            <p:nvPr/>
          </p:nvSpPr>
          <p:spPr>
            <a:xfrm>
              <a:off x="0" y="2501640"/>
              <a:ext cx="4724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∠</a:t>
              </a:r>
              <a:r>
                <a:rPr b="1" lang="en-US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AOD             OD=2.5m,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3" name=""/>
          <p:cNvSpPr/>
          <p:nvPr/>
        </p:nvSpPr>
        <p:spPr>
          <a:xfrm>
            <a:off x="2309760" y="-4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219400" y="-43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55600" y="1844640"/>
            <a:ext cx="474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解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如图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根据题意可知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684360" y="3068640"/>
                <a:ext cx="235260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∵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OD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7" name=""/>
          <p:cNvSpPr/>
          <p:nvPr/>
        </p:nvSpPr>
        <p:spPr>
          <a:xfrm>
            <a:off x="324000" y="472428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∴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AC=2.5-2.165≈0.34(m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219400" y="-43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250920" y="3645000"/>
                <a:ext cx="584028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rPr>
                        <m:lit/>
                        <m:nor/>
                      </m:rPr>
                      <m:t xml:space="preserve">O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OD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×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5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0" name=""/>
          <p:cNvSpPr txBox="1"/>
          <p:nvPr/>
        </p:nvSpPr>
        <p:spPr>
          <a:xfrm>
            <a:off x="395280" y="476280"/>
            <a:ext cx="5029200" cy="6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例题讲解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5976360" y="1341360"/>
            <a:ext cx="3206520" cy="3795840"/>
            <a:chOff x="5976360" y="1341360"/>
            <a:chExt cx="3206520" cy="3795840"/>
          </a:xfrm>
        </p:grpSpPr>
        <p:sp>
          <p:nvSpPr>
            <p:cNvPr id="492" name=""/>
            <p:cNvSpPr/>
            <p:nvPr/>
          </p:nvSpPr>
          <p:spPr>
            <a:xfrm>
              <a:off x="8308800" y="3908520"/>
              <a:ext cx="79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470720" y="4451400"/>
              <a:ext cx="65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470720" y="3637080"/>
              <a:ext cx="79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162920" y="1341360"/>
              <a:ext cx="7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227640" y="4005360"/>
              <a:ext cx="7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624720" y="4284720"/>
              <a:ext cx="1593720" cy="3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6648120" y="1874880"/>
              <a:ext cx="779400" cy="2440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470720" y="1874880"/>
              <a:ext cx="801720" cy="2440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056360" y="3908520"/>
              <a:ext cx="105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191360" y="4179960"/>
              <a:ext cx="792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470720" y="1874880"/>
              <a:ext cx="0" cy="2440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7449840" y="1874880"/>
              <a:ext cx="19080" cy="2778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 rot="2979600">
              <a:off x="6508080" y="2354040"/>
              <a:ext cx="2142720" cy="238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52298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522986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5" name=""/>
            <p:cNvGrpSpPr/>
            <p:nvPr/>
          </p:nvGrpSpPr>
          <p:grpSpPr>
            <a:xfrm>
              <a:off x="7667640" y="2781360"/>
              <a:ext cx="1118520" cy="509400"/>
              <a:chOff x="7667640" y="2781360"/>
              <a:chExt cx="1118520" cy="509400"/>
            </a:xfrm>
          </p:grpSpPr>
          <p:sp>
            <p:nvSpPr>
              <p:cNvPr id="506" name=""/>
              <p:cNvSpPr/>
              <p:nvPr/>
            </p:nvSpPr>
            <p:spPr>
              <a:xfrm>
                <a:off x="7667640" y="2781360"/>
                <a:ext cx="414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Tahoma"/>
                  </a:rPr>
                  <a:t>●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978320" y="2891880"/>
                <a:ext cx="807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Tahoma"/>
                  </a:rPr>
                  <a:t>2.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7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2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27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37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2629080" y="1773360"/>
            <a:ext cx="48225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(1)sin6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宋体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-cos4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宋体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(2)cos6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宋体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+tan6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宋体"/>
              </a:rPr>
              <a:t>0</a:t>
            </a:r>
            <a:r>
              <a:rPr b="0" lang="en-US" sz="2800" spc="-1" strike="noStrike">
                <a:solidFill>
                  <a:srgbClr val="003366"/>
                </a:solidFill>
                <a:latin typeface="宋体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9" name="" descr=""/>
          <p:cNvPicPr/>
          <p:nvPr/>
        </p:nvPicPr>
        <p:blipFill>
          <a:blip r:embed="rId1"/>
          <a:stretch/>
        </p:blipFill>
        <p:spPr>
          <a:xfrm>
            <a:off x="76320" y="4572000"/>
            <a:ext cx="2666880" cy="2216160"/>
          </a:xfrm>
          <a:prstGeom prst="rect">
            <a:avLst/>
          </a:prstGeom>
          <a:ln w="0">
            <a:noFill/>
          </a:ln>
        </p:spPr>
      </p:pic>
      <p:sp>
        <p:nvSpPr>
          <p:cNvPr id="510" name=""/>
          <p:cNvSpPr/>
          <p:nvPr/>
        </p:nvSpPr>
        <p:spPr>
          <a:xfrm>
            <a:off x="76320" y="3048120"/>
            <a:ext cx="1600200" cy="1218960"/>
          </a:xfrm>
          <a:prstGeom prst="cloudCallout">
            <a:avLst>
              <a:gd name="adj1" fmla="val 35416"/>
              <a:gd name="adj2" fmla="val 80861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怎样做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258920" y="1268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计算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2" name=""/>
              <p:cNvSpPr txBox="1"/>
              <p:nvPr/>
            </p:nvSpPr>
            <p:spPr>
              <a:xfrm>
                <a:off x="2987640" y="3429000"/>
                <a:ext cx="4707000" cy="9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</m:e>
                    </m:d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3" name=""/>
              <p:cNvSpPr txBox="1"/>
              <p:nvPr/>
            </p:nvSpPr>
            <p:spPr>
              <a:xfrm>
                <a:off x="2987640" y="4508640"/>
                <a:ext cx="5216400" cy="96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</m:e>
                    </m:d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4" name=""/>
          <p:cNvSpPr txBox="1"/>
          <p:nvPr/>
        </p:nvSpPr>
        <p:spPr>
          <a:xfrm>
            <a:off x="395280" y="476280"/>
            <a:ext cx="5029200" cy="6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知识运用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9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54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59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1187280" y="1413000"/>
            <a:ext cx="650736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某商场有一自动扶梯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其倾斜角为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30</a:t>
            </a:r>
            <a:r>
              <a:rPr b="1" lang="zh-CN" sz="2800" spc="-1" strike="noStrike" baseline="30000">
                <a:solidFill>
                  <a:srgbClr val="ffffff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高为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7m,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扶梯的长度是多少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395280" y="476280"/>
            <a:ext cx="5029200" cy="6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知识运用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51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03280" y="2781360"/>
            <a:ext cx="615636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304920" y="1484280"/>
            <a:ext cx="412272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．如图为住宅区内的两幢楼，它们的高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AB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＝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CD=30 m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，两楼间的距离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AC=24 m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，现需了解甲楼对乙楼的采光影响情况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.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当太阳光与水平线的夹角为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30°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时，求甲楼的影子在乙楼上有多高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精确到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0.1 m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，其中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       ≈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1.41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       ≈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1.7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5111640" y="1916280"/>
            <a:ext cx="3276720" cy="417672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1116000" y="5445000"/>
                <a:ext cx="287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2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971640" y="5805360"/>
                <a:ext cx="57600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24" name=""/>
          <p:cNvSpPr txBox="1"/>
          <p:nvPr/>
        </p:nvSpPr>
        <p:spPr>
          <a:xfrm>
            <a:off x="395280" y="476280"/>
            <a:ext cx="5029200" cy="6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知识运用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0" y="1844640"/>
            <a:ext cx="57913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看图说话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直角三角形三边的关系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直角三角形两锐角的关系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直角三角形</a:t>
            </a:r>
            <a:r>
              <a:rPr b="0" lang="zh-CN" sz="2800" spc="-1" strike="noStrike" u="sng">
                <a:solidFill>
                  <a:srgbClr val="800080"/>
                </a:solidFill>
                <a:uFillTx/>
                <a:latin typeface="宋体"/>
              </a:rPr>
              <a:t>边与角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之间的关系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800080"/>
                </a:solidFill>
                <a:uFillTx/>
                <a:latin typeface="宋体"/>
              </a:rPr>
              <a:t>特殊角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30</a:t>
            </a:r>
            <a:r>
              <a:rPr b="1" lang="zh-CN" sz="2800" spc="-1" strike="noStrike" baseline="30000">
                <a:solidFill>
                  <a:srgbClr val="ffffff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,45</a:t>
            </a:r>
            <a:r>
              <a:rPr b="1" lang="zh-CN" sz="2800" spc="-1" strike="noStrike" baseline="30000">
                <a:solidFill>
                  <a:srgbClr val="ffffff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,60</a:t>
            </a:r>
            <a:r>
              <a:rPr b="1" lang="zh-CN" sz="2800" spc="-1" strike="noStrike" baseline="30000">
                <a:solidFill>
                  <a:srgbClr val="ffffff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角的三角函数值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800080"/>
                </a:solidFill>
                <a:uFillTx/>
                <a:latin typeface="宋体"/>
              </a:rPr>
              <a:t>互余两角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之间的三角函数关系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800080"/>
                </a:solidFill>
                <a:uFillTx/>
                <a:latin typeface="宋体"/>
              </a:rPr>
              <a:t>同角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之间的三角函数关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5508720" y="620640"/>
            <a:ext cx="3124080" cy="2288520"/>
            <a:chOff x="5508720" y="620640"/>
            <a:chExt cx="3124080" cy="2288520"/>
          </a:xfrm>
        </p:grpSpPr>
        <p:sp>
          <p:nvSpPr>
            <p:cNvPr id="527" name=""/>
            <p:cNvSpPr/>
            <p:nvPr/>
          </p:nvSpPr>
          <p:spPr>
            <a:xfrm>
              <a:off x="6956280" y="24494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8" name=""/>
            <p:cNvGrpSpPr/>
            <p:nvPr/>
          </p:nvGrpSpPr>
          <p:grpSpPr>
            <a:xfrm>
              <a:off x="5508720" y="620640"/>
              <a:ext cx="3124080" cy="2288520"/>
              <a:chOff x="5508720" y="620640"/>
              <a:chExt cx="3124080" cy="2288520"/>
            </a:xfrm>
          </p:grpSpPr>
          <p:sp>
            <p:nvSpPr>
              <p:cNvPr id="529" name=""/>
              <p:cNvSpPr/>
              <p:nvPr/>
            </p:nvSpPr>
            <p:spPr>
              <a:xfrm flipH="1">
                <a:off x="5736600" y="1001520"/>
                <a:ext cx="2438280" cy="1523880"/>
              </a:xfrm>
              <a:prstGeom prst="rtTriangle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889960" y="2296800"/>
                <a:ext cx="4564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508720" y="244944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7794720" y="62064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7947000" y="244944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251920" y="176364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7794720" y="21445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┌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804000" y="1230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7" name=""/>
          <p:cNvSpPr txBox="1"/>
          <p:nvPr/>
        </p:nvSpPr>
        <p:spPr>
          <a:xfrm>
            <a:off x="395280" y="476280"/>
            <a:ext cx="5029200" cy="6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小结与拓展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5853240" y="3645000"/>
            <a:ext cx="2933640" cy="2364480"/>
            <a:chOff x="5853240" y="3645000"/>
            <a:chExt cx="2933640" cy="2364480"/>
          </a:xfrm>
        </p:grpSpPr>
        <p:grpSp>
          <p:nvGrpSpPr>
            <p:cNvPr id="539" name=""/>
            <p:cNvGrpSpPr/>
            <p:nvPr/>
          </p:nvGrpSpPr>
          <p:grpSpPr>
            <a:xfrm>
              <a:off x="5853240" y="3645000"/>
              <a:ext cx="2909520" cy="2364480"/>
              <a:chOff x="5853240" y="3645000"/>
              <a:chExt cx="2909520" cy="2364480"/>
            </a:xfrm>
          </p:grpSpPr>
          <p:sp>
            <p:nvSpPr>
              <p:cNvPr id="540" name=""/>
              <p:cNvSpPr/>
              <p:nvPr/>
            </p:nvSpPr>
            <p:spPr>
              <a:xfrm rot="16200000">
                <a:off x="6924240" y="4092480"/>
                <a:ext cx="2286000" cy="1390680"/>
              </a:xfrm>
              <a:prstGeom prst="rtTriangle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H="1">
                <a:off x="8352360" y="5549760"/>
                <a:ext cx="402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┌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H="1">
                <a:off x="5853240" y="4635360"/>
                <a:ext cx="1370880" cy="1295640"/>
              </a:xfrm>
              <a:prstGeom prst="rtTriangle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H="1">
                <a:off x="6820560" y="5549760"/>
                <a:ext cx="403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┌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4" name=""/>
            <p:cNvSpPr/>
            <p:nvPr/>
          </p:nvSpPr>
          <p:spPr>
            <a:xfrm>
              <a:off x="8096400" y="4314960"/>
              <a:ext cx="690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ahoma"/>
                </a:rPr>
                <a:t>30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410600" y="5610240"/>
              <a:ext cx="690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ahoma"/>
                </a:rPr>
                <a:t>60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634080" y="4881600"/>
              <a:ext cx="690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ahoma"/>
                </a:rPr>
                <a:t>45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962680" y="5610240"/>
              <a:ext cx="690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ahoma"/>
                </a:rPr>
                <a:t>45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5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5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700360" y="1844640"/>
            <a:ext cx="61196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Courier New"/>
              </a:rPr>
              <a:t>如图所示 在 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Courier New"/>
              </a:rPr>
              <a:t>Rt△ABC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Courier New"/>
              </a:rPr>
              <a:t>中，∠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Courier New"/>
              </a:rPr>
              <a:t>C=90°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Courier New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Courier New"/>
              </a:rPr>
              <a:t>（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Courier New"/>
              </a:rPr>
              <a:t>1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Courier New"/>
              </a:rPr>
              <a:t>）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Courier New"/>
              </a:rPr>
              <a:t>a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Courier New"/>
              </a:rPr>
              <a:t>、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Courier New"/>
              </a:rPr>
              <a:t>b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Courier New"/>
              </a:rPr>
              <a:t>、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Courier New"/>
              </a:rPr>
              <a:t>c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Courier New"/>
              </a:rPr>
              <a:t>三者之间的关系是</a:t>
            </a:r>
            <a:r>
              <a:rPr b="1" lang="zh-CN" sz="2000" spc="-1" strike="noStrike" u="sng">
                <a:solidFill>
                  <a:srgbClr val="ffffff"/>
                </a:solidFill>
                <a:uFillTx/>
                <a:latin typeface="宋体"/>
                <a:ea typeface="Courier New"/>
              </a:rPr>
              <a:t>               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Courier New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Courier New"/>
              </a:rPr>
              <a:t>    ∠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Courier New"/>
              </a:rPr>
              <a:t>A+∠B=</a:t>
            </a:r>
            <a:r>
              <a:rPr b="1" lang="zh-CN" sz="2000" spc="-1" strike="noStrike" u="sng">
                <a:solidFill>
                  <a:srgbClr val="ffffff"/>
                </a:solidFill>
                <a:uFillTx/>
                <a:latin typeface="宋体"/>
                <a:ea typeface="Courier New"/>
              </a:rPr>
              <a:t>        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Courier New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Courier New"/>
              </a:rPr>
              <a:t>（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Courier New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Courier New"/>
              </a:rPr>
              <a:t>）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Courier New"/>
              </a:rPr>
              <a:t>sinA= </a:t>
            </a:r>
            <a:r>
              <a:rPr b="1" lang="zh-CN" sz="2000" spc="-1" strike="noStrike" u="sng">
                <a:solidFill>
                  <a:srgbClr val="ffffff"/>
                </a:solidFill>
                <a:uFillTx/>
                <a:latin typeface="宋体"/>
                <a:ea typeface="Courier New"/>
              </a:rPr>
              <a:t>        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Courier New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Courier New"/>
              </a:rPr>
              <a:t>     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Courier New"/>
              </a:rPr>
              <a:t>cosA=</a:t>
            </a:r>
            <a:r>
              <a:rPr b="1" lang="zh-CN" sz="2000" spc="-1" strike="noStrike" u="sng">
                <a:solidFill>
                  <a:srgbClr val="ffffff"/>
                </a:solidFill>
                <a:uFillTx/>
                <a:latin typeface="宋体"/>
                <a:ea typeface="Courier New"/>
              </a:rPr>
              <a:t>         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Courier New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Courier New"/>
              </a:rPr>
              <a:t>     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Courier New"/>
              </a:rPr>
              <a:t>tanA=</a:t>
            </a:r>
            <a:r>
              <a:rPr b="1" lang="zh-CN" sz="2000" spc="-1" strike="noStrike" u="sng">
                <a:solidFill>
                  <a:srgbClr val="ffffff"/>
                </a:solidFill>
                <a:uFillTx/>
                <a:latin typeface="宋体"/>
                <a:ea typeface="Courier New"/>
              </a:rPr>
              <a:t>      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Courier New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Courier New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Courier New"/>
              </a:rPr>
              <a:t>     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Courier New"/>
              </a:rPr>
              <a:t>sinB=</a:t>
            </a:r>
            <a:r>
              <a:rPr b="1" lang="zh-CN" sz="2000" spc="-1" strike="noStrike" u="sng">
                <a:solidFill>
                  <a:srgbClr val="ffffff"/>
                </a:solidFill>
                <a:uFillTx/>
                <a:latin typeface="宋体"/>
                <a:ea typeface="Courier New"/>
              </a:rPr>
              <a:t>        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Courier New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Courier New"/>
              </a:rPr>
              <a:t>     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Courier New"/>
              </a:rPr>
              <a:t>cosB= </a:t>
            </a:r>
            <a:r>
              <a:rPr b="1" lang="zh-CN" sz="2000" spc="-1" strike="noStrike" u="sng">
                <a:solidFill>
                  <a:srgbClr val="ffffff"/>
                </a:solidFill>
                <a:uFillTx/>
                <a:latin typeface="宋体"/>
                <a:ea typeface="Courier New"/>
              </a:rPr>
              <a:t>        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Courier New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Courier New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Courier New"/>
              </a:rPr>
              <a:t>     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Courier New"/>
              </a:rPr>
              <a:t>tanB=</a:t>
            </a:r>
            <a:r>
              <a:rPr b="1" lang="zh-CN" sz="2000" spc="-1" strike="noStrike" u="sng">
                <a:solidFill>
                  <a:srgbClr val="ffffff"/>
                </a:solidFill>
                <a:uFillTx/>
                <a:latin typeface="宋体"/>
                <a:ea typeface="Courier New"/>
              </a:rPr>
              <a:t>      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Courier New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Courier New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Courier New"/>
              </a:rPr>
              <a:t>（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Courier New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Courier New"/>
              </a:rPr>
              <a:t>）若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Courier New"/>
              </a:rPr>
              <a:t>A=30°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Courier New"/>
              </a:rPr>
              <a:t>，则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Courier New"/>
              </a:rPr>
              <a:t>=</a:t>
            </a:r>
            <a:r>
              <a:rPr b="1" lang="zh-CN" sz="2000" spc="-1" strike="noStrike" u="sng">
                <a:solidFill>
                  <a:srgbClr val="ffffff"/>
                </a:solidFill>
                <a:uFillTx/>
                <a:latin typeface="宋体"/>
                <a:ea typeface="Courier New"/>
              </a:rPr>
              <a:t>        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Courier New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80880" y="457200"/>
            <a:ext cx="5029200" cy="6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复习巩固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396720" y="1773360"/>
            <a:ext cx="2107800" cy="2365200"/>
            <a:chOff x="396720" y="1773360"/>
            <a:chExt cx="2107800" cy="2365200"/>
          </a:xfrm>
        </p:grpSpPr>
        <p:grpSp>
          <p:nvGrpSpPr>
            <p:cNvPr id="86" name=""/>
            <p:cNvGrpSpPr/>
            <p:nvPr/>
          </p:nvGrpSpPr>
          <p:grpSpPr>
            <a:xfrm>
              <a:off x="755640" y="2185560"/>
              <a:ext cx="1368360" cy="1511280"/>
              <a:chOff x="755640" y="2185560"/>
              <a:chExt cx="1368360" cy="1511280"/>
            </a:xfrm>
          </p:grpSpPr>
          <p:sp>
            <p:nvSpPr>
              <p:cNvPr id="87" name=""/>
              <p:cNvSpPr/>
              <p:nvPr/>
            </p:nvSpPr>
            <p:spPr>
              <a:xfrm>
                <a:off x="755640" y="3696840"/>
                <a:ext cx="13683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>
                <a:off x="2124000" y="2185560"/>
                <a:ext cx="0" cy="1510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>
                <a:off x="755640" y="2185560"/>
                <a:ext cx="1368360" cy="1510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" name=""/>
            <p:cNvSpPr/>
            <p:nvPr/>
          </p:nvSpPr>
          <p:spPr>
            <a:xfrm>
              <a:off x="2104920" y="17733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052720" y="36972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96720" y="35542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197440" y="2762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72720" y="24732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332000" y="3770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>
            <a:hlinkClick r:id="" action="ppaction://hlinkshowjump?jump=lastslide"/>
          </p:cNvPr>
          <p:cNvSpPr/>
          <p:nvPr/>
        </p:nvSpPr>
        <p:spPr>
          <a:xfrm>
            <a:off x="8604360" y="6497640"/>
            <a:ext cx="539640" cy="360360"/>
          </a:xfrm>
          <a:custGeom>
            <a:avLst/>
            <a:gdLst>
              <a:gd name="textAreaLeft" fmla="*/ 23040 w 539640"/>
              <a:gd name="textAreaRight" fmla="*/ 516600 w 53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2335" h="21600">
                <a:moveTo>
                  <a:pt x="0" y="0"/>
                </a:moveTo>
                <a:lnTo>
                  <a:pt x="32335" y="0"/>
                </a:lnTo>
                <a:lnTo>
                  <a:pt x="32335" y="21600"/>
                </a:lnTo>
                <a:lnTo>
                  <a:pt x="0" y="21600"/>
                </a:lnTo>
                <a:close/>
              </a:path>
              <a:path fill="lightenLess" w="32335" h="21600">
                <a:moveTo>
                  <a:pt x="0" y="0"/>
                </a:moveTo>
                <a:lnTo>
                  <a:pt x="32335" y="0"/>
                </a:lnTo>
                <a:lnTo>
                  <a:pt x="30935" y="1400"/>
                </a:lnTo>
                <a:lnTo>
                  <a:pt x="1400" y="1400"/>
                </a:lnTo>
                <a:close/>
              </a:path>
              <a:path fill="darken" w="32335" h="21600">
                <a:moveTo>
                  <a:pt x="32335" y="0"/>
                </a:moveTo>
                <a:lnTo>
                  <a:pt x="32335" y="21600"/>
                </a:lnTo>
                <a:lnTo>
                  <a:pt x="30935" y="20200"/>
                </a:lnTo>
                <a:lnTo>
                  <a:pt x="30935" y="1400"/>
                </a:lnTo>
                <a:close/>
              </a:path>
              <a:path fill="darkenLess" w="32335" h="21600">
                <a:moveTo>
                  <a:pt x="323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35" y="20200"/>
                </a:lnTo>
                <a:close/>
              </a:path>
              <a:path fill="lighten" w="323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35" h="21600">
                <a:moveTo>
                  <a:pt x="19667" y="10800"/>
                </a:moveTo>
                <a:lnTo>
                  <a:pt x="9161" y="17806"/>
                </a:lnTo>
                <a:lnTo>
                  <a:pt x="9161" y="3794"/>
                </a:lnTo>
                <a:close/>
              </a:path>
              <a:path fill="darken" w="32335" h="21600">
                <a:moveTo>
                  <a:pt x="21512" y="3794"/>
                </a:moveTo>
                <a:lnTo>
                  <a:pt x="21512" y="17806"/>
                </a:lnTo>
                <a:lnTo>
                  <a:pt x="23174" y="17806"/>
                </a:lnTo>
                <a:lnTo>
                  <a:pt x="23174" y="3794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39640" y="1773360"/>
            <a:ext cx="5832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为了测量一棵大树的高度，准备了如下测量工具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          ①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含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30°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和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60°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两个锐角的三角尺；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          ②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皮尺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请你设计一个测量方案，能测出一棵大树的高度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95280" y="476280"/>
            <a:ext cx="5029200" cy="6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活动探究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95360" y="3054240"/>
            <a:ext cx="3974040" cy="3602880"/>
            <a:chOff x="495360" y="3054240"/>
            <a:chExt cx="3974040" cy="3602880"/>
          </a:xfrm>
        </p:grpSpPr>
        <p:sp>
          <p:nvSpPr>
            <p:cNvPr id="100" name=""/>
            <p:cNvSpPr/>
            <p:nvPr/>
          </p:nvSpPr>
          <p:spPr>
            <a:xfrm rot="12753600">
              <a:off x="805680" y="3788640"/>
              <a:ext cx="3352680" cy="2133720"/>
            </a:xfrm>
            <a:custGeom>
              <a:avLst/>
              <a:gdLst/>
              <a:ahLst/>
              <a:rect l="l" t="t" r="r" b="b"/>
              <a:pathLst>
                <a:path w="2112" h="1344">
                  <a:moveTo>
                    <a:pt x="0" y="0"/>
                  </a:moveTo>
                  <a:lnTo>
                    <a:pt x="0" y="1344"/>
                  </a:lnTo>
                  <a:lnTo>
                    <a:pt x="21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f2ff">
                <a:alpha val="50000"/>
              </a:srgbClr>
            </a:solidFill>
            <a:ln w="190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3103560" y="4950720"/>
              <a:ext cx="1160280" cy="1609560"/>
              <a:chOff x="3103560" y="4950720"/>
              <a:chExt cx="1160280" cy="1609560"/>
            </a:xfrm>
          </p:grpSpPr>
          <p:grpSp>
            <p:nvGrpSpPr>
              <p:cNvPr id="102" name=""/>
              <p:cNvGrpSpPr/>
              <p:nvPr/>
            </p:nvGrpSpPr>
            <p:grpSpPr>
              <a:xfrm>
                <a:off x="3400200" y="5143320"/>
                <a:ext cx="863640" cy="1310040"/>
                <a:chOff x="3400200" y="5143320"/>
                <a:chExt cx="863640" cy="1310040"/>
              </a:xfrm>
            </p:grpSpPr>
            <p:sp>
              <p:nvSpPr>
                <p:cNvPr id="103" name=""/>
                <p:cNvSpPr/>
                <p:nvPr/>
              </p:nvSpPr>
              <p:spPr>
                <a:xfrm flipH="1" flipV="1">
                  <a:off x="4206960" y="5143320"/>
                  <a:ext cx="56880" cy="36360"/>
                </a:xfrm>
                <a:prstGeom prst="line">
                  <a:avLst/>
                </a:prstGeom>
                <a:ln w="6480">
                  <a:solidFill>
                    <a:srgbClr val="8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 flipH="1" flipV="1">
                  <a:off x="4219560" y="5181840"/>
                  <a:ext cx="30600" cy="19440"/>
                </a:xfrm>
                <a:prstGeom prst="line">
                  <a:avLst/>
                </a:prstGeom>
                <a:ln w="64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 flipH="1" flipV="1">
                  <a:off x="4205160" y="5204520"/>
                  <a:ext cx="30240" cy="19440"/>
                </a:xfrm>
                <a:prstGeom prst="line">
                  <a:avLst/>
                </a:prstGeom>
                <a:ln w="64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 flipH="1" flipV="1">
                  <a:off x="4191480" y="5225760"/>
                  <a:ext cx="30600" cy="19440"/>
                </a:xfrm>
                <a:prstGeom prst="line">
                  <a:avLst/>
                </a:prstGeom>
                <a:ln w="64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 flipH="1" flipV="1">
                  <a:off x="4177080" y="5248440"/>
                  <a:ext cx="30240" cy="19440"/>
                </a:xfrm>
                <a:prstGeom prst="line">
                  <a:avLst/>
                </a:prstGeom>
                <a:ln w="64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 flipH="1" flipV="1">
                  <a:off x="4147920" y="5260320"/>
                  <a:ext cx="45720" cy="29160"/>
                </a:xfrm>
                <a:prstGeom prst="line">
                  <a:avLst/>
                </a:prstGeom>
                <a:ln w="64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 flipH="1" flipV="1">
                  <a:off x="4148640" y="5293080"/>
                  <a:ext cx="30600" cy="19080"/>
                </a:xfrm>
                <a:prstGeom prst="line">
                  <a:avLst/>
                </a:prstGeom>
                <a:ln w="64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 flipH="1" flipV="1">
                  <a:off x="4135320" y="5314320"/>
                  <a:ext cx="30240" cy="19080"/>
                </a:xfrm>
                <a:prstGeom prst="line">
                  <a:avLst/>
                </a:prstGeom>
                <a:ln w="64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 flipH="1" flipV="1">
                  <a:off x="4121640" y="5335560"/>
                  <a:ext cx="30240" cy="19440"/>
                </a:xfrm>
                <a:prstGeom prst="line">
                  <a:avLst/>
                </a:prstGeom>
                <a:ln w="64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 flipH="1" flipV="1">
                  <a:off x="4106880" y="5358600"/>
                  <a:ext cx="30240" cy="19080"/>
                </a:xfrm>
                <a:prstGeom prst="line">
                  <a:avLst/>
                </a:prstGeom>
                <a:ln w="64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 flipH="1" flipV="1">
                  <a:off x="4073400" y="5367240"/>
                  <a:ext cx="50040" cy="32040"/>
                </a:xfrm>
                <a:prstGeom prst="line">
                  <a:avLst/>
                </a:prstGeom>
                <a:ln w="6480">
                  <a:solidFill>
                    <a:srgbClr val="8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 flipH="1" flipV="1">
                  <a:off x="4078800" y="5402520"/>
                  <a:ext cx="30240" cy="19440"/>
                </a:xfrm>
                <a:prstGeom prst="line">
                  <a:avLst/>
                </a:prstGeom>
                <a:ln w="64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 flipH="1" flipV="1">
                  <a:off x="4065120" y="5424120"/>
                  <a:ext cx="30240" cy="19080"/>
                </a:xfrm>
                <a:prstGeom prst="line">
                  <a:avLst/>
                </a:prstGeom>
                <a:ln w="64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 flipH="1" flipV="1">
                  <a:off x="4051440" y="5445360"/>
                  <a:ext cx="30240" cy="19440"/>
                </a:xfrm>
                <a:prstGeom prst="line">
                  <a:avLst/>
                </a:prstGeom>
                <a:ln w="64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 flipH="1" flipV="1">
                  <a:off x="4021200" y="5458320"/>
                  <a:ext cx="46080" cy="29520"/>
                </a:xfrm>
                <a:prstGeom prst="line">
                  <a:avLst/>
                </a:prstGeom>
                <a:ln w="64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 flipH="1" flipV="1">
                  <a:off x="4023360" y="5489640"/>
                  <a:ext cx="30240" cy="19440"/>
                </a:xfrm>
                <a:prstGeom prst="line">
                  <a:avLst/>
                </a:prstGeom>
                <a:ln w="64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 flipH="1" flipV="1">
                  <a:off x="4008600" y="5512320"/>
                  <a:ext cx="30600" cy="19440"/>
                </a:xfrm>
                <a:prstGeom prst="line">
                  <a:avLst/>
                </a:prstGeom>
                <a:ln w="64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 flipH="1" flipV="1">
                  <a:off x="3994920" y="5533920"/>
                  <a:ext cx="30240" cy="19440"/>
                </a:xfrm>
                <a:prstGeom prst="line">
                  <a:avLst/>
                </a:prstGeom>
                <a:ln w="64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 flipH="1" flipV="1">
                  <a:off x="3980520" y="5556600"/>
                  <a:ext cx="30240" cy="19440"/>
                </a:xfrm>
                <a:prstGeom prst="line">
                  <a:avLst/>
                </a:prstGeom>
                <a:ln w="64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 flipH="1" flipV="1">
                  <a:off x="3933360" y="5556600"/>
                  <a:ext cx="63720" cy="40680"/>
                </a:xfrm>
                <a:prstGeom prst="line">
                  <a:avLst/>
                </a:prstGeom>
                <a:ln w="6480">
                  <a:solidFill>
                    <a:srgbClr val="8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 flipH="1" flipV="1">
                  <a:off x="3953160" y="5599440"/>
                  <a:ext cx="30240" cy="19440"/>
                </a:xfrm>
                <a:prstGeom prst="line">
                  <a:avLst/>
                </a:prstGeom>
                <a:ln w="64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 flipH="1" flipV="1">
                  <a:off x="3938400" y="5622120"/>
                  <a:ext cx="30600" cy="19440"/>
                </a:xfrm>
                <a:prstGeom prst="line">
                  <a:avLst/>
                </a:prstGeom>
                <a:ln w="64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 flipH="1" flipV="1">
                  <a:off x="3925080" y="5643360"/>
                  <a:ext cx="30240" cy="19440"/>
                </a:xfrm>
                <a:prstGeom prst="line">
                  <a:avLst/>
                </a:prstGeom>
                <a:ln w="64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 flipH="1" flipV="1">
                  <a:off x="3910320" y="5666040"/>
                  <a:ext cx="30600" cy="19440"/>
                </a:xfrm>
                <a:prstGeom prst="line">
                  <a:avLst/>
                </a:prstGeom>
                <a:ln w="64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 flipH="1" flipV="1">
                  <a:off x="3881160" y="5677920"/>
                  <a:ext cx="46080" cy="29160"/>
                </a:xfrm>
                <a:prstGeom prst="line">
                  <a:avLst/>
                </a:prstGeom>
                <a:ln w="64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 flipH="1" flipV="1">
                  <a:off x="3883320" y="5708880"/>
                  <a:ext cx="30240" cy="19440"/>
                </a:xfrm>
                <a:prstGeom prst="line">
                  <a:avLst/>
                </a:prstGeom>
                <a:ln w="64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 flipH="1" flipV="1">
                  <a:off x="3868560" y="5731560"/>
                  <a:ext cx="30240" cy="19440"/>
                </a:xfrm>
                <a:prstGeom prst="line">
                  <a:avLst/>
                </a:prstGeom>
                <a:ln w="64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flipH="1" flipV="1">
                  <a:off x="3854880" y="5753160"/>
                  <a:ext cx="30240" cy="19440"/>
                </a:xfrm>
                <a:prstGeom prst="line">
                  <a:avLst/>
                </a:prstGeom>
                <a:ln w="64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 flipH="1" flipV="1">
                  <a:off x="3840480" y="5775840"/>
                  <a:ext cx="30240" cy="19440"/>
                </a:xfrm>
                <a:prstGeom prst="line">
                  <a:avLst/>
                </a:prstGeom>
                <a:ln w="64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 flipH="1" flipV="1">
                  <a:off x="3793320" y="5775840"/>
                  <a:ext cx="63720" cy="40680"/>
                </a:xfrm>
                <a:prstGeom prst="line">
                  <a:avLst/>
                </a:prstGeom>
                <a:ln w="6480">
                  <a:solidFill>
                    <a:srgbClr val="8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flipH="1" flipV="1">
                  <a:off x="3812400" y="5820120"/>
                  <a:ext cx="30240" cy="19080"/>
                </a:xfrm>
                <a:prstGeom prst="line">
                  <a:avLst/>
                </a:prstGeom>
                <a:ln w="64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flipH="1" flipV="1">
                  <a:off x="3798360" y="5841360"/>
                  <a:ext cx="30600" cy="19440"/>
                </a:xfrm>
                <a:prstGeom prst="line">
                  <a:avLst/>
                </a:prstGeom>
                <a:ln w="64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 flipH="1" flipV="1">
                  <a:off x="3785040" y="5862600"/>
                  <a:ext cx="30240" cy="19440"/>
                </a:xfrm>
                <a:prstGeom prst="line">
                  <a:avLst/>
                </a:prstGeom>
                <a:ln w="64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 flipH="1" flipV="1">
                  <a:off x="3754800" y="5875560"/>
                  <a:ext cx="46080" cy="29160"/>
                </a:xfrm>
                <a:prstGeom prst="line">
                  <a:avLst/>
                </a:prstGeom>
                <a:ln w="64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 flipH="1" flipV="1">
                  <a:off x="3756600" y="5906880"/>
                  <a:ext cx="30240" cy="19440"/>
                </a:xfrm>
                <a:prstGeom prst="line">
                  <a:avLst/>
                </a:prstGeom>
                <a:ln w="64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 flipH="1" flipV="1">
                  <a:off x="3742200" y="5929920"/>
                  <a:ext cx="30240" cy="19080"/>
                </a:xfrm>
                <a:prstGeom prst="line">
                  <a:avLst/>
                </a:prstGeom>
                <a:ln w="64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H="1" flipV="1">
                  <a:off x="3728520" y="5951160"/>
                  <a:ext cx="30240" cy="19080"/>
                </a:xfrm>
                <a:prstGeom prst="line">
                  <a:avLst/>
                </a:prstGeom>
                <a:ln w="64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H="1" flipV="1">
                  <a:off x="3714120" y="5973840"/>
                  <a:ext cx="30240" cy="19440"/>
                </a:xfrm>
                <a:prstGeom prst="line">
                  <a:avLst/>
                </a:prstGeom>
                <a:ln w="64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 flipV="1">
                  <a:off x="3666960" y="5973840"/>
                  <a:ext cx="63720" cy="41040"/>
                </a:xfrm>
                <a:prstGeom prst="line">
                  <a:avLst/>
                </a:prstGeom>
                <a:ln w="6480">
                  <a:solidFill>
                    <a:srgbClr val="8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flipV="1">
                  <a:off x="3686400" y="6017040"/>
                  <a:ext cx="30600" cy="19080"/>
                </a:xfrm>
                <a:prstGeom prst="line">
                  <a:avLst/>
                </a:prstGeom>
                <a:ln w="64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flipV="1">
                  <a:off x="3672000" y="6039720"/>
                  <a:ext cx="30240" cy="19440"/>
                </a:xfrm>
                <a:prstGeom prst="line">
                  <a:avLst/>
                </a:prstGeom>
                <a:ln w="64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 flipH="1" flipV="1">
                  <a:off x="3658320" y="6060960"/>
                  <a:ext cx="30600" cy="19440"/>
                </a:xfrm>
                <a:prstGeom prst="line">
                  <a:avLst/>
                </a:prstGeom>
                <a:ln w="64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 flipH="1" flipV="1">
                  <a:off x="3643920" y="6083640"/>
                  <a:ext cx="30240" cy="19440"/>
                </a:xfrm>
                <a:prstGeom prst="line">
                  <a:avLst/>
                </a:prstGeom>
                <a:ln w="64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H="1" flipV="1">
                  <a:off x="3614760" y="6095160"/>
                  <a:ext cx="45720" cy="29520"/>
                </a:xfrm>
                <a:prstGeom prst="line">
                  <a:avLst/>
                </a:prstGeom>
                <a:ln w="64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 flipV="1">
                  <a:off x="3616560" y="6126480"/>
                  <a:ext cx="30240" cy="19440"/>
                </a:xfrm>
                <a:prstGeom prst="line">
                  <a:avLst/>
                </a:prstGeom>
                <a:ln w="64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H="1" flipV="1">
                  <a:off x="3602160" y="6149160"/>
                  <a:ext cx="30240" cy="19440"/>
                </a:xfrm>
                <a:prstGeom prst="line">
                  <a:avLst/>
                </a:prstGeom>
                <a:ln w="64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 flipV="1">
                  <a:off x="3588120" y="6170760"/>
                  <a:ext cx="30600" cy="19440"/>
                </a:xfrm>
                <a:prstGeom prst="line">
                  <a:avLst/>
                </a:prstGeom>
                <a:ln w="64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flipH="1" flipV="1">
                  <a:off x="3573720" y="6193440"/>
                  <a:ext cx="30240" cy="19440"/>
                </a:xfrm>
                <a:prstGeom prst="line">
                  <a:avLst/>
                </a:prstGeom>
                <a:ln w="64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flipV="1">
                  <a:off x="3540600" y="6202080"/>
                  <a:ext cx="50040" cy="32040"/>
                </a:xfrm>
                <a:prstGeom prst="line">
                  <a:avLst/>
                </a:prstGeom>
                <a:ln w="6480">
                  <a:solidFill>
                    <a:srgbClr val="8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flipV="1">
                  <a:off x="3545640" y="6237360"/>
                  <a:ext cx="30240" cy="19440"/>
                </a:xfrm>
                <a:prstGeom prst="line">
                  <a:avLst/>
                </a:prstGeom>
                <a:ln w="64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H="1" flipV="1">
                  <a:off x="3531960" y="6258960"/>
                  <a:ext cx="30240" cy="19440"/>
                </a:xfrm>
                <a:prstGeom prst="line">
                  <a:avLst/>
                </a:prstGeom>
                <a:ln w="64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flipH="1" flipV="1">
                  <a:off x="3518280" y="6280200"/>
                  <a:ext cx="30240" cy="19440"/>
                </a:xfrm>
                <a:prstGeom prst="line">
                  <a:avLst/>
                </a:prstGeom>
                <a:ln w="64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H="1" flipV="1">
                  <a:off x="3488400" y="6293160"/>
                  <a:ext cx="45720" cy="29160"/>
                </a:xfrm>
                <a:prstGeom prst="line">
                  <a:avLst/>
                </a:prstGeom>
                <a:ln w="64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flipH="1" flipV="1">
                  <a:off x="3490200" y="6324480"/>
                  <a:ext cx="30240" cy="19440"/>
                </a:xfrm>
                <a:prstGeom prst="line">
                  <a:avLst/>
                </a:prstGeom>
                <a:ln w="64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 flipH="1" flipV="1">
                  <a:off x="3475440" y="6347160"/>
                  <a:ext cx="30600" cy="19440"/>
                </a:xfrm>
                <a:prstGeom prst="line">
                  <a:avLst/>
                </a:prstGeom>
                <a:ln w="64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 flipH="1" flipV="1">
                  <a:off x="3462120" y="6368400"/>
                  <a:ext cx="30240" cy="19440"/>
                </a:xfrm>
                <a:prstGeom prst="line">
                  <a:avLst/>
                </a:prstGeom>
                <a:ln w="64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 flipH="1" flipV="1">
                  <a:off x="3448080" y="6390000"/>
                  <a:ext cx="30600" cy="19440"/>
                </a:xfrm>
                <a:prstGeom prst="line">
                  <a:avLst/>
                </a:prstGeom>
                <a:ln w="64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 flipV="1">
                  <a:off x="3400200" y="6391440"/>
                  <a:ext cx="63720" cy="40680"/>
                </a:xfrm>
                <a:prstGeom prst="line">
                  <a:avLst/>
                </a:prstGeom>
                <a:ln w="6480">
                  <a:solidFill>
                    <a:srgbClr val="8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 flipV="1">
                  <a:off x="3420000" y="6433920"/>
                  <a:ext cx="30600" cy="19440"/>
                </a:xfrm>
                <a:prstGeom prst="line">
                  <a:avLst/>
                </a:prstGeom>
                <a:ln w="64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2" name=""/>
              <p:cNvSpPr/>
              <p:nvPr/>
            </p:nvSpPr>
            <p:spPr>
              <a:xfrm rot="7353600">
                <a:off x="2802240" y="5632200"/>
                <a:ext cx="1752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40000"/>
                    </a:solidFill>
                    <a:latin typeface="Times New Roman"/>
                  </a:rPr>
                  <a:t>0     1      2     3      4      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784800" y="4758480"/>
              <a:ext cx="2577960" cy="1769040"/>
              <a:chOff x="784800" y="4758480"/>
              <a:chExt cx="2577960" cy="1769040"/>
            </a:xfrm>
          </p:grpSpPr>
          <p:grpSp>
            <p:nvGrpSpPr>
              <p:cNvPr id="164" name=""/>
              <p:cNvGrpSpPr/>
              <p:nvPr/>
            </p:nvGrpSpPr>
            <p:grpSpPr>
              <a:xfrm>
                <a:off x="1024920" y="5119920"/>
                <a:ext cx="2114280" cy="1380960"/>
                <a:chOff x="1024920" y="5119920"/>
                <a:chExt cx="2114280" cy="1380960"/>
              </a:xfrm>
            </p:grpSpPr>
            <p:grpSp>
              <p:nvGrpSpPr>
                <p:cNvPr id="165" name=""/>
                <p:cNvGrpSpPr/>
                <p:nvPr/>
              </p:nvGrpSpPr>
              <p:grpSpPr>
                <a:xfrm>
                  <a:off x="1068840" y="5173200"/>
                  <a:ext cx="2070360" cy="1327680"/>
                  <a:chOff x="1068840" y="5173200"/>
                  <a:chExt cx="2070360" cy="1327680"/>
                </a:xfrm>
              </p:grpSpPr>
              <p:sp>
                <p:nvSpPr>
                  <p:cNvPr id="166" name=""/>
                  <p:cNvSpPr/>
                  <p:nvPr/>
                </p:nvSpPr>
                <p:spPr>
                  <a:xfrm flipV="1">
                    <a:off x="3111840" y="6457680"/>
                    <a:ext cx="27360" cy="43200"/>
                  </a:xfrm>
                  <a:prstGeom prst="line">
                    <a:avLst/>
                  </a:prstGeom>
                  <a:ln w="6480">
                    <a:solidFill>
                      <a:srgbClr val="8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 flipV="1">
                    <a:off x="3089880" y="6463800"/>
                    <a:ext cx="14760" cy="230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 flipV="1">
                    <a:off x="3067920" y="6449760"/>
                    <a:ext cx="14760" cy="230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 flipV="1">
                    <a:off x="3045960" y="6435720"/>
                    <a:ext cx="14760" cy="230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 flipV="1">
                    <a:off x="3024000" y="6421680"/>
                    <a:ext cx="14760" cy="230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 flipV="1">
                    <a:off x="3002400" y="6395400"/>
                    <a:ext cx="22320" cy="356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 flipV="1">
                    <a:off x="2980080" y="6393240"/>
                    <a:ext cx="147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 flipV="1">
                    <a:off x="2958120" y="6379560"/>
                    <a:ext cx="1512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 flipV="1">
                    <a:off x="2936160" y="6365160"/>
                    <a:ext cx="147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 flipV="1">
                    <a:off x="2914200" y="6351480"/>
                    <a:ext cx="1512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 flipV="1">
                    <a:off x="2892240" y="6321600"/>
                    <a:ext cx="24480" cy="38880"/>
                  </a:xfrm>
                  <a:prstGeom prst="line">
                    <a:avLst/>
                  </a:prstGeom>
                  <a:ln w="6480">
                    <a:solidFill>
                      <a:srgbClr val="8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 flipV="1">
                    <a:off x="2870280" y="6323400"/>
                    <a:ext cx="14760" cy="230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 flipV="1">
                    <a:off x="2848320" y="6309720"/>
                    <a:ext cx="14760" cy="230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 flipV="1">
                    <a:off x="2826360" y="6295320"/>
                    <a:ext cx="14760" cy="230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 flipV="1">
                    <a:off x="2804400" y="6269040"/>
                    <a:ext cx="22680" cy="356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 flipV="1">
                    <a:off x="2782080" y="6267240"/>
                    <a:ext cx="14760" cy="230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 flipV="1">
                    <a:off x="2760480" y="6253560"/>
                    <a:ext cx="14760" cy="230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 flipV="1">
                    <a:off x="2738520" y="6239520"/>
                    <a:ext cx="14760" cy="230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 flipV="1">
                    <a:off x="2716560" y="6225480"/>
                    <a:ext cx="14400" cy="230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 flipV="1">
                    <a:off x="2694600" y="6186240"/>
                    <a:ext cx="30600" cy="48240"/>
                  </a:xfrm>
                  <a:prstGeom prst="line">
                    <a:avLst/>
                  </a:prstGeom>
                  <a:ln w="6480">
                    <a:solidFill>
                      <a:srgbClr val="8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 flipV="1">
                    <a:off x="2672640" y="6197400"/>
                    <a:ext cx="14760" cy="230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 flipV="1">
                    <a:off x="2650680" y="6183360"/>
                    <a:ext cx="14760" cy="230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 flipV="1">
                    <a:off x="2628360" y="6168960"/>
                    <a:ext cx="147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 flipV="1">
                    <a:off x="2606400" y="6155280"/>
                    <a:ext cx="14760" cy="230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 flipV="1">
                    <a:off x="2584800" y="6128640"/>
                    <a:ext cx="22680" cy="356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 flipV="1">
                    <a:off x="2562480" y="6127200"/>
                    <a:ext cx="14760" cy="230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 flipV="1">
                    <a:off x="2540880" y="6113160"/>
                    <a:ext cx="14400" cy="230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 flipV="1">
                    <a:off x="2518920" y="6099120"/>
                    <a:ext cx="14760" cy="230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 flipV="1">
                    <a:off x="2496600" y="6085080"/>
                    <a:ext cx="14760" cy="230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 flipV="1">
                    <a:off x="2475000" y="6045840"/>
                    <a:ext cx="30600" cy="48240"/>
                  </a:xfrm>
                  <a:prstGeom prst="line">
                    <a:avLst/>
                  </a:prstGeom>
                  <a:ln w="6480">
                    <a:solidFill>
                      <a:srgbClr val="8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 flipV="1">
                    <a:off x="2452680" y="6057000"/>
                    <a:ext cx="14760" cy="230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 flipV="1">
                    <a:off x="2430720" y="6042960"/>
                    <a:ext cx="14760" cy="230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 flipV="1">
                    <a:off x="2409120" y="6028920"/>
                    <a:ext cx="14760" cy="230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 flipV="1">
                    <a:off x="2386800" y="6002640"/>
                    <a:ext cx="22680" cy="352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 flipV="1">
                    <a:off x="2365200" y="6000840"/>
                    <a:ext cx="14400" cy="230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 flipV="1">
                    <a:off x="2342880" y="5986800"/>
                    <a:ext cx="14760" cy="230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 flipV="1">
                    <a:off x="2320920" y="5972760"/>
                    <a:ext cx="14760" cy="230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 flipV="1">
                    <a:off x="2298960" y="5958720"/>
                    <a:ext cx="14760" cy="230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 flipV="1">
                    <a:off x="2277000" y="5919480"/>
                    <a:ext cx="30960" cy="48240"/>
                  </a:xfrm>
                  <a:prstGeom prst="line">
                    <a:avLst/>
                  </a:prstGeom>
                  <a:ln w="6480">
                    <a:solidFill>
                      <a:srgbClr val="8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 flipV="1">
                    <a:off x="2255040" y="5931000"/>
                    <a:ext cx="14760" cy="230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 flipV="1">
                    <a:off x="2233080" y="5916600"/>
                    <a:ext cx="14760" cy="230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 flipV="1">
                    <a:off x="2211120" y="5902560"/>
                    <a:ext cx="147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 flipV="1">
                    <a:off x="2189160" y="5888520"/>
                    <a:ext cx="14760" cy="230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 flipV="1">
                    <a:off x="2167200" y="5862240"/>
                    <a:ext cx="22680" cy="356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 flipV="1">
                    <a:off x="2145240" y="5860440"/>
                    <a:ext cx="1512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 flipV="1">
                    <a:off x="2123280" y="5846400"/>
                    <a:ext cx="14760" cy="230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 flipV="1">
                    <a:off x="2101320" y="5832360"/>
                    <a:ext cx="1512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 flipV="1">
                    <a:off x="2079360" y="5818320"/>
                    <a:ext cx="1512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 flipV="1">
                    <a:off x="2057400" y="5788800"/>
                    <a:ext cx="24840" cy="38880"/>
                  </a:xfrm>
                  <a:prstGeom prst="line">
                    <a:avLst/>
                  </a:prstGeom>
                  <a:ln w="6480">
                    <a:solidFill>
                      <a:srgbClr val="8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 flipV="1">
                    <a:off x="2035440" y="5790600"/>
                    <a:ext cx="14760" cy="230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 flipV="1">
                    <a:off x="2013480" y="5776560"/>
                    <a:ext cx="14760" cy="230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 flipV="1">
                    <a:off x="1991520" y="5762520"/>
                    <a:ext cx="14760" cy="230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 flipV="1">
                    <a:off x="1969560" y="5735880"/>
                    <a:ext cx="22320" cy="356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 flipV="1">
                    <a:off x="1947600" y="5734440"/>
                    <a:ext cx="14760" cy="230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 flipV="1">
                    <a:off x="1925640" y="5720400"/>
                    <a:ext cx="14760" cy="230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 flipV="1">
                    <a:off x="1903680" y="5706360"/>
                    <a:ext cx="14760" cy="230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 flipV="1">
                    <a:off x="1881720" y="5692320"/>
                    <a:ext cx="14760" cy="230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 flipV="1">
                    <a:off x="1859400" y="5653080"/>
                    <a:ext cx="30960" cy="48240"/>
                  </a:xfrm>
                  <a:prstGeom prst="line">
                    <a:avLst/>
                  </a:prstGeom>
                  <a:ln w="6480">
                    <a:solidFill>
                      <a:srgbClr val="8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 flipV="1">
                    <a:off x="1837800" y="5664240"/>
                    <a:ext cx="14760" cy="230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 flipV="1">
                    <a:off x="1815840" y="5650200"/>
                    <a:ext cx="14760" cy="230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 flipV="1">
                    <a:off x="1793880" y="5636160"/>
                    <a:ext cx="14400" cy="230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 flipV="1">
                    <a:off x="1771920" y="5622120"/>
                    <a:ext cx="14760" cy="230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 flipV="1">
                    <a:off x="1749960" y="5595840"/>
                    <a:ext cx="22680" cy="356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 flipV="1">
                    <a:off x="1728000" y="5594040"/>
                    <a:ext cx="14760" cy="230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 flipV="1">
                    <a:off x="1705680" y="5580000"/>
                    <a:ext cx="14760" cy="230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 flipV="1">
                    <a:off x="1683720" y="5565960"/>
                    <a:ext cx="14760" cy="230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 flipV="1">
                    <a:off x="1662120" y="5551920"/>
                    <a:ext cx="14760" cy="230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 flipV="1">
                    <a:off x="1639800" y="5512680"/>
                    <a:ext cx="30960" cy="48240"/>
                  </a:xfrm>
                  <a:prstGeom prst="line">
                    <a:avLst/>
                  </a:prstGeom>
                  <a:ln w="6480">
                    <a:solidFill>
                      <a:srgbClr val="8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 flipV="1">
                    <a:off x="1618200" y="5523840"/>
                    <a:ext cx="14400" cy="230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 flipV="1">
                    <a:off x="1596240" y="5510160"/>
                    <a:ext cx="14760" cy="230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 flipV="1">
                    <a:off x="1573920" y="5495760"/>
                    <a:ext cx="14760" cy="230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 flipV="1">
                    <a:off x="1552320" y="5469480"/>
                    <a:ext cx="22680" cy="356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 flipV="1">
                    <a:off x="1530000" y="5467680"/>
                    <a:ext cx="14760" cy="230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 flipV="1">
                    <a:off x="1508040" y="5454000"/>
                    <a:ext cx="14760" cy="230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 flipV="1">
                    <a:off x="1486440" y="5439960"/>
                    <a:ext cx="14760" cy="230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 flipV="1">
                    <a:off x="1464120" y="5425560"/>
                    <a:ext cx="147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 flipV="1">
                    <a:off x="1442520" y="5386680"/>
                    <a:ext cx="30600" cy="48240"/>
                  </a:xfrm>
                  <a:prstGeom prst="line">
                    <a:avLst/>
                  </a:prstGeom>
                  <a:ln w="6480">
                    <a:solidFill>
                      <a:srgbClr val="8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 flipV="1">
                    <a:off x="1420200" y="5397480"/>
                    <a:ext cx="147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 flipV="1">
                    <a:off x="1398240" y="5383800"/>
                    <a:ext cx="14760" cy="230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 flipV="1">
                    <a:off x="1376280" y="5369400"/>
                    <a:ext cx="14760" cy="230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 flipV="1">
                    <a:off x="1354320" y="5355720"/>
                    <a:ext cx="14760" cy="230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 flipV="1">
                    <a:off x="1332360" y="5329080"/>
                    <a:ext cx="22680" cy="356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 flipV="1">
                    <a:off x="1310400" y="5327280"/>
                    <a:ext cx="147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 flipV="1">
                    <a:off x="1288440" y="5313240"/>
                    <a:ext cx="1512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V="1">
                    <a:off x="1266480" y="5299200"/>
                    <a:ext cx="147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 flipV="1">
                    <a:off x="1244520" y="5285160"/>
                    <a:ext cx="147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 flipV="1">
                    <a:off x="1222560" y="5255640"/>
                    <a:ext cx="24840" cy="38880"/>
                  </a:xfrm>
                  <a:prstGeom prst="line">
                    <a:avLst/>
                  </a:prstGeom>
                  <a:ln w="6480">
                    <a:solidFill>
                      <a:srgbClr val="8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 flipV="1">
                    <a:off x="1200600" y="5257440"/>
                    <a:ext cx="14760" cy="230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 flipV="1">
                    <a:off x="1178640" y="5243400"/>
                    <a:ext cx="14760" cy="230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 flipV="1">
                    <a:off x="1156680" y="5229360"/>
                    <a:ext cx="14760" cy="230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 flipV="1">
                    <a:off x="1134720" y="5202720"/>
                    <a:ext cx="22680" cy="356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 flipV="1">
                    <a:off x="1112760" y="5201280"/>
                    <a:ext cx="14760" cy="230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 flipV="1">
                    <a:off x="1090800" y="5187240"/>
                    <a:ext cx="14760" cy="230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 flipV="1">
                    <a:off x="1068840" y="5173200"/>
                    <a:ext cx="14760" cy="230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0" name=""/>
                <p:cNvSpPr/>
                <p:nvPr/>
              </p:nvSpPr>
              <p:spPr>
                <a:xfrm flipV="1">
                  <a:off x="1046520" y="5159160"/>
                  <a:ext cx="14760" cy="23040"/>
                </a:xfrm>
                <a:prstGeom prst="line">
                  <a:avLst/>
                </a:prstGeom>
                <a:ln w="64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 flipV="1">
                  <a:off x="1024920" y="5119920"/>
                  <a:ext cx="30600" cy="48240"/>
                </a:xfrm>
                <a:prstGeom prst="line">
                  <a:avLst/>
                </a:prstGeom>
                <a:ln w="6480">
                  <a:solidFill>
                    <a:srgbClr val="8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2" name=""/>
              <p:cNvSpPr/>
              <p:nvPr/>
            </p:nvSpPr>
            <p:spPr>
              <a:xfrm rot="12753600">
                <a:off x="622800" y="5519520"/>
                <a:ext cx="2901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40000"/>
                    </a:solidFill>
                    <a:latin typeface="Times New Roman"/>
                  </a:rPr>
                  <a:t>0     1      2     3      4      5      6       7     8      9     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1257120" y="4875120"/>
              <a:ext cx="2901600" cy="287640"/>
              <a:chOff x="1257120" y="4875120"/>
              <a:chExt cx="2901600" cy="2876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1371240" y="4875120"/>
                <a:ext cx="2476080" cy="57240"/>
                <a:chOff x="1371240" y="4875120"/>
                <a:chExt cx="2476080" cy="572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1371240" y="4875120"/>
                  <a:ext cx="2423880" cy="57240"/>
                  <a:chOff x="1371240" y="4875120"/>
                  <a:chExt cx="2423880" cy="572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1371240" y="4875120"/>
                    <a:ext cx="0" cy="51120"/>
                  </a:xfrm>
                  <a:prstGeom prst="line">
                    <a:avLst/>
                  </a:prstGeom>
                  <a:ln w="6480">
                    <a:solidFill>
                      <a:srgbClr val="8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1397160" y="4875120"/>
                    <a:ext cx="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1423080" y="4875120"/>
                    <a:ext cx="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1449360" y="4875120"/>
                    <a:ext cx="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1475280" y="4875120"/>
                    <a:ext cx="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1501200" y="4875120"/>
                    <a:ext cx="0" cy="42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1527480" y="4875120"/>
                    <a:ext cx="0" cy="277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1553400" y="4875120"/>
                    <a:ext cx="0" cy="277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1579680" y="4875120"/>
                    <a:ext cx="0" cy="277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1605600" y="4875120"/>
                    <a:ext cx="0" cy="277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1631880" y="4875120"/>
                    <a:ext cx="0" cy="46080"/>
                  </a:xfrm>
                  <a:prstGeom prst="line">
                    <a:avLst/>
                  </a:prstGeom>
                  <a:ln w="6480">
                    <a:solidFill>
                      <a:srgbClr val="8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1657800" y="4875120"/>
                    <a:ext cx="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1683720" y="4875120"/>
                    <a:ext cx="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1710000" y="4875120"/>
                    <a:ext cx="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1735920" y="4875120"/>
                    <a:ext cx="0" cy="42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1762200" y="4875120"/>
                    <a:ext cx="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1788120" y="4875120"/>
                    <a:ext cx="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1814040" y="4875120"/>
                    <a:ext cx="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1840320" y="4875120"/>
                    <a:ext cx="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>
                    <a:off x="1866240" y="4875120"/>
                    <a:ext cx="0" cy="57240"/>
                  </a:xfrm>
                  <a:prstGeom prst="line">
                    <a:avLst/>
                  </a:prstGeom>
                  <a:ln w="6480">
                    <a:solidFill>
                      <a:srgbClr val="8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1892160" y="4875120"/>
                    <a:ext cx="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1918440" y="4875120"/>
                    <a:ext cx="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1944720" y="4875120"/>
                    <a:ext cx="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1970640" y="4875120"/>
                    <a:ext cx="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1996560" y="4875120"/>
                    <a:ext cx="0" cy="42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2022840" y="4875120"/>
                    <a:ext cx="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2048760" y="4875120"/>
                    <a:ext cx="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2074680" y="4875120"/>
                    <a:ext cx="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2100960" y="4875120"/>
                    <a:ext cx="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2126880" y="4875120"/>
                    <a:ext cx="0" cy="57240"/>
                  </a:xfrm>
                  <a:prstGeom prst="line">
                    <a:avLst/>
                  </a:prstGeom>
                  <a:ln w="6480">
                    <a:solidFill>
                      <a:srgbClr val="8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2153160" y="4875120"/>
                    <a:ext cx="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2179080" y="4875120"/>
                    <a:ext cx="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2205000" y="4875120"/>
                    <a:ext cx="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2231280" y="4875120"/>
                    <a:ext cx="0" cy="42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>
                    <a:off x="2257200" y="4875120"/>
                    <a:ext cx="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>
                    <a:off x="2283480" y="4875120"/>
                    <a:ext cx="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>
                    <a:off x="2309400" y="4875120"/>
                    <a:ext cx="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>
                    <a:off x="2335680" y="4875120"/>
                    <a:ext cx="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2361600" y="4875120"/>
                    <a:ext cx="0" cy="57240"/>
                  </a:xfrm>
                  <a:prstGeom prst="line">
                    <a:avLst/>
                  </a:prstGeom>
                  <a:ln w="6480">
                    <a:solidFill>
                      <a:srgbClr val="8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2387520" y="4875120"/>
                    <a:ext cx="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2413800" y="4875120"/>
                    <a:ext cx="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2439720" y="4875120"/>
                    <a:ext cx="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2466000" y="4875120"/>
                    <a:ext cx="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2491920" y="4875120"/>
                    <a:ext cx="0" cy="42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2517840" y="4875120"/>
                    <a:ext cx="0" cy="277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2544120" y="4875120"/>
                    <a:ext cx="0" cy="277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2570040" y="4875120"/>
                    <a:ext cx="0" cy="277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2595960" y="4875120"/>
                    <a:ext cx="0" cy="277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2622240" y="4875120"/>
                    <a:ext cx="0" cy="46080"/>
                  </a:xfrm>
                  <a:prstGeom prst="line">
                    <a:avLst/>
                  </a:prstGeom>
                  <a:ln w="6480">
                    <a:solidFill>
                      <a:srgbClr val="8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>
                    <a:off x="2648160" y="4875120"/>
                    <a:ext cx="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674440" y="4875120"/>
                    <a:ext cx="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700360" y="4875120"/>
                    <a:ext cx="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2726640" y="4875120"/>
                    <a:ext cx="0" cy="42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2752560" y="4875120"/>
                    <a:ext cx="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2778480" y="4875120"/>
                    <a:ext cx="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2804760" y="4875120"/>
                    <a:ext cx="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2830680" y="4875120"/>
                    <a:ext cx="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>
                    <a:off x="2856960" y="4875120"/>
                    <a:ext cx="0" cy="57240"/>
                  </a:xfrm>
                  <a:prstGeom prst="line">
                    <a:avLst/>
                  </a:prstGeom>
                  <a:ln w="6480">
                    <a:solidFill>
                      <a:srgbClr val="8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>
                    <a:off x="2882880" y="4875120"/>
                    <a:ext cx="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>
                    <a:off x="2908800" y="4875120"/>
                    <a:ext cx="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" name=""/>
                  <p:cNvSpPr/>
                  <p:nvPr/>
                </p:nvSpPr>
                <p:spPr>
                  <a:xfrm>
                    <a:off x="2935080" y="4875120"/>
                    <a:ext cx="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2961000" y="4875120"/>
                    <a:ext cx="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2986920" y="4875120"/>
                    <a:ext cx="0" cy="42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3013200" y="4875120"/>
                    <a:ext cx="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>
                    <a:off x="3039480" y="4875120"/>
                    <a:ext cx="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3065400" y="4875120"/>
                    <a:ext cx="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3091320" y="4875120"/>
                    <a:ext cx="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3117600" y="4875120"/>
                    <a:ext cx="0" cy="57240"/>
                  </a:xfrm>
                  <a:prstGeom prst="line">
                    <a:avLst/>
                  </a:prstGeom>
                  <a:ln w="6480">
                    <a:solidFill>
                      <a:srgbClr val="8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3143520" y="4875120"/>
                    <a:ext cx="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>
                    <a:off x="3169440" y="4875120"/>
                    <a:ext cx="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>
                    <a:off x="3195720" y="4875120"/>
                    <a:ext cx="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3221640" y="4875120"/>
                    <a:ext cx="0" cy="42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3247920" y="4875120"/>
                    <a:ext cx="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3273840" y="4875120"/>
                    <a:ext cx="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3299760" y="4875120"/>
                    <a:ext cx="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3326040" y="4875120"/>
                    <a:ext cx="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3351960" y="4875120"/>
                    <a:ext cx="0" cy="57240"/>
                  </a:xfrm>
                  <a:prstGeom prst="line">
                    <a:avLst/>
                  </a:prstGeom>
                  <a:ln w="6480">
                    <a:solidFill>
                      <a:srgbClr val="8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3378240" y="4875120"/>
                    <a:ext cx="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3404160" y="4875120"/>
                    <a:ext cx="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3430440" y="4875120"/>
                    <a:ext cx="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3456360" y="4875120"/>
                    <a:ext cx="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3482280" y="4875120"/>
                    <a:ext cx="0" cy="42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3508560" y="4875120"/>
                    <a:ext cx="0" cy="277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3534480" y="4875120"/>
                    <a:ext cx="0" cy="277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>
                    <a:off x="3560760" y="4875120"/>
                    <a:ext cx="0" cy="277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3586680" y="4875120"/>
                    <a:ext cx="0" cy="277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3612600" y="4875120"/>
                    <a:ext cx="0" cy="46080"/>
                  </a:xfrm>
                  <a:prstGeom prst="line">
                    <a:avLst/>
                  </a:prstGeom>
                  <a:ln w="6480">
                    <a:solidFill>
                      <a:srgbClr val="8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>
                    <a:off x="3638880" y="4875120"/>
                    <a:ext cx="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>
                    <a:off x="3664800" y="4875120"/>
                    <a:ext cx="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3690720" y="4875120"/>
                    <a:ext cx="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3717000" y="4875120"/>
                    <a:ext cx="0" cy="42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>
                    <a:off x="3742920" y="4875120"/>
                    <a:ext cx="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3769200" y="4875120"/>
                    <a:ext cx="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3795120" y="4875120"/>
                    <a:ext cx="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60" name=""/>
                <p:cNvSpPr/>
                <p:nvPr/>
              </p:nvSpPr>
              <p:spPr>
                <a:xfrm>
                  <a:off x="3821400" y="4875120"/>
                  <a:ext cx="0" cy="27360"/>
                </a:xfrm>
                <a:prstGeom prst="line">
                  <a:avLst/>
                </a:prstGeom>
                <a:ln w="64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3847320" y="4875120"/>
                  <a:ext cx="0" cy="57240"/>
                </a:xfrm>
                <a:prstGeom prst="line">
                  <a:avLst/>
                </a:prstGeom>
                <a:ln w="6480">
                  <a:solidFill>
                    <a:srgbClr val="8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2" name=""/>
              <p:cNvSpPr/>
              <p:nvPr/>
            </p:nvSpPr>
            <p:spPr>
              <a:xfrm>
                <a:off x="1257120" y="4916520"/>
                <a:ext cx="2901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40000"/>
                    </a:solidFill>
                    <a:latin typeface="Times New Roman"/>
                  </a:rPr>
                  <a:t>0     1      2     3      4      5      6       7     8      9     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3" name=""/>
            <p:cNvSpPr/>
            <p:nvPr/>
          </p:nvSpPr>
          <p:spPr>
            <a:xfrm rot="12753600">
              <a:off x="2126160" y="4848120"/>
              <a:ext cx="1346040" cy="857520"/>
            </a:xfrm>
            <a:custGeom>
              <a:avLst/>
              <a:gdLst/>
              <a:ahLst/>
              <a:rect l="l" t="t" r="r" b="b"/>
              <a:pathLst>
                <a:path w="2112" h="1344">
                  <a:moveTo>
                    <a:pt x="0" y="0"/>
                  </a:moveTo>
                  <a:lnTo>
                    <a:pt x="0" y="1344"/>
                  </a:lnTo>
                  <a:lnTo>
                    <a:pt x="21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190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6912000" y="620640"/>
            <a:ext cx="2232000" cy="5789520"/>
          </a:xfrm>
          <a:prstGeom prst="rect">
            <a:avLst/>
          </a:prstGeom>
          <a:ln w="0">
            <a:noFill/>
          </a:ln>
        </p:spPr>
      </p:pic>
      <p:grpSp>
        <p:nvGrpSpPr>
          <p:cNvPr id="365" name=""/>
          <p:cNvGrpSpPr/>
          <p:nvPr/>
        </p:nvGrpSpPr>
        <p:grpSpPr>
          <a:xfrm>
            <a:off x="1344600" y="3255840"/>
            <a:ext cx="3776760" cy="1124280"/>
            <a:chOff x="1344600" y="3255840"/>
            <a:chExt cx="3776760" cy="1124280"/>
          </a:xfrm>
        </p:grpSpPr>
        <p:grpSp>
          <p:nvGrpSpPr>
            <p:cNvPr id="366" name=""/>
            <p:cNvGrpSpPr/>
            <p:nvPr/>
          </p:nvGrpSpPr>
          <p:grpSpPr>
            <a:xfrm>
              <a:off x="1344600" y="3255840"/>
              <a:ext cx="3776760" cy="1124280"/>
              <a:chOff x="1344600" y="3255840"/>
              <a:chExt cx="3776760" cy="1124280"/>
            </a:xfrm>
          </p:grpSpPr>
          <p:sp>
            <p:nvSpPr>
              <p:cNvPr id="367" name=""/>
              <p:cNvSpPr/>
              <p:nvPr/>
            </p:nvSpPr>
            <p:spPr>
              <a:xfrm rot="577800">
                <a:off x="1367280" y="3565800"/>
                <a:ext cx="3745080" cy="4208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rot="577800">
                <a:off x="1353240" y="3648600"/>
                <a:ext cx="3745080" cy="420840"/>
              </a:xfrm>
              <a:prstGeom prst="rect">
                <a:avLst/>
              </a:prstGeom>
              <a:gradFill rotWithShape="0">
                <a:gsLst>
                  <a:gs pos="0">
                    <a:srgbClr val="ffff66"/>
                  </a:gs>
                  <a:gs pos="50000">
                    <a:srgbClr val="ffffcc"/>
                  </a:gs>
                  <a:gs pos="100000">
                    <a:srgbClr val="ffff66"/>
                  </a:gs>
                </a:gsLst>
                <a:lin ang="5400000"/>
              </a:gra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 flipH="1">
              <a:off x="1950840" y="3346560"/>
              <a:ext cx="13680" cy="81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2271960" y="3401280"/>
              <a:ext cx="14040" cy="81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3558240" y="3619440"/>
              <a:ext cx="13680" cy="81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3237120" y="3565080"/>
              <a:ext cx="13680" cy="81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2914560" y="3510000"/>
              <a:ext cx="13680" cy="81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2593080" y="3455640"/>
              <a:ext cx="14040" cy="81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4200480" y="3728520"/>
              <a:ext cx="14040" cy="81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4521600" y="3782880"/>
              <a:ext cx="13680" cy="81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3879000" y="3673800"/>
              <a:ext cx="14040" cy="81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4843080" y="3837240"/>
              <a:ext cx="13680" cy="81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>
              <a:off x="1629720" y="3292200"/>
              <a:ext cx="13680" cy="81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1795680" y="3319560"/>
              <a:ext cx="8640" cy="5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2116440" y="3373920"/>
              <a:ext cx="8640" cy="5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2437920" y="3428280"/>
              <a:ext cx="8640" cy="5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2759040" y="3483000"/>
              <a:ext cx="8280" cy="5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3080160" y="3537360"/>
              <a:ext cx="8640" cy="5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3402720" y="3592080"/>
              <a:ext cx="8640" cy="5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3723840" y="3646800"/>
              <a:ext cx="8640" cy="5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4687560" y="3810240"/>
              <a:ext cx="8640" cy="5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4366440" y="3755520"/>
              <a:ext cx="8640" cy="5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4045320" y="3701160"/>
              <a:ext cx="8280" cy="5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 txBox="1"/>
            <p:nvPr/>
          </p:nvSpPr>
          <p:spPr>
            <a:xfrm rot="21022800">
              <a:off x="1481760" y="3386160"/>
              <a:ext cx="76320" cy="33840"/>
            </a:xfrm>
            <a:prstGeom prst="rect">
              <a:avLst/>
            </a:prstGeom>
          </p:spPr>
          <p:txBody>
            <a:bodyPr wrap="none" fromWordArt="1" lIns="90000" rIns="90000" tIns="-12600" bIns="-126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0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391" name=""/>
            <p:cNvSpPr txBox="1"/>
            <p:nvPr/>
          </p:nvSpPr>
          <p:spPr>
            <a:xfrm rot="577800">
              <a:off x="1908720" y="3512160"/>
              <a:ext cx="51840" cy="34200"/>
            </a:xfrm>
            <a:prstGeom prst="rect">
              <a:avLst/>
            </a:prstGeom>
          </p:spPr>
          <p:txBody>
            <a:bodyPr wrap="none" fromWordArt="1" lIns="90000" rIns="90000" tIns="-12240" bIns="-1224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1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392" name=""/>
            <p:cNvSpPr txBox="1"/>
            <p:nvPr/>
          </p:nvSpPr>
          <p:spPr>
            <a:xfrm rot="577800">
              <a:off x="2189880" y="3560040"/>
              <a:ext cx="50400" cy="34200"/>
            </a:xfrm>
            <a:prstGeom prst="rect">
              <a:avLst/>
            </a:prstGeom>
          </p:spPr>
          <p:txBody>
            <a:bodyPr wrap="none" fromWordArt="1" lIns="90000" rIns="90000" tIns="-12240" bIns="-1224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2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393" name=""/>
            <p:cNvSpPr txBox="1"/>
            <p:nvPr/>
          </p:nvSpPr>
          <p:spPr>
            <a:xfrm rot="577800">
              <a:off x="2829600" y="3668400"/>
              <a:ext cx="50400" cy="34200"/>
            </a:xfrm>
            <a:prstGeom prst="rect">
              <a:avLst/>
            </a:prstGeom>
          </p:spPr>
          <p:txBody>
            <a:bodyPr wrap="none" fromWordArt="1" lIns="90000" rIns="90000" tIns="-12240" bIns="-1224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4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394" name=""/>
            <p:cNvSpPr txBox="1"/>
            <p:nvPr/>
          </p:nvSpPr>
          <p:spPr>
            <a:xfrm rot="577800">
              <a:off x="3161520" y="3724920"/>
              <a:ext cx="50400" cy="34200"/>
            </a:xfrm>
            <a:prstGeom prst="rect">
              <a:avLst/>
            </a:prstGeom>
          </p:spPr>
          <p:txBody>
            <a:bodyPr wrap="none" fromWordArt="1" lIns="90000" rIns="90000" tIns="-12240" bIns="-1224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5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395" name=""/>
            <p:cNvSpPr txBox="1"/>
            <p:nvPr/>
          </p:nvSpPr>
          <p:spPr>
            <a:xfrm rot="657600">
              <a:off x="3492000" y="3781080"/>
              <a:ext cx="53280" cy="34200"/>
            </a:xfrm>
            <a:prstGeom prst="rect">
              <a:avLst/>
            </a:prstGeom>
          </p:spPr>
          <p:txBody>
            <a:bodyPr wrap="none" fromWordArt="1" lIns="90000" rIns="90000" tIns="-12240" bIns="-1224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6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396" name=""/>
            <p:cNvSpPr txBox="1"/>
            <p:nvPr/>
          </p:nvSpPr>
          <p:spPr>
            <a:xfrm rot="577800">
              <a:off x="3850920" y="3841920"/>
              <a:ext cx="51480" cy="34200"/>
            </a:xfrm>
            <a:prstGeom prst="rect">
              <a:avLst/>
            </a:prstGeom>
          </p:spPr>
          <p:txBody>
            <a:bodyPr wrap="none" fromWordArt="1" lIns="90000" rIns="90000" tIns="-12240" bIns="-1224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7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397" name=""/>
            <p:cNvSpPr txBox="1"/>
            <p:nvPr/>
          </p:nvSpPr>
          <p:spPr>
            <a:xfrm rot="577800">
              <a:off x="4157280" y="3893760"/>
              <a:ext cx="51480" cy="34200"/>
            </a:xfrm>
            <a:prstGeom prst="rect">
              <a:avLst/>
            </a:prstGeom>
          </p:spPr>
          <p:txBody>
            <a:bodyPr wrap="none" fromWordArt="1" lIns="90000" rIns="90000" tIns="-12240" bIns="-1224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8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398" name=""/>
            <p:cNvSpPr txBox="1"/>
            <p:nvPr/>
          </p:nvSpPr>
          <p:spPr>
            <a:xfrm rot="577800">
              <a:off x="4417560" y="3902760"/>
              <a:ext cx="51480" cy="34200"/>
            </a:xfrm>
            <a:prstGeom prst="rect">
              <a:avLst/>
            </a:prstGeom>
          </p:spPr>
          <p:txBody>
            <a:bodyPr wrap="none" fromWordArt="1" lIns="90000" rIns="90000" tIns="-12240" bIns="-12240" anchor="t" anchorCtr="1">
              <a:prstTxWarp prst="textArchUp">
                <a:avLst>
                  <a:gd name="adj" fmla="val 29219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9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399" name=""/>
            <p:cNvSpPr txBox="1"/>
            <p:nvPr/>
          </p:nvSpPr>
          <p:spPr>
            <a:xfrm rot="577800">
              <a:off x="4770360" y="3997800"/>
              <a:ext cx="51480" cy="34200"/>
            </a:xfrm>
            <a:prstGeom prst="rect">
              <a:avLst/>
            </a:prstGeom>
          </p:spPr>
          <p:txBody>
            <a:bodyPr wrap="none" fromWordArt="1" lIns="90000" rIns="90000" tIns="-12240" bIns="-1224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1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400" name=""/>
            <p:cNvSpPr txBox="1"/>
            <p:nvPr/>
          </p:nvSpPr>
          <p:spPr>
            <a:xfrm rot="577800">
              <a:off x="4873680" y="4015440"/>
              <a:ext cx="50760" cy="34200"/>
            </a:xfrm>
            <a:prstGeom prst="rect">
              <a:avLst/>
            </a:prstGeom>
          </p:spPr>
          <p:txBody>
            <a:bodyPr wrap="none" fromWordArt="1" lIns="90000" rIns="90000" tIns="-12240" bIns="-1224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0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401" name=""/>
            <p:cNvSpPr txBox="1"/>
            <p:nvPr/>
          </p:nvSpPr>
          <p:spPr>
            <a:xfrm rot="577800">
              <a:off x="2521800" y="3616200"/>
              <a:ext cx="51840" cy="34200"/>
            </a:xfrm>
            <a:prstGeom prst="rect">
              <a:avLst/>
            </a:prstGeom>
          </p:spPr>
          <p:txBody>
            <a:bodyPr wrap="none" fromWordArt="1" lIns="90000" rIns="90000" tIns="-12240" bIns="-1224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3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4500720" y="1413000"/>
            <a:ext cx="3779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让一位同学拿着三角尺站在一个适当的位置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B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处，使这位同学拿起三角尺，她的视线恰好和斜边重合且过树梢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C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点，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30°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的邻边和水平方向平行，用卷尺测出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AB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的长度和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BE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的长度，因为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DE=AB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，所以只需在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Rt△CDA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中求出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CD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的长度即可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4105080" cy="3600360"/>
          </a:xfrm>
          <a:prstGeom prst="rect">
            <a:avLst/>
          </a:prstGeom>
          <a:ln w="0">
            <a:noFill/>
          </a:ln>
        </p:spPr>
      </p:pic>
      <p:grpSp>
        <p:nvGrpSpPr>
          <p:cNvPr id="404" name=""/>
          <p:cNvGrpSpPr/>
          <p:nvPr/>
        </p:nvGrpSpPr>
        <p:grpSpPr>
          <a:xfrm>
            <a:off x="4716360" y="4149720"/>
            <a:ext cx="8064360" cy="1446840"/>
            <a:chOff x="4716360" y="4149720"/>
            <a:chExt cx="8064360" cy="1446840"/>
          </a:xfrm>
        </p:grpSpPr>
        <p:sp>
          <p:nvSpPr>
            <p:cNvPr id="405" name=""/>
            <p:cNvSpPr/>
            <p:nvPr/>
          </p:nvSpPr>
          <p:spPr>
            <a:xfrm>
              <a:off x="4716360" y="4222800"/>
              <a:ext cx="80643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Arial"/>
                </a:rPr>
                <a:t>tan30°=             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zh-CN" sz="2800" spc="-1" strike="noStrike">
                  <a:solidFill>
                    <a:srgbClr val="ffffff"/>
                  </a:solidFill>
                  <a:latin typeface="Arial"/>
                </a:rPr>
                <a:t>则</a:t>
              </a:r>
              <a:r>
                <a:rPr b="0" lang="zh-CN" sz="2800" spc="-1" strike="noStrike">
                  <a:solidFill>
                    <a:srgbClr val="ffffff"/>
                  </a:solidFill>
                  <a:latin typeface="Arial"/>
                </a:rPr>
                <a:t>CD=</a:t>
              </a:r>
              <a:r>
                <a:rPr b="0" i="1" lang="zh-CN" sz="2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zh-CN" sz="2800" spc="-1" strike="noStrike">
                  <a:solidFill>
                    <a:srgbClr val="ffffff"/>
                  </a:solidFill>
                  <a:latin typeface="Arial"/>
                </a:rPr>
                <a:t>·tan30°</a:t>
              </a: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6" name=""/>
                <p:cNvSpPr txBox="1"/>
                <p:nvPr/>
              </p:nvSpPr>
              <p:spPr>
                <a:xfrm>
                  <a:off x="6516360" y="4149720"/>
                  <a:ext cx="1081080" cy="64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CD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AD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CD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07" name=""/>
          <p:cNvSpPr/>
          <p:nvPr/>
        </p:nvSpPr>
        <p:spPr>
          <a:xfrm>
            <a:off x="2583720" y="5629320"/>
            <a:ext cx="415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你能求出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30°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角的三个三角函数值吗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95280" y="476280"/>
            <a:ext cx="5029200" cy="6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活动探究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2000" fill="hold"/>
                                        <p:tgtEl>
                                          <p:spTgt spid="4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539640" y="1773360"/>
            <a:ext cx="6172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探索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30°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角的三角函数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①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观察一副三角尺，其中有几个锐角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?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它们分别等于多少度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6095520" y="1905120"/>
            <a:ext cx="2750040" cy="2364480"/>
            <a:chOff x="6095520" y="1905120"/>
            <a:chExt cx="2750040" cy="2364480"/>
          </a:xfrm>
        </p:grpSpPr>
        <p:sp>
          <p:nvSpPr>
            <p:cNvPr id="411" name=""/>
            <p:cNvSpPr/>
            <p:nvPr/>
          </p:nvSpPr>
          <p:spPr>
            <a:xfrm rot="16200000">
              <a:off x="7045200" y="2390760"/>
              <a:ext cx="2286000" cy="1314360"/>
            </a:xfrm>
            <a:prstGeom prst="rtTriangl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8458200" y="3809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6095160" y="2895480"/>
              <a:ext cx="1295640" cy="1295640"/>
            </a:xfrm>
            <a:prstGeom prst="rtTriangl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7009560" y="3809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8339040" y="2575080"/>
            <a:ext cx="6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30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653240" y="3870360"/>
            <a:ext cx="6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60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877080" y="3141720"/>
            <a:ext cx="6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45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205680" y="3870360"/>
            <a:ext cx="6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45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68360" y="29242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② 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sin30°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等于多少呢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?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你是怎样得到的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?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与同伴交流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39640" y="386064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③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cos30°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等于多少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?tan30°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呢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39640" y="4581360"/>
            <a:ext cx="554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．我们求出了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30°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角的三个三角函数值，还有两个特殊角——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45°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60°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，它们的三角函数值分别是多少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?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你是如何得到的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395280" y="476280"/>
            <a:ext cx="5029200" cy="6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探索</a:t>
            </a:r>
            <a:r>
              <a:rPr b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30°</a:t>
            </a:r>
            <a:r>
              <a:rPr b="1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角的三角函数值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0" y="5313240"/>
            <a:ext cx="2484360" cy="154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4" name=""/>
          <p:cNvGraphicFramePr/>
          <p:nvPr/>
        </p:nvGraphicFramePr>
        <p:xfrm>
          <a:off x="2286000" y="2209680"/>
          <a:ext cx="5440320" cy="3008520"/>
        </p:xfrm>
        <a:graphic>
          <a:graphicData uri="http://schemas.openxmlformats.org/drawingml/2006/table">
            <a:tbl>
              <a:tblPr/>
              <a:tblGrid>
                <a:gridCol w="1782720"/>
                <a:gridCol w="1219320"/>
                <a:gridCol w="1218960"/>
                <a:gridCol w="1219320"/>
              </a:tblGrid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三角函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锐角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正弦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余弦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正切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n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2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4432320" y="3043080"/>
                <a:ext cx="268200" cy="6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5616720" y="2976480"/>
                <a:ext cx="44748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6912000" y="2976480"/>
                <a:ext cx="44748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4343400" y="3718080"/>
                <a:ext cx="46980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5657760" y="3738600"/>
                <a:ext cx="47016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7081920" y="4000680"/>
                <a:ext cx="156960" cy="29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4352760" y="4424400"/>
                <a:ext cx="44784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5751360" y="4495680"/>
                <a:ext cx="268560" cy="6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6942240" y="4640400"/>
                <a:ext cx="40320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34" name=""/>
          <p:cNvSpPr txBox="1"/>
          <p:nvPr/>
        </p:nvSpPr>
        <p:spPr>
          <a:xfrm>
            <a:off x="395280" y="476280"/>
            <a:ext cx="5029200" cy="6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特殊角的三角函数值表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35" name="">
            <a:hlinkClick r:id="" action="ppaction://hlinkshowjump?jump=lastslide"/>
          </p:cNvPr>
          <p:cNvSpPr/>
          <p:nvPr/>
        </p:nvSpPr>
        <p:spPr>
          <a:xfrm>
            <a:off x="8604360" y="6497640"/>
            <a:ext cx="539640" cy="360360"/>
          </a:xfrm>
          <a:custGeom>
            <a:avLst/>
            <a:gdLst>
              <a:gd name="textAreaLeft" fmla="*/ 23040 w 539640"/>
              <a:gd name="textAreaRight" fmla="*/ 516600 w 53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2335" h="21600">
                <a:moveTo>
                  <a:pt x="0" y="0"/>
                </a:moveTo>
                <a:lnTo>
                  <a:pt x="32335" y="0"/>
                </a:lnTo>
                <a:lnTo>
                  <a:pt x="32335" y="21600"/>
                </a:lnTo>
                <a:lnTo>
                  <a:pt x="0" y="21600"/>
                </a:lnTo>
                <a:close/>
              </a:path>
              <a:path fill="lightenLess" w="32335" h="21600">
                <a:moveTo>
                  <a:pt x="0" y="0"/>
                </a:moveTo>
                <a:lnTo>
                  <a:pt x="32335" y="0"/>
                </a:lnTo>
                <a:lnTo>
                  <a:pt x="30935" y="1400"/>
                </a:lnTo>
                <a:lnTo>
                  <a:pt x="1400" y="1400"/>
                </a:lnTo>
                <a:close/>
              </a:path>
              <a:path fill="darken" w="32335" h="21600">
                <a:moveTo>
                  <a:pt x="32335" y="0"/>
                </a:moveTo>
                <a:lnTo>
                  <a:pt x="32335" y="21600"/>
                </a:lnTo>
                <a:lnTo>
                  <a:pt x="30935" y="20200"/>
                </a:lnTo>
                <a:lnTo>
                  <a:pt x="30935" y="1400"/>
                </a:lnTo>
                <a:close/>
              </a:path>
              <a:path fill="darkenLess" w="32335" h="21600">
                <a:moveTo>
                  <a:pt x="323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35" y="20200"/>
                </a:lnTo>
                <a:close/>
              </a:path>
              <a:path fill="lighten" w="323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35" h="21600">
                <a:moveTo>
                  <a:pt x="19667" y="10800"/>
                </a:moveTo>
                <a:lnTo>
                  <a:pt x="9161" y="17806"/>
                </a:lnTo>
                <a:lnTo>
                  <a:pt x="9161" y="3794"/>
                </a:lnTo>
                <a:close/>
              </a:path>
              <a:path fill="darken" w="32335" h="21600">
                <a:moveTo>
                  <a:pt x="21512" y="3794"/>
                </a:moveTo>
                <a:lnTo>
                  <a:pt x="21512" y="17806"/>
                </a:lnTo>
                <a:lnTo>
                  <a:pt x="23174" y="17806"/>
                </a:lnTo>
                <a:lnTo>
                  <a:pt x="23174" y="3794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179280" y="126828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例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1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计算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(1)sin30</a:t>
            </a:r>
            <a:r>
              <a:rPr b="1" lang="zh-CN" sz="2800" spc="-1" strike="noStrike" baseline="30000">
                <a:solidFill>
                  <a:srgbClr val="ffffff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+cos45</a:t>
            </a:r>
            <a:r>
              <a:rPr b="1" lang="zh-CN" sz="2800" spc="-1" strike="noStrike" baseline="30000">
                <a:solidFill>
                  <a:srgbClr val="ffffff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(2) sin</a:t>
            </a:r>
            <a:r>
              <a:rPr b="1" lang="zh-CN" sz="2800" spc="-1" strike="noStrike" baseline="30000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60</a:t>
            </a:r>
            <a:r>
              <a:rPr b="1" lang="zh-CN" sz="2800" spc="-1" strike="noStrike" baseline="30000">
                <a:solidFill>
                  <a:srgbClr val="ffffff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+cos</a:t>
            </a:r>
            <a:r>
              <a:rPr b="1" lang="zh-CN" sz="2800" spc="-1" strike="noStrike" baseline="30000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60</a:t>
            </a:r>
            <a:r>
              <a:rPr b="1" lang="zh-CN" sz="2800" spc="-1" strike="noStrike" baseline="30000">
                <a:solidFill>
                  <a:srgbClr val="ffffff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+tan45</a:t>
            </a:r>
            <a:r>
              <a:rPr b="1" lang="zh-CN" sz="2800" spc="-1" strike="noStrike" baseline="30000">
                <a:solidFill>
                  <a:srgbClr val="ffffff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516720" y="333360"/>
            <a:ext cx="213372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老师提示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Sin</a:t>
            </a:r>
            <a:r>
              <a:rPr b="0" lang="zh-CN" sz="2800" spc="-1" strike="noStrike" baseline="30000">
                <a:solidFill>
                  <a:srgbClr val="ffffff"/>
                </a:solidFill>
                <a:latin typeface="隶书"/>
                <a:ea typeface="隶书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60</a:t>
            </a:r>
            <a:r>
              <a:rPr b="0" lang="zh-CN" sz="28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表示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(sin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60</a:t>
            </a:r>
            <a:r>
              <a:rPr b="0" lang="zh-CN" sz="28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)</a:t>
            </a:r>
            <a:r>
              <a:rPr b="0" lang="zh-CN" sz="2800" spc="-1" strike="noStrike" baseline="30000">
                <a:solidFill>
                  <a:srgbClr val="ffffff"/>
                </a:solidFill>
                <a:latin typeface="隶书"/>
                <a:ea typeface="隶书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cos</a:t>
            </a:r>
            <a:r>
              <a:rPr b="0" lang="zh-CN" sz="2800" spc="-1" strike="noStrike" baseline="30000">
                <a:solidFill>
                  <a:srgbClr val="ffffff"/>
                </a:solidFill>
                <a:latin typeface="隶书"/>
                <a:ea typeface="隶书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60</a:t>
            </a:r>
            <a:r>
              <a:rPr b="0" lang="zh-CN" sz="28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表示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(cos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60</a:t>
            </a:r>
            <a:r>
              <a:rPr b="0" lang="zh-CN" sz="28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)</a:t>
            </a:r>
            <a:r>
              <a:rPr b="0" lang="zh-CN" sz="2800" spc="-1" strike="noStrike" baseline="30000">
                <a:solidFill>
                  <a:srgbClr val="ffffff"/>
                </a:solidFill>
                <a:latin typeface="隶书"/>
                <a:ea typeface="隶书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其余类推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7020000" y="4076640"/>
            <a:ext cx="1871640" cy="2292480"/>
            <a:chOff x="7020000" y="4076640"/>
            <a:chExt cx="1871640" cy="2292480"/>
          </a:xfrm>
        </p:grpSpPr>
        <p:pic>
          <p:nvPicPr>
            <p:cNvPr id="439" name="" descr=""/>
            <p:cNvPicPr/>
            <p:nvPr/>
          </p:nvPicPr>
          <p:blipFill>
            <a:blip r:embed="rId1"/>
            <a:stretch/>
          </p:blipFill>
          <p:spPr>
            <a:xfrm>
              <a:off x="7020000" y="4076640"/>
              <a:ext cx="1871640" cy="229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"/>
            <p:cNvSpPr/>
            <p:nvPr/>
          </p:nvSpPr>
          <p:spPr>
            <a:xfrm>
              <a:off x="7490160" y="4188600"/>
              <a:ext cx="604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355520" y="4137480"/>
              <a:ext cx="806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969696"/>
                  </a:solidFill>
                  <a:latin typeface="隶书"/>
                  <a:ea typeface="隶书"/>
                </a:rPr>
                <a:t>怎样解答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152280" y="28195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隶书"/>
                <a:ea typeface="隶书"/>
              </a:rPr>
              <a:t>解</a:t>
            </a:r>
            <a:r>
              <a:rPr b="0" lang="zh-CN" sz="2800" spc="-1" strike="noStrike">
                <a:solidFill>
                  <a:srgbClr val="003366"/>
                </a:solidFill>
                <a:latin typeface="隶书"/>
                <a:ea typeface="隶书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1)sin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zh-CN" sz="28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+cos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45</a:t>
            </a:r>
            <a:r>
              <a:rPr b="0" lang="zh-CN" sz="28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2214720" y="3235320"/>
                <a:ext cx="138888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2460600" y="4592520"/>
                <a:ext cx="2720880" cy="104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5" name=""/>
          <p:cNvSpPr/>
          <p:nvPr/>
        </p:nvSpPr>
        <p:spPr>
          <a:xfrm>
            <a:off x="1676520" y="4114800"/>
            <a:ext cx="5105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2) si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+co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-ta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2514600" y="5481720"/>
                <a:ext cx="1530360" cy="84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3581280" y="3235320"/>
                <a:ext cx="136044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"/>
              <p:cNvSpPr txBox="1"/>
              <p:nvPr/>
            </p:nvSpPr>
            <p:spPr>
              <a:xfrm>
                <a:off x="2514600" y="6254640"/>
                <a:ext cx="59364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9" name=""/>
          <p:cNvSpPr txBox="1"/>
          <p:nvPr/>
        </p:nvSpPr>
        <p:spPr>
          <a:xfrm>
            <a:off x="395280" y="476280"/>
            <a:ext cx="5029200" cy="6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例题讲解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7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2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" descr=""/>
          <p:cNvPicPr/>
          <p:nvPr/>
        </p:nvPicPr>
        <p:blipFill>
          <a:blip r:embed="rId1"/>
          <a:srcRect l="69823" t="63949" r="17738" b="14199"/>
          <a:stretch/>
        </p:blipFill>
        <p:spPr>
          <a:xfrm>
            <a:off x="5148360" y="1341360"/>
            <a:ext cx="2709720" cy="3745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468360" y="1341360"/>
            <a:ext cx="406728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例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2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如图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一个小孩荡秋千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秋千链子的长度为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2.5m,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当秋千向两边摆动时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摆角恰好为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60</a:t>
            </a:r>
            <a:r>
              <a:rPr b="1" lang="zh-CN" sz="2800" spc="-1" strike="noStrike" baseline="30000">
                <a:solidFill>
                  <a:srgbClr val="ffffff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且两边摆动的角度相同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求它摆至最高位置时与其摆至最低位置时的高度之差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结果精确到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0.01m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309760" y="-4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19400" y="-43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219400" y="-43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395280" y="476280"/>
            <a:ext cx="5029200" cy="6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例题讲解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56" name=""/>
          <p:cNvSpPr/>
          <p:nvPr/>
        </p:nvSpPr>
        <p:spPr>
          <a:xfrm>
            <a:off x="4067280" y="5805360"/>
            <a:ext cx="50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老师提示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将实际问题数学化</a:t>
            </a:r>
            <a:r>
              <a:rPr b="0" lang="zh-CN" sz="24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468360" y="1341360"/>
            <a:ext cx="406728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例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2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如图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一个小孩荡秋千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秋千链子的长度为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2.5m,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当秋千向两边摆动时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摆角恰好为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60</a:t>
            </a:r>
            <a:r>
              <a:rPr b="1" lang="zh-CN" sz="2800" spc="-1" strike="noStrike" baseline="30000">
                <a:solidFill>
                  <a:srgbClr val="ffffff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且两边摆动的角度相同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求它摆至最高位置时与其摆至最低位置时的高度之差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结果精确到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0.01m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309760" y="-4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219400" y="-43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219400" y="-43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395280" y="476280"/>
            <a:ext cx="5029200" cy="6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例题讲解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5976360" y="1341360"/>
            <a:ext cx="3206520" cy="3795840"/>
            <a:chOff x="5976360" y="1341360"/>
            <a:chExt cx="3206520" cy="3795840"/>
          </a:xfrm>
        </p:grpSpPr>
        <p:sp>
          <p:nvSpPr>
            <p:cNvPr id="463" name=""/>
            <p:cNvSpPr/>
            <p:nvPr/>
          </p:nvSpPr>
          <p:spPr>
            <a:xfrm>
              <a:off x="8308800" y="3908520"/>
              <a:ext cx="79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470720" y="4451400"/>
              <a:ext cx="65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470720" y="3637080"/>
              <a:ext cx="79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162920" y="1341360"/>
              <a:ext cx="7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227640" y="4005360"/>
              <a:ext cx="7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624720" y="4284720"/>
              <a:ext cx="1593720" cy="3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6648120" y="1874880"/>
              <a:ext cx="779400" cy="2440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470720" y="1874880"/>
              <a:ext cx="801720" cy="2440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056360" y="3908520"/>
              <a:ext cx="105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191360" y="4179960"/>
              <a:ext cx="792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470720" y="1874880"/>
              <a:ext cx="0" cy="2440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7449840" y="1874880"/>
              <a:ext cx="19080" cy="2778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V="1" rot="2979600">
              <a:off x="6508080" y="2354040"/>
              <a:ext cx="2142720" cy="238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52298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522986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6" name=""/>
            <p:cNvGrpSpPr/>
            <p:nvPr/>
          </p:nvGrpSpPr>
          <p:grpSpPr>
            <a:xfrm>
              <a:off x="7667640" y="2781360"/>
              <a:ext cx="1118520" cy="509400"/>
              <a:chOff x="7667640" y="2781360"/>
              <a:chExt cx="1118520" cy="509400"/>
            </a:xfrm>
          </p:grpSpPr>
          <p:sp>
            <p:nvSpPr>
              <p:cNvPr id="477" name=""/>
              <p:cNvSpPr/>
              <p:nvPr/>
            </p:nvSpPr>
            <p:spPr>
              <a:xfrm>
                <a:off x="7667640" y="2781360"/>
                <a:ext cx="414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Tahoma"/>
                  </a:rPr>
                  <a:t>●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7978320" y="2891880"/>
                <a:ext cx="807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Tahoma"/>
                  </a:rPr>
                  <a:t>2.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5T07:18:19Z</dcterms:created>
  <dc:creator/>
  <dc:description/>
  <dc:language>en-US</dc:language>
  <cp:lastModifiedBy>User</cp:lastModifiedBy>
  <dcterms:modified xsi:type="dcterms:W3CDTF">2014-02-18T02:01:05Z</dcterms:modified>
  <cp:revision>370</cp:revision>
  <dc:subject/>
  <dc:title>八年级数学（下册）第四章 相似图形</dc:title>
</cp:coreProperties>
</file>