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image5.wmf" ContentType="image/x-wmf"/>
  <Override PartName="/ppt/media/image10.png" ContentType="image/png"/>
  <Override PartName="/ppt/media/type.wav" ContentType="audio/x-wav"/>
  <Override PartName="/ppt/media/image8.png" ContentType="image/png"/>
  <Override PartName="/ppt/media/carbrake.wav" ContentType="audio/x-wav"/>
  <Override PartName="/ppt/media/chimes.wav" ContentType="audio/x-wav"/>
  <Override PartName="/ppt/media/wind.wav" ContentType="audio/x-wav"/>
  <Override PartName="/ppt/media/image12.png" ContentType="image/png"/>
  <Override PartName="/ppt/media/click.wav" ContentType="audio/x-wav"/>
  <Override PartName="/ppt/media/image3.gif" ContentType="image/gif"/>
  <Override PartName="/ppt/media/image6.wmf" ContentType="image/x-wmf"/>
  <Override PartName="/ppt/media/suction.wav" ContentType="audio/x-wav"/>
  <Override PartName="/ppt/media/TYPE.WAV" ContentType="audio/x-wav"/>
  <Override PartName="/ppt/media/image7.png" ContentType="image/png"/>
  <Override PartName="/ppt/media/image4.gif" ContentType="image/gif"/>
  <Override PartName="/ppt/media/coin.wav" ContentType="audio/x-wav"/>
  <Override PartName="/ppt/media/image11.gif" ContentType="image/gif"/>
  <Override PartName="/ppt/media/image9.wmf" ContentType="image/x-wmf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72A-7FDF-44B4-8CFB-45DFFEB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B69-F4A9-46EB-957A-E79520B4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F89-6BD7-4332-98D8-B3C79C03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3BB-38CE-44D4-98B3-E6194A7D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8F5-9DAE-44C9-B908-D94C44D4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612-0597-451E-9E09-5D2BA31B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B39-14B9-41ED-AEC6-89C92E1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099-13BC-45BF-9579-5E99313D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90B-54D6-426E-839C-A7076CA4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477-CBBE-4FC1-B59F-5B28893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4E6-A422-4350-BF17-063E13D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984-55CD-4DCE-9392-85AB593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596-EF66-4CCE-A1F0-09EB09EB5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arbrak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404640"/>
            <a:ext cx="3743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北师大版九年级数学下册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 二次函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456000" y="1197000"/>
            <a:ext cx="2270160" cy="3660840"/>
          </a:xfrm>
          <a:custGeom>
            <a:avLst/>
            <a:gdLst/>
            <a:ahLst/>
            <a:rect l="l" t="t" r="r" b="b"/>
            <a:pathLst>
              <a:path w="1430" h="2306">
                <a:moveTo>
                  <a:pt x="0" y="0"/>
                </a:moveTo>
                <a:cubicBezTo>
                  <a:pt x="8" y="48"/>
                  <a:pt x="0" y="55"/>
                  <a:pt x="39" y="288"/>
                </a:cubicBezTo>
                <a:cubicBezTo>
                  <a:pt x="78" y="521"/>
                  <a:pt x="163" y="1100"/>
                  <a:pt x="233" y="1401"/>
                </a:cubicBezTo>
                <a:cubicBezTo>
                  <a:pt x="303" y="1702"/>
                  <a:pt x="382" y="1945"/>
                  <a:pt x="461" y="2096"/>
                </a:cubicBezTo>
                <a:cubicBezTo>
                  <a:pt x="540" y="2247"/>
                  <a:pt x="630" y="2302"/>
                  <a:pt x="708" y="2304"/>
                </a:cubicBezTo>
                <a:cubicBezTo>
                  <a:pt x="786" y="2306"/>
                  <a:pt x="853" y="2258"/>
                  <a:pt x="927" y="2106"/>
                </a:cubicBezTo>
                <a:cubicBezTo>
                  <a:pt x="1001" y="1954"/>
                  <a:pt x="1076" y="1698"/>
                  <a:pt x="1152" y="1394"/>
                </a:cubicBezTo>
                <a:cubicBezTo>
                  <a:pt x="1228" y="1090"/>
                  <a:pt x="1340" y="508"/>
                  <a:pt x="1385" y="280"/>
                </a:cubicBezTo>
                <a:cubicBezTo>
                  <a:pt x="1430" y="52"/>
                  <a:pt x="1416" y="77"/>
                  <a:pt x="1424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54560" y="476280"/>
            <a:ext cx="2269800" cy="3660840"/>
          </a:xfrm>
          <a:custGeom>
            <a:avLst/>
            <a:gdLst/>
            <a:ahLst/>
            <a:rect l="l" t="t" r="r" b="b"/>
            <a:pathLst>
              <a:path w="1430" h="2306">
                <a:moveTo>
                  <a:pt x="0" y="0"/>
                </a:moveTo>
                <a:cubicBezTo>
                  <a:pt x="8" y="48"/>
                  <a:pt x="0" y="55"/>
                  <a:pt x="39" y="288"/>
                </a:cubicBezTo>
                <a:cubicBezTo>
                  <a:pt x="78" y="521"/>
                  <a:pt x="163" y="1100"/>
                  <a:pt x="233" y="1401"/>
                </a:cubicBezTo>
                <a:cubicBezTo>
                  <a:pt x="303" y="1702"/>
                  <a:pt x="382" y="1945"/>
                  <a:pt x="461" y="2096"/>
                </a:cubicBezTo>
                <a:cubicBezTo>
                  <a:pt x="540" y="2247"/>
                  <a:pt x="630" y="2302"/>
                  <a:pt x="708" y="2304"/>
                </a:cubicBezTo>
                <a:cubicBezTo>
                  <a:pt x="786" y="2306"/>
                  <a:pt x="853" y="2258"/>
                  <a:pt x="927" y="2106"/>
                </a:cubicBezTo>
                <a:cubicBezTo>
                  <a:pt x="1001" y="1954"/>
                  <a:pt x="1076" y="1698"/>
                  <a:pt x="1152" y="1394"/>
                </a:cubicBezTo>
                <a:cubicBezTo>
                  <a:pt x="1228" y="1090"/>
                  <a:pt x="1340" y="508"/>
                  <a:pt x="1385" y="280"/>
                </a:cubicBezTo>
                <a:cubicBezTo>
                  <a:pt x="1430" y="52"/>
                  <a:pt x="1416" y="77"/>
                  <a:pt x="1424" y="24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9280" y="42840"/>
            <a:ext cx="8785440" cy="6227280"/>
            <a:chOff x="179280" y="42840"/>
            <a:chExt cx="8785440" cy="6227280"/>
          </a:xfrm>
        </p:grpSpPr>
        <p:sp>
          <p:nvSpPr>
            <p:cNvPr id="475" name=""/>
            <p:cNvSpPr/>
            <p:nvPr/>
          </p:nvSpPr>
          <p:spPr>
            <a:xfrm>
              <a:off x="179280" y="4830840"/>
              <a:ext cx="8713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572000" y="150480"/>
              <a:ext cx="0" cy="611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5128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3200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128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236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9272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1200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3272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51640" y="4686120"/>
              <a:ext cx="0" cy="1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2000" y="5551560"/>
              <a:ext cx="14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2000" y="41115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72000" y="33908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0" y="267012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2000" y="19508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0" y="1230120"/>
              <a:ext cx="14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1344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3236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5308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7200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5128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5640" y="48243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84720" y="483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48000" y="39243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84720" y="32115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4720" y="2490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84720" y="17636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13080" y="5400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69440" y="47592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48000" y="428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211640" y="10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54560" y="476280"/>
            <a:ext cx="2269800" cy="3660840"/>
          </a:xfrm>
          <a:custGeom>
            <a:avLst/>
            <a:gdLst/>
            <a:ahLst/>
            <a:rect l="l" t="t" r="r" b="b"/>
            <a:pathLst>
              <a:path w="1430" h="2306">
                <a:moveTo>
                  <a:pt x="0" y="0"/>
                </a:moveTo>
                <a:cubicBezTo>
                  <a:pt x="8" y="48"/>
                  <a:pt x="0" y="55"/>
                  <a:pt x="39" y="288"/>
                </a:cubicBezTo>
                <a:cubicBezTo>
                  <a:pt x="78" y="521"/>
                  <a:pt x="163" y="1100"/>
                  <a:pt x="233" y="1401"/>
                </a:cubicBezTo>
                <a:cubicBezTo>
                  <a:pt x="303" y="1702"/>
                  <a:pt x="382" y="1945"/>
                  <a:pt x="461" y="2096"/>
                </a:cubicBezTo>
                <a:cubicBezTo>
                  <a:pt x="540" y="2247"/>
                  <a:pt x="630" y="2302"/>
                  <a:pt x="708" y="2304"/>
                </a:cubicBezTo>
                <a:cubicBezTo>
                  <a:pt x="786" y="2306"/>
                  <a:pt x="853" y="2258"/>
                  <a:pt x="927" y="2106"/>
                </a:cubicBezTo>
                <a:cubicBezTo>
                  <a:pt x="1001" y="1954"/>
                  <a:pt x="1076" y="1698"/>
                  <a:pt x="1152" y="1394"/>
                </a:cubicBezTo>
                <a:cubicBezTo>
                  <a:pt x="1228" y="1090"/>
                  <a:pt x="1340" y="508"/>
                  <a:pt x="1385" y="280"/>
                </a:cubicBezTo>
                <a:cubicBezTo>
                  <a:pt x="1430" y="52"/>
                  <a:pt x="1416" y="77"/>
                  <a:pt x="1424" y="24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32360" y="40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40360" y="1089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5373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53737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4720" y="612720"/>
            <a:ext cx="27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coin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00191 -0.10254 E">
                                      <p:cBhvr>
                                        <p:cTn id="50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evt="end">
                                        <p:tn val="50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278 L 0.00017 0.10336 E">
                                      <p:cBhvr>
                                        <p:cTn id="512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340000" y="3429000"/>
            <a:ext cx="669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48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2908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08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328464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8980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0872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294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74872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92720" y="34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56360" y="342900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70580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53080" y="3429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40360" y="342900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13080" y="34225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72000" y="3429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856720" y="34164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08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569440" y="342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86160" y="900000"/>
            <a:ext cx="3130560" cy="248148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84720" y="873000"/>
            <a:ext cx="3130560" cy="248148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832360" y="252360"/>
            <a:ext cx="1800" cy="612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32360" y="5508720"/>
            <a:ext cx="1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32360" y="406872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32360" y="334800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2360" y="262728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2360" y="190800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32360" y="118728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84720" y="24415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27640" y="172080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19640" y="1001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45080" y="324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92720" y="1159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32360" y="468360"/>
            <a:ext cx="1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40360" y="27352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38815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4720" y="4572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13440" y="5327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7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35640" y="6041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32360" y="4788000"/>
            <a:ext cx="14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32360" y="6227640"/>
            <a:ext cx="1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19640" y="1079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01080" y="11160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80000" y="273528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61080" y="327672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00720" y="3132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9640" y="313200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96360" y="684360"/>
            <a:ext cx="10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=3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88000" y="3203640"/>
            <a:ext cx="252360" cy="252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92280"/>
            <a:ext cx="39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你知道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3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大致图象和位置吗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987640" y="3827520"/>
            <a:ext cx="3130560" cy="248112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3824280"/>
            <a:ext cx="3130560" cy="248112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25800" y="981000"/>
            <a:ext cx="3130560" cy="248148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24360" y="981000"/>
            <a:ext cx="3130200" cy="2481480"/>
          </a:xfrm>
          <a:custGeom>
            <a:avLst/>
            <a:gdLst/>
            <a:ahLst/>
            <a:rect l="l" t="t" r="r" b="b"/>
            <a:pathLst>
              <a:path w="1972" h="1563">
                <a:moveTo>
                  <a:pt x="0" y="0"/>
                </a:moveTo>
                <a:cubicBezTo>
                  <a:pt x="88" y="204"/>
                  <a:pt x="366" y="963"/>
                  <a:pt x="527" y="1224"/>
                </a:cubicBezTo>
                <a:cubicBezTo>
                  <a:pt x="688" y="1485"/>
                  <a:pt x="814" y="1563"/>
                  <a:pt x="966" y="1563"/>
                </a:cubicBezTo>
                <a:cubicBezTo>
                  <a:pt x="1118" y="1563"/>
                  <a:pt x="1273" y="1483"/>
                  <a:pt x="1441" y="1224"/>
                </a:cubicBezTo>
                <a:cubicBezTo>
                  <a:pt x="1609" y="965"/>
                  <a:pt x="1861" y="261"/>
                  <a:pt x="1972" y="8"/>
                </a:cubicBezTo>
              </a:path>
            </a:pathLst>
          </a:custGeom>
          <a:noFill/>
          <a:ln w="5724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4572000" y="1267920"/>
            <a:ext cx="0" cy="518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55897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41497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3429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0" y="2708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25225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6200" y="3284640"/>
            <a:ext cx="8858520" cy="787320"/>
            <a:chOff x="106200" y="3284640"/>
            <a:chExt cx="8858520" cy="787320"/>
          </a:xfrm>
        </p:grpSpPr>
        <p:sp>
          <p:nvSpPr>
            <p:cNvPr id="573" name=""/>
            <p:cNvSpPr/>
            <p:nvPr/>
          </p:nvSpPr>
          <p:spPr>
            <a:xfrm>
              <a:off x="106200" y="3429360"/>
              <a:ext cx="8713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5128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3200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236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9272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1200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3272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1640" y="3284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96000" y="3429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9280" y="3429360"/>
              <a:ext cx="5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08720" y="3429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7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6000" y="342936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429360"/>
              <a:ext cx="6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16000" y="3422880"/>
              <a:ext cx="8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84720" y="34293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69440" y="3357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40000" y="3394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72360" y="3429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780000" y="28162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7640" y="39625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465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52720" y="5408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7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5280" y="612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4869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6308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19640" y="28162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00720" y="335772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40360" y="3213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59280" y="3213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27640" y="38005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=3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4076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80000" y="57340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40360" y="612936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00720" y="623736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59280" y="60930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19640" y="56610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6360" y="162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=3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6200" y="404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3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象可以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3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向下平移一个单位得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suction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1.79191E-006 L -0.00191 0.41202 E">
                                      <p:cBhvr>
                                        <p:cTn id="51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03280" y="188136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93840" y="2960640"/>
          <a:ext cx="8713800" cy="2952720"/>
        </p:xfrm>
        <a:graphic>
          <a:graphicData uri="http://schemas.openxmlformats.org/drawingml/2006/table">
            <a:tbl>
              <a:tblPr/>
              <a:tblGrid>
                <a:gridCol w="1765440"/>
                <a:gridCol w="2628720"/>
                <a:gridCol w="2159280"/>
                <a:gridCol w="21603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5" name=""/>
          <p:cNvSpPr/>
          <p:nvPr/>
        </p:nvSpPr>
        <p:spPr>
          <a:xfrm>
            <a:off x="755640" y="299556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1640" y="494172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4560" y="36766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9280" y="296064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开口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65480" y="346392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66920" y="3965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84720" y="2924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对称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78560" y="49006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7856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64360" y="2924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顶点坐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12000" y="3753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,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04080" y="4940280"/>
            <a:ext cx="22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,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30560" y="461628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30560" y="51166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次函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y=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y=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+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图象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8360" y="981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 &gt; 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次函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= 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图象可以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上平移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单位得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 &lt; 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次函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= 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图象可以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下平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单位得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lick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50920" y="297000"/>
            <a:ext cx="37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63640" y="2349360"/>
            <a:ext cx="55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4360" y="21272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能作出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+c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，并能够比较它们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异同，理解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对二次函数图象的影响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00000" y="3357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说出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+c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的开口方向、对称轴和顶点坐标，以及它们之间的联系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008000" y="21798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397080" cy="39672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7529400" y="127080"/>
            <a:ext cx="1573200" cy="1185120"/>
            <a:chOff x="7529400" y="127080"/>
            <a:chExt cx="1573200" cy="1185120"/>
          </a:xfrm>
        </p:grpSpPr>
        <p:sp>
          <p:nvSpPr>
            <p:cNvPr id="638" name="_s20491"/>
            <p:cNvSpPr/>
            <p:nvPr/>
          </p:nvSpPr>
          <p:spPr>
            <a:xfrm flipV="1">
              <a:off x="8053560" y="126360"/>
              <a:ext cx="524880" cy="394920"/>
            </a:xfrm>
            <a:custGeom>
              <a:avLst/>
              <a:gdLst>
                <a:gd name="textAreaLeft" fmla="*/ 188280 w 524880"/>
                <a:gd name="textAreaRight" fmla="*/ 336600 w 524880"/>
                <a:gd name="textAreaTop" fmla="*/ 141480 h 394920"/>
                <a:gd name="textAreaBottom" fmla="*/ 253440 h 3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00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_s20492"/>
            <p:cNvSpPr/>
            <p:nvPr/>
          </p:nvSpPr>
          <p:spPr>
            <a:xfrm flipV="1">
              <a:off x="7791840" y="521280"/>
              <a:ext cx="1048680" cy="394920"/>
            </a:xfrm>
            <a:custGeom>
              <a:avLst/>
              <a:gdLst>
                <a:gd name="textAreaLeft" fmla="*/ 230400 w 1048680"/>
                <a:gd name="textAreaRight" fmla="*/ 818280 w 1048680"/>
                <a:gd name="textAreaTop" fmla="*/ 86760 h 394920"/>
                <a:gd name="textAreaBottom" fmla="*/ 308160 h 3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6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_s20493"/>
            <p:cNvSpPr/>
            <p:nvPr/>
          </p:nvSpPr>
          <p:spPr>
            <a:xfrm flipV="1">
              <a:off x="7529400" y="916560"/>
              <a:ext cx="1573200" cy="394920"/>
            </a:xfrm>
            <a:custGeom>
              <a:avLst/>
              <a:gdLst>
                <a:gd name="textAreaLeft" fmla="*/ 272880 w 1573200"/>
                <a:gd name="textAreaRight" fmla="*/ 1300320 w 1573200"/>
                <a:gd name="textAreaTop" fmla="*/ 68400 h 394920"/>
                <a:gd name="textAreaBottom" fmla="*/ 326520 h 3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6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5280" y="784080"/>
            <a:ext cx="3581280" cy="995400"/>
            <a:chOff x="395280" y="784080"/>
            <a:chExt cx="3581280" cy="995400"/>
          </a:xfrm>
        </p:grpSpPr>
        <p:grpSp>
          <p:nvGrpSpPr>
            <p:cNvPr id="642" name=""/>
            <p:cNvGrpSpPr/>
            <p:nvPr/>
          </p:nvGrpSpPr>
          <p:grpSpPr>
            <a:xfrm>
              <a:off x="395280" y="830160"/>
              <a:ext cx="2361960" cy="949320"/>
              <a:chOff x="395280" y="830160"/>
              <a:chExt cx="2361960" cy="949320"/>
            </a:xfrm>
          </p:grpSpPr>
          <p:sp>
            <p:nvSpPr>
              <p:cNvPr id="643" name=""/>
              <p:cNvSpPr/>
              <p:nvPr/>
            </p:nvSpPr>
            <p:spPr>
              <a:xfrm>
                <a:off x="395280" y="832320"/>
                <a:ext cx="2361960" cy="9471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74840" y="83016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5" name="" descr=""/>
            <p:cNvPicPr/>
            <p:nvPr/>
          </p:nvPicPr>
          <p:blipFill>
            <a:blip r:embed="rId3"/>
            <a:stretch/>
          </p:blipFill>
          <p:spPr>
            <a:xfrm>
              <a:off x="2757240" y="7840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95280" y="9363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900000" y="2060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完成课本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页习题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2.3  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2 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5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在对称轴哪侧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随着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增大怎样变化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＝－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5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有最大值或最小值吗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如果有，是最大值还是最小值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这个值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95280" y="798480"/>
            <a:ext cx="3581280" cy="995400"/>
            <a:chOff x="395280" y="798480"/>
            <a:chExt cx="3581280" cy="995400"/>
          </a:xfrm>
        </p:grpSpPr>
        <p:grpSp>
          <p:nvGrpSpPr>
            <p:cNvPr id="649" name=""/>
            <p:cNvGrpSpPr/>
            <p:nvPr/>
          </p:nvGrpSpPr>
          <p:grpSpPr>
            <a:xfrm>
              <a:off x="395280" y="844560"/>
              <a:ext cx="2361960" cy="949320"/>
              <a:chOff x="395280" y="844560"/>
              <a:chExt cx="2361960" cy="949320"/>
            </a:xfrm>
          </p:grpSpPr>
          <p:sp>
            <p:nvSpPr>
              <p:cNvPr id="650" name=""/>
              <p:cNvSpPr/>
              <p:nvPr/>
            </p:nvSpPr>
            <p:spPr>
              <a:xfrm>
                <a:off x="395280" y="846720"/>
                <a:ext cx="2361960" cy="9471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布置作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74840" y="84456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2" name="" descr=""/>
            <p:cNvPicPr/>
            <p:nvPr/>
          </p:nvPicPr>
          <p:blipFill>
            <a:blip r:embed="rId1"/>
            <a:stretch/>
          </p:blipFill>
          <p:spPr>
            <a:xfrm>
              <a:off x="2757240" y="7984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95280" y="9507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1066680" y="1447920"/>
            <a:ext cx="7391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谢谢合作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019920" y="579132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制作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: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陈华东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4920" y="3044880"/>
            <a:ext cx="7777080" cy="3813120"/>
            <a:chOff x="34920" y="3044880"/>
            <a:chExt cx="7777080" cy="3813120"/>
          </a:xfrm>
        </p:grpSpPr>
        <p:sp>
          <p:nvSpPr>
            <p:cNvPr id="44" name=""/>
            <p:cNvSpPr/>
            <p:nvPr/>
          </p:nvSpPr>
          <p:spPr>
            <a:xfrm>
              <a:off x="34920" y="3044880"/>
              <a:ext cx="7777080" cy="3810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920" y="3578400"/>
              <a:ext cx="7777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920" y="4111920"/>
              <a:ext cx="7777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20" y="4645080"/>
              <a:ext cx="7777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920" y="5254920"/>
              <a:ext cx="7777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0" y="5864400"/>
              <a:ext cx="7777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920" y="6397920"/>
              <a:ext cx="77770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45880" y="3044880"/>
              <a:ext cx="1440" cy="381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97320" y="3048120"/>
              <a:ext cx="1080" cy="380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39560" y="2952720"/>
            <a:ext cx="16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34480" y="2994120"/>
            <a:ext cx="14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=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34160" y="2982960"/>
            <a:ext cx="11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=-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000" y="40482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顶点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3840" y="351468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称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080" y="5281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520" y="4657680"/>
            <a:ext cx="22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口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0040" y="574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增减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1080" y="630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最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1241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14972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359100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5680" y="3557520"/>
            <a:ext cx="6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35280" y="533232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上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5375160"/>
            <a:ext cx="19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下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4724280"/>
            <a:ext cx="16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9080" y="4668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638172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小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94320" y="63532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大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9731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二次函数</a:t>
            </a: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y=x</a:t>
            </a:r>
            <a:r>
              <a:rPr b="1" lang="en-US" sz="2800" spc="-1" strike="noStrike" baseline="30000">
                <a:solidFill>
                  <a:srgbClr val="ffff66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y=-x</a:t>
            </a:r>
            <a:r>
              <a:rPr b="1" lang="en-US" sz="2800" spc="-1" strike="noStrike" baseline="30000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5819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3400" y="58197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003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796000" y="333360"/>
            <a:ext cx="2843280" cy="2374920"/>
            <a:chOff x="5796000" y="333360"/>
            <a:chExt cx="2843280" cy="237492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796000" y="333360"/>
                  <a:ext cx="62856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7877160" y="2303640"/>
                  <a:ext cx="762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" name=""/>
          <p:cNvSpPr/>
          <p:nvPr/>
        </p:nvSpPr>
        <p:spPr>
          <a:xfrm>
            <a:off x="6396120" y="708120"/>
            <a:ext cx="38088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29560" y="1770120"/>
            <a:ext cx="380880" cy="6094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226200" y="1680840"/>
            <a:ext cx="53352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684920" y="654120"/>
            <a:ext cx="381240" cy="838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85640" y="361800"/>
            <a:ext cx="3581280" cy="995400"/>
            <a:chOff x="485640" y="361800"/>
            <a:chExt cx="3581280" cy="995400"/>
          </a:xfrm>
        </p:grpSpPr>
        <p:grpSp>
          <p:nvGrpSpPr>
            <p:cNvPr id="84" name=""/>
            <p:cNvGrpSpPr/>
            <p:nvPr/>
          </p:nvGrpSpPr>
          <p:grpSpPr>
            <a:xfrm>
              <a:off x="485640" y="407880"/>
              <a:ext cx="2361960" cy="949320"/>
              <a:chOff x="485640" y="407880"/>
              <a:chExt cx="2361960" cy="949320"/>
            </a:xfrm>
          </p:grpSpPr>
          <p:sp>
            <p:nvSpPr>
              <p:cNvPr id="85" name=""/>
              <p:cNvSpPr/>
              <p:nvPr/>
            </p:nvSpPr>
            <p:spPr>
              <a:xfrm>
                <a:off x="485640" y="410040"/>
                <a:ext cx="2361960" cy="9471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情境创设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65200" y="40788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847600" y="3618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485640" y="5140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590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汽车刹车时向前滑行的距离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称为刹车距离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与什么因素有关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刹车距离与二次函数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9810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你知道两辆汽车在行驶时为什么要保持一定距离吗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09680" y="347760"/>
            <a:ext cx="3581280" cy="995400"/>
            <a:chOff x="409680" y="347760"/>
            <a:chExt cx="3581280" cy="995400"/>
          </a:xfrm>
        </p:grpSpPr>
        <p:grpSp>
          <p:nvGrpSpPr>
            <p:cNvPr id="93" name=""/>
            <p:cNvGrpSpPr/>
            <p:nvPr/>
          </p:nvGrpSpPr>
          <p:grpSpPr>
            <a:xfrm>
              <a:off x="409680" y="393840"/>
              <a:ext cx="2361960" cy="949320"/>
              <a:chOff x="409680" y="393840"/>
              <a:chExt cx="2361960" cy="949320"/>
            </a:xfrm>
          </p:grpSpPr>
          <p:sp>
            <p:nvSpPr>
              <p:cNvPr id="94" name=""/>
              <p:cNvSpPr/>
              <p:nvPr/>
            </p:nvSpPr>
            <p:spPr>
              <a:xfrm>
                <a:off x="409680" y="396000"/>
                <a:ext cx="2361960" cy="9471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新课讲解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9240" y="39384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2771640" y="34776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09680" y="50004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146160" y="4800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雨天行驶时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由公式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来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33336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2160" y="3429000"/>
            <a:ext cx="905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影响刹车距离的最主要因素是汽车行驶的速度及路面的摩擦系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有研究表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晴天在某段公路上行驶时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速度为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v(km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／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h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汽车的刹车距离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s(m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可以由公式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确定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6237360"/>
            <a:ext cx="3462120" cy="111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796000" y="5530680"/>
            <a:ext cx="3025080" cy="720360"/>
            <a:chOff x="5796000" y="5530680"/>
            <a:chExt cx="3025080" cy="72036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7611120" y="5530680"/>
              <a:ext cx="120996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796000" y="5530680"/>
              <a:ext cx="1209960" cy="6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7480440" y="620640"/>
            <a:ext cx="763560" cy="126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2960" y="5334120"/>
                <a:ext cx="206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3640" y="5334120"/>
                <a:ext cx="1944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141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完成下表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15573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3933720"/>
            <a:ext cx="7899480" cy="1382760"/>
            <a:chOff x="826920" y="3933720"/>
            <a:chExt cx="7899480" cy="1382760"/>
          </a:xfrm>
        </p:grpSpPr>
        <p:sp>
          <p:nvSpPr>
            <p:cNvPr id="111" name=""/>
            <p:cNvSpPr/>
            <p:nvPr/>
          </p:nvSpPr>
          <p:spPr>
            <a:xfrm>
              <a:off x="7886880" y="4437000"/>
              <a:ext cx="8395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6760" y="4437000"/>
              <a:ext cx="8701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86600" y="4437000"/>
              <a:ext cx="83016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8160" y="4437000"/>
              <a:ext cx="8384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0600" y="4437000"/>
              <a:ext cx="81756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0200" y="4437000"/>
              <a:ext cx="8604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28880" y="4437000"/>
              <a:ext cx="84132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4437000"/>
              <a:ext cx="200196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86880" y="3933720"/>
              <a:ext cx="0" cy="13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4360" y="3986280"/>
            <a:ext cx="7921080" cy="1387440"/>
            <a:chOff x="684360" y="3986280"/>
            <a:chExt cx="7921080" cy="1387440"/>
          </a:xfrm>
        </p:grpSpPr>
        <p:grpSp>
          <p:nvGrpSpPr>
            <p:cNvPr id="121" name=""/>
            <p:cNvGrpSpPr/>
            <p:nvPr/>
          </p:nvGrpSpPr>
          <p:grpSpPr>
            <a:xfrm>
              <a:off x="706320" y="3990960"/>
              <a:ext cx="7899120" cy="1382760"/>
              <a:chOff x="706320" y="3990960"/>
              <a:chExt cx="7899120" cy="138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8583120" y="3990960"/>
                <a:ext cx="0" cy="1382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06320" y="3990960"/>
                <a:ext cx="7899120" cy="1382760"/>
                <a:chOff x="706320" y="3990960"/>
                <a:chExt cx="7899120" cy="13827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06320" y="3990960"/>
                  <a:ext cx="7899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6320" y="4494240"/>
                  <a:ext cx="7899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6320" y="5373720"/>
                  <a:ext cx="7899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6320" y="3990960"/>
                  <a:ext cx="0" cy="138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54924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40964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2720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6564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89580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07920" y="39909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684360" y="3986280"/>
              <a:ext cx="7898760" cy="1371600"/>
              <a:chOff x="684360" y="3986280"/>
              <a:chExt cx="7898760" cy="1371600"/>
            </a:xfrm>
          </p:grpSpPr>
          <p:sp>
            <p:nvSpPr>
              <p:cNvPr id="135" name=""/>
              <p:cNvSpPr/>
              <p:nvPr/>
            </p:nvSpPr>
            <p:spPr>
              <a:xfrm>
                <a:off x="7743960" y="3986280"/>
                <a:ext cx="83916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684360" y="3986280"/>
                <a:ext cx="7059240" cy="1371600"/>
                <a:chOff x="684360" y="3986280"/>
                <a:chExt cx="7059240" cy="13716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873840" y="3986280"/>
                  <a:ext cx="86976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1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043680" y="3986280"/>
                  <a:ext cx="82980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205240" y="3986280"/>
                  <a:ext cx="83808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7680" y="3986280"/>
                  <a:ext cx="81720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27280" y="3986280"/>
                  <a:ext cx="86004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685960" y="3986280"/>
                  <a:ext cx="84096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84360" y="3986280"/>
                  <a:ext cx="200160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4" name=""/>
                    <p:cNvSpPr txBox="1"/>
                    <p:nvPr/>
                  </p:nvSpPr>
                  <p:spPr>
                    <a:xfrm>
                      <a:off x="1230120" y="4521240"/>
                      <a:ext cx="987120" cy="836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145" name=""/>
          <p:cNvGrpSpPr/>
          <p:nvPr/>
        </p:nvGrpSpPr>
        <p:grpSpPr>
          <a:xfrm>
            <a:off x="2986200" y="4695840"/>
            <a:ext cx="5833800" cy="534960"/>
            <a:chOff x="2986200" y="4695840"/>
            <a:chExt cx="5833800" cy="534960"/>
          </a:xfrm>
        </p:grpSpPr>
        <p:sp>
          <p:nvSpPr>
            <p:cNvPr id="146" name=""/>
            <p:cNvSpPr/>
            <p:nvPr/>
          </p:nvSpPr>
          <p:spPr>
            <a:xfrm>
              <a:off x="6156360" y="46972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986200" y="4695840"/>
              <a:ext cx="5833800" cy="534960"/>
              <a:chOff x="2986200" y="4695840"/>
              <a:chExt cx="5833800" cy="53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2986200" y="47102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21040" y="46958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84600" y="46972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05400" y="469584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7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48440" y="469728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3640" y="4710240"/>
                <a:ext cx="93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28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719280" y="333360"/>
            <a:ext cx="8424720" cy="2499480"/>
            <a:chOff x="719280" y="333360"/>
            <a:chExt cx="8424720" cy="2499480"/>
          </a:xfrm>
        </p:grpSpPr>
        <p:sp>
          <p:nvSpPr>
            <p:cNvPr id="155" name=""/>
            <p:cNvSpPr/>
            <p:nvPr/>
          </p:nvSpPr>
          <p:spPr>
            <a:xfrm>
              <a:off x="719280" y="549360"/>
              <a:ext cx="842472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下图是            的</a:t>
              </a:r>
              <a:r>
                <a:rPr b="0" lang="zh-CN" sz="2800" spc="-1" strike="noStrike" u="sng">
                  <a:solidFill>
                    <a:srgbClr val="ccccff"/>
                  </a:solidFill>
                  <a:uFillTx/>
                  <a:latin typeface="隶书"/>
                  <a:hlinkClick r:id="rId1" action="ppaction://hlinksldjump"/>
                </a:rPr>
                <a:t>图象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，在同一直角坐标系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作出函数          的图象</a:t>
              </a: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(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先想一想</a:t>
              </a: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,v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可以取任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值吗</a:t>
              </a: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?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为什么</a:t>
              </a: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?)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</a:rPr>
                <a:t>．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992240" y="333360"/>
                  <a:ext cx="19195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01840" y="1211400"/>
                <a:ext cx="17654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920" y="6308640"/>
            <a:ext cx="864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616572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616572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72360" y="616572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616572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616572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71640" y="260280"/>
            <a:ext cx="0" cy="612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58972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14972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42900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70828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98900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26828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4936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86900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6237360"/>
            <a:ext cx="14292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1440" y="6093000"/>
            <a:ext cx="14292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81440" y="5516640"/>
            <a:ext cx="14292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1440" y="4653000"/>
            <a:ext cx="14256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61080" y="3357720"/>
            <a:ext cx="14292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01080" y="1700280"/>
            <a:ext cx="142920" cy="144360"/>
          </a:xfrm>
          <a:prstGeom prst="ellipse">
            <a:avLst/>
          </a:prstGeom>
          <a:solidFill>
            <a:srgbClr val="ff0e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816120"/>
            <a:ext cx="7862760" cy="5492520"/>
          </a:xfrm>
          <a:custGeom>
            <a:avLst/>
            <a:gdLst/>
            <a:ahLst/>
            <a:rect l="l" t="t" r="r" b="b"/>
            <a:pathLst>
              <a:path w="4953" h="3460">
                <a:moveTo>
                  <a:pt x="0" y="3460"/>
                </a:moveTo>
                <a:cubicBezTo>
                  <a:pt x="150" y="3446"/>
                  <a:pt x="600" y="3450"/>
                  <a:pt x="903" y="3376"/>
                </a:cubicBezTo>
                <a:cubicBezTo>
                  <a:pt x="1206" y="3302"/>
                  <a:pt x="1513" y="3165"/>
                  <a:pt x="1816" y="3013"/>
                </a:cubicBezTo>
                <a:cubicBezTo>
                  <a:pt x="2119" y="2861"/>
                  <a:pt x="2420" y="2689"/>
                  <a:pt x="2720" y="2463"/>
                </a:cubicBezTo>
                <a:cubicBezTo>
                  <a:pt x="3020" y="2237"/>
                  <a:pt x="3314" y="1967"/>
                  <a:pt x="3615" y="1657"/>
                </a:cubicBezTo>
                <a:cubicBezTo>
                  <a:pt x="3916" y="1347"/>
                  <a:pt x="4373" y="782"/>
                  <a:pt x="4528" y="603"/>
                </a:cubicBezTo>
                <a:cubicBezTo>
                  <a:pt x="4683" y="424"/>
                  <a:pt x="4474" y="686"/>
                  <a:pt x="4545" y="585"/>
                </a:cubicBezTo>
                <a:cubicBezTo>
                  <a:pt x="4616" y="484"/>
                  <a:pt x="4868" y="122"/>
                  <a:pt x="4953" y="0"/>
                </a:cubicBezTo>
              </a:path>
            </a:pathLst>
          </a:custGeom>
          <a:noFill/>
          <a:ln w="38160">
            <a:solidFill>
              <a:srgbClr val="ff0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41440" y="5877000"/>
            <a:ext cx="142920" cy="144360"/>
          </a:xfrm>
          <a:prstGeom prst="ellipse">
            <a:avLst/>
          </a:prstGeom>
          <a:solidFill>
            <a:srgbClr val="c3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9000"/>
            <a:ext cx="5976720" cy="6148440"/>
          </a:xfrm>
          <a:custGeom>
            <a:avLst/>
            <a:gdLst/>
            <a:ahLst/>
            <a:rect l="l" t="t" r="r" b="b"/>
            <a:pathLst>
              <a:path w="3836" h="3992">
                <a:moveTo>
                  <a:pt x="0" y="3992"/>
                </a:moveTo>
                <a:cubicBezTo>
                  <a:pt x="149" y="3954"/>
                  <a:pt x="593" y="3917"/>
                  <a:pt x="894" y="3766"/>
                </a:cubicBezTo>
                <a:cubicBezTo>
                  <a:pt x="1195" y="3615"/>
                  <a:pt x="1503" y="3396"/>
                  <a:pt x="1807" y="3084"/>
                </a:cubicBezTo>
                <a:cubicBezTo>
                  <a:pt x="2111" y="2772"/>
                  <a:pt x="2416" y="2352"/>
                  <a:pt x="2720" y="1897"/>
                </a:cubicBezTo>
                <a:cubicBezTo>
                  <a:pt x="3024" y="1442"/>
                  <a:pt x="3447" y="671"/>
                  <a:pt x="3633" y="355"/>
                </a:cubicBezTo>
                <a:cubicBezTo>
                  <a:pt x="3819" y="39"/>
                  <a:pt x="3794" y="74"/>
                  <a:pt x="3836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2997360"/>
            <a:ext cx="0" cy="172692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71280" y="2997360"/>
            <a:ext cx="4321080" cy="0"/>
          </a:xfrm>
          <a:prstGeom prst="line">
            <a:avLst/>
          </a:prstGeom>
          <a:ln w="76320">
            <a:solidFill>
              <a:srgbClr val="ff0e0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934920" y="4724280"/>
            <a:ext cx="4321440" cy="0"/>
          </a:xfrm>
          <a:prstGeom prst="line">
            <a:avLst/>
          </a:prstGeom>
          <a:ln w="76320">
            <a:solidFill>
              <a:srgbClr val="ff0e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2997360"/>
            <a:ext cx="0" cy="1726920"/>
          </a:xfrm>
          <a:prstGeom prst="line">
            <a:avLst/>
          </a:prstGeom>
          <a:ln w="76320">
            <a:solidFill>
              <a:srgbClr val="ff0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149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e01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708280"/>
            <a:ext cx="11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e01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5950080"/>
            <a:ext cx="0" cy="3585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71280" y="595008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4797360"/>
            <a:ext cx="142560" cy="144360"/>
          </a:xfrm>
          <a:prstGeom prst="ellipse">
            <a:avLst/>
          </a:prstGeom>
          <a:solidFill>
            <a:srgbClr val="c3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2924280"/>
            <a:ext cx="142920" cy="144360"/>
          </a:xfrm>
          <a:prstGeom prst="ellipse">
            <a:avLst/>
          </a:prstGeom>
          <a:solidFill>
            <a:srgbClr val="c3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512640"/>
            <a:ext cx="142920" cy="144720"/>
          </a:xfrm>
          <a:prstGeom prst="ellipse">
            <a:avLst/>
          </a:prstGeom>
          <a:solidFill>
            <a:srgbClr val="c3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4869000"/>
            <a:ext cx="0" cy="1439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971640" y="4869000"/>
            <a:ext cx="2844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6237360"/>
            <a:ext cx="142920" cy="144360"/>
          </a:xfrm>
          <a:prstGeom prst="ellipse">
            <a:avLst/>
          </a:prstGeom>
          <a:solidFill>
            <a:srgbClr val="c3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03372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008000" y="2997360"/>
            <a:ext cx="4284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84280"/>
            <a:ext cx="0" cy="5724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280" y="584280"/>
            <a:ext cx="57610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50160" y="1252440"/>
            <a:ext cx="1337040" cy="712440"/>
            <a:chOff x="6950160" y="1252440"/>
            <a:chExt cx="1337040" cy="712440"/>
          </a:xfrm>
        </p:grpSpPr>
        <p:sp>
          <p:nvSpPr>
            <p:cNvPr id="201" name=""/>
            <p:cNvSpPr/>
            <p:nvPr/>
          </p:nvSpPr>
          <p:spPr>
            <a:xfrm>
              <a:off x="7296480" y="1596600"/>
              <a:ext cx="6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950160" y="1252440"/>
              <a:ext cx="1337040" cy="546480"/>
              <a:chOff x="6950160" y="1252440"/>
              <a:chExt cx="1337040" cy="546480"/>
            </a:xfrm>
          </p:grpSpPr>
          <p:sp>
            <p:nvSpPr>
              <p:cNvPr id="203" name=""/>
              <p:cNvSpPr/>
              <p:nvPr/>
            </p:nvSpPr>
            <p:spPr>
              <a:xfrm>
                <a:off x="6950160" y="1430640"/>
                <a:ext cx="60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6080" y="1252440"/>
                <a:ext cx="38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67840" y="1647720"/>
                <a:ext cx="345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8440" y="1430640"/>
                <a:ext cx="51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5003640" y="952560"/>
            <a:ext cx="1337760" cy="712080"/>
            <a:chOff x="5003640" y="952560"/>
            <a:chExt cx="1337760" cy="712080"/>
          </a:xfrm>
        </p:grpSpPr>
        <p:sp>
          <p:nvSpPr>
            <p:cNvPr id="208" name=""/>
            <p:cNvSpPr/>
            <p:nvPr/>
          </p:nvSpPr>
          <p:spPr>
            <a:xfrm>
              <a:off x="5350320" y="12963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003640" y="952560"/>
              <a:ext cx="1337760" cy="546480"/>
              <a:chOff x="5003640" y="952560"/>
              <a:chExt cx="1337760" cy="546480"/>
            </a:xfrm>
          </p:grpSpPr>
          <p:sp>
            <p:nvSpPr>
              <p:cNvPr id="210" name=""/>
              <p:cNvSpPr/>
              <p:nvPr/>
            </p:nvSpPr>
            <p:spPr>
              <a:xfrm>
                <a:off x="5003640" y="1130760"/>
                <a:ext cx="60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79560" y="952560"/>
                <a:ext cx="38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21320" y="1347480"/>
                <a:ext cx="345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22280" y="1130760"/>
                <a:ext cx="51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7056360" y="227664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83560" y="5818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/(km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0560" y="109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/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2880" y="63435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3295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63151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30640" y="6300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58040" y="6286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960" y="5345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3960" y="46245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3960" y="3905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213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2520" y="24494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2520" y="1728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200" y="10098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3336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函数 </a:t>
            </a:r>
            <a:r>
              <a:rPr b="1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y=ax</a:t>
            </a:r>
            <a:r>
              <a:rPr b="1" lang="en-US" sz="3600" spc="-1" strike="noStrike" baseline="30000">
                <a:solidFill>
                  <a:srgbClr val="ffff66"/>
                </a:solidFill>
                <a:latin typeface="黑体"/>
                <a:ea typeface="黑体"/>
              </a:rPr>
              <a:t>2 </a:t>
            </a:r>
            <a:r>
              <a:rPr b="1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(a≠0)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的图象和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209680"/>
            <a:ext cx="8307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二次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280" y="227160"/>
            <a:ext cx="3581280" cy="686880"/>
            <a:chOff x="152280" y="227160"/>
            <a:chExt cx="3581280" cy="686880"/>
          </a:xfrm>
        </p:grpSpPr>
        <p:grpSp>
          <p:nvGrpSpPr>
            <p:cNvPr id="233" name=""/>
            <p:cNvGrpSpPr/>
            <p:nvPr/>
          </p:nvGrpSpPr>
          <p:grpSpPr>
            <a:xfrm>
              <a:off x="152280" y="227160"/>
              <a:ext cx="2361960" cy="630000"/>
              <a:chOff x="152280" y="227160"/>
              <a:chExt cx="2361960" cy="63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15228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3184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251424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5228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152280" y="28954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完成下表：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5867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分别作出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47920" y="4226040"/>
            <a:ext cx="7014960" cy="1442880"/>
            <a:chOff x="1447920" y="4226040"/>
            <a:chExt cx="7014960" cy="1442880"/>
          </a:xfrm>
        </p:grpSpPr>
        <p:sp>
          <p:nvSpPr>
            <p:cNvPr id="241" name=""/>
            <p:cNvSpPr/>
            <p:nvPr/>
          </p:nvSpPr>
          <p:spPr>
            <a:xfrm>
              <a:off x="7704000" y="4944960"/>
              <a:ext cx="7588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447920" y="4226040"/>
              <a:ext cx="7014960" cy="1442880"/>
              <a:chOff x="1447920" y="4226040"/>
              <a:chExt cx="7014960" cy="1442880"/>
            </a:xfrm>
          </p:grpSpPr>
          <p:sp>
            <p:nvSpPr>
              <p:cNvPr id="243" name=""/>
              <p:cNvSpPr/>
              <p:nvPr/>
            </p:nvSpPr>
            <p:spPr>
              <a:xfrm>
                <a:off x="6926400" y="4226040"/>
                <a:ext cx="77760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隶书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47920" y="4226040"/>
                <a:ext cx="7014960" cy="1442880"/>
                <a:chOff x="1447920" y="4226040"/>
                <a:chExt cx="7014960" cy="1442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26400" y="4944960"/>
                  <a:ext cx="77760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1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127920" y="4944960"/>
                  <a:ext cx="79848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2720" y="4944960"/>
                  <a:ext cx="77796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 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572000" y="4944960"/>
                  <a:ext cx="77796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809880" y="4944960"/>
                  <a:ext cx="76212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 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016080" y="4944960"/>
                  <a:ext cx="79380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 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295360" y="4944960"/>
                  <a:ext cx="77976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1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47920" y="4944960"/>
                  <a:ext cx="788760" cy="72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…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1447920" y="4226040"/>
                  <a:ext cx="7014960" cy="718920"/>
                  <a:chOff x="1447920" y="4226040"/>
                  <a:chExt cx="7014960" cy="7189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1447920" y="4226040"/>
                    <a:ext cx="78876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704000" y="4226040"/>
                    <a:ext cx="75888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27920" y="4226040"/>
                    <a:ext cx="79848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349960" y="4226040"/>
                    <a:ext cx="77796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572000" y="4226040"/>
                    <a:ext cx="77796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809880" y="4226040"/>
                    <a:ext cx="76212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016080" y="4226040"/>
                    <a:ext cx="79380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93920" y="4226040"/>
                    <a:ext cx="779400" cy="71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隶书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2" name=""/>
          <p:cNvGrpSpPr/>
          <p:nvPr/>
        </p:nvGrpSpPr>
        <p:grpSpPr>
          <a:xfrm>
            <a:off x="380880" y="3500280"/>
            <a:ext cx="8169480" cy="2233800"/>
            <a:chOff x="380880" y="3500280"/>
            <a:chExt cx="8169480" cy="2233800"/>
          </a:xfrm>
        </p:grpSpPr>
        <p:sp>
          <p:nvSpPr>
            <p:cNvPr id="263" name=""/>
            <p:cNvSpPr/>
            <p:nvPr/>
          </p:nvSpPr>
          <p:spPr>
            <a:xfrm>
              <a:off x="1476360" y="3500280"/>
              <a:ext cx="78912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隶书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880" y="3500280"/>
              <a:ext cx="8169480" cy="2233800"/>
              <a:chOff x="380880" y="3500280"/>
              <a:chExt cx="8169480" cy="22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80960" y="4941720"/>
                <a:ext cx="1066680" cy="7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隶书"/>
                  </a:rPr>
                  <a:t>y=2x</a:t>
                </a:r>
                <a:r>
                  <a:rPr b="1" lang="en-US" sz="2800" spc="-1" strike="noStrike" baseline="30000">
                    <a:solidFill>
                      <a:srgbClr val="ffffff"/>
                    </a:solidFill>
                    <a:latin typeface="隶书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80880" y="3500280"/>
                <a:ext cx="8169480" cy="2233800"/>
                <a:chOff x="380880" y="3500280"/>
                <a:chExt cx="8169480" cy="22338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0880" y="4226040"/>
                  <a:ext cx="106704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5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 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y=x</a:t>
                  </a:r>
                  <a:r>
                    <a:rPr b="1" lang="en-US" sz="2800" spc="-1" strike="noStrike" baseline="30000">
                      <a:solidFill>
                        <a:srgbClr val="ffffff"/>
                      </a:solidFill>
                      <a:latin typeface="隶书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704000" y="3500280"/>
                  <a:ext cx="75888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…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26400" y="3500280"/>
                  <a:ext cx="77760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3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127920" y="3500280"/>
                  <a:ext cx="79848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2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49960" y="3500280"/>
                  <a:ext cx="77796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1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572000" y="3500280"/>
                  <a:ext cx="77796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0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09880" y="3500280"/>
                  <a:ext cx="76212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4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-1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59280" y="3529080"/>
                  <a:ext cx="79344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4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-2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995480" y="3514680"/>
                  <a:ext cx="96696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隶书"/>
                    </a:rPr>
                    <a:t>　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-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68360" y="3500280"/>
                  <a:ext cx="1066680" cy="7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隶书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468360" y="3557520"/>
                  <a:ext cx="8082000" cy="2176560"/>
                  <a:chOff x="468360" y="3557520"/>
                  <a:chExt cx="8082000" cy="21765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68360" y="3557520"/>
                    <a:ext cx="8082000" cy="0"/>
                  </a:xfrm>
                  <a:prstGeom prst="line">
                    <a:avLst/>
                  </a:prstGeom>
                  <a:ln cap="sq"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468360" y="3557520"/>
                    <a:ext cx="8082000" cy="2176560"/>
                    <a:chOff x="468360" y="3557520"/>
                    <a:chExt cx="8082000" cy="217656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68360" y="5734080"/>
                      <a:ext cx="8082000" cy="0"/>
                    </a:xfrm>
                    <a:prstGeom prst="line">
                      <a:avLst/>
                    </a:prstGeom>
                    <a:ln cap="sq"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468360" y="3557520"/>
                      <a:ext cx="8082000" cy="2168640"/>
                      <a:chOff x="468360" y="3557520"/>
                      <a:chExt cx="8082000" cy="2168640"/>
                    </a:xfrm>
                  </p:grpSpPr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468360" y="4283280"/>
                        <a:ext cx="8082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468360" y="3557520"/>
                        <a:ext cx="0" cy="21686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153540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10356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389736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465948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543744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621540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701388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779148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50360" y="3557520"/>
                        <a:ext cx="0" cy="21686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2324160" y="3557520"/>
                        <a:ext cx="0" cy="21686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468360" y="5002200"/>
                        <a:ext cx="8082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312" t="0" r="37941" b="53449"/>
          <a:stretch/>
        </p:blipFill>
        <p:spPr>
          <a:xfrm>
            <a:off x="4427640" y="0"/>
            <a:ext cx="4716360" cy="281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280120" y="246240"/>
                <a:ext cx="612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 flipV="1">
            <a:off x="6737400" y="9324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4221000"/>
            <a:ext cx="3672000" cy="762120"/>
          </a:xfrm>
          <a:prstGeom prst="wedgeRoundRectCallout">
            <a:avLst>
              <a:gd name="adj1" fmla="val 97902"/>
              <a:gd name="adj2" fmla="val -474583"/>
              <a:gd name="adj3" fmla="val 16667"/>
            </a:avLst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二次项系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&gt;0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开口都向上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称轴都是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增减性也相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70800" y="238608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97520" y="4062240"/>
            <a:ext cx="1276560" cy="777960"/>
          </a:xfrm>
          <a:prstGeom prst="wedgeRectCallout">
            <a:avLst>
              <a:gd name="adj1" fmla="val 17787"/>
              <a:gd name="adj2" fmla="val -237550"/>
            </a:avLst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顶点都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原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0,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2408400"/>
            <a:ext cx="2398680" cy="1307880"/>
          </a:xfrm>
          <a:prstGeom prst="wedgeEllipseCallout">
            <a:avLst>
              <a:gd name="adj1" fmla="val -48939"/>
              <a:gd name="adj2" fmla="val 210314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象形状与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=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一样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仍是抛物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152280"/>
            <a:ext cx="4348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是什么形状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与二次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有什么相同和不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的开口方向、对称轴和顶点坐标分别是什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775560" y="260280"/>
                <a:ext cx="723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7238880" y="3048120"/>
            <a:ext cx="1276560" cy="777600"/>
          </a:xfrm>
          <a:prstGeom prst="wedgeRectCallout">
            <a:avLst>
              <a:gd name="adj1" fmla="val -71143"/>
              <a:gd name="adj2" fmla="val -317550"/>
            </a:avLst>
          </a:prstGeom>
          <a:solidFill>
            <a:srgbClr val="00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只是开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大小不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50133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想一想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二次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-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-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会是什么样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763120" y="602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228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9440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937120" y="533520"/>
            <a:ext cx="152640" cy="6324480"/>
            <a:chOff x="5937120" y="533520"/>
            <a:chExt cx="152640" cy="6324480"/>
          </a:xfrm>
        </p:grpSpPr>
        <p:sp>
          <p:nvSpPr>
            <p:cNvPr id="311" name=""/>
            <p:cNvSpPr/>
            <p:nvPr/>
          </p:nvSpPr>
          <p:spPr>
            <a:xfrm flipV="1">
              <a:off x="5937120" y="533520"/>
              <a:ext cx="0" cy="632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37120" y="64008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37120" y="5867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7120" y="5334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37120" y="4800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371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37120" y="3581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37120" y="29718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37120" y="2362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7120" y="17524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37120" y="11430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5324400" y="5265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68760" y="728640"/>
            <a:ext cx="2667240" cy="5638680"/>
          </a:xfrm>
          <a:custGeom>
            <a:avLst/>
            <a:gdLst/>
            <a:ahLst/>
            <a:rect l="l" t="t" r="r" b="b"/>
            <a:pathLst>
              <a:path w="2448" h="3504">
                <a:moveTo>
                  <a:pt x="0" y="0"/>
                </a:moveTo>
                <a:cubicBezTo>
                  <a:pt x="420" y="1752"/>
                  <a:pt x="840" y="3504"/>
                  <a:pt x="1248" y="3504"/>
                </a:cubicBezTo>
                <a:cubicBezTo>
                  <a:pt x="1656" y="3504"/>
                  <a:pt x="2052" y="1752"/>
                  <a:pt x="2448" y="0"/>
                </a:cubicBez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348000" y="6273720"/>
            <a:ext cx="5333760" cy="152280"/>
            <a:chOff x="3348000" y="6273720"/>
            <a:chExt cx="5333760" cy="152280"/>
          </a:xfrm>
        </p:grpSpPr>
        <p:sp>
          <p:nvSpPr>
            <p:cNvPr id="325" name=""/>
            <p:cNvSpPr/>
            <p:nvPr/>
          </p:nvSpPr>
          <p:spPr>
            <a:xfrm>
              <a:off x="3348000" y="6426000"/>
              <a:ext cx="533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8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720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1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14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054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95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860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008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766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161120" y="137628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13480" y="5985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37120" y="382428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76760" y="170028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6760" y="5985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2400" y="5265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57840" y="37893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81840" y="16286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84720" y="64911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59280" y="64911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64911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48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13480" y="5624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73840" y="6491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21480" y="6491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61480" y="64911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7640" y="648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13480" y="5121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13480" y="46162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13480" y="4076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13480" y="34290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13480" y="28162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13480" y="22417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13480" y="1628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13480" y="1052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66800" y="152712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78040" y="21589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52640" y="1339920"/>
            <a:ext cx="459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63086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123336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+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是什么形状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的开口方向、对称轴和顶点坐标分别是什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有什么相同和不同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95280" y="333360"/>
            <a:ext cx="3581280" cy="685800"/>
            <a:chOff x="395280" y="333360"/>
            <a:chExt cx="3581280" cy="685800"/>
          </a:xfrm>
        </p:grpSpPr>
        <p:grpSp>
          <p:nvGrpSpPr>
            <p:cNvPr id="366" name=""/>
            <p:cNvGrpSpPr/>
            <p:nvPr/>
          </p:nvGrpSpPr>
          <p:grpSpPr>
            <a:xfrm>
              <a:off x="395280" y="379440"/>
              <a:ext cx="2361960" cy="522720"/>
              <a:chOff x="395280" y="379440"/>
              <a:chExt cx="2361960" cy="522720"/>
            </a:xfrm>
          </p:grpSpPr>
          <p:sp>
            <p:nvSpPr>
              <p:cNvPr id="367" name=""/>
              <p:cNvSpPr/>
              <p:nvPr/>
            </p:nvSpPr>
            <p:spPr>
              <a:xfrm>
                <a:off x="395280" y="381600"/>
                <a:ext cx="236196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议一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74840" y="37944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2757240" y="33336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95280" y="48564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613480" y="5985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81840" y="16286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57840" y="37893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2400" y="5265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6760" y="5985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5840" y="627372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37120" y="382428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76760" y="170028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19640" y="5445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5445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1352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98440" y="106056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16923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08720" y="40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4640" y="643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937120" y="533520"/>
            <a:ext cx="152640" cy="6324480"/>
            <a:chOff x="5937120" y="533520"/>
            <a:chExt cx="152640" cy="6324480"/>
          </a:xfrm>
        </p:grpSpPr>
        <p:sp>
          <p:nvSpPr>
            <p:cNvPr id="387" name=""/>
            <p:cNvSpPr/>
            <p:nvPr/>
          </p:nvSpPr>
          <p:spPr>
            <a:xfrm flipV="1">
              <a:off x="5937120" y="533520"/>
              <a:ext cx="0" cy="632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7120" y="64008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7120" y="5867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37120" y="5334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7120" y="4800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371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37120" y="35812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37120" y="29718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2362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37120" y="17524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37120" y="11430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324400" y="5265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728640"/>
            <a:ext cx="2666880" cy="5638680"/>
          </a:xfrm>
          <a:custGeom>
            <a:avLst/>
            <a:gdLst/>
            <a:ahLst/>
            <a:rect l="l" t="t" r="r" b="b"/>
            <a:pathLst>
              <a:path w="2448" h="3504">
                <a:moveTo>
                  <a:pt x="0" y="0"/>
                </a:moveTo>
                <a:cubicBezTo>
                  <a:pt x="420" y="1752"/>
                  <a:pt x="840" y="3504"/>
                  <a:pt x="1248" y="3504"/>
                </a:cubicBezTo>
                <a:cubicBezTo>
                  <a:pt x="1656" y="3504"/>
                  <a:pt x="2052" y="1752"/>
                  <a:pt x="2448" y="0"/>
                </a:cubicBez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348000" y="6273720"/>
            <a:ext cx="5333760" cy="152280"/>
            <a:chOff x="3348000" y="6273720"/>
            <a:chExt cx="5333760" cy="152280"/>
          </a:xfrm>
        </p:grpSpPr>
        <p:sp>
          <p:nvSpPr>
            <p:cNvPr id="401" name=""/>
            <p:cNvSpPr/>
            <p:nvPr/>
          </p:nvSpPr>
          <p:spPr>
            <a:xfrm>
              <a:off x="3348000" y="6426000"/>
              <a:ext cx="533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38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20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1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914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054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9556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860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0088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6600" y="62737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7018200" y="214776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0320" y="6419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0" y="6434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64483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84720" y="643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94400" y="57196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02280" y="6462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21480" y="6448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132760" y="64627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92800" y="64468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13480" y="5121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13480" y="46162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13480" y="4076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13480" y="34290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3480" y="28162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13480" y="22417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13480" y="1628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13480" y="1052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8800" y="1527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70040" y="21589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76360" y="5796000"/>
            <a:ext cx="792000" cy="9856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5796000"/>
            <a:ext cx="792000" cy="9856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528804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528804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76360" y="478008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360" y="478008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76360" y="427212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4360" y="4272120"/>
            <a:ext cx="792000" cy="50796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3772080"/>
            <a:ext cx="792000" cy="5000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3772080"/>
            <a:ext cx="792000" cy="5000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76360" y="3268800"/>
            <a:ext cx="792000" cy="5032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4360" y="3268800"/>
            <a:ext cx="792000" cy="5032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76360" y="2763720"/>
            <a:ext cx="792000" cy="5050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4360" y="2763720"/>
            <a:ext cx="792000" cy="5050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76360" y="1684440"/>
            <a:ext cx="792000" cy="10792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4360" y="1684440"/>
            <a:ext cx="792000" cy="10792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168444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276372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326880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377208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427212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478008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360" y="528804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579600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678168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4360" y="1684440"/>
            <a:ext cx="0" cy="509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1684440"/>
            <a:ext cx="0" cy="509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68360" y="1684440"/>
            <a:ext cx="0" cy="509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4360" y="6272280"/>
            <a:ext cx="15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4360" y="2168640"/>
            <a:ext cx="158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47280" y="620064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0000" y="116064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125360"/>
            <a:ext cx="144360" cy="14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72360" y="4689360"/>
            <a:ext cx="142920" cy="14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59640" y="3141720"/>
            <a:ext cx="144360" cy="142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5805360"/>
            <a:ext cx="142920" cy="14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27640" y="4724280"/>
            <a:ext cx="142920" cy="14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40360" y="3176640"/>
            <a:ext cx="142920" cy="144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260280"/>
            <a:ext cx="2666880" cy="5639040"/>
          </a:xfrm>
          <a:custGeom>
            <a:avLst/>
            <a:gdLst/>
            <a:ahLst/>
            <a:rect l="l" t="t" r="r" b="b"/>
            <a:pathLst>
              <a:path w="2448" h="3504">
                <a:moveTo>
                  <a:pt x="0" y="0"/>
                </a:moveTo>
                <a:cubicBezTo>
                  <a:pt x="420" y="1752"/>
                  <a:pt x="840" y="3504"/>
                  <a:pt x="1248" y="3504"/>
                </a:cubicBezTo>
                <a:cubicBezTo>
                  <a:pt x="1656" y="3504"/>
                  <a:pt x="2052" y="1752"/>
                  <a:pt x="2448" y="0"/>
                </a:cubicBezTo>
              </a:path>
            </a:pathLst>
          </a:custGeom>
          <a:noFill/>
          <a:ln w="4428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3440" y="6048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=2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620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  <p:sndAc>
      <p:stSnd>
        <p:snd r:embed="rId2" name="wind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8T02:17:46Z</dcterms:modified>
  <cp:revision>68</cp:revision>
  <dc:subject/>
  <dc:title>PowerPoint Presentation</dc:title>
</cp:coreProperties>
</file>