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chime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type.wav" ContentType="audio/x-wav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CAF-C8CE-4672-8A77-151089E3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4E9-3085-4978-9CA8-833B69B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299-56A6-4BD9-AD92-0DFAA2AE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193-86D5-4FC1-8000-56ED0B79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C480-613A-4E8C-90EC-6FBD62F7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811-7204-45FD-A6D4-B9CD448C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03CC-F0EE-4376-A792-750F776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4D72-928E-41FA-86EF-244A0C4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25E5-FC09-43D1-AE49-8A77397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7B21-3839-48D2-9790-C3DD7C02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E816-2B25-43B1-A8AC-424120A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294-0EB7-4D4E-BB57-A63CF0A8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3478-07B3-4A5D-9564-908D6292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9EF3-6E6F-4699-8E5A-BC6BC6B9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4AAC-DAD5-48B8-8432-64998373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9C86-60EF-494B-B88D-2526168D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7F96-2362-4C75-9D4C-CA3A8487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C7C-A466-4471-9944-15A0243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2FD-2CF1-4F6B-BE89-98345858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C09-96E3-4354-92D2-0C7581E7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4EC-328B-4DBE-BB80-A91E4EC1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327-4FD7-48DC-8F80-3616A75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F08-435E-40E6-8A5E-B5EACE8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D5C-E5AE-46F0-AB23-26D240A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764-C8C6-45D1-ABD5-1C45497FB19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0971-C143-4B1B-BBCB-549699904F38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" Target="slide8.xml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G:/kj2s0006/&#20108;&#27425;&#20989;&#25968;1.exe" TargetMode="External"/><Relationship Id="rId2" Type="http://schemas.openxmlformats.org/officeDocument/2006/relationships/hyperlink" Target="file:///G:/kj2s0006/&#20108;&#27425;&#20989;&#25968;1.exe" TargetMode="External"/><Relationship Id="rId3" Type="http://schemas.openxmlformats.org/officeDocument/2006/relationships/hyperlink" Target="file:///G:/kj2s0006/&#20108;&#27425;&#20989;&#25968;1.exe" TargetMode="External"/><Relationship Id="rId4" Type="http://schemas.openxmlformats.org/officeDocument/2006/relationships/hyperlink" Target="file:///G:/kj2s0006/&#20108;&#27425;&#20989;&#25968;1.exe" TargetMode="External"/><Relationship Id="rId5" Type="http://schemas.openxmlformats.org/officeDocument/2006/relationships/hyperlink" Target="file:///G:/kj2s0006/&#20108;&#27425;&#20989;&#25968;1.exe" TargetMode="External"/><Relationship Id="rId6" Type="http://schemas.openxmlformats.org/officeDocument/2006/relationships/hyperlink" Target="file:///G:/kj2s0006/&#20108;&#27425;&#20989;&#25968;1.exe" TargetMode="External"/><Relationship Id="rId7" Type="http://schemas.openxmlformats.org/officeDocument/2006/relationships/hyperlink" Target="file:///G:/kj2s0006/&#20108;&#27425;&#20989;&#25968;1.exe" TargetMode="External"/><Relationship Id="rId8" Type="http://schemas.openxmlformats.org/officeDocument/2006/relationships/hyperlink" Target="file:///G:/kj2s0006/&#20108;&#27425;&#20989;&#25968;1.exe" TargetMode="Externa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G:/kj2s0006/&#20108;&#27425;&#20989;&#25968;1.exe" TargetMode="External"/><Relationship Id="rId2" Type="http://schemas.openxmlformats.org/officeDocument/2006/relationships/hyperlink" Target="file:///G:/kj2s0006/&#20108;&#27425;&#20989;&#25968;1.exe" TargetMode="External"/><Relationship Id="rId3" Type="http://schemas.openxmlformats.org/officeDocument/2006/relationships/hyperlink" Target="file:///G:/kj2s0006/&#20108;&#27425;&#20989;&#25968;1.exe" TargetMode="External"/><Relationship Id="rId4" Type="http://schemas.openxmlformats.org/officeDocument/2006/relationships/hyperlink" Target="file:///G:/kj2s0006/&#20108;&#27425;&#20989;&#25968;1.exe" TargetMode="External"/><Relationship Id="rId5" Type="http://schemas.openxmlformats.org/officeDocument/2006/relationships/hyperlink" Target="file:///G:/kj2s0006/&#20108;&#27425;&#20989;&#25968;1.exe" TargetMode="External"/><Relationship Id="rId6" Type="http://schemas.openxmlformats.org/officeDocument/2006/relationships/hyperlink" Target="file:///G:/kj2s0006/&#20108;&#27425;&#20989;&#25968;1.exe" TargetMode="External"/><Relationship Id="rId7" Type="http://schemas.openxmlformats.org/officeDocument/2006/relationships/hyperlink" Target="file:///G:/kj2s0006/&#20108;&#27425;&#20989;&#25968;1.exe" TargetMode="External"/><Relationship Id="rId8" Type="http://schemas.openxmlformats.org/officeDocument/2006/relationships/hyperlink" Target="file:///G:/kj2s0006/&#20108;&#27425;&#20989;&#25968;1.exe" TargetMode="External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3520" y="137160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二次函数</a:t>
            </a:r>
            <a:endParaRPr b="1" lang="en-US" sz="4800" spc="1" strike="noStrike">
              <a:ln w="0">
                <a:noFill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708280"/>
            <a:ext cx="88930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第四节 二次函数</a:t>
            </a:r>
            <a:r>
              <a:rPr b="1" i="1" lang="zh-CN" sz="4000" spc="-1" strike="noStrike">
                <a:solidFill>
                  <a:srgbClr val="0066cc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=</a:t>
            </a:r>
            <a:r>
              <a:rPr b="1" i="1" lang="zh-CN" sz="4000" spc="-1" strike="noStrike">
                <a:solidFill>
                  <a:srgbClr val="0066cc"/>
                </a:solidFill>
                <a:latin typeface="Times New Roman"/>
              </a:rPr>
              <a:t>ax</a:t>
            </a:r>
            <a:r>
              <a:rPr b="1" lang="zh-CN" sz="4000" spc="-1" strike="noStrike" baseline="30000">
                <a:solidFill>
                  <a:srgbClr val="0066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+</a:t>
            </a:r>
            <a:r>
              <a:rPr b="1" i="1" lang="zh-CN" sz="4000" spc="-1" strike="noStrike">
                <a:solidFill>
                  <a:srgbClr val="0066cc"/>
                </a:solidFill>
                <a:latin typeface="Times New Roman"/>
              </a:rPr>
              <a:t>bx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+</a:t>
            </a:r>
            <a:r>
              <a:rPr b="1" i="1" lang="zh-CN" sz="4000" spc="-1" strike="noStrike">
                <a:solidFill>
                  <a:srgbClr val="0066cc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的图象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二</a:t>
            </a: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640" y="1341360"/>
            <a:ext cx="7620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二次函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00000" y="3284640"/>
            <a:ext cx="7344000" cy="1368360"/>
          </a:xfrm>
          <a:prstGeom prst="rect">
            <a:avLst/>
          </a:prstGeom>
          <a:solidFill>
            <a:srgbClr val="ffff00"/>
          </a:solidFill>
          <a:ln cap="sq"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你还能发现它的图象与各坐标轴的交点是什么吗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-27000"/>
            <a:ext cx="88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试一试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：分析函数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y=3x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Tahoma"/>
              </a:rPr>
              <a:t>²- 6x+5 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的图象</a:t>
            </a:r>
            <a:r>
              <a:rPr b="0" lang="zh-CN" sz="4000" spc="-1" strike="noStrike">
                <a:solidFill>
                  <a:srgbClr val="0066cc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71640" y="960480"/>
            <a:ext cx="342900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ff00"/>
                </a:solidFill>
                <a:latin typeface="华文彩云"/>
              </a:rPr>
              <a:t>拓展与延伸</a:t>
            </a:r>
            <a:endParaRPr b="0" lang="en-US" sz="2400" spc="1" strike="noStrike">
              <a:ln w="9360">
                <a:solidFill>
                  <a:srgbClr val="66ccff"/>
                </a:solidFill>
                <a:miter/>
              </a:ln>
              <a:solidFill>
                <a:srgbClr val="ffff00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920" y="765000"/>
            <a:ext cx="8763120" cy="1366920"/>
          </a:xfrm>
          <a:prstGeom prst="rect">
            <a:avLst/>
          </a:prstGeom>
          <a:noFill/>
          <a:ln cap="sq"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黑体"/>
              </a:rPr>
              <a:t>你能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配方法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黑体"/>
              </a:rPr>
              <a:t>确定下列二次函数图象的对称轴和顶点坐标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1159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Arial"/>
                <a:ea typeface="黑体"/>
              </a:rPr>
              <a:t>练一练，马到功成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4365720"/>
            <a:ext cx="8762760" cy="1366920"/>
          </a:xfrm>
          <a:prstGeom prst="rect">
            <a:avLst/>
          </a:prstGeom>
          <a:noFill/>
          <a:ln cap="sq"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黑体"/>
              </a:rPr>
              <a:t>如果每次都采取“配方”，岂不是很麻烦？有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更好的办法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黑体"/>
              </a:rPr>
              <a:t>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8360" y="2133720"/>
                <a:ext cx="3633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079880" y="2133720"/>
                <a:ext cx="4978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46240" y="3357720"/>
                <a:ext cx="3311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152960" y="3430440"/>
                <a:ext cx="4510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00" y="620640"/>
            <a:ext cx="88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：求二次函数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y=ax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Tahoma"/>
              </a:rPr>
              <a:t>²+bx+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对称轴和顶点坐标．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1989000"/>
            <a:ext cx="8991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般地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对于二次函数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y=ax²+bx+c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可以利用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配方法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推导出它的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对称轴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顶点坐标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0592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67888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770724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159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Arial"/>
                <a:ea typeface="黑体"/>
              </a:rPr>
              <a:t>想一想，马到功成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8000" y="620640"/>
            <a:ext cx="903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求二次函数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y=ax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Tahoma"/>
              </a:rPr>
              <a:t>²</a:t>
            </a: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Tahoma"/>
              </a:rPr>
              <a:t>+bx+c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对称轴和顶点坐标．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870440" y="1197000"/>
                <a:ext cx="24382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73640" y="1844640"/>
                <a:ext cx="27194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95280" y="2133720"/>
            <a:ext cx="32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提取二次项系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332240" y="2997360"/>
                <a:ext cx="45608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x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08000" y="3059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配方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加上再减去一次项系数绝对值一半的平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356000" y="4145040"/>
                <a:ext cx="33530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179280" y="429264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整理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三项化为平方形式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两项合并同类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5166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化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去掉中括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997440" y="5272200"/>
                <a:ext cx="37288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79280" y="1159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Arial"/>
                <a:ea typeface="黑体"/>
              </a:rPr>
              <a:t>想一想，马到功成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4200" y="112536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解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1197000"/>
            <a:ext cx="0" cy="566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6920" y="1413000"/>
            <a:ext cx="3384720" cy="936360"/>
          </a:xfrm>
          <a:prstGeom prst="rect">
            <a:avLst/>
          </a:prstGeom>
          <a:solidFill>
            <a:srgbClr val="ffff00"/>
          </a:soli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顶点坐标公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890640" y="2894040"/>
                <a:ext cx="29829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是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5016600" y="2852640"/>
                <a:ext cx="3084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顶点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92600" y="1422360"/>
                <a:ext cx="3335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826920" y="115920"/>
            <a:ext cx="788544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次函数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y=ax²+bx+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图象是一条抛物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000" y="9079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根据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公式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确定下列二次函数图象的对称轴和顶点坐标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8680" y="2276640"/>
                <a:ext cx="38401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140360" y="2205000"/>
                <a:ext cx="48369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8920" y="3573360"/>
                <a:ext cx="361944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52960" y="3573360"/>
                <a:ext cx="45100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79280" y="11592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Arial"/>
                <a:ea typeface="黑体"/>
              </a:rPr>
              <a:t>练一练，马到功成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907920"/>
            <a:ext cx="9144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条钢缆具有相同的抛物线形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按照图中的直角坐标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左面的一条抛物线可以用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</a:rPr>
              <a:t>y=0.0225x²+0.9x+10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表示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而且左右两条抛物线关于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轴对称．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0840" y="189000"/>
            <a:ext cx="6815160" cy="64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1"/>
              </a:rPr>
              <a:t>函数</a:t>
            </a: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2"/>
              </a:rPr>
              <a:t>y=a</a:t>
            </a: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3"/>
              </a:rPr>
              <a:t>x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4"/>
              </a:rPr>
              <a:t>2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5"/>
              </a:rPr>
              <a:t>+b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6"/>
              </a:rPr>
              <a:t>x+c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7"/>
              </a:rPr>
              <a:t>(a≠0)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8"/>
              </a:rPr>
              <a:t>的应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8000" y="260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链接生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5364000" y="2492280"/>
            <a:ext cx="3745080" cy="20890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434880" y="2166480"/>
            <a:ext cx="5649840" cy="3567600"/>
            <a:chOff x="434880" y="2166480"/>
            <a:chExt cx="5649840" cy="3567600"/>
          </a:xfrm>
        </p:grpSpPr>
        <p:sp>
          <p:nvSpPr>
            <p:cNvPr id="247" name=""/>
            <p:cNvSpPr/>
            <p:nvPr/>
          </p:nvSpPr>
          <p:spPr>
            <a:xfrm rot="7607400">
              <a:off x="968040" y="2526120"/>
              <a:ext cx="2091240" cy="23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0" y="99"/>
                  </a:moveTo>
                  <a:arcTo wR="10800" hR="10800" stAng="-5866081" swAng="7079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0" y="99"/>
                  </a:moveTo>
                  <a:arcTo wR="10800" hR="10800" stAng="-5866081" swAng="7079163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900000" y="2180160"/>
              <a:ext cx="5184720" cy="3553920"/>
              <a:chOff x="900000" y="2180160"/>
              <a:chExt cx="5184720" cy="35539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85800" y="4842000"/>
                <a:ext cx="269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桥面    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-5 0    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76560" y="2982960"/>
                <a:ext cx="0" cy="2751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402000" y="475092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2752560" y="475092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60720" y="3041640"/>
                <a:ext cx="11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Y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35680" y="4917960"/>
                <a:ext cx="104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x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00000" y="4941720"/>
                <a:ext cx="49672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590920" y="390852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94200" y="466092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94200" y="431640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992600">
                <a:off x="3091320" y="2540160"/>
                <a:ext cx="2091960" cy="237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40" y="99"/>
                    </a:moveTo>
                    <a:arcTo wR="10800" hR="10800" stAng="-5866081" swAng="7079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40" y="99"/>
                    </a:moveTo>
                    <a:arcTo wR="10800" hR="10800" stAng="-5866081" swAng="7079163"/>
                  </a:path>
                </a:pathLst>
              </a:cu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20840" y="189000"/>
            <a:ext cx="6815160" cy="64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1"/>
              </a:rPr>
              <a:t>函数</a:t>
            </a: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2"/>
              </a:rPr>
              <a:t>y=a</a:t>
            </a:r>
            <a:r>
              <a:rPr b="0" lang="zh-CN" sz="4000" spc="-1" strike="noStrike" u="sng">
                <a:solidFill>
                  <a:srgbClr val="ffffcc"/>
                </a:solidFill>
                <a:uFillTx/>
                <a:latin typeface="黑体"/>
                <a:ea typeface="黑体"/>
                <a:hlinkClick r:id="rId3"/>
              </a:rPr>
              <a:t>x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4"/>
              </a:rPr>
              <a:t>2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5"/>
              </a:rPr>
              <a:t>+b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6"/>
              </a:rPr>
              <a:t>x+c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7"/>
              </a:rPr>
              <a:t>(a≠0)</a:t>
            </a:r>
            <a:r>
              <a:rPr b="0" lang="zh-CN" sz="4000" spc="-1" strike="noStrike" u="sng" baseline="30000">
                <a:solidFill>
                  <a:srgbClr val="ffffcc"/>
                </a:solidFill>
                <a:uFillTx/>
                <a:latin typeface="黑体"/>
                <a:ea typeface="黑体"/>
                <a:hlinkClick r:id="rId8"/>
              </a:rPr>
              <a:t>的应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8000" y="260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链接生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2" name=""/>
          <p:cNvSpPr/>
          <p:nvPr/>
        </p:nvSpPr>
        <p:spPr>
          <a:xfrm>
            <a:off x="3313080" y="484200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桥面     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-5 0   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803840" y="2982960"/>
            <a:ext cx="0" cy="2751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129280" y="4750920"/>
            <a:ext cx="0" cy="195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479840" y="4750920"/>
            <a:ext cx="0" cy="195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04164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/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62600" y="491796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/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7280" y="4941720"/>
            <a:ext cx="4967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7840" y="3908520"/>
            <a:ext cx="7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21120" y="4660920"/>
            <a:ext cx="163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21120" y="4316400"/>
            <a:ext cx="163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7607400">
            <a:off x="2695680" y="2525760"/>
            <a:ext cx="2091240" cy="23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0" y="99"/>
                </a:moveTo>
                <a:arcTo wR="10800" hR="10800" stAng="-5866081" swAng="7079163"/>
                <a:lnTo>
                  <a:pt x="10800" y="10800"/>
                </a:lnTo>
                <a:close/>
              </a:path>
              <a:path fill="none" w="21600" h="21600">
                <a:moveTo>
                  <a:pt x="9340" y="99"/>
                </a:moveTo>
                <a:arcTo wR="10800" hR="10800" stAng="-5866081" swAng="707916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31920" y="973080"/>
            <a:ext cx="7588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钢缆的最低点到桥面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⑵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两条钢缆最低点之间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是怎样计算的？与同伴交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1680" y="3556080"/>
                <a:ext cx="3946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H="1" rot="13992600">
            <a:off x="4799160" y="2524320"/>
            <a:ext cx="2091960" cy="238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40" y="99"/>
                </a:moveTo>
                <a:arcTo wR="10800" hR="10800" stAng="-5866081" swAng="7079163"/>
                <a:lnTo>
                  <a:pt x="10800" y="10800"/>
                </a:lnTo>
                <a:close/>
              </a:path>
              <a:path fill="none" w="21600" h="21600">
                <a:moveTo>
                  <a:pt x="9340" y="99"/>
                </a:moveTo>
                <a:arcTo wR="10800" hR="10800" stAng="-5866081" swAng="707916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0" y="1773360"/>
                <a:ext cx="346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146160" y="692280"/>
            <a:ext cx="88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可以将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0.0225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0.9x+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配方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求得顶点坐标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从而获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钢缆的最低点到桥面的距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50920" y="2230560"/>
                <a:ext cx="362880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0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0920" y="3068640"/>
                <a:ext cx="51433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0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43000" y="3906720"/>
                <a:ext cx="34653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50920" y="4821120"/>
                <a:ext cx="2841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50920" y="5354640"/>
                <a:ext cx="52880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这条抛物线的顶点坐标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50920" y="5838840"/>
                <a:ext cx="631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此可知桥面最低点到桥面的距离是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611280" y="189000"/>
            <a:ext cx="75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钢缆的最低点到桥面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75240" y="2093400"/>
            <a:ext cx="5649840" cy="3567600"/>
            <a:chOff x="3675240" y="2093400"/>
            <a:chExt cx="5649840" cy="3567600"/>
          </a:xfrm>
        </p:grpSpPr>
        <p:sp>
          <p:nvSpPr>
            <p:cNvPr id="286" name=""/>
            <p:cNvSpPr/>
            <p:nvPr/>
          </p:nvSpPr>
          <p:spPr>
            <a:xfrm rot="7607400">
              <a:off x="4208400" y="2453040"/>
              <a:ext cx="2091240" cy="23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0" y="99"/>
                  </a:moveTo>
                  <a:arcTo wR="10800" hR="10800" stAng="-5866081" swAng="7079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0" y="99"/>
                  </a:moveTo>
                  <a:arcTo wR="10800" hR="10800" stAng="-5866081" swAng="7079163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4140360" y="2107080"/>
              <a:ext cx="5184720" cy="3553920"/>
              <a:chOff x="4140360" y="2107080"/>
              <a:chExt cx="5184720" cy="3553920"/>
            </a:xfrm>
          </p:grpSpPr>
          <p:sp>
            <p:nvSpPr>
              <p:cNvPr id="288" name=""/>
              <p:cNvSpPr/>
              <p:nvPr/>
            </p:nvSpPr>
            <p:spPr>
              <a:xfrm>
                <a:off x="4826160" y="4768920"/>
                <a:ext cx="269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桥面    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-5 0    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6316920" y="2909880"/>
                <a:ext cx="0" cy="2751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6642360" y="467784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5992920" y="467784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01080" y="2968560"/>
                <a:ext cx="11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Y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76040" y="4844880"/>
                <a:ext cx="104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x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40360" y="4868640"/>
                <a:ext cx="49672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31280" y="383544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34560" y="458784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34560" y="424332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3992600">
                <a:off x="6331680" y="2467080"/>
                <a:ext cx="2091960" cy="237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40" y="99"/>
                    </a:moveTo>
                    <a:arcTo wR="10800" hR="10800" stAng="-5866081" swAng="7079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40" y="99"/>
                    </a:moveTo>
                    <a:arcTo wR="10800" hR="10800" stAng="-5866081" swAng="7079163"/>
                  </a:path>
                </a:pathLst>
              </a:cu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675240" y="2093400"/>
            <a:ext cx="5649840" cy="3567600"/>
            <a:chOff x="3675240" y="2093400"/>
            <a:chExt cx="5649840" cy="3567600"/>
          </a:xfrm>
        </p:grpSpPr>
        <p:sp>
          <p:nvSpPr>
            <p:cNvPr id="300" name=""/>
            <p:cNvSpPr/>
            <p:nvPr/>
          </p:nvSpPr>
          <p:spPr>
            <a:xfrm rot="7607400">
              <a:off x="4208400" y="2453040"/>
              <a:ext cx="2091240" cy="23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0" y="99"/>
                  </a:moveTo>
                  <a:arcTo wR="10800" hR="10800" stAng="-5866081" swAng="7079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0" y="99"/>
                  </a:moveTo>
                  <a:arcTo wR="10800" hR="10800" stAng="-5866081" swAng="7079163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140360" y="2107080"/>
              <a:ext cx="5184720" cy="3553920"/>
              <a:chOff x="4140360" y="2107080"/>
              <a:chExt cx="5184720" cy="3553920"/>
            </a:xfrm>
          </p:grpSpPr>
          <p:sp>
            <p:nvSpPr>
              <p:cNvPr id="302" name=""/>
              <p:cNvSpPr/>
              <p:nvPr/>
            </p:nvSpPr>
            <p:spPr>
              <a:xfrm>
                <a:off x="4826160" y="4768920"/>
                <a:ext cx="269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桥面    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-5 0    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6316920" y="2909880"/>
                <a:ext cx="0" cy="2751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6642360" y="467784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992920" y="467784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01080" y="2968560"/>
                <a:ext cx="11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Y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276040" y="4844880"/>
                <a:ext cx="104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x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40360" y="4868640"/>
                <a:ext cx="49672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31280" y="383544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334560" y="458784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334560" y="424332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3992600">
                <a:off x="6331680" y="2467080"/>
                <a:ext cx="2091960" cy="237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40" y="99"/>
                    </a:moveTo>
                    <a:arcTo wR="10800" hR="10800" stAng="-5866081" swAng="7079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40" y="99"/>
                    </a:moveTo>
                    <a:arcTo wR="10800" hR="10800" stAng="-5866081" swAng="7079163"/>
                  </a:path>
                </a:pathLst>
              </a:cu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539640" y="44280"/>
            <a:ext cx="758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⑵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两条钢缆最低点之间的距离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58720" y="765000"/>
                <a:ext cx="806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两条钢缆最低点之间的距离为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68360" y="2781360"/>
                <a:ext cx="446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你还有别的解法吗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06800" y="4428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耐心填一填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44280"/>
            <a:ext cx="139680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108000" y="1197000"/>
          <a:ext cx="8915400" cy="4794120"/>
        </p:xfrm>
        <a:graphic>
          <a:graphicData uri="http://schemas.openxmlformats.org/drawingml/2006/table">
            <a:tbl>
              <a:tblPr/>
              <a:tblGrid>
                <a:gridCol w="2133720"/>
                <a:gridCol w="822240"/>
                <a:gridCol w="2073240"/>
                <a:gridCol w="1733760"/>
                <a:gridCol w="2152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cc"/>
                          </a:solidFill>
                          <a:latin typeface="黑体"/>
                          <a:ea typeface="黑体"/>
                        </a:rPr>
                        <a:t>函数表达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cc"/>
                          </a:solidFill>
                          <a:latin typeface="黑体"/>
                          <a:ea typeface="黑体"/>
                        </a:rPr>
                        <a:t>开口方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cc"/>
                          </a:solidFill>
                          <a:latin typeface="黑体"/>
                          <a:ea typeface="黑体"/>
                        </a:rPr>
                        <a:t>增减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cc"/>
                          </a:solidFill>
                          <a:latin typeface="黑体"/>
                          <a:ea typeface="黑体"/>
                        </a:rPr>
                        <a:t>对称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66cc"/>
                          </a:solidFill>
                          <a:latin typeface="黑体"/>
                          <a:ea typeface="黑体"/>
                        </a:rPr>
                        <a:t>顶点坐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36480" y="2124000"/>
                <a:ext cx="1098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7880" y="2962440"/>
                <a:ext cx="16192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7880" y="3787920"/>
                <a:ext cx="15922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2324160" y="2637000"/>
            <a:ext cx="90324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a&gt;0,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开口向上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a&lt;0,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开口向下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261040" y="2274840"/>
                <a:ext cx="1700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545240" y="2181240"/>
                <a:ext cx="685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54640" y="3125880"/>
                <a:ext cx="16066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轴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456320" y="3005280"/>
                <a:ext cx="711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437080" y="3938760"/>
                <a:ext cx="1228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545240" y="3878280"/>
                <a:ext cx="6858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9280" y="464508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246640" y="4702320"/>
                <a:ext cx="16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直线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262640" y="4678200"/>
                <a:ext cx="1425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303720" y="2131920"/>
            <a:ext cx="182880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a&gt;0,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在对称轴左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y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都随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x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而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减小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在对称轴右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y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都随 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x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而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.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a&lt;0,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在对称轴左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y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都随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x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而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在对称轴右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,y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都随 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x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增大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而</a:t>
            </a: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减小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0066cc"/>
                </a:solidFill>
                <a:latin typeface="黑体"/>
                <a:ea typeface="黑体"/>
              </a:rPr>
              <a:t>.</a:t>
            </a:r>
            <a:r>
              <a:rPr b="1" lang="zh-CN" sz="18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320" y="5711760"/>
            <a:ext cx="1295280" cy="1076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96920" y="836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想一想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知道图中右面钢缆的表达式是什么吗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79360" y="1917720"/>
                <a:ext cx="34671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19600" y="1916280"/>
                <a:ext cx="35974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0" name=""/>
          <p:cNvGrpSpPr/>
          <p:nvPr/>
        </p:nvGrpSpPr>
        <p:grpSpPr>
          <a:xfrm>
            <a:off x="1585800" y="1604520"/>
            <a:ext cx="5649840" cy="3567600"/>
            <a:chOff x="1585800" y="1604520"/>
            <a:chExt cx="5649840" cy="3567600"/>
          </a:xfrm>
        </p:grpSpPr>
        <p:sp>
          <p:nvSpPr>
            <p:cNvPr id="321" name=""/>
            <p:cNvSpPr/>
            <p:nvPr/>
          </p:nvSpPr>
          <p:spPr>
            <a:xfrm rot="7607400">
              <a:off x="2118960" y="1964160"/>
              <a:ext cx="2091240" cy="237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40" y="99"/>
                  </a:moveTo>
                  <a:arcTo wR="10800" hR="10800" stAng="-5866081" swAng="7079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9340" y="99"/>
                  </a:moveTo>
                  <a:arcTo wR="10800" hR="10800" stAng="-5866081" swAng="7079163"/>
                </a:path>
              </a:pathLst>
            </a:cu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2050920" y="1618200"/>
              <a:ext cx="5184720" cy="3553920"/>
              <a:chOff x="2050920" y="1618200"/>
              <a:chExt cx="5184720" cy="3553920"/>
            </a:xfrm>
          </p:grpSpPr>
          <p:sp>
            <p:nvSpPr>
              <p:cNvPr id="323" name=""/>
              <p:cNvSpPr/>
              <p:nvPr/>
            </p:nvSpPr>
            <p:spPr>
              <a:xfrm>
                <a:off x="2736720" y="4280040"/>
                <a:ext cx="269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桥面      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Tahoma"/>
                  </a:rPr>
                  <a:t>-5 0    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4227480" y="2421000"/>
                <a:ext cx="0" cy="27511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552920" y="418896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903480" y="4188960"/>
                <a:ext cx="0" cy="195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211640" y="2479680"/>
                <a:ext cx="11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Y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86600" y="4356000"/>
                <a:ext cx="104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x/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50920" y="4379760"/>
                <a:ext cx="49672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41840" y="3346560"/>
                <a:ext cx="75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245120" y="409896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45120" y="3754440"/>
                <a:ext cx="163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13992600">
                <a:off x="4242240" y="1978200"/>
                <a:ext cx="2091960" cy="2379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40" y="99"/>
                    </a:moveTo>
                    <a:arcTo wR="10800" hR="10800" stAng="-5866081" swAng="70791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40" y="99"/>
                    </a:moveTo>
                    <a:arcTo wR="10800" hR="10800" stAng="-5866081" swAng="7079163"/>
                  </a:path>
                </a:pathLst>
              </a:cu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4" name=""/>
          <p:cNvSpPr/>
          <p:nvPr/>
        </p:nvSpPr>
        <p:spPr>
          <a:xfrm>
            <a:off x="192240" y="-100080"/>
            <a:ext cx="344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课内拓展延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 rot="1138800">
            <a:off x="7207200" y="115920"/>
            <a:ext cx="18288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cc99"/>
                  </a:solidFill>
                  <a:miter/>
                </a:ln>
                <a:solidFill>
                  <a:srgbClr val="ffff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一题多变</a:t>
            </a:r>
            <a:endParaRPr b="1" lang="en-US" sz="2400" spc="1" strike="noStrike">
              <a:ln w="12600">
                <a:solidFill>
                  <a:srgbClr val="ffcc99"/>
                </a:solidFill>
                <a:miter/>
              </a:ln>
              <a:solidFill>
                <a:srgbClr val="ffff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83664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确定下列二次函数的开口方向、对称轴和顶点坐标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407664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当一枚火箭被竖直向上发射时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的高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h(m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与时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t(s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关系可以用公式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h=-5t²+150t+1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过多长时间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火箭到达它的最高点？最高点的高度是多少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68360" y="2060640"/>
                <a:ext cx="22114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987640" y="2060640"/>
                <a:ext cx="2925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12000" y="1989000"/>
                <a:ext cx="2868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95280" y="3141720"/>
                <a:ext cx="3235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427640" y="3068640"/>
                <a:ext cx="38782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 txBox="1"/>
          <p:nvPr/>
        </p:nvSpPr>
        <p:spPr>
          <a:xfrm>
            <a:off x="324000" y="115920"/>
            <a:ext cx="7632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知识的升华，练一练！注意方法的选择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16000" y="2924280"/>
            <a:ext cx="3384720" cy="760320"/>
          </a:xfrm>
          <a:prstGeom prst="rect">
            <a:avLst/>
          </a:prstGeom>
          <a:solidFill>
            <a:srgbClr val="ffff00"/>
          </a:soli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顶点坐标公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839880" y="4221000"/>
                <a:ext cx="35161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称轴是直线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041800" y="4289400"/>
                <a:ext cx="30337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顶点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92600" y="2778120"/>
                <a:ext cx="3335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826920" y="1552680"/>
            <a:ext cx="7885440" cy="1152360"/>
          </a:xfrm>
          <a:prstGeom prst="rect">
            <a:avLst/>
          </a:prstGeom>
          <a:solidFill>
            <a:srgbClr val="ffff00"/>
          </a:soli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次函数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y=ax²+bx+c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图象是一条抛物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78400" y="260280"/>
            <a:ext cx="20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谈一谈</a:t>
            </a: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你的收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39640" y="404640"/>
            <a:ext cx="8001000" cy="131292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想一想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函数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y=ax</a:t>
            </a:r>
            <a:r>
              <a:rPr b="1" lang="zh-CN" sz="40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+bx+c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y=ax</a:t>
            </a:r>
            <a:r>
              <a:rPr b="1" lang="zh-CN" sz="40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图象之间的关系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54936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836640"/>
            <a:ext cx="8937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相同点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: (1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形状相同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图象都是抛物线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开口方向相同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是轴对称图形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有最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大或小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值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4)a&gt;0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时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开口向上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对称轴左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y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随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增大而减小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对称轴右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y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随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增大而增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.  a&lt;0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时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开口向下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对称轴左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y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随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增大而增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在对称轴右侧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,y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都随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增大而减小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342900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不同点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: (1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位置不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顶点不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3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对称轴不同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最值不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联系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: y=a(x-h)²+k(a≠0)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图象可以看成将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y=ax²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的图象经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特定的平移后得到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155520"/>
            <a:ext cx="8458200" cy="6094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函数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y=ax</a:t>
            </a:r>
            <a:r>
              <a:rPr b="0" lang="zh-CN" sz="36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+bx+c(a≠0)</a:t>
            </a:r>
            <a:r>
              <a:rPr b="0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与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y=ax²</a:t>
            </a:r>
            <a:r>
              <a:rPr b="0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的关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000" y="917280"/>
            <a:ext cx="185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ccff"/>
                </a:solidFill>
                <a:latin typeface="黑体"/>
                <a:ea typeface="黑体"/>
              </a:rPr>
              <a:t>作业</a:t>
            </a:r>
            <a:r>
              <a:rPr b="0" lang="zh-CN" sz="4400" spc="-1" strike="noStrike">
                <a:solidFill>
                  <a:srgbClr val="66ccff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000" y="1909800"/>
            <a:ext cx="7343640" cy="15192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看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P50-P54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尝试利用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Z+Z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智能教育平台研究二次函数的图象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2178720" y="219240"/>
            <a:ext cx="531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真理来源于实践，又能指导实践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505240" y="141120"/>
            <a:ext cx="2643120" cy="18478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6360" y="5022720"/>
            <a:ext cx="1295640" cy="1791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562920" y="328464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再见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5095800" y="260280"/>
            <a:ext cx="2068560" cy="1573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7329600" y="428760"/>
            <a:ext cx="1419120" cy="1344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-181080" y="0"/>
            <a:ext cx="3241800" cy="21337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1405080" y="5013360"/>
            <a:ext cx="1295280" cy="1790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2771640" y="5013360"/>
            <a:ext cx="1295640" cy="1790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140360" y="5013360"/>
            <a:ext cx="1295280" cy="1790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364000" y="5013360"/>
            <a:ext cx="1295640" cy="1790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6659640" y="5013360"/>
            <a:ext cx="1295280" cy="17906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1"/>
          <a:stretch/>
        </p:blipFill>
        <p:spPr>
          <a:xfrm>
            <a:off x="7956720" y="5013360"/>
            <a:ext cx="12952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59280" y="144360"/>
            <a:ext cx="4067280" cy="609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9280" y="549360"/>
            <a:ext cx="4392720" cy="3080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北京时间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0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0:0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中国在西昌卫星发射中心用“长征三号甲”运载火箭成功发射“鑫诺三号”通信卫星，这是中国“长征”系列运载火箭的第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次飞行。中国“长征”系列运载火箭已完成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次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航天发射，其发射记录由两位数步入三位数，中国也成为继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美、俄、欧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之后世界上第四个主力品牌火箭执行航天发射达到百次的国家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44720" y="144360"/>
            <a:ext cx="6767280" cy="630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765000"/>
            <a:ext cx="7993080" cy="1922400"/>
          </a:xfrm>
          <a:prstGeom prst="rect">
            <a:avLst/>
          </a:prstGeom>
          <a:noFill/>
          <a:ln cap="sq"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当一枚火箭被竖直向上发射时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它的高度 </a:t>
            </a: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h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 (m) 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与时间</a:t>
            </a: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66ccff"/>
                </a:solidFill>
                <a:latin typeface="黑体"/>
                <a:ea typeface="黑体"/>
              </a:rPr>
              <a:t>t 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 (s) 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的关系可以用公式 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h =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5 t ²  + 150 t +10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表示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经过多长时间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火箭到达它的最高点？最高点的高度是多少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4200" y="2205000"/>
            <a:ext cx="70578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今天我们继续学习： 二次函数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x</a:t>
            </a:r>
            <a:r>
              <a:rPr b="1" lang="zh-CN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图象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836640"/>
            <a:ext cx="1942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44476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-27000"/>
            <a:ext cx="88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试一试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：分析函数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y=3x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Tahoma"/>
              </a:rPr>
              <a:t>²- 6x+5 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的图象</a:t>
            </a:r>
            <a:r>
              <a:rPr b="0" lang="zh-CN" sz="4000" spc="-1" strike="noStrike">
                <a:solidFill>
                  <a:srgbClr val="0066cc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7360" y="549360"/>
            <a:ext cx="8991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们知道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作出二次函数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y=3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平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抛物线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y=3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可以得到二次函数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y=3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-6x+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图象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怎样</a:t>
            </a:r>
            <a:r>
              <a:rPr b="1" lang="zh-CN" sz="2800" spc="-1" strike="noStrike">
                <a:solidFill>
                  <a:srgbClr val="66ccff"/>
                </a:solidFill>
                <a:latin typeface="黑体"/>
                <a:ea typeface="黑体"/>
              </a:rPr>
              <a:t>直接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作出函数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y=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-6x+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图象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78280" y="2505240"/>
                <a:ext cx="2438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479840" y="3086280"/>
                <a:ext cx="25624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1582560" y="3357720"/>
            <a:ext cx="2484720" cy="45972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ahoma"/>
              </a:rPr>
              <a:t>提取二次项系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479840" y="4021200"/>
                <a:ext cx="34052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1619280" y="4292640"/>
            <a:ext cx="1008000" cy="45972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配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479840" y="4957920"/>
                <a:ext cx="250200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619280" y="5264280"/>
            <a:ext cx="1008000" cy="45972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整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479840" y="6004080"/>
                <a:ext cx="2189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1600200" y="6093000"/>
            <a:ext cx="2755800" cy="45972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化简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66cc"/>
                </a:solidFill>
                <a:latin typeface="黑体"/>
                <a:ea typeface="黑体"/>
              </a:rPr>
              <a:t>去掉中括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1844640"/>
            <a:ext cx="540072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能否转化为上一节课所学知识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93520" y="1789200"/>
            <a:ext cx="1003680" cy="642600"/>
          </a:xfrm>
          <a:prstGeom prst="rect">
            <a:avLst/>
          </a:prstGeom>
          <a:solidFill>
            <a:srgbClr val="ffff00"/>
          </a:solidFill>
          <a:ln cap="sq"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顶点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0520" y="2460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解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979560"/>
            <a:ext cx="3384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根据顶点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1843200"/>
            <a:ext cx="7344000" cy="3384360"/>
          </a:xfrm>
          <a:prstGeom prst="rect">
            <a:avLst/>
          </a:prstGeom>
          <a:solidFill>
            <a:srgbClr val="ffff00"/>
          </a:solidFill>
          <a:ln cap="sq"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∵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a=3&gt;0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∴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开口向上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;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对称轴是直线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x=1;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顶点坐标为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(1,2).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因此，将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y=3x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图象向右平移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个单位，再向上平移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个单位就能得到该函数的图象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0520" y="1019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解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21720" y="907920"/>
            <a:ext cx="29088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3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1)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-27000"/>
            <a:ext cx="88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试一试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：分析函数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黑体"/>
              </a:rPr>
              <a:t>y=3x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Tahoma"/>
              </a:rPr>
              <a:t>²- 6x+5 </a:t>
            </a:r>
            <a:r>
              <a:rPr b="0" lang="zh-CN" sz="4000" spc="-1" strike="noStrike">
                <a:solidFill>
                  <a:srgbClr val="ccecff"/>
                </a:solidFill>
                <a:latin typeface="隶书"/>
                <a:ea typeface="黑体"/>
              </a:rPr>
              <a:t>的图象</a:t>
            </a:r>
            <a:r>
              <a:rPr b="0" lang="zh-CN" sz="4000" spc="-1" strike="noStrike">
                <a:solidFill>
                  <a:srgbClr val="0066cc"/>
                </a:solidFill>
                <a:latin typeface="隶书"/>
                <a:ea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王建波</dc:creator>
  <dc:description/>
  <dc:language>en-US</dc:language>
  <cp:lastModifiedBy>User</cp:lastModifiedBy>
  <dcterms:modified xsi:type="dcterms:W3CDTF">2014-02-18T02:35:06Z</dcterms:modified>
  <cp:revision>173</cp:revision>
  <dc:subject/>
  <dc:title>PowerPoint 演示文稿</dc:title>
</cp:coreProperties>
</file>