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BE7B-F6F8-4411-8E62-B5514732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3032-235D-48A4-9178-D12E6215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5E02-962E-4BB5-ABC6-5CA07EAE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4D51-5DD1-44DD-A806-1CB144BD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EF85-1355-4995-BDA6-0D41096D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33BA-C616-4ABD-B588-F3E9C91F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BE31-74B2-4D0F-8D28-5504C9BB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AC69-714C-43B8-8E41-6B6B39E4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DB63-0A2C-4E75-9D36-49D01C6A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0300-1FAD-4D1C-8B87-8088B157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04D2-F263-4E73-9325-20CF2781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05F7-6727-45C0-B985-F2C7506F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FB05-6C83-419D-9482-026DDB02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FFD9-A884-46FF-8F21-4AB0F676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0B2E-A998-4324-86E3-3F6B7688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BF0B-F893-43DB-A1BC-1A4B9478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4BB1-6FFF-423A-857F-0DB3B4D0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E16-721F-42D3-A362-92224CD4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488-EEEF-444B-BE70-6DC5E0EB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A37-91F7-4CE9-8BC3-C12D2B85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F5BC-D760-4BE0-A0CF-FD4F4C88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B3D7-A843-420E-91AD-0004109F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1C9B-F762-4C6C-9410-D0541C51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1E1-1814-4C93-9F56-2F2BAEBF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9FBF-2982-4B4F-8955-0383A6B65317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2E27-45F2-492E-8C68-32847B0CA890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050920" y="3284640"/>
            <a:ext cx="5977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八节   二次函数与一元二次方程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(</a:t>
            </a: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一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4360" y="981000"/>
            <a:ext cx="76197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二章  二次函数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1752480"/>
            <a:ext cx="883908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归纳整理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二次函数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y=a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+bx+c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和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轴交点有三种情况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、 有两个交点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、 有一个交点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、 没有交点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83808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二次函数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y=a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+bx+c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和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轴交点的坐标与一元二次方程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a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+bx+c=0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根有什么关系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32360" y="115920"/>
            <a:ext cx="41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隶书"/>
                <a:ea typeface="黑体"/>
              </a:rPr>
              <a:t>二次函数与一元二次方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34196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当二次函数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y=ax</a:t>
            </a:r>
            <a:r>
              <a:rPr b="1" lang="zh-CN" sz="2800" spc="-1" strike="noStrike" baseline="30000">
                <a:solidFill>
                  <a:srgbClr val="ffff00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+bx+c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的图象和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x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轴有交点时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交点的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横坐标就是当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y=0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时自变量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x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的值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, 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即一元二次方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ax</a:t>
            </a:r>
            <a:r>
              <a:rPr b="1" lang="zh-CN" sz="2800" spc="-1" strike="noStrike" baseline="30000">
                <a:solidFill>
                  <a:srgbClr val="ffff00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+bx+c=0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的根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53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1e61"/>
                </a:solidFill>
                <a:latin typeface="Times New Roman"/>
                <a:ea typeface="黑体"/>
              </a:rPr>
              <a:t>议一 议、取长补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76500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二次函数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y=ax</a:t>
            </a:r>
            <a:r>
              <a:rPr b="1" lang="zh-CN" sz="2800" spc="-1" strike="noStrike" baseline="30000">
                <a:solidFill>
                  <a:srgbClr val="ffff00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+bx+c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的图象和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x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轴交点的坐标与一元二次方程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ax</a:t>
            </a:r>
            <a:r>
              <a:rPr b="1" lang="zh-CN" sz="2800" spc="-1" strike="noStrike" baseline="30000">
                <a:solidFill>
                  <a:srgbClr val="ffff00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+bx+c=0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的根有什么关系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1828800"/>
          <a:ext cx="8915400" cy="4086000"/>
        </p:xfrm>
        <a:graphic>
          <a:graphicData uri="http://schemas.openxmlformats.org/drawingml/2006/table">
            <a:tbl>
              <a:tblPr/>
              <a:tblGrid>
                <a:gridCol w="2895840"/>
                <a:gridCol w="2819160"/>
                <a:gridCol w="3200400"/>
              </a:tblGrid>
              <a:tr h="101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二次函数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y=ax</a:t>
                      </a:r>
                      <a:r>
                        <a:rPr b="1" lang="zh-CN" sz="2000" spc="-1" strike="noStrike" baseline="30000">
                          <a:solidFill>
                            <a:srgbClr val="ffffff"/>
                          </a:solidFill>
                          <a:latin typeface="隶书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+bx+c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的图象和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轴的交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一元二次方程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ax</a:t>
                      </a:r>
                      <a:r>
                        <a:rPr b="1" lang="zh-CN" sz="2000" spc="-1" strike="noStrike" baseline="30000">
                          <a:solidFill>
                            <a:srgbClr val="ffffff"/>
                          </a:solidFill>
                          <a:latin typeface="隶书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+bx+c=0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的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一元二次方程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ax</a:t>
                      </a:r>
                      <a:r>
                        <a:rPr b="1" lang="zh-CN" sz="2000" spc="-1" strike="noStrike" baseline="30000">
                          <a:solidFill>
                            <a:srgbClr val="ffffff"/>
                          </a:solidFill>
                          <a:latin typeface="隶书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+bx+c=0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根的判别式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Δ=b</a:t>
                      </a:r>
                      <a:r>
                        <a:rPr b="1" lang="zh-CN" sz="2000" spc="-1" strike="noStrike" baseline="30000">
                          <a:solidFill>
                            <a:srgbClr val="ffffff"/>
                          </a:solidFill>
                          <a:latin typeface="隶书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-4a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"/>
          <p:cNvSpPr/>
          <p:nvPr/>
        </p:nvSpPr>
        <p:spPr>
          <a:xfrm>
            <a:off x="609480" y="3152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隶书"/>
              </a:rPr>
              <a:t>有两个交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71800" y="3048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隶书"/>
              </a:rPr>
              <a:t>有两个相异的实数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7120" y="31528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隶书"/>
              </a:rPr>
              <a:t>b</a:t>
            </a:r>
            <a:r>
              <a:rPr b="1" lang="en-US" sz="2000" spc="-1" strike="noStrike" baseline="30000">
                <a:solidFill>
                  <a:srgbClr val="ffff00"/>
                </a:solidFill>
                <a:latin typeface="隶书"/>
              </a:rPr>
              <a:t>2</a:t>
            </a:r>
            <a:r>
              <a:rPr b="1" lang="en-US" sz="2000" spc="-1" strike="noStrike">
                <a:solidFill>
                  <a:srgbClr val="ffff00"/>
                </a:solidFill>
                <a:latin typeface="隶书"/>
              </a:rPr>
              <a:t>-4ac &g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4114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隶书"/>
              </a:rPr>
              <a:t>有一个交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4038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隶书"/>
              </a:rPr>
              <a:t>有两个相等的实数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4038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隶书"/>
              </a:rPr>
              <a:t>b</a:t>
            </a:r>
            <a:r>
              <a:rPr b="1" lang="en-US" sz="2000" spc="-1" strike="noStrike" baseline="30000">
                <a:solidFill>
                  <a:srgbClr val="ffff00"/>
                </a:solidFill>
                <a:latin typeface="隶书"/>
              </a:rPr>
              <a:t>2</a:t>
            </a:r>
            <a:r>
              <a:rPr b="1" lang="en-US" sz="2000" spc="-1" strike="noStrike">
                <a:solidFill>
                  <a:srgbClr val="ffff00"/>
                </a:solidFill>
                <a:latin typeface="隶书"/>
              </a:rPr>
              <a:t>-4ac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5029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隶书"/>
              </a:rPr>
              <a:t>没有交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05320" y="50292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隶书"/>
              </a:rPr>
              <a:t>没有实数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77120" y="50292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隶书"/>
              </a:rPr>
              <a:t>b</a:t>
            </a:r>
            <a:r>
              <a:rPr b="1" lang="en-US" sz="2000" spc="-1" strike="noStrike" baseline="30000">
                <a:solidFill>
                  <a:srgbClr val="ffff00"/>
                </a:solidFill>
                <a:latin typeface="隶书"/>
              </a:rPr>
              <a:t>2</a:t>
            </a:r>
            <a:r>
              <a:rPr b="1" lang="en-US" sz="2000" spc="-1" strike="noStrike">
                <a:solidFill>
                  <a:srgbClr val="ffff00"/>
                </a:solidFill>
                <a:latin typeface="隶书"/>
              </a:rPr>
              <a:t>-4ac &l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32360" y="115920"/>
            <a:ext cx="41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隶书"/>
                <a:ea typeface="黑体"/>
              </a:rPr>
              <a:t>二次函数与一元二次方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06200"/>
            <a:ext cx="53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1e61"/>
                </a:solidFill>
                <a:latin typeface="Times New Roman"/>
                <a:ea typeface="黑体"/>
              </a:rPr>
              <a:t>归纳整理、理清关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" y="74628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1e61"/>
                </a:solidFill>
                <a:latin typeface="Times New Roman"/>
              </a:rPr>
              <a:t>【例】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一个足球被从地面向上踢出，它距地面的高度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）可以用公式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=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.9t</a:t>
            </a:r>
            <a:r>
              <a:rPr b="1" lang="zh-CN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9.6t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来表示．其中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）表示足球被踢出后经过的间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t=1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时，足球的高度是多少？（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为何值时，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最大？（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）球经过多长时间球落地？（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）方程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.9t</a:t>
            </a:r>
            <a:r>
              <a:rPr b="1" lang="zh-CN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9.6t =0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的根的实际意义是什么？你能在图上表示吗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?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）方程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4.7=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4.9t</a:t>
            </a:r>
            <a:r>
              <a:rPr b="1" lang="zh-CN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9.6t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的根的实际意义是什么？你能在图上表示吗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32360" y="115920"/>
            <a:ext cx="41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隶书"/>
                <a:ea typeface="黑体"/>
              </a:rPr>
              <a:t>二次函数与一元二次方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26668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解：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t=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时，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h=14.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4000" y="228600"/>
            <a:ext cx="439236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教材题变形，拓展延伸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3124080"/>
            <a:ext cx="63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(2)∵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h=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9(t-2) </a:t>
            </a:r>
            <a:r>
              <a:rPr b="1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+19.6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∴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当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t=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时，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最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3581280"/>
            <a:ext cx="914400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对于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h=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9t</a:t>
            </a:r>
            <a:r>
              <a:rPr b="1" lang="zh-CN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6t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球落地意味着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h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9t</a:t>
            </a:r>
            <a:r>
              <a:rPr b="1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6t=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解得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zh-CN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=0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舍去），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zh-CN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=4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即足球被踢出后经过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4s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后球落地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5564160"/>
            <a:ext cx="8305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(5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解方程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4.7=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9t</a:t>
            </a:r>
            <a:r>
              <a:rPr b="1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9.6t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t=1, t=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表明球被踢出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秒和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秒时，离地面的高度都是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4.7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图上表示为抛物线与直线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h=14.7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的交点的横坐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47242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(4)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方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9t</a:t>
            </a:r>
            <a:r>
              <a:rPr b="1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9.6t =0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的根的实际意义是球离地和落地的时间，图上表示为抛物线与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轴交点的横坐 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342900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二次函数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y=a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+bx+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何时为一元二次方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它们的关系如何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2360" y="115920"/>
            <a:ext cx="41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隶书"/>
                <a:ea typeface="黑体"/>
              </a:rPr>
              <a:t>二次函数与一元二次方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91440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在本节一开始的小球上抛问题中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何时小球离地面的高度是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60cm?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你是如何知道的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2133720"/>
            <a:ext cx="67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1e61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f81e61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在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=-5t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+v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+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令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=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09680" y="2819520"/>
            <a:ext cx="41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得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2  , x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0880" y="0"/>
            <a:ext cx="3429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开拓创新 试一试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48006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一般地，当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取定值时，二次函数即为一元二次方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97992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1e61"/>
                </a:solidFill>
                <a:latin typeface="Times New Roman"/>
                <a:ea typeface="Times New Roman"/>
              </a:rPr>
              <a:t>例</a:t>
            </a:r>
            <a:r>
              <a:rPr b="1" lang="zh-CN" sz="2800" spc="-1" strike="noStrike">
                <a:solidFill>
                  <a:srgbClr val="f81e61"/>
                </a:solidFill>
                <a:latin typeface="Times New Roman"/>
                <a:ea typeface="Times New Roman"/>
              </a:rPr>
              <a:t>: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已知二次函数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y=kx</a:t>
            </a:r>
            <a:r>
              <a:rPr b="1" lang="zh-CN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7x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的图象与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轴有交点，求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取值范围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50115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zh-CN" sz="2400" spc="-1" strike="noStrike">
                <a:solidFill>
                  <a:srgbClr val="f81e61"/>
                </a:solidFill>
                <a:latin typeface="Times New Roman"/>
                <a:ea typeface="Times New Roman"/>
              </a:rPr>
              <a:t>点拨</a:t>
            </a:r>
            <a:r>
              <a:rPr b="1" lang="zh-CN" sz="2400" spc="-1" strike="noStrike">
                <a:solidFill>
                  <a:srgbClr val="f81e61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①因为是二次函数，因而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k≠0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②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有交点，所以应为△≥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32360" y="115920"/>
            <a:ext cx="41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隶书"/>
                <a:ea typeface="黑体"/>
              </a:rPr>
              <a:t>二次函数与一元二次方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2133720"/>
            <a:ext cx="84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1e61"/>
                </a:solidFill>
                <a:latin typeface="Times New Roman"/>
              </a:rPr>
              <a:t>错解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由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×k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=4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8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＞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＞－    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213000"/>
            <a:ext cx="842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1e61"/>
                </a:solidFill>
                <a:latin typeface="Times New Roman"/>
              </a:rPr>
              <a:t>正确解法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：此函数为二次函数，∴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k≠0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又与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轴有交点，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      ∴△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－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</a:t>
            </a:r>
            <a:r>
              <a:rPr b="1" lang="zh-CN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4×k×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－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= 49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8k≥0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得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k≥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－          ，即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k≥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－         且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k≠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590920" y="2666880"/>
                <a:ext cx="609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819520" y="4267080"/>
                <a:ext cx="609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876920" y="4267080"/>
                <a:ext cx="609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 txBox="1"/>
          <p:nvPr/>
        </p:nvSpPr>
        <p:spPr>
          <a:xfrm rot="21369600">
            <a:off x="468360" y="260280"/>
            <a:ext cx="27320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放开手脚 做一做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724280" y="533520"/>
            <a:ext cx="288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81e61"/>
                </a:solidFill>
                <a:latin typeface="Arial"/>
              </a:rPr>
              <a:t>分</a:t>
            </a:r>
            <a:r>
              <a:rPr b="1" lang="zh-CN" sz="2400" spc="-1" strike="noStrike">
                <a:solidFill>
                  <a:srgbClr val="66ccff"/>
                </a:solidFill>
                <a:latin typeface="Arial"/>
              </a:rPr>
              <a:t>钟</a:t>
            </a:r>
            <a:r>
              <a:rPr b="1" lang="zh-CN" sz="2400" spc="-1" strike="noStrike">
                <a:solidFill>
                  <a:srgbClr val="00cc99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分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3520" y="30492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大胆尝试，练一练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84" name=""/>
          <p:cNvSpPr/>
          <p:nvPr/>
        </p:nvSpPr>
        <p:spPr>
          <a:xfrm>
            <a:off x="4932360" y="115920"/>
            <a:ext cx="41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隶书"/>
                <a:ea typeface="黑体"/>
              </a:rPr>
              <a:t>二次函数与一元二次方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066680"/>
            <a:ext cx="8447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．抛物线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y=-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与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轴的交点坐标为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_____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．抛物线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y=x</a:t>
            </a:r>
            <a:r>
              <a:rPr b="1" lang="zh-CN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x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轴的交点个数为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个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．抛物线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y=2x</a:t>
            </a:r>
            <a:r>
              <a:rPr b="1" lang="zh-CN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8x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轴只有一个交点，则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m=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．二次函数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y=kx</a:t>
            </a:r>
            <a:r>
              <a:rPr b="1" lang="zh-CN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x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的图象与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轴有两个交点，则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k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的取值范围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．若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＞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＞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＞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△＞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那么抛物线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y=ax</a:t>
            </a:r>
            <a:r>
              <a:rPr b="1" lang="zh-CN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b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经过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象限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67480" y="1066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1e61"/>
                </a:solidFill>
                <a:latin typeface="Times New Roman"/>
              </a:rPr>
              <a:t>(2,0)(-5,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91320" y="1676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1e61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5146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1e61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371600" y="3733920"/>
            <a:ext cx="4190760" cy="655560"/>
            <a:chOff x="1371600" y="3733920"/>
            <a:chExt cx="4190760" cy="655560"/>
          </a:xfrm>
        </p:grpSpPr>
        <p:sp>
          <p:nvSpPr>
            <p:cNvPr id="290" name=""/>
            <p:cNvSpPr/>
            <p:nvPr/>
          </p:nvSpPr>
          <p:spPr>
            <a:xfrm>
              <a:off x="1371600" y="389736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81e61"/>
                  </a:solidFill>
                  <a:latin typeface="Times New Roman"/>
                </a:rPr>
                <a:t>K≥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1" name=""/>
                <p:cNvSpPr txBox="1"/>
                <p:nvPr/>
              </p:nvSpPr>
              <p:spPr>
                <a:xfrm>
                  <a:off x="3047760" y="3733920"/>
                  <a:ext cx="251460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  <m:r>
                        <m:t xml:space="preserve">且k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2" name=""/>
          <p:cNvSpPr/>
          <p:nvPr/>
        </p:nvSpPr>
        <p:spPr>
          <a:xfrm>
            <a:off x="2286000" y="5029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1e61"/>
                </a:solidFill>
                <a:latin typeface="Times New Roman"/>
              </a:rPr>
              <a:t>一、二、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76500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二次函数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y=ax</a:t>
            </a:r>
            <a:r>
              <a:rPr b="1" lang="zh-CN" sz="2800" spc="-1" strike="noStrike" baseline="30000">
                <a:solidFill>
                  <a:srgbClr val="ffff00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+bx+c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的图象和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x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轴交点的坐标与一元二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次方程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ax</a:t>
            </a:r>
            <a:r>
              <a:rPr b="1" lang="zh-CN" sz="2800" spc="-1" strike="noStrike" baseline="30000">
                <a:solidFill>
                  <a:srgbClr val="ffff00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+bx+c=0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的根关系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0" y="1828800"/>
          <a:ext cx="8915400" cy="4086000"/>
        </p:xfrm>
        <a:graphic>
          <a:graphicData uri="http://schemas.openxmlformats.org/drawingml/2006/table">
            <a:tbl>
              <a:tblPr/>
              <a:tblGrid>
                <a:gridCol w="2895840"/>
                <a:gridCol w="2819160"/>
                <a:gridCol w="3200400"/>
              </a:tblGrid>
              <a:tr h="101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二次函数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y=ax</a:t>
                      </a:r>
                      <a:r>
                        <a:rPr b="1" lang="zh-CN" sz="2000" spc="-1" strike="noStrike" baseline="30000">
                          <a:solidFill>
                            <a:srgbClr val="ffffff"/>
                          </a:solidFill>
                          <a:latin typeface="隶书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+bx+c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的图象和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轴的交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一元二次方程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ax</a:t>
                      </a:r>
                      <a:r>
                        <a:rPr b="1" lang="zh-CN" sz="2000" spc="-1" strike="noStrike" baseline="30000">
                          <a:solidFill>
                            <a:srgbClr val="ffffff"/>
                          </a:solidFill>
                          <a:latin typeface="隶书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+bx+c=0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的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一元二次方程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ax</a:t>
                      </a:r>
                      <a:r>
                        <a:rPr b="1" lang="zh-CN" sz="2000" spc="-1" strike="noStrike" baseline="30000">
                          <a:solidFill>
                            <a:srgbClr val="ffffff"/>
                          </a:solidFill>
                          <a:latin typeface="隶书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+bx+c=0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根的判别式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Δ=b</a:t>
                      </a:r>
                      <a:r>
                        <a:rPr b="1" lang="zh-CN" sz="2000" spc="-1" strike="noStrike" baseline="30000">
                          <a:solidFill>
                            <a:srgbClr val="ffffff"/>
                          </a:solidFill>
                          <a:latin typeface="隶书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隶书"/>
                        </a:rPr>
                        <a:t>-4a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"/>
          <p:cNvSpPr/>
          <p:nvPr/>
        </p:nvSpPr>
        <p:spPr>
          <a:xfrm>
            <a:off x="609480" y="3152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隶书"/>
              </a:rPr>
              <a:t>有两个交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71800" y="30481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隶书"/>
              </a:rPr>
              <a:t>有两个相异的实数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15288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隶书"/>
              </a:rPr>
              <a:t>b</a:t>
            </a:r>
            <a:r>
              <a:rPr b="1" lang="en-US" sz="2000" spc="-1" strike="noStrike" baseline="30000">
                <a:solidFill>
                  <a:srgbClr val="ffff00"/>
                </a:solidFill>
                <a:latin typeface="隶书"/>
              </a:rPr>
              <a:t>2</a:t>
            </a:r>
            <a:r>
              <a:rPr b="1" lang="en-US" sz="2000" spc="-1" strike="noStrike">
                <a:solidFill>
                  <a:srgbClr val="ffff00"/>
                </a:solidFill>
                <a:latin typeface="隶书"/>
              </a:rPr>
              <a:t>-4ac &g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41148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隶书"/>
              </a:rPr>
              <a:t>有一个交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40384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隶书"/>
              </a:rPr>
              <a:t>有两个相等的实数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00800" y="4038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隶书"/>
              </a:rPr>
              <a:t>b</a:t>
            </a:r>
            <a:r>
              <a:rPr b="1" lang="en-US" sz="2000" spc="-1" strike="noStrike" baseline="30000">
                <a:solidFill>
                  <a:srgbClr val="ffff00"/>
                </a:solidFill>
                <a:latin typeface="隶书"/>
              </a:rPr>
              <a:t>2</a:t>
            </a:r>
            <a:r>
              <a:rPr b="1" lang="en-US" sz="2000" spc="-1" strike="noStrike">
                <a:solidFill>
                  <a:srgbClr val="ffff00"/>
                </a:solidFill>
                <a:latin typeface="隶书"/>
              </a:rPr>
              <a:t>-4ac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5029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隶书"/>
              </a:rPr>
              <a:t>没有交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50292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隶书"/>
              </a:rPr>
              <a:t>没有实数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77120" y="50292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隶书"/>
              </a:rPr>
              <a:t>b</a:t>
            </a:r>
            <a:r>
              <a:rPr b="1" lang="en-US" sz="2000" spc="-1" strike="noStrike" baseline="30000">
                <a:solidFill>
                  <a:srgbClr val="ffff00"/>
                </a:solidFill>
                <a:latin typeface="隶书"/>
              </a:rPr>
              <a:t>2</a:t>
            </a:r>
            <a:r>
              <a:rPr b="1" lang="en-US" sz="2000" spc="-1" strike="noStrike">
                <a:solidFill>
                  <a:srgbClr val="ffff00"/>
                </a:solidFill>
                <a:latin typeface="隶书"/>
              </a:rPr>
              <a:t>-4ac &l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32360" y="115920"/>
            <a:ext cx="41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隶书"/>
                <a:ea typeface="黑体"/>
              </a:rPr>
              <a:t>二次函数与一元二次方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106200"/>
            <a:ext cx="53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1e61"/>
                </a:solidFill>
                <a:latin typeface="Times New Roman"/>
                <a:ea typeface="黑体"/>
              </a:rPr>
              <a:t>归纳小结、说一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课内拓展延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63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习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2.8    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1,2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4932360" y="115920"/>
            <a:ext cx="41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隶书"/>
                <a:ea typeface="黑体"/>
              </a:rPr>
              <a:t>二次函数与一元二次方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520" y="29718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补充思考题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若二次函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y=a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函数值恒为正，则需满足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若二次函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y=a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函数值恒为负，则需满足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0880" y="457200"/>
            <a:ext cx="5029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耐心填一填，一锤定音！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1268280"/>
            <a:ext cx="83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.  y=a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+bx+c (a,b,c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常数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≠0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叫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__________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。它的图象是一条抛物线。它的对称轴是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线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x=        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顶点坐标是（         ，            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8000" y="2997360"/>
            <a:ext cx="7704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二次函数的解析式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般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顶点式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交点式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666800" y="2141640"/>
                <a:ext cx="465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6826320" y="1700280"/>
                <a:ext cx="482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627280" y="2133720"/>
                <a:ext cx="83808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6012000" y="11970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二次函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43280" y="3432240"/>
            <a:ext cx="338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y = ax</a:t>
            </a:r>
            <a:r>
              <a:rPr b="1" lang="zh-CN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+ bx +c (a≠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4149720"/>
            <a:ext cx="49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 = a(x-h)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76360" y="4941720"/>
            <a:ext cx="460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 = a(x-x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(x-x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0880" y="457200"/>
            <a:ext cx="50292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耐心填一填，一锤定音！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628640"/>
            <a:ext cx="8604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抛物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y = 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+ 2x - 4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对称轴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_______,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开口方向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______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顶点坐标是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_____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924280"/>
            <a:ext cx="85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抛物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y=2(x-2)(x-3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轴的交点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_______________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轴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交点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___________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5813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已知抛物线与轴交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(-1, 0)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1, 0)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并经过点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M(0,1),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则 此抛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线的解析式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___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8000" y="5084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=-x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1523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X =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62920" y="1523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向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1981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-5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2819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(2 ,0)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和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, 0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3429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0 ,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508720" y="1989000"/>
            <a:ext cx="853920" cy="42483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018800"/>
            <a:ext cx="84582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1e61"/>
                </a:solidFill>
                <a:latin typeface="Times New Roman"/>
              </a:rPr>
              <a:t>【例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我们已经知道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竖直上抛物体的高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h(m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运动时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s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关系可用公式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h=-5t</a:t>
            </a:r>
            <a:r>
              <a:rPr b="1" lang="zh-CN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v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t+h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Times New Roman"/>
              </a:rPr>
              <a:t>0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表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其中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m)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抛出时的高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 v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m/s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抛出时的速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58770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03640" y="260280"/>
            <a:ext cx="414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隶书"/>
                <a:ea typeface="黑体"/>
              </a:rPr>
              <a:t>二次函数与一元二次方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23699E-006 C -2.77778E-006 0.00023 -2.77778E-006 -0.50427 -2.77778E-006 -0.50312 C -2.77778E-006 -0.50196 -2.77778E-006 -3.23699E-006 -2.77778E-006 0.00023 Z">
                                      <p:cBhvr>
                                        <p:cTn id="85" dur="3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2280" y="1168200"/>
            <a:ext cx="84582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1e61"/>
                </a:solidFill>
                <a:latin typeface="Times New Roman"/>
              </a:rPr>
              <a:t>【例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竖直上抛物体的高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h(m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运动时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s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关系可用公式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h=-5t</a:t>
            </a:r>
            <a:r>
              <a:rPr b="1" lang="zh-CN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v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t+h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Times New Roman"/>
              </a:rPr>
              <a:t>0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表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其中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m)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抛出时的高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 v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m/s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抛出时的速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个小球从地面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0m/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速度竖直向上抛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小球的高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h(m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运动时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s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关系如图所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那么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260280"/>
            <a:ext cx="54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用心想一想，马到功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708280"/>
            <a:ext cx="5761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 1 )   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关系式是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图象上的每一个点的横、纵坐标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别代表什么含义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 3 )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小球经过多少秒后落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你有几种求解方法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同伴进行交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32360" y="115920"/>
            <a:ext cx="41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隶书"/>
                <a:ea typeface="黑体"/>
              </a:rPr>
              <a:t>二次函数与一元二次方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22004" t="0" r="37989" b="52668"/>
          <a:stretch/>
        </p:blipFill>
        <p:spPr>
          <a:xfrm>
            <a:off x="5651640" y="2637000"/>
            <a:ext cx="3298680" cy="3382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300720" y="5516640"/>
            <a:ext cx="71640" cy="73080"/>
          </a:xfrm>
          <a:prstGeom prst="ellipse">
            <a:avLst/>
          </a:prstGeom>
          <a:solidFill>
            <a:srgbClr val="5ccd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43640" y="522936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588000" y="465264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804000" y="4149360"/>
            <a:ext cx="0" cy="1366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020000" y="393336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308720" y="407664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24720" y="458136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67640" y="5157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87283E-006 C 0.00278 -0.01758 0.00556 -0.03492 0.00955 -0.05503 C 0.01354 -0.07515 0.01979 -0.10266 0.02396 -0.1207 C 0.02813 -0.13873 0.03038 -0.14682 0.03507 -0.16278 C 0.03976 -0.17873 0.04618 -0.20301 0.05243 -0.21573 C 0.05868 -0.22844 0.06702 -0.23561 0.07309 -0.23908 C 0.07917 -0.24255 0.08334 -0.2407 0.08889 -0.23677 C 0.09445 -0.23284 0.10087 -0.2259 0.10643 -0.21573 C 0.11198 -0.20555 0.11823 -0.18775 0.12222 -0.1755 C 0.12622 -0.16324 0.12709 -0.15538 0.13021 -0.14174 C 0.13334 -0.1281 0.13785 -0.10983 0.14132 -0.09318 C 0.14479 -0.07654 0.14809 -0.05804 0.15087 -0.04232 C 0.15365 -0.02659 0.1566 -0.0081 0.15799 0.00092 E">
                                      <p:cBhvr>
                                        <p:cTn id="91" dur="5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280" y="1124640"/>
            <a:ext cx="84582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1e61"/>
                </a:solidFill>
                <a:latin typeface="Times New Roman"/>
              </a:rPr>
              <a:t>【例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我们已经知道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竖直上抛物体的高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h(m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运动时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s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关系可用公式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h=-5t</a:t>
            </a:r>
            <a:r>
              <a:rPr b="1" lang="zh-CN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v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t+h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Times New Roman"/>
              </a:rPr>
              <a:t>0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表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其中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m)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抛出时的高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 v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m/s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抛出时的速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个小球从地面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0m/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速度竖直向上抛出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小球的高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h(m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运动时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s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关系如图所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那么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260280"/>
            <a:ext cx="54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用心想一想，马到功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971800"/>
            <a:ext cx="5761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 1 )   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关系式是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图象上的每一个点的横、纵坐标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别代表什么含义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 3 )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小球经过多少秒后落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你有几种求解方法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同伴进行交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32360" y="115920"/>
            <a:ext cx="41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隶书"/>
                <a:ea typeface="黑体"/>
              </a:rPr>
              <a:t>二次函数与一元二次方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22004" t="0" r="37989" b="52668"/>
          <a:stretch/>
        </p:blipFill>
        <p:spPr>
          <a:xfrm>
            <a:off x="5651640" y="2637000"/>
            <a:ext cx="3298680" cy="3382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300720" y="5516640"/>
            <a:ext cx="71640" cy="73080"/>
          </a:xfrm>
          <a:prstGeom prst="ellipse">
            <a:avLst/>
          </a:prstGeom>
          <a:solidFill>
            <a:srgbClr val="5ccd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43640" y="5300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588000" y="465264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804000" y="4149360"/>
            <a:ext cx="0" cy="1366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020000" y="3933360"/>
            <a:ext cx="0" cy="1582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308720" y="407664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24720" y="458136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67640" y="5157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87283E-006 C 0.00278 -0.01758 0.00556 -0.03492 0.00955 -0.05503 C 0.01354 -0.07515 0.01979 -0.10266 0.02396 -0.1207 C 0.02813 -0.13873 0.03038 -0.14682 0.03507 -0.16278 C 0.03976 -0.17873 0.04618 -0.20301 0.05243 -0.21573 C 0.05868 -0.22844 0.06702 -0.23561 0.07309 -0.23908 C 0.07917 -0.24255 0.08334 -0.2407 0.08889 -0.23677 C 0.09445 -0.23284 0.10087 -0.2259 0.10643 -0.21573 C 0.11198 -0.20555 0.11823 -0.18775 0.12222 -0.1755 C 0.12622 -0.16324 0.12709 -0.15538 0.13021 -0.14174 C 0.13334 -0.1281 0.13785 -0.10983 0.14132 -0.09318 C 0.14479 -0.07654 0.14809 -0.05804 0.15087 -0.04232 C 0.15365 -0.02659 0.1566 -0.0081 0.15799 0.00092 E">
                                      <p:cBhvr>
                                        <p:cTn id="118" dur="5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260280"/>
            <a:ext cx="53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用心想一想，马到功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4200" y="1052640"/>
            <a:ext cx="724932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我们已经知道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竖直上抛物体的高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h(m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运动时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s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关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可用公式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h=-5t</a:t>
            </a:r>
            <a:r>
              <a:rPr b="1" lang="zh-CN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v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t+h</a:t>
            </a:r>
            <a:r>
              <a:rPr b="1" lang="zh-CN" sz="2800" spc="-1" strike="noStrike" baseline="-25000">
                <a:solidFill>
                  <a:srgbClr val="ffff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表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其中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m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抛出时的高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v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m/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是抛出时的速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个小球从地面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0m/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速度竖直向上抛出起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小球的高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h(m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运动时间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(s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关系如图所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那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285264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1)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关系式是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小球经过多少秒后落地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你有几种求解方法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同伴进行交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32360" y="115920"/>
            <a:ext cx="41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隶书"/>
                <a:ea typeface="黑体"/>
              </a:rPr>
              <a:t>二次函数与一元二次方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3581280"/>
            <a:ext cx="44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1e61"/>
                </a:solidFill>
                <a:latin typeface="Times New Roman"/>
              </a:rPr>
              <a:t>解</a:t>
            </a:r>
            <a:r>
              <a:rPr b="0" lang="zh-CN" sz="2800" spc="-1" strike="noStrike">
                <a:solidFill>
                  <a:srgbClr val="f81e61"/>
                </a:solidFill>
                <a:latin typeface="Times New Roman"/>
              </a:rPr>
              <a:t>: </a:t>
            </a:r>
            <a:r>
              <a:rPr b="0" lang="zh-CN" sz="2800" spc="-1" strike="noStrike">
                <a:solidFill>
                  <a:srgbClr val="f81e61"/>
                </a:solidFill>
                <a:latin typeface="Times New Roman"/>
              </a:rPr>
              <a:t>是二次函数</a:t>
            </a:r>
            <a:r>
              <a:rPr b="0" lang="zh-CN" sz="2800" spc="-1" strike="noStrike">
                <a:solidFill>
                  <a:srgbClr val="f81e61"/>
                </a:solidFill>
                <a:latin typeface="Times New Roman"/>
              </a:rPr>
              <a:t>h=</a:t>
            </a:r>
            <a:r>
              <a:rPr b="0" lang="zh-CN" sz="2800" spc="-1" strike="noStrike">
                <a:solidFill>
                  <a:srgbClr val="f81e61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f81e61"/>
                </a:solidFill>
                <a:latin typeface="Times New Roman"/>
              </a:rPr>
              <a:t>5t</a:t>
            </a:r>
            <a:r>
              <a:rPr b="0" lang="zh-CN" sz="2800" spc="-1" strike="noStrike" baseline="30000">
                <a:solidFill>
                  <a:srgbClr val="f81e61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81e61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81e61"/>
                </a:solidFill>
                <a:latin typeface="Times New Roman"/>
              </a:rPr>
              <a:t>40t</a:t>
            </a:r>
            <a:r>
              <a:rPr b="0" lang="zh-CN" sz="2800" spc="-1" strike="noStrike">
                <a:solidFill>
                  <a:srgbClr val="f81e61"/>
                </a:solidFill>
                <a:latin typeface="Times New Roman"/>
              </a:rPr>
              <a:t>．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5805360"/>
            <a:ext cx="80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1e61"/>
                </a:solidFill>
                <a:latin typeface="Times New Roman"/>
              </a:rPr>
              <a:t>解</a:t>
            </a:r>
            <a:r>
              <a:rPr b="0" lang="zh-CN" sz="2800" spc="-1" strike="noStrike">
                <a:solidFill>
                  <a:srgbClr val="f81e61"/>
                </a:solidFill>
                <a:latin typeface="Times New Roman"/>
              </a:rPr>
              <a:t>:  8s. </a:t>
            </a:r>
            <a:r>
              <a:rPr b="0" lang="zh-CN" sz="2800" spc="-1" strike="noStrike">
                <a:solidFill>
                  <a:srgbClr val="f81e61"/>
                </a:solidFill>
                <a:latin typeface="Times New Roman"/>
              </a:rPr>
              <a:t>可以利用图象，也可以解方程  －</a:t>
            </a:r>
            <a:r>
              <a:rPr b="0" lang="zh-CN" sz="2800" spc="-1" strike="noStrike">
                <a:solidFill>
                  <a:srgbClr val="f81e61"/>
                </a:solidFill>
                <a:latin typeface="Times New Roman"/>
              </a:rPr>
              <a:t>5t</a:t>
            </a:r>
            <a:r>
              <a:rPr b="0" lang="zh-CN" sz="2800" spc="-1" strike="noStrike" baseline="30000">
                <a:solidFill>
                  <a:srgbClr val="f81e61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81e61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81e61"/>
                </a:solidFill>
                <a:latin typeface="Times New Roman"/>
              </a:rPr>
              <a:t>40t=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22004" t="0" r="37989" b="52668"/>
          <a:stretch/>
        </p:blipFill>
        <p:spPr>
          <a:xfrm>
            <a:off x="5410080" y="2666880"/>
            <a:ext cx="335304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69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分别求出二次函数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y=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+2x,y=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-2x+1,y=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-2x+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与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轴的交点的坐标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并作出草图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33520" y="3733920"/>
            <a:ext cx="2073240" cy="2430360"/>
            <a:chOff x="533520" y="3733920"/>
            <a:chExt cx="2073240" cy="2430360"/>
          </a:xfrm>
        </p:grpSpPr>
        <p:pic>
          <p:nvPicPr>
            <p:cNvPr id="216" name="" descr=""/>
            <p:cNvPicPr/>
            <p:nvPr/>
          </p:nvPicPr>
          <p:blipFill>
            <a:blip r:embed="rId1"/>
            <a:srcRect l="12002" t="0" r="55991" b="50003"/>
            <a:stretch/>
          </p:blipFill>
          <p:spPr>
            <a:xfrm>
              <a:off x="533520" y="3733920"/>
              <a:ext cx="2073240" cy="24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76440" y="4020840"/>
              <a:ext cx="114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隶书"/>
                </a:rPr>
                <a:t>y=x</a:t>
              </a:r>
              <a:r>
                <a:rPr b="1" lang="en-US" sz="1800" spc="-1" strike="noStrike" baseline="30000">
                  <a:solidFill>
                    <a:srgbClr val="ffffcc"/>
                  </a:solidFill>
                  <a:latin typeface="隶书"/>
                </a:rPr>
                <a:t>2</a:t>
              </a:r>
              <a:r>
                <a:rPr b="1" lang="en-US" sz="1800" spc="-1" strike="noStrike">
                  <a:solidFill>
                    <a:srgbClr val="ffffcc"/>
                  </a:solidFill>
                  <a:latin typeface="隶书"/>
                </a:rPr>
                <a:t>+2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276720" y="3809880"/>
            <a:ext cx="2230200" cy="2403720"/>
            <a:chOff x="3276720" y="3809880"/>
            <a:chExt cx="2230200" cy="240372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rcRect l="21442" t="0" r="51451" b="50558"/>
            <a:stretch/>
          </p:blipFill>
          <p:spPr>
            <a:xfrm>
              <a:off x="3276720" y="3809880"/>
              <a:ext cx="1757160" cy="24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851280" y="41702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隶书"/>
                </a:rPr>
                <a:t>y=x</a:t>
              </a:r>
              <a:r>
                <a:rPr b="1" lang="en-US" sz="1800" spc="-1" strike="noStrike" baseline="30000">
                  <a:solidFill>
                    <a:srgbClr val="ffffcc"/>
                  </a:solidFill>
                  <a:latin typeface="隶书"/>
                </a:rPr>
                <a:t>2</a:t>
              </a:r>
              <a:r>
                <a:rPr b="1" lang="en-US" sz="1800" spc="-1" strike="noStrike">
                  <a:solidFill>
                    <a:srgbClr val="ffffcc"/>
                  </a:solidFill>
                  <a:latin typeface="隶书"/>
                </a:rPr>
                <a:t>-2x+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943600" y="3809880"/>
            <a:ext cx="2230560" cy="2373480"/>
            <a:chOff x="5943600" y="3809880"/>
            <a:chExt cx="2230560" cy="2373480"/>
          </a:xfrm>
        </p:grpSpPr>
        <p:pic>
          <p:nvPicPr>
            <p:cNvPr id="222" name="" descr=""/>
            <p:cNvPicPr/>
            <p:nvPr/>
          </p:nvPicPr>
          <p:blipFill>
            <a:blip r:embed="rId3"/>
            <a:srcRect l="21924" t="0" r="51224" b="51169"/>
            <a:stretch/>
          </p:blipFill>
          <p:spPr>
            <a:xfrm>
              <a:off x="5943600" y="3809880"/>
              <a:ext cx="1740240" cy="23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518520" y="409896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隶书"/>
                </a:rPr>
                <a:t>y=x</a:t>
              </a:r>
              <a:r>
                <a:rPr b="1" lang="en-US" sz="1800" spc="-1" strike="noStrike" baseline="30000">
                  <a:solidFill>
                    <a:srgbClr val="ffffcc"/>
                  </a:solidFill>
                  <a:latin typeface="隶书"/>
                </a:rPr>
                <a:t>2</a:t>
              </a:r>
              <a:r>
                <a:rPr b="1" lang="en-US" sz="1800" spc="-1" strike="noStrike">
                  <a:solidFill>
                    <a:srgbClr val="ffffcc"/>
                  </a:solidFill>
                  <a:latin typeface="隶书"/>
                </a:rPr>
                <a:t>-2x+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24000" y="1752480"/>
            <a:ext cx="770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1e61"/>
                </a:solidFill>
                <a:latin typeface="Times New Roman"/>
              </a:rPr>
              <a:t>思路点拨</a:t>
            </a:r>
            <a:r>
              <a:rPr b="1" lang="zh-CN" sz="2400" spc="-1" strike="noStrike">
                <a:solidFill>
                  <a:srgbClr val="f81e61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轴交点就是求当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y=0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时这个方程的解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然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写成点的坐标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03640" y="115920"/>
            <a:ext cx="41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隶书"/>
                <a:ea typeface="黑体"/>
              </a:rPr>
              <a:t>二次函数与一元二次方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53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比一比，看谁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819520"/>
            <a:ext cx="2666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轴交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和（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3200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43600" y="3200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轴无交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6320" y="4267080"/>
            <a:ext cx="9067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每个图象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轴有几个交点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元二次方程   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+2x=0, 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-2x+1=0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有几个根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验证一下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一元二次方程 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-2x+2=0 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有根吗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(3) 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二次函数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y=a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+bx+c 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的图象和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轴交点的坐标与一元二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方程 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a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+bx+c=0 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的根有什么关系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762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观察下列二次函数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y=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+2x,y=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-2x+1,y=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-2x+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21924" t="0" r="51224" b="51169"/>
          <a:stretch/>
        </p:blipFill>
        <p:spPr>
          <a:xfrm>
            <a:off x="6019920" y="1600200"/>
            <a:ext cx="1828800" cy="2373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rcRect l="21442" t="0" r="51451" b="50558"/>
          <a:stretch/>
        </p:blipFill>
        <p:spPr>
          <a:xfrm>
            <a:off x="3352680" y="1600200"/>
            <a:ext cx="2057400" cy="2403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rcRect l="12002" t="0" r="55991" b="50003"/>
          <a:stretch/>
        </p:blipFill>
        <p:spPr>
          <a:xfrm>
            <a:off x="533520" y="1600200"/>
            <a:ext cx="2073240" cy="24303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85800" y="226368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隶书"/>
              </a:rPr>
              <a:t>y=x</a:t>
            </a:r>
            <a:r>
              <a:rPr b="1" lang="en-US" sz="1800" spc="-1" strike="noStrike" baseline="30000">
                <a:solidFill>
                  <a:srgbClr val="ffffcc"/>
                </a:solidFill>
                <a:latin typeface="隶书"/>
              </a:rPr>
              <a:t>2</a:t>
            </a:r>
            <a:r>
              <a:rPr b="1" lang="en-US" sz="1800" spc="-1" strike="noStrike">
                <a:solidFill>
                  <a:srgbClr val="ffffcc"/>
                </a:solidFill>
                <a:latin typeface="隶书"/>
              </a:rPr>
              <a:t>+2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24360" y="22636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隶书"/>
              </a:rPr>
              <a:t>y=x</a:t>
            </a:r>
            <a:r>
              <a:rPr b="1" lang="en-US" sz="1800" spc="-1" strike="noStrike" baseline="30000">
                <a:solidFill>
                  <a:srgbClr val="ffffcc"/>
                </a:solidFill>
                <a:latin typeface="隶书"/>
              </a:rPr>
              <a:t>2</a:t>
            </a:r>
            <a:r>
              <a:rPr b="1" lang="en-US" sz="1800" spc="-1" strike="noStrike">
                <a:solidFill>
                  <a:srgbClr val="ffffcc"/>
                </a:solidFill>
                <a:latin typeface="隶书"/>
              </a:rPr>
              <a:t>-2x+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88000" y="22636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隶书"/>
              </a:rPr>
              <a:t>y=x</a:t>
            </a:r>
            <a:r>
              <a:rPr b="1" lang="en-US" sz="1800" spc="-1" strike="noStrike" baseline="30000">
                <a:solidFill>
                  <a:srgbClr val="ffffcc"/>
                </a:solidFill>
                <a:latin typeface="隶书"/>
              </a:rPr>
              <a:t>2</a:t>
            </a:r>
            <a:r>
              <a:rPr b="1" lang="en-US" sz="1800" spc="-1" strike="noStrike">
                <a:solidFill>
                  <a:srgbClr val="ffffcc"/>
                </a:solidFill>
                <a:latin typeface="隶书"/>
              </a:rPr>
              <a:t>-2x+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32360" y="115920"/>
            <a:ext cx="41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隶书"/>
                <a:ea typeface="黑体"/>
              </a:rPr>
              <a:t>二次函数与一元二次方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53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1e61"/>
                </a:solidFill>
                <a:latin typeface="Times New Roman"/>
                <a:ea typeface="黑体"/>
              </a:rPr>
              <a:t>议一 议、取长补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13:41:47Z</dcterms:created>
  <dc:creator>罗惠萍</dc:creator>
  <dc:description/>
  <dc:language>en-US</dc:language>
  <cp:lastModifiedBy>User</cp:lastModifiedBy>
  <dcterms:modified xsi:type="dcterms:W3CDTF">2014-02-18T02:40:01Z</dcterms:modified>
  <cp:revision>179</cp:revision>
  <dc:subject/>
  <dc:title>PowerPoint 演示文稿</dc:title>
</cp:coreProperties>
</file>