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D55-CDD0-4A91-BC6D-D1F48C62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C0E-46C0-4129-A8B6-074F6767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893-F1A5-4BEA-99E3-21A3FACD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2D9C-6F43-4CBB-BD6B-A4C97A7F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86C7-0CF4-46E3-8532-08333593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49EE-E17F-482B-A5CB-9C9814E8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709C-C78B-41DD-8771-193348D4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26A2-07EE-4B33-8342-1391A28D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F993-B5EA-4ED2-AC0B-693ABD33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3397-BF46-4578-8B80-8C0C1574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B294-275F-45F6-8A6C-3AA1FF61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033-B4C8-4F7A-B5F8-CD37DCBA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2FB7-6811-4E2E-8896-649CF6CC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DA53-4891-4D61-AD5A-19C93ED9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6809-A934-494A-B009-7C79E1D1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742B-9D82-4AAE-BAE4-1D76B293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DE46-9636-4BE1-AE83-71D20CAF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B64-0523-4EFE-A1B0-255084BE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C461-AB0D-40E6-AB3C-81281EAC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0AB-7D60-4327-A42B-E4355338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012-869D-486F-96B7-F78619A2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E64-6289-4334-A0EB-2ECB95C9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AF0-55E6-4F6D-B695-EC0A28D7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FC1-E003-49AD-A084-E1B5DCE9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1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9140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8358120" y="5409720"/>
              <a:ext cx="60984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2209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A730-36FD-4C8E-AF04-122A28571EF0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233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239B-A918-41A0-A8F1-EA1626E583C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380880" y="1219320"/>
            <a:ext cx="8305920" cy="380880"/>
            <a:chOff x="380880" y="1219320"/>
            <a:chExt cx="8305920" cy="380880"/>
          </a:xfrm>
        </p:grpSpPr>
        <p:sp>
          <p:nvSpPr>
            <p:cNvPr id="12" name=""/>
            <p:cNvSpPr/>
            <p:nvPr/>
          </p:nvSpPr>
          <p:spPr>
            <a:xfrm>
              <a:off x="609480" y="14479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80880" y="12193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90640" y="6310440"/>
            <a:ext cx="1228680" cy="380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78120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44792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396720" y="549000"/>
            <a:ext cx="882720" cy="882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60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91400" y="527688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8282160" y="51814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6772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8358120" y="5333760"/>
              <a:ext cx="60984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1385-7FD2-4A08-868C-C2F6DD4613A7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06D6-739E-403B-ACC6-45BF1C35EAB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57200" y="2057400"/>
            <a:ext cx="8305920" cy="380880"/>
            <a:chOff x="457200" y="2057400"/>
            <a:chExt cx="8305920" cy="380880"/>
          </a:xfrm>
        </p:grpSpPr>
        <p:sp>
          <p:nvSpPr>
            <p:cNvPr id="72" name=""/>
            <p:cNvSpPr/>
            <p:nvPr/>
          </p:nvSpPr>
          <p:spPr>
            <a:xfrm>
              <a:off x="685800" y="22860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20574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541440" y="62028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第三章    圆 </a:t>
            </a:r>
            <a:br>
              <a:rPr sz="40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 第二节  圆的对称性</a:t>
            </a: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</a:t>
            </a: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br>
              <a:rPr sz="6600"/>
            </a:b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95280" y="4869000"/>
            <a:ext cx="5403960" cy="1398600"/>
            <a:chOff x="395280" y="4869000"/>
            <a:chExt cx="5403960" cy="139860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395280" y="5278680"/>
              <a:ext cx="1568520" cy="95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2765520" y="4869000"/>
              <a:ext cx="1881360" cy="13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flipV="1">
              <a:off x="689040" y="6242400"/>
              <a:ext cx="5110200" cy="2520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95280" y="3002040"/>
            <a:ext cx="388620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932360" y="3429000"/>
            <a:ext cx="1398600" cy="1981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300720" y="3429000"/>
            <a:ext cx="1981440" cy="198108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120" name="" descr=""/>
            <p:cNvPicPr/>
            <p:nvPr/>
          </p:nvPicPr>
          <p:blipFill>
            <a:blip r:embed="rId6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EF3CD6D-678F-42D0-AB36-70E2B00E33C7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7561080" cy="187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练一练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完成课本随堂练习第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题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5A421-BA4D-48EC-AABF-8C2AF78949C7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Ⅲ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．课时小结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205000"/>
            <a:ext cx="7848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本节课我们探索了圆的对称性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利用圆的轴对称性研究了垂径定理及其逆定理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垂径定理和勾股定理相结合，构造直角三角形，可解决弦长、半径、弦心距等计算问题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D8AA5-B40C-4156-8DB2-1E28810E98AD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Ⅳ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．课后作业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68480" y="388620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826920" y="2276640"/>
            <a:ext cx="61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课本习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试一试１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预习课本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367080" y="4205160"/>
            <a:ext cx="3581280" cy="21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2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YE-BYE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1B4CB-E310-4F0D-86ED-3546F5C7D921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05920" y="545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1844640"/>
            <a:ext cx="6769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问题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前面我们已探讨过轴对称图形，哪位同学能叙述一下轴对称图形的定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我们是用什么方法研究轴对称图形的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49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．创设问题情境，引入新课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348000" y="4365720"/>
            <a:ext cx="1981080" cy="198108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0C469-9EE5-4E57-9D19-90E19E8406BF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05920" y="545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Ⅱ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．讲授新课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圆是轴对称图形吗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果是，它的对称轴是什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你能找到多少条对称轴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?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讨论：你是用什么方法解决上述问题的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5157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归纳：圆是轴对称图形，其对称轴是任意一条过圆心的直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68360" y="1700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（一）想一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42012-326C-4652-9472-159AE007DE66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隶书"/>
              </a:rPr>
              <a:t>（二）认识弧、弦、直径这些与圆有关的概念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516720" y="476280"/>
            <a:ext cx="2626920" cy="1049400"/>
            <a:chOff x="6516720" y="476280"/>
            <a:chExt cx="2626920" cy="104940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6516720" y="47628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025040" y="893880"/>
              <a:ext cx="1440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860640"/>
            <a:ext cx="2305080" cy="1872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321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．弦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79736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．直径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．圆弧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2565360"/>
            <a:ext cx="576360" cy="144360"/>
          </a:xfrm>
          <a:custGeom>
            <a:avLst/>
            <a:gdLst/>
            <a:ahLst/>
            <a:rect l="l" t="t" r="r" b="b"/>
            <a:pathLst>
              <a:path w="363" h="91">
                <a:moveTo>
                  <a:pt x="0" y="91"/>
                </a:moveTo>
                <a:cubicBezTo>
                  <a:pt x="60" y="45"/>
                  <a:pt x="121" y="0"/>
                  <a:pt x="181" y="0"/>
                </a:cubicBezTo>
                <a:cubicBezTo>
                  <a:pt x="241" y="0"/>
                  <a:pt x="348" y="76"/>
                  <a:pt x="363" y="91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2637000"/>
            <a:ext cx="431640" cy="142560"/>
          </a:xfrm>
          <a:custGeom>
            <a:avLst/>
            <a:gdLst/>
            <a:ahLst/>
            <a:rect l="l" t="t" r="r" b="b"/>
            <a:pathLst>
              <a:path w="363" h="91">
                <a:moveTo>
                  <a:pt x="0" y="91"/>
                </a:moveTo>
                <a:cubicBezTo>
                  <a:pt x="60" y="45"/>
                  <a:pt x="121" y="0"/>
                  <a:pt x="181" y="0"/>
                </a:cubicBezTo>
                <a:cubicBezTo>
                  <a:pt x="241" y="0"/>
                  <a:pt x="348" y="76"/>
                  <a:pt x="363" y="91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263700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图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 AB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劣弧）、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CD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优弧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3933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图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弦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弦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5445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图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直径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79640" y="17478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圆上任意两点间的部分叫做圆弧，简称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31878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连接圆上任意两点的线段叫做弦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477216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经过圆心的弦叫直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880240" y="2692440"/>
                <a:ext cx="1344600" cy="25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96C94-E05F-4EA7-89AF-1052F465B0A4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隶书"/>
              </a:rPr>
              <a:t>（三）探索垂径定理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　　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在一张纸上任意画一个⊙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沿圆周将圆剪下，把这个圆对折，使圆的两半部分重合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得到一条折痕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在⊙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上任取一点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过点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折痕 的垂线，得到新的折痕，其中，点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是两条折痕的交点，即垂足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将纸打开，新的折痕与圆交于另一点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如图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397400"/>
            <a:ext cx="669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问题：（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）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"/>
              </a:rPr>
              <a:t>右图是轴对称图形吗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　　　　　　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"/>
              </a:rPr>
              <a:t>如果是，其对称轴是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）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"/>
              </a:rPr>
              <a:t>你能发现图中有哪些等量关系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                      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"/>
              </a:rPr>
              <a:t>说一说你的理由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784920" y="4076640"/>
            <a:ext cx="2247840" cy="2521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00000" y="1557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做一做：按下面的步骤做一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F1C11-D415-4532-97E6-F4AB1D615B33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3715920"/>
            <a:ext cx="7632720" cy="20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推理格式：如图所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⊥A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直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=B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=B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=B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1844640"/>
            <a:ext cx="65534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总结得出</a:t>
            </a:r>
            <a:r>
              <a:rPr b="1" lang="zh-CN" sz="3200" spc="-1" strike="noStrike" u="sng">
                <a:solidFill>
                  <a:srgbClr val="a73737"/>
                </a:solidFill>
                <a:uFillTx/>
                <a:latin typeface="Arial"/>
                <a:ea typeface="楷体_GB2312"/>
              </a:rPr>
              <a:t>垂径定理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　　垂直于弦的直径平分这条弦，并且平分弦所对的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843280" y="44434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44434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7640" y="44434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44434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784920" y="4076640"/>
            <a:ext cx="2247840" cy="25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39275-158B-4123-9FE1-ED3C08E6247A}" type="datetime1">
              <a:rPr lang="en-US"/>
              <a:t>07/31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6516720" cy="31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右图所示，一条公路的转弯处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段圆弧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即图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圆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其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=600m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上一点，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E⊥C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垂足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=90 m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求这段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路的半径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4653000"/>
            <a:ext cx="849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分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]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要求弯路的半径，连接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O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只要求出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O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长便可以了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因为已知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OE⊥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所以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CF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300 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OF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OE-EF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此时得到了一个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Rt△CFO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利用勾股定理便可列出方程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404640"/>
            <a:ext cx="49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华文隶书"/>
              </a:rPr>
              <a:t>（四）讲例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659640" y="1628640"/>
            <a:ext cx="2305080" cy="1933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700360" y="213372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4720" y="2133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2924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B9E72-A32C-4A8B-88E0-2EA77F8F876B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6783480" cy="195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练一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完成课本随堂练习第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题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05920" y="5257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21C09-62F3-423C-8E17-F3338E7D8E74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华文隶书"/>
              </a:rPr>
              <a:t>（五）探索垂径定理的逆定理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想一想：如下图示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是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弦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不是直径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作一条平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直径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交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于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同学们利用圆纸片动手做一做，然后回答：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此图是轴对称图形吗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果是，其对称轴是什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你能发现图中有哪些等量关系？说一说你的理由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877080" y="4437000"/>
            <a:ext cx="2087640" cy="22320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971640" y="3860640"/>
            <a:ext cx="7921440" cy="2377800"/>
            <a:chOff x="971640" y="3860640"/>
            <a:chExt cx="7921440" cy="2377800"/>
          </a:xfrm>
        </p:grpSpPr>
        <p:sp>
          <p:nvSpPr>
            <p:cNvPr id="196" name=""/>
            <p:cNvSpPr/>
            <p:nvPr/>
          </p:nvSpPr>
          <p:spPr>
            <a:xfrm>
              <a:off x="971640" y="3860640"/>
              <a:ext cx="792144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总结得出垂径定理的逆定理：平分弦（不是直径）的直径垂直于弦，并且平分弦所对的弧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推理格式：如图所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∵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M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＝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D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为⊙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的直径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 ∴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D⊥A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于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D=BD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C=B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9440" y="5595840"/>
              <a:ext cx="93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ahoma"/>
                </a:rPr>
                <a:t>⌒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65800" y="5595840"/>
              <a:ext cx="93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ahoma"/>
                </a:rPr>
                <a:t>⌒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95640" y="5524560"/>
              <a:ext cx="9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ahoma"/>
                </a:rPr>
                <a:t>⌒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19640" y="5595840"/>
              <a:ext cx="93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ahoma"/>
                </a:rPr>
                <a:t>⌒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BFE7E-AB9A-4CB7-A2FE-D565ADDE1400}" type="datetime1">
              <a:rPr lang="en-US"/>
              <a:t>07/31/26</a:t>
            </a:fld>
          </a:p>
        </p:txBody>
      </p:sp>
    </p:spTree>
  </p:cSld>
  <p:transition spd="med">
    <p:wipe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01:59:04Z</dcterms:created>
  <dc:creator>start</dc:creator>
  <dc:description/>
  <dc:language>en-US</dc:language>
  <cp:lastModifiedBy>User</cp:lastModifiedBy>
  <dcterms:modified xsi:type="dcterms:W3CDTF">2014-02-18T02:48:04Z</dcterms:modified>
  <cp:revision>103</cp:revision>
  <dc:subject/>
  <dc:title>此处是标题</dc:title>
</cp:coreProperties>
</file>