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D0F-D993-4687-BA44-CD6A1250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B77-E918-4B40-AC52-DD6F2D68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639-AE80-4E92-B400-3D1D3F22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071-EF0D-4976-B919-336924DA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FDB0-69D3-4B33-A31C-6E09F801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4544-B93B-48C7-957E-A3BFF15C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0524-B565-42CA-A20D-39460687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BCA5-69FE-46DF-8495-E7CAF1F1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91D6-22D5-411C-9823-3B8B7034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16F6-5EC2-42DD-AA62-D4FD4895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08BE-E8C1-45F9-AAB9-BE4219AB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6EC-E31A-4741-95E1-A43A74A9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634F-78DD-49AA-8E32-2BE87030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758F-92B4-4A81-BC9F-DC650DE0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E8E1-1654-4737-BAFA-ADE8A909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C5C2-D646-4F7A-848C-90D4AC90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2276-D038-423E-AD86-D81286E4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872-DC52-46DE-95EE-78928604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659-4470-4E08-85A4-1941DF51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D91-8DA3-447B-95E7-DD683F09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A3C-B38F-4688-BEDB-7F635692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2DE-C1B8-4930-97A6-0138306B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DAA-E3D6-4AD2-A953-EAC8485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9DC-4AFF-459D-BA46-FD001E31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7E5E-3D65-4BEA-8A6D-E92B9F6879E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46B2-05CC-4E78-9721-01C4C017F64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76360" y="3789360"/>
            <a:ext cx="6324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节   圆的对称性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(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二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)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81080" y="182880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三章   圆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图，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两条弦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E⊥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F⊥CD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重足分别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605560" y="609480"/>
            <a:ext cx="2732760" cy="2438640"/>
            <a:chOff x="5605560" y="609480"/>
            <a:chExt cx="2732760" cy="2438640"/>
          </a:xfrm>
        </p:grpSpPr>
        <p:grpSp>
          <p:nvGrpSpPr>
            <p:cNvPr id="179" name=""/>
            <p:cNvGrpSpPr/>
            <p:nvPr/>
          </p:nvGrpSpPr>
          <p:grpSpPr>
            <a:xfrm>
              <a:off x="5994360" y="888840"/>
              <a:ext cx="2158920" cy="2159280"/>
              <a:chOff x="5994360" y="888840"/>
              <a:chExt cx="2158920" cy="21592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5994360" y="888840"/>
                <a:ext cx="2158920" cy="2159280"/>
                <a:chOff x="5994360" y="888840"/>
                <a:chExt cx="2158920" cy="215928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5994360" y="888840"/>
                  <a:ext cx="2158920" cy="2159280"/>
                  <a:chOff x="5994360" y="888840"/>
                  <a:chExt cx="2158920" cy="21592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994360" y="888840"/>
                    <a:ext cx="2158920" cy="21592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074000" y="1891080"/>
                    <a:ext cx="48600" cy="489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 flipV="1">
                  <a:off x="7074000" y="1271520"/>
                  <a:ext cx="834120" cy="646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74000" y="1918440"/>
                  <a:ext cx="883080" cy="671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908120" y="1271520"/>
                  <a:ext cx="48960" cy="13186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6435720" y="1101240"/>
                  <a:ext cx="637920" cy="816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6043320" y="1101240"/>
                  <a:ext cx="392400" cy="1190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6043320" y="1917720"/>
                  <a:ext cx="1030320" cy="3740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7074000" y="1909080"/>
                  <a:ext cx="834120" cy="8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288480" y="1611720"/>
                  <a:ext cx="785160" cy="3060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257160" y="1664640"/>
                <a:ext cx="105120" cy="91080"/>
                <a:chOff x="6257160" y="1664640"/>
                <a:chExt cx="105120" cy="91080"/>
              </a:xfrm>
            </p:grpSpPr>
            <p:sp>
              <p:nvSpPr>
                <p:cNvPr id="193" name=""/>
                <p:cNvSpPr/>
                <p:nvPr/>
              </p:nvSpPr>
              <p:spPr>
                <a:xfrm flipH="1">
                  <a:off x="6327360" y="1664640"/>
                  <a:ext cx="34920" cy="91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flipV="1">
                  <a:off x="6257160" y="1732680"/>
                  <a:ext cx="70200" cy="226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784640" y="1915920"/>
                <a:ext cx="105120" cy="114120"/>
                <a:chOff x="7784640" y="1915920"/>
                <a:chExt cx="105120" cy="1141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784640" y="1915920"/>
                  <a:ext cx="0" cy="97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784640" y="2030040"/>
                  <a:ext cx="105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7898400" y="76212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59160" y="6094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40080" y="16002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05560" y="205740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32800" y="129528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98960" y="190512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01200" y="2438280"/>
              <a:ext cx="48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09480" y="3429000"/>
            <a:ext cx="731520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OB=∠CO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那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E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F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大小有什么关系？为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4876920"/>
            <a:ext cx="710244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E=OF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那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大小有什么关系？为什么？ ∠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O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∠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O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练一练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3152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完成课本随堂练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2590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课时小结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5960" y="1218960"/>
            <a:ext cx="8924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议一议：在得出本节结论的过程中你用到了哪些方法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12760" y="2286000"/>
            <a:ext cx="86263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讨论归纳出：利用折叠法研究了圆是轴对称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形；利用圆的轴对称性研究了垂径定理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其逆定理；利用旋转的方法得到了圆的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转不变性，由圆的旋转不变性，我们探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了圆心角、弧、弦、弦心距之间相等关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定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推理格式：如图所示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）若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 B = C D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，       则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）若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 B = C D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，       则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）若 ∠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A O B = ∠ C O D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则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e5ffff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e5ffff"/>
                </a:solidFill>
                <a:latin typeface="宋体"/>
              </a:rPr>
              <a:t>。</a:t>
            </a:r>
            <a:r>
              <a:rPr b="0" lang="zh-CN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40760" y="240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310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6019920"/>
            <a:ext cx="10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408720" y="981000"/>
            <a:ext cx="1973160" cy="2789640"/>
            <a:chOff x="6408720" y="981000"/>
            <a:chExt cx="1973160" cy="2789640"/>
          </a:xfrm>
        </p:grpSpPr>
        <p:grpSp>
          <p:nvGrpSpPr>
            <p:cNvPr id="221" name=""/>
            <p:cNvGrpSpPr/>
            <p:nvPr/>
          </p:nvGrpSpPr>
          <p:grpSpPr>
            <a:xfrm>
              <a:off x="6408720" y="1438200"/>
              <a:ext cx="1903320" cy="1905120"/>
              <a:chOff x="6408720" y="1438200"/>
              <a:chExt cx="1903320" cy="1905120"/>
            </a:xfrm>
          </p:grpSpPr>
          <p:sp>
            <p:nvSpPr>
              <p:cNvPr id="222" name=""/>
              <p:cNvSpPr/>
              <p:nvPr/>
            </p:nvSpPr>
            <p:spPr>
              <a:xfrm>
                <a:off x="6408720" y="1438200"/>
                <a:ext cx="1903320" cy="19051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60560" y="2322720"/>
                <a:ext cx="42840" cy="4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6408720" y="981000"/>
              <a:ext cx="1973160" cy="2789640"/>
              <a:chOff x="6408720" y="981000"/>
              <a:chExt cx="1973160" cy="2789640"/>
            </a:xfrm>
          </p:grpSpPr>
          <p:sp>
            <p:nvSpPr>
              <p:cNvPr id="225" name=""/>
              <p:cNvSpPr/>
              <p:nvPr/>
            </p:nvSpPr>
            <p:spPr>
              <a:xfrm>
                <a:off x="6848280" y="1584360"/>
                <a:ext cx="1073160" cy="1566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945120" y="1521000"/>
                <a:ext cx="830160" cy="173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48280" y="1606680"/>
                <a:ext cx="96840" cy="165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80320" y="1532160"/>
                <a:ext cx="145800" cy="1608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08720" y="10558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856280" y="31449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D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13280" y="31892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704000" y="9810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879960" y="2351160"/>
                <a:ext cx="519120" cy="42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7383240" y="2323800"/>
                <a:ext cx="468360" cy="3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11600" y="21430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67600" y="23227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24680" y="19288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F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2987640" y="3105000"/>
            <a:ext cx="576360" cy="144720"/>
          </a:xfrm>
          <a:custGeom>
            <a:avLst/>
            <a:gdLst/>
            <a:ahLst/>
            <a:rect l="l" t="t" r="r" b="b"/>
            <a:pathLst>
              <a:path w="363" h="91">
                <a:moveTo>
                  <a:pt x="0" y="91"/>
                </a:moveTo>
                <a:cubicBezTo>
                  <a:pt x="60" y="45"/>
                  <a:pt x="121" y="0"/>
                  <a:pt x="181" y="0"/>
                </a:cubicBezTo>
                <a:cubicBezTo>
                  <a:pt x="241" y="0"/>
                  <a:pt x="348" y="76"/>
                  <a:pt x="363" y="91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43280" y="3105000"/>
            <a:ext cx="576000" cy="144720"/>
          </a:xfrm>
          <a:custGeom>
            <a:avLst/>
            <a:gdLst/>
            <a:ahLst/>
            <a:rect l="l" t="t" r="r" b="b"/>
            <a:pathLst>
              <a:path w="363" h="91">
                <a:moveTo>
                  <a:pt x="0" y="91"/>
                </a:moveTo>
                <a:cubicBezTo>
                  <a:pt x="60" y="45"/>
                  <a:pt x="121" y="0"/>
                  <a:pt x="181" y="0"/>
                </a:cubicBezTo>
                <a:cubicBezTo>
                  <a:pt x="241" y="0"/>
                  <a:pt x="348" y="76"/>
                  <a:pt x="363" y="91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ffff"/>
                </a:solidFill>
                <a:latin typeface="宋体"/>
              </a:rPr>
              <a:t>创新探究</a:t>
            </a:r>
            <a:r>
              <a:rPr b="0" lang="zh-CN" sz="3600" spc="-1" strike="noStrike">
                <a:solidFill>
                  <a:srgbClr val="e5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7631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如图，在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⊙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，弦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B=CD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延长线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延长线相交于点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直线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交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⊙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于点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F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你以为∠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PE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与∠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PE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有什么大小关系？为什么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0" y="3230640"/>
            <a:ext cx="5598000" cy="2684880"/>
            <a:chOff x="3189600" y="3230640"/>
            <a:chExt cx="5598000" cy="2684880"/>
          </a:xfrm>
        </p:grpSpPr>
        <p:grpSp>
          <p:nvGrpSpPr>
            <p:cNvPr id="243" name=""/>
            <p:cNvGrpSpPr/>
            <p:nvPr/>
          </p:nvGrpSpPr>
          <p:grpSpPr>
            <a:xfrm>
              <a:off x="3657600" y="3429000"/>
              <a:ext cx="4876560" cy="2300400"/>
              <a:chOff x="3657600" y="3429000"/>
              <a:chExt cx="4876560" cy="230040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3657600" y="3429000"/>
                <a:ext cx="2300400" cy="2300400"/>
                <a:chOff x="3657600" y="3429000"/>
                <a:chExt cx="2300400" cy="2300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657600" y="3429000"/>
                  <a:ext cx="2300400" cy="2300400"/>
                </a:xfrm>
                <a:prstGeom prst="ellips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07800" y="4496760"/>
                  <a:ext cx="51840" cy="5184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4118040" y="3667680"/>
                <a:ext cx="4416120" cy="876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57600" y="4545000"/>
                <a:ext cx="4876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024800" y="4545000"/>
                <a:ext cx="4509000" cy="876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852800" y="3827880"/>
                <a:ext cx="92880" cy="676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52800" y="4545000"/>
                <a:ext cx="92880" cy="71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20120" y="3884400"/>
                <a:ext cx="185760" cy="100080"/>
              </a:xfrm>
              <a:custGeom>
                <a:avLst/>
                <a:gdLst/>
                <a:ahLst/>
                <a:rect l="l" t="t" r="r" b="b"/>
                <a:pathLst>
                  <a:path w="158" h="85">
                    <a:moveTo>
                      <a:pt x="0" y="50"/>
                    </a:moveTo>
                    <a:cubicBezTo>
                      <a:pt x="25" y="57"/>
                      <a:pt x="125" y="85"/>
                      <a:pt x="138" y="75"/>
                    </a:cubicBezTo>
                    <a:cubicBezTo>
                      <a:pt x="158" y="60"/>
                      <a:pt x="138" y="25"/>
                      <a:pt x="13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20120" y="5066280"/>
                <a:ext cx="163440" cy="130680"/>
              </a:xfrm>
              <a:custGeom>
                <a:avLst/>
                <a:gdLst/>
                <a:ahLst/>
                <a:rect l="l" t="t" r="r" b="b"/>
                <a:pathLst>
                  <a:path w="139" h="111">
                    <a:moveTo>
                      <a:pt x="0" y="48"/>
                    </a:moveTo>
                    <a:cubicBezTo>
                      <a:pt x="27" y="30"/>
                      <a:pt x="64" y="0"/>
                      <a:pt x="100" y="10"/>
                    </a:cubicBezTo>
                    <a:cubicBezTo>
                      <a:pt x="115" y="14"/>
                      <a:pt x="117" y="35"/>
                      <a:pt x="125" y="48"/>
                    </a:cubicBezTo>
                    <a:cubicBezTo>
                      <a:pt x="139" y="102"/>
                      <a:pt x="138" y="81"/>
                      <a:pt x="138" y="11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614400" y="32306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89600" y="434340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07280" y="533412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38680" y="3352680"/>
              <a:ext cx="51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88000" y="51055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57840" y="342900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43440" y="5029200"/>
              <a:ext cx="48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50920" y="4495680"/>
              <a:ext cx="43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160" y="441972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宋体"/>
                </a:rPr>
                <a:t>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32000" y="2205000"/>
            <a:ext cx="691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作业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课本习题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3.3       1, 2, 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ffff"/>
                </a:solidFill>
                <a:latin typeface="Tahoma"/>
              </a:rPr>
              <a:t>谢谢合作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猜一猜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920" y="836640"/>
            <a:ext cx="864216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请同学们观察屏幕上两个半径相等的圆。请回答：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005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它们能重合吗？如果能重合，请将它们的圆心固定在一起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00720" y="1916280"/>
            <a:ext cx="1800000" cy="1800000"/>
            <a:chOff x="4500720" y="1916280"/>
            <a:chExt cx="1800000" cy="1800000"/>
          </a:xfrm>
        </p:grpSpPr>
        <p:sp>
          <p:nvSpPr>
            <p:cNvPr id="89" name=""/>
            <p:cNvSpPr/>
            <p:nvPr/>
          </p:nvSpPr>
          <p:spPr>
            <a:xfrm>
              <a:off x="4500720" y="1916280"/>
              <a:ext cx="1800000" cy="1800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33880" y="2679840"/>
              <a:ext cx="87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O</a:t>
              </a:r>
              <a:r>
                <a:rPr b="1" lang="zh-CN" sz="3200" spc="-1" strike="noStrike" baseline="30000">
                  <a:solidFill>
                    <a:srgbClr val="ffffff"/>
                  </a:solidFill>
                  <a:latin typeface="宋体"/>
                </a:rPr>
                <a:t>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94240" y="2744640"/>
              <a:ext cx="41400" cy="39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900000" y="5373720"/>
            <a:ext cx="7920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然后将其中一个圆旋转任意一个角度，这时两个圆还重合吗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871640" y="1952640"/>
            <a:ext cx="1800360" cy="1800000"/>
            <a:chOff x="1871640" y="1952640"/>
            <a:chExt cx="1800360" cy="1800000"/>
          </a:xfrm>
        </p:grpSpPr>
        <p:grpSp>
          <p:nvGrpSpPr>
            <p:cNvPr id="94" name=""/>
            <p:cNvGrpSpPr/>
            <p:nvPr/>
          </p:nvGrpSpPr>
          <p:grpSpPr>
            <a:xfrm>
              <a:off x="1871640" y="1952640"/>
              <a:ext cx="1800360" cy="1800000"/>
              <a:chOff x="1871640" y="1952640"/>
              <a:chExt cx="1800360" cy="1800000"/>
            </a:xfrm>
          </p:grpSpPr>
          <p:sp>
            <p:nvSpPr>
              <p:cNvPr id="95" name=""/>
              <p:cNvSpPr/>
              <p:nvPr/>
            </p:nvSpPr>
            <p:spPr>
              <a:xfrm>
                <a:off x="1871640" y="1952640"/>
                <a:ext cx="1800360" cy="18000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05160" y="2716200"/>
                <a:ext cx="43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宋体"/>
                  </a:rPr>
                  <a:t>O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765520" y="2781360"/>
              <a:ext cx="41400" cy="39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0.00532 L -0.2875 0.00532 E">
                                      <p:cBhvr>
                                        <p:cTn id="6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归纳 ：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18960"/>
            <a:ext cx="73152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圆具有旋转不变性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即一个圆绕着它的圆心旋转任意一个角度，都能与原来的圆重合。因此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圆是中心对称圆形，对称中心为圆心。圆的中心对称性是其旋转不变性的特例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ffff"/>
                </a:solidFill>
                <a:latin typeface="Tahoma"/>
              </a:rPr>
              <a:t>做一做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316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按下面的步骤做一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利用手中已准备的两张半径相等的透明圆胶片，在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′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上分别作相等的圆心角 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 O 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′O′B′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然后将两圆的圆心固定在一起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将其中的一个圆旋转一个角度，使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 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′A′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重合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295960" y="4799160"/>
            <a:ext cx="762120" cy="661680"/>
          </a:xfrm>
          <a:prstGeom prst="rightArrow">
            <a:avLst>
              <a:gd name="adj1" fmla="val 50000"/>
              <a:gd name="adj2" fmla="val 287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9640" y="4292640"/>
            <a:ext cx="2708280" cy="2197080"/>
            <a:chOff x="539640" y="4292640"/>
            <a:chExt cx="2708280" cy="2197080"/>
          </a:xfrm>
        </p:grpSpPr>
        <p:grpSp>
          <p:nvGrpSpPr>
            <p:cNvPr id="104" name=""/>
            <p:cNvGrpSpPr/>
            <p:nvPr/>
          </p:nvGrpSpPr>
          <p:grpSpPr>
            <a:xfrm>
              <a:off x="539640" y="4473360"/>
              <a:ext cx="2016000" cy="2016360"/>
              <a:chOff x="539640" y="4473360"/>
              <a:chExt cx="2016000" cy="2016360"/>
            </a:xfrm>
          </p:grpSpPr>
          <p:sp>
            <p:nvSpPr>
              <p:cNvPr id="105" name=""/>
              <p:cNvSpPr/>
              <p:nvPr/>
            </p:nvSpPr>
            <p:spPr>
              <a:xfrm>
                <a:off x="539640" y="4473360"/>
                <a:ext cx="2016000" cy="201636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17760" y="4640400"/>
                <a:ext cx="1008000" cy="871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555640" y="533700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23920" y="42926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2440" y="5516280"/>
              <a:ext cx="7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16360" y="4292640"/>
            <a:ext cx="2708280" cy="2197080"/>
            <a:chOff x="2916360" y="4292640"/>
            <a:chExt cx="2708280" cy="2197080"/>
          </a:xfrm>
        </p:grpSpPr>
        <p:grpSp>
          <p:nvGrpSpPr>
            <p:cNvPr id="111" name=""/>
            <p:cNvGrpSpPr/>
            <p:nvPr/>
          </p:nvGrpSpPr>
          <p:grpSpPr>
            <a:xfrm>
              <a:off x="2916360" y="4473720"/>
              <a:ext cx="2016000" cy="2016000"/>
              <a:chOff x="2916360" y="4473720"/>
              <a:chExt cx="2016000" cy="201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916360" y="4473720"/>
                <a:ext cx="2016000" cy="20160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94480" y="4640760"/>
                <a:ext cx="1008000" cy="871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932360" y="5337000"/>
              <a:ext cx="6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00640" y="42926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29160" y="5516640"/>
              <a:ext cx="7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2 -2.31214E-006 L 0.41094 -2.31214E-006 E">
                                      <p:cBhvr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78 -2.31214E-006 L 0.66701 -2.31214E-006 E">
                                      <p:cBhvr>
                                        <p:cTn id="2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35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你能从中发现哪些等量关系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说一说你的理由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63640" y="3320640"/>
            <a:ext cx="752616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定理：在同圆或等圆中，相等的圆心角所对          的弧相等，所对的弦相等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想一想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在同圆或等圆中，如果两个圆心角所对的弧相等，那么它们所对的弦相等吗？这两个圆心角相等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是怎么想的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在同圆或等到圆中，如果两条弦相等，那么它们所对的圆心角相等吗？它们所对的弧相等吗？你是怎么想的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10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281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推理格式：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340000" y="1449360"/>
            <a:ext cx="4964040" cy="1923840"/>
            <a:chOff x="2340000" y="1449360"/>
            <a:chExt cx="4964040" cy="1923840"/>
          </a:xfrm>
        </p:grpSpPr>
        <p:sp>
          <p:nvSpPr>
            <p:cNvPr id="123" name=""/>
            <p:cNvSpPr/>
            <p:nvPr/>
          </p:nvSpPr>
          <p:spPr>
            <a:xfrm>
              <a:off x="2340000" y="14713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701800" y="1449360"/>
              <a:ext cx="1800360" cy="1800000"/>
              <a:chOff x="2701800" y="1449360"/>
              <a:chExt cx="1800360" cy="1800000"/>
            </a:xfrm>
          </p:grpSpPr>
          <p:sp>
            <p:nvSpPr>
              <p:cNvPr id="125" name=""/>
              <p:cNvSpPr/>
              <p:nvPr/>
            </p:nvSpPr>
            <p:spPr>
              <a:xfrm>
                <a:off x="2701800" y="1449360"/>
                <a:ext cx="1800360" cy="18000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601800" y="1760760"/>
                <a:ext cx="720000" cy="1092240"/>
                <a:chOff x="3601800" y="1760760"/>
                <a:chExt cx="720000" cy="1092240"/>
              </a:xfrm>
            </p:grpSpPr>
            <p:sp>
              <p:nvSpPr>
                <p:cNvPr id="127" name=""/>
                <p:cNvSpPr/>
                <p:nvPr/>
              </p:nvSpPr>
              <p:spPr>
                <a:xfrm flipV="1">
                  <a:off x="3601800" y="1760760"/>
                  <a:ext cx="72000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601800" y="2307240"/>
                  <a:ext cx="72000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21800" y="1761120"/>
                  <a:ext cx="0" cy="1091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5140080" y="1449360"/>
              <a:ext cx="1800360" cy="1800000"/>
              <a:chOff x="5140080" y="1449360"/>
              <a:chExt cx="1800360" cy="1800000"/>
            </a:xfrm>
          </p:grpSpPr>
          <p:sp>
            <p:nvSpPr>
              <p:cNvPr id="131" name=""/>
              <p:cNvSpPr/>
              <p:nvPr/>
            </p:nvSpPr>
            <p:spPr>
              <a:xfrm>
                <a:off x="5140080" y="1449360"/>
                <a:ext cx="1800360" cy="18000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6040080" y="1760760"/>
                <a:ext cx="720000" cy="1092240"/>
                <a:chOff x="6040080" y="1760760"/>
                <a:chExt cx="720000" cy="1092240"/>
              </a:xfrm>
            </p:grpSpPr>
            <p:sp>
              <p:nvSpPr>
                <p:cNvPr id="133" name=""/>
                <p:cNvSpPr/>
                <p:nvPr/>
              </p:nvSpPr>
              <p:spPr>
                <a:xfrm flipV="1">
                  <a:off x="6040080" y="1760760"/>
                  <a:ext cx="72000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040080" y="2307240"/>
                  <a:ext cx="72000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760080" y="1761120"/>
                  <a:ext cx="0" cy="1091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"/>
            <p:cNvSpPr/>
            <p:nvPr/>
          </p:nvSpPr>
          <p:spPr>
            <a:xfrm>
              <a:off x="4134960" y="30049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98760" y="156492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34600" y="243324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00480" y="1564920"/>
              <a:ext cx="4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46040" y="2966760"/>
              <a:ext cx="40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77200" y="2509560"/>
              <a:ext cx="43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900000" y="3645000"/>
            <a:ext cx="4387320" cy="2311560"/>
            <a:chOff x="900000" y="3645000"/>
            <a:chExt cx="4387320" cy="2311560"/>
          </a:xfrm>
        </p:grpSpPr>
        <p:sp>
          <p:nvSpPr>
            <p:cNvPr id="143" name=""/>
            <p:cNvSpPr/>
            <p:nvPr/>
          </p:nvSpPr>
          <p:spPr>
            <a:xfrm>
              <a:off x="1319400" y="3645000"/>
              <a:ext cx="3967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如图所示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(1)∵⊙O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和⊙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O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是等圆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且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O B=   A′O′B′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∴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A′B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，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 A′B′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66880" y="5440320"/>
              <a:ext cx="42084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81280" y="5440320"/>
              <a:ext cx="53352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00000" y="4983120"/>
              <a:ext cx="380880" cy="326880"/>
              <a:chOff x="900000" y="4983120"/>
              <a:chExt cx="380880" cy="32688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900000" y="4983120"/>
                <a:ext cx="357120" cy="326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00000" y="531000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500200" y="5005440"/>
              <a:ext cx="380880" cy="326880"/>
              <a:chOff x="2500200" y="5005440"/>
              <a:chExt cx="380880" cy="32688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2500200" y="5005440"/>
                <a:ext cx="357120" cy="326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500200" y="533232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517320" y="1052640"/>
            <a:ext cx="6482880" cy="4513320"/>
            <a:chOff x="517320" y="1052640"/>
            <a:chExt cx="6482880" cy="4513320"/>
          </a:xfrm>
        </p:grpSpPr>
        <p:sp>
          <p:nvSpPr>
            <p:cNvPr id="153" name=""/>
            <p:cNvSpPr/>
            <p:nvPr/>
          </p:nvSpPr>
          <p:spPr>
            <a:xfrm>
              <a:off x="1802520" y="1052640"/>
              <a:ext cx="51976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∵⊙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O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和⊙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O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是等圆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且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 A′B′,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∴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A′B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， 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O B=   A′O′B′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2880" y="1073160"/>
              <a:ext cx="6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(2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618000" y="2167200"/>
              <a:ext cx="2209320" cy="349200"/>
              <a:chOff x="3618000" y="2167200"/>
              <a:chExt cx="2209320" cy="3492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18000" y="2167200"/>
                <a:ext cx="380880" cy="327240"/>
                <a:chOff x="3618000" y="2167200"/>
                <a:chExt cx="380880" cy="327240"/>
              </a:xfrm>
            </p:grpSpPr>
            <p:sp>
              <p:nvSpPr>
                <p:cNvPr id="157" name=""/>
                <p:cNvSpPr/>
                <p:nvPr/>
              </p:nvSpPr>
              <p:spPr>
                <a:xfrm flipH="1">
                  <a:off x="3618000" y="2167200"/>
                  <a:ext cx="357120" cy="327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18000" y="2494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446440" y="2189520"/>
                <a:ext cx="380880" cy="326880"/>
                <a:chOff x="5446440" y="2189520"/>
                <a:chExt cx="380880" cy="326880"/>
              </a:xfrm>
            </p:grpSpPr>
            <p:sp>
              <p:nvSpPr>
                <p:cNvPr id="160" name=""/>
                <p:cNvSpPr/>
                <p:nvPr/>
              </p:nvSpPr>
              <p:spPr>
                <a:xfrm flipH="1">
                  <a:off x="5446440" y="2189520"/>
                  <a:ext cx="357120" cy="326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446440" y="2516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1467000" y="1557360"/>
              <a:ext cx="42048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22720" y="1557360"/>
              <a:ext cx="71892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94600" y="3595680"/>
              <a:ext cx="51976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∵⊙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O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和⊙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O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是等圆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且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 A′B′,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∴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B=A′B′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， 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A O B=   A′O′B′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694320" y="4681800"/>
              <a:ext cx="380880" cy="326880"/>
              <a:chOff x="3694320" y="4681800"/>
              <a:chExt cx="380880" cy="3268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3694320" y="4681800"/>
                <a:ext cx="357120" cy="326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94320" y="500868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70120" y="4703760"/>
              <a:ext cx="381600" cy="327240"/>
              <a:chOff x="5370120" y="4703760"/>
              <a:chExt cx="381600" cy="327240"/>
            </a:xfrm>
          </p:grpSpPr>
          <p:sp>
            <p:nvSpPr>
              <p:cNvPr id="169" name=""/>
              <p:cNvSpPr/>
              <p:nvPr/>
            </p:nvSpPr>
            <p:spPr>
              <a:xfrm flipH="1">
                <a:off x="5370120" y="4703760"/>
                <a:ext cx="357480" cy="327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70480" y="5031000"/>
                <a:ext cx="3812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749600" y="4605480"/>
              <a:ext cx="42048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75000" y="4605480"/>
              <a:ext cx="719280" cy="76320"/>
            </a:xfrm>
            <a:custGeom>
              <a:avLst/>
              <a:gdLst/>
              <a:ahLst/>
              <a:rect l="l" t="t" r="r" b="b"/>
              <a:pathLst>
                <a:path w="1080" h="156">
                  <a:moveTo>
                    <a:pt x="0" y="156"/>
                  </a:moveTo>
                  <a:cubicBezTo>
                    <a:pt x="180" y="78"/>
                    <a:pt x="360" y="0"/>
                    <a:pt x="540" y="0"/>
                  </a:cubicBezTo>
                  <a:cubicBezTo>
                    <a:pt x="720" y="0"/>
                    <a:pt x="990" y="130"/>
                    <a:pt x="1080" y="1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7320" y="3591000"/>
              <a:ext cx="6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(3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281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探索总结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61084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定理：在同圆或等圆中，如果两个圆心角、两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条弧、两条弦中有一组量相等，那么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们所对应的其余各组量都分别相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2-18T02:48:33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