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7D4-FA75-43C5-BBD8-3ABBC623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B90-7624-4E49-A2FB-27300244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5DA-6E06-4F30-865B-D6ABEDCE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F6A-26AF-4D43-AB41-298660DC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D04-D3C6-4FDA-A735-A0CCF405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133-41E1-4ACC-8C5E-7360F650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D52-296C-4298-96F6-9E54DAA0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EEF-1AB8-4D90-A5A4-1BAE4009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115-6985-4734-B49C-00AEF545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AAD1-0D9F-4CA0-AD90-1750B32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36B-700F-4D16-A3B9-2ACBDE1E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230-9A57-4C74-8D74-AC2F42F0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E019-A879-4FE6-8E0B-201C47DCB1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793880"/>
            <a:ext cx="7619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 </a:t>
            </a: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三章  圆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58800" y="3697200"/>
            <a:ext cx="61722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 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四节   确定圆的条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image005" descr=""/>
          <p:cNvPicPr/>
          <p:nvPr/>
        </p:nvPicPr>
        <p:blipFill>
          <a:blip r:embed="rId1"/>
          <a:stretch/>
        </p:blipFill>
        <p:spPr>
          <a:xfrm>
            <a:off x="5638680" y="3693960"/>
            <a:ext cx="32004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336680"/>
            <a:ext cx="8839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如图是一块残缺的圆形木盖，现要重新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作一块与原来一样大小的圆形木盖，你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如何制作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3040" y="80496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巩固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840" y="359244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你现在能解决课前的问题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990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课堂小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3080" y="1981080"/>
            <a:ext cx="81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通过本课的学习，你有什么收获？还有什么问题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040" y="2971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确定圆的条件——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28960" y="2590920"/>
            <a:ext cx="3543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在同一直线上的三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429000"/>
            <a:ext cx="1981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圆心、半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2685960"/>
            <a:ext cx="304560" cy="110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8800 h 1108080"/>
              <a:gd name="textAreaBottom" fmla="*/ 1079280 h 11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040" y="4343400"/>
            <a:ext cx="78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锐角三角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三角形的内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直角三角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--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外心的位置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---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斜边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钝角三角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三角形的外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441972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4495680"/>
            <a:ext cx="469800" cy="1305000"/>
          </a:xfrm>
          <a:custGeom>
            <a:avLst/>
            <a:gdLst>
              <a:gd name="textAreaLeft" fmla="*/ 300240 w 469800"/>
              <a:gd name="textAreaRight" fmla="*/ 470160 w 469800"/>
              <a:gd name="textAreaTop" fmla="*/ 33840 h 1305000"/>
              <a:gd name="textAreaBottom" fmla="*/ 1271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20920" y="797868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73200" y="81313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25840" y="82836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52600" y="800280"/>
            <a:ext cx="8286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课后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教材习题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 algn="just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预习下节课内容，搜集现实生活中直线和圆的位置关系的现象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338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某地区在一空地上新建了三个居住小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现要规划一间学校，使学校到三个小区的距离相等。你如何选取这所学校的地点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22860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54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议一议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4338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当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三点在同一直线时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22320" y="5199120"/>
            <a:ext cx="75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当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三点不在同一直线时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872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类比确定直线的条件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04480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经过一点可以作无数条直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59680" y="1887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11960" y="97308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67680" y="1261080"/>
            <a:ext cx="1736280" cy="171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5280" y="21924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51560" y="1327680"/>
            <a:ext cx="1719720" cy="172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05240" y="1694520"/>
            <a:ext cx="2238840" cy="96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843960" y="1044720"/>
            <a:ext cx="984960" cy="22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353280" y="1644480"/>
            <a:ext cx="2228760" cy="98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87880" y="983520"/>
            <a:ext cx="808560" cy="230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440" y="3105000"/>
            <a:ext cx="57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经过两点只能作一条直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8832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4572000"/>
            <a:ext cx="2438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760" y="4495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经过三点能作几条直线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4480" y="990720"/>
            <a:ext cx="8850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经过一点可以作几个圆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?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经过两点、三点……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760" y="2209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作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使它过已知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能作出几个这样的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90988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作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使它过已知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,B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你能作出几个这样的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34080" y="5030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21600" y="5030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657760" y="3735360"/>
            <a:ext cx="1962360" cy="1962000"/>
            <a:chOff x="5657760" y="3735360"/>
            <a:chExt cx="1962360" cy="1962000"/>
          </a:xfrm>
        </p:grpSpPr>
        <p:sp>
          <p:nvSpPr>
            <p:cNvPr id="71" name=""/>
            <p:cNvSpPr/>
            <p:nvPr/>
          </p:nvSpPr>
          <p:spPr>
            <a:xfrm>
              <a:off x="5657760" y="3735360"/>
              <a:ext cx="1962360" cy="1962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23200" y="4476600"/>
              <a:ext cx="74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886360" y="4573440"/>
            <a:ext cx="1524240" cy="1463760"/>
            <a:chOff x="5886360" y="4573440"/>
            <a:chExt cx="1524240" cy="1463760"/>
          </a:xfrm>
        </p:grpSpPr>
        <p:sp>
          <p:nvSpPr>
            <p:cNvPr id="74" name=""/>
            <p:cNvSpPr/>
            <p:nvPr/>
          </p:nvSpPr>
          <p:spPr>
            <a:xfrm>
              <a:off x="5886360" y="4573440"/>
              <a:ext cx="1524240" cy="1463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61000" y="512748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505480" y="3368520"/>
            <a:ext cx="2286000" cy="2195640"/>
            <a:chOff x="5505480" y="3368520"/>
            <a:chExt cx="2286000" cy="2195640"/>
          </a:xfrm>
        </p:grpSpPr>
        <p:sp>
          <p:nvSpPr>
            <p:cNvPr id="77" name=""/>
            <p:cNvSpPr/>
            <p:nvPr/>
          </p:nvSpPr>
          <p:spPr>
            <a:xfrm>
              <a:off x="5505480" y="3368520"/>
              <a:ext cx="2286000" cy="2195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8160" y="420048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734080" y="4951440"/>
            <a:ext cx="1828800" cy="1755720"/>
            <a:chOff x="5734080" y="4951440"/>
            <a:chExt cx="1828800" cy="1755720"/>
          </a:xfrm>
        </p:grpSpPr>
        <p:sp>
          <p:nvSpPr>
            <p:cNvPr id="80" name=""/>
            <p:cNvSpPr/>
            <p:nvPr/>
          </p:nvSpPr>
          <p:spPr>
            <a:xfrm>
              <a:off x="5734080" y="4951440"/>
              <a:ext cx="1828800" cy="1755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43720" y="5616720"/>
              <a:ext cx="6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381400" y="3832200"/>
            <a:ext cx="1962000" cy="1962000"/>
            <a:chOff x="2381400" y="3832200"/>
            <a:chExt cx="1962000" cy="1962000"/>
          </a:xfrm>
        </p:grpSpPr>
        <p:sp>
          <p:nvSpPr>
            <p:cNvPr id="83" name=""/>
            <p:cNvSpPr/>
            <p:nvPr/>
          </p:nvSpPr>
          <p:spPr>
            <a:xfrm>
              <a:off x="2381400" y="3832200"/>
              <a:ext cx="1962000" cy="1962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6480" y="4573440"/>
              <a:ext cx="74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228760" y="4594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969920" y="4896000"/>
            <a:ext cx="1200240" cy="1199880"/>
            <a:chOff x="1969920" y="4896000"/>
            <a:chExt cx="1200240" cy="1199880"/>
          </a:xfrm>
        </p:grpSpPr>
        <p:sp>
          <p:nvSpPr>
            <p:cNvPr id="87" name=""/>
            <p:cNvSpPr/>
            <p:nvPr/>
          </p:nvSpPr>
          <p:spPr>
            <a:xfrm>
              <a:off x="1969920" y="4896000"/>
              <a:ext cx="1200240" cy="119988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98760" y="5349960"/>
              <a:ext cx="4539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124000" y="3833640"/>
            <a:ext cx="1200240" cy="1200240"/>
            <a:chOff x="2124000" y="3833640"/>
            <a:chExt cx="1200240" cy="1200240"/>
          </a:xfrm>
        </p:grpSpPr>
        <p:sp>
          <p:nvSpPr>
            <p:cNvPr id="90" name=""/>
            <p:cNvSpPr/>
            <p:nvPr/>
          </p:nvSpPr>
          <p:spPr>
            <a:xfrm>
              <a:off x="2124000" y="3833640"/>
              <a:ext cx="1200240" cy="12002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52840" y="4287960"/>
              <a:ext cx="45396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525680" y="4376880"/>
            <a:ext cx="863640" cy="910440"/>
            <a:chOff x="1525680" y="4376880"/>
            <a:chExt cx="863640" cy="910440"/>
          </a:xfrm>
        </p:grpSpPr>
        <p:sp>
          <p:nvSpPr>
            <p:cNvPr id="93" name=""/>
            <p:cNvSpPr/>
            <p:nvPr/>
          </p:nvSpPr>
          <p:spPr>
            <a:xfrm>
              <a:off x="1525680" y="4376880"/>
              <a:ext cx="863640" cy="788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6560" y="4675320"/>
              <a:ext cx="325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57200" y="4038480"/>
            <a:ext cx="1962000" cy="1962360"/>
            <a:chOff x="457200" y="4038480"/>
            <a:chExt cx="1962000" cy="1962360"/>
          </a:xfrm>
        </p:grpSpPr>
        <p:sp>
          <p:nvSpPr>
            <p:cNvPr id="96" name=""/>
            <p:cNvSpPr/>
            <p:nvPr/>
          </p:nvSpPr>
          <p:spPr>
            <a:xfrm>
              <a:off x="457200" y="403848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9680" y="4745160"/>
              <a:ext cx="74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990720"/>
            <a:ext cx="899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过已知点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A,B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作圆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可以作无数个圆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79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你准备如何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圆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半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作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69244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9240" indent="-84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其圆心的分布有什么特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线段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44880"/>
            <a:ext cx="6477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9240" indent="-84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经过两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,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圆的圆心在线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垂直平分线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-84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49240" indent="-84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以线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垂直平分线上的任意一点为圆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点到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或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距离为半径作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4208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426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10560" y="4572000"/>
            <a:ext cx="1473120" cy="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3200" y="2187720"/>
            <a:ext cx="2880" cy="398448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665760" y="2971800"/>
            <a:ext cx="1962360" cy="1962000"/>
            <a:chOff x="6665760" y="2971800"/>
            <a:chExt cx="1962360" cy="1962000"/>
          </a:xfrm>
        </p:grpSpPr>
        <p:sp>
          <p:nvSpPr>
            <p:cNvPr id="108" name=""/>
            <p:cNvSpPr/>
            <p:nvPr/>
          </p:nvSpPr>
          <p:spPr>
            <a:xfrm>
              <a:off x="6665760" y="2971800"/>
              <a:ext cx="1962360" cy="1962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31200" y="3713040"/>
              <a:ext cx="74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858000" y="3809880"/>
            <a:ext cx="1523880" cy="1463760"/>
            <a:chOff x="6858000" y="3809880"/>
            <a:chExt cx="1523880" cy="1463760"/>
          </a:xfrm>
        </p:grpSpPr>
        <p:sp>
          <p:nvSpPr>
            <p:cNvPr id="111" name=""/>
            <p:cNvSpPr/>
            <p:nvPr/>
          </p:nvSpPr>
          <p:spPr>
            <a:xfrm>
              <a:off x="6858000" y="3809880"/>
              <a:ext cx="1523880" cy="14637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32640" y="436392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13480" y="2604960"/>
            <a:ext cx="2286000" cy="2195640"/>
            <a:chOff x="6513480" y="2604960"/>
            <a:chExt cx="2286000" cy="2195640"/>
          </a:xfrm>
        </p:grpSpPr>
        <p:sp>
          <p:nvSpPr>
            <p:cNvPr id="114" name=""/>
            <p:cNvSpPr/>
            <p:nvPr/>
          </p:nvSpPr>
          <p:spPr>
            <a:xfrm>
              <a:off x="6513480" y="2604960"/>
              <a:ext cx="2286000" cy="2195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6160" y="3436920"/>
              <a:ext cx="86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724800" y="4187880"/>
            <a:ext cx="1828800" cy="1755720"/>
            <a:chOff x="6724800" y="4187880"/>
            <a:chExt cx="1828800" cy="1755720"/>
          </a:xfrm>
        </p:grpSpPr>
        <p:sp>
          <p:nvSpPr>
            <p:cNvPr id="117" name=""/>
            <p:cNvSpPr/>
            <p:nvPr/>
          </p:nvSpPr>
          <p:spPr>
            <a:xfrm>
              <a:off x="6724800" y="4187880"/>
              <a:ext cx="1828800" cy="17557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4853160"/>
              <a:ext cx="68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320" y="990720"/>
            <a:ext cx="899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作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使它过已知点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A,B,C(A,B,C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三点不在同一条直线上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),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你能作出几个这样的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981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你准备如何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圆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半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作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17664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9600" indent="-579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老师提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9600" indent="-579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能否转化为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情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经过两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,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圆的圆心在线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垂直平分线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146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其圆心的位置有什么特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63716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9600" indent="-579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经过两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B,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圆的圆心在线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垂直平分线上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55990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2040" indent="-662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经过三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圆的圆心应该这两条垂直平分线的交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位置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92840" y="3886200"/>
            <a:ext cx="674640" cy="13017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552720" y="4155120"/>
            <a:ext cx="2057400" cy="1178640"/>
            <a:chOff x="6552720" y="4155120"/>
            <a:chExt cx="2057400" cy="1178640"/>
          </a:xfrm>
        </p:grpSpPr>
        <p:sp>
          <p:nvSpPr>
            <p:cNvPr id="128" name=""/>
            <p:cNvSpPr/>
            <p:nvPr/>
          </p:nvSpPr>
          <p:spPr>
            <a:xfrm flipH="1" flipV="1">
              <a:off x="6552720" y="4190760"/>
              <a:ext cx="2057400" cy="11430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593600">
              <a:off x="7085880" y="4267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629400" y="4915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58200" y="4896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5181480"/>
            <a:ext cx="1839960" cy="6480"/>
          </a:xfrm>
          <a:prstGeom prst="line">
            <a:avLst/>
          </a:prstGeom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365960" y="3657600"/>
            <a:ext cx="609480" cy="2438280"/>
            <a:chOff x="7365960" y="3657600"/>
            <a:chExt cx="609480" cy="2438280"/>
          </a:xfrm>
        </p:grpSpPr>
        <p:sp>
          <p:nvSpPr>
            <p:cNvPr id="134" name=""/>
            <p:cNvSpPr/>
            <p:nvPr/>
          </p:nvSpPr>
          <p:spPr>
            <a:xfrm>
              <a:off x="7753320" y="3657600"/>
              <a:ext cx="0" cy="2438280"/>
            </a:xfrm>
            <a:prstGeom prst="line">
              <a:avLst/>
            </a:prstGeom>
            <a:ln w="93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6596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334280" y="3560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724800" y="3828960"/>
            <a:ext cx="1962000" cy="1962360"/>
            <a:chOff x="6724800" y="3828960"/>
            <a:chExt cx="1962000" cy="1962360"/>
          </a:xfrm>
        </p:grpSpPr>
        <p:sp>
          <p:nvSpPr>
            <p:cNvPr id="138" name=""/>
            <p:cNvSpPr/>
            <p:nvPr/>
          </p:nvSpPr>
          <p:spPr>
            <a:xfrm>
              <a:off x="7620120" y="4572000"/>
              <a:ext cx="6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3828960"/>
              <a:ext cx="1962000" cy="19623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7589880" y="4570560"/>
            <a:ext cx="74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14300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定理 ：不在同一条直线上的三个点确定一个圆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225520"/>
            <a:ext cx="6400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三角形的三个顶点确定一个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圆叫做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三角形的外接圆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个三角形叫做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圆的内接三角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9495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2040" indent="-662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外接圆的圆心是三角形三边垂直平分线的交点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叫做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三角形的外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248520" y="2514600"/>
            <a:ext cx="2743200" cy="2343240"/>
            <a:chOff x="6248520" y="2514600"/>
            <a:chExt cx="2743200" cy="2343240"/>
          </a:xfrm>
        </p:grpSpPr>
        <p:sp>
          <p:nvSpPr>
            <p:cNvPr id="146" name=""/>
            <p:cNvSpPr/>
            <p:nvPr/>
          </p:nvSpPr>
          <p:spPr>
            <a:xfrm>
              <a:off x="7494480" y="3637080"/>
              <a:ext cx="74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ccff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720" y="2514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4852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345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6629400" y="2895480"/>
              <a:ext cx="1962000" cy="1962360"/>
              <a:chOff x="6629400" y="2895480"/>
              <a:chExt cx="1962000" cy="1962360"/>
            </a:xfrm>
          </p:grpSpPr>
          <p:sp>
            <p:nvSpPr>
              <p:cNvPr id="151" name=""/>
              <p:cNvSpPr/>
              <p:nvPr/>
            </p:nvSpPr>
            <p:spPr>
              <a:xfrm>
                <a:off x="6629400" y="2895480"/>
                <a:ext cx="1962000" cy="19623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05720" y="4343400"/>
                <a:ext cx="1752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6705720" y="2971800"/>
                <a:ext cx="121896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924680" y="2971800"/>
                <a:ext cx="53352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743040" y="5505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如果三个点在同一直线时可以作圆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920" y="161136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9600" indent="-579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分别作出锐角三角形、直角三角形、钝角三角形的外接圆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并说明它们外心的位置情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914040" y="3027240"/>
            <a:ext cx="121932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2570040"/>
            <a:ext cx="2743200" cy="2212560"/>
            <a:chOff x="457200" y="2570040"/>
            <a:chExt cx="2743200" cy="2212560"/>
          </a:xfrm>
        </p:grpSpPr>
        <p:sp>
          <p:nvSpPr>
            <p:cNvPr id="160" name=""/>
            <p:cNvSpPr/>
            <p:nvPr/>
          </p:nvSpPr>
          <p:spPr>
            <a:xfrm>
              <a:off x="2057400" y="2570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42465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43200" y="432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14400" y="439884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3720" y="3027240"/>
              <a:ext cx="533160" cy="137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38080" y="2951280"/>
            <a:ext cx="1962360" cy="196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03520" y="3692520"/>
            <a:ext cx="7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324480" y="3027240"/>
            <a:ext cx="2057400" cy="2136240"/>
            <a:chOff x="6324480" y="3027240"/>
            <a:chExt cx="2057400" cy="2136240"/>
          </a:xfrm>
        </p:grpSpPr>
        <p:sp>
          <p:nvSpPr>
            <p:cNvPr id="168" name=""/>
            <p:cNvSpPr/>
            <p:nvPr/>
          </p:nvSpPr>
          <p:spPr>
            <a:xfrm flipV="1">
              <a:off x="7086600" y="4818240"/>
              <a:ext cx="7603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629400" y="3408120"/>
              <a:ext cx="45720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647040" y="3444840"/>
              <a:ext cx="1201680" cy="1411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24480" y="3027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81680" y="4703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01000" y="4627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768840" y="3408480"/>
            <a:ext cx="1601640" cy="1079280"/>
          </a:xfrm>
          <a:prstGeom prst="rtTriangl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398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3103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4398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76680" y="409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00360" y="2951280"/>
            <a:ext cx="1962360" cy="196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65800" y="3692520"/>
            <a:ext cx="7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96200" y="2951280"/>
            <a:ext cx="1962000" cy="1962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61280" y="3692520"/>
            <a:ext cx="7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Tahoma"/>
              </a:rPr>
              <a:t>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5419800"/>
            <a:ext cx="90676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锐角三角形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外心位于三角形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内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直角三角形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外心位于直角三角形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斜边中点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钝角三角形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外心位于三角形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外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3040" y="990720"/>
            <a:ext cx="32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巩固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85760" y="1387440"/>
            <a:ext cx="914400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8004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判断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8004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经过三点一定可以作圆   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8004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任意一个三角形有且只有一个外接圆（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8004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角形的外心是三角形三边中线的交点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8004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角形外心到三角形三个顶点距离相等（        ）</a:t>
            </a: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800440"/>
                <a:tab algn="l" pos="4172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3040" y="990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巩固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98880" y="253836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56360" y="423864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39000" y="51116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15160" y="33764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67816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课题：确定圆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6:57:38Z</dcterms:created>
  <dc:creator>xhyz_jz</dc:creator>
  <dc:description/>
  <dc:language>en-US</dc:language>
  <cp:lastModifiedBy>User</cp:lastModifiedBy>
  <dcterms:modified xsi:type="dcterms:W3CDTF">2014-02-18T02:51:29Z</dcterms:modified>
  <cp:revision>65</cp:revision>
  <dc:subject/>
  <dc:title>PowerPoint 演示文稿</dc:title>
</cp:coreProperties>
</file>