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9.gif" ContentType="image/gif"/>
  <Override PartName="/ppt/media/image13.jpeg" ContentType="image/jpeg"/>
  <Override PartName="/ppt/media/image12.wmf" ContentType="image/x-wmf"/>
  <Override PartName="/ppt/media/chimes.wav" ContentType="audio/x-wav"/>
  <Override PartName="/ppt/media/image1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7.jpeg" ContentType="image/jpe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4B5-704E-4C61-8299-D75AC8C5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299-7C43-4341-9CE3-80A51BFB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1AB-4E52-472E-A636-791F2867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82C-E56E-4076-A816-7D074773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2DC0-045C-49C2-B379-AEF051B1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47ED-94B0-4DA7-A4A2-81BE01B3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8C0B-3B70-48B4-ADC8-1FB39590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0AF-7FEF-477A-93C6-83D7AF00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E499-476A-426C-96A2-712D29B3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D1C2-53C0-4328-9BC7-D71292D0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084C-8D9C-4D56-91F6-B01608E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47C-DE87-4867-9C6F-DF6FF2CE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359B-305B-44C3-AA3B-FEA4968C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260C-D65F-4A3E-AF92-E38AA885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53F6-05E4-4FC9-98F8-0207C860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B126-BB0C-45FF-B7AD-97E0B86C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BF33-375C-453F-B28D-A852B283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820-139E-47DD-85A3-F7F72812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59D-DB04-462F-A9DF-216B03E8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633-92F5-4397-A75A-F9694C42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99B-627D-4B56-9B60-50F20C9A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E51-9D9E-45A4-9520-025042D2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1B9-77D0-4677-82DA-857D6F8A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9BD-D1A1-47AE-8898-4E3D263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14F2-0141-4133-8789-D6E173EE19DF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0D75-7789-4C7C-B783-27D83596F43F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" Target="slide6.xml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" Target="slide6.xml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wm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audio" Target="../media/chimes.wav"/><Relationship Id="rId17" Type="http://schemas.openxmlformats.org/officeDocument/2006/relationships/audio" Target="../media/type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" Target="slide6.xml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9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" Target="slide6.xml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25441201&amp;tn=baiduimagedetail&amp;word=&#22826;&#38451;&#21319;&#36215;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.baidu.com/i?ct=503316480&amp;z=102242952&amp;tn=baiduimagedetail&amp;word=&#22826;&#38451;&#21319;&#36215;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" Target="slide6.xml"/><Relationship Id="rId10" Type="http://schemas.openxmlformats.org/officeDocument/2006/relationships/hyperlink" Target="http://image.baidu.com/i?ct=503316480&amp;z=442933150&amp;tn=baiduimagedetail&amp;word=&#22826;&#38451;&#21319;&#36215;" TargetMode="External"/><Relationship Id="rId11" Type="http://schemas.openxmlformats.org/officeDocument/2006/relationships/image" Target="../media/image7.jpeg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58572652&amp;tn=baiduimagedetail&amp;word=&#22826;&#38451;&#33853;&#23665;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9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" Target="slide6.xml"/><Relationship Id="rId9" Type="http://schemas.openxmlformats.org/officeDocument/2006/relationships/hyperlink" Target="http://image.baidu.com/i?ct=503316480&amp;z=68846200&amp;tn=baiduimagedetail&amp;word=&#22826;&#38451;&#33853;&#23665;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.baidu.com/i?ct=503316480&amp;z=1084762501&amp;tn=baiduimagedetail&amp;word=&#22826;&#38451;&#33853;&#23665;" TargetMode="External"/><Relationship Id="rId12" Type="http://schemas.openxmlformats.org/officeDocument/2006/relationships/image" Target="../media/image11.jpeg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" Target="slide6.xml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" Target="slide6.xml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" Target="slide6.xml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" Target="slide6.xml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" Target="slide6.xml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" Target="slide6.xml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25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第三章 圆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227628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第五节  直线和圆的位置关系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一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982800"/>
            <a:ext cx="692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切线的性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参考小颖和小亮的说理过程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请你写出这个命题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55640" y="2781000"/>
            <a:ext cx="62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圆的切线垂直于过切点的半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334120" y="304920"/>
            <a:ext cx="3581280" cy="685800"/>
            <a:chOff x="5334120" y="304920"/>
            <a:chExt cx="3581280" cy="685800"/>
          </a:xfrm>
        </p:grpSpPr>
        <p:grpSp>
          <p:nvGrpSpPr>
            <p:cNvPr id="373" name=""/>
            <p:cNvGrpSpPr/>
            <p:nvPr/>
          </p:nvGrpSpPr>
          <p:grpSpPr>
            <a:xfrm>
              <a:off x="5334120" y="351000"/>
              <a:ext cx="2361960" cy="461880"/>
              <a:chOff x="5334120" y="351000"/>
              <a:chExt cx="2361960" cy="461880"/>
            </a:xfrm>
          </p:grpSpPr>
          <p:sp>
            <p:nvSpPr>
              <p:cNvPr id="374" name=""/>
              <p:cNvSpPr/>
              <p:nvPr/>
            </p:nvSpPr>
            <p:spPr>
              <a:xfrm>
                <a:off x="533412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 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细心总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213680" y="35100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76960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341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80" name="">
            <a:hlinkClick r:id="rId5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320" y="5257800"/>
            <a:ext cx="89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老师提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切线的性质是证明两线垂直的重要根据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;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作过切点的半径是常用的辅助线之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280" y="3276720"/>
            <a:ext cx="60962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如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切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切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O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半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∴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⊥O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00800" y="3124080"/>
            <a:ext cx="2743200" cy="2821680"/>
            <a:chOff x="6400800" y="3124080"/>
            <a:chExt cx="2743200" cy="2821680"/>
          </a:xfrm>
        </p:grpSpPr>
        <p:sp>
          <p:nvSpPr>
            <p:cNvPr id="384" name=""/>
            <p:cNvSpPr/>
            <p:nvPr/>
          </p:nvSpPr>
          <p:spPr>
            <a:xfrm>
              <a:off x="6400800" y="5333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62760" y="5333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05360" y="5581440"/>
              <a:ext cx="2119320" cy="6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67480" y="31240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43800" y="434304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648480" y="3600360"/>
              <a:ext cx="1962000" cy="1962000"/>
              <a:chOff x="6648480" y="3600360"/>
              <a:chExt cx="1962000" cy="1962000"/>
            </a:xfrm>
          </p:grpSpPr>
          <p:sp>
            <p:nvSpPr>
              <p:cNvPr id="390" name=""/>
              <p:cNvSpPr/>
              <p:nvPr/>
            </p:nvSpPr>
            <p:spPr>
              <a:xfrm>
                <a:off x="6648480" y="360036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13560" y="4341960"/>
                <a:ext cx="741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7696080" y="3582720"/>
              <a:ext cx="1440" cy="1960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43800" y="548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66294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切线性质的应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已知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Rt△ABC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的斜边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AB=8cm,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直角边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AC=4cm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029200" y="304920"/>
            <a:ext cx="3581280" cy="685800"/>
            <a:chOff x="5029200" y="304920"/>
            <a:chExt cx="3581280" cy="685800"/>
          </a:xfrm>
        </p:grpSpPr>
        <p:grpSp>
          <p:nvGrpSpPr>
            <p:cNvPr id="397" name=""/>
            <p:cNvGrpSpPr/>
            <p:nvPr/>
          </p:nvGrpSpPr>
          <p:grpSpPr>
            <a:xfrm>
              <a:off x="5029200" y="351000"/>
              <a:ext cx="2361960" cy="461880"/>
              <a:chOff x="5029200" y="351000"/>
              <a:chExt cx="2361960" cy="461880"/>
            </a:xfrm>
          </p:grpSpPr>
          <p:sp>
            <p:nvSpPr>
              <p:cNvPr id="398" name=""/>
              <p:cNvSpPr/>
              <p:nvPr/>
            </p:nvSpPr>
            <p:spPr>
              <a:xfrm>
                <a:off x="502920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例题尝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08760" y="35100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739116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02920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rId5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2438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以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为圆心作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当半径为多长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相切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81680" y="4800600"/>
            <a:ext cx="21337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老师提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模型“双垂直三角形”你可曾认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400800" y="2612880"/>
            <a:ext cx="2666520" cy="1884600"/>
            <a:chOff x="6400800" y="2612880"/>
            <a:chExt cx="2666520" cy="1884600"/>
          </a:xfrm>
        </p:grpSpPr>
        <p:sp>
          <p:nvSpPr>
            <p:cNvPr id="408" name=""/>
            <p:cNvSpPr/>
            <p:nvPr/>
          </p:nvSpPr>
          <p:spPr>
            <a:xfrm>
              <a:off x="6400800" y="261288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74600" y="3954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623080" y="403776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70880" y="3089520"/>
              <a:ext cx="1851840" cy="10317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96720" y="370260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0880" y="3115800"/>
              <a:ext cx="0" cy="1005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52280" y="33987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解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过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⊥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77000" y="2940120"/>
            <a:ext cx="773280" cy="1177920"/>
            <a:chOff x="6777000" y="2940120"/>
            <a:chExt cx="773280" cy="1177920"/>
          </a:xfrm>
        </p:grpSpPr>
        <p:sp>
          <p:nvSpPr>
            <p:cNvPr id="416" name=""/>
            <p:cNvSpPr/>
            <p:nvPr/>
          </p:nvSpPr>
          <p:spPr>
            <a:xfrm flipV="1">
              <a:off x="6777000" y="3278520"/>
              <a:ext cx="372960" cy="839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6600" y="2940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775400">
              <a:off x="7009200" y="3301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52280" y="39164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∵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B=8cm,AC=4cm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68360" y="4508640"/>
          <a:ext cx="2622600" cy="87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4508640"/>
                    <a:ext cx="26226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3348000" y="45813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SzPct val="5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黑体"/>
                <a:ea typeface="黑体"/>
              </a:rPr>
              <a:t>∴∠</a:t>
            </a:r>
            <a:r>
              <a:rPr b="1" lang="zh-CN" sz="3200" spc="-1" strike="noStrike">
                <a:solidFill>
                  <a:srgbClr val="5f5f5f"/>
                </a:solidFill>
                <a:latin typeface="黑体"/>
                <a:ea typeface="黑体"/>
              </a:rPr>
              <a:t>A=60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5280" y="5445000"/>
                <a:ext cx="6405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4" name=""/>
          <p:cNvGrpSpPr/>
          <p:nvPr/>
        </p:nvGrpSpPr>
        <p:grpSpPr>
          <a:xfrm>
            <a:off x="0" y="6318360"/>
            <a:ext cx="7086600" cy="539640"/>
            <a:chOff x="0" y="6318360"/>
            <a:chExt cx="7086600" cy="539640"/>
          </a:xfrm>
        </p:grpSpPr>
        <p:sp>
          <p:nvSpPr>
            <p:cNvPr id="425" name=""/>
            <p:cNvSpPr/>
            <p:nvPr/>
          </p:nvSpPr>
          <p:spPr>
            <a:xfrm>
              <a:off x="0" y="6318360"/>
              <a:ext cx="70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b2b2b2"/>
                </a:buClr>
                <a:buSzPct val="79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因此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,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当半径长为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cm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时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,AB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与⊙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C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相切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2971800" y="6364440"/>
                  <a:ext cx="65880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5945040" y="3201840"/>
            <a:ext cx="1598760" cy="1598760"/>
            <a:chOff x="5945040" y="3201840"/>
            <a:chExt cx="1598760" cy="1598760"/>
          </a:xfrm>
        </p:grpSpPr>
        <p:sp>
          <p:nvSpPr>
            <p:cNvPr id="428" name=""/>
            <p:cNvSpPr/>
            <p:nvPr/>
          </p:nvSpPr>
          <p:spPr>
            <a:xfrm>
              <a:off x="5945040" y="3201840"/>
              <a:ext cx="1598760" cy="159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51000" y="3807000"/>
              <a:ext cx="6040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945040" y="3201840"/>
            <a:ext cx="1598760" cy="1598760"/>
            <a:chOff x="5945040" y="3201840"/>
            <a:chExt cx="1598760" cy="1598760"/>
          </a:xfrm>
        </p:grpSpPr>
        <p:sp>
          <p:nvSpPr>
            <p:cNvPr id="431" name=""/>
            <p:cNvSpPr/>
            <p:nvPr/>
          </p:nvSpPr>
          <p:spPr>
            <a:xfrm>
              <a:off x="5945040" y="3201840"/>
              <a:ext cx="1598760" cy="159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51000" y="3807000"/>
              <a:ext cx="6040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3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切线性质的应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已知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Rt△ABC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的斜边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AB=8cm,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直角边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AC=4cm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334120" y="152280"/>
            <a:ext cx="3581280" cy="685800"/>
            <a:chOff x="5334120" y="152280"/>
            <a:chExt cx="3581280" cy="685800"/>
          </a:xfrm>
        </p:grpSpPr>
        <p:grpSp>
          <p:nvGrpSpPr>
            <p:cNvPr id="436" name=""/>
            <p:cNvGrpSpPr/>
            <p:nvPr/>
          </p:nvGrpSpPr>
          <p:grpSpPr>
            <a:xfrm>
              <a:off x="5334120" y="198360"/>
              <a:ext cx="2361960" cy="461880"/>
              <a:chOff x="5334120" y="198360"/>
              <a:chExt cx="2361960" cy="461880"/>
            </a:xfrm>
          </p:grpSpPr>
          <p:sp>
            <p:nvSpPr>
              <p:cNvPr id="437" name=""/>
              <p:cNvSpPr/>
              <p:nvPr/>
            </p:nvSpPr>
            <p:spPr>
              <a:xfrm>
                <a:off x="5334120" y="20052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大胆求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213680" y="1983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76960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341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280" y="24843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以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为圆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别以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cm,4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为半径作两个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这两个圆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别有怎样的位置关系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58514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=4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d&lt;r,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相交</a:t>
            </a:r>
            <a:r>
              <a:rPr b="1" lang="zh-CN" sz="3200" spc="-1" strike="noStrike">
                <a:solidFill>
                  <a:srgbClr val="5f5f5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021360" y="2590920"/>
            <a:ext cx="3122280" cy="2187000"/>
            <a:chOff x="6021360" y="2590920"/>
            <a:chExt cx="3122280" cy="2187000"/>
          </a:xfrm>
        </p:grpSpPr>
        <p:grpSp>
          <p:nvGrpSpPr>
            <p:cNvPr id="447" name=""/>
            <p:cNvGrpSpPr/>
            <p:nvPr/>
          </p:nvGrpSpPr>
          <p:grpSpPr>
            <a:xfrm>
              <a:off x="6477120" y="2590920"/>
              <a:ext cx="2666520" cy="1884240"/>
              <a:chOff x="6477120" y="2590920"/>
              <a:chExt cx="2666520" cy="1884240"/>
            </a:xfrm>
          </p:grpSpPr>
          <p:sp>
            <p:nvSpPr>
              <p:cNvPr id="448" name=""/>
              <p:cNvSpPr/>
              <p:nvPr/>
            </p:nvSpPr>
            <p:spPr>
              <a:xfrm>
                <a:off x="6477120" y="2590920"/>
                <a:ext cx="44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550920" y="3931920"/>
                <a:ext cx="44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699400" y="4015440"/>
                <a:ext cx="44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47200" y="3067560"/>
                <a:ext cx="1851840" cy="1031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73040" y="3680280"/>
                <a:ext cx="44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847200" y="3093480"/>
                <a:ext cx="0" cy="1005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6853320" y="2917800"/>
              <a:ext cx="773280" cy="1176840"/>
              <a:chOff x="6853320" y="2917800"/>
              <a:chExt cx="773280" cy="117684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6853320" y="3255480"/>
                <a:ext cx="372960" cy="83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162920" y="2917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775400">
                <a:off x="7085520" y="32792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021360" y="3179520"/>
              <a:ext cx="1598760" cy="1598400"/>
              <a:chOff x="6021360" y="3179520"/>
              <a:chExt cx="1598760" cy="1598400"/>
            </a:xfrm>
          </p:grpSpPr>
          <p:sp>
            <p:nvSpPr>
              <p:cNvPr id="459" name=""/>
              <p:cNvSpPr/>
              <p:nvPr/>
            </p:nvSpPr>
            <p:spPr>
              <a:xfrm>
                <a:off x="6021360" y="3179520"/>
                <a:ext cx="1598760" cy="1598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727320" y="3784320"/>
                <a:ext cx="6040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6021360" y="3179520"/>
              <a:ext cx="1598760" cy="1598400"/>
              <a:chOff x="6021360" y="3179520"/>
              <a:chExt cx="1598760" cy="1598400"/>
            </a:xfrm>
          </p:grpSpPr>
          <p:sp>
            <p:nvSpPr>
              <p:cNvPr id="462" name=""/>
              <p:cNvSpPr/>
              <p:nvPr/>
            </p:nvSpPr>
            <p:spPr>
              <a:xfrm>
                <a:off x="6021360" y="3179520"/>
                <a:ext cx="1598760" cy="1598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727320" y="3784320"/>
                <a:ext cx="6040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457200" y="5029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=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d&gt;r,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相离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95280" y="3933720"/>
            <a:ext cx="5410080" cy="1025640"/>
            <a:chOff x="395280" y="3933720"/>
            <a:chExt cx="5410080" cy="1025640"/>
          </a:xfrm>
        </p:grpSpPr>
        <p:sp>
          <p:nvSpPr>
            <p:cNvPr id="466" name=""/>
            <p:cNvSpPr/>
            <p:nvPr/>
          </p:nvSpPr>
          <p:spPr>
            <a:xfrm>
              <a:off x="395280" y="3933720"/>
              <a:ext cx="54100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b2b2b2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解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:(2)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由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(1)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可知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,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圆心到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AB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的距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d=        cm,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所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2419200" y="4521240"/>
                  <a:ext cx="932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042920" y="4365720"/>
                <a:ext cx="647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783560" y="320040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971800" y="3200400"/>
            <a:ext cx="1371600" cy="136044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69339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切线性质的应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直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半径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相交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且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到直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距离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5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求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取值范围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334120" y="0"/>
            <a:ext cx="3581280" cy="685800"/>
            <a:chOff x="5334120" y="0"/>
            <a:chExt cx="3581280" cy="685800"/>
          </a:xfrm>
        </p:grpSpPr>
        <p:grpSp>
          <p:nvGrpSpPr>
            <p:cNvPr id="474" name=""/>
            <p:cNvGrpSpPr/>
            <p:nvPr/>
          </p:nvGrpSpPr>
          <p:grpSpPr>
            <a:xfrm>
              <a:off x="5334120" y="46080"/>
              <a:ext cx="2361960" cy="461880"/>
              <a:chOff x="5334120" y="46080"/>
              <a:chExt cx="2361960" cy="461880"/>
            </a:xfrm>
          </p:grpSpPr>
          <p:sp>
            <p:nvSpPr>
              <p:cNvPr id="475" name=""/>
              <p:cNvSpPr/>
              <p:nvPr/>
            </p:nvSpPr>
            <p:spPr>
              <a:xfrm>
                <a:off x="5334120" y="482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琏结生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13680" y="460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7" name="" descr=""/>
            <p:cNvPicPr/>
            <p:nvPr/>
          </p:nvPicPr>
          <p:blipFill>
            <a:blip r:embed="rId3"/>
            <a:stretch/>
          </p:blipFill>
          <p:spPr>
            <a:xfrm>
              <a:off x="7696080" y="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5334120" y="152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81" name="">
            <a:hlinkClick r:id="rId7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320" y="5006880"/>
            <a:ext cx="906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一枚直径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硬币沿直线滚动一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圆心经过的距离是多少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582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老师提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硬币滚动一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圆心经过的路经是与直线平行的一条线段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其长度等于圆的周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76320" y="2971800"/>
            <a:ext cx="3124080" cy="1983600"/>
            <a:chOff x="76320" y="2971800"/>
            <a:chExt cx="3124080" cy="1983600"/>
          </a:xfrm>
        </p:grpSpPr>
        <p:sp>
          <p:nvSpPr>
            <p:cNvPr id="485" name=""/>
            <p:cNvSpPr/>
            <p:nvPr/>
          </p:nvSpPr>
          <p:spPr>
            <a:xfrm>
              <a:off x="1295640" y="3124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4920" y="449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90920" y="449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320" y="45720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685800" y="2971800"/>
              <a:ext cx="1962360" cy="1962000"/>
              <a:chOff x="685800" y="2971800"/>
              <a:chExt cx="1962360" cy="1962000"/>
            </a:xfrm>
          </p:grpSpPr>
          <p:sp>
            <p:nvSpPr>
              <p:cNvPr id="490" name=""/>
              <p:cNvSpPr/>
              <p:nvPr/>
            </p:nvSpPr>
            <p:spPr>
              <a:xfrm>
                <a:off x="685800" y="2971800"/>
                <a:ext cx="196236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550880" y="371340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●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 flipH="1" flipV="1">
              <a:off x="1162080" y="312408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041800" y="3213000"/>
            <a:ext cx="1359000" cy="1359000"/>
            <a:chOff x="5041800" y="3213000"/>
            <a:chExt cx="1359000" cy="1359000"/>
          </a:xfrm>
        </p:grpSpPr>
        <p:sp>
          <p:nvSpPr>
            <p:cNvPr id="494" name=""/>
            <p:cNvSpPr/>
            <p:nvPr/>
          </p:nvSpPr>
          <p:spPr>
            <a:xfrm>
              <a:off x="5041800" y="3213000"/>
              <a:ext cx="1359000" cy="1359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64160" y="3743280"/>
              <a:ext cx="51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276720" y="4572000"/>
            <a:ext cx="5715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984400" y="3200400"/>
            <a:ext cx="1359000" cy="1359000"/>
            <a:chOff x="2984400" y="3200400"/>
            <a:chExt cx="1359000" cy="1359000"/>
          </a:xfrm>
        </p:grpSpPr>
        <p:sp>
          <p:nvSpPr>
            <p:cNvPr id="498" name=""/>
            <p:cNvSpPr/>
            <p:nvPr/>
          </p:nvSpPr>
          <p:spPr>
            <a:xfrm>
              <a:off x="2984400" y="3200400"/>
              <a:ext cx="1359000" cy="1359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6760" y="3730680"/>
              <a:ext cx="51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670200" y="3200400"/>
            <a:ext cx="1359000" cy="1359000"/>
            <a:chOff x="3670200" y="3200400"/>
            <a:chExt cx="1359000" cy="1359000"/>
          </a:xfrm>
        </p:grpSpPr>
        <p:sp>
          <p:nvSpPr>
            <p:cNvPr id="501" name=""/>
            <p:cNvSpPr/>
            <p:nvPr/>
          </p:nvSpPr>
          <p:spPr>
            <a:xfrm>
              <a:off x="3670200" y="3200400"/>
              <a:ext cx="1359000" cy="1359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92560" y="3730680"/>
              <a:ext cx="51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356000" y="3200400"/>
            <a:ext cx="1359000" cy="1359000"/>
            <a:chOff x="4356000" y="3200400"/>
            <a:chExt cx="1359000" cy="1359000"/>
          </a:xfrm>
        </p:grpSpPr>
        <p:sp>
          <p:nvSpPr>
            <p:cNvPr id="504" name=""/>
            <p:cNvSpPr/>
            <p:nvPr/>
          </p:nvSpPr>
          <p:spPr>
            <a:xfrm>
              <a:off x="4356000" y="3200400"/>
              <a:ext cx="1359000" cy="1359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78360" y="3730680"/>
              <a:ext cx="51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413400" y="3200400"/>
            <a:ext cx="1359000" cy="1359000"/>
            <a:chOff x="6413400" y="3200400"/>
            <a:chExt cx="1359000" cy="1359000"/>
          </a:xfrm>
        </p:grpSpPr>
        <p:sp>
          <p:nvSpPr>
            <p:cNvPr id="507" name=""/>
            <p:cNvSpPr/>
            <p:nvPr/>
          </p:nvSpPr>
          <p:spPr>
            <a:xfrm>
              <a:off x="6413400" y="3200400"/>
              <a:ext cx="1359000" cy="1359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35760" y="3730680"/>
              <a:ext cx="51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099200" y="3213000"/>
            <a:ext cx="1359000" cy="1359000"/>
            <a:chOff x="7099200" y="3213000"/>
            <a:chExt cx="1359000" cy="1359000"/>
          </a:xfrm>
        </p:grpSpPr>
        <p:sp>
          <p:nvSpPr>
            <p:cNvPr id="510" name=""/>
            <p:cNvSpPr/>
            <p:nvPr/>
          </p:nvSpPr>
          <p:spPr>
            <a:xfrm>
              <a:off x="7099200" y="3213000"/>
              <a:ext cx="1359000" cy="1359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1560" y="3743280"/>
              <a:ext cx="51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785000" y="3200400"/>
            <a:ext cx="1359000" cy="1359000"/>
            <a:chOff x="7785000" y="3200400"/>
            <a:chExt cx="1359000" cy="1359000"/>
          </a:xfrm>
        </p:grpSpPr>
        <p:sp>
          <p:nvSpPr>
            <p:cNvPr id="513" name=""/>
            <p:cNvSpPr/>
            <p:nvPr/>
          </p:nvSpPr>
          <p:spPr>
            <a:xfrm>
              <a:off x="7785000" y="3200400"/>
              <a:ext cx="1359000" cy="1359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307360" y="3730680"/>
              <a:ext cx="51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727600" y="3200400"/>
            <a:ext cx="1359000" cy="1359000"/>
            <a:chOff x="5727600" y="3200400"/>
            <a:chExt cx="1359000" cy="1359000"/>
          </a:xfrm>
        </p:grpSpPr>
        <p:sp>
          <p:nvSpPr>
            <p:cNvPr id="516" name=""/>
            <p:cNvSpPr/>
            <p:nvPr/>
          </p:nvSpPr>
          <p:spPr>
            <a:xfrm>
              <a:off x="5727600" y="3200400"/>
              <a:ext cx="1359000" cy="1359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49960" y="3730680"/>
              <a:ext cx="512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781680" y="3200400"/>
            <a:ext cx="1359000" cy="1359000"/>
            <a:chOff x="6781680" y="3200400"/>
            <a:chExt cx="1359000" cy="1359000"/>
          </a:xfrm>
        </p:grpSpPr>
        <p:sp>
          <p:nvSpPr>
            <p:cNvPr id="519" name=""/>
            <p:cNvSpPr/>
            <p:nvPr/>
          </p:nvSpPr>
          <p:spPr>
            <a:xfrm>
              <a:off x="6781680" y="3200400"/>
              <a:ext cx="1359000" cy="1359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04040" y="3730680"/>
              <a:ext cx="51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5346720" y="3213000"/>
            <a:ext cx="1359000" cy="1359000"/>
            <a:chOff x="5346720" y="3213000"/>
            <a:chExt cx="1359000" cy="1359000"/>
          </a:xfrm>
        </p:grpSpPr>
        <p:sp>
          <p:nvSpPr>
            <p:cNvPr id="522" name=""/>
            <p:cNvSpPr/>
            <p:nvPr/>
          </p:nvSpPr>
          <p:spPr>
            <a:xfrm>
              <a:off x="5346720" y="3213000"/>
              <a:ext cx="1359000" cy="1359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69080" y="3743280"/>
              <a:ext cx="51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108840" y="3213000"/>
            <a:ext cx="1358640" cy="1359000"/>
            <a:chOff x="6108840" y="3213000"/>
            <a:chExt cx="1358640" cy="1359000"/>
          </a:xfrm>
        </p:grpSpPr>
        <p:sp>
          <p:nvSpPr>
            <p:cNvPr id="525" name=""/>
            <p:cNvSpPr/>
            <p:nvPr/>
          </p:nvSpPr>
          <p:spPr>
            <a:xfrm>
              <a:off x="6108840" y="3213000"/>
              <a:ext cx="1358640" cy="1359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30840" y="3743280"/>
              <a:ext cx="512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7404120" y="3213000"/>
            <a:ext cx="1359000" cy="1359000"/>
            <a:chOff x="7404120" y="3213000"/>
            <a:chExt cx="1359000" cy="1359000"/>
          </a:xfrm>
        </p:grpSpPr>
        <p:sp>
          <p:nvSpPr>
            <p:cNvPr id="528" name=""/>
            <p:cNvSpPr/>
            <p:nvPr/>
          </p:nvSpPr>
          <p:spPr>
            <a:xfrm>
              <a:off x="7404120" y="3213000"/>
              <a:ext cx="1359000" cy="1359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26480" y="3743280"/>
              <a:ext cx="512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37240" y="3213000"/>
            <a:ext cx="1358640" cy="1359000"/>
            <a:chOff x="4737240" y="3213000"/>
            <a:chExt cx="1358640" cy="1359000"/>
          </a:xfrm>
        </p:grpSpPr>
        <p:sp>
          <p:nvSpPr>
            <p:cNvPr id="531" name=""/>
            <p:cNvSpPr/>
            <p:nvPr/>
          </p:nvSpPr>
          <p:spPr>
            <a:xfrm>
              <a:off x="4737240" y="3213000"/>
              <a:ext cx="1358640" cy="1359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59240" y="3743280"/>
              <a:ext cx="512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038480" y="3200400"/>
            <a:ext cx="1359000" cy="1359000"/>
            <a:chOff x="4038480" y="3200400"/>
            <a:chExt cx="1359000" cy="1359000"/>
          </a:xfrm>
        </p:grpSpPr>
        <p:sp>
          <p:nvSpPr>
            <p:cNvPr id="534" name=""/>
            <p:cNvSpPr/>
            <p:nvPr/>
          </p:nvSpPr>
          <p:spPr>
            <a:xfrm>
              <a:off x="4038480" y="3200400"/>
              <a:ext cx="1359000" cy="1359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60840" y="3730680"/>
              <a:ext cx="512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365640" y="3213000"/>
            <a:ext cx="1358640" cy="1359000"/>
            <a:chOff x="3365640" y="3213000"/>
            <a:chExt cx="1358640" cy="1359000"/>
          </a:xfrm>
        </p:grpSpPr>
        <p:sp>
          <p:nvSpPr>
            <p:cNvPr id="537" name=""/>
            <p:cNvSpPr/>
            <p:nvPr/>
          </p:nvSpPr>
          <p:spPr>
            <a:xfrm>
              <a:off x="3365640" y="3213000"/>
              <a:ext cx="1358640" cy="1359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87640" y="3743280"/>
              <a:ext cx="51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60199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挑战自我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P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外一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PA,P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都是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切线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A,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切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请你观察猜想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PA,P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有怎样的关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并证明你的结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04920" y="304920"/>
            <a:ext cx="3581280" cy="685800"/>
            <a:chOff x="304920" y="304920"/>
            <a:chExt cx="3581280" cy="685800"/>
          </a:xfrm>
        </p:grpSpPr>
        <p:grpSp>
          <p:nvGrpSpPr>
            <p:cNvPr id="542" name=""/>
            <p:cNvGrpSpPr/>
            <p:nvPr/>
          </p:nvGrpSpPr>
          <p:grpSpPr>
            <a:xfrm>
              <a:off x="304920" y="351000"/>
              <a:ext cx="2361960" cy="461880"/>
              <a:chOff x="304920" y="351000"/>
              <a:chExt cx="2361960" cy="461880"/>
            </a:xfrm>
          </p:grpSpPr>
          <p:sp>
            <p:nvSpPr>
              <p:cNvPr id="543" name=""/>
              <p:cNvSpPr/>
              <p:nvPr/>
            </p:nvSpPr>
            <p:spPr>
              <a:xfrm>
                <a:off x="30492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知识延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184480" y="35100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26668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6320" y="5006880"/>
            <a:ext cx="906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由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所得的结论及证明过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还能发现那些新的结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有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仍请你予以证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2280" y="582624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老师提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根据这个结论写出的命题称为切线长定理及其推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724280" y="2590920"/>
            <a:ext cx="3714840" cy="2593080"/>
            <a:chOff x="4724280" y="2590920"/>
            <a:chExt cx="3714840" cy="2593080"/>
          </a:xfrm>
        </p:grpSpPr>
        <p:sp>
          <p:nvSpPr>
            <p:cNvPr id="553" name=""/>
            <p:cNvSpPr/>
            <p:nvPr/>
          </p:nvSpPr>
          <p:spPr>
            <a:xfrm>
              <a:off x="662940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81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2428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143680" y="2933280"/>
              <a:ext cx="196200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6477120" y="2895480"/>
              <a:ext cx="1962000" cy="1962360"/>
              <a:chOff x="6477120" y="2895480"/>
              <a:chExt cx="1962000" cy="1962360"/>
            </a:xfrm>
          </p:grpSpPr>
          <p:sp>
            <p:nvSpPr>
              <p:cNvPr id="558" name=""/>
              <p:cNvSpPr/>
              <p:nvPr/>
            </p:nvSpPr>
            <p:spPr>
              <a:xfrm>
                <a:off x="6477120" y="2895480"/>
                <a:ext cx="1962000" cy="1962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42200" y="363708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●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flipH="1" flipV="1">
              <a:off x="5105160" y="3733560"/>
              <a:ext cx="1981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52135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挑战自我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285768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习题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3.7     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1066680" y="4800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祝你成功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990720" y="228600"/>
            <a:ext cx="3581280" cy="685800"/>
            <a:chOff x="990720" y="228600"/>
            <a:chExt cx="3581280" cy="685800"/>
          </a:xfrm>
        </p:grpSpPr>
        <p:grpSp>
          <p:nvGrpSpPr>
            <p:cNvPr id="565" name=""/>
            <p:cNvGrpSpPr/>
            <p:nvPr/>
          </p:nvGrpSpPr>
          <p:grpSpPr>
            <a:xfrm>
              <a:off x="990720" y="274680"/>
              <a:ext cx="2361960" cy="461880"/>
              <a:chOff x="990720" y="274680"/>
              <a:chExt cx="2361960" cy="461880"/>
            </a:xfrm>
          </p:grpSpPr>
          <p:sp>
            <p:nvSpPr>
              <p:cNvPr id="566" name=""/>
              <p:cNvSpPr/>
              <p:nvPr/>
            </p:nvSpPr>
            <p:spPr>
              <a:xfrm>
                <a:off x="990720" y="2768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课后反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870280" y="2746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33526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9907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"/>
          <p:cNvGrpSpPr/>
          <p:nvPr/>
        </p:nvGrpSpPr>
        <p:grpSpPr>
          <a:xfrm>
            <a:off x="6781680" y="76320"/>
            <a:ext cx="2362320" cy="1835280"/>
            <a:chOff x="6781680" y="76320"/>
            <a:chExt cx="2362320" cy="1835280"/>
          </a:xfrm>
        </p:grpSpPr>
        <p:pic>
          <p:nvPicPr>
            <p:cNvPr id="571" name="" descr=""/>
            <p:cNvPicPr/>
            <p:nvPr/>
          </p:nvPicPr>
          <p:blipFill>
            <a:blip r:embed="rId3"/>
            <a:stretch/>
          </p:blipFill>
          <p:spPr>
            <a:xfrm>
              <a:off x="6781680" y="7632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238880" y="806760"/>
              <a:ext cx="129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驶向胜利的彼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575" name="">
            <a:hlinkClick r:id="rId6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762280"/>
            <a:ext cx="1720800" cy="1485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2757600"/>
            <a:ext cx="1676520" cy="1495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692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直线与圆的位置关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观察三幅太阳升起的照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地平线与太阳的位置关系是怎样的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0" y="5791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你发现这个自然现象反映出直线和圆的位置关系有哪几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0" y="228600"/>
            <a:ext cx="3581280" cy="685800"/>
            <a:chOff x="4572000" y="228600"/>
            <a:chExt cx="3581280" cy="685800"/>
          </a:xfrm>
        </p:grpSpPr>
        <p:grpSp>
          <p:nvGrpSpPr>
            <p:cNvPr id="98" name=""/>
            <p:cNvGrpSpPr/>
            <p:nvPr/>
          </p:nvGrpSpPr>
          <p:grpSpPr>
            <a:xfrm>
              <a:off x="4572000" y="274680"/>
              <a:ext cx="2361960" cy="583560"/>
              <a:chOff x="4572000" y="274680"/>
              <a:chExt cx="2361960" cy="583560"/>
            </a:xfrm>
          </p:grpSpPr>
          <p:sp>
            <p:nvSpPr>
              <p:cNvPr id="99" name=""/>
              <p:cNvSpPr/>
              <p:nvPr/>
            </p:nvSpPr>
            <p:spPr>
              <a:xfrm>
                <a:off x="4572000" y="27684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留心拓展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51560" y="2746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693396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457200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9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048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(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地平线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5105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地平线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rId10"/>
          </p:cNvPr>
          <p:cNvPicPr/>
          <p:nvPr/>
        </p:nvPicPr>
        <p:blipFill>
          <a:blip r:embed="rId11"/>
          <a:srcRect l="0" t="0" r="0" b="9922"/>
          <a:stretch/>
        </p:blipFill>
        <p:spPr>
          <a:xfrm>
            <a:off x="5181480" y="2768760"/>
            <a:ext cx="1633680" cy="1471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55800" y="3276720"/>
            <a:ext cx="5776920" cy="0"/>
          </a:xfrm>
          <a:prstGeom prst="line">
            <a:avLst/>
          </a:prstGeom>
          <a:ln w="93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648320"/>
            <a:ext cx="5778720" cy="1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66680" y="4952880"/>
            <a:ext cx="1016280" cy="1016280"/>
            <a:chOff x="1066680" y="4952880"/>
            <a:chExt cx="1016280" cy="1016280"/>
          </a:xfrm>
        </p:grpSpPr>
        <p:sp>
          <p:nvSpPr>
            <p:cNvPr id="112" name=""/>
            <p:cNvSpPr/>
            <p:nvPr/>
          </p:nvSpPr>
          <p:spPr>
            <a:xfrm>
              <a:off x="1066680" y="4952880"/>
              <a:ext cx="1016280" cy="1016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14520" y="533700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24080" y="4648320"/>
            <a:ext cx="1016280" cy="1015920"/>
            <a:chOff x="3124080" y="4648320"/>
            <a:chExt cx="1016280" cy="1015920"/>
          </a:xfrm>
        </p:grpSpPr>
        <p:sp>
          <p:nvSpPr>
            <p:cNvPr id="115" name=""/>
            <p:cNvSpPr/>
            <p:nvPr/>
          </p:nvSpPr>
          <p:spPr>
            <a:xfrm>
              <a:off x="3124080" y="4648320"/>
              <a:ext cx="1016280" cy="10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71920" y="503208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86400" y="4191120"/>
            <a:ext cx="1015920" cy="1015920"/>
            <a:chOff x="5486400" y="4191120"/>
            <a:chExt cx="1015920" cy="1015920"/>
          </a:xfrm>
        </p:grpSpPr>
        <p:sp>
          <p:nvSpPr>
            <p:cNvPr id="118" name=""/>
            <p:cNvSpPr/>
            <p:nvPr/>
          </p:nvSpPr>
          <p:spPr>
            <a:xfrm>
              <a:off x="5486400" y="4191120"/>
              <a:ext cx="1015920" cy="10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34240" y="4574880"/>
              <a:ext cx="38376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>
            <a:hlinkClick r:id="rId1"/>
          </p:cNvPr>
          <p:cNvPicPr/>
          <p:nvPr/>
        </p:nvPicPr>
        <p:blipFill>
          <a:blip r:embed="rId2"/>
          <a:srcRect l="0" t="9324" r="0" b="15918"/>
          <a:stretch/>
        </p:blipFill>
        <p:spPr>
          <a:xfrm>
            <a:off x="1069920" y="4702320"/>
            <a:ext cx="1722600" cy="1136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982800"/>
            <a:ext cx="692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直线与圆的位置关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4191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观察三幅太阳落山的照片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地平线与太阳的位置关系是怎样的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52280" y="594360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黑体"/>
              </a:rPr>
              <a:t>你发现这个自然现象反映出直线和圆的位置关系有哪几种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黑体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4920" y="304920"/>
            <a:ext cx="3581280" cy="685800"/>
            <a:chOff x="304920" y="304920"/>
            <a:chExt cx="3581280" cy="685800"/>
          </a:xfrm>
        </p:grpSpPr>
        <p:grpSp>
          <p:nvGrpSpPr>
            <p:cNvPr id="125" name=""/>
            <p:cNvGrpSpPr/>
            <p:nvPr/>
          </p:nvGrpSpPr>
          <p:grpSpPr>
            <a:xfrm>
              <a:off x="304920" y="351000"/>
              <a:ext cx="2361960" cy="461880"/>
              <a:chOff x="304920" y="351000"/>
              <a:chExt cx="2361960" cy="461880"/>
            </a:xfrm>
          </p:grpSpPr>
          <p:sp>
            <p:nvSpPr>
              <p:cNvPr id="126" name=""/>
              <p:cNvSpPr/>
              <p:nvPr/>
            </p:nvSpPr>
            <p:spPr>
              <a:xfrm>
                <a:off x="30492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细心观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84480" y="35100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26668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3049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6781680" y="76320"/>
            <a:ext cx="2362320" cy="1834920"/>
            <a:chOff x="6781680" y="76320"/>
            <a:chExt cx="2362320" cy="1834920"/>
          </a:xfrm>
        </p:grpSpPr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6781680" y="7632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238880" y="8064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8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3048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地平线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地平线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5800" y="3276720"/>
            <a:ext cx="577692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9"/>
          </p:cNvPr>
          <p:cNvPicPr/>
          <p:nvPr/>
        </p:nvPicPr>
        <p:blipFill>
          <a:blip r:embed="rId10"/>
          <a:srcRect l="0" t="0" r="0" b="23276"/>
          <a:stretch/>
        </p:blipFill>
        <p:spPr>
          <a:xfrm>
            <a:off x="3203640" y="4648320"/>
            <a:ext cx="1523880" cy="116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11"/>
          </p:cNvPr>
          <p:cNvPicPr/>
          <p:nvPr/>
        </p:nvPicPr>
        <p:blipFill>
          <a:blip r:embed="rId12"/>
          <a:srcRect l="0" t="27706" r="0" b="0"/>
          <a:stretch/>
        </p:blipFill>
        <p:spPr>
          <a:xfrm>
            <a:off x="5105520" y="4614840"/>
            <a:ext cx="1623960" cy="1235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92240" y="5180760"/>
            <a:ext cx="5778360" cy="1800"/>
          </a:xfrm>
          <a:prstGeom prst="line">
            <a:avLst/>
          </a:prstGeom>
          <a:ln w="93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447920" y="1955880"/>
            <a:ext cx="1015920" cy="1015920"/>
            <a:chOff x="1447920" y="1955880"/>
            <a:chExt cx="1015920" cy="1015920"/>
          </a:xfrm>
        </p:grpSpPr>
        <p:sp>
          <p:nvSpPr>
            <p:cNvPr id="143" name=""/>
            <p:cNvSpPr/>
            <p:nvPr/>
          </p:nvSpPr>
          <p:spPr>
            <a:xfrm>
              <a:off x="1447920" y="1955880"/>
              <a:ext cx="1015920" cy="10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95760" y="2339640"/>
              <a:ext cx="38376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327480" y="2241720"/>
            <a:ext cx="1015920" cy="1015920"/>
            <a:chOff x="3327480" y="2241720"/>
            <a:chExt cx="1015920" cy="1015920"/>
          </a:xfrm>
        </p:grpSpPr>
        <p:sp>
          <p:nvSpPr>
            <p:cNvPr id="146" name=""/>
            <p:cNvSpPr/>
            <p:nvPr/>
          </p:nvSpPr>
          <p:spPr>
            <a:xfrm>
              <a:off x="3327480" y="2241720"/>
              <a:ext cx="1015920" cy="10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75320" y="2625480"/>
              <a:ext cx="38376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156280" y="2489040"/>
            <a:ext cx="1015920" cy="1016280"/>
            <a:chOff x="5156280" y="2489040"/>
            <a:chExt cx="1015920" cy="1016280"/>
          </a:xfrm>
        </p:grpSpPr>
        <p:sp>
          <p:nvSpPr>
            <p:cNvPr id="149" name=""/>
            <p:cNvSpPr/>
            <p:nvPr/>
          </p:nvSpPr>
          <p:spPr>
            <a:xfrm>
              <a:off x="5156280" y="2489040"/>
              <a:ext cx="1015920" cy="1016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04120" y="2873160"/>
              <a:ext cx="38376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3160" y="674280"/>
            <a:ext cx="54356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直线与圆的位置关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作一个圆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把直尺边缘看成一条直线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固定圆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平移直尺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76920" y="228600"/>
            <a:ext cx="3581280" cy="685800"/>
            <a:chOff x="4876920" y="228600"/>
            <a:chExt cx="3581280" cy="685800"/>
          </a:xfrm>
        </p:grpSpPr>
        <p:grpSp>
          <p:nvGrpSpPr>
            <p:cNvPr id="154" name=""/>
            <p:cNvGrpSpPr/>
            <p:nvPr/>
          </p:nvGrpSpPr>
          <p:grpSpPr>
            <a:xfrm>
              <a:off x="4876920" y="274680"/>
              <a:ext cx="2361960" cy="461880"/>
              <a:chOff x="4876920" y="274680"/>
              <a:chExt cx="2361960" cy="461880"/>
            </a:xfrm>
          </p:grpSpPr>
          <p:sp>
            <p:nvSpPr>
              <p:cNvPr id="155" name=""/>
              <p:cNvSpPr/>
              <p:nvPr/>
            </p:nvSpPr>
            <p:spPr>
              <a:xfrm>
                <a:off x="4876920" y="2768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认真想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56480" y="2746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72388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8769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5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51055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线和圆有哪几种位置关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24400" y="2533680"/>
            <a:ext cx="1962000" cy="1962000"/>
            <a:chOff x="3524400" y="2533680"/>
            <a:chExt cx="1962000" cy="1962000"/>
          </a:xfrm>
        </p:grpSpPr>
        <p:sp>
          <p:nvSpPr>
            <p:cNvPr id="164" name=""/>
            <p:cNvSpPr/>
            <p:nvPr/>
          </p:nvSpPr>
          <p:spPr>
            <a:xfrm>
              <a:off x="3524400" y="253368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89480" y="3275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1480" y="2514600"/>
            <a:ext cx="1962360" cy="1962000"/>
            <a:chOff x="501480" y="2514600"/>
            <a:chExt cx="1962360" cy="1962000"/>
          </a:xfrm>
        </p:grpSpPr>
        <p:sp>
          <p:nvSpPr>
            <p:cNvPr id="167" name=""/>
            <p:cNvSpPr/>
            <p:nvPr/>
          </p:nvSpPr>
          <p:spPr>
            <a:xfrm>
              <a:off x="501480" y="2514600"/>
              <a:ext cx="196236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6560" y="32562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105520" y="5105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有三种位置关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相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480" y="5715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线和圆有惟一公共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即直线和圆相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条直线叫做圆的切线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个惟一的公共点叫做切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96200" y="2514600"/>
            <a:ext cx="1962000" cy="1962000"/>
            <a:chOff x="6496200" y="2514600"/>
            <a:chExt cx="1962000" cy="1962000"/>
          </a:xfrm>
        </p:grpSpPr>
        <p:sp>
          <p:nvSpPr>
            <p:cNvPr id="173" name=""/>
            <p:cNvSpPr/>
            <p:nvPr/>
          </p:nvSpPr>
          <p:spPr>
            <a:xfrm>
              <a:off x="6496200" y="251460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61280" y="32562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04920" y="4038480"/>
            <a:ext cx="274320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81320" y="4545000"/>
            <a:ext cx="274320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86600" y="4807080"/>
            <a:ext cx="274320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相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相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如图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圆心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到直线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l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的距离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与⊙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的半径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的大小有什么关系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257800" y="0"/>
            <a:ext cx="3581280" cy="685800"/>
            <a:chOff x="5257800" y="0"/>
            <a:chExt cx="3581280" cy="685800"/>
          </a:xfrm>
        </p:grpSpPr>
        <p:grpSp>
          <p:nvGrpSpPr>
            <p:cNvPr id="182" name=""/>
            <p:cNvGrpSpPr/>
            <p:nvPr/>
          </p:nvGrpSpPr>
          <p:grpSpPr>
            <a:xfrm>
              <a:off x="5257800" y="46080"/>
              <a:ext cx="2361960" cy="522720"/>
              <a:chOff x="5257800" y="46080"/>
              <a:chExt cx="2361960" cy="522720"/>
            </a:xfrm>
          </p:grpSpPr>
          <p:sp>
            <p:nvSpPr>
              <p:cNvPr id="183" name=""/>
              <p:cNvSpPr/>
              <p:nvPr/>
            </p:nvSpPr>
            <p:spPr>
              <a:xfrm>
                <a:off x="5257800" y="48240"/>
                <a:ext cx="2361960" cy="5205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留心总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37360" y="46080"/>
                <a:ext cx="18360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7619760" y="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257800" y="152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7888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29800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rId5" action="ppaction://hlinksldjump"/>
          </p:cNvPr>
          <p:cNvSpPr/>
          <p:nvPr/>
        </p:nvSpPr>
        <p:spPr>
          <a:xfrm>
            <a:off x="768816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57913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能根据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大小关系确定直线与圆的位置关系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04920" y="2971800"/>
            <a:ext cx="8624880" cy="2745720"/>
            <a:chOff x="304920" y="2971800"/>
            <a:chExt cx="8624880" cy="2745720"/>
          </a:xfrm>
        </p:grpSpPr>
        <p:grpSp>
          <p:nvGrpSpPr>
            <p:cNvPr id="192" name=""/>
            <p:cNvGrpSpPr/>
            <p:nvPr/>
          </p:nvGrpSpPr>
          <p:grpSpPr>
            <a:xfrm>
              <a:off x="3524400" y="2990880"/>
              <a:ext cx="1962000" cy="1962000"/>
              <a:chOff x="3524400" y="2990880"/>
              <a:chExt cx="1962000" cy="1962000"/>
            </a:xfrm>
          </p:grpSpPr>
          <p:sp>
            <p:nvSpPr>
              <p:cNvPr id="193" name=""/>
              <p:cNvSpPr/>
              <p:nvPr/>
            </p:nvSpPr>
            <p:spPr>
              <a:xfrm>
                <a:off x="3524400" y="299088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389480" y="373248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●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01480" y="2971800"/>
              <a:ext cx="1962360" cy="1962000"/>
              <a:chOff x="501480" y="2971800"/>
              <a:chExt cx="1962360" cy="1962000"/>
            </a:xfrm>
          </p:grpSpPr>
          <p:sp>
            <p:nvSpPr>
              <p:cNvPr id="196" name=""/>
              <p:cNvSpPr/>
              <p:nvPr/>
            </p:nvSpPr>
            <p:spPr>
              <a:xfrm>
                <a:off x="501480" y="2971800"/>
                <a:ext cx="196236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66560" y="371340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●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066680" y="4952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相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6496200" y="2971800"/>
              <a:ext cx="1962000" cy="1962000"/>
              <a:chOff x="6496200" y="2971800"/>
              <a:chExt cx="1962000" cy="1962000"/>
            </a:xfrm>
          </p:grpSpPr>
          <p:sp>
            <p:nvSpPr>
              <p:cNvPr id="200" name=""/>
              <p:cNvSpPr/>
              <p:nvPr/>
            </p:nvSpPr>
            <p:spPr>
              <a:xfrm>
                <a:off x="6496200" y="297180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61280" y="371340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●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04920" y="4495680"/>
              <a:ext cx="27432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81320" y="5002200"/>
              <a:ext cx="27432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86600" y="5264280"/>
              <a:ext cx="27432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62520" y="50292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相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86600" y="52578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相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52280" y="837720"/>
            <a:ext cx="88394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直线与圆的位置关系量化揭密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77440" y="3429000"/>
            <a:ext cx="933480" cy="592200"/>
            <a:chOff x="577440" y="3429000"/>
            <a:chExt cx="933480" cy="592200"/>
          </a:xfrm>
        </p:grpSpPr>
        <p:sp>
          <p:nvSpPr>
            <p:cNvPr id="209" name=""/>
            <p:cNvSpPr/>
            <p:nvPr/>
          </p:nvSpPr>
          <p:spPr>
            <a:xfrm flipH="1" flipV="1">
              <a:off x="577440" y="3573360"/>
              <a:ext cx="93348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1440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580920" y="3429000"/>
            <a:ext cx="933480" cy="592200"/>
            <a:chOff x="3580920" y="3429000"/>
            <a:chExt cx="933480" cy="592200"/>
          </a:xfrm>
        </p:grpSpPr>
        <p:sp>
          <p:nvSpPr>
            <p:cNvPr id="212" name=""/>
            <p:cNvSpPr/>
            <p:nvPr/>
          </p:nvSpPr>
          <p:spPr>
            <a:xfrm flipH="1" flipV="1">
              <a:off x="3580920" y="3573360"/>
              <a:ext cx="93348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1788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552720" y="3429000"/>
            <a:ext cx="933480" cy="592200"/>
            <a:chOff x="6552720" y="3429000"/>
            <a:chExt cx="933480" cy="592200"/>
          </a:xfrm>
        </p:grpSpPr>
        <p:sp>
          <p:nvSpPr>
            <p:cNvPr id="215" name=""/>
            <p:cNvSpPr/>
            <p:nvPr/>
          </p:nvSpPr>
          <p:spPr>
            <a:xfrm flipH="1" flipV="1">
              <a:off x="6552720" y="3573360"/>
              <a:ext cx="93348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8968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447920" y="4038480"/>
            <a:ext cx="761760" cy="496080"/>
            <a:chOff x="1447920" y="4038480"/>
            <a:chExt cx="761760" cy="496080"/>
          </a:xfrm>
        </p:grpSpPr>
        <p:sp>
          <p:nvSpPr>
            <p:cNvPr id="218" name=""/>
            <p:cNvSpPr/>
            <p:nvPr/>
          </p:nvSpPr>
          <p:spPr>
            <a:xfrm>
              <a:off x="152388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7920" y="40748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┐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457880" y="4038480"/>
            <a:ext cx="457200" cy="993240"/>
            <a:chOff x="4457880" y="4038480"/>
            <a:chExt cx="457200" cy="993240"/>
          </a:xfrm>
        </p:grpSpPr>
        <p:sp>
          <p:nvSpPr>
            <p:cNvPr id="221" name=""/>
            <p:cNvSpPr/>
            <p:nvPr/>
          </p:nvSpPr>
          <p:spPr>
            <a:xfrm>
              <a:off x="4532400" y="4038480"/>
              <a:ext cx="1440" cy="9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5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57880" y="4572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410600" y="4005360"/>
            <a:ext cx="406080" cy="1312200"/>
            <a:chOff x="7410600" y="4005360"/>
            <a:chExt cx="406080" cy="1312200"/>
          </a:xfrm>
        </p:grpSpPr>
        <p:sp>
          <p:nvSpPr>
            <p:cNvPr id="225" name=""/>
            <p:cNvSpPr/>
            <p:nvPr/>
          </p:nvSpPr>
          <p:spPr>
            <a:xfrm>
              <a:off x="7502400" y="4005360"/>
              <a:ext cx="0" cy="12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67480" y="426744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10600" y="4857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914040" y="45720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直线和圆相交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800600" y="228600"/>
            <a:ext cx="3581280" cy="685800"/>
            <a:chOff x="4800600" y="228600"/>
            <a:chExt cx="3581280" cy="685800"/>
          </a:xfrm>
        </p:grpSpPr>
        <p:grpSp>
          <p:nvGrpSpPr>
            <p:cNvPr id="230" name=""/>
            <p:cNvGrpSpPr/>
            <p:nvPr/>
          </p:nvGrpSpPr>
          <p:grpSpPr>
            <a:xfrm>
              <a:off x="4800600" y="274680"/>
              <a:ext cx="2361960" cy="461880"/>
              <a:chOff x="4800600" y="274680"/>
              <a:chExt cx="2361960" cy="461880"/>
            </a:xfrm>
          </p:grpSpPr>
          <p:sp>
            <p:nvSpPr>
              <p:cNvPr id="231" name=""/>
              <p:cNvSpPr/>
              <p:nvPr/>
            </p:nvSpPr>
            <p:spPr>
              <a:xfrm>
                <a:off x="4800600" y="2768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 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耐心分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80160" y="2746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716256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80060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7888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29800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5" action="ppaction://hlinksldjump"/>
          </p:cNvPr>
          <p:cNvSpPr/>
          <p:nvPr/>
        </p:nvSpPr>
        <p:spPr>
          <a:xfrm>
            <a:off x="768816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51814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d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29200" y="4495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d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5195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线和圆相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5867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线和圆相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58672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d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直线与圆的位置关系量化揭密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04920" y="2057400"/>
            <a:ext cx="8624880" cy="2745720"/>
            <a:chOff x="304920" y="2057400"/>
            <a:chExt cx="8624880" cy="2745720"/>
          </a:xfrm>
        </p:grpSpPr>
        <p:grpSp>
          <p:nvGrpSpPr>
            <p:cNvPr id="245" name=""/>
            <p:cNvGrpSpPr/>
            <p:nvPr/>
          </p:nvGrpSpPr>
          <p:grpSpPr>
            <a:xfrm>
              <a:off x="304920" y="2057400"/>
              <a:ext cx="8624880" cy="2745720"/>
              <a:chOff x="304920" y="2057400"/>
              <a:chExt cx="8624880" cy="274572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3524400" y="2076480"/>
                <a:ext cx="1962000" cy="1962000"/>
                <a:chOff x="3524400" y="2076480"/>
                <a:chExt cx="1962000" cy="19620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524400" y="2076480"/>
                  <a:ext cx="1962000" cy="1962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389480" y="2818080"/>
                  <a:ext cx="74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ahoma"/>
                    </a:rPr>
                    <a:t>●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1480" y="2057400"/>
                <a:ext cx="1962360" cy="1962000"/>
                <a:chOff x="501480" y="2057400"/>
                <a:chExt cx="1962360" cy="19620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01480" y="2057400"/>
                  <a:ext cx="1962360" cy="1962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366560" y="2799000"/>
                  <a:ext cx="74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ahoma"/>
                    </a:rPr>
                    <a:t>●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1066680" y="403848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ahoma"/>
                  </a:rPr>
                  <a:t>相交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6496200" y="2057400"/>
                <a:ext cx="1962000" cy="1962000"/>
                <a:chOff x="6496200" y="2057400"/>
                <a:chExt cx="1962000" cy="19620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6496200" y="2057400"/>
                  <a:ext cx="1962000" cy="1962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1280" y="2799000"/>
                  <a:ext cx="74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ahoma"/>
                    </a:rPr>
                    <a:t>●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304920" y="3581280"/>
                <a:ext cx="2743200" cy="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181320" y="4087800"/>
                <a:ext cx="2743200" cy="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186600" y="4349880"/>
                <a:ext cx="2743200" cy="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6252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ahoma"/>
                  </a:rPr>
                  <a:t>相切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86600" y="4343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ahoma"/>
                  </a:rPr>
                  <a:t>相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7440" y="2514600"/>
              <a:ext cx="933480" cy="592200"/>
              <a:chOff x="577440" y="2514600"/>
              <a:chExt cx="933480" cy="592200"/>
            </a:xfrm>
          </p:grpSpPr>
          <p:sp>
            <p:nvSpPr>
              <p:cNvPr id="262" name=""/>
              <p:cNvSpPr/>
              <p:nvPr/>
            </p:nvSpPr>
            <p:spPr>
              <a:xfrm flipH="1" flipV="1">
                <a:off x="577440" y="2658960"/>
                <a:ext cx="93348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14400" y="2514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580920" y="2514600"/>
              <a:ext cx="933480" cy="592200"/>
              <a:chOff x="3580920" y="2514600"/>
              <a:chExt cx="933480" cy="592200"/>
            </a:xfrm>
          </p:grpSpPr>
          <p:sp>
            <p:nvSpPr>
              <p:cNvPr id="265" name=""/>
              <p:cNvSpPr/>
              <p:nvPr/>
            </p:nvSpPr>
            <p:spPr>
              <a:xfrm flipH="1" flipV="1">
                <a:off x="3580920" y="2658960"/>
                <a:ext cx="93348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917880" y="2514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6552720" y="2514600"/>
              <a:ext cx="933480" cy="592200"/>
              <a:chOff x="6552720" y="2514600"/>
              <a:chExt cx="933480" cy="592200"/>
            </a:xfrm>
          </p:grpSpPr>
          <p:sp>
            <p:nvSpPr>
              <p:cNvPr id="268" name=""/>
              <p:cNvSpPr/>
              <p:nvPr/>
            </p:nvSpPr>
            <p:spPr>
              <a:xfrm flipH="1" flipV="1">
                <a:off x="6552720" y="2658960"/>
                <a:ext cx="93348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89680" y="2514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447920" y="3124080"/>
              <a:ext cx="761760" cy="496080"/>
              <a:chOff x="1447920" y="3124080"/>
              <a:chExt cx="761760" cy="496080"/>
            </a:xfrm>
          </p:grpSpPr>
          <p:sp>
            <p:nvSpPr>
              <p:cNvPr id="271" name=""/>
              <p:cNvSpPr/>
              <p:nvPr/>
            </p:nvSpPr>
            <p:spPr>
              <a:xfrm>
                <a:off x="1523880" y="31240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47920" y="31604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457880" y="3124080"/>
              <a:ext cx="457200" cy="993240"/>
              <a:chOff x="4457880" y="3124080"/>
              <a:chExt cx="457200" cy="993240"/>
            </a:xfrm>
          </p:grpSpPr>
          <p:sp>
            <p:nvSpPr>
              <p:cNvPr id="274" name=""/>
              <p:cNvSpPr/>
              <p:nvPr/>
            </p:nvSpPr>
            <p:spPr>
              <a:xfrm>
                <a:off x="4532400" y="3124080"/>
                <a:ext cx="1440" cy="9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495680" y="33526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57880" y="3657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410600" y="3090960"/>
              <a:ext cx="406080" cy="1312200"/>
              <a:chOff x="7410600" y="3090960"/>
              <a:chExt cx="406080" cy="1312200"/>
            </a:xfrm>
          </p:grpSpPr>
          <p:sp>
            <p:nvSpPr>
              <p:cNvPr id="278" name=""/>
              <p:cNvSpPr/>
              <p:nvPr/>
            </p:nvSpPr>
            <p:spPr>
              <a:xfrm>
                <a:off x="7502400" y="3090960"/>
                <a:ext cx="0" cy="12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467480" y="3353040"/>
                <a:ext cx="34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10600" y="39434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3733920" y="4724280"/>
            <a:ext cx="1066680" cy="304920"/>
          </a:xfrm>
          <a:prstGeom prst="leftRightArrow">
            <a:avLst>
              <a:gd name="adj1" fmla="val 50000"/>
              <a:gd name="adj2" fmla="val 696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334120"/>
            <a:ext cx="1066680" cy="304560"/>
          </a:xfrm>
          <a:prstGeom prst="leftRightArrow">
            <a:avLst>
              <a:gd name="adj1" fmla="val 50000"/>
              <a:gd name="adj2" fmla="val 697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6019920"/>
            <a:ext cx="1066680" cy="304560"/>
          </a:xfrm>
          <a:prstGeom prst="leftRightArrow">
            <a:avLst>
              <a:gd name="adj1" fmla="val 50000"/>
              <a:gd name="adj2" fmla="val 697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62720" y="4572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5867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51920" y="19810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能举出生活中直线与圆相交、相切、相离的实例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280" y="5214600"/>
            <a:ext cx="86868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上面的三个图形是轴对称图形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是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能画出它们的对称轴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72000" y="304920"/>
            <a:ext cx="3581280" cy="685800"/>
            <a:chOff x="4572000" y="304920"/>
            <a:chExt cx="3581280" cy="685800"/>
          </a:xfrm>
        </p:grpSpPr>
        <p:grpSp>
          <p:nvGrpSpPr>
            <p:cNvPr id="290" name=""/>
            <p:cNvGrpSpPr/>
            <p:nvPr/>
          </p:nvGrpSpPr>
          <p:grpSpPr>
            <a:xfrm>
              <a:off x="4572000" y="351000"/>
              <a:ext cx="2361960" cy="461880"/>
              <a:chOff x="4572000" y="351000"/>
              <a:chExt cx="2361960" cy="461880"/>
            </a:xfrm>
          </p:grpSpPr>
          <p:sp>
            <p:nvSpPr>
              <p:cNvPr id="291" name=""/>
              <p:cNvSpPr/>
              <p:nvPr/>
            </p:nvSpPr>
            <p:spPr>
              <a:xfrm>
                <a:off x="457200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思索领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51560" y="35100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693396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57200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rId5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6172200"/>
            <a:ext cx="7086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由此你能悟出点什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04920" y="2514600"/>
            <a:ext cx="8624880" cy="2745720"/>
            <a:chOff x="304920" y="2514600"/>
            <a:chExt cx="8624880" cy="2745720"/>
          </a:xfrm>
        </p:grpSpPr>
        <p:grpSp>
          <p:nvGrpSpPr>
            <p:cNvPr id="300" name=""/>
            <p:cNvGrpSpPr/>
            <p:nvPr/>
          </p:nvGrpSpPr>
          <p:grpSpPr>
            <a:xfrm>
              <a:off x="3524400" y="2533680"/>
              <a:ext cx="1962000" cy="1962000"/>
              <a:chOff x="3524400" y="2533680"/>
              <a:chExt cx="1962000" cy="1962000"/>
            </a:xfrm>
          </p:grpSpPr>
          <p:sp>
            <p:nvSpPr>
              <p:cNvPr id="301" name=""/>
              <p:cNvSpPr/>
              <p:nvPr/>
            </p:nvSpPr>
            <p:spPr>
              <a:xfrm>
                <a:off x="3524400" y="253368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89480" y="327528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●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01480" y="2514600"/>
              <a:ext cx="1962360" cy="1962000"/>
              <a:chOff x="501480" y="2514600"/>
              <a:chExt cx="1962360" cy="1962000"/>
            </a:xfrm>
          </p:grpSpPr>
          <p:sp>
            <p:nvSpPr>
              <p:cNvPr id="304" name=""/>
              <p:cNvSpPr/>
              <p:nvPr/>
            </p:nvSpPr>
            <p:spPr>
              <a:xfrm>
                <a:off x="501480" y="2514600"/>
                <a:ext cx="196236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66560" y="325620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●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066680" y="4495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相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6496200" y="2514600"/>
              <a:ext cx="1962000" cy="1962000"/>
              <a:chOff x="6496200" y="2514600"/>
              <a:chExt cx="1962000" cy="1962000"/>
            </a:xfrm>
          </p:grpSpPr>
          <p:sp>
            <p:nvSpPr>
              <p:cNvPr id="308" name=""/>
              <p:cNvSpPr/>
              <p:nvPr/>
            </p:nvSpPr>
            <p:spPr>
              <a:xfrm>
                <a:off x="6496200" y="251460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61280" y="325620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●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04920" y="4038480"/>
              <a:ext cx="27432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81320" y="4545000"/>
              <a:ext cx="27432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86600" y="4807080"/>
              <a:ext cx="27432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62520" y="45720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相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86600" y="4800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相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982800"/>
            <a:ext cx="692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探索切线的性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如图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直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相切于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直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直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有怎样的位置关系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说说你的理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51920" y="297180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直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垂直于直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562720" y="380880"/>
            <a:ext cx="3581280" cy="685800"/>
            <a:chOff x="5562720" y="380880"/>
            <a:chExt cx="3581280" cy="685800"/>
          </a:xfrm>
        </p:grpSpPr>
        <p:grpSp>
          <p:nvGrpSpPr>
            <p:cNvPr id="319" name=""/>
            <p:cNvGrpSpPr/>
            <p:nvPr/>
          </p:nvGrpSpPr>
          <p:grpSpPr>
            <a:xfrm>
              <a:off x="5562720" y="426960"/>
              <a:ext cx="2361960" cy="461880"/>
              <a:chOff x="5562720" y="426960"/>
              <a:chExt cx="2361960" cy="461880"/>
            </a:xfrm>
          </p:grpSpPr>
          <p:sp>
            <p:nvSpPr>
              <p:cNvPr id="320" name=""/>
              <p:cNvSpPr/>
              <p:nvPr/>
            </p:nvSpPr>
            <p:spPr>
              <a:xfrm>
                <a:off x="5562720" y="42912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放心一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442280" y="4269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2" name="" descr=""/>
            <p:cNvPicPr/>
            <p:nvPr/>
          </p:nvPicPr>
          <p:blipFill>
            <a:blip r:embed="rId1"/>
            <a:stretch/>
          </p:blipFill>
          <p:spPr>
            <a:xfrm>
              <a:off x="7924680" y="3808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562720" y="5331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26" name="">
            <a:hlinkClick r:id="rId5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32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老师期望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圆的对称性已经在你心中落地生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3505320"/>
            <a:ext cx="6629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小颖的理由是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右图是轴对称图形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对称轴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∴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沿直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对折图形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A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重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因此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∠BAC=∠BAD=90°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400800" y="3124080"/>
            <a:ext cx="2743200" cy="2821680"/>
            <a:chOff x="6400800" y="3124080"/>
            <a:chExt cx="2743200" cy="2821680"/>
          </a:xfrm>
        </p:grpSpPr>
        <p:sp>
          <p:nvSpPr>
            <p:cNvPr id="330" name=""/>
            <p:cNvSpPr/>
            <p:nvPr/>
          </p:nvSpPr>
          <p:spPr>
            <a:xfrm>
              <a:off x="6400800" y="5333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62760" y="5333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05360" y="5581440"/>
              <a:ext cx="2119320" cy="6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7480" y="31240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43800" y="434304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6648480" y="3600360"/>
              <a:ext cx="1962000" cy="1962000"/>
              <a:chOff x="6648480" y="3600360"/>
              <a:chExt cx="1962000" cy="1962000"/>
            </a:xfrm>
          </p:grpSpPr>
          <p:sp>
            <p:nvSpPr>
              <p:cNvPr id="336" name=""/>
              <p:cNvSpPr/>
              <p:nvPr/>
            </p:nvSpPr>
            <p:spPr>
              <a:xfrm>
                <a:off x="6648480" y="360036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513560" y="4341960"/>
                <a:ext cx="741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7696080" y="3582720"/>
              <a:ext cx="1440" cy="1960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43800" y="548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982800"/>
            <a:ext cx="692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探索切线的性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小亮的理由是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直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直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要么垂直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要么不垂直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52280" y="2514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假设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不垂直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过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作一条直径垂直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垂足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M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562720" y="304920"/>
            <a:ext cx="3581280" cy="685800"/>
            <a:chOff x="5562720" y="304920"/>
            <a:chExt cx="3581280" cy="685800"/>
          </a:xfrm>
        </p:grpSpPr>
        <p:grpSp>
          <p:nvGrpSpPr>
            <p:cNvPr id="344" name=""/>
            <p:cNvGrpSpPr/>
            <p:nvPr/>
          </p:nvGrpSpPr>
          <p:grpSpPr>
            <a:xfrm>
              <a:off x="5562720" y="351000"/>
              <a:ext cx="2361960" cy="461880"/>
              <a:chOff x="5562720" y="351000"/>
              <a:chExt cx="2361960" cy="461880"/>
            </a:xfrm>
          </p:grpSpPr>
          <p:sp>
            <p:nvSpPr>
              <p:cNvPr id="345" name=""/>
              <p:cNvSpPr/>
              <p:nvPr/>
            </p:nvSpPr>
            <p:spPr>
              <a:xfrm>
                <a:off x="556272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 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全心考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442280" y="35100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47" name="" descr=""/>
            <p:cNvPicPr/>
            <p:nvPr/>
          </p:nvPicPr>
          <p:blipFill>
            <a:blip r:embed="rId1"/>
            <a:stretch/>
          </p:blipFill>
          <p:spPr>
            <a:xfrm>
              <a:off x="79246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5627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51" name="">
            <a:hlinkClick r:id="rId5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320" y="579132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老师期望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你能看明白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或掌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反证法说理的过程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733920"/>
            <a:ext cx="6629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M&lt;OA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即圆心到直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距离小于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半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因此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相交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这与已知条件“直线与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相切”相矛盾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400800" y="3048120"/>
            <a:ext cx="2743200" cy="2821680"/>
            <a:chOff x="6400800" y="3048120"/>
            <a:chExt cx="2743200" cy="2821680"/>
          </a:xfrm>
        </p:grpSpPr>
        <p:sp>
          <p:nvSpPr>
            <p:cNvPr id="355" name=""/>
            <p:cNvSpPr/>
            <p:nvPr/>
          </p:nvSpPr>
          <p:spPr>
            <a:xfrm>
              <a:off x="6400800" y="525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6276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05360" y="5505480"/>
              <a:ext cx="2119320" cy="6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67480" y="30481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43800" y="426708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6648480" y="3524400"/>
              <a:ext cx="1962000" cy="1962000"/>
              <a:chOff x="6648480" y="3524400"/>
              <a:chExt cx="1962000" cy="1962000"/>
            </a:xfrm>
          </p:grpSpPr>
          <p:sp>
            <p:nvSpPr>
              <p:cNvPr id="361" name=""/>
              <p:cNvSpPr/>
              <p:nvPr/>
            </p:nvSpPr>
            <p:spPr>
              <a:xfrm>
                <a:off x="6648480" y="352440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13560" y="4266000"/>
                <a:ext cx="741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696080" y="3506760"/>
              <a:ext cx="1440" cy="1960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438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0" y="48006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所以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垂直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165800" y="3638520"/>
            <a:ext cx="1292400" cy="2170440"/>
            <a:chOff x="7165800" y="3638520"/>
            <a:chExt cx="1292400" cy="2170440"/>
          </a:xfrm>
        </p:grpSpPr>
        <p:sp>
          <p:nvSpPr>
            <p:cNvPr id="367" name=""/>
            <p:cNvSpPr/>
            <p:nvPr/>
          </p:nvSpPr>
          <p:spPr>
            <a:xfrm>
              <a:off x="7165800" y="3638520"/>
              <a:ext cx="1101960" cy="18669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77320" y="5410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03:59:16Z</dcterms:created>
  <dc:creator>win</dc:creator>
  <dc:description/>
  <dc:language>en-US</dc:language>
  <cp:lastModifiedBy>User</cp:lastModifiedBy>
  <dcterms:modified xsi:type="dcterms:W3CDTF">2014-02-18T02:52:20Z</dcterms:modified>
  <cp:revision>288</cp:revision>
  <dc:subject/>
  <dc:title>PowerPoint 演示文稿</dc:title>
</cp:coreProperties>
</file>