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2.gif" ContentType="image/gif"/>
  <Override PartName="/ppt/media/image9.png" ContentType="image/png"/>
  <Override PartName="/ppt/media/image17.wmf" ContentType="image/x-wmf"/>
  <Override PartName="/ppt/media/image5.gif" ContentType="image/gif"/>
  <Override PartName="/ppt/media/image8.png" ContentType="image/png"/>
  <Override PartName="/ppt/media/image16.wmf" ContentType="image/x-wmf"/>
  <Override PartName="/ppt/media/image12.wmf" ContentType="image/x-wmf"/>
  <Override PartName="/ppt/media/image4.gif" ContentType="image/gif"/>
  <Override PartName="/ppt/media/image7.png" ContentType="image/png"/>
  <Override PartName="/ppt/media/image22.jpeg" ContentType="image/jpeg"/>
  <Override PartName="/ppt/media/image11.wmf" ContentType="image/x-wmf"/>
  <Override PartName="/ppt/media/image3.gif" ContentType="image/gif"/>
  <Override PartName="/ppt/media/image6.png" ContentType="image/png"/>
  <Override PartName="/ppt/media/image10.wmf" ContentType="image/x-wmf"/>
  <Override PartName="/ppt/media/image1.png" ContentType="image/png"/>
  <Override PartName="/ppt/media/image29.wmf" ContentType="image/x-wmf"/>
  <Override PartName="/ppt/media/image20.jpeg" ContentType="image/jpeg"/>
  <Override PartName="/ppt/media/image28.wmf" ContentType="image/x-wmf"/>
  <Override PartName="/ppt/media/image27.jpeg" ContentType="image/jpeg"/>
  <Override PartName="/ppt/media/image24.wmf" ContentType="image/x-wmf"/>
  <Override PartName="/ppt/media/image14.png" ContentType="image/png"/>
  <Override PartName="/ppt/media/image25.wmf" ContentType="image/x-wmf"/>
  <Override PartName="/ppt/media/image23.jpeg" ContentType="image/jpeg"/>
  <Override PartName="/ppt/media/image21.wmf" ContentType="image/x-wmf"/>
  <Override PartName="/ppt/media/image19.wmf" ContentType="image/x-wmf"/>
  <Override PartName="/ppt/media/image18.wmf" ContentType="image/x-wmf"/>
  <Override PartName="/ppt/media/image15.jpeg" ContentType="image/jpeg"/>
  <Override PartName="/ppt/media/image2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D6C4-C3B0-4180-87A5-4BA069FBF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9B53-1B7A-4D73-97F9-6436B088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8F06-2889-4B5B-A43D-54CE93912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C4CE-84C9-40AF-91FA-664B1B2A9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75CD-4817-4BDB-98CD-13CA849A1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03EE-F518-41AD-AF22-3E5285DD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D98C-1740-43C0-94DF-5FD5EDDC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19CA-A677-4290-ABC9-33647C9D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D4E6-29A9-40C7-B92E-72067460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348B-CC46-406B-A42E-1291C2F0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4012-A22A-4432-B4CF-DC7ABCC0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10B8-1B9A-48C4-9017-A125055F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A3EF-5669-45D0-A287-14C9B435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E03B-8B6A-4842-94BB-7D18F469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0449-55A7-4812-8325-542ED1F6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5B3A-E5C7-4F11-A0A3-5109DC7BF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8644-93EA-4D37-B3A6-B439848E1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5A1E-30BE-40A6-973A-BD174BE4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E6ED-5D28-456A-BD5B-A07BFFDB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2E76-0E66-445A-B638-F08E66DD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D783-0E08-4887-9954-ECB31871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4013-3163-4DE4-A615-C5BBAA66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7D1E-5ED6-4D94-A03A-3F4C4BE0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C56B-6219-446F-AB6A-1D38E0E4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3A48-FB60-4264-BB7F-C7C0D00DA04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120816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F62E-BD1E-40D0-9BE3-DB907AE9FF0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slide" Target="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slide" Target="slide12.xml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" Target="slide6.xml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" Target="slide9.xml"/><Relationship Id="rId6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slide" Target="slide12.xml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08000" y="765000"/>
            <a:ext cx="61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第四章  统计与概率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87640" y="2924280"/>
            <a:ext cx="31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回顾与思考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143000" y="838080"/>
            <a:ext cx="616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若改成图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的转盘呢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952880" y="2666880"/>
          <a:ext cx="3810240" cy="95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2666880"/>
                    <a:ext cx="3810240" cy="9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4904280" y="3710160"/>
            <a:ext cx="179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= 18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元）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04920" y="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小明和小刚正在做掷骰子的游戏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两人各掷一枚子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006560" y="60948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当两枚骰子的点数之和为奇数时，小刚得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分，否则小明得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分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这个游戏对双方公平吗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0800000">
            <a:off x="1143000" y="2133000"/>
            <a:ext cx="6192720" cy="1143000"/>
          </a:xfrm>
          <a:prstGeom prst="wedgeRoundRectCallout">
            <a:avLst>
              <a:gd name="adj1" fmla="val 33106"/>
              <a:gd name="adj2" fmla="val 82500"/>
              <a:gd name="adj3" fmla="val 16667"/>
            </a:avLst>
          </a:prstGeom>
          <a:solidFill>
            <a:srgbClr val="99ff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游戏怎样才算公平？每人获胜的概率是多少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715000" y="3733920"/>
                <a:ext cx="5335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914400" y="3352680"/>
            <a:ext cx="7162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这个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游戏对双方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华文行楷"/>
              </a:rPr>
              <a:t>公平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，因为小刚获胜的概率与小明获胜的概率相等，均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06560" y="441972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当两枚骰子的点数之积为奇数时，小刚得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分，否则小明得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分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这个游戏对双方公平吗？为什么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19320" y="5487840"/>
            <a:ext cx="754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这个游戏对小刚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华文行楷"/>
              </a:rPr>
              <a:t>不利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，因为小刚获胜的概率为         ，小明获胜的概率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6019920" y="5867280"/>
                <a:ext cx="4712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905120" y="5943600"/>
                <a:ext cx="533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828800" y="3048120"/>
            <a:ext cx="5562720" cy="23619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219320" y="9907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用下图的两个转盘进行“配紫色”游戏：分别旋转两个转盘，若其中的一个转盘转出了红色，另一个转出了蓝色，则可配成紫色，此时小刚得１分，否则小明得１分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43000" y="5486400"/>
            <a:ext cx="76201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这个游戏对双方公平吗？若你认为不公平，如何修改规则才能使该游戏对双方公平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267080" y="0"/>
            <a:ext cx="4267440" cy="90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放开手脚 做一做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0" y="0"/>
            <a:ext cx="4076280" cy="761760"/>
            <a:chOff x="0" y="0"/>
            <a:chExt cx="4076280" cy="761760"/>
          </a:xfrm>
        </p:grpSpPr>
        <p:grpSp>
          <p:nvGrpSpPr>
            <p:cNvPr id="275" name=""/>
            <p:cNvGrpSpPr/>
            <p:nvPr/>
          </p:nvGrpSpPr>
          <p:grpSpPr>
            <a:xfrm>
              <a:off x="82440" y="0"/>
              <a:ext cx="2964600" cy="761760"/>
              <a:chOff x="82440" y="0"/>
              <a:chExt cx="2964600" cy="761760"/>
            </a:xfrm>
          </p:grpSpPr>
          <p:sp>
            <p:nvSpPr>
              <p:cNvPr id="276" name=""/>
              <p:cNvSpPr/>
              <p:nvPr/>
            </p:nvSpPr>
            <p:spPr>
              <a:xfrm>
                <a:off x="82440" y="142920"/>
                <a:ext cx="2964600" cy="5814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0000"/>
                    </a:solidFill>
                    <a:latin typeface="Arial"/>
                  </a:rPr>
                  <a:t>    </a:t>
                </a:r>
                <a:r>
                  <a:rPr b="0" lang="zh-CN" sz="3200" spc="-1" strike="noStrike">
                    <a:solidFill>
                      <a:srgbClr val="ff0000"/>
                    </a:solidFill>
                    <a:latin typeface="隶书"/>
                    <a:ea typeface="隶书"/>
                  </a:rPr>
                  <a:t>课堂练习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444760" y="0"/>
                <a:ext cx="18396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278" name="" descr=""/>
            <p:cNvPicPr/>
            <p:nvPr/>
          </p:nvPicPr>
          <p:blipFill>
            <a:blip r:embed="rId2"/>
            <a:stretch/>
          </p:blipFill>
          <p:spPr>
            <a:xfrm>
              <a:off x="3047040" y="55080"/>
              <a:ext cx="1029240" cy="59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>
              <a:hlinkClick r:id="" action="ppaction://hlinkshowjump?jump=lastslide"/>
            </p:cNvPr>
            <p:cNvPicPr/>
            <p:nvPr/>
          </p:nvPicPr>
          <p:blipFill>
            <a:blip r:embed="rId3"/>
            <a:stretch/>
          </p:blipFill>
          <p:spPr>
            <a:xfrm>
              <a:off x="0" y="221400"/>
              <a:ext cx="576360" cy="38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066680" y="228600"/>
            <a:ext cx="84250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3600" spc="-1" strike="noStrike">
                <a:solidFill>
                  <a:srgbClr val="001932"/>
                </a:solidFill>
                <a:latin typeface="宋体"/>
              </a:rPr>
              <a:t>　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小明和小刚改用如图所示的两个转盘进行“配紫色”游戏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配成紫色，小刚得１分，否则小明得１分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这个游戏对双方公平吗？为什么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447920" y="2819520"/>
            <a:ext cx="67053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"/>
          <p:cNvGraphicFramePr/>
          <p:nvPr/>
        </p:nvGraphicFramePr>
        <p:xfrm>
          <a:off x="755640" y="2637000"/>
          <a:ext cx="4114800" cy="266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37000"/>
                    <a:ext cx="41148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4678200" y="3933720"/>
          <a:ext cx="4465800" cy="2629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78200" y="3933720"/>
                    <a:ext cx="446580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2125800" y="3141720"/>
            <a:ext cx="63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1.5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60360" y="393372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32.3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01440" y="407664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66.2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2160" y="4365720"/>
            <a:ext cx="63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1.5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094160" y="494172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32.8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933800" y="530064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65.7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84080" y="914400"/>
            <a:ext cx="18432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4000" y="-100080"/>
            <a:ext cx="2666880" cy="1447920"/>
          </a:xfrm>
          <a:prstGeom prst="cloudCallout">
            <a:avLst>
              <a:gd name="adj1" fmla="val 107500"/>
              <a:gd name="adj2" fmla="val 36291"/>
            </a:avLst>
          </a:prstGeom>
          <a:solidFill>
            <a:srgbClr val="ffcc99"/>
          </a:solidFill>
          <a:ln w="12600">
            <a:solidFill>
              <a:srgbClr val="b2b2b2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87640" y="189000"/>
            <a:ext cx="59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小明绘制了我国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99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年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99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年大、中、小学学生数的扇形统计图。根据这个图你能断定我国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99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年的小学生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99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年多吗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052880" y="20606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答：无法断定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08120" y="388620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971640" y="115920"/>
            <a:ext cx="1523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练一练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8229600" y="6172200"/>
          <a:ext cx="53352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9" name="" descr="">
                    <a:hlinkClick r:id="rId6" action="ppaction://hlinksldjump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29600" y="617220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1295280" y="1752480"/>
          <a:ext cx="9448920" cy="539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752480"/>
                    <a:ext cx="9448920" cy="539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 txBox="1"/>
          <p:nvPr/>
        </p:nvSpPr>
        <p:spPr>
          <a:xfrm>
            <a:off x="2743200" y="457200"/>
            <a:ext cx="3276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楷体_GB2312"/>
              </a:rPr>
              <a:t>擦亮眼睛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303" name=""/>
          <p:cNvSpPr/>
          <p:nvPr/>
        </p:nvSpPr>
        <p:spPr>
          <a:xfrm>
            <a:off x="3200400" y="1905120"/>
            <a:ext cx="3978360" cy="1434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某牙膏广告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58560" y="5522760"/>
            <a:ext cx="3301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谈谈你对此广告的看法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8153280" y="5943600"/>
          <a:ext cx="53352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" descr="">
                    <a:hlinkClick r:id="rId4" action="ppaction://hlinksldjump"/>
                  </p:cNvPr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153280" y="594360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276720" y="91440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课堂与小结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95280" y="2276640"/>
            <a:ext cx="68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通过这节课的学习，谈谈你的体会和收获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59280" y="365760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特别提醒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在生活中要善于应用数学知识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1066680" y="4876920"/>
            <a:ext cx="20383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116000" y="18900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作业布置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828800" y="9144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复习题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组、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05120" y="19810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动手设计游戏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47920" y="289548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你能否以骰子、硬币或其它工具设计一个对双方都公平的游戏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752480" y="4572000"/>
            <a:ext cx="1752840" cy="14428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4267080" y="4495680"/>
            <a:ext cx="1656000" cy="15354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6705720" y="4495680"/>
            <a:ext cx="13888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0" y="0"/>
            <a:ext cx="4076280" cy="761760"/>
            <a:chOff x="0" y="0"/>
            <a:chExt cx="4076280" cy="761760"/>
          </a:xfrm>
        </p:grpSpPr>
        <p:grpSp>
          <p:nvGrpSpPr>
            <p:cNvPr id="133" name=""/>
            <p:cNvGrpSpPr/>
            <p:nvPr/>
          </p:nvGrpSpPr>
          <p:grpSpPr>
            <a:xfrm>
              <a:off x="82440" y="0"/>
              <a:ext cx="2964600" cy="761760"/>
              <a:chOff x="82440" y="0"/>
              <a:chExt cx="2964600" cy="761760"/>
            </a:xfrm>
          </p:grpSpPr>
          <p:sp>
            <p:nvSpPr>
              <p:cNvPr id="134" name=""/>
              <p:cNvSpPr/>
              <p:nvPr/>
            </p:nvSpPr>
            <p:spPr>
              <a:xfrm>
                <a:off x="82440" y="142920"/>
                <a:ext cx="2964600" cy="5814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0000"/>
                    </a:solidFill>
                    <a:latin typeface="Arial"/>
                  </a:rPr>
                  <a:t>    </a:t>
                </a:r>
                <a:r>
                  <a:rPr b="0" lang="zh-CN" sz="3200" spc="-1" strike="noStrike">
                    <a:solidFill>
                      <a:srgbClr val="ff0000"/>
                    </a:solidFill>
                    <a:latin typeface="隶书"/>
                    <a:ea typeface="隶书"/>
                  </a:rPr>
                  <a:t>回顾与反思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444760" y="0"/>
                <a:ext cx="18396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3047040" y="55080"/>
              <a:ext cx="1029240" cy="59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0" y="221400"/>
              <a:ext cx="576360" cy="38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/>
          <p:cNvSpPr/>
          <p:nvPr/>
        </p:nvSpPr>
        <p:spPr>
          <a:xfrm>
            <a:off x="5877000" y="6094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用心想一想，你能行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19810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问题１：小明想了解我校初三男生的身高情况，你　　　　能帮助小明解决这个问题吗？说出你的解决方法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35053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生活动：思考并小组讨论，然后回答问题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4038480"/>
            <a:ext cx="7543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教师活动：（归纳总结）在生活中，我们经常需要收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一些数据，以帮助人们了解情况、发现规律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作出决策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0" y="4876920"/>
            <a:ext cx="2038320" cy="198108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rId4" action="ppaction://hlinksldjump"/>
          </p:cNvPr>
          <p:cNvSpPr/>
          <p:nvPr/>
        </p:nvSpPr>
        <p:spPr>
          <a:xfrm>
            <a:off x="6553080" y="5943600"/>
            <a:ext cx="1055880" cy="914400"/>
          </a:xfrm>
          <a:custGeom>
            <a:avLst/>
            <a:gdLst>
              <a:gd name="textAreaLeft" fmla="*/ 59040 w 1055880"/>
              <a:gd name="textAreaRight" fmla="*/ 996840 w 10558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4941" h="21600">
                <a:moveTo>
                  <a:pt x="0" y="0"/>
                </a:moveTo>
                <a:lnTo>
                  <a:pt x="24941" y="0"/>
                </a:lnTo>
                <a:lnTo>
                  <a:pt x="24941" y="21600"/>
                </a:lnTo>
                <a:lnTo>
                  <a:pt x="0" y="21600"/>
                </a:lnTo>
                <a:close/>
              </a:path>
              <a:path fill="lightenLess" w="24941" h="21600">
                <a:moveTo>
                  <a:pt x="0" y="0"/>
                </a:moveTo>
                <a:lnTo>
                  <a:pt x="24941" y="0"/>
                </a:lnTo>
                <a:lnTo>
                  <a:pt x="23541" y="1400"/>
                </a:lnTo>
                <a:lnTo>
                  <a:pt x="1400" y="1400"/>
                </a:lnTo>
                <a:close/>
              </a:path>
              <a:path fill="darken" w="24941" h="21600">
                <a:moveTo>
                  <a:pt x="24941" y="0"/>
                </a:moveTo>
                <a:lnTo>
                  <a:pt x="24941" y="21600"/>
                </a:lnTo>
                <a:lnTo>
                  <a:pt x="23541" y="20200"/>
                </a:lnTo>
                <a:lnTo>
                  <a:pt x="23541" y="1400"/>
                </a:lnTo>
                <a:close/>
              </a:path>
              <a:path fill="darkenLess" w="24941" h="21600">
                <a:moveTo>
                  <a:pt x="249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41" y="20200"/>
                </a:lnTo>
                <a:close/>
              </a:path>
              <a:path fill="lighten" w="249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41" h="21600">
                <a:moveTo>
                  <a:pt x="15969" y="10800"/>
                </a:moveTo>
                <a:lnTo>
                  <a:pt x="5464" y="17806"/>
                </a:lnTo>
                <a:lnTo>
                  <a:pt x="5464" y="3794"/>
                </a:lnTo>
                <a:close/>
              </a:path>
              <a:path fill="darken" w="24941" h="21600">
                <a:moveTo>
                  <a:pt x="17814" y="3794"/>
                </a:moveTo>
                <a:lnTo>
                  <a:pt x="17814" y="17806"/>
                </a:lnTo>
                <a:lnTo>
                  <a:pt x="19477" y="17806"/>
                </a:lnTo>
                <a:lnTo>
                  <a:pt x="19477" y="3794"/>
                </a:lnTo>
                <a:close/>
              </a:path>
            </a:pathLst>
          </a:custGeom>
          <a:solidFill>
            <a:srgbClr val="99ff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620120" y="5943600"/>
            <a:ext cx="617400" cy="9144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229600" y="5943600"/>
            <a:ext cx="5554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03280" y="765000"/>
            <a:ext cx="69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问题２：统计可以帮助我们解决现实生活中的很多问题．那么，统计一般应经历哪几个过程？在各个过程中又应注意些什么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0" y="0"/>
            <a:ext cx="4076280" cy="762120"/>
            <a:chOff x="0" y="0"/>
            <a:chExt cx="4076280" cy="762120"/>
          </a:xfrm>
        </p:grpSpPr>
        <p:grpSp>
          <p:nvGrpSpPr>
            <p:cNvPr id="148" name=""/>
            <p:cNvGrpSpPr/>
            <p:nvPr/>
          </p:nvGrpSpPr>
          <p:grpSpPr>
            <a:xfrm>
              <a:off x="82440" y="0"/>
              <a:ext cx="2964600" cy="762120"/>
              <a:chOff x="82440" y="0"/>
              <a:chExt cx="2964600" cy="762120"/>
            </a:xfrm>
          </p:grpSpPr>
          <p:sp>
            <p:nvSpPr>
              <p:cNvPr id="149" name=""/>
              <p:cNvSpPr/>
              <p:nvPr/>
            </p:nvSpPr>
            <p:spPr>
              <a:xfrm>
                <a:off x="82440" y="100080"/>
                <a:ext cx="2964600" cy="5814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0000"/>
                    </a:solidFill>
                    <a:latin typeface="Arial"/>
                  </a:rPr>
                  <a:t>    </a:t>
                </a:r>
                <a:r>
                  <a:rPr b="0" lang="zh-CN" sz="3200" spc="-1" strike="noStrike">
                    <a:solidFill>
                      <a:srgbClr val="ff0000"/>
                    </a:solidFill>
                    <a:latin typeface="隶书"/>
                    <a:ea typeface="隶书"/>
                  </a:rPr>
                  <a:t>回顾与反思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444760" y="0"/>
                <a:ext cx="18396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3047040" y="38520"/>
              <a:ext cx="1029240" cy="41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0" y="154800"/>
              <a:ext cx="576360" cy="27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"/>
          <p:cNvSpPr/>
          <p:nvPr/>
        </p:nvSpPr>
        <p:spPr>
          <a:xfrm>
            <a:off x="6105600" y="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用心想一想，你能行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35280" y="22050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生活动：思考讨论，然后回答问题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08000" y="2637000"/>
            <a:ext cx="46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教师活动：作适当补充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3200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统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195640" y="3429000"/>
            <a:ext cx="533160" cy="1447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71640" y="3141720"/>
            <a:ext cx="615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１、收集数据。通过做调查、做实验、查阅资料等收集数据。保　　证数据的真实性和科学性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195640" y="4221000"/>
            <a:ext cx="533160" cy="6098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71640" y="3789360"/>
            <a:ext cx="58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２、整理数据（即统计图的选择）．能针对不同问题选择适当的　　统计图描述数据．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95640" y="4941720"/>
            <a:ext cx="609480" cy="5335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6520" y="525780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71640" y="5445000"/>
            <a:ext cx="58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３、分析数据．（从统计图中可以观察出数据的各种情况．如平均　　水平、中位数、众数等。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71640" y="4437000"/>
            <a:ext cx="562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如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想了解每个项目的具体数据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条形统计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43280" y="47242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想了解事物的变化情况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折线统计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43280" y="508464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想了解各部分在总体中所占的百分比（扇形统计图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24000" y="5084640"/>
            <a:ext cx="838440" cy="1143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71640" y="6156360"/>
            <a:ext cx="57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４、作出决策．分析数据的目的是为了作出决策，以便更好地指　　导我们的工作和生活．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5181480" y="2057400"/>
          <a:ext cx="3124440" cy="31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057400"/>
                    <a:ext cx="3124440" cy="31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295280" y="1981080"/>
          <a:ext cx="3137040" cy="320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981080"/>
                    <a:ext cx="31370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822240" y="5659560"/>
            <a:ext cx="18432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98560" y="47772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00200" y="53341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哪种酒的价格增长较快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57913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这与图象给你的感觉一致吗？为什么图象会给人这样的感觉？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32360" y="5334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答：乙酒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6172200"/>
            <a:ext cx="701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答：不一致，因为两个图表横纵坐标不一致。</a:t>
            </a:r>
            <a:r>
              <a:rPr b="1" lang="zh-CN" sz="1800" spc="-1" strike="noStrike">
                <a:solidFill>
                  <a:srgbClr val="990000"/>
                </a:solidFill>
                <a:latin typeface="Times New Roman"/>
              </a:rPr>
              <a:t>左图与右图相比较，横坐标（年份）被“压缩”了，纵坐标（价格）被“放大”了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1295280"/>
            <a:ext cx="655344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下图给出了两种品牌的酒近年的价格变化情况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26920" y="5300640"/>
            <a:ext cx="935280" cy="1015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回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问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228600"/>
            <a:ext cx="2666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擦亮你的眼睛</a:t>
            </a:r>
            <a:endParaRPr b="0" lang="en-US" sz="2400" spc="1" strike="noStrike">
              <a:ln cap="sq"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统计图有时会给人们带来一定的错觉，你能对一些统计图进行正确的评判吗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为了较为直观地比较两个统计量的变化速度，在绘制折线统计图时，应注意些什么？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"/>
          <p:cNvSpPr/>
          <p:nvPr/>
        </p:nvSpPr>
        <p:spPr>
          <a:xfrm>
            <a:off x="1501920" y="3591000"/>
            <a:ext cx="627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答： 应注意两者纵横轴的单位长度表示意义的一致性，从而避免造成“误导”，引起“错觉”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3932280" cy="12574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343400" y="5181480"/>
            <a:ext cx="3932280" cy="12574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5181480" y="0"/>
            <a:ext cx="26672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想一想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685800" y="2819520"/>
          <a:ext cx="411480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19520"/>
                    <a:ext cx="41148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4952880" y="2819520"/>
          <a:ext cx="4191120" cy="3581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2819520"/>
                    <a:ext cx="419112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900000" y="692280"/>
            <a:ext cx="82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下表反映了我国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99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年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999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年图书、杂志和报纸的出版印张数之间的比例状况。根据此图，小明认为，我国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99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年的图书出版印张数比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999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年多。你同意他的看法吗？为什么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440" y="396252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38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5791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8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886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5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39240" y="365760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3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15920" y="563868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9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58160" y="403848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56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04240" y="220968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答：不同意，因为两者的总印张数不知道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>
            <a:hlinkClick r:id="rId5" action="ppaction://hlinksldjump"/>
          </p:cNvPr>
          <p:cNvSpPr/>
          <p:nvPr/>
        </p:nvSpPr>
        <p:spPr>
          <a:xfrm>
            <a:off x="8167680" y="6372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99ffcc"/>
          </a:solidFill>
          <a:ln w="12600">
            <a:solidFill>
              <a:srgbClr val="b2b2b2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187280" y="-171360"/>
            <a:ext cx="17528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想一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0" y="1295280"/>
          <a:ext cx="43434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43434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4419720" y="1752480"/>
          <a:ext cx="4190760" cy="304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1752480"/>
                    <a:ext cx="419076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5182560" y="3124080"/>
            <a:ext cx="384840" cy="337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7680" y="2819520"/>
            <a:ext cx="40932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Times New Roman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35760" y="1981080"/>
            <a:ext cx="40932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Times New Roman"/>
              </a:rPr>
              <a:t>4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774200" y="2438280"/>
            <a:ext cx="40932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Times New Roman"/>
              </a:rPr>
              <a:t>3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7120" y="1371600"/>
            <a:ext cx="66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销售量</a:t>
            </a: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11400" y="1371600"/>
            <a:ext cx="66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销售量</a:t>
            </a: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46280" y="230652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143000" y="0"/>
            <a:ext cx="2057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68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做一做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15" name=""/>
          <p:cNvSpPr/>
          <p:nvPr/>
        </p:nvSpPr>
        <p:spPr>
          <a:xfrm>
            <a:off x="636480" y="1066680"/>
            <a:ext cx="31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某书店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2004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月各类图书销售情况统计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79880" y="1066680"/>
            <a:ext cx="31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某书店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2004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月各类图书销售情况统计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86080" y="4800600"/>
            <a:ext cx="342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）这个月数学书与自然科学销售量的比是多少？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49528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57913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）要使读者直观、清楚地获得这个月各类图书销售量的比例情况，上图应做怎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的改动？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04440" y="5334120"/>
            <a:ext cx="30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00"/>
                </a:solidFill>
                <a:latin typeface="Times New Roman"/>
              </a:rPr>
              <a:t>答：数学书与自然科学销售量的比是</a:t>
            </a:r>
            <a:r>
              <a:rPr b="1" lang="zh-CN" sz="1800" spc="-1" strike="noStrike">
                <a:solidFill>
                  <a:srgbClr val="990000"/>
                </a:solidFill>
                <a:latin typeface="Times New Roman"/>
              </a:rPr>
              <a:t>3</a:t>
            </a:r>
            <a:r>
              <a:rPr b="1" lang="zh-CN" sz="1800" spc="-1" strike="noStrike">
                <a:solidFill>
                  <a:srgbClr val="990000"/>
                </a:solidFill>
                <a:latin typeface="Times New Roman"/>
              </a:rPr>
              <a:t>：</a:t>
            </a:r>
            <a:r>
              <a:rPr b="1" lang="zh-CN" sz="1800" spc="-1" strike="noStrike">
                <a:solidFill>
                  <a:srgbClr val="990000"/>
                </a:solidFill>
                <a:latin typeface="Times New Roman"/>
              </a:rPr>
              <a:t>5</a:t>
            </a:r>
            <a:r>
              <a:rPr b="1" lang="zh-CN" sz="1800" spc="-1" strike="noStrike">
                <a:solidFill>
                  <a:srgbClr val="990000"/>
                </a:solidFill>
                <a:latin typeface="Times New Roman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412840" y="403848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图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29400" y="64771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0">
            <a:noFill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24680" y="6172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0">
            <a:noFill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8229600" y="6172200"/>
          <a:ext cx="53352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5" name="" descr="">
                    <a:hlinkClick r:id="rId6" action="ppaction://hlinksldjump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29600" y="617220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724280" y="609480"/>
            <a:ext cx="358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Times New Roman"/>
              </a:rPr>
              <a:t>想一想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19720" y="685800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763640" y="2209680"/>
            <a:ext cx="6696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在绘制条形统计图时，为了使所绘统计图更为直观、清晰，应注意些什么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25192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46240" y="3886200"/>
            <a:ext cx="7997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答：应注意纵坐标上的数值从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0”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起，最好每一个点写出具体数据，以及写完整纵横坐标所表示的意义、图表名称等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3932280" cy="12574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5257800"/>
            <a:ext cx="393228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733920" y="228600"/>
            <a:ext cx="541008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不用实验的方法，你能求出每转动一次转盘所获购物券金额的平均数吗？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4" name=""/>
          <p:cNvSpPr/>
          <p:nvPr/>
        </p:nvSpPr>
        <p:spPr>
          <a:xfrm>
            <a:off x="1143000" y="228600"/>
            <a:ext cx="2133720" cy="865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9ffcc">
                  <a:alpha val="99215"/>
                </a:srgbClr>
              </a:gs>
              <a:gs pos="50000">
                <a:srgbClr val="2181b7"/>
              </a:gs>
              <a:gs pos="100000">
                <a:srgbClr val="99ffcc">
                  <a:alpha val="99215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华文行楷"/>
              </a:rPr>
              <a:t>试一试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914400" y="2133720"/>
            <a:ext cx="2820960" cy="2895480"/>
          </a:xfrm>
          <a:prstGeom prst="rect">
            <a:avLst/>
          </a:prstGeom>
          <a:ln w="0">
            <a:noFill/>
          </a:ln>
        </p:spPr>
      </p:pic>
      <p:grpSp>
        <p:nvGrpSpPr>
          <p:cNvPr id="236" name=""/>
          <p:cNvGrpSpPr/>
          <p:nvPr/>
        </p:nvGrpSpPr>
        <p:grpSpPr>
          <a:xfrm>
            <a:off x="3809880" y="1905120"/>
            <a:ext cx="5334120" cy="693720"/>
            <a:chOff x="3809880" y="1905120"/>
            <a:chExt cx="5334120" cy="693720"/>
          </a:xfrm>
        </p:grpSpPr>
        <p:sp>
          <p:nvSpPr>
            <p:cNvPr id="237" name=""/>
            <p:cNvSpPr/>
            <p:nvPr/>
          </p:nvSpPr>
          <p:spPr>
            <a:xfrm>
              <a:off x="3809880" y="2057400"/>
              <a:ext cx="533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1932"/>
                  </a:solidFill>
                  <a:latin typeface="宋体"/>
                </a:rPr>
                <a:t>解：获得</a:t>
              </a:r>
              <a:r>
                <a:rPr b="1" lang="zh-CN" sz="2400" spc="-1" strike="noStrike">
                  <a:solidFill>
                    <a:srgbClr val="001932"/>
                  </a:solidFill>
                  <a:latin typeface="宋体"/>
                </a:rPr>
                <a:t>100</a:t>
              </a:r>
              <a:r>
                <a:rPr b="1" lang="zh-CN" sz="2400" spc="-1" strike="noStrike">
                  <a:solidFill>
                    <a:srgbClr val="001932"/>
                  </a:solidFill>
                  <a:latin typeface="宋体"/>
                </a:rPr>
                <a:t>元购物券的概率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38" name=""/>
            <p:cNvGraphicFramePr/>
            <p:nvPr/>
          </p:nvGraphicFramePr>
          <p:xfrm>
            <a:off x="8001000" y="1905120"/>
            <a:ext cx="366840" cy="693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001000" y="1905120"/>
                      <a:ext cx="366840" cy="69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40" name=""/>
          <p:cNvGrpSpPr/>
          <p:nvPr/>
        </p:nvGrpSpPr>
        <p:grpSpPr>
          <a:xfrm>
            <a:off x="3886200" y="2514600"/>
            <a:ext cx="4876560" cy="733320"/>
            <a:chOff x="3886200" y="2514600"/>
            <a:chExt cx="4876560" cy="733320"/>
          </a:xfrm>
        </p:grpSpPr>
        <p:sp>
          <p:nvSpPr>
            <p:cNvPr id="241" name=""/>
            <p:cNvSpPr/>
            <p:nvPr/>
          </p:nvSpPr>
          <p:spPr>
            <a:xfrm>
              <a:off x="3886200" y="2590560"/>
              <a:ext cx="487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1932"/>
                  </a:solidFill>
                  <a:latin typeface="宋体"/>
                </a:rPr>
                <a:t>获得</a:t>
              </a:r>
              <a:r>
                <a:rPr b="1" lang="zh-CN" sz="2400" spc="-1" strike="noStrike">
                  <a:solidFill>
                    <a:srgbClr val="001932"/>
                  </a:solidFill>
                  <a:latin typeface="宋体"/>
                </a:rPr>
                <a:t>50</a:t>
              </a:r>
              <a:r>
                <a:rPr b="1" lang="zh-CN" sz="2400" spc="-1" strike="noStrike">
                  <a:solidFill>
                    <a:srgbClr val="001932"/>
                  </a:solidFill>
                  <a:latin typeface="宋体"/>
                </a:rPr>
                <a:t>元购物券的概率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42" name=""/>
            <p:cNvGraphicFramePr/>
            <p:nvPr/>
          </p:nvGraphicFramePr>
          <p:xfrm>
            <a:off x="7467480" y="2514600"/>
            <a:ext cx="365040" cy="733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4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467480" y="2514600"/>
                      <a:ext cx="365040" cy="73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44" name=""/>
          <p:cNvGrpSpPr/>
          <p:nvPr/>
        </p:nvGrpSpPr>
        <p:grpSpPr>
          <a:xfrm>
            <a:off x="3886200" y="3124080"/>
            <a:ext cx="4556160" cy="692280"/>
            <a:chOff x="3886200" y="3124080"/>
            <a:chExt cx="4556160" cy="692280"/>
          </a:xfrm>
        </p:grpSpPr>
        <p:sp>
          <p:nvSpPr>
            <p:cNvPr id="245" name=""/>
            <p:cNvSpPr/>
            <p:nvPr/>
          </p:nvSpPr>
          <p:spPr>
            <a:xfrm>
              <a:off x="3886200" y="3276360"/>
              <a:ext cx="45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1932"/>
                  </a:solidFill>
                  <a:latin typeface="宋体"/>
                </a:rPr>
                <a:t>获得</a:t>
              </a:r>
              <a:r>
                <a:rPr b="1" lang="zh-CN" sz="2400" spc="-1" strike="noStrike">
                  <a:solidFill>
                    <a:srgbClr val="001932"/>
                  </a:solidFill>
                  <a:latin typeface="宋体"/>
                </a:rPr>
                <a:t>20</a:t>
              </a:r>
              <a:r>
                <a:rPr b="1" lang="zh-CN" sz="2400" spc="-1" strike="noStrike">
                  <a:solidFill>
                    <a:srgbClr val="001932"/>
                  </a:solidFill>
                  <a:latin typeface="宋体"/>
                </a:rPr>
                <a:t>元购物券的概率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46" name=""/>
            <p:cNvGraphicFramePr/>
            <p:nvPr/>
          </p:nvGraphicFramePr>
          <p:xfrm>
            <a:off x="7315200" y="3124080"/>
            <a:ext cx="401400" cy="6922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4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315200" y="3124080"/>
                      <a:ext cx="401400" cy="69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48" name=""/>
          <p:cNvSpPr/>
          <p:nvPr/>
        </p:nvSpPr>
        <p:spPr>
          <a:xfrm>
            <a:off x="3657600" y="3733920"/>
            <a:ext cx="548640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932"/>
                </a:solidFill>
                <a:latin typeface="Times New Roman"/>
              </a:rPr>
              <a:t>根据概率与统计的关系</a:t>
            </a:r>
            <a:r>
              <a:rPr b="1" lang="zh-CN" sz="2400" spc="-1" strike="noStrike">
                <a:solidFill>
                  <a:srgbClr val="001932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1932"/>
                </a:solidFill>
                <a:latin typeface="Times New Roman"/>
              </a:rPr>
              <a:t>可以认为</a:t>
            </a:r>
            <a:r>
              <a:rPr b="1" lang="zh-CN" sz="2400" spc="-1" strike="noStrike">
                <a:solidFill>
                  <a:srgbClr val="001932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1932"/>
                </a:solidFill>
                <a:latin typeface="Times New Roman"/>
              </a:rPr>
              <a:t>转动</a:t>
            </a:r>
            <a:r>
              <a:rPr b="1" lang="zh-CN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1932"/>
                </a:solidFill>
                <a:latin typeface="宋体"/>
              </a:rPr>
              <a:t>次转盘</a:t>
            </a:r>
            <a:r>
              <a:rPr b="1" lang="zh-CN" sz="2800" spc="-1" strike="noStrike">
                <a:solidFill>
                  <a:srgbClr val="001932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001932"/>
                </a:solidFill>
                <a:latin typeface="宋体"/>
              </a:rPr>
              <a:t>获得</a:t>
            </a:r>
            <a:r>
              <a:rPr b="1" lang="zh-CN" sz="2400" spc="-1" strike="noStrike">
                <a:solidFill>
                  <a:srgbClr val="001932"/>
                </a:solidFill>
                <a:latin typeface="宋体"/>
              </a:rPr>
              <a:t>100</a:t>
            </a:r>
            <a:r>
              <a:rPr b="1" lang="zh-CN" sz="2400" spc="-1" strike="noStrike">
                <a:solidFill>
                  <a:srgbClr val="001932"/>
                </a:solidFill>
                <a:latin typeface="宋体"/>
              </a:rPr>
              <a:t>元购物券的次数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1" lang="zh-CN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1932"/>
                </a:solidFill>
                <a:latin typeface="宋体"/>
              </a:rPr>
              <a:t>次，获得</a:t>
            </a:r>
            <a:r>
              <a:rPr b="1" lang="zh-CN" sz="2400" spc="-1" strike="noStrike">
                <a:solidFill>
                  <a:srgbClr val="001932"/>
                </a:solidFill>
                <a:latin typeface="宋体"/>
              </a:rPr>
              <a:t>50</a:t>
            </a:r>
            <a:r>
              <a:rPr b="1" lang="zh-CN" sz="2400" spc="-1" strike="noStrike">
                <a:solidFill>
                  <a:srgbClr val="001932"/>
                </a:solidFill>
                <a:latin typeface="宋体"/>
              </a:rPr>
              <a:t>元购物券的次数为 　</a:t>
            </a:r>
            <a:r>
              <a:rPr b="1" lang="zh-CN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932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1932"/>
                </a:solidFill>
                <a:latin typeface="宋体"/>
              </a:rPr>
              <a:t>次，获得</a:t>
            </a:r>
            <a:r>
              <a:rPr b="1" lang="zh-CN" sz="2400" spc="-1" strike="noStrike">
                <a:solidFill>
                  <a:srgbClr val="001932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001932"/>
                </a:solidFill>
                <a:latin typeface="宋体"/>
              </a:rPr>
              <a:t>元购物券的次数为 　</a:t>
            </a:r>
            <a:r>
              <a:rPr b="1" lang="zh-CN" sz="2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1932"/>
                </a:solidFill>
                <a:latin typeface="宋体"/>
              </a:rPr>
              <a:t>次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3809880" y="4648320"/>
                <a:ext cx="4431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8381880" y="4572000"/>
                <a:ext cx="398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7924680" y="5181480"/>
                <a:ext cx="4431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52" name=""/>
          <p:cNvGraphicFramePr/>
          <p:nvPr/>
        </p:nvGraphicFramePr>
        <p:xfrm>
          <a:off x="1981080" y="5791320"/>
          <a:ext cx="5029200" cy="739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5791320"/>
                    <a:ext cx="50292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762120" y="5715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1932"/>
                </a:solidFill>
                <a:latin typeface="Times New Roman"/>
              </a:rPr>
              <a:t>所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010280" y="5867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932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001932"/>
                </a:solidFill>
                <a:latin typeface="Times New Roman"/>
              </a:rPr>
              <a:t>14</a:t>
            </a:r>
            <a:r>
              <a:rPr b="1" lang="zh-CN" sz="2800" spc="-1" strike="noStrike">
                <a:solidFill>
                  <a:srgbClr val="001932"/>
                </a:solidFill>
                <a:latin typeface="Times New Roman"/>
              </a:rPr>
              <a:t>（元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5T14:53:17Z</dcterms:created>
  <dc:creator>user</dc:creator>
  <dc:description/>
  <dc:language>en-US</dc:language>
  <cp:lastModifiedBy>User</cp:lastModifiedBy>
  <dcterms:modified xsi:type="dcterms:W3CDTF">2014-02-18T03:06:24Z</dcterms:modified>
  <cp:revision>43</cp:revision>
  <dc:subject/>
  <dc:title>PowerPoint 演示文稿</dc:title>
</cp:coreProperties>
</file>