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gif" ContentType="image/gif"/>
  <Override PartName="/ppt/media/image6.png" ContentType="image/png"/>
  <Override PartName="/ppt/media/image10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A0E-1AF8-4E34-813D-24FB1881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FF0-5CC3-4777-BE3C-A685264B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021-F016-4B21-A45B-61C2857A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B14-2926-41F5-BDEE-80EA6A04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F50E-A810-40E8-B201-7890E1A4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CA8E-6D62-424F-8051-FF282727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420E-7710-4151-B804-408E468C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93C3-8F35-4E12-B468-2D98ACD2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549B-04E2-46A2-B3A5-FC473091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6551-353F-487E-80B5-2E664FAA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325B-AD3A-4444-9EF8-E5097D38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59C-671B-4F20-952C-59E8214B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3981-4B18-4415-8839-9864200D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7CDC-8968-484D-B687-4D39466D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B0B2-F168-4153-8F56-B27BEB60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E885-B414-40B4-8488-3C12A9BB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5492-ACA1-4F0D-A5D3-DAB9A75E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58A7B-EDAA-487D-AC74-81E183BC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A4264-5973-4C09-B47D-F04A9F7A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A9C18-A8A7-41CC-B8B3-C684DEB3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A7EA1-C793-4D45-914C-71A03874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42A8E-1625-46CD-AD94-C7D2657A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C25-0A27-4207-9454-E50A3149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C8B06-BFCB-4776-9393-0CF8C62E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4E8AB-01B3-4127-89B1-81EBE46F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3E528-C0B1-461C-BBDC-3303589B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06A0E-718A-48FA-8DAA-C6C9F02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08098-1E22-46A6-A52D-7BF99DF4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5532B-D81A-47B3-A189-44AD5310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7909C-4E10-4444-9494-D298E393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B79-2C00-4D0B-A104-C7897E95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A9A-6F7E-4522-B2FF-15BD048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EFA-2834-4D62-A804-5011BA06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9D4-8C76-4922-9F5E-82B70E54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942-D932-4495-874C-F131AF89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0C2-35B2-459A-88B4-1051BCC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EF5B-DAD4-46D7-8F6B-D8BF5F0B5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802E-C62E-4B76-AF97-3F41B205F9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DCBA-95A7-4A2E-91C8-669CEF582E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2.gif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0" y="-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991960" y="2818800"/>
            <a:ext cx="33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次函数与相似三角形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2049480" y="773280"/>
            <a:ext cx="4707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初中数学九年级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（北师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2509920" y="44308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1a0c"/>
                </a:solidFill>
                <a:latin typeface="华文行楷"/>
                <a:ea typeface="华文行楷"/>
              </a:rPr>
              <a:t>锦华实验学校九年级数学备课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3"/>
          <p:cNvGraphicFramePr/>
          <p:nvPr/>
        </p:nvGraphicFramePr>
        <p:xfrm>
          <a:off x="5410080" y="3691080"/>
          <a:ext cx="327672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691080"/>
                    <a:ext cx="327672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4"/>
          <p:cNvSpPr/>
          <p:nvPr/>
        </p:nvSpPr>
        <p:spPr>
          <a:xfrm>
            <a:off x="0" y="24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7"/>
          <p:cNvGrpSpPr/>
          <p:nvPr/>
        </p:nvGrpSpPr>
        <p:grpSpPr>
          <a:xfrm>
            <a:off x="0" y="1523880"/>
            <a:ext cx="8915400" cy="2653920"/>
            <a:chOff x="0" y="1523880"/>
            <a:chExt cx="8915400" cy="2653920"/>
          </a:xfrm>
        </p:grpSpPr>
        <mc:AlternateContent>
          <mc:Choice xmlns:a14="http://schemas.microsoft.com/office/drawing/2010/main" Requires="a14">
            <p:sp>
              <p:nvSpPr>
                <p:cNvPr id="171" name="Object 2"/>
                <p:cNvSpPr txBox="1"/>
                <p:nvPr/>
              </p:nvSpPr>
              <p:spPr>
                <a:xfrm>
                  <a:off x="3048120" y="1523880"/>
                  <a:ext cx="24382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Rectangle 6"/>
            <p:cNvSpPr/>
            <p:nvPr/>
          </p:nvSpPr>
          <p:spPr>
            <a:xfrm>
              <a:off x="0" y="1524240"/>
              <a:ext cx="89154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图，已知抛物线              的图像与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交于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两点（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左侧），与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交于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黑体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试判断△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OC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与△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O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否相似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②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抛物线的顶点，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H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垂直于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，垂足为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H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试判断直角三角形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H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与直角三角形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O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否相似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说明理由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8" descr="678"/>
          <p:cNvPicPr/>
          <p:nvPr/>
        </p:nvPicPr>
        <p:blipFill>
          <a:blip r:embed="rId3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flowers"/>
          <p:cNvPicPr/>
          <p:nvPr/>
        </p:nvPicPr>
        <p:blipFill>
          <a:blip r:embed="rId4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2193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抛物线上且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上方，过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G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垂直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垂足为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是否存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使得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MG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O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似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25160" y="152388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3619440" cy="3657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678"/>
          <p:cNvPicPr/>
          <p:nvPr/>
        </p:nvPicPr>
        <p:blipFill>
          <a:blip r:embed="rId2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flowers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501480" y="137088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5410080" y="3048120"/>
          <a:ext cx="28450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8120"/>
                    <a:ext cx="28450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4"/>
          <p:cNvSpPr/>
          <p:nvPr/>
        </p:nvSpPr>
        <p:spPr>
          <a:xfrm>
            <a:off x="1295280" y="1996920"/>
            <a:ext cx="61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抛物线的顶点，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抛物线上且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上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的垂线，垂足为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是否存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得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M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C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似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678"/>
          <p:cNvPicPr/>
          <p:nvPr/>
        </p:nvPicPr>
        <p:blipFill>
          <a:blip r:embed="rId3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flowers"/>
          <p:cNvPicPr/>
          <p:nvPr/>
        </p:nvPicPr>
        <p:blipFill>
          <a:blip r:embed="rId4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C:\Documents and Settings\Administrator\Local Settings\Temp\CyberArticle\4a2f5d91707bdbc6dc77cd3bd7b1e106_files\clip_image254.jpg"/>
          <p:cNvPicPr/>
          <p:nvPr/>
        </p:nvPicPr>
        <p:blipFill>
          <a:blip r:embed="rId1"/>
          <a:stretch/>
        </p:blipFill>
        <p:spPr>
          <a:xfrm>
            <a:off x="5638680" y="3833640"/>
            <a:ext cx="3276720" cy="2722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150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5"/>
          <p:cNvGrpSpPr/>
          <p:nvPr/>
        </p:nvGrpSpPr>
        <p:grpSpPr>
          <a:xfrm>
            <a:off x="1500840" y="1143000"/>
            <a:ext cx="6305760" cy="4437360"/>
            <a:chOff x="1500840" y="1143000"/>
            <a:chExt cx="6305760" cy="4437360"/>
          </a:xfrm>
        </p:grpSpPr>
        <mc:AlternateContent>
          <mc:Choice xmlns:a14="http://schemas.microsoft.com/office/drawing/2010/main" Requires="a14">
            <p:sp>
              <p:nvSpPr>
                <p:cNvPr id="192" name="Object 4"/>
                <p:cNvSpPr txBox="1"/>
                <p:nvPr/>
              </p:nvSpPr>
              <p:spPr>
                <a:xfrm>
                  <a:off x="2971800" y="1143000"/>
                  <a:ext cx="27432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3" name="Group 14"/>
            <p:cNvGrpSpPr/>
            <p:nvPr/>
          </p:nvGrpSpPr>
          <p:grpSpPr>
            <a:xfrm>
              <a:off x="1500840" y="1220400"/>
              <a:ext cx="6305760" cy="4359960"/>
              <a:chOff x="1500840" y="1220400"/>
              <a:chExt cx="6305760" cy="4359960"/>
            </a:xfrm>
          </p:grpSpPr>
          <p:pic>
            <p:nvPicPr>
              <p:cNvPr id="194" name="Picture 3" descr="C:\Documents and Settings\Administrator\Local Settings\Temp\CyberArticle\4a2f5d91707bdbc6dc77cd3bd7b1e106_files\clip_image252.gif"/>
              <p:cNvPicPr/>
              <p:nvPr/>
            </p:nvPicPr>
            <p:blipFill>
              <a:blip r:embed="rId2"/>
              <a:stretch/>
            </p:blipFill>
            <p:spPr>
              <a:xfrm>
                <a:off x="2362320" y="4648320"/>
                <a:ext cx="160020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Rectangle 7"/>
              <p:cNvSpPr/>
              <p:nvPr/>
            </p:nvSpPr>
            <p:spPr>
              <a:xfrm>
                <a:off x="1500840" y="1220400"/>
                <a:ext cx="6305760" cy="43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已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如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抛物线               与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x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轴、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y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轴分别相交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点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-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、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B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两点，其顶点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D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1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该抛物线的解析式；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2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若该抛物线与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x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轴的另一个交点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E.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四边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BD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的面积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3)△AOB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与△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BD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是否相似？如果相似，请予以证明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如果不相似，请说明理由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注：抛物线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y=ax2+bx+c(a≠0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的顶点坐标为  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6" name="Picture 16" descr="678"/>
          <p:cNvPicPr/>
          <p:nvPr/>
        </p:nvPicPr>
        <p:blipFill>
          <a:blip r:embed="rId3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8" descr="flowers"/>
          <p:cNvPicPr/>
          <p:nvPr/>
        </p:nvPicPr>
        <p:blipFill>
          <a:blip r:embed="rId4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848520" y="1600920"/>
            <a:ext cx="706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抛物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顶点坐标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,-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交于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(0,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原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求这条抛物线的解析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设此抛物线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的交点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左边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上是否存在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使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顶点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似？若存在，请求出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坐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不存在，请说明理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678"/>
          <p:cNvPicPr/>
          <p:nvPr/>
        </p:nvPicPr>
        <p:blipFill>
          <a:blip r:embed="rId1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0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flowers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962520" y="3581280"/>
            <a:ext cx="5181480" cy="257040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5"/>
          <p:cNvGrpSpPr/>
          <p:nvPr/>
        </p:nvGrpSpPr>
        <p:grpSpPr>
          <a:xfrm>
            <a:off x="739080" y="1280880"/>
            <a:ext cx="6988680" cy="5075280"/>
            <a:chOff x="739080" y="1280880"/>
            <a:chExt cx="6988680" cy="5075280"/>
          </a:xfrm>
        </p:grpSpPr>
        <p:sp>
          <p:nvSpPr>
            <p:cNvPr id="205" name="Rectangle 3"/>
            <p:cNvSpPr/>
            <p:nvPr/>
          </p:nvSpPr>
          <p:spPr>
            <a:xfrm>
              <a:off x="1525680" y="1280880"/>
              <a:ext cx="6202080" cy="28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图①，已知抛物线的顶点为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2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)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且经过原点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与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的另一交点为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1)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抛物线的解析式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2)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抛物线的对称轴上，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抛物线上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且以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四点为顶点的四边形为平行四边形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的坐标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；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739080" y="3702600"/>
              <a:ext cx="29527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3)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连接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如图②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下方的抛物线上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否存在点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P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使得△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B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与△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相似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存在，求出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P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的坐标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不存在，说明理由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6" descr="678"/>
          <p:cNvPicPr/>
          <p:nvPr/>
        </p:nvPicPr>
        <p:blipFill>
          <a:blip r:embed="rId2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7"/>
          <p:cNvSpPr/>
          <p:nvPr/>
        </p:nvSpPr>
        <p:spPr>
          <a:xfrm>
            <a:off x="2427840" y="332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展示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flowers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2"/>
          <p:cNvGraphicFramePr/>
          <p:nvPr/>
        </p:nvGraphicFramePr>
        <p:xfrm>
          <a:off x="5562720" y="3352680"/>
          <a:ext cx="35812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352680"/>
                    <a:ext cx="35812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9"/>
          <p:cNvGrpSpPr/>
          <p:nvPr/>
        </p:nvGrpSpPr>
        <p:grpSpPr>
          <a:xfrm>
            <a:off x="0" y="1368720"/>
            <a:ext cx="9320040" cy="2288520"/>
            <a:chOff x="0" y="1368720"/>
            <a:chExt cx="9320040" cy="2288520"/>
          </a:xfrm>
        </p:grpSpPr>
        <p:graphicFrame>
          <p:nvGraphicFramePr>
            <p:cNvPr id="213" name="Object 3"/>
            <p:cNvGraphicFramePr/>
            <p:nvPr/>
          </p:nvGraphicFramePr>
          <p:xfrm>
            <a:off x="2133720" y="2895480"/>
            <a:ext cx="1523880" cy="35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895480"/>
                      <a:ext cx="152388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Rectangle 4"/>
            <p:cNvSpPr/>
            <p:nvPr/>
          </p:nvSpPr>
          <p:spPr>
            <a:xfrm>
              <a:off x="0" y="1368720"/>
              <a:ext cx="9320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四川）如图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已知△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中，∠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CB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0°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所在直线为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过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的直线为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y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建立平面直角坐标系．此时，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坐标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1,0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，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坐标为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,0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试求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坐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若抛物线          过△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三个顶点，求抛物线的解析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6"/>
          <p:cNvSpPr/>
          <p:nvPr/>
        </p:nvSpPr>
        <p:spPr>
          <a:xfrm>
            <a:off x="455760" y="3350160"/>
            <a:ext cx="463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在抛物线上，过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直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=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中的抛物线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那么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上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左侧是否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使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顶点的三角形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E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似？若存在，求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坐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不存在，说明理由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678"/>
          <p:cNvPicPr/>
          <p:nvPr/>
        </p:nvPicPr>
        <p:blipFill>
          <a:blip r:embed="rId5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2"/>
          <p:cNvSpPr txBox="1"/>
          <p:nvPr/>
        </p:nvSpPr>
        <p:spPr>
          <a:xfrm>
            <a:off x="1905120" y="380880"/>
            <a:ext cx="275112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中考题选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219" name="Picture 14" descr="flowers"/>
          <p:cNvPicPr/>
          <p:nvPr/>
        </p:nvPicPr>
        <p:blipFill>
          <a:blip r:embed="rId8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914760" y="1445040"/>
            <a:ext cx="738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湖北襄樊）如图，四边形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平行四边形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=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B=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抛物线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点，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交于另一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一动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每秒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位长度的速度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出发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向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动，运动到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停止，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一动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发，以每秒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单位长度的速度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向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时停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rcRect l="64047" t="83780" r="555" b="2435"/>
          <a:stretch/>
        </p:blipFill>
        <p:spPr>
          <a:xfrm>
            <a:off x="5257800" y="4572000"/>
            <a:ext cx="3657600" cy="19922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998280" y="3350160"/>
            <a:ext cx="692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求抛物线的解析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若抛物线的对称轴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交于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当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何值时，四边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OQ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等腰梯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当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何值时，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顶点的三角形与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顶点的三角形相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678"/>
          <p:cNvPicPr/>
          <p:nvPr/>
        </p:nvPicPr>
        <p:blipFill>
          <a:blip r:embed="rId2"/>
          <a:stretch/>
        </p:blipFill>
        <p:spPr>
          <a:xfrm>
            <a:off x="484200" y="306360"/>
            <a:ext cx="1351080" cy="755640"/>
          </a:xfrm>
          <a:prstGeom prst="rect">
            <a:avLst/>
          </a:prstGeom>
          <a:ln w="0">
            <a:noFill/>
          </a:ln>
        </p:spPr>
      </p:pic>
      <p:sp>
        <p:nvSpPr>
          <p:cNvPr id="224" name="WordArt 7"/>
          <p:cNvSpPr txBox="1"/>
          <p:nvPr/>
        </p:nvSpPr>
        <p:spPr>
          <a:xfrm>
            <a:off x="2057400" y="304920"/>
            <a:ext cx="27511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中考题选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225" name="Picture 8" descr="flowers"/>
          <p:cNvPicPr/>
          <p:nvPr/>
        </p:nvPicPr>
        <p:blipFill>
          <a:blip r:embed="rId5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12-05T03:38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