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4B9-7FA9-4C2C-942D-A37962A1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5E96-D77C-4EBD-AAB9-9837E9BE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F1D-AC58-455B-B103-A0309982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CC47-B201-4E1A-B1C1-46C6B1D1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AFE2-FBD0-4E74-83D3-68DEEF12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E9E8-74B7-4615-95C8-DE66BB81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DA0F-E6B7-422A-A04F-55D65F6C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AB63-8950-420F-979B-710E7550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8EFF-ABD4-4132-BAA5-29D04C87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108C-9FC4-4529-82F4-C8DF8B70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D079-DBA2-41F9-8D91-C0682B67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D328-95F0-4291-9A3C-C686D640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7271-090F-4807-82DA-D0790200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7C5E-A937-4960-AFA1-F978BADD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E83F-D00B-4B29-9254-D3D5539E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786B-14C8-48E9-86E6-46312D52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AF79-C981-4872-B486-DEACBC8E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C77E7-5B2D-4B0C-87DA-AF0AA2DE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B6698-5B44-4462-9B9A-1AD26C6B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C89F19-F408-40D5-A31F-2E92160C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B950C-B9AE-42FE-85AD-EA1BED4C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8CCD3-1039-4C87-9559-6A32BFFB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632B-276A-499A-8B38-B82C7AB7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563E3-A266-4FBB-B2DA-D2E1785B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0E45F-4017-4DE5-9106-A0C90D43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93211-7E48-4125-A619-A59E2145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20354-7884-4206-93F5-C73DDC52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D5E61-C168-4D0F-931E-8ABEACB7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9AE05-AD88-40EE-8CD1-FAFA9BBA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EB0A1-7A5B-44FF-B86D-D38E09D4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0C61-75DB-4E2B-BC52-1AC26B5C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D1A-1D4A-433C-A305-7EE0B360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AC4-A2A4-485A-88FB-627CAE8E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C22-D5C7-4465-930B-C980F457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C52-3AEC-4467-988D-3A455866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D71-795A-433E-9A53-26427BA0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C054-43B6-4AC6-B303-35A780491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51F0-B5E8-4E36-8E64-5DA49197B2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EEBC-E9C0-4BF5-9767-EB823ADFD8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3"/>
          <p:cNvSpPr/>
          <p:nvPr/>
        </p:nvSpPr>
        <p:spPr>
          <a:xfrm>
            <a:off x="2049480" y="773280"/>
            <a:ext cx="4707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初中数学九年级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（北师版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4"/>
          <p:cNvSpPr/>
          <p:nvPr/>
        </p:nvSpPr>
        <p:spPr>
          <a:xfrm>
            <a:off x="2509920" y="44308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1a0c"/>
                </a:solidFill>
                <a:latin typeface="华文行楷"/>
                <a:ea typeface="华文行楷"/>
              </a:rPr>
              <a:t>锦华实验学校九年级数学备课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258920" y="2565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二次函数与三角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0" y="1414440"/>
            <a:ext cx="9144000" cy="5443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678"/>
          <p:cNvPicPr/>
          <p:nvPr/>
        </p:nvPicPr>
        <p:blipFill>
          <a:blip r:embed="rId2"/>
          <a:stretch/>
        </p:blipFill>
        <p:spPr>
          <a:xfrm>
            <a:off x="484200" y="30636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6"/>
          <p:cNvSpPr/>
          <p:nvPr/>
        </p:nvSpPr>
        <p:spPr>
          <a:xfrm>
            <a:off x="2427840" y="33228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展示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304920" y="2114280"/>
            <a:ext cx="8991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，二次函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=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+(2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)x+k+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图象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轴相交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二次函数的解析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这条抛物线的对称轴右边的图象上有一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使锐角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O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面积等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坐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的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抛物线上是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存在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使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OB=90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？若存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出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坐标，并求出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O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面积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不存在，请说明理由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5410080" y="3200400"/>
            <a:ext cx="3581640" cy="3657600"/>
            <a:chOff x="5410080" y="3200400"/>
            <a:chExt cx="3581640" cy="3657600"/>
          </a:xfrm>
        </p:grpSpPr>
        <p:sp>
          <p:nvSpPr>
            <p:cNvPr id="168" name="Text Box 4"/>
            <p:cNvSpPr/>
            <p:nvPr/>
          </p:nvSpPr>
          <p:spPr>
            <a:xfrm>
              <a:off x="5817600" y="6408720"/>
              <a:ext cx="1711080" cy="44928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5" descr=""/>
            <p:cNvPicPr/>
            <p:nvPr/>
          </p:nvPicPr>
          <p:blipFill>
            <a:blip r:embed="rId1"/>
            <a:srcRect l="37374" t="27843" r="32125" b="24063"/>
            <a:stretch/>
          </p:blipFill>
          <p:spPr>
            <a:xfrm>
              <a:off x="5410080" y="3200400"/>
              <a:ext cx="3581640" cy="332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Picture 6" descr="678"/>
          <p:cNvPicPr/>
          <p:nvPr/>
        </p:nvPicPr>
        <p:blipFill>
          <a:blip r:embed="rId2"/>
          <a:stretch/>
        </p:blipFill>
        <p:spPr>
          <a:xfrm>
            <a:off x="914400" y="53352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2858400" y="55944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展示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9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07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0" descr="678"/>
          <p:cNvPicPr/>
          <p:nvPr/>
        </p:nvPicPr>
        <p:blipFill>
          <a:blip r:embed="rId2"/>
          <a:stretch/>
        </p:blipFill>
        <p:spPr>
          <a:xfrm>
            <a:off x="484200" y="30636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1"/>
          <p:cNvSpPr/>
          <p:nvPr/>
        </p:nvSpPr>
        <p:spPr>
          <a:xfrm>
            <a:off x="2427840" y="33228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展示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981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678"/>
          <p:cNvPicPr/>
          <p:nvPr/>
        </p:nvPicPr>
        <p:blipFill>
          <a:blip r:embed="rId2"/>
          <a:stretch/>
        </p:blipFill>
        <p:spPr>
          <a:xfrm>
            <a:off x="914400" y="60948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"/>
          <p:cNvSpPr/>
          <p:nvPr/>
        </p:nvSpPr>
        <p:spPr>
          <a:xfrm>
            <a:off x="2858400" y="63540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展示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369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678"/>
          <p:cNvPicPr/>
          <p:nvPr/>
        </p:nvPicPr>
        <p:blipFill>
          <a:blip r:embed="rId2"/>
          <a:stretch/>
        </p:blipFill>
        <p:spPr>
          <a:xfrm>
            <a:off x="484200" y="30636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2427840" y="33228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展示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325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678"/>
          <p:cNvPicPr/>
          <p:nvPr/>
        </p:nvPicPr>
        <p:blipFill>
          <a:blip r:embed="rId2"/>
          <a:stretch/>
        </p:blipFill>
        <p:spPr>
          <a:xfrm>
            <a:off x="480960" y="73512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4"/>
          <p:cNvSpPr/>
          <p:nvPr/>
        </p:nvSpPr>
        <p:spPr>
          <a:xfrm>
            <a:off x="2424960" y="76104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展示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1539720"/>
            <a:ext cx="9144000" cy="5318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678"/>
          <p:cNvPicPr/>
          <p:nvPr/>
        </p:nvPicPr>
        <p:blipFill>
          <a:blip r:embed="rId2"/>
          <a:stretch/>
        </p:blipFill>
        <p:spPr>
          <a:xfrm>
            <a:off x="484200" y="30636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2427840" y="33228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展示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165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678"/>
          <p:cNvPicPr/>
          <p:nvPr/>
        </p:nvPicPr>
        <p:blipFill>
          <a:blip r:embed="rId2"/>
          <a:stretch/>
        </p:blipFill>
        <p:spPr>
          <a:xfrm>
            <a:off x="484200" y="30636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2427840" y="33228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展示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389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678"/>
          <p:cNvPicPr/>
          <p:nvPr/>
        </p:nvPicPr>
        <p:blipFill>
          <a:blip r:embed="rId2"/>
          <a:stretch/>
        </p:blipFill>
        <p:spPr>
          <a:xfrm>
            <a:off x="480960" y="58248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2424960" y="60840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展示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12-05T03:36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