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gif" ContentType="image/gif"/>
  <Override PartName="/ppt/media/image6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539B-32D3-477B-B5CB-3671425F6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87DD-6CC5-4391-8085-12E47807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B748-9FDD-45B6-B382-96A84736E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59D8-86CB-42CA-B04C-1E4A9D3CD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81F0-DF65-46C7-8735-A70293C42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4AAE5-F264-412C-9D4E-B42EFF0F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68C1-B3E5-4EC2-9D7E-E23CC127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44C4-19BE-4729-9C80-F09C92F0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64D6-22FE-49C3-880C-54624476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6B85-DC29-48ED-BE3B-DC8FA003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62531-D327-47AC-9325-1CDCECCB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71AC-B23F-4A07-92DD-B0BAC93A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DE68-12EB-4C14-B576-DB4D5321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A7B4-D465-4094-9782-F7770621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438C-E58B-4DBF-8AAB-885800C3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6024-05EE-4C8B-A9A7-4992B8F6B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C9881-2647-4B7D-8886-F193FCF40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489D-1A90-4470-97C9-47005F99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D19E-2BC8-48DB-8D04-7429A50D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D64E-1801-4284-B980-CDB2EA42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0187-F312-4574-BE8D-96B88A03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244E-3016-4344-BE6F-C4BAB2C9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1648-4B90-4654-A065-8F653B0B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1063-59C9-4294-963F-CA1C4796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AEE3-718D-43D9-A690-647AB9FA45ED}" type="slidenum">
              <a:rPr b="0" lang="zh-CN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7F8F-6DA2-40F7-A344-E8760A558E3A}" type="slidenum">
              <a:rPr b="0" lang="zh-CN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image" Target="../media/image4.gi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image" Target="../media/image4.gi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8080" cy="7461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914400" y="1154160"/>
            <a:ext cx="76960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在数学的天地里，重要的不是我们知道什么，而是我们怎么知道什么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                 ——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毕达哥拉斯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8080" cy="7461360"/>
          </a:xfrm>
          <a:prstGeom prst="rect">
            <a:avLst/>
          </a:prstGeom>
          <a:ln w="0">
            <a:noFill/>
          </a:ln>
        </p:spPr>
      </p:pic>
      <p:pic>
        <p:nvPicPr>
          <p:cNvPr id="182" name="image20031024_170901_19" descr=""/>
          <p:cNvPicPr/>
          <p:nvPr/>
        </p:nvPicPr>
        <p:blipFill>
          <a:blip r:embed="rId2"/>
          <a:stretch/>
        </p:blipFill>
        <p:spPr>
          <a:xfrm>
            <a:off x="8153280" y="6019920"/>
            <a:ext cx="590760" cy="5904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752480" y="380880"/>
            <a:ext cx="65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华文行楷"/>
                <a:ea typeface="华文行楷"/>
              </a:rPr>
              <a:t>投针试验的历史资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85800" y="1752480"/>
          <a:ext cx="8077320" cy="4114800"/>
        </p:xfrm>
        <a:graphic>
          <a:graphicData uri="http://schemas.openxmlformats.org/drawingml/2006/table">
            <a:tbl>
              <a:tblPr/>
              <a:tblGrid>
                <a:gridCol w="1676520"/>
                <a:gridCol w="1295280"/>
                <a:gridCol w="1569960"/>
                <a:gridCol w="1768680"/>
                <a:gridCol w="1766880"/>
              </a:tblGrid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试验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时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投掷次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相交次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π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的试验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Wol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5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5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159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mi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55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2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 218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155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.Dg morg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6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82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137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o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84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 03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159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zzeri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01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4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 8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141 592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i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25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5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17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8080" cy="7461360"/>
          </a:xfrm>
          <a:prstGeom prst="rect">
            <a:avLst/>
          </a:prstGeom>
          <a:ln w="0">
            <a:noFill/>
          </a:ln>
        </p:spPr>
      </p:pic>
      <p:pic>
        <p:nvPicPr>
          <p:cNvPr id="186" name="image20031024_170901_19" descr=""/>
          <p:cNvPicPr/>
          <p:nvPr/>
        </p:nvPicPr>
        <p:blipFill>
          <a:blip r:embed="rId2"/>
          <a:stretch/>
        </p:blipFill>
        <p:spPr>
          <a:xfrm>
            <a:off x="8153280" y="6019920"/>
            <a:ext cx="590760" cy="5904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752480" y="38088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课外冲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182880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用计算机实现统计模拟或抽样，以获得问题的近似解，称为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蒙特卡罗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(Monte Carlo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方法，又称统计模拟法或统计试验法。它是以概率和统计的理论为基础的一种计算方法，他将所求解的问题与一定的概率模型相联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8080" cy="7461360"/>
          </a:xfrm>
          <a:prstGeom prst="rect">
            <a:avLst/>
          </a:prstGeom>
          <a:ln w="0">
            <a:noFill/>
          </a:ln>
        </p:spPr>
      </p:pic>
      <p:pic>
        <p:nvPicPr>
          <p:cNvPr id="190" name="image20031024_170901_19" descr=""/>
          <p:cNvPicPr/>
          <p:nvPr/>
        </p:nvPicPr>
        <p:blipFill>
          <a:blip r:embed="rId2"/>
          <a:stretch/>
        </p:blipFill>
        <p:spPr>
          <a:xfrm>
            <a:off x="8153280" y="6019920"/>
            <a:ext cx="590760" cy="5904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752480" y="380880"/>
            <a:ext cx="510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我的课堂，我做主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222408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几句话归纳这节课的几个环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76520" y="14479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组讨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30924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完成了这节课的学习，对我影响最深的学习体验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71600" y="45403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节课还存在的疑惑是什么？又将如何去解决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8080" cy="7461360"/>
          </a:xfrm>
          <a:prstGeom prst="rect">
            <a:avLst/>
          </a:prstGeom>
          <a:ln w="0">
            <a:noFill/>
          </a:ln>
        </p:spPr>
      </p:pic>
      <p:pic>
        <p:nvPicPr>
          <p:cNvPr id="197" name="image20031024_170901_19" descr=""/>
          <p:cNvPicPr/>
          <p:nvPr/>
        </p:nvPicPr>
        <p:blipFill>
          <a:blip r:embed="rId2"/>
          <a:stretch/>
        </p:blipFill>
        <p:spPr>
          <a:xfrm>
            <a:off x="8153280" y="6019920"/>
            <a:ext cx="590760" cy="5904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752480" y="38088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课外冲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1371600"/>
            <a:ext cx="86104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Tahoma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最后蒲丰宣布结果：大家共投针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Tahoma"/>
              </a:rPr>
              <a:t>2212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次，其中与直线相交的就有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Tahoma"/>
              </a:rPr>
              <a:t>704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次。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Tahoma"/>
              </a:rPr>
              <a:t>704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去除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Tahoma"/>
              </a:rPr>
              <a:t>2212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，得数为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  <a:ea typeface="Tahoma"/>
              </a:rPr>
              <a:t>3.142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。他笑了笑说：“这就是圆周率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π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的近似值。”这时，众宾客哗然：“圆周率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π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Tahoma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这根本和圆沾不上边呀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Tahoma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蒲丰先生却好像看透了众人的心思，斩钉截铁地说：“诸位不用怀疑，这的确就是圆周率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π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的近似值。你们看，连圆规也不要，就可以求出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π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的值来。只要你有耐心，</a:t>
            </a: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投掷的次数越多，求出的圆周率就越精确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。”这就是数学史上有名的“投针试验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8080" cy="7461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905120" y="533520"/>
            <a:ext cx="5943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义务教育课程标准实验教科书 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九年级   上  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05120" y="266688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33"/>
                </a:solidFill>
                <a:latin typeface="隶书"/>
                <a:ea typeface="隶书"/>
              </a:rPr>
              <a:t>6.2  </a:t>
            </a:r>
            <a:r>
              <a:rPr b="1" lang="zh-CN" sz="4800" spc="-1" strike="noStrike">
                <a:solidFill>
                  <a:srgbClr val="990033"/>
                </a:solidFill>
                <a:latin typeface="隶书"/>
                <a:ea typeface="隶书"/>
              </a:rPr>
              <a:t>投 针 试 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8080" cy="7461360"/>
          </a:xfrm>
          <a:prstGeom prst="rect">
            <a:avLst/>
          </a:prstGeom>
          <a:ln w="0">
            <a:noFill/>
          </a:ln>
        </p:spPr>
      </p:pic>
      <p:pic>
        <p:nvPicPr>
          <p:cNvPr id="122" name="image20031024_170901_1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590760" cy="590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752480" y="38088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你闻到了吗？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1064375610" descr=""/>
          <p:cNvPicPr/>
          <p:nvPr/>
        </p:nvPicPr>
        <p:blipFill>
          <a:blip r:embed="rId4"/>
          <a:stretch/>
        </p:blipFill>
        <p:spPr>
          <a:xfrm>
            <a:off x="685800" y="1752480"/>
            <a:ext cx="5181480" cy="36957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019920" y="222264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相信自己，勇敢的表达自己的想法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8080" cy="7461360"/>
          </a:xfrm>
          <a:prstGeom prst="rect">
            <a:avLst/>
          </a:prstGeom>
          <a:ln w="0">
            <a:noFill/>
          </a:ln>
        </p:spPr>
      </p:pic>
      <p:pic>
        <p:nvPicPr>
          <p:cNvPr id="127" name="image20031024_170901_1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590760" cy="5904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752480" y="38088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课外冲浪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33720" y="1066680"/>
            <a:ext cx="693396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ahoma"/>
              </a:rPr>
              <a:t>蒲丰投针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法国自然哲学家蒲丰先生经常搞点有趣的试验给朋友们解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  <a:ea typeface="Tahoma"/>
              </a:rPr>
              <a:t>1777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年的一天，蒲丰先生又在家里为宾客们做一次有趣的试验，他先在一张白纸上画满了一条条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距离相等的平行线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。然后，他抓出一大把小针，每根小针的长度都是平行线之间距离的</a:t>
            </a: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一半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。蒲丰说：“请诸位把这些小针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一根一根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地往纸上随便扔吧。”客人们好奇地把小针一根一根地往纸上乱扔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image002" descr=""/>
          <p:cNvPicPr/>
          <p:nvPr/>
        </p:nvPicPr>
        <p:blipFill>
          <a:blip r:embed="rId4"/>
          <a:stretch/>
        </p:blipFill>
        <p:spPr>
          <a:xfrm>
            <a:off x="457200" y="1447920"/>
            <a:ext cx="1523880" cy="2133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04920" y="373392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学家蒲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Buff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orges Loui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707-1788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8080" cy="7461360"/>
          </a:xfrm>
          <a:prstGeom prst="rect">
            <a:avLst/>
          </a:prstGeom>
          <a:ln w="0">
            <a:noFill/>
          </a:ln>
        </p:spPr>
      </p:pic>
      <p:pic>
        <p:nvPicPr>
          <p:cNvPr id="133" name="image20031024_170901_19" descr=""/>
          <p:cNvPicPr/>
          <p:nvPr/>
        </p:nvPicPr>
        <p:blipFill>
          <a:blip r:embed="rId2"/>
          <a:stretch/>
        </p:blipFill>
        <p:spPr>
          <a:xfrm>
            <a:off x="8153280" y="6019920"/>
            <a:ext cx="590760" cy="590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752480" y="380880"/>
            <a:ext cx="419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试一试  猜一猜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18288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针投到平行线的纸上时，会有什么情况出现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3048120"/>
            <a:ext cx="609480" cy="2286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800600" y="3581280"/>
            <a:ext cx="457200" cy="6858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276720"/>
            <a:ext cx="685800" cy="1522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3657600"/>
            <a:ext cx="685800" cy="2286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209680" y="4724280"/>
            <a:ext cx="533520" cy="5335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5409720" y="4419720"/>
            <a:ext cx="76212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514600"/>
            <a:ext cx="304920" cy="5335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8120" y="4114800"/>
            <a:ext cx="75960" cy="7621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447920" y="2666880"/>
            <a:ext cx="6705360" cy="2438640"/>
            <a:chOff x="1447920" y="2666880"/>
            <a:chExt cx="6705360" cy="2438640"/>
          </a:xfrm>
        </p:grpSpPr>
        <p:sp>
          <p:nvSpPr>
            <p:cNvPr id="145" name=""/>
            <p:cNvSpPr/>
            <p:nvPr/>
          </p:nvSpPr>
          <p:spPr>
            <a:xfrm>
              <a:off x="1447920" y="2666880"/>
              <a:ext cx="6629400" cy="0"/>
            </a:xfrm>
            <a:prstGeom prst="line">
              <a:avLst/>
            </a:prstGeom>
            <a:ln cap="sq"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47920" y="3886200"/>
              <a:ext cx="6629400" cy="0"/>
            </a:xfrm>
            <a:prstGeom prst="line">
              <a:avLst/>
            </a:prstGeom>
            <a:ln cap="sq"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523880" y="5105520"/>
              <a:ext cx="6629400" cy="0"/>
            </a:xfrm>
            <a:prstGeom prst="line">
              <a:avLst/>
            </a:prstGeom>
            <a:ln cap="sq"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248520" y="4876920"/>
            <a:ext cx="457200" cy="6094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8080" cy="7461360"/>
          </a:xfrm>
          <a:prstGeom prst="rect">
            <a:avLst/>
          </a:prstGeom>
          <a:ln w="0">
            <a:noFill/>
          </a:ln>
        </p:spPr>
      </p:pic>
      <p:pic>
        <p:nvPicPr>
          <p:cNvPr id="150" name="image20031024_170901_1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590760" cy="590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752480" y="380880"/>
            <a:ext cx="419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试一试  猜一猜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18288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针投到平行线的纸上时，会有什么情况出现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420516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交和不相交的可能性相同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07348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能通过列表或树状图求出该针与平行线相交的概率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447920" y="2666880"/>
            <a:ext cx="6629400" cy="1219320"/>
            <a:chOff x="1447920" y="2666880"/>
            <a:chExt cx="6629400" cy="1219320"/>
          </a:xfrm>
        </p:grpSpPr>
        <p:sp>
          <p:nvSpPr>
            <p:cNvPr id="156" name=""/>
            <p:cNvSpPr/>
            <p:nvPr/>
          </p:nvSpPr>
          <p:spPr>
            <a:xfrm>
              <a:off x="1447920" y="2666880"/>
              <a:ext cx="6629400" cy="0"/>
            </a:xfrm>
            <a:prstGeom prst="line">
              <a:avLst/>
            </a:prstGeom>
            <a:ln cap="sq"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47920" y="3886200"/>
              <a:ext cx="6629400" cy="0"/>
            </a:xfrm>
            <a:prstGeom prst="line">
              <a:avLst/>
            </a:prstGeom>
            <a:ln cap="sq"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895480" y="3048120"/>
            <a:ext cx="609840" cy="22860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410080" y="3581280"/>
            <a:ext cx="533520" cy="5335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8080" cy="7461360"/>
          </a:xfrm>
          <a:prstGeom prst="rect">
            <a:avLst/>
          </a:prstGeom>
          <a:ln w="0">
            <a:noFill/>
          </a:ln>
        </p:spPr>
      </p:pic>
      <p:pic>
        <p:nvPicPr>
          <p:cNvPr id="161" name="image20031024_170901_1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590760" cy="5904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752480" y="38088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我为人人 ， 人人为我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1828800"/>
            <a:ext cx="8153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试验目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利用“当实验次数较大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实验频率稳定于理论概        率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来估计针与平行线相交的概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2971800"/>
            <a:ext cx="76201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试验方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小组合作交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全班汇总试验验数据，达到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据共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41292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试验工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距离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平行线的纸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长度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粗细均匀的针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&lt;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493704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还有什么方面需要注意的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8080" cy="7461360"/>
          </a:xfrm>
          <a:prstGeom prst="rect">
            <a:avLst/>
          </a:prstGeom>
          <a:ln w="0">
            <a:noFill/>
          </a:ln>
        </p:spPr>
      </p:pic>
      <p:pic>
        <p:nvPicPr>
          <p:cNvPr id="168" name="image20031024_170901_19" descr=""/>
          <p:cNvPicPr/>
          <p:nvPr/>
        </p:nvPicPr>
        <p:blipFill>
          <a:blip r:embed="rId2"/>
          <a:stretch/>
        </p:blipFill>
        <p:spPr>
          <a:xfrm>
            <a:off x="8153280" y="6019920"/>
            <a:ext cx="590760" cy="5904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752480" y="38088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Just do it!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14560" y="18288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组至少完成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次试验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98720" y="28195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采用不同的方式记录其中相交和不相交的次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30400" y="37339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快速完成，争取名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11320" y="45864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准确、美观、独特、创新…的制作表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8080" cy="7461360"/>
          </a:xfrm>
          <a:prstGeom prst="rect">
            <a:avLst/>
          </a:prstGeom>
          <a:ln w="0">
            <a:noFill/>
          </a:ln>
        </p:spPr>
      </p:pic>
      <p:pic>
        <p:nvPicPr>
          <p:cNvPr id="175" name="image20031024_170901_19" descr=""/>
          <p:cNvPicPr/>
          <p:nvPr/>
        </p:nvPicPr>
        <p:blipFill>
          <a:blip r:embed="rId2"/>
          <a:stretch/>
        </p:blipFill>
        <p:spPr>
          <a:xfrm>
            <a:off x="8153280" y="6019920"/>
            <a:ext cx="590760" cy="5904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752480" y="38088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Just do it!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533520" y="2514600"/>
          <a:ext cx="8381880" cy="1863720"/>
        </p:xfrm>
        <a:graphic>
          <a:graphicData uri="http://schemas.openxmlformats.org/drawingml/2006/table">
            <a:tbl>
              <a:tblPr/>
              <a:tblGrid>
                <a:gridCol w="1676520"/>
                <a:gridCol w="745920"/>
                <a:gridCol w="743040"/>
                <a:gridCol w="720720"/>
                <a:gridCol w="770040"/>
                <a:gridCol w="745920"/>
                <a:gridCol w="744480"/>
                <a:gridCol w="744840"/>
                <a:gridCol w="744480"/>
                <a:gridCol w="7459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实验次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相交频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相交频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533520" y="47242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请每组同学利用全班的试验数据制作折线统计图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54100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通过本次试验、统计的过程，你什么发现和感想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13716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工合作：统计全班的试验数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07:18:19Z</dcterms:created>
  <dc:creator/>
  <dc:description/>
  <dc:language>en-US</dc:language>
  <cp:lastModifiedBy>番茄花园</cp:lastModifiedBy>
  <dcterms:modified xsi:type="dcterms:W3CDTF">2008-11-28T06:32:26Z</dcterms:modified>
  <cp:revision>286</cp:revision>
  <dc:subject/>
  <dc:title/>
</cp:coreProperties>
</file>