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hammer.wav" ContentType="audio/x-wav"/>
  <Override PartName="/ppt/media/image7.gif" ContentType="image/gif"/>
  <Override PartName="/ppt/media/type.wav" ContentType="audio/x-wav"/>
  <Override PartName="/ppt/media/chimes.wav" ContentType="audio/x-wav"/>
  <Override PartName="/ppt/media/image9.png" ContentType="image/png"/>
  <Override PartName="/ppt/media/image10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3DA0-6EB4-4409-A94C-EE5BE6F02D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学网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4E3-5004-4470-B1F8-2DF67A69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B063-7C00-4F70-A610-57A42752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4C3-A995-4F81-BFB0-B55CB4A0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D64-5B84-4F01-BEB4-EC3D444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341-747A-472B-B0C5-2E16190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4E7-FDBB-408A-B099-1D72BD97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BD4A-77A0-47F3-A62D-9BE7573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D5B-3CE6-451D-9F5D-4C7D97AC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1039-0518-420D-8BF2-40F6F219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065-FAEF-49AD-B2F9-D1EE6A15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197-2632-4E60-816D-D65DDCE5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61F-0419-4AC0-904C-EFACE33E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4887-4BA4-43E2-B6FC-BAE3B403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47E0-5D8B-4295-B6E0-596429F9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4DB8-6A89-43CA-871D-35BB6F3B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AD7A-87B6-4035-9042-1BA7C70C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33D6-214C-40CD-98B1-8CF2606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9A87-8E2C-4142-99E1-18B6A5DF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5A81-59CA-4004-88EB-459E539B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CA2C-ABDA-4A86-984D-15782A49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BBD-DF64-473E-94CE-53E24D18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2D9A-2632-40C9-A19B-2648E71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7A93-3C7B-4869-9BC9-F0AF91F5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FD0B-5789-4A32-9518-BD3519E6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3E90-CC73-4959-83C8-007FFDCD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F1360-C94F-4A20-A7A8-7EAA8352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9B594-AC9B-4E1B-9215-1B109837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FC2E-DFA3-452F-B7A3-8034A63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A35B3-2ABC-4BE4-8557-23C3F374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8976-CAC9-46D5-884E-643D0EA5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E8C37-D56F-4542-8924-A491A4ED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F50B-54AA-454F-AF19-E5BCEE8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5891-8C2E-4B07-9D52-AD5B960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22C4-8331-4C1C-A606-B3B6218C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C0842-B9FC-4CC5-80BD-96714F8B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7E9F-B600-4AF1-A25F-6C3A43C7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270D-A4C0-4B73-9834-0ED6DA92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62AE-338E-4EBB-894E-9E3226A8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AFB95-3CD5-4908-A5EF-6B967FB0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F6DC9-1FD4-4BF9-977E-C0D10DB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9CB2-48BD-4F70-987C-A81B2433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003A-3EFF-4126-A6B3-42A63DB0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98A5-5AC9-4346-A580-2567FDE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A0C3-660B-4DA7-A2F7-B3D6A978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6E992-98B6-4792-8C45-27AF87E8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C0E6C-7A75-4EA8-A9E3-C26E3206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F31D7-0CC3-47EF-B5ED-6A6025D2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5F55B-F3EE-44C0-BC4E-B93464E1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58DB-350B-476D-8238-7C861388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B4521-5DB6-4B7F-B256-21FDD52C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B98CD-F632-45AA-8EA8-7729F878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9FFAE-C21C-4E75-A36D-CF216286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8F6B-2320-4D01-9D9E-FE484CA4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955DA-10F8-4677-A5E1-D61113BA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C4058-1D68-4D73-A43A-65FDFFE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4933F-F9DC-4F1C-9A51-B608259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208BB-0C78-4AAF-B27D-0BE7B1DD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CFFBB-5D10-4AB9-BE00-0CE3293F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1F52-F87B-426D-9860-E52B412D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56CB3-9803-4BD9-B7CF-B6668924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D203-F817-4624-A7D3-9A3A0AD08A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CDB-F13C-4A7B-BF56-1A8D1D8E5D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20FB-3CFA-4A37-9486-E65D88A430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404-5C82-4D9F-AC8F-EF9C476CE7B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CF36-3310-4372-B26F-24EBDD938D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6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9.png"/><Relationship Id="rId8" Type="http://schemas.openxmlformats.org/officeDocument/2006/relationships/image" Target="../media/image10.gif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6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6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4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64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6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35280" y="5445000"/>
            <a:ext cx="68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32000" y="549360"/>
            <a:ext cx="76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1 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能证明它们吗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animMotion origin="layout" path="M -3.61111E-006 1.48148E-006 L -3.61111E-006 -0.07222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6705720" y="0"/>
            <a:ext cx="1523880" cy="2136240"/>
            <a:chOff x="6705720" y="0"/>
            <a:chExt cx="1523880" cy="2136240"/>
          </a:xfrm>
        </p:grpSpPr>
        <p:grpSp>
          <p:nvGrpSpPr>
            <p:cNvPr id="414" name=""/>
            <p:cNvGrpSpPr/>
            <p:nvPr/>
          </p:nvGrpSpPr>
          <p:grpSpPr>
            <a:xfrm>
              <a:off x="7162920" y="381240"/>
              <a:ext cx="954000" cy="1371600"/>
              <a:chOff x="7162920" y="381240"/>
              <a:chExt cx="954000" cy="1371600"/>
            </a:xfrm>
          </p:grpSpPr>
          <p:sp>
            <p:nvSpPr>
              <p:cNvPr id="415" name=""/>
              <p:cNvSpPr/>
              <p:nvPr/>
            </p:nvSpPr>
            <p:spPr>
              <a:xfrm flipH="1">
                <a:off x="7162920" y="381240"/>
                <a:ext cx="838080" cy="1371600"/>
              </a:xfrm>
              <a:prstGeom prst="rtTriangle">
                <a:avLst/>
              </a:prstGeom>
              <a:solidFill>
                <a:srgbClr val="d4fb57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583400" y="8258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30</a:t>
                </a:r>
                <a:r>
                  <a:rPr b="1" lang="en-US" sz="1800" spc="-1" strike="noStrike" baseline="30000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7696440" y="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5720" y="1676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96440" y="16765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848720" y="16002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848720" y="160020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7162920" y="1676520"/>
            <a:ext cx="1981080" cy="459720"/>
            <a:chOff x="7162920" y="1676520"/>
            <a:chExt cx="1981080" cy="459720"/>
          </a:xfrm>
        </p:grpSpPr>
        <p:grpSp>
          <p:nvGrpSpPr>
            <p:cNvPr id="423" name=""/>
            <p:cNvGrpSpPr/>
            <p:nvPr/>
          </p:nvGrpSpPr>
          <p:grpSpPr>
            <a:xfrm>
              <a:off x="7162920" y="1676520"/>
              <a:ext cx="1981080" cy="459720"/>
              <a:chOff x="7162920" y="1676520"/>
              <a:chExt cx="1981080" cy="459720"/>
            </a:xfrm>
          </p:grpSpPr>
          <p:sp>
            <p:nvSpPr>
              <p:cNvPr id="424" name=""/>
              <p:cNvSpPr/>
              <p:nvPr/>
            </p:nvSpPr>
            <p:spPr>
              <a:xfrm>
                <a:off x="7162920" y="175284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610840" y="16765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7620120" y="167652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82240" y="167652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8001000" y="38088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765000"/>
            <a:ext cx="8748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∵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B=9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∴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D=9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角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D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B=∠A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已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=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公共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∴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≌△AD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SA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∴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D=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∵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B=9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∴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B=6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角三角形两锐角互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∴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一个角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6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等腰三角形是等边三角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 BD= AB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33336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延长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至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D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使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D=BC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连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692360" y="5877000"/>
                <a:ext cx="263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411280" y="5805360"/>
                <a:ext cx="3193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76720" y="0"/>
            <a:ext cx="4967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几何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三种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556000" y="4653000"/>
                <a:ext cx="34574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762120" y="228600"/>
            <a:ext cx="3581280" cy="685800"/>
            <a:chOff x="762120" y="228600"/>
            <a:chExt cx="3581280" cy="685800"/>
          </a:xfrm>
        </p:grpSpPr>
        <p:sp>
          <p:nvSpPr>
            <p:cNvPr id="436" name=""/>
            <p:cNvSpPr/>
            <p:nvPr/>
          </p:nvSpPr>
          <p:spPr>
            <a:xfrm>
              <a:off x="7621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432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" descr=""/>
            <p:cNvPicPr/>
            <p:nvPr/>
          </p:nvPicPr>
          <p:blipFill>
            <a:blip r:embed="rId1"/>
            <a:stretch/>
          </p:blipFill>
          <p:spPr>
            <a:xfrm>
              <a:off x="31240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7236000" y="5392800"/>
            <a:ext cx="2050920" cy="1465200"/>
            <a:chOff x="7236000" y="5392800"/>
            <a:chExt cx="2050920" cy="1465200"/>
          </a:xfrm>
        </p:grpSpPr>
        <p:pic>
          <p:nvPicPr>
            <p:cNvPr id="441" name="" descr=""/>
            <p:cNvPicPr/>
            <p:nvPr/>
          </p:nvPicPr>
          <p:blipFill>
            <a:blip r:embed="rId3"/>
            <a:stretch/>
          </p:blipFill>
          <p:spPr>
            <a:xfrm>
              <a:off x="7236000" y="5392800"/>
              <a:ext cx="205092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7632720" y="5979600"/>
              <a:ext cx="112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684360" y="990720"/>
            <a:ext cx="823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有一个锐角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那么它所对的直角边等于斜边的一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58920" y="2060640"/>
            <a:ext cx="547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∵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CB=9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C=  AB.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所对的直角边等于斜边的一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2484360" y="2997360"/>
                <a:ext cx="3175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6" name=""/>
          <p:cNvGrpSpPr/>
          <p:nvPr/>
        </p:nvGrpSpPr>
        <p:grpSpPr>
          <a:xfrm>
            <a:off x="6629400" y="2743200"/>
            <a:ext cx="2057400" cy="1450080"/>
            <a:chOff x="6629400" y="2743200"/>
            <a:chExt cx="2057400" cy="1450080"/>
          </a:xfrm>
        </p:grpSpPr>
        <p:sp>
          <p:nvSpPr>
            <p:cNvPr id="447" name=""/>
            <p:cNvSpPr/>
            <p:nvPr/>
          </p:nvSpPr>
          <p:spPr>
            <a:xfrm rot="16200000">
              <a:off x="7197480" y="2853720"/>
              <a:ext cx="838440" cy="1371600"/>
            </a:xfrm>
            <a:prstGeom prst="rtTriangle">
              <a:avLst/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51840" y="380844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51840" y="380844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294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22960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30592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82000" y="36576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1321200" y="4581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6012000" y="4581360"/>
                <a:ext cx="201276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: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724280" y="759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学无止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219320" y="152280"/>
            <a:ext cx="3581280" cy="685800"/>
            <a:chOff x="1219320" y="152280"/>
            <a:chExt cx="3581280" cy="685800"/>
          </a:xfrm>
        </p:grpSpPr>
        <p:sp>
          <p:nvSpPr>
            <p:cNvPr id="458" name=""/>
            <p:cNvSpPr/>
            <p:nvPr/>
          </p:nvSpPr>
          <p:spPr>
            <a:xfrm>
              <a:off x="1219320" y="19980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例题欣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00400" y="19044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3581280" y="15228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0456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"/>
          <p:cNvGrpSpPr/>
          <p:nvPr/>
        </p:nvGrpSpPr>
        <p:grpSpPr>
          <a:xfrm>
            <a:off x="7176960" y="5319720"/>
            <a:ext cx="1967040" cy="1538280"/>
            <a:chOff x="7176960" y="5319720"/>
            <a:chExt cx="1967040" cy="1538280"/>
          </a:xfrm>
        </p:grpSpPr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7176960" y="5319720"/>
              <a:ext cx="196704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557480" y="5936760"/>
              <a:ext cx="107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55640" y="3068640"/>
            <a:ext cx="7467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解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∵∠B=∠ACB=1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AC=∠B+∠ACB= 1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1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三角形的一个外角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等于和不相邻的两内角的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D=   AC=a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直角三角形中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有一个锐角等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那么它所对的直角边等于斜边的一半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276720" y="1268280"/>
            <a:ext cx="5867280" cy="1907640"/>
            <a:chOff x="3276720" y="1268280"/>
            <a:chExt cx="5867280" cy="1907640"/>
          </a:xfrm>
        </p:grpSpPr>
        <p:sp>
          <p:nvSpPr>
            <p:cNvPr id="467" name=""/>
            <p:cNvSpPr/>
            <p:nvPr/>
          </p:nvSpPr>
          <p:spPr>
            <a:xfrm>
              <a:off x="3657600" y="2868480"/>
              <a:ext cx="5181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19920" y="1801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63120" y="271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76720" y="271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05920" y="1268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267080" y="26222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581280" y="1648800"/>
              <a:ext cx="4953240" cy="121932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58200" y="1649160"/>
              <a:ext cx="38088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8520" y="2182680"/>
              <a:ext cx="2666880" cy="685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05920" y="1725480"/>
              <a:ext cx="7596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8381880" y="1801440"/>
              <a:ext cx="15264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0120" y="26082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908000" y="4076640"/>
                <a:ext cx="349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539640" y="762120"/>
            <a:ext cx="860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腰三角形的底角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长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上的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635280" y="2147760"/>
            <a:ext cx="259236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227640" y="1628280"/>
            <a:ext cx="2232000" cy="50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238160" y="20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079240" y="19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探索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关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971640" y="1773360"/>
            <a:ext cx="7092720" cy="1584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5816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94360" y="3181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939800" y="3181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42080" y="292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85720" y="2925720"/>
            <a:ext cx="64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30</a:t>
            </a:r>
            <a:r>
              <a:rPr b="1" lang="en-US" sz="2800" spc="-1" strike="noStrike" baseline="30000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60720" y="233532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869080" y="2306520"/>
            <a:ext cx="7128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29160" y="1773360"/>
            <a:ext cx="0" cy="158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37640" y="3448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403280" y="3933720"/>
                <a:ext cx="609624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19720" y="759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含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30</a:t>
            </a:r>
            <a:r>
              <a:rPr b="1" lang="zh-CN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角的直角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219320" y="152280"/>
            <a:ext cx="3281040" cy="623520"/>
            <a:chOff x="1219320" y="152280"/>
            <a:chExt cx="3281040" cy="623520"/>
          </a:xfrm>
        </p:grpSpPr>
        <p:sp>
          <p:nvSpPr>
            <p:cNvPr id="499" name=""/>
            <p:cNvSpPr/>
            <p:nvPr/>
          </p:nvSpPr>
          <p:spPr>
            <a:xfrm>
              <a:off x="1219320" y="194400"/>
              <a:ext cx="2163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隋堂练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34440" y="186120"/>
              <a:ext cx="26604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1"/>
            <a:stretch/>
          </p:blipFill>
          <p:spPr>
            <a:xfrm>
              <a:off x="3383280" y="152280"/>
              <a:ext cx="1117080" cy="6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288000"/>
              <a:ext cx="48852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5383080"/>
            <a:ext cx="1908000" cy="1394280"/>
            <a:chOff x="7236000" y="5383080"/>
            <a:chExt cx="1908000" cy="1394280"/>
          </a:xfrm>
        </p:grpSpPr>
        <p:pic>
          <p:nvPicPr>
            <p:cNvPr id="505" name="" descr=""/>
            <p:cNvPicPr/>
            <p:nvPr/>
          </p:nvPicPr>
          <p:blipFill>
            <a:blip r:embed="rId3"/>
            <a:stretch/>
          </p:blipFill>
          <p:spPr>
            <a:xfrm>
              <a:off x="7236000" y="5383080"/>
              <a:ext cx="1908000" cy="13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7605000" y="5941440"/>
              <a:ext cx="104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258920" y="83664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∠A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∠A=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CD⊥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BD=AB/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9640" y="2637000"/>
            <a:ext cx="561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能规范地写出证明过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的证题能力有所提高吗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019920" y="2205000"/>
            <a:ext cx="3124080" cy="1755000"/>
            <a:chOff x="6019920" y="2205000"/>
            <a:chExt cx="3124080" cy="1755000"/>
          </a:xfrm>
        </p:grpSpPr>
        <p:sp>
          <p:nvSpPr>
            <p:cNvPr id="510" name=""/>
            <p:cNvSpPr/>
            <p:nvPr/>
          </p:nvSpPr>
          <p:spPr>
            <a:xfrm>
              <a:off x="6400800" y="3576240"/>
              <a:ext cx="2362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400800" y="2509560"/>
              <a:ext cx="533520" cy="1066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763120" y="3271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00800" y="220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34320" y="2509560"/>
              <a:ext cx="1828800" cy="1066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3271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34320" y="2509560"/>
              <a:ext cx="0" cy="10663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81680" y="3500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34320" y="342396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86600" y="3423960"/>
              <a:ext cx="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858000" y="266184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010280" y="2585880"/>
              <a:ext cx="7632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893360" y="3213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30</a:t>
            </a:r>
            <a:r>
              <a:rPr b="1" lang="en-US" sz="2400" spc="-1" strike="noStrike" baseline="30000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2843280" y="0"/>
            <a:ext cx="28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展展身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620640"/>
            <a:ext cx="9144000" cy="131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在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交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HC=120°,HD=1,HE=3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686520" y="1936800"/>
            <a:ext cx="4613040" cy="2896920"/>
            <a:chOff x="686520" y="1936800"/>
            <a:chExt cx="4613040" cy="2896920"/>
          </a:xfrm>
        </p:grpSpPr>
        <p:sp>
          <p:nvSpPr>
            <p:cNvPr id="526" name=""/>
            <p:cNvSpPr/>
            <p:nvPr/>
          </p:nvSpPr>
          <p:spPr>
            <a:xfrm flipH="1">
              <a:off x="970920" y="2347920"/>
              <a:ext cx="2881080" cy="230364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2720" y="2276640"/>
              <a:ext cx="1007640" cy="237636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970920" y="4653000"/>
              <a:ext cx="3889080" cy="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900000" y="3645000"/>
              <a:ext cx="3528720" cy="10080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 flipV="1">
              <a:off x="3131640" y="2924280"/>
              <a:ext cx="1728360" cy="172872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54880" y="1936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62880" y="4240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30880" y="323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7800" y="2513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86520" y="43131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54160" y="3403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84360" y="3645000"/>
              <a:ext cx="144360" cy="1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60360" y="2924280"/>
              <a:ext cx="14436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08360" y="2421000"/>
              <a:ext cx="214920" cy="14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7010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701059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97080" y="323208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94160" y="2944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638160" y="241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1040" y="3906720"/>
              <a:ext cx="70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20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510160" y="1989000"/>
            <a:ext cx="162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=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E=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H=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D=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95280" y="692280"/>
            <a:ext cx="8748720" cy="254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等边三角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D.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,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的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E=C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B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交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,BQ⊥AD,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垂足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Q,     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P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度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BP=2P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1332000" y="4970520"/>
            <a:ext cx="1727280" cy="503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29080" y="3355920"/>
            <a:ext cx="574560" cy="216072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1332000" y="4003200"/>
            <a:ext cx="1728720" cy="1513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41344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997800" y="522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062880" y="5443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73800" y="5227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486160" y="3932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01760" y="3357720"/>
            <a:ext cx="2663640" cy="21603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062520" y="36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88720" y="4653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59640" y="1916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843280" y="0"/>
            <a:ext cx="288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展展身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6922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不全等的两个等边三角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等边三角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意摆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你画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少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摆放示意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E=CF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满足在重合的一条直线上有且只有三个顶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重合的顶点算一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说明理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253080" y="1987560"/>
            <a:ext cx="3174120" cy="2115360"/>
            <a:chOff x="253080" y="1987560"/>
            <a:chExt cx="3174120" cy="2115360"/>
          </a:xfrm>
        </p:grpSpPr>
        <p:sp>
          <p:nvSpPr>
            <p:cNvPr id="561" name=""/>
            <p:cNvSpPr/>
            <p:nvPr/>
          </p:nvSpPr>
          <p:spPr>
            <a:xfrm>
              <a:off x="468360" y="2276640"/>
              <a:ext cx="1657440" cy="158400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24000" y="2997360"/>
              <a:ext cx="1008000" cy="863280"/>
            </a:xfrm>
            <a:prstGeom prst="triangle">
              <a:avLst>
                <a:gd name="adj" fmla="val 50000"/>
              </a:avLst>
            </a:prstGeom>
            <a:solidFill>
              <a:srgbClr val="727d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3080" y="357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53080" y="3643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3416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13080" y="2563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60720" y="3500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58920" y="2276640"/>
              <a:ext cx="1873080" cy="15840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95280" y="2997360"/>
              <a:ext cx="2305080" cy="86328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502880" y="1987560"/>
            <a:ext cx="2919600" cy="2404440"/>
            <a:chOff x="4502880" y="1987560"/>
            <a:chExt cx="2919600" cy="2404440"/>
          </a:xfrm>
        </p:grpSpPr>
        <p:sp>
          <p:nvSpPr>
            <p:cNvPr id="571" name=""/>
            <p:cNvSpPr/>
            <p:nvPr/>
          </p:nvSpPr>
          <p:spPr>
            <a:xfrm>
              <a:off x="4788000" y="2276640"/>
              <a:ext cx="2232000" cy="172692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724360" y="2997360"/>
              <a:ext cx="1293840" cy="10062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0288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022160" y="3716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374160" y="263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69440" y="198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53080" y="3932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877080" y="4076640"/>
            <a:ext cx="1727280" cy="2211120"/>
            <a:chOff x="6877080" y="4076640"/>
            <a:chExt cx="1727280" cy="2211120"/>
          </a:xfrm>
        </p:grpSpPr>
        <p:sp>
          <p:nvSpPr>
            <p:cNvPr id="579" name=""/>
            <p:cNvSpPr/>
            <p:nvPr/>
          </p:nvSpPr>
          <p:spPr>
            <a:xfrm>
              <a:off x="6877080" y="4076640"/>
              <a:ext cx="1727280" cy="15634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35640" y="5661000"/>
              <a:ext cx="935280" cy="626760"/>
            </a:xfrm>
            <a:prstGeom prst="triangle">
              <a:avLst>
                <a:gd name="adj" fmla="val 50000"/>
              </a:avLst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71640" y="4292640"/>
            <a:ext cx="1730880" cy="2346120"/>
            <a:chOff x="971640" y="4292640"/>
            <a:chExt cx="1730880" cy="2346120"/>
          </a:xfrm>
        </p:grpSpPr>
        <p:sp>
          <p:nvSpPr>
            <p:cNvPr id="582" name=""/>
            <p:cNvSpPr/>
            <p:nvPr/>
          </p:nvSpPr>
          <p:spPr>
            <a:xfrm>
              <a:off x="971640" y="4292640"/>
              <a:ext cx="1728720" cy="136980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453000">
              <a:off x="1404000" y="5517360"/>
              <a:ext cx="1224000" cy="790560"/>
            </a:xfrm>
            <a:prstGeom prst="triangle">
              <a:avLst>
                <a:gd name="adj" fmla="val 50000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942280" y="4304160"/>
            <a:ext cx="2694600" cy="1786680"/>
            <a:chOff x="2942280" y="4304160"/>
            <a:chExt cx="2694600" cy="1786680"/>
          </a:xfrm>
        </p:grpSpPr>
        <p:sp>
          <p:nvSpPr>
            <p:cNvPr id="585" name=""/>
            <p:cNvSpPr/>
            <p:nvPr/>
          </p:nvSpPr>
          <p:spPr>
            <a:xfrm rot="20061000">
              <a:off x="3131640" y="4581360"/>
              <a:ext cx="1562040" cy="123192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528800">
              <a:off x="4696200" y="5105520"/>
              <a:ext cx="1055880" cy="727200"/>
            </a:xfrm>
            <a:prstGeom prst="triangle">
              <a:avLst>
                <a:gd name="adj" fmla="val 50000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 txBox="1"/>
          <p:nvPr/>
        </p:nvSpPr>
        <p:spPr>
          <a:xfrm>
            <a:off x="900000" y="0"/>
            <a:ext cx="288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隶书"/>
              </a:rPr>
              <a:t>展展身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588" name=""/>
          <p:cNvSpPr/>
          <p:nvPr/>
        </p:nvSpPr>
        <p:spPr>
          <a:xfrm>
            <a:off x="5435640" y="0"/>
            <a:ext cx="1079640" cy="933480"/>
          </a:xfrm>
          <a:prstGeom prst="triangle">
            <a:avLst>
              <a:gd name="adj" fmla="val 50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20000" y="333360"/>
            <a:ext cx="576360" cy="498600"/>
          </a:xfrm>
          <a:prstGeom prst="triangle">
            <a:avLst>
              <a:gd name="adj" fmla="val 50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4772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05120" y="544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4336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33520" y="5599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38440" y="658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348000" y="0"/>
            <a:ext cx="288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再  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907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矩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AB=6,BC=8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把它对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折痕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展开后再折成如图所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落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的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第二次折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061440" y="3355920"/>
            <a:ext cx="4145040" cy="2691720"/>
            <a:chOff x="3061440" y="3355920"/>
            <a:chExt cx="4145040" cy="2691720"/>
          </a:xfrm>
        </p:grpSpPr>
        <p:sp>
          <p:nvSpPr>
            <p:cNvPr id="598" name=""/>
            <p:cNvSpPr/>
            <p:nvPr/>
          </p:nvSpPr>
          <p:spPr>
            <a:xfrm>
              <a:off x="3492360" y="3716280"/>
              <a:ext cx="3311640" cy="19447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92360" y="4653000"/>
              <a:ext cx="338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435280" y="3716280"/>
              <a:ext cx="1368360" cy="1944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32360" y="4653000"/>
              <a:ext cx="503280" cy="1008000"/>
            </a:xfrm>
            <a:prstGeom prst="line">
              <a:avLst/>
            </a:prstGeom>
            <a:ln w="54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4932360" y="3716280"/>
              <a:ext cx="1871640" cy="936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806160" y="537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34880" y="3427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61440" y="3355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33800" y="4435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4160" y="537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93800" y="5587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18520" y="4219560"/>
              <a:ext cx="47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05800" y="44355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932360" y="4653000"/>
            <a:ext cx="1871640" cy="1008000"/>
          </a:xfrm>
          <a:prstGeom prst="line">
            <a:avLst/>
          </a:prstGeom>
          <a:ln cap="rnd" w="540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076720" y="2205000"/>
                <a:ext cx="280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G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6805800" y="39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5800" y="378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0" y="0"/>
            <a:ext cx="288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练一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692280"/>
            <a:ext cx="9144000" cy="1251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正方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中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长线上的一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M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⊥DM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且交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B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平分线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,   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MD=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1989000"/>
            <a:ext cx="88200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若将上述条件中的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的中点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”改为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AB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上的任意一点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”，其它条件不变，则结论“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MD=MN”</a:t>
            </a:r>
            <a:r>
              <a:rPr b="1" lang="zh-CN" sz="2800" spc="-1" strike="noStrike">
                <a:solidFill>
                  <a:srgbClr val="008000"/>
                </a:solidFill>
                <a:latin typeface="宋体"/>
              </a:rPr>
              <a:t>还成立吗？如果成立请证明；若不成立请说明理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52720" y="4076640"/>
            <a:ext cx="4077720" cy="2529000"/>
            <a:chOff x="252720" y="4076640"/>
            <a:chExt cx="4077720" cy="2529000"/>
          </a:xfrm>
        </p:grpSpPr>
        <p:sp>
          <p:nvSpPr>
            <p:cNvPr id="619" name=""/>
            <p:cNvSpPr/>
            <p:nvPr/>
          </p:nvSpPr>
          <p:spPr>
            <a:xfrm>
              <a:off x="539640" y="4365720"/>
              <a:ext cx="2232000" cy="194472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9640" y="4365720"/>
              <a:ext cx="1152720" cy="1942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1619280" y="5157360"/>
              <a:ext cx="2232000" cy="1150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00360" y="6308640"/>
              <a:ext cx="136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2771640" y="5157360"/>
              <a:ext cx="1079640" cy="1150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2720" y="61657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2720" y="4076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73800" y="4076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81800" y="5013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97440" y="6021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29080" y="6237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549440" y="623736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502520" y="3860640"/>
            <a:ext cx="4161600" cy="2600640"/>
            <a:chOff x="4502520" y="3860640"/>
            <a:chExt cx="4161600" cy="2600640"/>
          </a:xfrm>
        </p:grpSpPr>
        <p:sp>
          <p:nvSpPr>
            <p:cNvPr id="632" name=""/>
            <p:cNvSpPr/>
            <p:nvPr/>
          </p:nvSpPr>
          <p:spPr>
            <a:xfrm>
              <a:off x="4789440" y="4149720"/>
              <a:ext cx="2232000" cy="194472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89440" y="4149720"/>
              <a:ext cx="1654200" cy="1943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6372360" y="4653000"/>
              <a:ext cx="1944720" cy="1440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50160" y="6093000"/>
              <a:ext cx="1366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020000" y="4653000"/>
              <a:ext cx="1297080" cy="1512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02520" y="595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502520" y="3860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023240" y="3860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8880" y="4508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247240" y="580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78880" y="602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302520" y="60930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25440" y="450864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39640" y="5229360"/>
            <a:ext cx="1152720" cy="1079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5272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42944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573440" y="393372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788000" y="4653000"/>
            <a:ext cx="1584360" cy="1440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4000" y="6922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定理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等腰三角形的两个底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692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简称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等边对等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1197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推论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等腰三角形顶角的平分线、底边上的中线、底边上的高线互相重合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三线合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133720"/>
            <a:ext cx="961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结论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1: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等边三角形的三个角都相等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并且每个角都等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60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63700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: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腰上的高线与底边的夹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于顶角的一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80280" y="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华文琥珀"/>
                <a:ea typeface="华文琥珀"/>
              </a:rPr>
              <a:t>知识要点</a:t>
            </a:r>
            <a:r>
              <a:rPr b="1" lang="zh-CN" sz="2800" spc="-1" strike="noStrike">
                <a:solidFill>
                  <a:srgbClr val="d60093"/>
                </a:solidFill>
                <a:latin typeface="华文琥珀"/>
                <a:ea typeface="华文琥珀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3700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: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腰三角形两底角的平分线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494172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腰三角形两腰的高线、中线分别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4600" y="18900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腰三角形的性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-252360" y="342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腰三角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底边上的任意一点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到两腰的距离之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于一腰上的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5546880"/>
            <a:ext cx="91440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判定定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有两个角相等的三角形是等腰三角形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简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角对等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190760" y="22824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回味无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04292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等边三角形的判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1" action="ppaction://hlinksldjump"/>
              </a:rPr>
              <a:t>定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个角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等腰三角形是等边三角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3" action="ppaction://hlinksldjump"/>
              </a:rPr>
              <a:t>定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4" action="ppaction://hlinksldjump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角都相等的三角形是等边三角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特殊的直角三角形的性质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5" action="ppaction://hlinksldjump"/>
              </a:rPr>
              <a:t>定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宋体"/>
                <a:hlinkClick r:id="rId6" action="ppaction://hlinksldjump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有一个锐角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么它所对的直角边等于斜边的一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提醒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证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还认识你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295280" y="-73080"/>
            <a:ext cx="2628720" cy="1311840"/>
            <a:chOff x="1295280" y="-73080"/>
            <a:chExt cx="2628720" cy="1311840"/>
          </a:xfrm>
        </p:grpSpPr>
        <p:grpSp>
          <p:nvGrpSpPr>
            <p:cNvPr id="653" name=""/>
            <p:cNvGrpSpPr/>
            <p:nvPr/>
          </p:nvGrpSpPr>
          <p:grpSpPr>
            <a:xfrm>
              <a:off x="1295280" y="-73080"/>
              <a:ext cx="2486880" cy="765360"/>
              <a:chOff x="1295280" y="-73080"/>
              <a:chExt cx="2486880" cy="765360"/>
            </a:xfrm>
          </p:grpSpPr>
          <p:sp>
            <p:nvSpPr>
              <p:cNvPr id="654" name=""/>
              <p:cNvSpPr/>
              <p:nvPr/>
            </p:nvSpPr>
            <p:spPr>
              <a:xfrm>
                <a:off x="1295280" y="76320"/>
                <a:ext cx="2429640" cy="61596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323360" y="-73080"/>
                <a:ext cx="24588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6" name="" descr=""/>
            <p:cNvPicPr/>
            <p:nvPr/>
          </p:nvPicPr>
          <p:blipFill>
            <a:blip r:embed="rId8"/>
            <a:stretch/>
          </p:blipFill>
          <p:spPr>
            <a:xfrm>
              <a:off x="2289960" y="169920"/>
              <a:ext cx="586080" cy="40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1367640" y="169920"/>
              <a:ext cx="2556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971640" y="4005360"/>
            <a:ext cx="3124080" cy="1755000"/>
            <a:chOff x="971640" y="4005360"/>
            <a:chExt cx="3124080" cy="1755000"/>
          </a:xfrm>
        </p:grpSpPr>
        <p:sp>
          <p:nvSpPr>
            <p:cNvPr id="659" name=""/>
            <p:cNvSpPr/>
            <p:nvPr/>
          </p:nvSpPr>
          <p:spPr>
            <a:xfrm>
              <a:off x="1352520" y="5376600"/>
              <a:ext cx="2362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352520" y="4309920"/>
              <a:ext cx="533520" cy="1066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14840" y="5072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52520" y="4005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86040" y="4309920"/>
              <a:ext cx="1828800" cy="1066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71640" y="5072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886040" y="4309920"/>
              <a:ext cx="0" cy="10663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33400" y="5300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86040" y="5224320"/>
              <a:ext cx="2286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38320" y="5224320"/>
              <a:ext cx="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09720" y="4462200"/>
              <a:ext cx="152280" cy="75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1962000" y="4386240"/>
              <a:ext cx="76320" cy="151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2845080" y="501336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30</a:t>
            </a:r>
            <a:r>
              <a:rPr b="1" lang="en-US" sz="2400" spc="-1" strike="noStrike" baseline="30000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934520" y="4005360"/>
            <a:ext cx="4000680" cy="1756440"/>
            <a:chOff x="4934520" y="4005360"/>
            <a:chExt cx="4000680" cy="1756440"/>
          </a:xfrm>
        </p:grpSpPr>
        <p:sp>
          <p:nvSpPr>
            <p:cNvPr id="673" name=""/>
            <p:cNvSpPr/>
            <p:nvPr/>
          </p:nvSpPr>
          <p:spPr>
            <a:xfrm>
              <a:off x="5290920" y="4438440"/>
              <a:ext cx="3205080" cy="1008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32640" y="508644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87920" y="5064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cc"/>
                  </a:solidFill>
                  <a:latin typeface="Times New Roman"/>
                </a:rPr>
                <a:t>30</a:t>
              </a:r>
              <a:r>
                <a:rPr b="1" lang="en-US" sz="2400" spc="-1" strike="noStrike" baseline="30000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06160" y="4005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34520" y="5302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534880" y="5230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6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250920" y="333360"/>
            <a:ext cx="3384000" cy="1510920"/>
            <a:chOff x="250920" y="333360"/>
            <a:chExt cx="3384000" cy="1510920"/>
          </a:xfrm>
        </p:grpSpPr>
        <p:sp>
          <p:nvSpPr>
            <p:cNvPr id="270" name=""/>
            <p:cNvSpPr/>
            <p:nvPr/>
          </p:nvSpPr>
          <p:spPr>
            <a:xfrm>
              <a:off x="250920" y="1193400"/>
              <a:ext cx="3150360" cy="650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01040" y="333360"/>
              <a:ext cx="233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想一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7560" y="1062720"/>
              <a:ext cx="933120" cy="5209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7480" y="1483560"/>
              <a:ext cx="232920" cy="2599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7560" y="541800"/>
              <a:ext cx="933120" cy="6512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560" y="411840"/>
              <a:ext cx="930960" cy="2599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7480" y="411840"/>
              <a:ext cx="232920" cy="129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0" y="220500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一个等腰三角形满足什么条件时便成了等边三角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你认为有一个角等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等腰三角形是等边三角形吗？你能证明你的结论吗？把你的证明思路与同伴进行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242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命题的证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280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/>
          <p:cNvSpPr/>
          <p:nvPr/>
        </p:nvSpPr>
        <p:spPr>
          <a:xfrm>
            <a:off x="1143000" y="914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个角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2349360"/>
            <a:ext cx="77770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∵AB=AC, ∠B=6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∴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C=∠B=6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边对等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∴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=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角形内角和定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∴∠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A=∠B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等式性质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 ∴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AC=CB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（等角对等边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=BC=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等式性质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∴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边三角形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58920" y="134136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=AC,∠B=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858000" y="1413000"/>
            <a:ext cx="2286000" cy="2059920"/>
            <a:chOff x="6858000" y="1413000"/>
            <a:chExt cx="2286000" cy="2059920"/>
          </a:xfrm>
        </p:grpSpPr>
        <p:sp>
          <p:nvSpPr>
            <p:cNvPr id="288" name=""/>
            <p:cNvSpPr/>
            <p:nvPr/>
          </p:nvSpPr>
          <p:spPr>
            <a:xfrm>
              <a:off x="7696080" y="1413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763120" y="301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58000" y="301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38880" y="28609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179424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47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几何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三种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295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7093080" y="5535720"/>
            <a:ext cx="2050920" cy="1322280"/>
            <a:chOff x="7093080" y="5535720"/>
            <a:chExt cx="2050920" cy="1322280"/>
          </a:xfrm>
        </p:grpSpPr>
        <p:pic>
          <p:nvPicPr>
            <p:cNvPr id="300" name="" descr=""/>
            <p:cNvPicPr/>
            <p:nvPr/>
          </p:nvPicPr>
          <p:blipFill>
            <a:blip r:embed="rId3"/>
            <a:stretch/>
          </p:blipFill>
          <p:spPr>
            <a:xfrm>
              <a:off x="7093080" y="5535720"/>
              <a:ext cx="205092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489800" y="6066360"/>
              <a:ext cx="112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143000" y="1047600"/>
            <a:ext cx="7924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个角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等腰三角形是等边三角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98900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∵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B=AC,∠B=60</a:t>
            </a:r>
            <a:r>
              <a:rPr b="1" lang="zh-CN" sz="3200" spc="-1" strike="noStrike" baseline="30000">
                <a:solidFill>
                  <a:srgbClr val="0033cc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已知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一个角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1" lang="zh-CN" sz="3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等腰三角形是等边三角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4360" y="4797360"/>
            <a:ext cx="8064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又是一个判定</a:t>
            </a:r>
            <a:r>
              <a:rPr b="1" lang="zh-CN" sz="3600" spc="-1" strike="noStrike">
                <a:solidFill>
                  <a:srgbClr val="0033cc"/>
                </a:solidFill>
                <a:latin typeface="隶书"/>
                <a:ea typeface="隶书"/>
              </a:rPr>
              <a:t>等边三角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根据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588000" y="1557360"/>
            <a:ext cx="2286000" cy="2059920"/>
            <a:chOff x="6588000" y="1557360"/>
            <a:chExt cx="2286000" cy="2059920"/>
          </a:xfrm>
        </p:grpSpPr>
        <p:sp>
          <p:nvSpPr>
            <p:cNvPr id="306" name=""/>
            <p:cNvSpPr/>
            <p:nvPr/>
          </p:nvSpPr>
          <p:spPr>
            <a:xfrm>
              <a:off x="7426080" y="155736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93120" y="3157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588000" y="3157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68880" y="30052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2920" y="193860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7020000" y="5680080"/>
            <a:ext cx="2124000" cy="1177920"/>
            <a:chOff x="7020000" y="5680080"/>
            <a:chExt cx="2124000" cy="11779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7020000" y="5680080"/>
              <a:ext cx="21240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7430760" y="6152760"/>
              <a:ext cx="116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24280" y="38088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命题的证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80880" y="228600"/>
            <a:ext cx="3581280" cy="685800"/>
            <a:chOff x="380880" y="228600"/>
            <a:chExt cx="3581280" cy="685800"/>
          </a:xfrm>
        </p:grpSpPr>
        <p:sp>
          <p:nvSpPr>
            <p:cNvPr id="316" name=""/>
            <p:cNvSpPr/>
            <p:nvPr/>
          </p:nvSpPr>
          <p:spPr>
            <a:xfrm>
              <a:off x="38088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196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274284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/>
          <p:cNvSpPr/>
          <p:nvPr/>
        </p:nvSpPr>
        <p:spPr>
          <a:xfrm>
            <a:off x="914400" y="1143000"/>
            <a:ext cx="805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个角都相等的三角形是等边三角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2743200"/>
            <a:ext cx="8686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∵∠A=∠B (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已知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 ∴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BC=AC,(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等角对等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又∵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=∠C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∴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AB=AC,(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等角对等边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)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=BC=AC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式性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∴ 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边三角形意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179712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∠A=∠B=∠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△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77120" y="1905120"/>
            <a:ext cx="2286000" cy="2059920"/>
            <a:chOff x="6477120" y="1905120"/>
            <a:chExt cx="2286000" cy="2059920"/>
          </a:xfrm>
        </p:grpSpPr>
        <p:sp>
          <p:nvSpPr>
            <p:cNvPr id="324" name=""/>
            <p:cNvSpPr/>
            <p:nvPr/>
          </p:nvSpPr>
          <p:spPr>
            <a:xfrm>
              <a:off x="7315200" y="190512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81880" y="3505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7712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81680" y="2286000"/>
              <a:ext cx="1600200" cy="1384200"/>
            </a:xfrm>
            <a:prstGeom prst="triangle">
              <a:avLst>
                <a:gd name="adj" fmla="val 50000"/>
              </a:avLst>
            </a:pr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47960" y="75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几何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三种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219320" y="228600"/>
            <a:ext cx="3581280" cy="685800"/>
            <a:chOff x="1219320" y="228600"/>
            <a:chExt cx="3581280" cy="685800"/>
          </a:xfrm>
        </p:grpSpPr>
        <p:sp>
          <p:nvSpPr>
            <p:cNvPr id="330" name=""/>
            <p:cNvSpPr/>
            <p:nvPr/>
          </p:nvSpPr>
          <p:spPr>
            <a:xfrm>
              <a:off x="1219320" y="27612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回顾反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00400" y="26676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3581280" y="22860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19320" y="38088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16000" y="1052640"/>
            <a:ext cx="7467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角都相等的三角形是等边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133720"/>
            <a:ext cx="64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∵∠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=∠B=∠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等边三角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个角都相等的三角形是等边三角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858000" y="1413000"/>
            <a:ext cx="2286000" cy="2059920"/>
            <a:chOff x="6858000" y="1413000"/>
            <a:chExt cx="2286000" cy="2059920"/>
          </a:xfrm>
        </p:grpSpPr>
        <p:sp>
          <p:nvSpPr>
            <p:cNvPr id="338" name=""/>
            <p:cNvSpPr/>
            <p:nvPr/>
          </p:nvSpPr>
          <p:spPr>
            <a:xfrm>
              <a:off x="7696080" y="14130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63120" y="301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58000" y="301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8880" y="28609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62920" y="1793880"/>
              <a:ext cx="1600200" cy="138456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96080" y="1960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29600" y="28749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7451640" y="5411880"/>
            <a:ext cx="1692360" cy="1322640"/>
            <a:chOff x="7451640" y="5411880"/>
            <a:chExt cx="1692360" cy="132264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7451640" y="5411880"/>
              <a:ext cx="169236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778880" y="5942520"/>
              <a:ext cx="9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72428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命题的猜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19320" y="76320"/>
            <a:ext cx="3581280" cy="685800"/>
            <a:chOff x="1219320" y="76320"/>
            <a:chExt cx="3581280" cy="685800"/>
          </a:xfrm>
        </p:grpSpPr>
        <p:sp>
          <p:nvSpPr>
            <p:cNvPr id="350" name=""/>
            <p:cNvSpPr/>
            <p:nvPr/>
          </p:nvSpPr>
          <p:spPr>
            <a:xfrm>
              <a:off x="1219320" y="123840"/>
              <a:ext cx="236196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0400" y="114480"/>
              <a:ext cx="29052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2"/>
            <a:stretch/>
          </p:blipFill>
          <p:spPr>
            <a:xfrm>
              <a:off x="3581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1219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"/>
          <p:cNvSpPr/>
          <p:nvPr/>
        </p:nvSpPr>
        <p:spPr>
          <a:xfrm>
            <a:off x="1143000" y="838080"/>
            <a:ext cx="5805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操作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两个含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的三角尺，你能拼成一个怎样的三角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58920" y="602136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证明你的结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705720" y="260280"/>
            <a:ext cx="2438280" cy="1480320"/>
            <a:chOff x="6705720" y="260280"/>
            <a:chExt cx="2438280" cy="1480320"/>
          </a:xfrm>
        </p:grpSpPr>
        <p:sp>
          <p:nvSpPr>
            <p:cNvPr id="357" name=""/>
            <p:cNvSpPr/>
            <p:nvPr/>
          </p:nvSpPr>
          <p:spPr>
            <a:xfrm>
              <a:off x="8305920" y="260280"/>
              <a:ext cx="838080" cy="1371600"/>
            </a:xfrm>
            <a:prstGeom prst="rtTriangl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6972120" y="526320"/>
              <a:ext cx="838440" cy="1371600"/>
            </a:xfrm>
            <a:prstGeom prst="rtTriangle">
              <a:avLst/>
            </a:pr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34320" y="1403280"/>
              <a:ext cx="5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30</a:t>
              </a:r>
              <a:r>
                <a:rPr b="0" lang="en-US" sz="1600" spc="-1" strike="noStrike" baseline="30000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29600" y="6854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604960" y="1773360"/>
            <a:ext cx="954000" cy="1371600"/>
            <a:chOff x="2604960" y="1773360"/>
            <a:chExt cx="954000" cy="1371600"/>
          </a:xfrm>
        </p:grpSpPr>
        <p:sp>
          <p:nvSpPr>
            <p:cNvPr id="362" name=""/>
            <p:cNvSpPr/>
            <p:nvPr/>
          </p:nvSpPr>
          <p:spPr>
            <a:xfrm flipH="1">
              <a:off x="2604960" y="1773360"/>
              <a:ext cx="838080" cy="1371600"/>
            </a:xfrm>
            <a:prstGeom prst="rtTriangle">
              <a:avLst/>
            </a:pr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025440" y="22179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30</a:t>
              </a:r>
              <a:r>
                <a:rPr b="0" lang="en-US" sz="1600" spc="-1" strike="noStrike" baseline="30000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348000" y="1773360"/>
            <a:ext cx="933480" cy="1371600"/>
            <a:chOff x="3348000" y="1773360"/>
            <a:chExt cx="933480" cy="1371600"/>
          </a:xfrm>
        </p:grpSpPr>
        <p:sp>
          <p:nvSpPr>
            <p:cNvPr id="365" name=""/>
            <p:cNvSpPr/>
            <p:nvPr/>
          </p:nvSpPr>
          <p:spPr>
            <a:xfrm>
              <a:off x="3443400" y="1773360"/>
              <a:ext cx="838080" cy="1371600"/>
            </a:xfrm>
            <a:prstGeom prst="rtTriangl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48000" y="2198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84360" y="494172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结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所对的直角边等于斜边的一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3284640"/>
            <a:ext cx="754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拼出一个等边三角形吗？说说你的理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378936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此你想到，在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所对的直角边与斜边有怎样的大小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435640" y="1844640"/>
            <a:ext cx="1371600" cy="954000"/>
            <a:chOff x="5435640" y="1844640"/>
            <a:chExt cx="1371600" cy="954000"/>
          </a:xfrm>
        </p:grpSpPr>
        <p:sp>
          <p:nvSpPr>
            <p:cNvPr id="371" name=""/>
            <p:cNvSpPr/>
            <p:nvPr/>
          </p:nvSpPr>
          <p:spPr>
            <a:xfrm rot="16200000">
              <a:off x="5702400" y="1577880"/>
              <a:ext cx="838080" cy="1371600"/>
            </a:xfrm>
            <a:prstGeom prst="rtTriangle">
              <a:avLst/>
            </a:prstGeom>
            <a:solidFill>
              <a:srgbClr val="d4fb5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rot="16200000">
              <a:off x="5781600" y="236304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Times New Roman"/>
                </a:rPr>
                <a:t>30</a:t>
              </a:r>
              <a:r>
                <a:rPr b="0" lang="en-US" sz="1600" spc="-1" strike="noStrike" baseline="30000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805440" y="1844280"/>
            <a:ext cx="1371600" cy="933480"/>
            <a:chOff x="6805440" y="1844280"/>
            <a:chExt cx="1371600" cy="933480"/>
          </a:xfrm>
        </p:grpSpPr>
        <p:sp>
          <p:nvSpPr>
            <p:cNvPr id="374" name=""/>
            <p:cNvSpPr/>
            <p:nvPr/>
          </p:nvSpPr>
          <p:spPr>
            <a:xfrm flipH="1" rot="5400000">
              <a:off x="7072200" y="1577520"/>
              <a:ext cx="838080" cy="1371600"/>
            </a:xfrm>
            <a:prstGeom prst="rtTriangl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5400000">
              <a:off x="7315560" y="234216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524720" y="3500280"/>
            <a:ext cx="954000" cy="1371600"/>
            <a:chOff x="7524720" y="3500280"/>
            <a:chExt cx="954000" cy="1371600"/>
          </a:xfrm>
        </p:grpSpPr>
        <p:sp>
          <p:nvSpPr>
            <p:cNvPr id="377" name=""/>
            <p:cNvSpPr/>
            <p:nvPr/>
          </p:nvSpPr>
          <p:spPr>
            <a:xfrm flipH="1">
              <a:off x="7524720" y="3500280"/>
              <a:ext cx="838080" cy="1371600"/>
            </a:xfrm>
            <a:prstGeom prst="rtTriangle">
              <a:avLst/>
            </a:prstGeom>
            <a:solidFill>
              <a:srgbClr val="d4fb57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945200" y="39448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30</a:t>
              </a:r>
              <a:r>
                <a:rPr b="1" lang="en-US" sz="1800" spc="-1" strike="noStrike" baseline="30000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7524720" y="5383080"/>
            <a:ext cx="1619280" cy="1394280"/>
            <a:chOff x="7524720" y="5383080"/>
            <a:chExt cx="1619280" cy="1394280"/>
          </a:xfrm>
        </p:grpSpPr>
        <p:pic>
          <p:nvPicPr>
            <p:cNvPr id="380" name="" descr=""/>
            <p:cNvPicPr/>
            <p:nvPr/>
          </p:nvPicPr>
          <p:blipFill>
            <a:blip r:embed="rId1"/>
            <a:stretch/>
          </p:blipFill>
          <p:spPr>
            <a:xfrm>
              <a:off x="7524720" y="5383080"/>
              <a:ext cx="1619280" cy="139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836840" y="5941440"/>
              <a:ext cx="88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24360" y="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命题的证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39640" y="0"/>
            <a:ext cx="2992320" cy="614160"/>
            <a:chOff x="539640" y="0"/>
            <a:chExt cx="2992320" cy="614160"/>
          </a:xfrm>
        </p:grpSpPr>
        <p:sp>
          <p:nvSpPr>
            <p:cNvPr id="384" name=""/>
            <p:cNvSpPr/>
            <p:nvPr/>
          </p:nvSpPr>
          <p:spPr>
            <a:xfrm>
              <a:off x="539640" y="32760"/>
              <a:ext cx="19735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我能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4920" y="27000"/>
              <a:ext cx="24264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2"/>
            <a:stretch/>
          </p:blipFill>
          <p:spPr>
            <a:xfrm>
              <a:off x="2513160" y="0"/>
              <a:ext cx="101880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539640" y="105120"/>
              <a:ext cx="4453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"/>
          <p:cNvSpPr/>
          <p:nvPr/>
        </p:nvSpPr>
        <p:spPr>
          <a:xfrm>
            <a:off x="539640" y="620640"/>
            <a:ext cx="83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理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直角三角形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有一个锐角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么它所对的直角边等于斜边的一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4360" y="141300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∠ACB=9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∠A=3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宋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求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:BC=  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2268360" y="1700280"/>
                <a:ext cx="3128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1" name=""/>
          <p:cNvGrpSpPr/>
          <p:nvPr/>
        </p:nvGrpSpPr>
        <p:grpSpPr>
          <a:xfrm>
            <a:off x="6400800" y="838080"/>
            <a:ext cx="1523880" cy="2136240"/>
            <a:chOff x="6400800" y="838080"/>
            <a:chExt cx="1523880" cy="2136240"/>
          </a:xfrm>
        </p:grpSpPr>
        <p:grpSp>
          <p:nvGrpSpPr>
            <p:cNvPr id="392" name=""/>
            <p:cNvGrpSpPr/>
            <p:nvPr/>
          </p:nvGrpSpPr>
          <p:grpSpPr>
            <a:xfrm>
              <a:off x="6858000" y="1219320"/>
              <a:ext cx="954000" cy="1371600"/>
              <a:chOff x="6858000" y="1219320"/>
              <a:chExt cx="954000" cy="137160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6858000" y="1219320"/>
                <a:ext cx="838080" cy="1371600"/>
              </a:xfrm>
              <a:prstGeom prst="rtTriangle">
                <a:avLst/>
              </a:prstGeom>
              <a:solidFill>
                <a:srgbClr val="d4fb57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78480" y="1663920"/>
                <a:ext cx="533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cc"/>
                    </a:solidFill>
                    <a:latin typeface="Times New Roman"/>
                  </a:rPr>
                  <a:t>30</a:t>
                </a:r>
                <a:r>
                  <a:rPr b="0" lang="en-US" sz="1600" spc="-1" strike="noStrike" baseline="30000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739152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4008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91520" y="2514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43800" y="24382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543800" y="2438280"/>
              <a:ext cx="0" cy="152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858000" y="2514600"/>
            <a:ext cx="1981080" cy="459720"/>
            <a:chOff x="6858000" y="2514600"/>
            <a:chExt cx="1981080" cy="459720"/>
          </a:xfrm>
        </p:grpSpPr>
        <p:grpSp>
          <p:nvGrpSpPr>
            <p:cNvPr id="401" name=""/>
            <p:cNvGrpSpPr/>
            <p:nvPr/>
          </p:nvGrpSpPr>
          <p:grpSpPr>
            <a:xfrm>
              <a:off x="6858000" y="2514600"/>
              <a:ext cx="1981080" cy="459720"/>
              <a:chOff x="6858000" y="2514600"/>
              <a:chExt cx="1981080" cy="459720"/>
            </a:xfrm>
          </p:grpSpPr>
          <p:sp>
            <p:nvSpPr>
              <p:cNvPr id="402" name=""/>
              <p:cNvSpPr/>
              <p:nvPr/>
            </p:nvSpPr>
            <p:spPr>
              <a:xfrm>
                <a:off x="6858000" y="25909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0592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7315200" y="25146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77320" y="25146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696080" y="121932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92428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析：突破如何证明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的倍、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4627440" y="3500280"/>
            <a:ext cx="1155960" cy="719280"/>
            <a:chOff x="4627440" y="3500280"/>
            <a:chExt cx="1155960" cy="719280"/>
          </a:xfrm>
        </p:grpSpPr>
        <p:sp>
          <p:nvSpPr>
            <p:cNvPr id="409" name=""/>
            <p:cNvSpPr/>
            <p:nvPr/>
          </p:nvSpPr>
          <p:spPr>
            <a:xfrm>
              <a:off x="5003640" y="3500280"/>
              <a:ext cx="431280" cy="719280"/>
            </a:xfrm>
            <a:prstGeom prst="downArrow">
              <a:avLst>
                <a:gd name="adj1" fmla="val 50000"/>
                <a:gd name="adj2" fmla="val 41694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27440" y="3500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转  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5183640" y="4076640"/>
            <a:ext cx="21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48690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延长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至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D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使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CD=BC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连接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6:05:23Z</dcterms:created>
  <dc:creator>12999数学网 www.12999.com</dc:creator>
  <dc:description/>
  <dc:language>en-US</dc:language>
  <cp:lastModifiedBy>微软用户</cp:lastModifiedBy>
  <dcterms:modified xsi:type="dcterms:W3CDTF">2012-07-14T23:56:56Z</dcterms:modified>
  <cp:revision>112</cp:revision>
  <dc:subject>12999数学网 www.12999.com</dc:subject>
  <dc:title>12999数学网 www.12999.com</dc:title>
</cp:coreProperties>
</file>