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29.gif" ContentType="image/gif"/>
  <Override PartName="/ppt/media/image2.jpeg" ContentType="image/jpeg"/>
  <Override PartName="/ppt/media/image15.gif" ContentType="image/gif"/>
  <Override PartName="/ppt/media/image25.gif" ContentType="image/gif"/>
  <Override PartName="/ppt/media/type.wav" ContentType="audio/x-wav"/>
  <Override PartName="/ppt/media/image18.png" ContentType="image/png"/>
  <Override PartName="/ppt/media/image16.gif" ContentType="image/gif"/>
  <Override PartName="/ppt/media/image21.png" ContentType="image/png"/>
  <Override PartName="/ppt/media/image17.gif" ContentType="image/gif"/>
  <Override PartName="/ppt/media/image19.gif" ContentType="image/gif"/>
  <Override PartName="/ppt/media/image24.png" ContentType="image/png"/>
  <Override PartName="/ppt/media/image13.png" ContentType="image/png"/>
  <Override PartName="/ppt/media/image20.gif" ContentType="image/gif"/>
  <Override PartName="/ppt/media/image22.gif" ContentType="image/gif"/>
  <Override PartName="/ppt/media/image23.gif" ContentType="image/gif"/>
  <Override PartName="/ppt/media/image26.png" ContentType="image/png"/>
  <Override PartName="/ppt/media/image3.gif" ContentType="image/gif"/>
  <Override PartName="/ppt/media/image6.gif" ContentType="image/gif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081-7B30-4A21-BE61-C35160B5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526-F963-42F6-B535-99E2A706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B38-2546-4D7F-AB37-B2F171E0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742-7CEF-45A9-8CBD-7787AAC9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C0A9-C701-4DEB-8D51-74AEA81B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CCDF-C112-41E5-871F-151C510F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8DDF-A4BA-4747-85F7-8FD8DCB3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8144-B2CE-4823-B5AA-3B66C6EC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D925-CC98-47CB-9EAE-D1748BC8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26E7-7ABB-4F4D-A391-0CE8F8A0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D567-9890-4D9F-B1CF-618D91F8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617-7A76-496D-98FC-B5711EE1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D13C-C128-47EC-98C5-1AB3AFDB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6E4D-5AEE-48D8-9026-CB16B014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5BE7-E579-4379-8372-D4C65290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0D41-9D7F-413D-88A4-B69B1450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3E81-0B6B-4D94-AFF9-02A40037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564-8E08-443D-9880-7F1C2D0E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807-3635-4E9D-ADDF-712CDBDB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F35-4834-4E64-B27C-A1783408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D13-BFED-4B83-9584-3D2709DF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690-E5AA-4BC4-BC6E-ACA4515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0F7-526F-43FE-B70B-A17FEF34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DBD-89C3-4243-B44C-0DAB0F12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C977-09EA-4FC1-BBBF-56127624A9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759C-93C7-4B48-B0B7-D3616D42E50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17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17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17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0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17.xml"/><Relationship Id="rId4" Type="http://schemas.openxmlformats.org/officeDocument/2006/relationships/image" Target="../media/image10.gif"/><Relationship Id="rId5" Type="http://schemas.openxmlformats.org/officeDocument/2006/relationships/image" Target="../media/image18.png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0.gif"/><Relationship Id="rId4" Type="http://schemas.openxmlformats.org/officeDocument/2006/relationships/image" Target="../media/image18.png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17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" Target="slide17.xml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" Target="slide17.xml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17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" Target="slide17.xml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17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" Target="slide17.xml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" Target="slide17.xml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17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76320"/>
            <a:ext cx="5561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九年级数学（上册）第一章 证明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二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直角三角形（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勾股定理与它的逆定理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52480" y="5437080"/>
            <a:ext cx="7757640" cy="1420560"/>
            <a:chOff x="852480" y="5437080"/>
            <a:chExt cx="7757640" cy="142056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852480" y="5846760"/>
              <a:ext cx="156816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3222000" y="5437080"/>
              <a:ext cx="18817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flipV="1">
              <a:off x="1146240" y="6810120"/>
              <a:ext cx="5109840" cy="25920"/>
            </a:xfrm>
            <a:prstGeom prst="line">
              <a:avLst/>
            </a:prstGeom>
            <a:ln w="38160">
              <a:solidFill>
                <a:srgbClr val="d54f4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373800" y="5794560"/>
              <a:ext cx="563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6896160" y="5794560"/>
              <a:ext cx="5223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6"/>
            <a:stretch/>
          </p:blipFill>
          <p:spPr>
            <a:xfrm>
              <a:off x="7523640" y="5794560"/>
              <a:ext cx="500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7"/>
            <a:stretch/>
          </p:blipFill>
          <p:spPr>
            <a:xfrm>
              <a:off x="7941960" y="5794560"/>
              <a:ext cx="500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8"/>
            <a:stretch/>
          </p:blipFill>
          <p:spPr>
            <a:xfrm>
              <a:off x="8359920" y="5794560"/>
              <a:ext cx="250200" cy="106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24280" y="759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学无止境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01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02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03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305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例题欣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678" descr=""/>
            <p:cNvPicPr/>
            <p:nvPr/>
          </p:nvPicPr>
          <p:blipFill>
            <a:blip r:embed="rId4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gif003%5B1%5D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>
            <a:off x="1219320" y="556272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里有一个化归的数学思想——即把问题转化为一个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纯数学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问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312" name="" descr=""/>
            <p:cNvPicPr/>
            <p:nvPr/>
          </p:nvPicPr>
          <p:blipFill>
            <a:blip r:embed="rId6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143000" y="158580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分析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=AC=2a,∠B=∠ACB=15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CD⊥A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D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327672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∵∠B=∠ACB=15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=∠B+∠ACB= 15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+15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3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角形的一个外角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于和不相邻的两内角的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D= AC= ×2a=a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有一个锐角等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那么它所对的直角边等于斜边的一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76720" y="1295280"/>
            <a:ext cx="5867280" cy="1907640"/>
            <a:chOff x="3276720" y="1295280"/>
            <a:chExt cx="5867280" cy="1907640"/>
          </a:xfrm>
        </p:grpSpPr>
        <p:sp>
          <p:nvSpPr>
            <p:cNvPr id="317" name=""/>
            <p:cNvSpPr/>
            <p:nvPr/>
          </p:nvSpPr>
          <p:spPr>
            <a:xfrm>
              <a:off x="3657600" y="2895480"/>
              <a:ext cx="5181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1992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6312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72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05920" y="1295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7080" y="26492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r>
                <a:rPr b="0" lang="zh-CN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581280" y="1675800"/>
              <a:ext cx="4953240" cy="1219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58200" y="1676160"/>
              <a:ext cx="380880" cy="1219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8520" y="2209680"/>
              <a:ext cx="266688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05920" y="1752480"/>
              <a:ext cx="7596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381880" y="1828440"/>
              <a:ext cx="15264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20120" y="2635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r>
                <a:rPr b="0" lang="zh-CN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057400" y="4419720"/>
                <a:ext cx="195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666880" y="4419720"/>
                <a:ext cx="195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1143000" y="762120"/>
            <a:ext cx="746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腰三角形的底角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腰长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腰上的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19720" y="759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含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30</a:t>
            </a:r>
            <a:r>
              <a:rPr b="0" lang="zh-CN" sz="36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角的直角三角形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33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34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337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隋堂练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9" name="678" descr=""/>
            <p:cNvPicPr/>
            <p:nvPr/>
          </p:nvPicPr>
          <p:blipFill>
            <a:blip r:embed="rId4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gif003%5B1%5D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219320" y="9907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∠AC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∠A=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CD⊥A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BD=AB/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251460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因为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=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C=AB/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证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D=AB/4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只要能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D=BC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即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时若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CD=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就可以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而由“双垂直三角形”即可求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49528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你能规范地写出证明过程吗？你的证题能力有所提高吗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715000" y="2438280"/>
            <a:ext cx="3124080" cy="1755360"/>
            <a:chOff x="5715000" y="2438280"/>
            <a:chExt cx="3124080" cy="1755360"/>
          </a:xfrm>
        </p:grpSpPr>
        <p:sp>
          <p:nvSpPr>
            <p:cNvPr id="349" name=""/>
            <p:cNvSpPr/>
            <p:nvPr/>
          </p:nvSpPr>
          <p:spPr>
            <a:xfrm>
              <a:off x="6095880" y="3809880"/>
              <a:ext cx="2362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095880" y="2743200"/>
              <a:ext cx="533520" cy="10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5820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5880" y="2438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2743200"/>
              <a:ext cx="1828800" cy="10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150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29400" y="2743200"/>
              <a:ext cx="0" cy="10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6760" y="3733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400" y="365760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81680" y="36576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3080" y="2895480"/>
              <a:ext cx="15228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705360" y="2819520"/>
              <a:ext cx="7632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19720" y="759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三角形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认识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我吗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62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63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64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366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隋堂练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8" name="678" descr=""/>
            <p:cNvPicPr/>
            <p:nvPr/>
          </p:nvPicPr>
          <p:blipFill>
            <a:blip r:embed="rId4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gif003%5B1%5D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"/>
          <p:cNvSpPr/>
          <p:nvPr/>
        </p:nvSpPr>
        <p:spPr>
          <a:xfrm>
            <a:off x="1295280" y="9144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P,Q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P=AP=AQ=QC=a,∠PAQ=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AH⊥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AB=A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试在图中标出各个角的度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出图中各线段的长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并说明理由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3716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胜利属于敢想敢干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你能与同学们交流探索证题的全过程吗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438280" y="3200400"/>
            <a:ext cx="3276720" cy="1526400"/>
            <a:chOff x="2438280" y="3200400"/>
            <a:chExt cx="3276720" cy="1526400"/>
          </a:xfrm>
        </p:grpSpPr>
        <p:sp>
          <p:nvSpPr>
            <p:cNvPr id="377" name=""/>
            <p:cNvSpPr/>
            <p:nvPr/>
          </p:nvSpPr>
          <p:spPr>
            <a:xfrm>
              <a:off x="3657600" y="3581280"/>
              <a:ext cx="914400" cy="79056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72000" y="436716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43200" y="436716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743200" y="3580920"/>
              <a:ext cx="1371600" cy="762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71960" y="3586320"/>
              <a:ext cx="1454040" cy="79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09880" y="320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82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578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34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86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4800" y="3583080"/>
              <a:ext cx="0" cy="836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14800" y="42670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67080" y="4267080"/>
              <a:ext cx="0" cy="7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1" name="Q_011" descr=""/>
          <p:cNvPicPr/>
          <p:nvPr/>
        </p:nvPicPr>
        <p:blipFill>
          <a:blip r:embed="rId7"/>
          <a:stretch/>
        </p:blipFill>
        <p:spPr>
          <a:xfrm>
            <a:off x="8305920" y="152280"/>
            <a:ext cx="5220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562720" y="228240"/>
            <a:ext cx="3504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反过来怎么样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逆向思维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93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94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95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430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命题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一条直角边等于斜边的一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那么它所对的锐角等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真命题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你证明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398" name="" descr=""/>
            <p:cNvPicPr/>
            <p:nvPr/>
          </p:nvPicPr>
          <p:blipFill>
            <a:blip r:embed="rId4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143000" y="0"/>
            <a:ext cx="4495680" cy="1323720"/>
            <a:chOff x="1143000" y="0"/>
            <a:chExt cx="4495680" cy="1323720"/>
          </a:xfrm>
        </p:grpSpPr>
        <p:grpSp>
          <p:nvGrpSpPr>
            <p:cNvPr id="401" name=""/>
            <p:cNvGrpSpPr/>
            <p:nvPr/>
          </p:nvGrpSpPr>
          <p:grpSpPr>
            <a:xfrm>
              <a:off x="1143000" y="0"/>
              <a:ext cx="4419000" cy="1323720"/>
              <a:chOff x="1143000" y="0"/>
              <a:chExt cx="4419000" cy="1323720"/>
            </a:xfrm>
          </p:grpSpPr>
          <p:sp>
            <p:nvSpPr>
              <p:cNvPr id="402" name=""/>
              <p:cNvSpPr/>
              <p:nvPr/>
            </p:nvSpPr>
            <p:spPr>
              <a:xfrm>
                <a:off x="1143000" y="0"/>
                <a:ext cx="4317840" cy="13237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192680" y="9360"/>
                <a:ext cx="436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4" name="慢跑" descr=""/>
            <p:cNvPicPr/>
            <p:nvPr/>
          </p:nvPicPr>
          <p:blipFill>
            <a:blip r:embed="rId6"/>
            <a:stretch/>
          </p:blipFill>
          <p:spPr>
            <a:xfrm>
              <a:off x="4267080" y="2286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跳动的心" descr=""/>
            <p:cNvPicPr/>
            <p:nvPr/>
          </p:nvPicPr>
          <p:blipFill>
            <a:blip r:embed="rId7"/>
            <a:stretch/>
          </p:blipFill>
          <p:spPr>
            <a:xfrm>
              <a:off x="2438280" y="4572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295280" y="34920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心动     不如行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867280" y="2666880"/>
            <a:ext cx="1523880" cy="2136240"/>
            <a:chOff x="5867280" y="2666880"/>
            <a:chExt cx="1523880" cy="2136240"/>
          </a:xfrm>
        </p:grpSpPr>
        <p:grpSp>
          <p:nvGrpSpPr>
            <p:cNvPr id="408" name=""/>
            <p:cNvGrpSpPr/>
            <p:nvPr/>
          </p:nvGrpSpPr>
          <p:grpSpPr>
            <a:xfrm>
              <a:off x="6324480" y="3048120"/>
              <a:ext cx="954000" cy="1371600"/>
              <a:chOff x="6324480" y="3048120"/>
              <a:chExt cx="954000" cy="1371600"/>
            </a:xfrm>
          </p:grpSpPr>
          <p:sp>
            <p:nvSpPr>
              <p:cNvPr id="409" name=""/>
              <p:cNvSpPr/>
              <p:nvPr/>
            </p:nvSpPr>
            <p:spPr>
              <a:xfrm flipH="1">
                <a:off x="6324480" y="3048120"/>
                <a:ext cx="838080" cy="1371600"/>
              </a:xfrm>
              <a:prstGeom prst="rtTriangle">
                <a:avLst/>
              </a:prstGeom>
              <a:solidFill>
                <a:srgbClr val="d4fb57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744960" y="34927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33cc"/>
                    </a:solidFill>
                    <a:latin typeface="Times New Roman"/>
                  </a:rPr>
                  <a:t>30</a:t>
                </a:r>
                <a:r>
                  <a:rPr b="0" lang="zh-CN" sz="1600" spc="-1" strike="noStrike" baseline="30000">
                    <a:solidFill>
                      <a:srgbClr val="0033cc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6858000" y="2666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672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58000" y="4343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0280" y="42670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10280" y="4267080"/>
              <a:ext cx="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371600" y="335268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∠ACB=9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BC=AB/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∠A=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562720" y="228240"/>
            <a:ext cx="3504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反过来怎么样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逆向思维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418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19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2209680"/>
            <a:ext cx="5715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∵∠ACB=9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=AD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段垂直平分线上的点到线段两端的距离相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又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C=AB/2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C=BD/2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=BD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量代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=BD=AD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式性质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边三角形意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=6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边三角形意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=3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直角三角形两锐角互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423" name="" descr="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143000" y="0"/>
            <a:ext cx="4495680" cy="1323720"/>
            <a:chOff x="1143000" y="0"/>
            <a:chExt cx="4495680" cy="1323720"/>
          </a:xfrm>
        </p:grpSpPr>
        <p:grpSp>
          <p:nvGrpSpPr>
            <p:cNvPr id="426" name=""/>
            <p:cNvGrpSpPr/>
            <p:nvPr/>
          </p:nvGrpSpPr>
          <p:grpSpPr>
            <a:xfrm>
              <a:off x="1143000" y="0"/>
              <a:ext cx="4419000" cy="1323720"/>
              <a:chOff x="1143000" y="0"/>
              <a:chExt cx="4419000" cy="1323720"/>
            </a:xfrm>
          </p:grpSpPr>
          <p:sp>
            <p:nvSpPr>
              <p:cNvPr id="427" name=""/>
              <p:cNvSpPr/>
              <p:nvPr/>
            </p:nvSpPr>
            <p:spPr>
              <a:xfrm>
                <a:off x="1143000" y="0"/>
                <a:ext cx="4317840" cy="13237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192680" y="9360"/>
                <a:ext cx="436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29" name="慢跑" descr=""/>
            <p:cNvPicPr/>
            <p:nvPr/>
          </p:nvPicPr>
          <p:blipFill>
            <a:blip r:embed="rId5"/>
            <a:stretch/>
          </p:blipFill>
          <p:spPr>
            <a:xfrm>
              <a:off x="4267080" y="2286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跳动的心" descr=""/>
            <p:cNvPicPr/>
            <p:nvPr/>
          </p:nvPicPr>
          <p:blipFill>
            <a:blip r:embed="rId6"/>
            <a:stretch/>
          </p:blipFill>
          <p:spPr>
            <a:xfrm>
              <a:off x="2438280" y="4572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295280" y="34920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心动     不如行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400800" y="2057400"/>
            <a:ext cx="1523880" cy="2136240"/>
            <a:chOff x="6400800" y="2057400"/>
            <a:chExt cx="1523880" cy="2136240"/>
          </a:xfrm>
        </p:grpSpPr>
        <p:grpSp>
          <p:nvGrpSpPr>
            <p:cNvPr id="433" name=""/>
            <p:cNvGrpSpPr/>
            <p:nvPr/>
          </p:nvGrpSpPr>
          <p:grpSpPr>
            <a:xfrm>
              <a:off x="6858000" y="2438640"/>
              <a:ext cx="954000" cy="1371600"/>
              <a:chOff x="6858000" y="2438640"/>
              <a:chExt cx="954000" cy="1371600"/>
            </a:xfrm>
          </p:grpSpPr>
          <p:sp>
            <p:nvSpPr>
              <p:cNvPr id="434" name=""/>
              <p:cNvSpPr/>
              <p:nvPr/>
            </p:nvSpPr>
            <p:spPr>
              <a:xfrm flipH="1">
                <a:off x="6858000" y="2438640"/>
                <a:ext cx="838080" cy="1371600"/>
              </a:xfrm>
              <a:prstGeom prst="rtTriangle">
                <a:avLst/>
              </a:prstGeom>
              <a:solidFill>
                <a:srgbClr val="d4fb57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278480" y="28832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33cc"/>
                    </a:solidFill>
                    <a:latin typeface="Times New Roman"/>
                  </a:rPr>
                  <a:t>30</a:t>
                </a:r>
                <a:r>
                  <a:rPr b="0" lang="zh-CN" sz="1600" spc="-1" strike="noStrike" baseline="30000">
                    <a:solidFill>
                      <a:srgbClr val="0033cc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7391520" y="205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733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915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3800" y="365760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43800" y="3657600"/>
              <a:ext cx="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858000" y="3733920"/>
            <a:ext cx="1981080" cy="459720"/>
            <a:chOff x="6858000" y="3733920"/>
            <a:chExt cx="1981080" cy="459720"/>
          </a:xfrm>
        </p:grpSpPr>
        <p:grpSp>
          <p:nvGrpSpPr>
            <p:cNvPr id="442" name=""/>
            <p:cNvGrpSpPr/>
            <p:nvPr/>
          </p:nvGrpSpPr>
          <p:grpSpPr>
            <a:xfrm>
              <a:off x="6858000" y="3733920"/>
              <a:ext cx="1981080" cy="459720"/>
              <a:chOff x="6858000" y="3733920"/>
              <a:chExt cx="1981080" cy="459720"/>
            </a:xfrm>
          </p:grpSpPr>
          <p:sp>
            <p:nvSpPr>
              <p:cNvPr id="443" name=""/>
              <p:cNvSpPr/>
              <p:nvPr/>
            </p:nvSpPr>
            <p:spPr>
              <a:xfrm>
                <a:off x="6858000" y="3810240"/>
                <a:ext cx="167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30592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7315200" y="373392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77320" y="373392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7696080" y="2438280"/>
            <a:ext cx="76212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证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延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D=BC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连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47960" y="75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几何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三种语言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450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51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454" name="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回顾反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6" name="678" descr=""/>
            <p:cNvPicPr/>
            <p:nvPr/>
          </p:nvPicPr>
          <p:blipFill>
            <a:blip r:embed="rId3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gif003%5B1%5D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460" name="" descr=""/>
            <p:cNvPicPr/>
            <p:nvPr/>
          </p:nvPicPr>
          <p:blipFill>
            <a:blip r:embed="rId5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1447920" y="495288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是一个通过线段之间的关系来判定一个角的具体度数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根据之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90720" y="990720"/>
            <a:ext cx="7924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定理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直角三角形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果一条直角边等于斜边的一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那么它所对的锐角等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95280" y="228600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CB=9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BC=AB/2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=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一条直角边等于斜边的一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那么它所对的锐角等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629400" y="2743200"/>
            <a:ext cx="2057400" cy="1450080"/>
            <a:chOff x="6629400" y="2743200"/>
            <a:chExt cx="2057400" cy="1450080"/>
          </a:xfrm>
        </p:grpSpPr>
        <p:sp>
          <p:nvSpPr>
            <p:cNvPr id="466" name=""/>
            <p:cNvSpPr/>
            <p:nvPr/>
          </p:nvSpPr>
          <p:spPr>
            <a:xfrm rot="16200000">
              <a:off x="7197480" y="2853720"/>
              <a:ext cx="838440" cy="1371600"/>
            </a:xfrm>
            <a:prstGeom prst="rtTriangl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51840" y="380844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51840" y="380844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2940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960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0592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18200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r>
                <a:rPr b="0" lang="zh-CN" sz="18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14300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723920" y="228240"/>
            <a:ext cx="403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成功者的摇篮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47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77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479" name="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试一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4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"/>
          <p:cNvSpPr/>
          <p:nvPr/>
        </p:nvSpPr>
        <p:spPr>
          <a:xfrm>
            <a:off x="1143000" y="121932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)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四边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一张正方形纸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E,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B,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中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沿着过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折痕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角翻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使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落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))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折痕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么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D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于多少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能证明你的结论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133720" y="3276720"/>
            <a:ext cx="5638680" cy="2669400"/>
            <a:chOff x="2133720" y="3276720"/>
            <a:chExt cx="5638680" cy="2669400"/>
          </a:xfrm>
        </p:grpSpPr>
        <p:grpSp>
          <p:nvGrpSpPr>
            <p:cNvPr id="485" name=""/>
            <p:cNvGrpSpPr/>
            <p:nvPr/>
          </p:nvGrpSpPr>
          <p:grpSpPr>
            <a:xfrm>
              <a:off x="2133720" y="3276720"/>
              <a:ext cx="2590560" cy="2440800"/>
              <a:chOff x="2133720" y="3276720"/>
              <a:chExt cx="2590560" cy="2440800"/>
            </a:xfrm>
          </p:grpSpPr>
          <p:sp>
            <p:nvSpPr>
              <p:cNvPr id="486" name=""/>
              <p:cNvSpPr/>
              <p:nvPr/>
            </p:nvSpPr>
            <p:spPr>
              <a:xfrm>
                <a:off x="2514600" y="3505320"/>
                <a:ext cx="1828800" cy="182880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14600" y="4419720"/>
                <a:ext cx="1828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91120" y="5257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09680" y="5257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267080" y="3276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133720" y="3276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33720" y="4191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267080" y="4191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5562720" y="3505320"/>
              <a:ext cx="1828800" cy="18288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62720" y="4419720"/>
              <a:ext cx="1828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38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57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8148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814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15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0040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7220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5562720" y="4400280"/>
              <a:ext cx="269640" cy="476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85920" y="4413600"/>
              <a:ext cx="1647000" cy="92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62720" y="4876920"/>
              <a:ext cx="182880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62720" y="5334120"/>
              <a:ext cx="19047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62720" y="487692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8148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38680" y="4038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回味无穷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952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等边三角形的判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一个角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等腰三角形是等边三角形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个角都相等的三角形是等边三角形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特殊的直角三角形的性质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有一个锐角等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那么它所对的直角边等于斜边的一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一条直角边等于斜边的一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那么它所对的锐角等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提醒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反证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还认识你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295280" y="0"/>
            <a:ext cx="2819160" cy="1297440"/>
            <a:chOff x="1295280" y="0"/>
            <a:chExt cx="2819160" cy="1297440"/>
          </a:xfrm>
        </p:grpSpPr>
        <p:grpSp>
          <p:nvGrpSpPr>
            <p:cNvPr id="514" name=""/>
            <p:cNvGrpSpPr/>
            <p:nvPr/>
          </p:nvGrpSpPr>
          <p:grpSpPr>
            <a:xfrm>
              <a:off x="1295280" y="0"/>
              <a:ext cx="2666520" cy="929880"/>
              <a:chOff x="1295280" y="0"/>
              <a:chExt cx="2666520" cy="929880"/>
            </a:xfrm>
          </p:grpSpPr>
          <p:sp>
            <p:nvSpPr>
              <p:cNvPr id="515" name=""/>
              <p:cNvSpPr/>
              <p:nvPr/>
            </p:nvSpPr>
            <p:spPr>
              <a:xfrm>
                <a:off x="1295280" y="10188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25160" y="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17" name="打开书" descr=""/>
            <p:cNvPicPr/>
            <p:nvPr/>
          </p:nvPicPr>
          <p:blipFill>
            <a:blip r:embed="rId2"/>
            <a:stretch/>
          </p:blipFill>
          <p:spPr>
            <a:xfrm>
              <a:off x="2361960" y="22860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1371240" y="2286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9" name="右开门箭头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520" name="左开门箭头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953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知识的升华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525" name="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295280" y="1828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1.3   1,2,3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题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Times New Roman"/>
                <a:ea typeface="隶书"/>
              </a:rPr>
              <a:t>结束寄语</a:t>
            </a:r>
            <a:endParaRPr b="0" lang="en-US" sz="51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严格性之于数学家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犹如道德之于人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证明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规范性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于：条理清晰，因果相应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言必有据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这是初学证明者谨记和遵循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原则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239840" y="0"/>
            <a:ext cx="2646360" cy="1547640"/>
            <a:chOff x="1239840" y="0"/>
            <a:chExt cx="2646360" cy="1547640"/>
          </a:xfrm>
        </p:grpSpPr>
        <p:pic>
          <p:nvPicPr>
            <p:cNvPr id="534" name="" descr=""/>
            <p:cNvPicPr/>
            <p:nvPr/>
          </p:nvPicPr>
          <p:blipFill>
            <a:blip r:embed="rId1"/>
            <a:stretch/>
          </p:blipFill>
          <p:spPr>
            <a:xfrm>
              <a:off x="2687760" y="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5" name=""/>
            <p:cNvGrpSpPr/>
            <p:nvPr/>
          </p:nvGrpSpPr>
          <p:grpSpPr>
            <a:xfrm>
              <a:off x="1239840" y="42840"/>
              <a:ext cx="1676520" cy="1191960"/>
              <a:chOff x="1239840" y="42840"/>
              <a:chExt cx="1676520" cy="1191960"/>
            </a:xfrm>
          </p:grpSpPr>
          <p:sp>
            <p:nvSpPr>
              <p:cNvPr id="536" name=""/>
              <p:cNvSpPr/>
              <p:nvPr/>
            </p:nvSpPr>
            <p:spPr>
              <a:xfrm>
                <a:off x="1239840" y="67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58560" y="4284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1392120" y="380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362320" y="4343400"/>
            <a:ext cx="5333400" cy="2133000"/>
            <a:chOff x="2362320" y="4343400"/>
            <a:chExt cx="5333400" cy="2133000"/>
          </a:xfrm>
        </p:grpSpPr>
        <p:grpSp>
          <p:nvGrpSpPr>
            <p:cNvPr id="540" name=""/>
            <p:cNvGrpSpPr/>
            <p:nvPr/>
          </p:nvGrpSpPr>
          <p:grpSpPr>
            <a:xfrm>
              <a:off x="2362320" y="4343400"/>
              <a:ext cx="5333400" cy="2133000"/>
              <a:chOff x="2362320" y="4343400"/>
              <a:chExt cx="5333400" cy="2133000"/>
            </a:xfrm>
          </p:grpSpPr>
          <p:sp>
            <p:nvSpPr>
              <p:cNvPr id="541" name=""/>
              <p:cNvSpPr/>
              <p:nvPr/>
            </p:nvSpPr>
            <p:spPr>
              <a:xfrm>
                <a:off x="2362320" y="4343400"/>
                <a:ext cx="5333400" cy="213300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ede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  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9240" y="4871160"/>
                <a:ext cx="879120" cy="101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3" name=""/>
            <p:cNvGrpSpPr/>
            <p:nvPr/>
          </p:nvGrpSpPr>
          <p:grpSpPr>
            <a:xfrm>
              <a:off x="3048120" y="4647960"/>
              <a:ext cx="2971800" cy="1524240"/>
              <a:chOff x="3048120" y="4647960"/>
              <a:chExt cx="2971800" cy="1524240"/>
            </a:xfrm>
          </p:grpSpPr>
          <p:sp>
            <p:nvSpPr>
              <p:cNvPr id="544" name=""/>
              <p:cNvSpPr txBox="1"/>
              <p:nvPr/>
            </p:nvSpPr>
            <p:spPr>
              <a:xfrm>
                <a:off x="3048120" y="4647960"/>
                <a:ext cx="2971800" cy="1524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Right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再    见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  <p:pic>
            <p:nvPicPr>
              <p:cNvPr id="545" name="051（致敬）" descr=""/>
              <p:cNvPicPr/>
              <p:nvPr/>
            </p:nvPicPr>
            <p:blipFill>
              <a:blip r:embed="rId4"/>
              <a:stretch/>
            </p:blipFill>
            <p:spPr>
              <a:xfrm>
                <a:off x="3819600" y="4724280"/>
                <a:ext cx="676080" cy="12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052（致敬）" descr=""/>
              <p:cNvPicPr/>
              <p:nvPr/>
            </p:nvPicPr>
            <p:blipFill>
              <a:blip r:embed="rId5"/>
              <a:stretch/>
            </p:blipFill>
            <p:spPr>
              <a:xfrm>
                <a:off x="4648320" y="4800600"/>
                <a:ext cx="652320" cy="11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47" name="右开门箭头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548" name="左开门箭头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6781680" y="3886200"/>
            <a:ext cx="2362320" cy="2485800"/>
            <a:chOff x="6781680" y="3886200"/>
            <a:chExt cx="2362320" cy="24858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6781680" y="453708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238880" y="388620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2520" y="1522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八仙过海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8380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三角形满足什么条件时便可成为等边三角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486400"/>
            <a:ext cx="5410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与同伴交流你在探索思路的过程中的具体做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右开门箭头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01" name="左开门箭头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95280" y="-136800"/>
            <a:ext cx="3124440" cy="1095480"/>
            <a:chOff x="1295280" y="-136800"/>
            <a:chExt cx="3124440" cy="1095480"/>
          </a:xfrm>
        </p:grpSpPr>
        <p:sp>
          <p:nvSpPr>
            <p:cNvPr id="104" name=""/>
            <p:cNvSpPr/>
            <p:nvPr/>
          </p:nvSpPr>
          <p:spPr>
            <a:xfrm>
              <a:off x="1295280" y="0"/>
              <a:ext cx="312444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钥匙" descr=""/>
            <p:cNvPicPr/>
            <p:nvPr/>
          </p:nvPicPr>
          <p:blipFill>
            <a:blip r:embed="rId6"/>
            <a:stretch/>
          </p:blipFill>
          <p:spPr>
            <a:xfrm>
              <a:off x="2362320" y="181080"/>
              <a:ext cx="838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447920" y="-1368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143000" y="3352680"/>
            <a:ext cx="2286000" cy="2059920"/>
            <a:chOff x="1143000" y="3352680"/>
            <a:chExt cx="2286000" cy="2059920"/>
          </a:xfrm>
        </p:grpSpPr>
        <p:sp>
          <p:nvSpPr>
            <p:cNvPr id="108" name=""/>
            <p:cNvSpPr/>
            <p:nvPr/>
          </p:nvSpPr>
          <p:spPr>
            <a:xfrm>
              <a:off x="198108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8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30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r>
                <a:rPr b="0" lang="zh-CN" sz="18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7920" y="3733920"/>
              <a:ext cx="1600200" cy="138420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52680" y="3352680"/>
            <a:ext cx="2286000" cy="2059920"/>
            <a:chOff x="3352680" y="3352680"/>
            <a:chExt cx="2286000" cy="2059920"/>
          </a:xfrm>
        </p:grpSpPr>
        <p:sp>
          <p:nvSpPr>
            <p:cNvPr id="114" name=""/>
            <p:cNvSpPr/>
            <p:nvPr/>
          </p:nvSpPr>
          <p:spPr>
            <a:xfrm>
              <a:off x="4191120" y="3352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57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52680" y="4952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1120" y="3962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r>
                <a:rPr b="0" lang="zh-CN" sz="18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7600" y="3733560"/>
              <a:ext cx="1600200" cy="138420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562720" y="3352680"/>
            <a:ext cx="2286000" cy="2059920"/>
            <a:chOff x="5562720" y="3352680"/>
            <a:chExt cx="2286000" cy="2059920"/>
          </a:xfrm>
        </p:grpSpPr>
        <p:sp>
          <p:nvSpPr>
            <p:cNvPr id="120" name=""/>
            <p:cNvSpPr/>
            <p:nvPr/>
          </p:nvSpPr>
          <p:spPr>
            <a:xfrm>
              <a:off x="6400800" y="33526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4952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627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34320" y="481464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r>
                <a:rPr b="0" lang="zh-CN" sz="18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7280" y="3733560"/>
              <a:ext cx="1600200" cy="138420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143000" y="24382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认为有一个角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等腰三角形是等边三角形吗？你能证明你的结论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447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等腰三角形满足什么条件时便可成为等边三角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242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命题的证明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1" name="右开门箭头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132" name="左开门箭头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135" name="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678" descr=""/>
            <p:cNvPicPr/>
            <p:nvPr/>
          </p:nvPicPr>
          <p:blipFill>
            <a:blip r:embed="rId5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gif003%5B1%5D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143000" y="914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一个角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等腰三角形是等边三角形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743200"/>
            <a:ext cx="5867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证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∵AB=AC, ∠B=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=∠B=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边对等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=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三角形内角和定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=∠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等式性质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C=C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等角对等边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=BC=A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等式性质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 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边三角形意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3716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=AC,∠B=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△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477120" y="1447920"/>
            <a:ext cx="2286000" cy="2059920"/>
            <a:chOff x="6477120" y="1447920"/>
            <a:chExt cx="2286000" cy="2059920"/>
          </a:xfrm>
        </p:grpSpPr>
        <p:sp>
          <p:nvSpPr>
            <p:cNvPr id="143" name=""/>
            <p:cNvSpPr/>
            <p:nvPr/>
          </p:nvSpPr>
          <p:spPr>
            <a:xfrm>
              <a:off x="7315200" y="1447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24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28958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r>
                <a:rPr b="0" lang="zh-CN" sz="18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2040" y="1829160"/>
              <a:ext cx="1600200" cy="138420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47960" y="75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几何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三种语言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9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50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153" name="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回顾反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678" descr=""/>
            <p:cNvPicPr/>
            <p:nvPr/>
          </p:nvPicPr>
          <p:blipFill>
            <a:blip r:embed="rId4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gif003%5B1%5D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143000" y="1047600"/>
            <a:ext cx="7924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一个角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等腰三角形是等边三角形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211608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=AC,∠B=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一个角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等腰三角形是等边三角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876920"/>
            <a:ext cx="5029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又是一个判定等边三角形的根据之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324480" y="1905120"/>
            <a:ext cx="2286000" cy="2059920"/>
            <a:chOff x="6324480" y="1905120"/>
            <a:chExt cx="2286000" cy="2059920"/>
          </a:xfrm>
        </p:grpSpPr>
        <p:sp>
          <p:nvSpPr>
            <p:cNvPr id="165" name=""/>
            <p:cNvSpPr/>
            <p:nvPr/>
          </p:nvSpPr>
          <p:spPr>
            <a:xfrm>
              <a:off x="7162560" y="19051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2448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360" y="33530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r>
                <a:rPr b="0" lang="zh-CN" sz="18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29400" y="2286360"/>
              <a:ext cx="1600200" cy="138420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42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命题的证明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74" name="右开门箭头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175" name="左开门箭头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178" name="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678" descr=""/>
            <p:cNvPicPr/>
            <p:nvPr/>
          </p:nvPicPr>
          <p:blipFill>
            <a:blip r:embed="rId5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gif003%5B1%5D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143000" y="914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个角都相等的三角形是等边三角形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743200"/>
            <a:ext cx="5867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证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∵∠A=∠B 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C=AC,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角对等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.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又∵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=∠C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=AC,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角对等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=BC=AC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式性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 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边三角形意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3716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∠A=∠B=∠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△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477120" y="1905120"/>
            <a:ext cx="2286000" cy="2059920"/>
            <a:chOff x="6477120" y="1905120"/>
            <a:chExt cx="2286000" cy="2059920"/>
          </a:xfrm>
        </p:grpSpPr>
        <p:sp>
          <p:nvSpPr>
            <p:cNvPr id="186" name=""/>
            <p:cNvSpPr/>
            <p:nvPr/>
          </p:nvSpPr>
          <p:spPr>
            <a:xfrm>
              <a:off x="7315200" y="19051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81880" y="3505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712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1680" y="2286000"/>
              <a:ext cx="1600200" cy="138420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47960" y="75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几何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三种语言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91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92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195" name="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回顾反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678" descr=""/>
            <p:cNvPicPr/>
            <p:nvPr/>
          </p:nvPicPr>
          <p:blipFill>
            <a:blip r:embed="rId4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gif003%5B1%5D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219320" y="1123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个角都相等的三角形是等边三角形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543040"/>
            <a:ext cx="563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=∠B=∠C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个角都相等的三角形是等边三角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876920"/>
            <a:ext cx="5029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又是一个判定靠边三角形的根据之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29400" y="1523880"/>
            <a:ext cx="2286000" cy="2059920"/>
            <a:chOff x="6629400" y="1523880"/>
            <a:chExt cx="2286000" cy="2059920"/>
          </a:xfrm>
        </p:grpSpPr>
        <p:sp>
          <p:nvSpPr>
            <p:cNvPr id="207" name=""/>
            <p:cNvSpPr/>
            <p:nvPr/>
          </p:nvSpPr>
          <p:spPr>
            <a:xfrm>
              <a:off x="7467480" y="1523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34520" y="3124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3124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10280" y="2971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r>
                <a:rPr b="0" lang="zh-CN" sz="18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34320" y="1904760"/>
              <a:ext cx="1600200" cy="138456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67480" y="20714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r>
                <a:rPr b="0" lang="zh-CN" sz="18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01000" y="29858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r>
                <a:rPr b="0" lang="zh-CN" sz="18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7242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命题的证明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18" name="右开门箭头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219" name="左开门箭头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222" name="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678" descr=""/>
            <p:cNvPicPr/>
            <p:nvPr/>
          </p:nvPicPr>
          <p:blipFill>
            <a:blip r:embed="rId5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gif003%5B1%5D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1143000" y="838080"/>
            <a:ext cx="5257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1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操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两个含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角的三角尺，你能拼成一个怎样的三角形？能拼出一个等边三角形吗？说说你的理由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25146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此你想到，在直角三角形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 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角所对的直角边与斜边有怎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大小关系？能证明你的结论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248520" y="990720"/>
            <a:ext cx="2438280" cy="1480320"/>
            <a:chOff x="6248520" y="990720"/>
            <a:chExt cx="2438280" cy="1480320"/>
          </a:xfrm>
        </p:grpSpPr>
        <p:sp>
          <p:nvSpPr>
            <p:cNvPr id="229" name=""/>
            <p:cNvSpPr/>
            <p:nvPr/>
          </p:nvSpPr>
          <p:spPr>
            <a:xfrm>
              <a:off x="7848720" y="990720"/>
              <a:ext cx="838080" cy="1371600"/>
            </a:xfrm>
            <a:prstGeom prst="rtTriangl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6514920" y="1256760"/>
              <a:ext cx="838440" cy="1371600"/>
            </a:xfrm>
            <a:prstGeom prst="rtTriangle">
              <a:avLst/>
            </a:prstGeom>
            <a:solidFill>
              <a:srgbClr val="d4fb5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77120" y="213372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cc"/>
                  </a:solidFill>
                  <a:latin typeface="Times New Roman"/>
                </a:rPr>
                <a:t>30</a:t>
              </a:r>
              <a:r>
                <a:rPr b="0" lang="zh-CN" sz="1600" spc="-1" strike="noStrike" baseline="30000">
                  <a:solidFill>
                    <a:srgbClr val="00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2400" y="1415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r>
                <a:rPr b="0" lang="zh-CN" sz="16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705720" y="3124080"/>
            <a:ext cx="954000" cy="1371600"/>
            <a:chOff x="6705720" y="3124080"/>
            <a:chExt cx="954000" cy="1371600"/>
          </a:xfrm>
        </p:grpSpPr>
        <p:sp>
          <p:nvSpPr>
            <p:cNvPr id="234" name=""/>
            <p:cNvSpPr/>
            <p:nvPr/>
          </p:nvSpPr>
          <p:spPr>
            <a:xfrm flipH="1">
              <a:off x="6705720" y="3124080"/>
              <a:ext cx="838080" cy="1371600"/>
            </a:xfrm>
            <a:prstGeom prst="rtTriangle">
              <a:avLst/>
            </a:prstGeom>
            <a:solidFill>
              <a:srgbClr val="d4fb5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26200" y="3568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cc"/>
                  </a:solidFill>
                  <a:latin typeface="Times New Roman"/>
                </a:rPr>
                <a:t>30</a:t>
              </a:r>
              <a:r>
                <a:rPr b="0" lang="zh-CN" sz="1600" spc="-1" strike="noStrike" baseline="30000">
                  <a:solidFill>
                    <a:srgbClr val="00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48400" y="3124080"/>
            <a:ext cx="933480" cy="1371600"/>
            <a:chOff x="7448400" y="3124080"/>
            <a:chExt cx="933480" cy="1371600"/>
          </a:xfrm>
        </p:grpSpPr>
        <p:sp>
          <p:nvSpPr>
            <p:cNvPr id="237" name=""/>
            <p:cNvSpPr/>
            <p:nvPr/>
          </p:nvSpPr>
          <p:spPr>
            <a:xfrm>
              <a:off x="7543800" y="3124080"/>
              <a:ext cx="838080" cy="1371600"/>
            </a:xfrm>
            <a:prstGeom prst="rtTriangl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48400" y="35496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r>
                <a:rPr b="0" lang="zh-CN" sz="16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219320" y="409896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结论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 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角所对的直角边等于斜边的一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242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命题的证明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44" name="右开门箭头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245" name="左开门箭头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248" name="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" name="678" descr=""/>
            <p:cNvPicPr/>
            <p:nvPr/>
          </p:nvPicPr>
          <p:blipFill>
            <a:blip r:embed="rId5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gif003%5B1%5D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1143000" y="8380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有一个锐角等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那么它所对的直角边等于斜边的一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2514600"/>
            <a:ext cx="5791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∵∠ACB=9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∠A=3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=6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直角三角形两锐角互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又∵ 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CB=9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CD=9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平角意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C=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作图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CB=∠AC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已证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C=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公共边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C≌△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一个角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的等腰三角形是等边三角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C= BD= AB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式性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1523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∠ACB=9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∠A=3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:BC= 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438280" y="1905120"/>
                <a:ext cx="195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81080" y="6553080"/>
                <a:ext cx="176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6400800" y="838080"/>
            <a:ext cx="1523880" cy="2136240"/>
            <a:chOff x="6400800" y="838080"/>
            <a:chExt cx="1523880" cy="2136240"/>
          </a:xfrm>
        </p:grpSpPr>
        <p:grpSp>
          <p:nvGrpSpPr>
            <p:cNvPr id="258" name=""/>
            <p:cNvGrpSpPr/>
            <p:nvPr/>
          </p:nvGrpSpPr>
          <p:grpSpPr>
            <a:xfrm>
              <a:off x="6858000" y="1219320"/>
              <a:ext cx="954000" cy="1371600"/>
              <a:chOff x="6858000" y="1219320"/>
              <a:chExt cx="954000" cy="137160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6858000" y="1219320"/>
                <a:ext cx="838080" cy="1371600"/>
              </a:xfrm>
              <a:prstGeom prst="rtTriangle">
                <a:avLst/>
              </a:prstGeom>
              <a:solidFill>
                <a:srgbClr val="d4fb57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278480" y="16639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33cc"/>
                    </a:solidFill>
                    <a:latin typeface="Times New Roman"/>
                  </a:rPr>
                  <a:t>30</a:t>
                </a:r>
                <a:r>
                  <a:rPr b="0" lang="zh-CN" sz="1600" spc="-1" strike="noStrike" baseline="30000">
                    <a:solidFill>
                      <a:srgbClr val="0033cc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7391520" y="838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08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91520" y="2514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43800" y="24382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43800" y="2438280"/>
              <a:ext cx="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1430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证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延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D=BC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连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0" y="2514600"/>
            <a:ext cx="1981080" cy="459720"/>
            <a:chOff x="6858000" y="2514600"/>
            <a:chExt cx="1981080" cy="459720"/>
          </a:xfrm>
        </p:grpSpPr>
        <p:grpSp>
          <p:nvGrpSpPr>
            <p:cNvPr id="268" name=""/>
            <p:cNvGrpSpPr/>
            <p:nvPr/>
          </p:nvGrpSpPr>
          <p:grpSpPr>
            <a:xfrm>
              <a:off x="6858000" y="2514600"/>
              <a:ext cx="1981080" cy="459720"/>
              <a:chOff x="6858000" y="2514600"/>
              <a:chExt cx="198108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6858000" y="2590920"/>
                <a:ext cx="167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05920" y="251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7315200" y="25146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77320" y="25146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696080" y="1219320"/>
            <a:ext cx="76212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567160" y="6477120"/>
                <a:ext cx="1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47960" y="75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几何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三种语言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76" name="右开门箭头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77" name="左开门箭头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280" name="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回顾反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678" descr=""/>
            <p:cNvPicPr/>
            <p:nvPr/>
          </p:nvPicPr>
          <p:blipFill>
            <a:blip r:embed="rId4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gif003%5B1%5D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286" name="" descr=""/>
            <p:cNvPicPr/>
            <p:nvPr/>
          </p:nvPicPr>
          <p:blipFill>
            <a:blip r:embed="rId6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447920" y="4952880"/>
            <a:ext cx="5029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又是一个判定两条线段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成倍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关系的根据之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990720"/>
            <a:ext cx="79246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定理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直角三角形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果有一个锐角等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那么它所对的直角边等于斜边的一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438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CB=9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∠A=3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C= AB.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 3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角所对的直角边等于斜边的一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286000" y="3352680"/>
                <a:ext cx="195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6629400" y="2743200"/>
            <a:ext cx="2057400" cy="1450080"/>
            <a:chOff x="6629400" y="2743200"/>
            <a:chExt cx="2057400" cy="1450080"/>
          </a:xfrm>
        </p:grpSpPr>
        <p:sp>
          <p:nvSpPr>
            <p:cNvPr id="293" name=""/>
            <p:cNvSpPr/>
            <p:nvPr/>
          </p:nvSpPr>
          <p:spPr>
            <a:xfrm rot="16200000">
              <a:off x="7197480" y="2853720"/>
              <a:ext cx="838440" cy="1371600"/>
            </a:xfrm>
            <a:prstGeom prst="rtTriangl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51840" y="380844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51840" y="380844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2940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2960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0592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82000" y="3657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r>
                <a:rPr b="0" lang="zh-CN" sz="18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/>
  <dc:description/>
  <dc:language>en-US</dc:language>
  <cp:lastModifiedBy>微软用户</cp:lastModifiedBy>
  <dcterms:modified xsi:type="dcterms:W3CDTF">2012-07-02T06:25:08Z</dcterms:modified>
  <cp:revision>265</cp:revision>
  <dc:subject/>
  <dc:title>九年级数学（上册）第一章 证明(二)</dc:title>
</cp:coreProperties>
</file>