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6.gif" ContentType="image/gif"/>
  <Override PartName="/ppt/media/image19.png" ContentType="image/png"/>
  <Override PartName="/ppt/media/image25.gif" ContentType="image/gif"/>
  <Override PartName="/ppt/media/type.wav" ContentType="audio/x-wav"/>
  <Override PartName="/ppt/media/image23.wmf" ContentType="image/x-wmf"/>
  <Override PartName="/ppt/media/image13.gif" ContentType="image/gif"/>
  <Override PartName="/ppt/media/image16.png" ContentType="image/png"/>
  <Override PartName="/ppt/media/image5.gif" ContentType="image/gif"/>
  <Override PartName="/ppt/media/image28.gif" ContentType="image/gif"/>
  <Override PartName="/ppt/media/image30.gif" ContentType="image/gif"/>
  <Override PartName="/ppt/media/image10.gif" ContentType="image/gif"/>
  <Override PartName="/ppt/media/image20.wmf" ContentType="image/x-wmf"/>
  <Override PartName="/ppt/media/image32.gif" ContentType="image/gif"/>
  <Override PartName="/ppt/media/image7.gif" ContentType="image/gif"/>
  <Override PartName="/ppt/media/image11.gif" ContentType="image/gif"/>
  <Override PartName="/ppt/media/image15.png" ContentType="image/png"/>
  <Override PartName="/ppt/media/image12.gif" ContentType="image/gif"/>
  <Override PartName="/ppt/media/image9.gif" ContentType="image/gif"/>
  <Override PartName="/ppt/media/applause.wav" ContentType="audio/x-wav"/>
  <Override PartName="/ppt/media/chimes.wav" ContentType="audio/x-wav"/>
  <Override PartName="/ppt/media/image29.png" ContentType="image/png"/>
  <Override PartName="/ppt/media/image6.gif" ContentType="image/gif"/>
  <Override PartName="/ppt/media/image8.gif" ContentType="image/gif"/>
  <Override PartName="/ppt/media/image4.jpeg" ContentType="image/jpeg"/>
  <Override PartName="/ppt/media/image2.png" ContentType="image/png"/>
  <Override PartName="/ppt/media/image3.png" ContentType="image/png"/>
  <Override PartName="/ppt/media/image1.jpeg" ContentType="image/jpeg"/>
  <Override PartName="/ppt/media/image14.gif" ContentType="image/gif"/>
  <Override PartName="/ppt/media/image17.gif" ContentType="image/gif"/>
  <Override PartName="/ppt/media/image22.png" ContentType="image/png"/>
  <Override PartName="/ppt/media/image18.gif" ContentType="image/gif"/>
  <Override PartName="/ppt/media/image21.gif" ContentType="image/gif"/>
  <Override PartName="/ppt/media/image31.gif" ContentType="image/gif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A7BAD-044E-4FF5-B837-AC6B0ED4E0F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2999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数学网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ww.12999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2999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数学网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ww.12999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2999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数学网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ww.12999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FF31-6427-4A66-8646-B7840D375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5EEF-EAA9-43BF-A91F-840D93215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F965-5922-43DB-897A-15F3A5B09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0428-0121-4608-8DB5-7247AF51E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2A3D3-BDC7-4C2A-8E78-5862A1337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B504F-A1A6-4FE2-9E73-5B29D0FFF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49E69-22FA-4347-A34A-2A312DA88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27CA9-8790-431C-9828-1230638A6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39663-838F-4936-BE04-959F8FCD8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4E11B-05B7-47E0-9FAD-28506E56C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04C7A-B2C3-4190-93F4-EEB8545D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8ECA-F11A-4DF7-AA4C-C250DB65C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A0AC1-9CE1-42CC-83DA-BEB90D6D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8A421-885F-42DA-9565-659E5103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29793-1309-4DAC-A0C1-4989D188F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4B6F9-8701-42F5-8A3F-9195CC56F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3D600-006C-486E-B51C-A8D31FEDE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A24B-1945-476E-9463-960D1EAA4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E3D3-2E66-4A6C-91E1-B8A901F4F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C3A3-CCBA-4CE7-89E3-A324F6BCF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4446-877B-4B0C-911F-70F54026D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B977-9C70-4B90-BEF5-2C9751E0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41E9-D823-46B5-8C8A-95188DC8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6BEF-CE84-452D-B723-9ED332A8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802D9-FCA4-4853-8455-1899445F79FB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83A10-66BB-4B0A-B420-DBAB43EA7300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image" Target="../media/image10.gif"/><Relationship Id="rId8" Type="http://schemas.openxmlformats.org/officeDocument/2006/relationships/image" Target="../media/image11.gif"/><Relationship Id="rId9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" Target="slide11.xml"/><Relationship Id="rId4" Type="http://schemas.openxmlformats.org/officeDocument/2006/relationships/image" Target="../media/image17.gif"/><Relationship Id="rId5" Type="http://schemas.openxmlformats.org/officeDocument/2006/relationships/image" Target="../media/image18.gif"/><Relationship Id="rId6" Type="http://schemas.openxmlformats.org/officeDocument/2006/relationships/image" Target="../media/image12.gif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chimes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gif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image" Target="../media/image12.gif"/><Relationship Id="rId6" Type="http://schemas.openxmlformats.org/officeDocument/2006/relationships/audio" Target="../media/chimes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4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png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image" Target="../media/image12.gif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" Target="slide11.xml"/><Relationship Id="rId4" Type="http://schemas.openxmlformats.org/officeDocument/2006/relationships/image" Target="../media/image17.gif"/><Relationship Id="rId5" Type="http://schemas.openxmlformats.org/officeDocument/2006/relationships/image" Target="../media/image18.gif"/><Relationship Id="rId6" Type="http://schemas.openxmlformats.org/officeDocument/2006/relationships/image" Target="../media/image12.gif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image" Target="../media/image12.gif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png"/><Relationship Id="rId3" Type="http://schemas.openxmlformats.org/officeDocument/2006/relationships/image" Target="../media/image30.gif"/><Relationship Id="rId4" Type="http://schemas.openxmlformats.org/officeDocument/2006/relationships/image" Target="../media/image31.gif"/><Relationship Id="rId5" Type="http://schemas.openxmlformats.org/officeDocument/2006/relationships/image" Target="../media/image32.gif"/><Relationship Id="rId6" Type="http://schemas.openxmlformats.org/officeDocument/2006/relationships/image" Target="../media/image13.gif"/><Relationship Id="rId7" Type="http://schemas.openxmlformats.org/officeDocument/2006/relationships/image" Target="../media/image14.gif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applause.wav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slide" Target="slide11.xml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chimes.wav"/><Relationship Id="rId10" Type="http://schemas.openxmlformats.org/officeDocument/2006/relationships/audio" Target="../media/type.wav"/><Relationship Id="rId11" Type="http://schemas.openxmlformats.org/officeDocument/2006/relationships/audio" Target="../media/chimes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slide" Target="slide11.xml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audio" Target="../media/type.wav"/><Relationship Id="rId8" Type="http://schemas.openxmlformats.org/officeDocument/2006/relationships/audio" Target="../media/chimes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slide" Target="slide11.xml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audio" Target="../media/chimes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slideLayout" Target="../slideLayouts/slideLayout4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slide" Target="slide11.xml"/><Relationship Id="rId5" Type="http://schemas.openxmlformats.org/officeDocument/2006/relationships/image" Target="../media/image17.gif"/><Relationship Id="rId6" Type="http://schemas.openxmlformats.org/officeDocument/2006/relationships/image" Target="../media/image18.gif"/><Relationship Id="rId7" Type="http://schemas.openxmlformats.org/officeDocument/2006/relationships/audio" Target="../media/type.wav"/><Relationship Id="rId8" Type="http://schemas.openxmlformats.org/officeDocument/2006/relationships/audio" Target="../media/chimes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7.gif"/><Relationship Id="rId5" Type="http://schemas.openxmlformats.org/officeDocument/2006/relationships/image" Target="../media/image18.gif"/><Relationship Id="rId6" Type="http://schemas.openxmlformats.org/officeDocument/2006/relationships/audio" Target="../media/type.wav"/><Relationship Id="rId7" Type="http://schemas.openxmlformats.org/officeDocument/2006/relationships/audio" Target="../media/chimes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" Target="slide11.xml"/><Relationship Id="rId4" Type="http://schemas.openxmlformats.org/officeDocument/2006/relationships/image" Target="../media/image12.gif"/><Relationship Id="rId5" Type="http://schemas.openxmlformats.org/officeDocument/2006/relationships/image" Target="../media/image19.png"/><Relationship Id="rId6" Type="http://schemas.openxmlformats.org/officeDocument/2006/relationships/image" Target="../media/image20.wmf"/><Relationship Id="rId7" Type="http://schemas.openxmlformats.org/officeDocument/2006/relationships/image" Target="../media/image21.gif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slideLayout" Target="../slideLayouts/slideLayout4.xml"/><Relationship Id="rId1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2.gif"/><Relationship Id="rId4" Type="http://schemas.openxmlformats.org/officeDocument/2006/relationships/image" Target="../media/image17.gif"/><Relationship Id="rId5" Type="http://schemas.openxmlformats.org/officeDocument/2006/relationships/image" Target="../media/image18.gif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chimes.wav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" Target="slide11.xml"/><Relationship Id="rId4" Type="http://schemas.openxmlformats.org/officeDocument/2006/relationships/image" Target="../media/image12.gif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2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4fb57"/>
                </a:solidFill>
                <a:latin typeface="Times New Roman"/>
              </a:rPr>
              <a:t>九年级数学（上册）第一章 证明</a:t>
            </a:r>
            <a:r>
              <a:rPr b="0" lang="zh-CN" sz="4400" spc="-1" strike="noStrike">
                <a:solidFill>
                  <a:srgbClr val="d4fb57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d4fb57"/>
                </a:solidFill>
                <a:latin typeface="Times New Roman"/>
              </a:rPr>
              <a:t>二</a:t>
            </a:r>
            <a:r>
              <a:rPr b="0" lang="zh-CN" sz="4400" spc="-1" strike="noStrike">
                <a:solidFill>
                  <a:srgbClr val="d4fb57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75960" y="1447920"/>
            <a:ext cx="5105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3.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线段的垂直平分线（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2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）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三角形的垂心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852480" y="5437080"/>
            <a:ext cx="7757640" cy="1420560"/>
            <a:chOff x="852480" y="5437080"/>
            <a:chExt cx="7757640" cy="1420560"/>
          </a:xfrm>
        </p:grpSpPr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852480" y="5846760"/>
              <a:ext cx="1568160" cy="95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3"/>
            <a:stretch/>
          </p:blipFill>
          <p:spPr>
            <a:xfrm>
              <a:off x="3222000" y="5437080"/>
              <a:ext cx="1881720" cy="134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 flipV="1">
              <a:off x="1146240" y="6810120"/>
              <a:ext cx="5109840" cy="25920"/>
            </a:xfrm>
            <a:prstGeom prst="line">
              <a:avLst/>
            </a:prstGeom>
            <a:ln w="38160">
              <a:solidFill>
                <a:srgbClr val="fac16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-10440" bIns="-104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373800" y="5794560"/>
              <a:ext cx="563760" cy="106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5"/>
            <a:stretch/>
          </p:blipFill>
          <p:spPr>
            <a:xfrm>
              <a:off x="6896160" y="5794560"/>
              <a:ext cx="522360" cy="106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6"/>
            <a:stretch/>
          </p:blipFill>
          <p:spPr>
            <a:xfrm>
              <a:off x="7523640" y="5794560"/>
              <a:ext cx="500760" cy="106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7"/>
            <a:stretch/>
          </p:blipFill>
          <p:spPr>
            <a:xfrm>
              <a:off x="7941960" y="5794560"/>
              <a:ext cx="500760" cy="106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8"/>
            <a:stretch/>
          </p:blipFill>
          <p:spPr>
            <a:xfrm>
              <a:off x="8359920" y="5794560"/>
              <a:ext cx="250200" cy="1063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723920" y="990720"/>
            <a:ext cx="4038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b5249"/>
                </a:solidFill>
                <a:latin typeface="Times New Roman"/>
                <a:ea typeface="隶书"/>
              </a:rPr>
              <a:t>梦想成真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342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344" name="">
            <a:hlinkClick r:id="rId3" action="ppaction://hlinksldjump"/>
          </p:cNvPr>
          <p:cNvSpPr/>
          <p:nvPr/>
        </p:nvSpPr>
        <p:spPr>
          <a:xfrm>
            <a:off x="7238880" y="6400800"/>
            <a:ext cx="598680" cy="336600"/>
          </a:xfrm>
          <a:custGeom>
            <a:avLst/>
            <a:gdLst>
              <a:gd name="textAreaLeft" fmla="*/ 21600 w 598680"/>
              <a:gd name="textAreaRight" fmla="*/ 577080 w 59868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38400" h="21600">
                <a:moveTo>
                  <a:pt x="0" y="0"/>
                </a:moveTo>
                <a:lnTo>
                  <a:pt x="38400" y="0"/>
                </a:lnTo>
                <a:lnTo>
                  <a:pt x="38400" y="21600"/>
                </a:lnTo>
                <a:lnTo>
                  <a:pt x="0" y="21600"/>
                </a:lnTo>
                <a:close/>
              </a:path>
              <a:path fill="lightenLess" w="38400" h="21600">
                <a:moveTo>
                  <a:pt x="0" y="0"/>
                </a:moveTo>
                <a:lnTo>
                  <a:pt x="38400" y="0"/>
                </a:lnTo>
                <a:lnTo>
                  <a:pt x="37000" y="1400"/>
                </a:lnTo>
                <a:lnTo>
                  <a:pt x="1400" y="1400"/>
                </a:lnTo>
                <a:close/>
              </a:path>
              <a:path fill="darken" w="38400" h="21600">
                <a:moveTo>
                  <a:pt x="38400" y="0"/>
                </a:moveTo>
                <a:lnTo>
                  <a:pt x="38400" y="21600"/>
                </a:lnTo>
                <a:lnTo>
                  <a:pt x="37000" y="20200"/>
                </a:lnTo>
                <a:lnTo>
                  <a:pt x="37000" y="1400"/>
                </a:lnTo>
                <a:close/>
              </a:path>
              <a:path fill="darkenLess" w="38400" h="21600">
                <a:moveTo>
                  <a:pt x="38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00" y="20200"/>
                </a:lnTo>
                <a:close/>
              </a:path>
              <a:path fill="lighten" w="38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00" h="21600">
                <a:moveTo>
                  <a:pt x="22699" y="10800"/>
                </a:moveTo>
                <a:lnTo>
                  <a:pt x="12194" y="17806"/>
                </a:lnTo>
                <a:lnTo>
                  <a:pt x="12194" y="3794"/>
                </a:lnTo>
                <a:close/>
              </a:path>
              <a:path fill="darken" w="38400" h="21600">
                <a:moveTo>
                  <a:pt x="24544" y="3794"/>
                </a:moveTo>
                <a:lnTo>
                  <a:pt x="24544" y="17806"/>
                </a:lnTo>
                <a:lnTo>
                  <a:pt x="26206" y="17806"/>
                </a:lnTo>
                <a:lnTo>
                  <a:pt x="26206" y="3794"/>
                </a:lnTo>
                <a:close/>
              </a:path>
            </a:pathLst>
          </a:custGeom>
          <a:solidFill>
            <a:srgbClr val="c9ddf1"/>
          </a:solidFill>
          <a:ln cap="sq"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1219320" y="609480"/>
            <a:ext cx="3581280" cy="685800"/>
            <a:chOff x="1219320" y="609480"/>
            <a:chExt cx="3581280" cy="685800"/>
          </a:xfrm>
        </p:grpSpPr>
        <p:sp>
          <p:nvSpPr>
            <p:cNvPr id="346" name=""/>
            <p:cNvSpPr/>
            <p:nvPr/>
          </p:nvSpPr>
          <p:spPr>
            <a:xfrm>
              <a:off x="1219320" y="657000"/>
              <a:ext cx="2361960" cy="581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5b5249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2400" spc="-1" strike="noStrike">
                  <a:solidFill>
                    <a:srgbClr val="5b5249"/>
                  </a:solidFill>
                  <a:latin typeface="Times New Roman"/>
                  <a:ea typeface="隶书"/>
                </a:rPr>
                <a:t>做一做</a:t>
              </a:r>
              <a:r>
                <a:rPr b="1" lang="zh-CN" sz="2800" spc="-1" strike="noStrike">
                  <a:solidFill>
                    <a:srgbClr val="5b5249"/>
                  </a:solidFill>
                  <a:latin typeface="Times New Roman"/>
                  <a:ea typeface="隶书"/>
                </a:rPr>
                <a:t>P</a:t>
              </a:r>
              <a:r>
                <a:rPr b="1" lang="zh-CN" sz="2000" spc="-1" strike="noStrike">
                  <a:solidFill>
                    <a:srgbClr val="5b5249"/>
                  </a:solidFill>
                  <a:latin typeface="Times New Roman"/>
                  <a:ea typeface="隶书"/>
                </a:rPr>
                <a:t>31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200400" y="647640"/>
              <a:ext cx="290520" cy="459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BatangChe"/>
                </a:rPr>
                <a:t>2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pic>
          <p:nvPicPr>
            <p:cNvPr id="348" name="" descr=""/>
            <p:cNvPicPr/>
            <p:nvPr/>
          </p:nvPicPr>
          <p:blipFill>
            <a:blip r:embed="rId4"/>
            <a:stretch/>
          </p:blipFill>
          <p:spPr>
            <a:xfrm>
              <a:off x="3581280" y="60948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1219320" y="76176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0" name=""/>
          <p:cNvSpPr/>
          <p:nvPr/>
        </p:nvSpPr>
        <p:spPr>
          <a:xfrm>
            <a:off x="838080" y="182880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1.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已知底边及底边上的高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利用尺规作等腰三角形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38080" y="2362320"/>
            <a:ext cx="8001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已知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线段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a,h(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如图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4952880" y="2511360"/>
            <a:ext cx="3284640" cy="435240"/>
            <a:chOff x="4952880" y="2511360"/>
            <a:chExt cx="3284640" cy="435240"/>
          </a:xfrm>
        </p:grpSpPr>
        <p:sp>
          <p:nvSpPr>
            <p:cNvPr id="353" name=""/>
            <p:cNvSpPr/>
            <p:nvPr/>
          </p:nvSpPr>
          <p:spPr>
            <a:xfrm>
              <a:off x="5410080" y="2511360"/>
              <a:ext cx="68580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162920" y="2511360"/>
              <a:ext cx="6858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隶书"/>
                  <a:ea typeface="隶书"/>
                </a:rPr>
                <a:t>h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952880" y="2895480"/>
              <a:ext cx="1371600" cy="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629400" y="2895480"/>
              <a:ext cx="1608120" cy="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838080" y="2971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求作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: 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△ABC,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使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AB=AC,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且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BC=a,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高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AD=h.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066680" y="4648320"/>
            <a:ext cx="373392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老师期望</a:t>
            </a:r>
            <a:r>
              <a:rPr b="0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: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你能亲自写出作法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38080" y="34290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作法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6781680" y="4572000"/>
            <a:ext cx="2362320" cy="1835280"/>
            <a:chOff x="6781680" y="4572000"/>
            <a:chExt cx="2362320" cy="1835280"/>
          </a:xfrm>
        </p:grpSpPr>
        <p:pic>
          <p:nvPicPr>
            <p:cNvPr id="361" name="" descr=""/>
            <p:cNvPicPr/>
            <p:nvPr/>
          </p:nvPicPr>
          <p:blipFill>
            <a:blip r:embed="rId6"/>
            <a:stretch/>
          </p:blipFill>
          <p:spPr>
            <a:xfrm>
              <a:off x="6781680" y="4572000"/>
              <a:ext cx="23623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7238880" y="530856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b5249"/>
                  </a:solidFill>
                  <a:latin typeface="Times New Roman"/>
                </a:rPr>
                <a:t>驶向胜利的彼岸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190760" y="151920"/>
            <a:ext cx="4724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b5249"/>
                </a:solidFill>
                <a:latin typeface="Times New Roman"/>
                <a:ea typeface="隶书"/>
              </a:rPr>
              <a:t>回味无穷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040" y="837720"/>
            <a:ext cx="5257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buClr>
                <a:srgbClr val="2a3d7a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定理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 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三角形三条边的垂直平分线相交于一点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,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并且这一点到三个顶点的距离相等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如图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,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在△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ABC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中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,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∵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c,a,b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分别是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AB,BC,AC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的垂直平分线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(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已知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),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∴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c,a,b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相交于一点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P,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且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PA=PB=PC(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三角形三条边的垂直平分线相交于一点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,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并且这一点到三个顶点的距离相等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)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1295280" y="0"/>
            <a:ext cx="2819160" cy="1297440"/>
            <a:chOff x="1295280" y="0"/>
            <a:chExt cx="2819160" cy="1297440"/>
          </a:xfrm>
        </p:grpSpPr>
        <p:grpSp>
          <p:nvGrpSpPr>
            <p:cNvPr id="366" name=""/>
            <p:cNvGrpSpPr/>
            <p:nvPr/>
          </p:nvGrpSpPr>
          <p:grpSpPr>
            <a:xfrm>
              <a:off x="1295280" y="0"/>
              <a:ext cx="2666520" cy="929880"/>
              <a:chOff x="1295280" y="0"/>
              <a:chExt cx="2666520" cy="929880"/>
            </a:xfrm>
          </p:grpSpPr>
          <p:sp>
            <p:nvSpPr>
              <p:cNvPr id="367" name=""/>
              <p:cNvSpPr/>
              <p:nvPr/>
            </p:nvSpPr>
            <p:spPr>
              <a:xfrm>
                <a:off x="1295280" y="101880"/>
                <a:ext cx="2605680" cy="82800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325160" y="0"/>
                <a:ext cx="2636640" cy="58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pic>
          <p:nvPicPr>
            <p:cNvPr id="369" name="" descr=""/>
            <p:cNvPicPr/>
            <p:nvPr/>
          </p:nvPicPr>
          <p:blipFill>
            <a:blip r:embed="rId2"/>
            <a:stretch/>
          </p:blipFill>
          <p:spPr>
            <a:xfrm>
              <a:off x="2361960" y="228600"/>
              <a:ext cx="6285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>
              <a:off x="1371240" y="228600"/>
              <a:ext cx="27432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小结       拓展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pic>
        <p:nvPicPr>
          <p:cNvPr id="371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  <p:grpSp>
        <p:nvGrpSpPr>
          <p:cNvPr id="373" name=""/>
          <p:cNvGrpSpPr/>
          <p:nvPr/>
        </p:nvGrpSpPr>
        <p:grpSpPr>
          <a:xfrm>
            <a:off x="5715000" y="1981080"/>
            <a:ext cx="2941560" cy="2590920"/>
            <a:chOff x="5715000" y="1981080"/>
            <a:chExt cx="2941560" cy="2590920"/>
          </a:xfrm>
        </p:grpSpPr>
        <p:grpSp>
          <p:nvGrpSpPr>
            <p:cNvPr id="374" name=""/>
            <p:cNvGrpSpPr/>
            <p:nvPr/>
          </p:nvGrpSpPr>
          <p:grpSpPr>
            <a:xfrm>
              <a:off x="5715000" y="2057400"/>
              <a:ext cx="2941560" cy="2514600"/>
              <a:chOff x="5715000" y="2057400"/>
              <a:chExt cx="2941560" cy="2514600"/>
            </a:xfrm>
          </p:grpSpPr>
          <p:grpSp>
            <p:nvGrpSpPr>
              <p:cNvPr id="375" name=""/>
              <p:cNvGrpSpPr/>
              <p:nvPr/>
            </p:nvGrpSpPr>
            <p:grpSpPr>
              <a:xfrm>
                <a:off x="6019920" y="2286000"/>
                <a:ext cx="2133360" cy="2286000"/>
                <a:chOff x="6019920" y="2286000"/>
                <a:chExt cx="2133360" cy="228600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7086240" y="2286000"/>
                  <a:ext cx="0" cy="2286000"/>
                </a:xfrm>
                <a:prstGeom prst="line">
                  <a:avLst/>
                </a:prstGeom>
                <a:ln w="9360">
                  <a:solidFill>
                    <a:srgbClr val="5b524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flipV="1">
                  <a:off x="6019920" y="2998440"/>
                  <a:ext cx="2133360" cy="1165320"/>
                </a:xfrm>
                <a:prstGeom prst="line">
                  <a:avLst/>
                </a:prstGeom>
                <a:ln w="9360">
                  <a:solidFill>
                    <a:srgbClr val="5b524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6030720" y="2819520"/>
                  <a:ext cx="2111040" cy="1523880"/>
                </a:xfrm>
                <a:prstGeom prst="line">
                  <a:avLst/>
                </a:prstGeom>
                <a:ln w="9360">
                  <a:solidFill>
                    <a:srgbClr val="5b524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6019920" y="3962520"/>
                  <a:ext cx="2133360" cy="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7237080" y="2425680"/>
                  <a:ext cx="885600" cy="152388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flipV="1">
                  <a:off x="6019920" y="2425320"/>
                  <a:ext cx="1218960" cy="153684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2" name=""/>
              <p:cNvSpPr/>
              <p:nvPr/>
            </p:nvSpPr>
            <p:spPr>
              <a:xfrm>
                <a:off x="7162920" y="20574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5b5249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715000" y="373392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5b5249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8123400" y="37339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5b5249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238880" y="33526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5b5249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086600" y="3809880"/>
                <a:ext cx="152280" cy="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238880" y="3809880"/>
                <a:ext cx="0" cy="13968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515280" y="3352680"/>
                <a:ext cx="147600" cy="11448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V="1">
                <a:off x="6662880" y="3315960"/>
                <a:ext cx="91800" cy="15084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390" name=""/>
            <p:cNvSpPr/>
            <p:nvPr/>
          </p:nvSpPr>
          <p:spPr>
            <a:xfrm flipH="1">
              <a:off x="7091280" y="2440080"/>
              <a:ext cx="168480" cy="11192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6031080" y="3559320"/>
              <a:ext cx="1060200" cy="3902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091280" y="3578400"/>
              <a:ext cx="1044720" cy="3920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781680" y="19810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848720" y="26668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867280" y="27432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914400" y="4648320"/>
            <a:ext cx="7323120" cy="1572120"/>
            <a:chOff x="914400" y="4648320"/>
            <a:chExt cx="7323120" cy="1572120"/>
          </a:xfrm>
        </p:grpSpPr>
        <p:sp>
          <p:nvSpPr>
            <p:cNvPr id="397" name=""/>
            <p:cNvSpPr/>
            <p:nvPr/>
          </p:nvSpPr>
          <p:spPr>
            <a:xfrm>
              <a:off x="914400" y="4648320"/>
              <a:ext cx="44956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b5249"/>
                  </a:solidFill>
                  <a:latin typeface="隶书"/>
                  <a:ea typeface="隶书"/>
                </a:rPr>
                <a:t>尺规作图的解题格式</a:t>
              </a:r>
              <a:r>
                <a:rPr b="1" lang="zh-CN" sz="2400" spc="-1" strike="noStrike">
                  <a:solidFill>
                    <a:srgbClr val="5b5249"/>
                  </a:solidFill>
                  <a:latin typeface="隶书"/>
                  <a:ea typeface="隶书"/>
                </a:rPr>
                <a:t>(</a:t>
              </a:r>
              <a:r>
                <a:rPr b="1" lang="zh-CN" sz="2400" spc="-1" strike="noStrike">
                  <a:solidFill>
                    <a:srgbClr val="5b5249"/>
                  </a:solidFill>
                  <a:latin typeface="隶书"/>
                  <a:ea typeface="隶书"/>
                </a:rPr>
                <a:t>六步骤</a:t>
              </a:r>
              <a:r>
                <a:rPr b="1" lang="zh-CN" sz="2400" spc="-1" strike="noStrike">
                  <a:solidFill>
                    <a:srgbClr val="5b5249"/>
                  </a:solidFill>
                  <a:latin typeface="隶书"/>
                  <a:ea typeface="隶书"/>
                </a:rPr>
                <a:t>):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b5249"/>
                  </a:solidFill>
                  <a:latin typeface="隶书"/>
                  <a:ea typeface="隶书"/>
                </a:rPr>
                <a:t>已知</a:t>
              </a:r>
              <a:r>
                <a:rPr b="1" lang="zh-CN" sz="2400" spc="-1" strike="noStrike">
                  <a:solidFill>
                    <a:srgbClr val="5b5249"/>
                  </a:solidFill>
                  <a:latin typeface="隶书"/>
                  <a:ea typeface="隶书"/>
                </a:rPr>
                <a:t>: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b5249"/>
                  </a:solidFill>
                  <a:latin typeface="隶书"/>
                  <a:ea typeface="隶书"/>
                </a:rPr>
                <a:t>求作</a:t>
              </a:r>
              <a:r>
                <a:rPr b="1" lang="zh-CN" sz="2400" spc="-1" strike="noStrike">
                  <a:solidFill>
                    <a:srgbClr val="5b5249"/>
                  </a:solidFill>
                  <a:latin typeface="隶书"/>
                  <a:ea typeface="隶书"/>
                </a:rPr>
                <a:t>: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b5249"/>
                  </a:solidFill>
                  <a:latin typeface="隶书"/>
                  <a:ea typeface="隶书"/>
                </a:rPr>
                <a:t>分析</a:t>
              </a:r>
              <a:r>
                <a:rPr b="1" lang="zh-CN" sz="2400" spc="-1" strike="noStrike">
                  <a:solidFill>
                    <a:srgbClr val="5b5249"/>
                  </a:solidFill>
                  <a:latin typeface="隶书"/>
                  <a:ea typeface="隶书"/>
                </a:rPr>
                <a:t>: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410080" y="5029200"/>
              <a:ext cx="2827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b5249"/>
                  </a:solidFill>
                  <a:latin typeface="隶书"/>
                  <a:ea typeface="隶书"/>
                </a:rPr>
                <a:t>作法</a:t>
              </a:r>
              <a:r>
                <a:rPr b="1" lang="zh-CN" sz="2400" spc="-1" strike="noStrike">
                  <a:solidFill>
                    <a:srgbClr val="5b5249"/>
                  </a:solidFill>
                  <a:latin typeface="隶书"/>
                  <a:ea typeface="隶书"/>
                </a:rPr>
                <a:t>: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b5249"/>
                  </a:solidFill>
                  <a:latin typeface="隶书"/>
                  <a:ea typeface="隶书"/>
                </a:rPr>
                <a:t>证明</a:t>
              </a:r>
              <a:r>
                <a:rPr b="1" lang="zh-CN" sz="2400" spc="-1" strike="noStrike">
                  <a:solidFill>
                    <a:srgbClr val="5b5249"/>
                  </a:solidFill>
                  <a:latin typeface="隶书"/>
                  <a:ea typeface="隶书"/>
                </a:rPr>
                <a:t>: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b5249"/>
                  </a:solidFill>
                  <a:latin typeface="隶书"/>
                  <a:ea typeface="隶书"/>
                </a:rPr>
                <a:t>讨论</a:t>
              </a:r>
              <a:r>
                <a:rPr b="1" lang="zh-CN" sz="2400" spc="-1" strike="noStrike">
                  <a:solidFill>
                    <a:srgbClr val="5b5249"/>
                  </a:solidFill>
                  <a:latin typeface="隶书"/>
                  <a:ea typeface="隶书"/>
                </a:rPr>
                <a:t>: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6781680" y="4572000"/>
            <a:ext cx="2362320" cy="1835280"/>
            <a:chOff x="6781680" y="4572000"/>
            <a:chExt cx="2362320" cy="1835280"/>
          </a:xfrm>
        </p:grpSpPr>
        <p:pic>
          <p:nvPicPr>
            <p:cNvPr id="400" name="" descr=""/>
            <p:cNvPicPr/>
            <p:nvPr/>
          </p:nvPicPr>
          <p:blipFill>
            <a:blip r:embed="rId5"/>
            <a:stretch/>
          </p:blipFill>
          <p:spPr>
            <a:xfrm>
              <a:off x="6781680" y="4572000"/>
              <a:ext cx="23623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7238880" y="530856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b5249"/>
                  </a:solidFill>
                  <a:latin typeface="Times New Roman"/>
                </a:rPr>
                <a:t>驶向胜利的彼岸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18000" y="1231560"/>
            <a:ext cx="4208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知识的升华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1295280" y="0"/>
            <a:ext cx="3009960" cy="1523520"/>
            <a:chOff x="1295280" y="0"/>
            <a:chExt cx="3009960" cy="1523520"/>
          </a:xfrm>
        </p:grpSpPr>
        <p:pic>
          <p:nvPicPr>
            <p:cNvPr id="404" name="" descr=""/>
            <p:cNvPicPr/>
            <p:nvPr/>
          </p:nvPicPr>
          <p:blipFill>
            <a:blip r:embed="rId1"/>
            <a:stretch/>
          </p:blipFill>
          <p:spPr>
            <a:xfrm>
              <a:off x="2590920" y="87480"/>
              <a:ext cx="1714320" cy="136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05" name=""/>
            <p:cNvGrpSpPr/>
            <p:nvPr/>
          </p:nvGrpSpPr>
          <p:grpSpPr>
            <a:xfrm>
              <a:off x="1295280" y="0"/>
              <a:ext cx="1295640" cy="1523520"/>
              <a:chOff x="1295280" y="0"/>
              <a:chExt cx="1295640" cy="1523520"/>
            </a:xfrm>
          </p:grpSpPr>
          <p:sp>
            <p:nvSpPr>
              <p:cNvPr id="406" name=""/>
              <p:cNvSpPr/>
              <p:nvPr/>
            </p:nvSpPr>
            <p:spPr>
              <a:xfrm>
                <a:off x="1295280" y="0"/>
                <a:ext cx="1266120" cy="152352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309320" y="57240"/>
                <a:ext cx="12816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408" name=""/>
            <p:cNvSpPr/>
            <p:nvPr/>
          </p:nvSpPr>
          <p:spPr>
            <a:xfrm>
              <a:off x="1447920" y="182520"/>
              <a:ext cx="10666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独立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作业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1295280" y="1828800"/>
            <a:ext cx="7772400" cy="29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P</a:t>
            </a:r>
            <a:r>
              <a:rPr b="0" lang="zh-CN" sz="4800" spc="-1" strike="noStrike" baseline="-25000">
                <a:solidFill>
                  <a:srgbClr val="ff0000"/>
                </a:solidFill>
                <a:latin typeface="Times New Roman"/>
                <a:ea typeface="隶书"/>
              </a:rPr>
              <a:t>9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习题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1.7   1,2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题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.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祝你成功！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10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  <p:grpSp>
        <p:nvGrpSpPr>
          <p:cNvPr id="412" name=""/>
          <p:cNvGrpSpPr/>
          <p:nvPr/>
        </p:nvGrpSpPr>
        <p:grpSpPr>
          <a:xfrm>
            <a:off x="6781680" y="4572000"/>
            <a:ext cx="2362320" cy="1835280"/>
            <a:chOff x="6781680" y="4572000"/>
            <a:chExt cx="2362320" cy="1835280"/>
          </a:xfrm>
        </p:grpSpPr>
        <p:pic>
          <p:nvPicPr>
            <p:cNvPr id="413" name="" descr=""/>
            <p:cNvPicPr/>
            <p:nvPr/>
          </p:nvPicPr>
          <p:blipFill>
            <a:blip r:embed="rId5"/>
            <a:stretch/>
          </p:blipFill>
          <p:spPr>
            <a:xfrm>
              <a:off x="6781680" y="4572000"/>
              <a:ext cx="23623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7238880" y="530856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b5249"/>
                  </a:solidFill>
                  <a:latin typeface="Times New Roman"/>
                </a:rPr>
                <a:t>驶向胜利的彼岸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724280" y="304560"/>
            <a:ext cx="4191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习题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1.7 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416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418" name="">
            <a:hlinkClick r:id="rId3" action="ppaction://hlinksldjump"/>
          </p:cNvPr>
          <p:cNvSpPr/>
          <p:nvPr/>
        </p:nvSpPr>
        <p:spPr>
          <a:xfrm>
            <a:off x="7238880" y="6400800"/>
            <a:ext cx="598680" cy="336600"/>
          </a:xfrm>
          <a:custGeom>
            <a:avLst/>
            <a:gdLst>
              <a:gd name="textAreaLeft" fmla="*/ 21600 w 598680"/>
              <a:gd name="textAreaRight" fmla="*/ 577080 w 59868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38400" h="21600">
                <a:moveTo>
                  <a:pt x="0" y="0"/>
                </a:moveTo>
                <a:lnTo>
                  <a:pt x="38400" y="0"/>
                </a:lnTo>
                <a:lnTo>
                  <a:pt x="38400" y="21600"/>
                </a:lnTo>
                <a:lnTo>
                  <a:pt x="0" y="21600"/>
                </a:lnTo>
                <a:close/>
              </a:path>
              <a:path fill="lightenLess" w="38400" h="21600">
                <a:moveTo>
                  <a:pt x="0" y="0"/>
                </a:moveTo>
                <a:lnTo>
                  <a:pt x="38400" y="0"/>
                </a:lnTo>
                <a:lnTo>
                  <a:pt x="37000" y="1400"/>
                </a:lnTo>
                <a:lnTo>
                  <a:pt x="1400" y="1400"/>
                </a:lnTo>
                <a:close/>
              </a:path>
              <a:path fill="darken" w="38400" h="21600">
                <a:moveTo>
                  <a:pt x="38400" y="0"/>
                </a:moveTo>
                <a:lnTo>
                  <a:pt x="38400" y="21600"/>
                </a:lnTo>
                <a:lnTo>
                  <a:pt x="37000" y="20200"/>
                </a:lnTo>
                <a:lnTo>
                  <a:pt x="37000" y="1400"/>
                </a:lnTo>
                <a:close/>
              </a:path>
              <a:path fill="darkenLess" w="38400" h="21600">
                <a:moveTo>
                  <a:pt x="38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00" y="20200"/>
                </a:lnTo>
                <a:close/>
              </a:path>
              <a:path fill="lighten" w="38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00" h="21600">
                <a:moveTo>
                  <a:pt x="22699" y="10800"/>
                </a:moveTo>
                <a:lnTo>
                  <a:pt x="12194" y="17806"/>
                </a:lnTo>
                <a:lnTo>
                  <a:pt x="12194" y="3794"/>
                </a:lnTo>
                <a:close/>
              </a:path>
              <a:path fill="darken" w="38400" h="21600">
                <a:moveTo>
                  <a:pt x="24544" y="3794"/>
                </a:moveTo>
                <a:lnTo>
                  <a:pt x="24544" y="17806"/>
                </a:lnTo>
                <a:lnTo>
                  <a:pt x="26206" y="17806"/>
                </a:lnTo>
                <a:lnTo>
                  <a:pt x="26206" y="3794"/>
                </a:lnTo>
                <a:close/>
              </a:path>
            </a:pathLst>
          </a:custGeom>
          <a:solidFill>
            <a:srgbClr val="c9ddf1"/>
          </a:solidFill>
          <a:ln cap="sq"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1219320" y="152280"/>
            <a:ext cx="3581280" cy="685800"/>
            <a:chOff x="1219320" y="152280"/>
            <a:chExt cx="3581280" cy="685800"/>
          </a:xfrm>
        </p:grpSpPr>
        <p:sp>
          <p:nvSpPr>
            <p:cNvPr id="420" name=""/>
            <p:cNvSpPr/>
            <p:nvPr/>
          </p:nvSpPr>
          <p:spPr>
            <a:xfrm>
              <a:off x="1219320" y="199800"/>
              <a:ext cx="2361960" cy="581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5b5249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2400" spc="-1" strike="noStrike">
                  <a:solidFill>
                    <a:srgbClr val="5b5249"/>
                  </a:solidFill>
                  <a:latin typeface="Times New Roman"/>
                  <a:ea typeface="隶书"/>
                </a:rPr>
                <a:t>独立作业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200400" y="190440"/>
              <a:ext cx="290520" cy="459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BatangChe"/>
                </a:rPr>
                <a:t>1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pic>
          <p:nvPicPr>
            <p:cNvPr id="422" name="" descr=""/>
            <p:cNvPicPr/>
            <p:nvPr/>
          </p:nvPicPr>
          <p:blipFill>
            <a:blip r:embed="rId4"/>
            <a:stretch/>
          </p:blipFill>
          <p:spPr>
            <a:xfrm>
              <a:off x="3581280" y="15228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" name="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1219320" y="30456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4" name=""/>
          <p:cNvGrpSpPr/>
          <p:nvPr/>
        </p:nvGrpSpPr>
        <p:grpSpPr>
          <a:xfrm>
            <a:off x="6781680" y="4489560"/>
            <a:ext cx="2362320" cy="1834920"/>
            <a:chOff x="6781680" y="4489560"/>
            <a:chExt cx="2362320" cy="1834920"/>
          </a:xfrm>
        </p:grpSpPr>
        <p:pic>
          <p:nvPicPr>
            <p:cNvPr id="425" name="" descr=""/>
            <p:cNvPicPr/>
            <p:nvPr/>
          </p:nvPicPr>
          <p:blipFill>
            <a:blip r:embed="rId6"/>
            <a:stretch/>
          </p:blipFill>
          <p:spPr>
            <a:xfrm>
              <a:off x="6781680" y="4489560"/>
              <a:ext cx="2362320" cy="18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7238880" y="522576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b5249"/>
                  </a:solidFill>
                  <a:latin typeface="隶书"/>
                  <a:ea typeface="隶书"/>
                </a:rPr>
                <a:t>驶向胜利的彼岸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914400" y="1143000"/>
            <a:ext cx="732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1.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已知线段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a,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求作以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a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为底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以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a/2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为高的等腰三角形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.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这个等腰三角形有什么特征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?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914400" y="4610160"/>
            <a:ext cx="55627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老师提示</a:t>
            </a:r>
            <a:r>
              <a:rPr b="0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: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先分析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作出示意图形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再按要求去作图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838080" y="3352680"/>
            <a:ext cx="732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这个等腰三角形有什么特征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?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724280" y="304560"/>
            <a:ext cx="4191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习题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1.7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431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>
            <a:off x="7238880" y="6400800"/>
            <a:ext cx="598680" cy="336600"/>
          </a:xfrm>
          <a:custGeom>
            <a:avLst/>
            <a:gdLst>
              <a:gd name="textAreaLeft" fmla="*/ 21600 w 598680"/>
              <a:gd name="textAreaRight" fmla="*/ 577080 w 59868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38400" h="21600">
                <a:moveTo>
                  <a:pt x="0" y="0"/>
                </a:moveTo>
                <a:lnTo>
                  <a:pt x="38400" y="0"/>
                </a:lnTo>
                <a:lnTo>
                  <a:pt x="38400" y="21600"/>
                </a:lnTo>
                <a:lnTo>
                  <a:pt x="0" y="21600"/>
                </a:lnTo>
                <a:close/>
              </a:path>
              <a:path fill="lightenLess" w="38400" h="21600">
                <a:moveTo>
                  <a:pt x="0" y="0"/>
                </a:moveTo>
                <a:lnTo>
                  <a:pt x="38400" y="0"/>
                </a:lnTo>
                <a:lnTo>
                  <a:pt x="37000" y="1400"/>
                </a:lnTo>
                <a:lnTo>
                  <a:pt x="1400" y="1400"/>
                </a:lnTo>
                <a:close/>
              </a:path>
              <a:path fill="darken" w="38400" h="21600">
                <a:moveTo>
                  <a:pt x="38400" y="0"/>
                </a:moveTo>
                <a:lnTo>
                  <a:pt x="38400" y="21600"/>
                </a:lnTo>
                <a:lnTo>
                  <a:pt x="37000" y="20200"/>
                </a:lnTo>
                <a:lnTo>
                  <a:pt x="37000" y="1400"/>
                </a:lnTo>
                <a:close/>
              </a:path>
              <a:path fill="darkenLess" w="38400" h="21600">
                <a:moveTo>
                  <a:pt x="38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00" y="20200"/>
                </a:lnTo>
                <a:close/>
              </a:path>
              <a:path fill="lighten" w="38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00" h="21600">
                <a:moveTo>
                  <a:pt x="22699" y="10800"/>
                </a:moveTo>
                <a:lnTo>
                  <a:pt x="12194" y="17806"/>
                </a:lnTo>
                <a:lnTo>
                  <a:pt x="12194" y="3794"/>
                </a:lnTo>
                <a:close/>
              </a:path>
              <a:path fill="darken" w="38400" h="21600">
                <a:moveTo>
                  <a:pt x="24544" y="3794"/>
                </a:moveTo>
                <a:lnTo>
                  <a:pt x="24544" y="17806"/>
                </a:lnTo>
                <a:lnTo>
                  <a:pt x="26206" y="17806"/>
                </a:lnTo>
                <a:lnTo>
                  <a:pt x="26206" y="3794"/>
                </a:lnTo>
                <a:close/>
              </a:path>
            </a:pathLst>
          </a:custGeom>
          <a:solidFill>
            <a:srgbClr val="c9ddf1"/>
          </a:solidFill>
          <a:ln cap="sq"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1219320" y="152280"/>
            <a:ext cx="3581280" cy="685800"/>
            <a:chOff x="1219320" y="152280"/>
            <a:chExt cx="3581280" cy="685800"/>
          </a:xfrm>
        </p:grpSpPr>
        <p:sp>
          <p:nvSpPr>
            <p:cNvPr id="435" name=""/>
            <p:cNvSpPr/>
            <p:nvPr/>
          </p:nvSpPr>
          <p:spPr>
            <a:xfrm>
              <a:off x="1219320" y="199800"/>
              <a:ext cx="2361960" cy="581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5b5249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2400" spc="-1" strike="noStrike">
                  <a:solidFill>
                    <a:srgbClr val="5b5249"/>
                  </a:solidFill>
                  <a:latin typeface="Times New Roman"/>
                  <a:ea typeface="隶书"/>
                </a:rPr>
                <a:t>独立作业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200400" y="190440"/>
              <a:ext cx="290520" cy="459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BatangChe"/>
                </a:rPr>
                <a:t>2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pic>
          <p:nvPicPr>
            <p:cNvPr id="437" name="" descr=""/>
            <p:cNvPicPr/>
            <p:nvPr/>
          </p:nvPicPr>
          <p:blipFill>
            <a:blip r:embed="rId3"/>
            <a:stretch/>
          </p:blipFill>
          <p:spPr>
            <a:xfrm>
              <a:off x="3581280" y="15228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" descr="">
              <a:hlinkClick r:id="" action="ppaction://hlinkshowjump?jump=lastslide"/>
            </p:cNvPr>
            <p:cNvPicPr/>
            <p:nvPr/>
          </p:nvPicPr>
          <p:blipFill>
            <a:blip r:embed="rId4"/>
            <a:stretch/>
          </p:blipFill>
          <p:spPr>
            <a:xfrm>
              <a:off x="1219320" y="30456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9" name=""/>
          <p:cNvGrpSpPr/>
          <p:nvPr/>
        </p:nvGrpSpPr>
        <p:grpSpPr>
          <a:xfrm>
            <a:off x="6781680" y="4489560"/>
            <a:ext cx="2362320" cy="1834920"/>
            <a:chOff x="6781680" y="4489560"/>
            <a:chExt cx="2362320" cy="1834920"/>
          </a:xfrm>
        </p:grpSpPr>
        <p:pic>
          <p:nvPicPr>
            <p:cNvPr id="440" name="" descr=""/>
            <p:cNvPicPr/>
            <p:nvPr/>
          </p:nvPicPr>
          <p:blipFill>
            <a:blip r:embed="rId5"/>
            <a:stretch/>
          </p:blipFill>
          <p:spPr>
            <a:xfrm>
              <a:off x="6781680" y="4489560"/>
              <a:ext cx="2362320" cy="18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"/>
            <p:cNvSpPr/>
            <p:nvPr/>
          </p:nvSpPr>
          <p:spPr>
            <a:xfrm>
              <a:off x="7238880" y="522576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b5249"/>
                  </a:solidFill>
                  <a:latin typeface="Times New Roman"/>
                </a:rPr>
                <a:t>驶向胜利的彼岸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609480" y="83808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2.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为筹办一个大型运动会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,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某市政府打算修建一个大型体育中心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.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在选址过程中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,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有人建议该体育中心所在位置应当与该城市的三个城镇中心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(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如图中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P,Q,R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表示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)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的距离相等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5410080"/>
            <a:ext cx="6324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老师期望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养成用数学解释生活的习惯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1219320" y="1981080"/>
            <a:ext cx="6999120" cy="1828800"/>
            <a:chOff x="1219320" y="1981080"/>
            <a:chExt cx="6999120" cy="1828800"/>
          </a:xfrm>
        </p:grpSpPr>
        <p:grpSp>
          <p:nvGrpSpPr>
            <p:cNvPr id="445" name=""/>
            <p:cNvGrpSpPr/>
            <p:nvPr/>
          </p:nvGrpSpPr>
          <p:grpSpPr>
            <a:xfrm>
              <a:off x="1219320" y="1981080"/>
              <a:ext cx="2590560" cy="1828800"/>
              <a:chOff x="1219320" y="1981080"/>
              <a:chExt cx="2590560" cy="1828800"/>
            </a:xfrm>
          </p:grpSpPr>
          <p:sp>
            <p:nvSpPr>
              <p:cNvPr id="446" name=""/>
              <p:cNvSpPr/>
              <p:nvPr/>
            </p:nvSpPr>
            <p:spPr>
              <a:xfrm>
                <a:off x="2057400" y="198108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5b5249"/>
                    </a:solidFill>
                    <a:latin typeface="Times New Roman"/>
                  </a:rPr>
                  <a:t>P</a:t>
                </a:r>
                <a:r>
                  <a:rPr b="0" lang="en-US" sz="1200" spc="-1" strike="noStrike">
                    <a:solidFill>
                      <a:srgbClr val="5b5249"/>
                    </a:solidFill>
                    <a:latin typeface="Times New Roman"/>
                  </a:rPr>
                  <a:t>●</a:t>
                </a:r>
                <a:endParaRPr b="0" lang="en-US" sz="12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219320" y="304776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5b5249"/>
                    </a:solidFill>
                    <a:latin typeface="Times New Roman"/>
                  </a:rPr>
                  <a:t>Q</a:t>
                </a:r>
                <a:r>
                  <a:rPr b="0" lang="en-US" sz="1200" spc="-1" strike="noStrike">
                    <a:solidFill>
                      <a:srgbClr val="5b5249"/>
                    </a:solidFill>
                    <a:latin typeface="Times New Roman"/>
                  </a:rPr>
                  <a:t>●</a:t>
                </a:r>
                <a:endParaRPr b="0" lang="en-US" sz="12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219320" y="1981080"/>
                <a:ext cx="2590560" cy="1828800"/>
              </a:xfrm>
              <a:prstGeom prst="rect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048120" y="320004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5b5249"/>
                    </a:solidFill>
                    <a:latin typeface="Times New Roman"/>
                  </a:rPr>
                  <a:t>R</a:t>
                </a:r>
                <a:r>
                  <a:rPr b="0" lang="en-US" sz="1200" spc="-1" strike="noStrike">
                    <a:solidFill>
                      <a:srgbClr val="5b5249"/>
                    </a:solidFill>
                    <a:latin typeface="Times New Roman"/>
                  </a:rPr>
                  <a:t>●</a:t>
                </a:r>
                <a:endParaRPr b="0" lang="en-US" sz="12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450" name=""/>
            <p:cNvSpPr/>
            <p:nvPr/>
          </p:nvSpPr>
          <p:spPr>
            <a:xfrm>
              <a:off x="5715000" y="213336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P</a:t>
              </a:r>
              <a:r>
                <a:rPr b="0" lang="en-US" sz="1200" spc="-1" strike="noStrike">
                  <a:solidFill>
                    <a:srgbClr val="5b5249"/>
                  </a:solidFill>
                  <a:latin typeface="Times New Roman"/>
                </a:rPr>
                <a:t>●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876920" y="304776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Q</a:t>
              </a:r>
              <a:r>
                <a:rPr b="0" lang="en-US" sz="1200" spc="-1" strike="noStrike">
                  <a:solidFill>
                    <a:srgbClr val="5b5249"/>
                  </a:solidFill>
                  <a:latin typeface="Times New Roman"/>
                </a:rPr>
                <a:t>●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76920" y="1981080"/>
              <a:ext cx="2590560" cy="1828800"/>
            </a:xfrm>
            <a:prstGeom prst="rect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781680" y="251424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R</a:t>
              </a:r>
              <a:r>
                <a:rPr b="0" lang="en-US" sz="1200" spc="-1" strike="noStrike">
                  <a:solidFill>
                    <a:srgbClr val="5b5249"/>
                  </a:solidFill>
                  <a:latin typeface="Times New Roman"/>
                </a:rPr>
                <a:t>●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809880" y="26668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(1)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456320" y="26668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(2)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609480" y="3809880"/>
            <a:ext cx="838224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(1).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根据上述建议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,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试在图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(1)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中画出体育中心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G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的位置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09480" y="4316400"/>
            <a:ext cx="83822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(2).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如果这三个城镇的位置如图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(2)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所示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,∠RPQ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是一个钝角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,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那么根据上述建议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,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体育中心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G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应在什么位置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?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57200" y="5076720"/>
            <a:ext cx="83818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(3). 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你对上述建议有何评论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?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你对选址有什么建议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?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809880" y="120240"/>
            <a:ext cx="502920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100" spc="-1" strike="noStrike">
                <a:solidFill>
                  <a:srgbClr val="5b5249"/>
                </a:solidFill>
                <a:latin typeface="Times New Roman"/>
                <a:ea typeface="隶书"/>
              </a:rPr>
              <a:t>结束寄语</a:t>
            </a:r>
            <a:endParaRPr b="0" lang="en-US" sz="51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37124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a50021"/>
              </a:buClr>
              <a:buSzPct val="75000"/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隶书"/>
                <a:ea typeface="隶书"/>
              </a:rPr>
              <a:t>严格性之于数学家</a:t>
            </a:r>
            <a:r>
              <a:rPr b="0" lang="zh-CN" sz="4000" spc="-1" strike="noStrike">
                <a:solidFill>
                  <a:srgbClr val="5b5249"/>
                </a:solidFill>
                <a:latin typeface="隶书"/>
                <a:ea typeface="隶书"/>
              </a:rPr>
              <a:t>,</a:t>
            </a:r>
            <a:r>
              <a:rPr b="0" lang="zh-CN" sz="4000" spc="-1" strike="noStrike">
                <a:solidFill>
                  <a:srgbClr val="5b5249"/>
                </a:solidFill>
                <a:latin typeface="隶书"/>
                <a:ea typeface="隶书"/>
              </a:rPr>
              <a:t>犹如道德之于人</a:t>
            </a:r>
            <a:r>
              <a:rPr b="0" lang="zh-CN" sz="4000" spc="-1" strike="noStrike">
                <a:solidFill>
                  <a:srgbClr val="5b5249"/>
                </a:solidFill>
                <a:latin typeface="隶书"/>
                <a:ea typeface="隶书"/>
              </a:rPr>
              <a:t>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a50021"/>
              </a:buClr>
              <a:buSzPct val="75000"/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隶书"/>
                <a:ea typeface="隶书"/>
              </a:rPr>
              <a:t>证明的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规范性</a:t>
            </a:r>
            <a:r>
              <a:rPr b="0" lang="zh-CN" sz="4000" spc="-1" strike="noStrike">
                <a:solidFill>
                  <a:srgbClr val="5b5249"/>
                </a:solidFill>
                <a:latin typeface="隶书"/>
                <a:ea typeface="隶书"/>
              </a:rPr>
              <a:t>在于：条理清晰，因果相应</a:t>
            </a:r>
            <a:r>
              <a:rPr b="0" lang="zh-CN" sz="4000" spc="-1" strike="noStrike">
                <a:solidFill>
                  <a:srgbClr val="5b5249"/>
                </a:solidFill>
                <a:latin typeface="隶书"/>
                <a:ea typeface="隶书"/>
              </a:rPr>
              <a:t>,</a:t>
            </a:r>
            <a:r>
              <a:rPr b="0" lang="zh-CN" sz="4000" spc="-1" strike="noStrike">
                <a:solidFill>
                  <a:srgbClr val="5b5249"/>
                </a:solidFill>
                <a:latin typeface="隶书"/>
                <a:ea typeface="隶书"/>
              </a:rPr>
              <a:t>言必有据</a:t>
            </a:r>
            <a:r>
              <a:rPr b="0" lang="zh-CN" sz="4000" spc="-1" strike="noStrike">
                <a:solidFill>
                  <a:srgbClr val="5b5249"/>
                </a:solidFill>
                <a:latin typeface="隶书"/>
                <a:ea typeface="隶书"/>
              </a:rPr>
              <a:t>.</a:t>
            </a:r>
            <a:r>
              <a:rPr b="0" lang="zh-CN" sz="4000" spc="-1" strike="noStrike">
                <a:solidFill>
                  <a:srgbClr val="5b5249"/>
                </a:solidFill>
                <a:latin typeface="隶书"/>
                <a:ea typeface="隶书"/>
              </a:rPr>
              <a:t>这是初学证明者谨记和遵循的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原则</a:t>
            </a:r>
            <a:r>
              <a:rPr b="0" lang="zh-CN" sz="4000" spc="-1" strike="noStrike">
                <a:solidFill>
                  <a:srgbClr val="5b5249"/>
                </a:solidFill>
                <a:latin typeface="隶书"/>
                <a:ea typeface="隶书"/>
              </a:rPr>
              <a:t>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1239840" y="0"/>
            <a:ext cx="2646360" cy="1547640"/>
            <a:chOff x="1239840" y="0"/>
            <a:chExt cx="2646360" cy="1547640"/>
          </a:xfrm>
        </p:grpSpPr>
        <p:pic>
          <p:nvPicPr>
            <p:cNvPr id="462" name="" descr=""/>
            <p:cNvPicPr/>
            <p:nvPr/>
          </p:nvPicPr>
          <p:blipFill>
            <a:blip r:embed="rId1"/>
            <a:stretch/>
          </p:blipFill>
          <p:spPr>
            <a:xfrm>
              <a:off x="2687760" y="0"/>
              <a:ext cx="1198440" cy="1547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63" name=""/>
            <p:cNvGrpSpPr/>
            <p:nvPr/>
          </p:nvGrpSpPr>
          <p:grpSpPr>
            <a:xfrm>
              <a:off x="1239840" y="42840"/>
              <a:ext cx="1676520" cy="1191960"/>
              <a:chOff x="1239840" y="42840"/>
              <a:chExt cx="1676520" cy="1191960"/>
            </a:xfrm>
          </p:grpSpPr>
          <p:sp>
            <p:nvSpPr>
              <p:cNvPr id="464" name=""/>
              <p:cNvSpPr/>
              <p:nvPr/>
            </p:nvSpPr>
            <p:spPr>
              <a:xfrm>
                <a:off x="1239840" y="67320"/>
                <a:ext cx="1638000" cy="116748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258560" y="42840"/>
                <a:ext cx="16578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466" name=""/>
            <p:cNvSpPr/>
            <p:nvPr/>
          </p:nvSpPr>
          <p:spPr>
            <a:xfrm>
              <a:off x="1392120" y="380880"/>
              <a:ext cx="152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下课了</a:t>
              </a:r>
              <a:r>
                <a:rPr b="0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!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2362320" y="4343400"/>
            <a:ext cx="5333400" cy="2133000"/>
            <a:chOff x="2362320" y="4343400"/>
            <a:chExt cx="5333400" cy="2133000"/>
          </a:xfrm>
        </p:grpSpPr>
        <p:grpSp>
          <p:nvGrpSpPr>
            <p:cNvPr id="468" name=""/>
            <p:cNvGrpSpPr/>
            <p:nvPr/>
          </p:nvGrpSpPr>
          <p:grpSpPr>
            <a:xfrm>
              <a:off x="2362320" y="4343400"/>
              <a:ext cx="5333400" cy="2133000"/>
              <a:chOff x="2362320" y="4343400"/>
              <a:chExt cx="5333400" cy="2133000"/>
            </a:xfrm>
          </p:grpSpPr>
          <p:sp>
            <p:nvSpPr>
              <p:cNvPr id="469" name=""/>
              <p:cNvSpPr/>
              <p:nvPr/>
            </p:nvSpPr>
            <p:spPr>
              <a:xfrm>
                <a:off x="2362320" y="4343400"/>
                <a:ext cx="5333400" cy="2133000"/>
              </a:xfrm>
              <a:prstGeom prst="horizontalScrol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eded"/>
                  </a:gs>
                </a:gsLst>
                <a:lin ang="10800000"/>
              </a:gra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6000" spc="-1" strike="noStrike">
                    <a:solidFill>
                      <a:srgbClr val="5b5249"/>
                    </a:solidFill>
                    <a:latin typeface="Times New Roman"/>
                    <a:ea typeface="华文行楷"/>
                  </a:rPr>
                  <a:t>  </a:t>
                </a:r>
                <a:endParaRPr b="0" lang="en-US" sz="6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pic>
            <p:nvPicPr>
              <p:cNvPr id="47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799240" y="4871160"/>
                <a:ext cx="879120" cy="1011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71" name=""/>
            <p:cNvGrpSpPr/>
            <p:nvPr/>
          </p:nvGrpSpPr>
          <p:grpSpPr>
            <a:xfrm>
              <a:off x="3048120" y="4647960"/>
              <a:ext cx="2971800" cy="1524240"/>
              <a:chOff x="3048120" y="4647960"/>
              <a:chExt cx="2971800" cy="1524240"/>
            </a:xfrm>
          </p:grpSpPr>
          <p:sp>
            <p:nvSpPr>
              <p:cNvPr id="472" name=""/>
              <p:cNvSpPr txBox="1"/>
              <p:nvPr/>
            </p:nvSpPr>
            <p:spPr>
              <a:xfrm>
                <a:off x="3048120" y="4647960"/>
                <a:ext cx="2971800" cy="15242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FadeRight">
                  <a:avLst>
                    <a:gd name="adj" fmla="val 33333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0000"/>
                    </a:solidFill>
                    <a:latin typeface="宋体"/>
                  </a:rPr>
                  <a:t>再    见</a:t>
                </a:r>
                <a:endParaRPr b="0" lang="en-US" sz="24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ff0000"/>
                  </a:solidFill>
                  <a:latin typeface="宋体"/>
                  <a:ea typeface="宋体"/>
                </a:endParaRPr>
              </a:p>
            </p:txBody>
          </p:sp>
          <p:pic>
            <p:nvPicPr>
              <p:cNvPr id="47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819600" y="4724280"/>
                <a:ext cx="676080" cy="129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648320" y="4800600"/>
                <a:ext cx="652320" cy="11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475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6781680" y="4572000"/>
            <a:ext cx="2362320" cy="1835280"/>
            <a:chOff x="6781680" y="4572000"/>
            <a:chExt cx="2362320" cy="1835280"/>
          </a:xfrm>
        </p:grpSpPr>
        <p:pic>
          <p:nvPicPr>
            <p:cNvPr id="110" name="" descr=""/>
            <p:cNvPicPr/>
            <p:nvPr/>
          </p:nvPicPr>
          <p:blipFill>
            <a:blip r:embed="rId1"/>
            <a:stretch/>
          </p:blipFill>
          <p:spPr>
            <a:xfrm>
              <a:off x="6781680" y="4572000"/>
              <a:ext cx="23623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7238880" y="530856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b5249"/>
                  </a:solidFill>
                  <a:latin typeface="Times New Roman"/>
                </a:rPr>
                <a:t>驶向胜利的彼岸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419720" y="228240"/>
            <a:ext cx="4572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  <a:ea typeface="隶书"/>
              </a:rPr>
              <a:t>线段的垂直平分线的作法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3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602560" y="6400800"/>
            <a:ext cx="389160" cy="378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22168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4" action="ppaction://hlinksldjump"/>
          </p:cNvPr>
          <p:cNvSpPr/>
          <p:nvPr/>
        </p:nvSpPr>
        <p:spPr>
          <a:xfrm>
            <a:off x="7612200" y="6400800"/>
            <a:ext cx="598320" cy="336600"/>
          </a:xfrm>
          <a:custGeom>
            <a:avLst/>
            <a:gdLst>
              <a:gd name="textAreaLeft" fmla="*/ 21600 w 598320"/>
              <a:gd name="textAreaRight" fmla="*/ 576720 w 59832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38377" h="21600">
                <a:moveTo>
                  <a:pt x="0" y="0"/>
                </a:moveTo>
                <a:lnTo>
                  <a:pt x="38377" y="0"/>
                </a:lnTo>
                <a:lnTo>
                  <a:pt x="38377" y="21600"/>
                </a:lnTo>
                <a:lnTo>
                  <a:pt x="0" y="21600"/>
                </a:lnTo>
                <a:close/>
              </a:path>
              <a:path fill="lightenLess" w="38377" h="21600">
                <a:moveTo>
                  <a:pt x="0" y="0"/>
                </a:moveTo>
                <a:lnTo>
                  <a:pt x="38377" y="0"/>
                </a:lnTo>
                <a:lnTo>
                  <a:pt x="36977" y="1400"/>
                </a:lnTo>
                <a:lnTo>
                  <a:pt x="1400" y="1400"/>
                </a:lnTo>
                <a:close/>
              </a:path>
              <a:path fill="darken" w="38377" h="21600">
                <a:moveTo>
                  <a:pt x="38377" y="0"/>
                </a:moveTo>
                <a:lnTo>
                  <a:pt x="38377" y="21600"/>
                </a:lnTo>
                <a:lnTo>
                  <a:pt x="36977" y="20200"/>
                </a:lnTo>
                <a:lnTo>
                  <a:pt x="36977" y="1400"/>
                </a:lnTo>
                <a:close/>
              </a:path>
              <a:path fill="darkenLess" w="38377" h="21600">
                <a:moveTo>
                  <a:pt x="383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77" y="20200"/>
                </a:lnTo>
                <a:close/>
              </a:path>
              <a:path fill="lighten" w="383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377" h="21600">
                <a:moveTo>
                  <a:pt x="22687" y="10800"/>
                </a:moveTo>
                <a:lnTo>
                  <a:pt x="12182" y="17806"/>
                </a:lnTo>
                <a:lnTo>
                  <a:pt x="12182" y="3794"/>
                </a:lnTo>
                <a:close/>
              </a:path>
              <a:path fill="darken" w="38377" h="21600">
                <a:moveTo>
                  <a:pt x="24533" y="3794"/>
                </a:moveTo>
                <a:lnTo>
                  <a:pt x="24533" y="17806"/>
                </a:lnTo>
                <a:lnTo>
                  <a:pt x="26195" y="17806"/>
                </a:lnTo>
                <a:lnTo>
                  <a:pt x="26195" y="3794"/>
                </a:lnTo>
                <a:close/>
              </a:path>
            </a:pathLst>
          </a:custGeom>
          <a:solidFill>
            <a:srgbClr val="c9ddf1"/>
          </a:solidFill>
          <a:ln cap="sq"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1600200"/>
            <a:ext cx="53337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fac16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已知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线段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AB,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如图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ac16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求作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线段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AB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的垂直平分线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ac16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作法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9288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用尺规作线段的垂直平分线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3048120"/>
            <a:ext cx="5029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fac16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分别以点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为圆心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以大于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AB/2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长为半径作弧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两弧交于点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5943600" y="2590920"/>
            <a:ext cx="2514600" cy="459720"/>
            <a:chOff x="5943600" y="2590920"/>
            <a:chExt cx="2514600" cy="459720"/>
          </a:xfrm>
        </p:grpSpPr>
        <p:sp>
          <p:nvSpPr>
            <p:cNvPr id="120" name=""/>
            <p:cNvSpPr/>
            <p:nvPr/>
          </p:nvSpPr>
          <p:spPr>
            <a:xfrm>
              <a:off x="5943600" y="2590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077320" y="2590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248520" y="2666880"/>
              <a:ext cx="182880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6564960" y="1143000"/>
            <a:ext cx="1295640" cy="3126600"/>
            <a:chOff x="6564960" y="1143000"/>
            <a:chExt cx="1295640" cy="3126600"/>
          </a:xfrm>
        </p:grpSpPr>
        <p:sp>
          <p:nvSpPr>
            <p:cNvPr id="124" name=""/>
            <p:cNvSpPr/>
            <p:nvPr/>
          </p:nvSpPr>
          <p:spPr>
            <a:xfrm>
              <a:off x="6858000" y="1143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705720" y="38098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6564960" y="1522440"/>
              <a:ext cx="1295640" cy="2320200"/>
              <a:chOff x="6564960" y="1522440"/>
              <a:chExt cx="1295640" cy="2320200"/>
            </a:xfrm>
          </p:grpSpPr>
          <p:sp>
            <p:nvSpPr>
              <p:cNvPr id="127" name=""/>
              <p:cNvSpPr/>
              <p:nvPr/>
            </p:nvSpPr>
            <p:spPr>
              <a:xfrm>
                <a:off x="6566400" y="1522440"/>
                <a:ext cx="761040" cy="761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946920" y="1522440"/>
                <a:ext cx="913680" cy="761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6564960" y="3080880"/>
                <a:ext cx="761040" cy="761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flipV="1">
                <a:off x="6945480" y="3080880"/>
                <a:ext cx="913680" cy="761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1" name=""/>
          <p:cNvSpPr/>
          <p:nvPr/>
        </p:nvSpPr>
        <p:spPr>
          <a:xfrm>
            <a:off x="7162920" y="914400"/>
            <a:ext cx="0" cy="350532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80988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fac16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2.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作直线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CD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4191120"/>
            <a:ext cx="5410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fac16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则直线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CD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就是线段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AB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的垂直平分线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4724280"/>
            <a:ext cx="5638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请你说明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CD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为什么是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AB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的垂直平分线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并与同伴进行交流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5410080"/>
            <a:ext cx="5943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老师提示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: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因为直线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CD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与线段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AB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的交点就是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AB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的中点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所以我们也用这种方法作线段的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中点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762120" y="-136800"/>
            <a:ext cx="3124080" cy="1095480"/>
            <a:chOff x="762120" y="-136800"/>
            <a:chExt cx="3124080" cy="1095480"/>
          </a:xfrm>
        </p:grpSpPr>
        <p:sp>
          <p:nvSpPr>
            <p:cNvPr id="137" name=""/>
            <p:cNvSpPr/>
            <p:nvPr/>
          </p:nvSpPr>
          <p:spPr>
            <a:xfrm>
              <a:off x="762120" y="0"/>
              <a:ext cx="3124080" cy="958680"/>
            </a:xfrm>
            <a:prstGeom prst="horizontalScroll">
              <a:avLst>
                <a:gd name="adj" fmla="val 12500"/>
              </a:avLst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pic>
          <p:nvPicPr>
            <p:cNvPr id="138" name="" descr=""/>
            <p:cNvPicPr/>
            <p:nvPr/>
          </p:nvPicPr>
          <p:blipFill>
            <a:blip r:embed="rId6"/>
            <a:stretch/>
          </p:blipFill>
          <p:spPr>
            <a:xfrm>
              <a:off x="1828800" y="181080"/>
              <a:ext cx="83772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914400" y="-136800"/>
              <a:ext cx="27428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回顾        思考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6781680" y="4572000"/>
            <a:ext cx="2362320" cy="1835280"/>
            <a:chOff x="6781680" y="4572000"/>
            <a:chExt cx="2362320" cy="1835280"/>
          </a:xfrm>
        </p:grpSpPr>
        <p:pic>
          <p:nvPicPr>
            <p:cNvPr id="141" name="" descr=""/>
            <p:cNvPicPr/>
            <p:nvPr/>
          </p:nvPicPr>
          <p:blipFill>
            <a:blip r:embed="rId1"/>
            <a:stretch/>
          </p:blipFill>
          <p:spPr>
            <a:xfrm>
              <a:off x="6781680" y="4572000"/>
              <a:ext cx="23623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7238880" y="530856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b5249"/>
                  </a:solidFill>
                  <a:latin typeface="Times New Roman"/>
                </a:rPr>
                <a:t>驶向胜利的彼岸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724280" y="60480"/>
            <a:ext cx="4191120" cy="13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  <a:ea typeface="隶书"/>
              </a:rPr>
              <a:t>线段的垂直平分线的性质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44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602560" y="6400800"/>
            <a:ext cx="389160" cy="378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22168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146" name="">
            <a:hlinkClick r:id="rId4" action="ppaction://hlinksldjump"/>
          </p:cNvPr>
          <p:cNvSpPr/>
          <p:nvPr/>
        </p:nvSpPr>
        <p:spPr>
          <a:xfrm>
            <a:off x="7612200" y="6400800"/>
            <a:ext cx="598320" cy="336600"/>
          </a:xfrm>
          <a:custGeom>
            <a:avLst/>
            <a:gdLst>
              <a:gd name="textAreaLeft" fmla="*/ 21600 w 598320"/>
              <a:gd name="textAreaRight" fmla="*/ 576720 w 59832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38377" h="21600">
                <a:moveTo>
                  <a:pt x="0" y="0"/>
                </a:moveTo>
                <a:lnTo>
                  <a:pt x="38377" y="0"/>
                </a:lnTo>
                <a:lnTo>
                  <a:pt x="38377" y="21600"/>
                </a:lnTo>
                <a:lnTo>
                  <a:pt x="0" y="21600"/>
                </a:lnTo>
                <a:close/>
              </a:path>
              <a:path fill="lightenLess" w="38377" h="21600">
                <a:moveTo>
                  <a:pt x="0" y="0"/>
                </a:moveTo>
                <a:lnTo>
                  <a:pt x="38377" y="0"/>
                </a:lnTo>
                <a:lnTo>
                  <a:pt x="36977" y="1400"/>
                </a:lnTo>
                <a:lnTo>
                  <a:pt x="1400" y="1400"/>
                </a:lnTo>
                <a:close/>
              </a:path>
              <a:path fill="darken" w="38377" h="21600">
                <a:moveTo>
                  <a:pt x="38377" y="0"/>
                </a:moveTo>
                <a:lnTo>
                  <a:pt x="38377" y="21600"/>
                </a:lnTo>
                <a:lnTo>
                  <a:pt x="36977" y="20200"/>
                </a:lnTo>
                <a:lnTo>
                  <a:pt x="36977" y="1400"/>
                </a:lnTo>
                <a:close/>
              </a:path>
              <a:path fill="darkenLess" w="38377" h="21600">
                <a:moveTo>
                  <a:pt x="383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77" y="20200"/>
                </a:lnTo>
                <a:close/>
              </a:path>
              <a:path fill="lighten" w="383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377" h="21600">
                <a:moveTo>
                  <a:pt x="22687" y="10800"/>
                </a:moveTo>
                <a:lnTo>
                  <a:pt x="12182" y="17806"/>
                </a:lnTo>
                <a:lnTo>
                  <a:pt x="12182" y="3794"/>
                </a:lnTo>
                <a:close/>
              </a:path>
              <a:path fill="darken" w="38377" h="21600">
                <a:moveTo>
                  <a:pt x="24533" y="3794"/>
                </a:moveTo>
                <a:lnTo>
                  <a:pt x="24533" y="17806"/>
                </a:lnTo>
                <a:lnTo>
                  <a:pt x="26195" y="17806"/>
                </a:lnTo>
                <a:lnTo>
                  <a:pt x="26195" y="3794"/>
                </a:lnTo>
                <a:close/>
              </a:path>
            </a:pathLst>
          </a:custGeom>
          <a:solidFill>
            <a:srgbClr val="c9ddf1"/>
          </a:solidFill>
          <a:ln cap="sq"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114300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定理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 线段垂直平分线上的点到这条线段两个端点距离相等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2120" y="510552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老师提示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: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这个结论是经常用来证明两条线段相等的根据之一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638680" y="1752480"/>
            <a:ext cx="3048120" cy="2898000"/>
            <a:chOff x="5638680" y="1752480"/>
            <a:chExt cx="3048120" cy="2898000"/>
          </a:xfrm>
        </p:grpSpPr>
        <p:sp>
          <p:nvSpPr>
            <p:cNvPr id="150" name=""/>
            <p:cNvSpPr/>
            <p:nvPr/>
          </p:nvSpPr>
          <p:spPr>
            <a:xfrm>
              <a:off x="5638680" y="35049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162560" y="3581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229600" y="35049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162560" y="3504960"/>
              <a:ext cx="15264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315200" y="3504960"/>
              <a:ext cx="0" cy="15264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38880" y="2057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705360" y="1752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781680" y="41907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162560" y="1904760"/>
              <a:ext cx="0" cy="259092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095880" y="3657600"/>
              <a:ext cx="213372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29400" y="3581280"/>
              <a:ext cx="0" cy="2286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619760" y="3581280"/>
              <a:ext cx="0" cy="2286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6095520" y="2286000"/>
              <a:ext cx="1066680" cy="13716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162560" y="2286000"/>
              <a:ext cx="1067040" cy="13716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762120" y="2133720"/>
            <a:ext cx="487656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如图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,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∵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AC=BC,MN⊥AB,P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是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MN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上任意一点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(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已知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),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∴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PA=PB(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线段垂直平分线上的点到这条线段两个端点距离相等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)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762120" y="123480"/>
            <a:ext cx="3124080" cy="1095480"/>
            <a:chOff x="762120" y="123480"/>
            <a:chExt cx="3124080" cy="1095480"/>
          </a:xfrm>
        </p:grpSpPr>
        <p:sp>
          <p:nvSpPr>
            <p:cNvPr id="166" name=""/>
            <p:cNvSpPr/>
            <p:nvPr/>
          </p:nvSpPr>
          <p:spPr>
            <a:xfrm>
              <a:off x="762120" y="260280"/>
              <a:ext cx="3124080" cy="958680"/>
            </a:xfrm>
            <a:prstGeom prst="horizontalScroll">
              <a:avLst>
                <a:gd name="adj" fmla="val 12500"/>
              </a:avLst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pic>
          <p:nvPicPr>
            <p:cNvPr id="167" name="" descr=""/>
            <p:cNvPicPr/>
            <p:nvPr/>
          </p:nvPicPr>
          <p:blipFill>
            <a:blip r:embed="rId6"/>
            <a:stretch/>
          </p:blipFill>
          <p:spPr>
            <a:xfrm>
              <a:off x="1828800" y="441360"/>
              <a:ext cx="83772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914400" y="123480"/>
              <a:ext cx="27428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回顾        思考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"/>
          <p:cNvGrpSpPr/>
          <p:nvPr/>
        </p:nvGrpSpPr>
        <p:grpSpPr>
          <a:xfrm>
            <a:off x="6781680" y="4572000"/>
            <a:ext cx="2362320" cy="1835280"/>
            <a:chOff x="6781680" y="4572000"/>
            <a:chExt cx="2362320" cy="1835280"/>
          </a:xfrm>
        </p:grpSpPr>
        <p:pic>
          <p:nvPicPr>
            <p:cNvPr id="170" name="" descr=""/>
            <p:cNvPicPr/>
            <p:nvPr/>
          </p:nvPicPr>
          <p:blipFill>
            <a:blip r:embed="rId1"/>
            <a:stretch/>
          </p:blipFill>
          <p:spPr>
            <a:xfrm>
              <a:off x="6781680" y="4572000"/>
              <a:ext cx="23623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7238880" y="530856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b5249"/>
                  </a:solidFill>
                  <a:latin typeface="Times New Roman"/>
                </a:rPr>
                <a:t>驶向胜利的彼岸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38480" y="76320"/>
            <a:ext cx="5029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  <a:ea typeface="隶书"/>
              </a:rPr>
              <a:t>线段的垂直平分线的性质定理的</a:t>
            </a:r>
            <a:r>
              <a:rPr b="1" lang="zh-CN" sz="4000" spc="-1" strike="noStrike">
                <a:solidFill>
                  <a:srgbClr val="5b5249"/>
                </a:solidFill>
                <a:latin typeface="Times New Roman"/>
                <a:ea typeface="隶书"/>
              </a:rPr>
              <a:t>逆定理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73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602560" y="6400800"/>
            <a:ext cx="389160" cy="378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22168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175" name="">
            <a:hlinkClick r:id="rId4" action="ppaction://hlinksldjump"/>
          </p:cNvPr>
          <p:cNvSpPr/>
          <p:nvPr/>
        </p:nvSpPr>
        <p:spPr>
          <a:xfrm>
            <a:off x="7612200" y="6400800"/>
            <a:ext cx="598320" cy="336600"/>
          </a:xfrm>
          <a:custGeom>
            <a:avLst/>
            <a:gdLst>
              <a:gd name="textAreaLeft" fmla="*/ 21600 w 598320"/>
              <a:gd name="textAreaRight" fmla="*/ 576720 w 59832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38377" h="21600">
                <a:moveTo>
                  <a:pt x="0" y="0"/>
                </a:moveTo>
                <a:lnTo>
                  <a:pt x="38377" y="0"/>
                </a:lnTo>
                <a:lnTo>
                  <a:pt x="38377" y="21600"/>
                </a:lnTo>
                <a:lnTo>
                  <a:pt x="0" y="21600"/>
                </a:lnTo>
                <a:close/>
              </a:path>
              <a:path fill="lightenLess" w="38377" h="21600">
                <a:moveTo>
                  <a:pt x="0" y="0"/>
                </a:moveTo>
                <a:lnTo>
                  <a:pt x="38377" y="0"/>
                </a:lnTo>
                <a:lnTo>
                  <a:pt x="36977" y="1400"/>
                </a:lnTo>
                <a:lnTo>
                  <a:pt x="1400" y="1400"/>
                </a:lnTo>
                <a:close/>
              </a:path>
              <a:path fill="darken" w="38377" h="21600">
                <a:moveTo>
                  <a:pt x="38377" y="0"/>
                </a:moveTo>
                <a:lnTo>
                  <a:pt x="38377" y="21600"/>
                </a:lnTo>
                <a:lnTo>
                  <a:pt x="36977" y="20200"/>
                </a:lnTo>
                <a:lnTo>
                  <a:pt x="36977" y="1400"/>
                </a:lnTo>
                <a:close/>
              </a:path>
              <a:path fill="darkenLess" w="38377" h="21600">
                <a:moveTo>
                  <a:pt x="383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77" y="20200"/>
                </a:lnTo>
                <a:close/>
              </a:path>
              <a:path fill="lighten" w="383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377" h="21600">
                <a:moveTo>
                  <a:pt x="22687" y="10800"/>
                </a:moveTo>
                <a:lnTo>
                  <a:pt x="12182" y="17806"/>
                </a:lnTo>
                <a:lnTo>
                  <a:pt x="12182" y="3794"/>
                </a:lnTo>
                <a:close/>
              </a:path>
              <a:path fill="darken" w="38377" h="21600">
                <a:moveTo>
                  <a:pt x="24533" y="3794"/>
                </a:moveTo>
                <a:lnTo>
                  <a:pt x="24533" y="17806"/>
                </a:lnTo>
                <a:lnTo>
                  <a:pt x="26195" y="17806"/>
                </a:lnTo>
                <a:lnTo>
                  <a:pt x="26195" y="3794"/>
                </a:lnTo>
                <a:close/>
              </a:path>
            </a:pathLst>
          </a:custGeom>
          <a:solidFill>
            <a:srgbClr val="c9ddf1"/>
          </a:solidFill>
          <a:ln cap="sq"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1143000"/>
            <a:ext cx="7696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逆定理 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到一条线段两个端点距离相等的点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,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在这条线段的垂直平分线上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19320" y="5410080"/>
            <a:ext cx="58672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5867280" y="2057400"/>
            <a:ext cx="3048120" cy="2898000"/>
            <a:chOff x="5867280" y="2057400"/>
            <a:chExt cx="3048120" cy="2898000"/>
          </a:xfrm>
        </p:grpSpPr>
        <p:sp>
          <p:nvSpPr>
            <p:cNvPr id="179" name=""/>
            <p:cNvSpPr/>
            <p:nvPr/>
          </p:nvSpPr>
          <p:spPr>
            <a:xfrm>
              <a:off x="5867280" y="3809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391160" y="38862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458200" y="3809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91160" y="3809880"/>
              <a:ext cx="15264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543800" y="3809880"/>
              <a:ext cx="0" cy="15264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467480" y="2362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33960" y="2057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010280" y="4495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391160" y="2209680"/>
              <a:ext cx="0" cy="259092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324480" y="3962520"/>
              <a:ext cx="213372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858000" y="3886200"/>
              <a:ext cx="0" cy="2286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848360" y="3886200"/>
              <a:ext cx="0" cy="2286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6324120" y="2590920"/>
              <a:ext cx="1066680" cy="13716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391160" y="2590920"/>
              <a:ext cx="1067040" cy="13716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762120" y="2133720"/>
            <a:ext cx="57909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如图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,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∵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PA=PB(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已知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),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∴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点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P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在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AB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的垂直平分线上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(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到一条线段两个端点距离相等的点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,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在这条线段的垂直平分线上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)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2120" y="4343400"/>
            <a:ext cx="5943600" cy="17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老师提示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: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这个结论是经常用来证明</a:t>
            </a:r>
            <a:r>
              <a:rPr b="0" lang="zh-CN" sz="2800" spc="-1" strike="noStrike">
                <a:solidFill>
                  <a:srgbClr val="0033cc"/>
                </a:solidFill>
                <a:latin typeface="隶书"/>
                <a:ea typeface="隶书"/>
              </a:rPr>
              <a:t>点在直线上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或</a:t>
            </a:r>
            <a:r>
              <a:rPr b="0" lang="zh-CN" sz="2800" spc="-1" strike="noStrike">
                <a:solidFill>
                  <a:srgbClr val="0033cc"/>
                </a:solidFill>
                <a:latin typeface="隶书"/>
                <a:ea typeface="隶书"/>
              </a:rPr>
              <a:t>直线经过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某一</a:t>
            </a:r>
            <a:r>
              <a:rPr b="0" lang="zh-CN" sz="2800" spc="-1" strike="noStrike">
                <a:solidFill>
                  <a:srgbClr val="0033cc"/>
                </a:solidFill>
                <a:latin typeface="隶书"/>
                <a:ea typeface="隶书"/>
              </a:rPr>
              <a:t>点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的根据之一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从这个结果出发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你还能联想到什么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762120" y="123480"/>
            <a:ext cx="3124080" cy="1095480"/>
            <a:chOff x="762120" y="123480"/>
            <a:chExt cx="3124080" cy="1095480"/>
          </a:xfrm>
        </p:grpSpPr>
        <p:sp>
          <p:nvSpPr>
            <p:cNvPr id="196" name=""/>
            <p:cNvSpPr/>
            <p:nvPr/>
          </p:nvSpPr>
          <p:spPr>
            <a:xfrm>
              <a:off x="762120" y="260280"/>
              <a:ext cx="3124080" cy="958680"/>
            </a:xfrm>
            <a:prstGeom prst="horizontalScroll">
              <a:avLst>
                <a:gd name="adj" fmla="val 12500"/>
              </a:avLst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pic>
          <p:nvPicPr>
            <p:cNvPr id="197" name="" descr=""/>
            <p:cNvPicPr/>
            <p:nvPr/>
          </p:nvPicPr>
          <p:blipFill>
            <a:blip r:embed="rId6"/>
            <a:stretch/>
          </p:blipFill>
          <p:spPr>
            <a:xfrm>
              <a:off x="1828800" y="441360"/>
              <a:ext cx="83772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914400" y="123480"/>
              <a:ext cx="27428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回顾        思考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"/>
          <p:cNvGrpSpPr/>
          <p:nvPr/>
        </p:nvGrpSpPr>
        <p:grpSpPr>
          <a:xfrm>
            <a:off x="6781680" y="3733920"/>
            <a:ext cx="2362320" cy="2485800"/>
            <a:chOff x="6781680" y="3733920"/>
            <a:chExt cx="2362320" cy="2485800"/>
          </a:xfrm>
        </p:grpSpPr>
        <p:pic>
          <p:nvPicPr>
            <p:cNvPr id="200" name="" descr=""/>
            <p:cNvPicPr/>
            <p:nvPr/>
          </p:nvPicPr>
          <p:blipFill>
            <a:blip r:embed="rId1"/>
            <a:stretch/>
          </p:blipFill>
          <p:spPr>
            <a:xfrm>
              <a:off x="6781680" y="4384800"/>
              <a:ext cx="2362320" cy="18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7238880" y="373392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b5249"/>
                  </a:solidFill>
                  <a:latin typeface="Times New Roman"/>
                </a:rPr>
                <a:t>驶向胜利的彼岸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343400" y="212400"/>
            <a:ext cx="4495680" cy="12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  <a:ea typeface="隶书"/>
              </a:rPr>
              <a:t>亲历知识的发生和发展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2120" y="1523880"/>
            <a:ext cx="487656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剪一个三角形纸片通过折叠找出每条边的垂直平分线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04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206" name="">
            <a:hlinkClick r:id="rId4" action="ppaction://hlinksldjump"/>
          </p:cNvPr>
          <p:cNvSpPr/>
          <p:nvPr/>
        </p:nvSpPr>
        <p:spPr>
          <a:xfrm>
            <a:off x="7238880" y="6400800"/>
            <a:ext cx="598680" cy="336600"/>
          </a:xfrm>
          <a:custGeom>
            <a:avLst/>
            <a:gdLst>
              <a:gd name="textAreaLeft" fmla="*/ 21600 w 598680"/>
              <a:gd name="textAreaRight" fmla="*/ 577080 w 59868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38400" h="21600">
                <a:moveTo>
                  <a:pt x="0" y="0"/>
                </a:moveTo>
                <a:lnTo>
                  <a:pt x="38400" y="0"/>
                </a:lnTo>
                <a:lnTo>
                  <a:pt x="38400" y="21600"/>
                </a:lnTo>
                <a:lnTo>
                  <a:pt x="0" y="21600"/>
                </a:lnTo>
                <a:close/>
              </a:path>
              <a:path fill="lightenLess" w="38400" h="21600">
                <a:moveTo>
                  <a:pt x="0" y="0"/>
                </a:moveTo>
                <a:lnTo>
                  <a:pt x="38400" y="0"/>
                </a:lnTo>
                <a:lnTo>
                  <a:pt x="37000" y="1400"/>
                </a:lnTo>
                <a:lnTo>
                  <a:pt x="1400" y="1400"/>
                </a:lnTo>
                <a:close/>
              </a:path>
              <a:path fill="darken" w="38400" h="21600">
                <a:moveTo>
                  <a:pt x="38400" y="0"/>
                </a:moveTo>
                <a:lnTo>
                  <a:pt x="38400" y="21600"/>
                </a:lnTo>
                <a:lnTo>
                  <a:pt x="37000" y="20200"/>
                </a:lnTo>
                <a:lnTo>
                  <a:pt x="37000" y="1400"/>
                </a:lnTo>
                <a:close/>
              </a:path>
              <a:path fill="darkenLess" w="38400" h="21600">
                <a:moveTo>
                  <a:pt x="38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00" y="20200"/>
                </a:lnTo>
                <a:close/>
              </a:path>
              <a:path fill="lighten" w="38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00" h="21600">
                <a:moveTo>
                  <a:pt x="22699" y="10800"/>
                </a:moveTo>
                <a:lnTo>
                  <a:pt x="12194" y="17806"/>
                </a:lnTo>
                <a:lnTo>
                  <a:pt x="12194" y="3794"/>
                </a:lnTo>
                <a:close/>
              </a:path>
              <a:path fill="darken" w="38400" h="21600">
                <a:moveTo>
                  <a:pt x="24544" y="3794"/>
                </a:moveTo>
                <a:lnTo>
                  <a:pt x="24544" y="17806"/>
                </a:lnTo>
                <a:lnTo>
                  <a:pt x="26206" y="17806"/>
                </a:lnTo>
                <a:lnTo>
                  <a:pt x="26206" y="3794"/>
                </a:lnTo>
                <a:close/>
              </a:path>
            </a:pathLst>
          </a:custGeom>
          <a:solidFill>
            <a:srgbClr val="c9ddf1"/>
          </a:solidFill>
          <a:ln cap="sq"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2120" y="3505320"/>
            <a:ext cx="4114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结论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: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三角形三条边的垂直平分线相交于一点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62120" y="5334120"/>
            <a:ext cx="6248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老师期望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你能写出规范的证明过程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52560" y="4375080"/>
            <a:ext cx="3581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你想证明这个命题吗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?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你能证明这个命题吗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2120" y="2514600"/>
            <a:ext cx="4114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观察这三条垂直平分线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你发现了什么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914400" y="457200"/>
            <a:ext cx="3581280" cy="685800"/>
            <a:chOff x="914400" y="457200"/>
            <a:chExt cx="3581280" cy="685800"/>
          </a:xfrm>
        </p:grpSpPr>
        <p:sp>
          <p:nvSpPr>
            <p:cNvPr id="212" name=""/>
            <p:cNvSpPr/>
            <p:nvPr/>
          </p:nvSpPr>
          <p:spPr>
            <a:xfrm>
              <a:off x="914400" y="504720"/>
              <a:ext cx="2361960" cy="581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5b5249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2400" spc="-1" strike="noStrike">
                  <a:solidFill>
                    <a:srgbClr val="5b5249"/>
                  </a:solidFill>
                  <a:latin typeface="Times New Roman"/>
                  <a:ea typeface="隶书"/>
                </a:rPr>
                <a:t>做一做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895480" y="495360"/>
              <a:ext cx="290520" cy="459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BatangChe"/>
                </a:rPr>
                <a:t>1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pic>
          <p:nvPicPr>
            <p:cNvPr id="214" name="" descr=""/>
            <p:cNvPicPr/>
            <p:nvPr/>
          </p:nvPicPr>
          <p:blipFill>
            <a:blip r:embed="rId5"/>
            <a:stretch/>
          </p:blipFill>
          <p:spPr>
            <a:xfrm>
              <a:off x="3276360" y="45720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" descr="">
              <a:hlinkClick r:id="" action="ppaction://hlinkshowjump?jump=lastslide"/>
            </p:cNvPr>
            <p:cNvPicPr/>
            <p:nvPr/>
          </p:nvPicPr>
          <p:blipFill>
            <a:blip r:embed="rId6"/>
            <a:stretch/>
          </p:blipFill>
          <p:spPr>
            <a:xfrm>
              <a:off x="914400" y="60948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6" name=""/>
          <p:cNvGrpSpPr/>
          <p:nvPr/>
        </p:nvGrpSpPr>
        <p:grpSpPr>
          <a:xfrm>
            <a:off x="5715000" y="1600200"/>
            <a:ext cx="2133720" cy="2286000"/>
            <a:chOff x="5715000" y="1600200"/>
            <a:chExt cx="2133720" cy="2286000"/>
          </a:xfrm>
        </p:grpSpPr>
        <p:sp>
          <p:nvSpPr>
            <p:cNvPr id="217" name=""/>
            <p:cNvSpPr/>
            <p:nvPr/>
          </p:nvSpPr>
          <p:spPr>
            <a:xfrm>
              <a:off x="6781680" y="1600200"/>
              <a:ext cx="0" cy="2286000"/>
            </a:xfrm>
            <a:prstGeom prst="line">
              <a:avLst/>
            </a:prstGeom>
            <a:ln w="936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5715000" y="2312640"/>
              <a:ext cx="2133720" cy="1165320"/>
            </a:xfrm>
            <a:prstGeom prst="line">
              <a:avLst/>
            </a:prstGeom>
            <a:ln w="936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726160" y="2133720"/>
              <a:ext cx="2111400" cy="1523880"/>
            </a:xfrm>
            <a:prstGeom prst="line">
              <a:avLst/>
            </a:prstGeom>
            <a:ln w="936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715000" y="3276720"/>
              <a:ext cx="2133720" cy="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32520" y="1739880"/>
              <a:ext cx="885960" cy="152388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5715000" y="1739520"/>
              <a:ext cx="1219320" cy="153684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"/>
          <p:cNvGrpSpPr/>
          <p:nvPr/>
        </p:nvGrpSpPr>
        <p:grpSpPr>
          <a:xfrm>
            <a:off x="6781680" y="3733920"/>
            <a:ext cx="2362320" cy="2485800"/>
            <a:chOff x="6781680" y="3733920"/>
            <a:chExt cx="2362320" cy="2485800"/>
          </a:xfrm>
        </p:grpSpPr>
        <p:pic>
          <p:nvPicPr>
            <p:cNvPr id="224" name="" descr=""/>
            <p:cNvPicPr/>
            <p:nvPr/>
          </p:nvPicPr>
          <p:blipFill>
            <a:blip r:embed="rId1"/>
            <a:stretch/>
          </p:blipFill>
          <p:spPr>
            <a:xfrm>
              <a:off x="6781680" y="4384800"/>
              <a:ext cx="2362320" cy="18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7238880" y="373392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b5249"/>
                  </a:solidFill>
                  <a:latin typeface="Times New Roman"/>
                </a:rPr>
                <a:t>驶向胜利的彼岸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343400" y="212400"/>
            <a:ext cx="4495680" cy="12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  <a:ea typeface="隶书"/>
              </a:rPr>
              <a:t>亲历知识的发生和发展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227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7238880" y="6400800"/>
            <a:ext cx="598680" cy="336600"/>
          </a:xfrm>
          <a:custGeom>
            <a:avLst/>
            <a:gdLst>
              <a:gd name="textAreaLeft" fmla="*/ 21600 w 598680"/>
              <a:gd name="textAreaRight" fmla="*/ 577080 w 59868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38400" h="21600">
                <a:moveTo>
                  <a:pt x="0" y="0"/>
                </a:moveTo>
                <a:lnTo>
                  <a:pt x="38400" y="0"/>
                </a:lnTo>
                <a:lnTo>
                  <a:pt x="38400" y="21600"/>
                </a:lnTo>
                <a:lnTo>
                  <a:pt x="0" y="21600"/>
                </a:lnTo>
                <a:close/>
              </a:path>
              <a:path fill="lightenLess" w="38400" h="21600">
                <a:moveTo>
                  <a:pt x="0" y="0"/>
                </a:moveTo>
                <a:lnTo>
                  <a:pt x="38400" y="0"/>
                </a:lnTo>
                <a:lnTo>
                  <a:pt x="37000" y="1400"/>
                </a:lnTo>
                <a:lnTo>
                  <a:pt x="1400" y="1400"/>
                </a:lnTo>
                <a:close/>
              </a:path>
              <a:path fill="darken" w="38400" h="21600">
                <a:moveTo>
                  <a:pt x="38400" y="0"/>
                </a:moveTo>
                <a:lnTo>
                  <a:pt x="38400" y="21600"/>
                </a:lnTo>
                <a:lnTo>
                  <a:pt x="37000" y="20200"/>
                </a:lnTo>
                <a:lnTo>
                  <a:pt x="37000" y="1400"/>
                </a:lnTo>
                <a:close/>
              </a:path>
              <a:path fill="darkenLess" w="38400" h="21600">
                <a:moveTo>
                  <a:pt x="38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00" y="20200"/>
                </a:lnTo>
                <a:close/>
              </a:path>
              <a:path fill="lighten" w="38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00" h="21600">
                <a:moveTo>
                  <a:pt x="22699" y="10800"/>
                </a:moveTo>
                <a:lnTo>
                  <a:pt x="12194" y="17806"/>
                </a:lnTo>
                <a:lnTo>
                  <a:pt x="12194" y="3794"/>
                </a:lnTo>
                <a:close/>
              </a:path>
              <a:path fill="darken" w="38400" h="21600">
                <a:moveTo>
                  <a:pt x="24544" y="3794"/>
                </a:moveTo>
                <a:lnTo>
                  <a:pt x="24544" y="17806"/>
                </a:lnTo>
                <a:lnTo>
                  <a:pt x="26206" y="17806"/>
                </a:lnTo>
                <a:lnTo>
                  <a:pt x="26206" y="3794"/>
                </a:lnTo>
                <a:close/>
              </a:path>
            </a:pathLst>
          </a:custGeom>
          <a:solidFill>
            <a:srgbClr val="c9ddf1"/>
          </a:solidFill>
          <a:ln cap="sq"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120" y="1676520"/>
            <a:ext cx="373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利用尺规作出三角形三条边的垂直平分线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2120" y="3886200"/>
            <a:ext cx="7475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结论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: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三角形三条边的垂直平分线相交于一点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2120" y="5334120"/>
            <a:ext cx="6248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老师期望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你能写出规范的证明过程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52560" y="4375080"/>
            <a:ext cx="3581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你想证明这个命题吗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?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你能证明这个命题吗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914400" y="457200"/>
            <a:ext cx="3581280" cy="685800"/>
            <a:chOff x="914400" y="457200"/>
            <a:chExt cx="3581280" cy="685800"/>
          </a:xfrm>
        </p:grpSpPr>
        <p:sp>
          <p:nvSpPr>
            <p:cNvPr id="235" name=""/>
            <p:cNvSpPr/>
            <p:nvPr/>
          </p:nvSpPr>
          <p:spPr>
            <a:xfrm>
              <a:off x="914400" y="504720"/>
              <a:ext cx="2361960" cy="581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5b5249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2400" spc="-1" strike="noStrike">
                  <a:solidFill>
                    <a:srgbClr val="5b5249"/>
                  </a:solidFill>
                  <a:latin typeface="Times New Roman"/>
                  <a:ea typeface="隶书"/>
                </a:rPr>
                <a:t>做一做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895480" y="495360"/>
              <a:ext cx="290520" cy="459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BatangChe"/>
                </a:rPr>
                <a:t>1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pic>
          <p:nvPicPr>
            <p:cNvPr id="237" name="" descr=""/>
            <p:cNvPicPr/>
            <p:nvPr/>
          </p:nvPicPr>
          <p:blipFill>
            <a:blip r:embed="rId4"/>
            <a:stretch/>
          </p:blipFill>
          <p:spPr>
            <a:xfrm>
              <a:off x="3276360" y="45720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914400" y="60948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9" name=""/>
          <p:cNvSpPr/>
          <p:nvPr/>
        </p:nvSpPr>
        <p:spPr>
          <a:xfrm>
            <a:off x="762120" y="2590920"/>
            <a:ext cx="487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再观察这三条垂直平分线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你又发现了什么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?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与同伴交流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5715000" y="1600200"/>
            <a:ext cx="2133720" cy="2286000"/>
            <a:chOff x="5715000" y="1600200"/>
            <a:chExt cx="2133720" cy="2286000"/>
          </a:xfrm>
        </p:grpSpPr>
        <p:sp>
          <p:nvSpPr>
            <p:cNvPr id="241" name=""/>
            <p:cNvSpPr/>
            <p:nvPr/>
          </p:nvSpPr>
          <p:spPr>
            <a:xfrm>
              <a:off x="6781680" y="1600200"/>
              <a:ext cx="0" cy="2286000"/>
            </a:xfrm>
            <a:prstGeom prst="line">
              <a:avLst/>
            </a:prstGeom>
            <a:ln w="936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5715000" y="2312640"/>
              <a:ext cx="2133720" cy="1165320"/>
            </a:xfrm>
            <a:prstGeom prst="line">
              <a:avLst/>
            </a:prstGeom>
            <a:ln w="936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26160" y="2133720"/>
              <a:ext cx="2111400" cy="1523880"/>
            </a:xfrm>
            <a:prstGeom prst="line">
              <a:avLst/>
            </a:prstGeom>
            <a:ln w="936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715000" y="3276720"/>
              <a:ext cx="2133720" cy="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932520" y="1739880"/>
              <a:ext cx="885960" cy="152388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5715000" y="1739520"/>
              <a:ext cx="1219320" cy="153684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249" name="">
            <a:hlinkClick r:id="rId3" action="ppaction://hlinksldjump"/>
          </p:cNvPr>
          <p:cNvSpPr/>
          <p:nvPr/>
        </p:nvSpPr>
        <p:spPr>
          <a:xfrm>
            <a:off x="7238880" y="6400800"/>
            <a:ext cx="598680" cy="336600"/>
          </a:xfrm>
          <a:custGeom>
            <a:avLst/>
            <a:gdLst>
              <a:gd name="textAreaLeft" fmla="*/ 21600 w 598680"/>
              <a:gd name="textAreaRight" fmla="*/ 577080 w 59868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38400" h="21600">
                <a:moveTo>
                  <a:pt x="0" y="0"/>
                </a:moveTo>
                <a:lnTo>
                  <a:pt x="38400" y="0"/>
                </a:lnTo>
                <a:lnTo>
                  <a:pt x="38400" y="21600"/>
                </a:lnTo>
                <a:lnTo>
                  <a:pt x="0" y="21600"/>
                </a:lnTo>
                <a:close/>
              </a:path>
              <a:path fill="lightenLess" w="38400" h="21600">
                <a:moveTo>
                  <a:pt x="0" y="0"/>
                </a:moveTo>
                <a:lnTo>
                  <a:pt x="38400" y="0"/>
                </a:lnTo>
                <a:lnTo>
                  <a:pt x="37000" y="1400"/>
                </a:lnTo>
                <a:lnTo>
                  <a:pt x="1400" y="1400"/>
                </a:lnTo>
                <a:close/>
              </a:path>
              <a:path fill="darken" w="38400" h="21600">
                <a:moveTo>
                  <a:pt x="38400" y="0"/>
                </a:moveTo>
                <a:lnTo>
                  <a:pt x="38400" y="21600"/>
                </a:lnTo>
                <a:lnTo>
                  <a:pt x="37000" y="20200"/>
                </a:lnTo>
                <a:lnTo>
                  <a:pt x="37000" y="1400"/>
                </a:lnTo>
                <a:close/>
              </a:path>
              <a:path fill="darkenLess" w="38400" h="21600">
                <a:moveTo>
                  <a:pt x="38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00" y="20200"/>
                </a:lnTo>
                <a:close/>
              </a:path>
              <a:path fill="lighten" w="38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00" h="21600">
                <a:moveTo>
                  <a:pt x="22699" y="10800"/>
                </a:moveTo>
                <a:lnTo>
                  <a:pt x="12194" y="17806"/>
                </a:lnTo>
                <a:lnTo>
                  <a:pt x="12194" y="3794"/>
                </a:lnTo>
                <a:close/>
              </a:path>
              <a:path fill="darken" w="38400" h="21600">
                <a:moveTo>
                  <a:pt x="24544" y="3794"/>
                </a:moveTo>
                <a:lnTo>
                  <a:pt x="24544" y="17806"/>
                </a:lnTo>
                <a:lnTo>
                  <a:pt x="26206" y="17806"/>
                </a:lnTo>
                <a:lnTo>
                  <a:pt x="26206" y="3794"/>
                </a:lnTo>
                <a:close/>
              </a:path>
            </a:pathLst>
          </a:custGeom>
          <a:solidFill>
            <a:srgbClr val="c9ddf1"/>
          </a:solidFill>
          <a:ln cap="sq"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6781680" y="4572000"/>
            <a:ext cx="2362320" cy="1835280"/>
            <a:chOff x="6781680" y="4572000"/>
            <a:chExt cx="2362320" cy="1835280"/>
          </a:xfrm>
        </p:grpSpPr>
        <p:pic>
          <p:nvPicPr>
            <p:cNvPr id="251" name="" descr=""/>
            <p:cNvPicPr/>
            <p:nvPr/>
          </p:nvPicPr>
          <p:blipFill>
            <a:blip r:embed="rId4"/>
            <a:stretch/>
          </p:blipFill>
          <p:spPr>
            <a:xfrm>
              <a:off x="6781680" y="4572000"/>
              <a:ext cx="23623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7238880" y="530856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b5249"/>
                  </a:solidFill>
                  <a:latin typeface="Times New Roman"/>
                </a:rPr>
                <a:t>驶向胜利的彼岸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6426000" y="0"/>
            <a:ext cx="2717640" cy="2059920"/>
            <a:chOff x="6426000" y="0"/>
            <a:chExt cx="2717640" cy="2059920"/>
          </a:xfrm>
        </p:grpSpPr>
        <p:grpSp>
          <p:nvGrpSpPr>
            <p:cNvPr id="254" name=""/>
            <p:cNvGrpSpPr/>
            <p:nvPr/>
          </p:nvGrpSpPr>
          <p:grpSpPr>
            <a:xfrm>
              <a:off x="6426000" y="0"/>
              <a:ext cx="2717640" cy="2059920"/>
              <a:chOff x="6426000" y="0"/>
              <a:chExt cx="2717640" cy="2059920"/>
            </a:xfrm>
          </p:grpSpPr>
          <p:grpSp>
            <p:nvGrpSpPr>
              <p:cNvPr id="255" name=""/>
              <p:cNvGrpSpPr/>
              <p:nvPr/>
            </p:nvGrpSpPr>
            <p:grpSpPr>
              <a:xfrm>
                <a:off x="6515280" y="0"/>
                <a:ext cx="1218960" cy="2059920"/>
                <a:chOff x="6515280" y="0"/>
                <a:chExt cx="1218960" cy="205992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6515280" y="0"/>
                  <a:ext cx="1191240" cy="2059920"/>
                </a:xfrm>
                <a:prstGeom prst="horizontalScroll">
                  <a:avLst>
                    <a:gd name="adj" fmla="val 12500"/>
                  </a:avLst>
                </a:prstGeom>
                <a:blipFill rotWithShape="0">
                  <a:blip r:embed="rId5"/>
                  <a:srcRect/>
                  <a:stretch/>
                </a:blipFill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6529320" y="179640"/>
                  <a:ext cx="1204920" cy="58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8" name=""/>
              <p:cNvSpPr/>
              <p:nvPr/>
            </p:nvSpPr>
            <p:spPr>
              <a:xfrm>
                <a:off x="6426000" y="155520"/>
                <a:ext cx="1155240" cy="175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思考分析</a:t>
                </a:r>
                <a:endParaRPr b="0" lang="en-US" sz="32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pic>
            <p:nvPicPr>
              <p:cNvPr id="25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734240" y="79200"/>
                <a:ext cx="1409400" cy="1809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0" name="" descr=""/>
            <p:cNvPicPr/>
            <p:nvPr/>
          </p:nvPicPr>
          <p:blipFill>
            <a:blip r:embed="rId7"/>
            <a:stretch/>
          </p:blipFill>
          <p:spPr>
            <a:xfrm>
              <a:off x="8077320" y="228600"/>
              <a:ext cx="326880" cy="380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"/>
          <p:cNvSpPr/>
          <p:nvPr/>
        </p:nvSpPr>
        <p:spPr>
          <a:xfrm>
            <a:off x="685800" y="762120"/>
            <a:ext cx="6019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命题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: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三角形三条边的垂直平分线相交于一点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62120" y="2948040"/>
            <a:ext cx="49528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如图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,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在△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ABC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中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,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设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AB,BC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的垂直平分线相交于点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P,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连接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AP,BP,CP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3684600"/>
            <a:ext cx="5562720" cy="22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∵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点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P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在线段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AB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的垂直平分线上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,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∴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PA=PB (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或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AB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的中点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,)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同理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,PB=PC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∴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PA=PC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∴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点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P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在线段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AB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的垂直平分线上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,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∴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AB,BC,AC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的垂直平分线相交于一点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85800" y="5867280"/>
            <a:ext cx="6095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隶书"/>
                <a:ea typeface="隶书"/>
              </a:rPr>
              <a:t>想一想</a:t>
            </a:r>
            <a:r>
              <a:rPr b="1" lang="zh-CN" sz="2400" spc="-1" strike="noStrike">
                <a:solidFill>
                  <a:srgbClr val="0033cc"/>
                </a:solidFill>
                <a:latin typeface="隶书"/>
                <a:ea typeface="隶书"/>
              </a:rPr>
              <a:t>:</a:t>
            </a:r>
            <a:r>
              <a:rPr b="1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若作出∠</a:t>
            </a:r>
            <a:r>
              <a:rPr b="1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P</a:t>
            </a:r>
            <a:r>
              <a:rPr b="1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的角平分线</a:t>
            </a:r>
            <a:r>
              <a:rPr b="1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,</a:t>
            </a:r>
            <a:r>
              <a:rPr b="1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结论是否也可以得征</a:t>
            </a:r>
            <a:r>
              <a:rPr b="1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?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556236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5249"/>
                </a:solidFill>
                <a:latin typeface="Times New Roman"/>
                <a:ea typeface="隶书"/>
              </a:rPr>
              <a:t>咋证三条直线交于一点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85800" y="1816200"/>
            <a:ext cx="83059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基本想法是这样的</a:t>
            </a:r>
            <a:r>
              <a:rPr b="0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: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我们知道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,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两条直线相交只有一个交点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.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要想证明三条直线相交于一点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,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只要能证明两条直线的交点在第三条直线上即可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.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这时可以考虑前面刚刚学到的逆定理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5715000" y="2514600"/>
            <a:ext cx="2941560" cy="2514600"/>
            <a:chOff x="5715000" y="2514600"/>
            <a:chExt cx="2941560" cy="2514600"/>
          </a:xfrm>
        </p:grpSpPr>
        <p:grpSp>
          <p:nvGrpSpPr>
            <p:cNvPr id="268" name=""/>
            <p:cNvGrpSpPr/>
            <p:nvPr/>
          </p:nvGrpSpPr>
          <p:grpSpPr>
            <a:xfrm>
              <a:off x="6019920" y="2743200"/>
              <a:ext cx="2133360" cy="2286000"/>
              <a:chOff x="6019920" y="2743200"/>
              <a:chExt cx="2133360" cy="2286000"/>
            </a:xfrm>
          </p:grpSpPr>
          <p:sp>
            <p:nvSpPr>
              <p:cNvPr id="269" name=""/>
              <p:cNvSpPr/>
              <p:nvPr/>
            </p:nvSpPr>
            <p:spPr>
              <a:xfrm>
                <a:off x="7086240" y="2743200"/>
                <a:ext cx="0" cy="2286000"/>
              </a:xfrm>
              <a:prstGeom prst="line">
                <a:avLst/>
              </a:prstGeom>
              <a:ln w="9360">
                <a:solidFill>
                  <a:srgbClr val="5b524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6019920" y="3455640"/>
                <a:ext cx="2133360" cy="1165320"/>
              </a:xfrm>
              <a:prstGeom prst="line">
                <a:avLst/>
              </a:prstGeom>
              <a:ln w="9360">
                <a:solidFill>
                  <a:srgbClr val="5b524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030720" y="3276720"/>
                <a:ext cx="2111040" cy="1523880"/>
              </a:xfrm>
              <a:prstGeom prst="line">
                <a:avLst/>
              </a:prstGeom>
              <a:ln w="9360">
                <a:solidFill>
                  <a:srgbClr val="5b524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019920" y="4419720"/>
                <a:ext cx="2133360" cy="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237080" y="2882880"/>
                <a:ext cx="885600" cy="152388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6019920" y="2882520"/>
                <a:ext cx="1218960" cy="153684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7162920" y="25146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715000" y="41911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123400" y="41911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238880" y="3809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086600" y="4267080"/>
              <a:ext cx="15228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238880" y="4267080"/>
              <a:ext cx="0" cy="13968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515280" y="3809880"/>
              <a:ext cx="147600" cy="11448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6662880" y="3773160"/>
              <a:ext cx="91800" cy="15084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 flipH="1">
            <a:off x="7091280" y="2897280"/>
            <a:ext cx="168480" cy="11192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6031080" y="4016520"/>
            <a:ext cx="1060200" cy="3902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091280" y="4035600"/>
            <a:ext cx="1044720" cy="3920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7238880" y="6400800"/>
            <a:ext cx="598680" cy="336600"/>
          </a:xfrm>
          <a:custGeom>
            <a:avLst/>
            <a:gdLst>
              <a:gd name="textAreaLeft" fmla="*/ 21600 w 598680"/>
              <a:gd name="textAreaRight" fmla="*/ 577080 w 59868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38400" h="21600">
                <a:moveTo>
                  <a:pt x="0" y="0"/>
                </a:moveTo>
                <a:lnTo>
                  <a:pt x="38400" y="0"/>
                </a:lnTo>
                <a:lnTo>
                  <a:pt x="38400" y="21600"/>
                </a:lnTo>
                <a:lnTo>
                  <a:pt x="0" y="21600"/>
                </a:lnTo>
                <a:close/>
              </a:path>
              <a:path fill="lightenLess" w="38400" h="21600">
                <a:moveTo>
                  <a:pt x="0" y="0"/>
                </a:moveTo>
                <a:lnTo>
                  <a:pt x="38400" y="0"/>
                </a:lnTo>
                <a:lnTo>
                  <a:pt x="37000" y="1400"/>
                </a:lnTo>
                <a:lnTo>
                  <a:pt x="1400" y="1400"/>
                </a:lnTo>
                <a:close/>
              </a:path>
              <a:path fill="darken" w="38400" h="21600">
                <a:moveTo>
                  <a:pt x="38400" y="0"/>
                </a:moveTo>
                <a:lnTo>
                  <a:pt x="38400" y="21600"/>
                </a:lnTo>
                <a:lnTo>
                  <a:pt x="37000" y="20200"/>
                </a:lnTo>
                <a:lnTo>
                  <a:pt x="37000" y="1400"/>
                </a:lnTo>
                <a:close/>
              </a:path>
              <a:path fill="darkenLess" w="38400" h="21600">
                <a:moveTo>
                  <a:pt x="38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00" y="20200"/>
                </a:lnTo>
                <a:close/>
              </a:path>
              <a:path fill="lighten" w="38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00" h="21600">
                <a:moveTo>
                  <a:pt x="22699" y="10800"/>
                </a:moveTo>
                <a:lnTo>
                  <a:pt x="12194" y="17806"/>
                </a:lnTo>
                <a:lnTo>
                  <a:pt x="12194" y="3794"/>
                </a:lnTo>
                <a:close/>
              </a:path>
              <a:path fill="darken" w="38400" h="21600">
                <a:moveTo>
                  <a:pt x="24544" y="3794"/>
                </a:moveTo>
                <a:lnTo>
                  <a:pt x="24544" y="17806"/>
                </a:lnTo>
                <a:lnTo>
                  <a:pt x="26206" y="17806"/>
                </a:lnTo>
                <a:lnTo>
                  <a:pt x="26206" y="3794"/>
                </a:lnTo>
                <a:close/>
              </a:path>
            </a:pathLst>
          </a:custGeom>
          <a:solidFill>
            <a:srgbClr val="c9ddf1"/>
          </a:solidFill>
          <a:ln cap="sq"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6781680" y="4572000"/>
            <a:ext cx="2362320" cy="1835280"/>
            <a:chOff x="6781680" y="4572000"/>
            <a:chExt cx="2362320" cy="1835280"/>
          </a:xfrm>
        </p:grpSpPr>
        <p:pic>
          <p:nvPicPr>
            <p:cNvPr id="290" name="" descr=""/>
            <p:cNvPicPr/>
            <p:nvPr/>
          </p:nvPicPr>
          <p:blipFill>
            <a:blip r:embed="rId3"/>
            <a:stretch/>
          </p:blipFill>
          <p:spPr>
            <a:xfrm>
              <a:off x="6781680" y="4572000"/>
              <a:ext cx="23623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7238880" y="530856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b5249"/>
                  </a:solidFill>
                  <a:latin typeface="Times New Roman"/>
                </a:rPr>
                <a:t>驶向胜利的彼岸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85800" y="1103400"/>
            <a:ext cx="83059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定理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: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三角形三条边的垂直平分线相交于一点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并且这一点到三个顶点的距离相等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62120" y="2305080"/>
            <a:ext cx="526896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如图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在△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ABC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中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,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∵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c,a,b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分别是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AB,BC,AC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的垂直平分线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已知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),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∴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c,a,b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相交于一点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P,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且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PA=PB=PC(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三角形三条边的垂直平分线相交于一点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并且这一点到三个顶点的距离相等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)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5273640"/>
            <a:ext cx="640548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老师提示</a:t>
            </a: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: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这是一个证明三条直线交于一点的证明根据</a:t>
            </a:r>
            <a:r>
              <a:rPr b="1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657600" y="75960"/>
            <a:ext cx="5562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5249"/>
                </a:solidFill>
                <a:latin typeface="Times New Roman"/>
                <a:ea typeface="隶书"/>
              </a:rPr>
              <a:t>几何的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三种语言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914400" y="152280"/>
            <a:ext cx="3581280" cy="685800"/>
            <a:chOff x="914400" y="152280"/>
            <a:chExt cx="3581280" cy="685800"/>
          </a:xfrm>
        </p:grpSpPr>
        <p:sp>
          <p:nvSpPr>
            <p:cNvPr id="297" name=""/>
            <p:cNvSpPr/>
            <p:nvPr/>
          </p:nvSpPr>
          <p:spPr>
            <a:xfrm>
              <a:off x="914400" y="199800"/>
              <a:ext cx="2361960" cy="581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5b5249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2400" spc="-1" strike="noStrike">
                  <a:solidFill>
                    <a:srgbClr val="5b5249"/>
                  </a:solidFill>
                  <a:latin typeface="Times New Roman"/>
                  <a:ea typeface="隶书"/>
                </a:rPr>
                <a:t>做一做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895480" y="190440"/>
              <a:ext cx="290520" cy="459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BatangChe"/>
                </a:rPr>
                <a:t>1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pic>
          <p:nvPicPr>
            <p:cNvPr id="299" name="" descr=""/>
            <p:cNvPicPr/>
            <p:nvPr/>
          </p:nvPicPr>
          <p:blipFill>
            <a:blip r:embed="rId4"/>
            <a:stretch/>
          </p:blipFill>
          <p:spPr>
            <a:xfrm>
              <a:off x="3276360" y="15228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914400" y="30456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1" name=""/>
          <p:cNvGrpSpPr/>
          <p:nvPr/>
        </p:nvGrpSpPr>
        <p:grpSpPr>
          <a:xfrm>
            <a:off x="5715000" y="1981080"/>
            <a:ext cx="2941560" cy="2590920"/>
            <a:chOff x="5715000" y="1981080"/>
            <a:chExt cx="2941560" cy="2590920"/>
          </a:xfrm>
        </p:grpSpPr>
        <p:grpSp>
          <p:nvGrpSpPr>
            <p:cNvPr id="302" name=""/>
            <p:cNvGrpSpPr/>
            <p:nvPr/>
          </p:nvGrpSpPr>
          <p:grpSpPr>
            <a:xfrm>
              <a:off x="5715000" y="2057400"/>
              <a:ext cx="2941560" cy="2514600"/>
              <a:chOff x="5715000" y="2057400"/>
              <a:chExt cx="2941560" cy="2514600"/>
            </a:xfrm>
          </p:grpSpPr>
          <p:grpSp>
            <p:nvGrpSpPr>
              <p:cNvPr id="303" name=""/>
              <p:cNvGrpSpPr/>
              <p:nvPr/>
            </p:nvGrpSpPr>
            <p:grpSpPr>
              <a:xfrm>
                <a:off x="6019920" y="2286000"/>
                <a:ext cx="2133360" cy="2286000"/>
                <a:chOff x="6019920" y="2286000"/>
                <a:chExt cx="2133360" cy="228600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7086240" y="2286000"/>
                  <a:ext cx="0" cy="2286000"/>
                </a:xfrm>
                <a:prstGeom prst="line">
                  <a:avLst/>
                </a:prstGeom>
                <a:ln w="9360">
                  <a:solidFill>
                    <a:srgbClr val="5b524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flipV="1">
                  <a:off x="6019920" y="2998440"/>
                  <a:ext cx="2133360" cy="1165320"/>
                </a:xfrm>
                <a:prstGeom prst="line">
                  <a:avLst/>
                </a:prstGeom>
                <a:ln w="9360">
                  <a:solidFill>
                    <a:srgbClr val="5b524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030720" y="2819520"/>
                  <a:ext cx="2111040" cy="1523880"/>
                </a:xfrm>
                <a:prstGeom prst="line">
                  <a:avLst/>
                </a:prstGeom>
                <a:ln w="9360">
                  <a:solidFill>
                    <a:srgbClr val="5b524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6019920" y="3962520"/>
                  <a:ext cx="2133360" cy="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7237080" y="2425680"/>
                  <a:ext cx="885600" cy="152388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flipV="1">
                  <a:off x="6019920" y="2425320"/>
                  <a:ext cx="1218960" cy="153684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7162920" y="20574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5b5249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715000" y="373392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5b5249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8123400" y="37339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5b5249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238880" y="33526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5b5249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086600" y="3809880"/>
                <a:ext cx="152280" cy="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238880" y="3809880"/>
                <a:ext cx="0" cy="13968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515280" y="3352680"/>
                <a:ext cx="147600" cy="11448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V="1">
                <a:off x="6662880" y="3315960"/>
                <a:ext cx="91800" cy="15084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318" name=""/>
            <p:cNvSpPr/>
            <p:nvPr/>
          </p:nvSpPr>
          <p:spPr>
            <a:xfrm flipH="1">
              <a:off x="7091280" y="2440080"/>
              <a:ext cx="168480" cy="11192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6031080" y="3559320"/>
              <a:ext cx="1060200" cy="3902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091280" y="3578400"/>
              <a:ext cx="1044720" cy="3920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81680" y="19810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848720" y="26668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67280" y="27432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647960" y="228600"/>
            <a:ext cx="43434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5249"/>
                </a:solidFill>
                <a:latin typeface="Times New Roman"/>
                <a:ea typeface="隶书"/>
              </a:rPr>
              <a:t>挑战自我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325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327" name="">
            <a:hlinkClick r:id="rId3" action="ppaction://hlinksldjump"/>
          </p:cNvPr>
          <p:cNvSpPr/>
          <p:nvPr/>
        </p:nvSpPr>
        <p:spPr>
          <a:xfrm>
            <a:off x="7238880" y="6400800"/>
            <a:ext cx="598680" cy="336600"/>
          </a:xfrm>
          <a:custGeom>
            <a:avLst/>
            <a:gdLst>
              <a:gd name="textAreaLeft" fmla="*/ 21600 w 598680"/>
              <a:gd name="textAreaRight" fmla="*/ 577080 w 59868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38400" h="21600">
                <a:moveTo>
                  <a:pt x="0" y="0"/>
                </a:moveTo>
                <a:lnTo>
                  <a:pt x="38400" y="0"/>
                </a:lnTo>
                <a:lnTo>
                  <a:pt x="38400" y="21600"/>
                </a:lnTo>
                <a:lnTo>
                  <a:pt x="0" y="21600"/>
                </a:lnTo>
                <a:close/>
              </a:path>
              <a:path fill="lightenLess" w="38400" h="21600">
                <a:moveTo>
                  <a:pt x="0" y="0"/>
                </a:moveTo>
                <a:lnTo>
                  <a:pt x="38400" y="0"/>
                </a:lnTo>
                <a:lnTo>
                  <a:pt x="37000" y="1400"/>
                </a:lnTo>
                <a:lnTo>
                  <a:pt x="1400" y="1400"/>
                </a:lnTo>
                <a:close/>
              </a:path>
              <a:path fill="darken" w="38400" h="21600">
                <a:moveTo>
                  <a:pt x="38400" y="0"/>
                </a:moveTo>
                <a:lnTo>
                  <a:pt x="38400" y="21600"/>
                </a:lnTo>
                <a:lnTo>
                  <a:pt x="37000" y="20200"/>
                </a:lnTo>
                <a:lnTo>
                  <a:pt x="37000" y="1400"/>
                </a:lnTo>
                <a:close/>
              </a:path>
              <a:path fill="darkenLess" w="38400" h="21600">
                <a:moveTo>
                  <a:pt x="38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00" y="20200"/>
                </a:lnTo>
                <a:close/>
              </a:path>
              <a:path fill="lighten" w="38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00" h="21600">
                <a:moveTo>
                  <a:pt x="22699" y="10800"/>
                </a:moveTo>
                <a:lnTo>
                  <a:pt x="12194" y="17806"/>
                </a:lnTo>
                <a:lnTo>
                  <a:pt x="12194" y="3794"/>
                </a:lnTo>
                <a:close/>
              </a:path>
              <a:path fill="darken" w="38400" h="21600">
                <a:moveTo>
                  <a:pt x="24544" y="3794"/>
                </a:moveTo>
                <a:lnTo>
                  <a:pt x="24544" y="17806"/>
                </a:lnTo>
                <a:lnTo>
                  <a:pt x="26206" y="17806"/>
                </a:lnTo>
                <a:lnTo>
                  <a:pt x="26206" y="3794"/>
                </a:lnTo>
                <a:close/>
              </a:path>
            </a:pathLst>
          </a:custGeom>
          <a:solidFill>
            <a:srgbClr val="c9ddf1"/>
          </a:solidFill>
          <a:ln cap="sq"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6781680" y="4572000"/>
            <a:ext cx="2362320" cy="1835280"/>
            <a:chOff x="6781680" y="4572000"/>
            <a:chExt cx="2362320" cy="1835280"/>
          </a:xfrm>
        </p:grpSpPr>
        <p:pic>
          <p:nvPicPr>
            <p:cNvPr id="329" name="" descr=""/>
            <p:cNvPicPr/>
            <p:nvPr/>
          </p:nvPicPr>
          <p:blipFill>
            <a:blip r:embed="rId4"/>
            <a:stretch/>
          </p:blipFill>
          <p:spPr>
            <a:xfrm>
              <a:off x="6781680" y="4572000"/>
              <a:ext cx="23623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7238880" y="530856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b5249"/>
                  </a:solidFill>
                  <a:latin typeface="Times New Roman"/>
                </a:rPr>
                <a:t>驶向胜利的彼岸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712800" y="1644480"/>
            <a:ext cx="827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ac16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已知三角形的一条边及这条边上的高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你能作出三角形吗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066680" y="4648320"/>
            <a:ext cx="548640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老师期望</a:t>
            </a:r>
            <a:r>
              <a:rPr b="0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: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你能亲自探索出结果并能用尺规作出图形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898560" y="152280"/>
            <a:ext cx="3673440" cy="1240920"/>
            <a:chOff x="898560" y="152280"/>
            <a:chExt cx="3673440" cy="1240920"/>
          </a:xfrm>
        </p:grpSpPr>
        <p:grpSp>
          <p:nvGrpSpPr>
            <p:cNvPr id="334" name=""/>
            <p:cNvGrpSpPr/>
            <p:nvPr/>
          </p:nvGrpSpPr>
          <p:grpSpPr>
            <a:xfrm>
              <a:off x="898560" y="152280"/>
              <a:ext cx="1904400" cy="1240920"/>
              <a:chOff x="898560" y="152280"/>
              <a:chExt cx="1904400" cy="1240920"/>
            </a:xfrm>
          </p:grpSpPr>
          <p:sp>
            <p:nvSpPr>
              <p:cNvPr id="335" name=""/>
              <p:cNvSpPr/>
              <p:nvPr/>
            </p:nvSpPr>
            <p:spPr>
              <a:xfrm>
                <a:off x="898560" y="161640"/>
                <a:ext cx="1861200" cy="123156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5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919800" y="152280"/>
                <a:ext cx="1883160" cy="57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337" name=""/>
            <p:cNvSpPr/>
            <p:nvPr/>
          </p:nvSpPr>
          <p:spPr>
            <a:xfrm>
              <a:off x="958680" y="457200"/>
              <a:ext cx="1920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议一议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pic>
          <p:nvPicPr>
            <p:cNvPr id="338" name="" descr=""/>
            <p:cNvPicPr/>
            <p:nvPr/>
          </p:nvPicPr>
          <p:blipFill>
            <a:blip r:embed="rId6"/>
            <a:stretch/>
          </p:blipFill>
          <p:spPr>
            <a:xfrm>
              <a:off x="2803320" y="196560"/>
              <a:ext cx="1768680" cy="1098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"/>
          <p:cNvSpPr/>
          <p:nvPr/>
        </p:nvSpPr>
        <p:spPr>
          <a:xfrm>
            <a:off x="685800" y="2452680"/>
            <a:ext cx="827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ac16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如果能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能作出几个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?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所作出的三角形都全等吗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85800" y="3016080"/>
            <a:ext cx="827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ac16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已知等腰三角形的底及底边上的高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你能用尺规作出等腰三角形吗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?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能作几个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5T07:18:19Z</dcterms:created>
  <dc:creator>12999数学网 www.12999.com</dc:creator>
  <dc:description/>
  <dc:language>en-US</dc:language>
  <cp:lastModifiedBy>微软用户</cp:lastModifiedBy>
  <dcterms:modified xsi:type="dcterms:W3CDTF">2012-07-15T00:07:28Z</dcterms:modified>
  <cp:revision>314</cp:revision>
  <dc:subject>12999数学网 www.12999.com</dc:subject>
  <dc:title>12999数学网 www.12999.com</dc:title>
</cp:coreProperties>
</file>