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3.gif" ContentType="image/gif"/>
  <Override PartName="/ppt/media/type.wav" ContentType="audio/x-wav"/>
  <Override PartName="/ppt/media/image14.gif" ContentType="image/gif"/>
  <Override PartName="/ppt/media/chimes.wav" ContentType="audio/x-wav"/>
  <Override PartName="/ppt/media/image13.gif" ContentType="image/gif"/>
  <Override PartName="/ppt/media/image8.png" ContentType="image/png"/>
  <Override PartName="/ppt/media/image5.gif" ContentType="image/gif"/>
  <Override PartName="/ppt/media/image7.gif" ContentType="image/gif"/>
  <Override PartName="/ppt/media/image6.gif" ContentType="image/gif"/>
  <Override PartName="/ppt/media/image9.png" ContentType="image/png"/>
  <Override PartName="/ppt/media/image21.gif" ContentType="image/gif"/>
  <Override PartName="/ppt/media/image19.gif" ContentType="image/gif"/>
  <Override PartName="/ppt/media/image1.jpeg" ContentType="image/jpeg"/>
  <Override PartName="/ppt/media/image17.gif" ContentType="image/gif"/>
  <Override PartName="/ppt/media/image20.png" ContentType="image/png"/>
  <Override PartName="/ppt/media/image18.png" ContentType="image/png"/>
  <Override PartName="/ppt/media/image16.gif" ContentType="image/gif"/>
  <Override PartName="/ppt/media/image15.png" ContentType="image/png"/>
  <Override PartName="/ppt/media/image12.gif" ContentType="image/gif"/>
  <Override PartName="/ppt/media/image10.png" ContentType="image/png"/>
  <Override PartName="/ppt/media/applause.wav" ContentType="audio/x-wav"/>
  <Override PartName="/ppt/media/image4.jpeg" ContentType="image/jpeg"/>
  <Override PartName="/ppt/media/image2.png" ContentType="image/png"/>
  <Override PartName="/ppt/media/image2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66A7-339D-40E5-A2E7-9274B6A53C6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B720-F8CD-4533-A76E-329417D0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EB9-C2DF-4FCB-9E42-328BEC8B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9C88-241F-4E88-ADA2-75C3DCF5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C2E4-2A06-480E-9306-F297AB27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C34F-CF71-4FD1-9EAC-10782ED3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4874-908B-4E03-A02F-C08885D5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A26C-F6DA-4E99-A34C-128524B2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7B6A-5CAF-446A-A0B6-038820A2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0A2C-5022-4FA9-A16A-E878E165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C5BE-FBCD-4613-914E-5EE9C08A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83F5-975C-464B-AFA3-87B6F56B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76DD-87ED-455E-AAA3-23C4BB0E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A4DC-C81F-44E4-9642-ACC8533B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8C78-2154-4F8E-ADB6-C8ED0B70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F8B0-298E-4EBE-8F43-4E616035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559B-3F3D-4014-90C7-65C4C351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1353-F43A-46A5-9E66-57494411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416-8CB7-4A32-B2B7-4C49F1CC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7F7-AAB8-4AB2-AD61-0A3E07B1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DB6-A242-4BD3-A001-09D87DCF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3F1-6474-4035-AE1D-E57F2353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234-EEF1-414D-B5E2-1CCB1B55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B155-9B63-42D4-BD40-B3DF9347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EE5-BDA2-4EF9-B841-236D1C34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640C-ED17-4F34-A61D-F53DB9B7B753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3209760"/>
            <a:ext cx="8380440" cy="838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6ED6-A4A4-41F8-86DC-9E4F3CB4CC8C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5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5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5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" Target="slide9.xml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4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" Target="slide9.xml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" Target="slide9.xml"/><Relationship Id="rId4" Type="http://schemas.openxmlformats.org/officeDocument/2006/relationships/image" Target="../media/image5.gif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gif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4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" Target="slide9.xml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" Target="slide9.xml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4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" Target="slide9.xml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5.gif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4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" Target="slide9.xml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4.xml"/><Relationship Id="rId1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4fb57"/>
                </a:solidFill>
                <a:latin typeface="Times New Roman"/>
              </a:rPr>
              <a:t>九年级数学（上册）第一章 证明</a:t>
            </a:r>
            <a:r>
              <a:rPr b="0" lang="zh-CN" sz="4400" spc="-1" strike="noStrike">
                <a:solidFill>
                  <a:srgbClr val="d4fb57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d4fb57"/>
                </a:solidFill>
                <a:latin typeface="Times New Roman"/>
              </a:rPr>
              <a:t>二</a:t>
            </a:r>
            <a:r>
              <a:rPr b="0" lang="zh-CN" sz="4400" spc="-1" strike="noStrike">
                <a:solidFill>
                  <a:srgbClr val="d4fb57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5960" y="1447920"/>
            <a:ext cx="510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1.4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角平分线（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性质定理与逆定理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18000" y="1231560"/>
            <a:ext cx="4208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知识的升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295280" y="0"/>
            <a:ext cx="3009960" cy="1523520"/>
            <a:chOff x="1295280" y="0"/>
            <a:chExt cx="3009960" cy="1523520"/>
          </a:xfrm>
        </p:grpSpPr>
        <p:pic>
          <p:nvPicPr>
            <p:cNvPr id="385" name="" descr=""/>
            <p:cNvPicPr/>
            <p:nvPr/>
          </p:nvPicPr>
          <p:blipFill>
            <a:blip r:embed="rId1"/>
            <a:stretch/>
          </p:blipFill>
          <p:spPr>
            <a:xfrm>
              <a:off x="2590920" y="87480"/>
              <a:ext cx="171432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6" name=""/>
            <p:cNvGrpSpPr/>
            <p:nvPr/>
          </p:nvGrpSpPr>
          <p:grpSpPr>
            <a:xfrm>
              <a:off x="1295280" y="0"/>
              <a:ext cx="1295640" cy="1523520"/>
              <a:chOff x="1295280" y="0"/>
              <a:chExt cx="1295640" cy="1523520"/>
            </a:xfrm>
          </p:grpSpPr>
          <p:sp>
            <p:nvSpPr>
              <p:cNvPr id="387" name=""/>
              <p:cNvSpPr/>
              <p:nvPr/>
            </p:nvSpPr>
            <p:spPr>
              <a:xfrm>
                <a:off x="1295280" y="0"/>
                <a:ext cx="1266120" cy="15235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309320" y="57240"/>
                <a:ext cx="128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1447920" y="182520"/>
              <a:ext cx="1066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独立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作业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295280" y="18288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P</a:t>
            </a:r>
            <a:r>
              <a:rPr b="0" lang="zh-CN" sz="4800" spc="-1" strike="noStrike" baseline="-25000">
                <a:solidFill>
                  <a:srgbClr val="ff0000"/>
                </a:solidFill>
                <a:latin typeface="Times New Roman"/>
                <a:ea typeface="隶书"/>
              </a:rPr>
              <a:t>9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习题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1.4   1,2,3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题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祝你成功！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9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724280" y="304560"/>
            <a:ext cx="4191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习题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1.4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9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19320" y="152280"/>
            <a:ext cx="3581280" cy="685800"/>
            <a:chOff x="1219320" y="152280"/>
            <a:chExt cx="3581280" cy="685800"/>
          </a:xfrm>
        </p:grpSpPr>
        <p:sp>
          <p:nvSpPr>
            <p:cNvPr id="398" name=""/>
            <p:cNvSpPr/>
            <p:nvPr/>
          </p:nvSpPr>
          <p:spPr>
            <a:xfrm>
              <a:off x="1219320" y="1998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独立作业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00400" y="1904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400" name="" descr=""/>
            <p:cNvPicPr/>
            <p:nvPr/>
          </p:nvPicPr>
          <p:blipFill>
            <a:blip r:embed="rId3"/>
            <a:stretch/>
          </p:blipFill>
          <p:spPr>
            <a:xfrm>
              <a:off x="3581280" y="152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1219320" y="304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2" name=""/>
          <p:cNvGrpSpPr/>
          <p:nvPr/>
        </p:nvGrpSpPr>
        <p:grpSpPr>
          <a:xfrm>
            <a:off x="6781680" y="4489560"/>
            <a:ext cx="2362320" cy="1834920"/>
            <a:chOff x="6781680" y="4489560"/>
            <a:chExt cx="2362320" cy="1834920"/>
          </a:xfrm>
        </p:grpSpPr>
        <p:pic>
          <p:nvPicPr>
            <p:cNvPr id="403" name="" descr=""/>
            <p:cNvPicPr/>
            <p:nvPr/>
          </p:nvPicPr>
          <p:blipFill>
            <a:blip r:embed="rId5"/>
            <a:stretch/>
          </p:blipFill>
          <p:spPr>
            <a:xfrm>
              <a:off x="6781680" y="448956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7238880" y="52257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914400" y="1143000"/>
            <a:ext cx="732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1.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利用尺规作出三角形三个内角的平分线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14400" y="3359160"/>
            <a:ext cx="80010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老师期望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先分别作出不同形状的三角形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再按要求去作图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1600200"/>
            <a:ext cx="732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发现了什么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724280" y="304560"/>
            <a:ext cx="4191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习题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1.4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40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219320" y="152280"/>
            <a:ext cx="3581280" cy="685800"/>
            <a:chOff x="1219320" y="152280"/>
            <a:chExt cx="3581280" cy="685800"/>
          </a:xfrm>
        </p:grpSpPr>
        <p:sp>
          <p:nvSpPr>
            <p:cNvPr id="413" name=""/>
            <p:cNvSpPr/>
            <p:nvPr/>
          </p:nvSpPr>
          <p:spPr>
            <a:xfrm>
              <a:off x="1219320" y="1998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独立作业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00400" y="1904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2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3"/>
            <a:stretch/>
          </p:blipFill>
          <p:spPr>
            <a:xfrm>
              <a:off x="3581280" y="152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1219320" y="304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7" name=""/>
          <p:cNvGrpSpPr/>
          <p:nvPr/>
        </p:nvGrpSpPr>
        <p:grpSpPr>
          <a:xfrm>
            <a:off x="6781680" y="4489560"/>
            <a:ext cx="2362320" cy="1834920"/>
            <a:chOff x="6781680" y="4489560"/>
            <a:chExt cx="2362320" cy="1834920"/>
          </a:xfrm>
        </p:grpSpPr>
        <p:pic>
          <p:nvPicPr>
            <p:cNvPr id="418" name="" descr=""/>
            <p:cNvPicPr/>
            <p:nvPr/>
          </p:nvPicPr>
          <p:blipFill>
            <a:blip r:embed="rId5"/>
            <a:stretch/>
          </p:blipFill>
          <p:spPr>
            <a:xfrm>
              <a:off x="6781680" y="448956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7238880" y="52257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990720" y="838080"/>
            <a:ext cx="7619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如图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求作一点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P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使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PC=PD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并且点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P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到∠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OB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的两边的距离相等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5410080"/>
            <a:ext cx="6324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老师期望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养成用数学解释生活的习惯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2362320" y="2057400"/>
            <a:ext cx="4724280" cy="3171240"/>
            <a:chOff x="2362320" y="2057400"/>
            <a:chExt cx="4724280" cy="3171240"/>
          </a:xfrm>
        </p:grpSpPr>
        <p:sp>
          <p:nvSpPr>
            <p:cNvPr id="423" name=""/>
            <p:cNvSpPr/>
            <p:nvPr/>
          </p:nvSpPr>
          <p:spPr>
            <a:xfrm>
              <a:off x="4419720" y="42609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r>
                <a:rPr b="0" lang="en-US" sz="1200" spc="-1" strike="noStrike">
                  <a:solidFill>
                    <a:srgbClr val="5b5249"/>
                  </a:solidFill>
                  <a:latin typeface="Times New Roman"/>
                </a:rPr>
                <a:t>●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100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D</a:t>
              </a:r>
              <a:r>
                <a:rPr b="0" lang="en-US" sz="1200" spc="-1" strike="noStrike">
                  <a:solidFill>
                    <a:srgbClr val="5b5249"/>
                  </a:solidFill>
                  <a:latin typeface="Times New Roman"/>
                </a:rPr>
                <a:t>●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43200" y="4800600"/>
              <a:ext cx="403848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2762280" y="2463840"/>
              <a:ext cx="2724120" cy="23320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3080" y="4768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34120" y="2057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800600" y="304560"/>
            <a:ext cx="2819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习题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1.4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43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219320" y="152280"/>
            <a:ext cx="3581280" cy="685800"/>
            <a:chOff x="1219320" y="152280"/>
            <a:chExt cx="3581280" cy="685800"/>
          </a:xfrm>
        </p:grpSpPr>
        <p:sp>
          <p:nvSpPr>
            <p:cNvPr id="435" name=""/>
            <p:cNvSpPr/>
            <p:nvPr/>
          </p:nvSpPr>
          <p:spPr>
            <a:xfrm>
              <a:off x="1219320" y="1998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独立作业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00400" y="1904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3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3"/>
            <a:stretch/>
          </p:blipFill>
          <p:spPr>
            <a:xfrm>
              <a:off x="3581280" y="152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1219320" y="304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9" name=""/>
          <p:cNvGrpSpPr/>
          <p:nvPr/>
        </p:nvGrpSpPr>
        <p:grpSpPr>
          <a:xfrm>
            <a:off x="6781680" y="4489560"/>
            <a:ext cx="2362320" cy="1834920"/>
            <a:chOff x="6781680" y="4489560"/>
            <a:chExt cx="2362320" cy="1834920"/>
          </a:xfrm>
        </p:grpSpPr>
        <p:pic>
          <p:nvPicPr>
            <p:cNvPr id="440" name="" descr=""/>
            <p:cNvPicPr/>
            <p:nvPr/>
          </p:nvPicPr>
          <p:blipFill>
            <a:blip r:embed="rId5"/>
            <a:stretch/>
          </p:blipFill>
          <p:spPr>
            <a:xfrm>
              <a:off x="6781680" y="448956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7238880" y="52257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838080" y="11430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3.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已知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如图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在△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BC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中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AD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是它的角平分线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且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BD=CD,DE⊥AB,DF⊥AC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垂足分别是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E,F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求证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:EB=FC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90720" y="4699080"/>
            <a:ext cx="57909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老师期望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做完题目后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一定要“</a:t>
            </a: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悟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”到点东西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纳入到自己的认知结构中去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581280" y="2133720"/>
            <a:ext cx="3581640" cy="2895120"/>
            <a:chOff x="3581280" y="2133720"/>
            <a:chExt cx="3581640" cy="2895120"/>
          </a:xfrm>
        </p:grpSpPr>
        <p:sp>
          <p:nvSpPr>
            <p:cNvPr id="445" name=""/>
            <p:cNvSpPr/>
            <p:nvPr/>
          </p:nvSpPr>
          <p:spPr>
            <a:xfrm>
              <a:off x="5715000" y="4572000"/>
              <a:ext cx="457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81280" y="4343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0552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625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05520" y="4497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553080" y="44132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313160" y="3878280"/>
              <a:ext cx="938160" cy="6184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3846600" y="2565360"/>
              <a:ext cx="1387440" cy="19123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65640" y="4000320"/>
              <a:ext cx="168120" cy="1123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4397040" y="4002120"/>
              <a:ext cx="74520" cy="1123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86200" y="4486320"/>
              <a:ext cx="27432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49880" y="2582640"/>
              <a:ext cx="4680" cy="19015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5233680" y="2526840"/>
              <a:ext cx="1392120" cy="19587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6247800" y="3581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5257800" y="3878280"/>
              <a:ext cx="938160" cy="6184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05440" y="3833640"/>
              <a:ext cx="114480" cy="1681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5905440" y="3703680"/>
              <a:ext cx="168480" cy="1296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9880" y="120240"/>
            <a:ext cx="50292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5b5249"/>
                </a:solidFill>
                <a:latin typeface="Times New Roman"/>
                <a:ea typeface="隶书"/>
              </a:rPr>
              <a:t>结束寄语</a:t>
            </a:r>
            <a:endParaRPr b="0" lang="en-US" sz="51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严格性之于数学家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犹如道德之于人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证明的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规范性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在于：条理清晰，因果相应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言必有据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这是初学证明者谨记和遵循的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原则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239840" y="0"/>
            <a:ext cx="2646360" cy="1547640"/>
            <a:chOff x="1239840" y="0"/>
            <a:chExt cx="2646360" cy="1547640"/>
          </a:xfrm>
        </p:grpSpPr>
        <p:pic>
          <p:nvPicPr>
            <p:cNvPr id="465" name="" descr=""/>
            <p:cNvPicPr/>
            <p:nvPr/>
          </p:nvPicPr>
          <p:blipFill>
            <a:blip r:embed="rId1"/>
            <a:stretch/>
          </p:blipFill>
          <p:spPr>
            <a:xfrm>
              <a:off x="2687760" y="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6" name=""/>
            <p:cNvGrpSpPr/>
            <p:nvPr/>
          </p:nvGrpSpPr>
          <p:grpSpPr>
            <a:xfrm>
              <a:off x="1239840" y="42840"/>
              <a:ext cx="1676520" cy="1191960"/>
              <a:chOff x="1239840" y="42840"/>
              <a:chExt cx="1676520" cy="1191960"/>
            </a:xfrm>
          </p:grpSpPr>
          <p:sp>
            <p:nvSpPr>
              <p:cNvPr id="467" name=""/>
              <p:cNvSpPr/>
              <p:nvPr/>
            </p:nvSpPr>
            <p:spPr>
              <a:xfrm>
                <a:off x="1239840" y="6732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58560" y="42840"/>
                <a:ext cx="1657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1392120" y="38088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362320" y="4343400"/>
            <a:ext cx="5333400" cy="2133000"/>
            <a:chOff x="2362320" y="4343400"/>
            <a:chExt cx="5333400" cy="2133000"/>
          </a:xfrm>
        </p:grpSpPr>
        <p:grpSp>
          <p:nvGrpSpPr>
            <p:cNvPr id="471" name=""/>
            <p:cNvGrpSpPr/>
            <p:nvPr/>
          </p:nvGrpSpPr>
          <p:grpSpPr>
            <a:xfrm>
              <a:off x="2362320" y="4343400"/>
              <a:ext cx="5333400" cy="2133000"/>
              <a:chOff x="2362320" y="4343400"/>
              <a:chExt cx="5333400" cy="2133000"/>
            </a:xfrm>
          </p:grpSpPr>
          <p:sp>
            <p:nvSpPr>
              <p:cNvPr id="472" name=""/>
              <p:cNvSpPr/>
              <p:nvPr/>
            </p:nvSpPr>
            <p:spPr>
              <a:xfrm>
                <a:off x="2362320" y="4343400"/>
                <a:ext cx="5333400" cy="2133000"/>
              </a:xfrm>
              <a:prstGeom prst="horizont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eded"/>
                  </a:gs>
                </a:gsLst>
                <a:lin ang="10800000"/>
              </a:gra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5b5249"/>
                    </a:solidFill>
                    <a:latin typeface="Times New Roman"/>
                    <a:ea typeface="华文行楷"/>
                  </a:rPr>
                  <a:t>  </a:t>
                </a:r>
                <a:endParaRPr b="0" lang="en-US" sz="6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pic>
            <p:nvPicPr>
              <p:cNvPr id="4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99240" y="4871160"/>
                <a:ext cx="879120" cy="1011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4" name=""/>
            <p:cNvGrpSpPr/>
            <p:nvPr/>
          </p:nvGrpSpPr>
          <p:grpSpPr>
            <a:xfrm>
              <a:off x="3048120" y="4647960"/>
              <a:ext cx="2971800" cy="1524240"/>
              <a:chOff x="3048120" y="4647960"/>
              <a:chExt cx="2971800" cy="1524240"/>
            </a:xfrm>
          </p:grpSpPr>
          <p:sp>
            <p:nvSpPr>
              <p:cNvPr id="475" name=""/>
              <p:cNvSpPr txBox="1"/>
              <p:nvPr/>
            </p:nvSpPr>
            <p:spPr>
              <a:xfrm>
                <a:off x="3048120" y="4647960"/>
                <a:ext cx="2971800" cy="1524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FadeRight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0000"/>
                    </a:solidFill>
                    <a:latin typeface="宋体"/>
                  </a:rPr>
                  <a:t>再    见</a:t>
                </a:r>
                <a:endPara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ff0000"/>
                  </a:solidFill>
                  <a:latin typeface="宋体"/>
                  <a:ea typeface="宋体"/>
                </a:endParaRPr>
              </a:p>
            </p:txBody>
          </p:sp>
          <p:pic>
            <p:nvPicPr>
              <p:cNvPr id="47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819600" y="4724280"/>
                <a:ext cx="676080" cy="12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648320" y="4800600"/>
                <a:ext cx="652320" cy="11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7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6781680" y="3733920"/>
            <a:ext cx="2362320" cy="2485800"/>
            <a:chOff x="6781680" y="3733920"/>
            <a:chExt cx="2362320" cy="24858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6781680" y="438480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238880" y="373392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43400" y="-16200"/>
            <a:ext cx="44956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角平分线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8380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你还能利用折纸的方法得到角平分线及角平分线上的点吗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62120" y="-136800"/>
            <a:ext cx="3124080" cy="1095480"/>
            <a:chOff x="762120" y="-136800"/>
            <a:chExt cx="3124080" cy="1095480"/>
          </a:xfrm>
        </p:grpSpPr>
        <p:sp>
          <p:nvSpPr>
            <p:cNvPr id="109" name=""/>
            <p:cNvSpPr/>
            <p:nvPr/>
          </p:nvSpPr>
          <p:spPr>
            <a:xfrm>
              <a:off x="762120" y="0"/>
              <a:ext cx="312408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6"/>
            <a:stretch/>
          </p:blipFill>
          <p:spPr>
            <a:xfrm>
              <a:off x="1828800" y="181080"/>
              <a:ext cx="8377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914400" y="-136800"/>
              <a:ext cx="2742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回顾        思考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62120" y="22860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已知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: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如图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OC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是∠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OB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平分线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P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是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OC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上任意一点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PD⊥OA,PE⊥OB,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垂足分别是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D,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求证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:PD=P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495680"/>
            <a:ext cx="3886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而△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OPD≌△OPB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条件由已知易知它满足公理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(AAS).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541008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故结论可证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594360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老师期望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能写出规范的证明过程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581280"/>
            <a:ext cx="4091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分析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要证明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PD=PE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只要证明它们所在的△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OPD≌△OPB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21932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你还记得角平分线上的点有什么性质吗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6002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角平分线上的点到这个角的两边距离相等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9810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你能证明这一结论吗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648320" y="2666880"/>
            <a:ext cx="2971800" cy="2898000"/>
            <a:chOff x="4648320" y="2666880"/>
            <a:chExt cx="2971800" cy="2898000"/>
          </a:xfrm>
        </p:grpSpPr>
        <p:grpSp>
          <p:nvGrpSpPr>
            <p:cNvPr id="121" name=""/>
            <p:cNvGrpSpPr/>
            <p:nvPr/>
          </p:nvGrpSpPr>
          <p:grpSpPr>
            <a:xfrm>
              <a:off x="4648320" y="2666880"/>
              <a:ext cx="2971800" cy="2898000"/>
              <a:chOff x="4648320" y="2666880"/>
              <a:chExt cx="2971800" cy="2898000"/>
            </a:xfrm>
          </p:grpSpPr>
          <p:sp>
            <p:nvSpPr>
              <p:cNvPr id="122" name=""/>
              <p:cNvSpPr/>
              <p:nvPr/>
            </p:nvSpPr>
            <p:spPr>
              <a:xfrm>
                <a:off x="4648320" y="3962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162920" y="4038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477120" y="5105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562720" y="37335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465960" y="2666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105520" y="4114800"/>
                <a:ext cx="213336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29400" y="4038480"/>
                <a:ext cx="0" cy="2286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5105520" y="3124080"/>
                <a:ext cx="1589040" cy="9907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flipV="1">
                <a:off x="5116680" y="4114440"/>
                <a:ext cx="1589040" cy="9903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34480" y="3886200"/>
                <a:ext cx="30384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34120" y="4114800"/>
                <a:ext cx="151920" cy="39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562720" y="4038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553080" y="37335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6190920" y="3431520"/>
                <a:ext cx="438120" cy="682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22800" y="3562200"/>
                <a:ext cx="111240" cy="16848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6134040" y="3580920"/>
                <a:ext cx="209520" cy="14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6626160" y="4723920"/>
                <a:ext cx="0" cy="2286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6187680" y="4117680"/>
                <a:ext cx="438120" cy="682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6019920" y="4555800"/>
                <a:ext cx="110880" cy="168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130800" y="4574880"/>
                <a:ext cx="209520" cy="14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5902200" y="3047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0544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6781680" y="4419720"/>
            <a:ext cx="2362320" cy="1834920"/>
            <a:chOff x="6781680" y="4419720"/>
            <a:chExt cx="2362320" cy="183492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6781680" y="441972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238880" y="515592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724280" y="60120"/>
            <a:ext cx="4191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几何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三种语言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02560" y="6400800"/>
            <a:ext cx="389160" cy="37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2168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4" action="ppaction://hlinksldjump"/>
          </p:cNvPr>
          <p:cNvSpPr/>
          <p:nvPr/>
        </p:nvSpPr>
        <p:spPr>
          <a:xfrm>
            <a:off x="7612200" y="6400800"/>
            <a:ext cx="598320" cy="336600"/>
          </a:xfrm>
          <a:custGeom>
            <a:avLst/>
            <a:gdLst>
              <a:gd name="textAreaLeft" fmla="*/ 21600 w 598320"/>
              <a:gd name="textAreaRight" fmla="*/ 576720 w 59832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377" h="21600">
                <a:moveTo>
                  <a:pt x="0" y="0"/>
                </a:moveTo>
                <a:lnTo>
                  <a:pt x="38377" y="0"/>
                </a:lnTo>
                <a:lnTo>
                  <a:pt x="38377" y="21600"/>
                </a:lnTo>
                <a:lnTo>
                  <a:pt x="0" y="21600"/>
                </a:lnTo>
                <a:close/>
              </a:path>
              <a:path fill="lightenLess" w="38377" h="21600">
                <a:moveTo>
                  <a:pt x="0" y="0"/>
                </a:moveTo>
                <a:lnTo>
                  <a:pt x="38377" y="0"/>
                </a:lnTo>
                <a:lnTo>
                  <a:pt x="36977" y="1400"/>
                </a:lnTo>
                <a:lnTo>
                  <a:pt x="1400" y="1400"/>
                </a:lnTo>
                <a:close/>
              </a:path>
              <a:path fill="darken" w="38377" h="21600">
                <a:moveTo>
                  <a:pt x="38377" y="0"/>
                </a:moveTo>
                <a:lnTo>
                  <a:pt x="38377" y="21600"/>
                </a:lnTo>
                <a:lnTo>
                  <a:pt x="36977" y="20200"/>
                </a:lnTo>
                <a:lnTo>
                  <a:pt x="36977" y="1400"/>
                </a:lnTo>
                <a:close/>
              </a:path>
              <a:path fill="darkenLess" w="38377" h="21600">
                <a:moveTo>
                  <a:pt x="38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7" y="20200"/>
                </a:lnTo>
                <a:close/>
              </a:path>
              <a:path fill="lighten" w="38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77" h="21600">
                <a:moveTo>
                  <a:pt x="22687" y="10800"/>
                </a:moveTo>
                <a:lnTo>
                  <a:pt x="12182" y="17806"/>
                </a:lnTo>
                <a:lnTo>
                  <a:pt x="12182" y="3794"/>
                </a:lnTo>
                <a:close/>
              </a:path>
              <a:path fill="darken" w="38377" h="21600">
                <a:moveTo>
                  <a:pt x="24533" y="3794"/>
                </a:moveTo>
                <a:lnTo>
                  <a:pt x="24533" y="17806"/>
                </a:lnTo>
                <a:lnTo>
                  <a:pt x="26195" y="17806"/>
                </a:lnTo>
                <a:lnTo>
                  <a:pt x="26195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14300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定理 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角平分线上的点到这个角的两边距离相等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51055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老师提示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这个结论是经常用来证明两条线段相等的根据之一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90720" y="-136800"/>
            <a:ext cx="3124080" cy="1095480"/>
            <a:chOff x="990720" y="-136800"/>
            <a:chExt cx="3124080" cy="1095480"/>
          </a:xfrm>
        </p:grpSpPr>
        <p:sp>
          <p:nvSpPr>
            <p:cNvPr id="154" name=""/>
            <p:cNvSpPr/>
            <p:nvPr/>
          </p:nvSpPr>
          <p:spPr>
            <a:xfrm>
              <a:off x="990720" y="0"/>
              <a:ext cx="312408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6"/>
            <a:stretch/>
          </p:blipFill>
          <p:spPr>
            <a:xfrm>
              <a:off x="2057400" y="181080"/>
              <a:ext cx="8377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143000" y="-136800"/>
              <a:ext cx="2742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开启        智慧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762120" y="1828800"/>
            <a:ext cx="487656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如图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∵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OC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是∠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OB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的平分线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P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是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OC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上任意一点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PD⊥OA,PE⊥OB,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垂足分别是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D,E(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已知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∴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PD=PE(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角平分线上的点到这个角的两边距离相等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486400" y="1905120"/>
            <a:ext cx="2971800" cy="2898000"/>
            <a:chOff x="5486400" y="1905120"/>
            <a:chExt cx="2971800" cy="2898000"/>
          </a:xfrm>
        </p:grpSpPr>
        <p:grpSp>
          <p:nvGrpSpPr>
            <p:cNvPr id="159" name=""/>
            <p:cNvGrpSpPr/>
            <p:nvPr/>
          </p:nvGrpSpPr>
          <p:grpSpPr>
            <a:xfrm>
              <a:off x="5486400" y="1905120"/>
              <a:ext cx="2971800" cy="2898000"/>
              <a:chOff x="5486400" y="1905120"/>
              <a:chExt cx="2971800" cy="2898000"/>
            </a:xfrm>
          </p:grpSpPr>
          <p:sp>
            <p:nvSpPr>
              <p:cNvPr id="160" name=""/>
              <p:cNvSpPr/>
              <p:nvPr/>
            </p:nvSpPr>
            <p:spPr>
              <a:xfrm>
                <a:off x="5486400" y="3200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001000" y="3276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15200" y="4343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00800" y="2971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304040" y="1905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943600" y="3353040"/>
                <a:ext cx="213336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467480" y="3276720"/>
                <a:ext cx="0" cy="2286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5943600" y="2362320"/>
                <a:ext cx="1589040" cy="9907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flipV="1">
                <a:off x="5954760" y="3352680"/>
                <a:ext cx="1589040" cy="9903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172560" y="3124440"/>
                <a:ext cx="30384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172200" y="3353040"/>
                <a:ext cx="151920" cy="39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00800" y="3276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91160" y="2971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7029000" y="2669760"/>
                <a:ext cx="438120" cy="682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60880" y="2800440"/>
                <a:ext cx="111240" cy="16848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972120" y="2819160"/>
                <a:ext cx="209520" cy="14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7464240" y="3962160"/>
                <a:ext cx="0" cy="2286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7025760" y="3355920"/>
                <a:ext cx="438120" cy="682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6858000" y="3794040"/>
                <a:ext cx="110880" cy="168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968880" y="3813120"/>
                <a:ext cx="209520" cy="14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674028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4352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4343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进步的标志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8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188" name="" descr=""/>
            <p:cNvPicPr/>
            <p:nvPr/>
          </p:nvPicPr>
          <p:blipFill>
            <a:blip r:embed="rId4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426000" y="0"/>
            <a:ext cx="2717640" cy="2059920"/>
            <a:chOff x="6426000" y="0"/>
            <a:chExt cx="2717640" cy="2059920"/>
          </a:xfrm>
        </p:grpSpPr>
        <p:grpSp>
          <p:nvGrpSpPr>
            <p:cNvPr id="191" name=""/>
            <p:cNvGrpSpPr/>
            <p:nvPr/>
          </p:nvGrpSpPr>
          <p:grpSpPr>
            <a:xfrm>
              <a:off x="6426000" y="0"/>
              <a:ext cx="2717640" cy="2059920"/>
              <a:chOff x="6426000" y="0"/>
              <a:chExt cx="2717640" cy="20599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6515280" y="0"/>
                <a:ext cx="1218960" cy="2059920"/>
                <a:chOff x="6515280" y="0"/>
                <a:chExt cx="1218960" cy="20599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515280" y="0"/>
                  <a:ext cx="1191240" cy="2059920"/>
                </a:xfrm>
                <a:prstGeom prst="horizontalScroll">
                  <a:avLst>
                    <a:gd name="adj" fmla="val 12500"/>
                  </a:avLst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529320" y="179640"/>
                  <a:ext cx="1204920" cy="58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6426000" y="155520"/>
                <a:ext cx="1155240" cy="17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思考分析</a:t>
                </a:r>
                <a:endParaRPr b="0" lang="en-US" sz="32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pic>
            <p:nvPicPr>
              <p:cNvPr id="1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734240" y="79200"/>
                <a:ext cx="1409400" cy="1809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7" name="" descr=""/>
            <p:cNvPicPr/>
            <p:nvPr/>
          </p:nvPicPr>
          <p:blipFill>
            <a:blip r:embed="rId7"/>
            <a:stretch/>
          </p:blipFill>
          <p:spPr>
            <a:xfrm>
              <a:off x="8077320" y="228600"/>
              <a:ext cx="32688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"/>
          <p:cNvSpPr/>
          <p:nvPr/>
        </p:nvSpPr>
        <p:spPr>
          <a:xfrm>
            <a:off x="685800" y="7621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能写出“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定理 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角平分线上的点到这个角的两边距离相等”的逆命题吗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67652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逆命题 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在一个角的内部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且到角的两边距离相等的点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在这个角的平分线上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438280"/>
            <a:ext cx="3429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它是真命题吗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19520"/>
            <a:ext cx="4191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如果是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请你证明它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3124080"/>
            <a:ext cx="5486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已知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如图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PA=PB, PD⊥OA,PE⊥OB,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垂足分别是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D,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求证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点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P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在∠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OB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的平分线上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4343400"/>
            <a:ext cx="6324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分析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要证明点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P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在∠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OB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的</a:t>
            </a: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平分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线上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可以先作出过点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P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的射线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OC,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然后证明∠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1=∠2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5715000"/>
            <a:ext cx="609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老师期望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能写出规范的证明过程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943600" y="2133720"/>
            <a:ext cx="2971800" cy="2898000"/>
            <a:chOff x="5943600" y="2133720"/>
            <a:chExt cx="2971800" cy="2898000"/>
          </a:xfrm>
        </p:grpSpPr>
        <p:grpSp>
          <p:nvGrpSpPr>
            <p:cNvPr id="206" name=""/>
            <p:cNvGrpSpPr/>
            <p:nvPr/>
          </p:nvGrpSpPr>
          <p:grpSpPr>
            <a:xfrm>
              <a:off x="5943600" y="2133720"/>
              <a:ext cx="2971800" cy="2898000"/>
              <a:chOff x="5943600" y="2133720"/>
              <a:chExt cx="2971800" cy="2898000"/>
            </a:xfrm>
          </p:grpSpPr>
          <p:sp>
            <p:nvSpPr>
              <p:cNvPr id="207" name=""/>
              <p:cNvSpPr/>
              <p:nvPr/>
            </p:nvSpPr>
            <p:spPr>
              <a:xfrm>
                <a:off x="5943600" y="3429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458200" y="3505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7240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858000" y="3200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761240" y="2133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400800" y="3581640"/>
                <a:ext cx="213336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924680" y="3505320"/>
                <a:ext cx="0" cy="2286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6400800" y="2590920"/>
                <a:ext cx="1589040" cy="9907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flipV="1">
                <a:off x="6411960" y="3581280"/>
                <a:ext cx="1589040" cy="9903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629760" y="3353040"/>
                <a:ext cx="30384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629400" y="3581640"/>
                <a:ext cx="151920" cy="39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858000" y="3505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848360" y="3200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flipV="1">
                <a:off x="7486200" y="2898360"/>
                <a:ext cx="438120" cy="682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318080" y="3029040"/>
                <a:ext cx="111240" cy="16848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7429320" y="3047760"/>
                <a:ext cx="209520" cy="14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7921440" y="4190760"/>
                <a:ext cx="0" cy="2286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7482960" y="3584520"/>
                <a:ext cx="438120" cy="682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7315200" y="4022640"/>
                <a:ext cx="110880" cy="168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426080" y="4041720"/>
                <a:ext cx="209520" cy="14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19748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0072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19720" y="60120"/>
            <a:ext cx="4572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逆定理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3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02560" y="6400800"/>
            <a:ext cx="389160" cy="378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2168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rId4" action="ppaction://hlinksldjump"/>
          </p:cNvPr>
          <p:cNvSpPr/>
          <p:nvPr/>
        </p:nvSpPr>
        <p:spPr>
          <a:xfrm>
            <a:off x="7612200" y="6400800"/>
            <a:ext cx="598320" cy="336600"/>
          </a:xfrm>
          <a:custGeom>
            <a:avLst/>
            <a:gdLst>
              <a:gd name="textAreaLeft" fmla="*/ 21600 w 598320"/>
              <a:gd name="textAreaRight" fmla="*/ 576720 w 59832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377" h="21600">
                <a:moveTo>
                  <a:pt x="0" y="0"/>
                </a:moveTo>
                <a:lnTo>
                  <a:pt x="38377" y="0"/>
                </a:lnTo>
                <a:lnTo>
                  <a:pt x="38377" y="21600"/>
                </a:lnTo>
                <a:lnTo>
                  <a:pt x="0" y="21600"/>
                </a:lnTo>
                <a:close/>
              </a:path>
              <a:path fill="lightenLess" w="38377" h="21600">
                <a:moveTo>
                  <a:pt x="0" y="0"/>
                </a:moveTo>
                <a:lnTo>
                  <a:pt x="38377" y="0"/>
                </a:lnTo>
                <a:lnTo>
                  <a:pt x="36977" y="1400"/>
                </a:lnTo>
                <a:lnTo>
                  <a:pt x="1400" y="1400"/>
                </a:lnTo>
                <a:close/>
              </a:path>
              <a:path fill="darken" w="38377" h="21600">
                <a:moveTo>
                  <a:pt x="38377" y="0"/>
                </a:moveTo>
                <a:lnTo>
                  <a:pt x="38377" y="21600"/>
                </a:lnTo>
                <a:lnTo>
                  <a:pt x="36977" y="20200"/>
                </a:lnTo>
                <a:lnTo>
                  <a:pt x="36977" y="1400"/>
                </a:lnTo>
                <a:close/>
              </a:path>
              <a:path fill="darkenLess" w="38377" h="21600">
                <a:moveTo>
                  <a:pt x="38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7" y="20200"/>
                </a:lnTo>
                <a:close/>
              </a:path>
              <a:path fill="lighten" w="38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77" h="21600">
                <a:moveTo>
                  <a:pt x="22687" y="10800"/>
                </a:moveTo>
                <a:lnTo>
                  <a:pt x="12182" y="17806"/>
                </a:lnTo>
                <a:lnTo>
                  <a:pt x="12182" y="3794"/>
                </a:lnTo>
                <a:close/>
              </a:path>
              <a:path fill="darken" w="38377" h="21600">
                <a:moveTo>
                  <a:pt x="24533" y="3794"/>
                </a:moveTo>
                <a:lnTo>
                  <a:pt x="24533" y="17806"/>
                </a:lnTo>
                <a:lnTo>
                  <a:pt x="26195" y="17806"/>
                </a:lnTo>
                <a:lnTo>
                  <a:pt x="26195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219320" y="76320"/>
            <a:ext cx="3581280" cy="685800"/>
            <a:chOff x="1219320" y="76320"/>
            <a:chExt cx="3581280" cy="685800"/>
          </a:xfrm>
        </p:grpSpPr>
        <p:sp>
          <p:nvSpPr>
            <p:cNvPr id="237" name=""/>
            <p:cNvSpPr/>
            <p:nvPr/>
          </p:nvSpPr>
          <p:spPr>
            <a:xfrm>
              <a:off x="1219320" y="12384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我能行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00400" y="11448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5"/>
            <a:stretch/>
          </p:blipFill>
          <p:spPr>
            <a:xfrm>
              <a:off x="3581280" y="763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>
              <a:hlinkClick r:id="" action="ppaction://hlinkshowjump?jump=lastslide"/>
            </p:cNvPr>
            <p:cNvPicPr/>
            <p:nvPr/>
          </p:nvPicPr>
          <p:blipFill>
            <a:blip r:embed="rId6"/>
            <a:stretch/>
          </p:blipFill>
          <p:spPr>
            <a:xfrm>
              <a:off x="1219320" y="2286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"/>
          <p:cNvSpPr/>
          <p:nvPr/>
        </p:nvSpPr>
        <p:spPr>
          <a:xfrm>
            <a:off x="7621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逆定理 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在一个角的内部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且到角的两边距离相等的点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在这个角的平分线上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410080"/>
            <a:ext cx="5867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1905120"/>
            <a:ext cx="5489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如图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∵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PA=PB, PD⊥OA,PE⊥OB,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垂足分别是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D,E(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已知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)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∴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点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P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在∠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OB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的平分线上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(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在一个角的内部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且到角的两边距离相等的点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在这个角的平分线上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4343400"/>
            <a:ext cx="594360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老师提示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这个结论又是经常用来证明</a:t>
            </a:r>
            <a:r>
              <a:rPr b="0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点在直线上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或</a:t>
            </a:r>
            <a:r>
              <a:rPr b="0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直线经过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某一</a:t>
            </a:r>
            <a:r>
              <a:rPr b="0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点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的根据之一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从这个结果出发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还能联想到什么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095880" y="2133720"/>
            <a:ext cx="2971800" cy="2898000"/>
            <a:chOff x="6095880" y="2133720"/>
            <a:chExt cx="2971800" cy="2898000"/>
          </a:xfrm>
        </p:grpSpPr>
        <p:grpSp>
          <p:nvGrpSpPr>
            <p:cNvPr id="246" name=""/>
            <p:cNvGrpSpPr/>
            <p:nvPr/>
          </p:nvGrpSpPr>
          <p:grpSpPr>
            <a:xfrm>
              <a:off x="6095880" y="2133720"/>
              <a:ext cx="2971800" cy="2898000"/>
              <a:chOff x="6095880" y="2133720"/>
              <a:chExt cx="2971800" cy="2898000"/>
            </a:xfrm>
          </p:grpSpPr>
          <p:sp>
            <p:nvSpPr>
              <p:cNvPr id="247" name=""/>
              <p:cNvSpPr/>
              <p:nvPr/>
            </p:nvSpPr>
            <p:spPr>
              <a:xfrm>
                <a:off x="6095880" y="3429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610480" y="3505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2468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010280" y="3200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913520" y="2133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553080" y="3581640"/>
                <a:ext cx="213336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076960" y="3505320"/>
                <a:ext cx="0" cy="2286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553080" y="2590920"/>
                <a:ext cx="1589040" cy="9907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6564240" y="3581280"/>
                <a:ext cx="1589040" cy="9903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82040" y="3353040"/>
                <a:ext cx="30384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81680" y="3581640"/>
                <a:ext cx="151920" cy="39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10280" y="3505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000640" y="3200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flipV="1">
                <a:off x="7638480" y="2898360"/>
                <a:ext cx="438120" cy="682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70360" y="3029040"/>
                <a:ext cx="111240" cy="16848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7581600" y="3047760"/>
                <a:ext cx="209520" cy="14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8073720" y="4190760"/>
                <a:ext cx="0" cy="2286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7635240" y="3584520"/>
                <a:ext cx="438120" cy="682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467480" y="4022640"/>
                <a:ext cx="110880" cy="168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578360" y="4041720"/>
                <a:ext cx="209520" cy="14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734976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5300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270" name="" descr=""/>
            <p:cNvPicPr/>
            <p:nvPr/>
          </p:nvPicPr>
          <p:blipFill>
            <a:blip r:embed="rId1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19720" y="60120"/>
            <a:ext cx="4572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尺规作图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7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02560" y="6400800"/>
            <a:ext cx="389160" cy="378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2168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75" name="">
            <a:hlinkClick r:id="rId4" action="ppaction://hlinksldjump"/>
          </p:cNvPr>
          <p:cNvSpPr/>
          <p:nvPr/>
        </p:nvSpPr>
        <p:spPr>
          <a:xfrm>
            <a:off x="723096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219320" y="76320"/>
            <a:ext cx="3581280" cy="685800"/>
            <a:chOff x="1219320" y="76320"/>
            <a:chExt cx="3581280" cy="685800"/>
          </a:xfrm>
        </p:grpSpPr>
        <p:sp>
          <p:nvSpPr>
            <p:cNvPr id="277" name=""/>
            <p:cNvSpPr/>
            <p:nvPr/>
          </p:nvSpPr>
          <p:spPr>
            <a:xfrm>
              <a:off x="1219320" y="12384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做一做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00400" y="11448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5"/>
            <a:stretch/>
          </p:blipFill>
          <p:spPr>
            <a:xfrm>
              <a:off x="3581280" y="763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>
              <a:hlinkClick r:id="" action="ppaction://hlinkshowjump?jump=lastslide"/>
            </p:cNvPr>
            <p:cNvPicPr/>
            <p:nvPr/>
          </p:nvPicPr>
          <p:blipFill>
            <a:blip r:embed="rId6"/>
            <a:stretch/>
          </p:blipFill>
          <p:spPr>
            <a:xfrm>
              <a:off x="1219320" y="2286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"/>
          <p:cNvSpPr/>
          <p:nvPr/>
        </p:nvSpPr>
        <p:spPr>
          <a:xfrm>
            <a:off x="380880" y="1447920"/>
            <a:ext cx="5334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已知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: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∠AOB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如图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求作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射线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OC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使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∠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OC=∠BOC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作法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9288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用尺规作角的平分线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26668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1.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在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OAT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和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OB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上分别截取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OD,OE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使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OD=O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3200400"/>
            <a:ext cx="5537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2.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分别以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D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和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E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为圆心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以大于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DE/2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长为半径作弧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两弧在 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∠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OB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内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交于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C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4038480"/>
            <a:ext cx="541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3.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作射线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O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495288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请你说明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OC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为什么是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∠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OB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平分线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并与同伴进行交流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5410080"/>
            <a:ext cx="5943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老师提示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作角平分线是最基本的尺规作图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这种方法要确实掌握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562720" y="852480"/>
            <a:ext cx="3429000" cy="2807640"/>
            <a:chOff x="5562720" y="852480"/>
            <a:chExt cx="3429000" cy="2807640"/>
          </a:xfrm>
        </p:grpSpPr>
        <p:sp>
          <p:nvSpPr>
            <p:cNvPr id="289" name=""/>
            <p:cNvSpPr/>
            <p:nvPr/>
          </p:nvSpPr>
          <p:spPr>
            <a:xfrm>
              <a:off x="7612200" y="852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42004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62720" y="2971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43600" y="3200400"/>
              <a:ext cx="3048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943600" y="893520"/>
              <a:ext cx="2278080" cy="23068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 flipV="1">
            <a:off x="5918040" y="1757520"/>
            <a:ext cx="3183120" cy="14428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841160" y="1383120"/>
            <a:ext cx="1302840" cy="1497600"/>
            <a:chOff x="7841160" y="1383120"/>
            <a:chExt cx="1302840" cy="1497600"/>
          </a:xfrm>
        </p:grpSpPr>
        <p:sp>
          <p:nvSpPr>
            <p:cNvPr id="296" name=""/>
            <p:cNvSpPr/>
            <p:nvPr/>
          </p:nvSpPr>
          <p:spPr>
            <a:xfrm rot="3923400">
              <a:off x="7965360" y="1506240"/>
              <a:ext cx="76032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rot="3910800">
              <a:off x="8119800" y="1925280"/>
              <a:ext cx="91296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534520" y="1447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380880" y="4495680"/>
            <a:ext cx="541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则射线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OC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就是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∠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OB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平分线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128280" y="1523880"/>
            <a:ext cx="2101320" cy="3760200"/>
            <a:chOff x="6128280" y="1523880"/>
            <a:chExt cx="2101320" cy="3760200"/>
          </a:xfrm>
        </p:grpSpPr>
        <p:grpSp>
          <p:nvGrpSpPr>
            <p:cNvPr id="301" name=""/>
            <p:cNvGrpSpPr/>
            <p:nvPr/>
          </p:nvGrpSpPr>
          <p:grpSpPr>
            <a:xfrm>
              <a:off x="6128280" y="1523880"/>
              <a:ext cx="2101320" cy="3760200"/>
              <a:chOff x="6128280" y="1523880"/>
              <a:chExt cx="2101320" cy="3760200"/>
            </a:xfrm>
          </p:grpSpPr>
          <p:sp>
            <p:nvSpPr>
              <p:cNvPr id="302" name=""/>
              <p:cNvSpPr/>
              <p:nvPr/>
            </p:nvSpPr>
            <p:spPr>
              <a:xfrm>
                <a:off x="7620120" y="31287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128280" y="1887480"/>
                <a:ext cx="1634400" cy="339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781680" y="152388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6705720" y="2257200"/>
              <a:ext cx="141120" cy="1810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91280" y="3071520"/>
              <a:ext cx="1800" cy="2293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47960" y="228600"/>
            <a:ext cx="4343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挑战自我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0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310" name="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228600"/>
            <a:ext cx="3581280" cy="685800"/>
            <a:chOff x="1219320" y="228600"/>
            <a:chExt cx="3581280" cy="685800"/>
          </a:xfrm>
        </p:grpSpPr>
        <p:sp>
          <p:nvSpPr>
            <p:cNvPr id="312" name=""/>
            <p:cNvSpPr/>
            <p:nvPr/>
          </p:nvSpPr>
          <p:spPr>
            <a:xfrm>
              <a:off x="1219320" y="2761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随堂练习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00400" y="26676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4"/>
            <a:stretch/>
          </p:blipFill>
          <p:spPr>
            <a:xfrm>
              <a:off x="3581280" y="2286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219320" y="3808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6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317" name="" descr=""/>
            <p:cNvPicPr/>
            <p:nvPr/>
          </p:nvPicPr>
          <p:blipFill>
            <a:blip r:embed="rId6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457200" y="11239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如图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AD,AE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分别是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△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BC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中∠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的内角平分线外角平分线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它们有什么关系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5175360"/>
            <a:ext cx="5486400" cy="13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老师期望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能说出结论并能证明它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878200" y="1905120"/>
            <a:ext cx="4132080" cy="2364480"/>
            <a:chOff x="2878200" y="1905120"/>
            <a:chExt cx="4132080" cy="2364480"/>
          </a:xfrm>
        </p:grpSpPr>
        <p:sp>
          <p:nvSpPr>
            <p:cNvPr id="322" name=""/>
            <p:cNvSpPr/>
            <p:nvPr/>
          </p:nvSpPr>
          <p:spPr>
            <a:xfrm>
              <a:off x="6553080" y="2333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57600" y="2742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9752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782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19720" y="1905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068640" y="3885840"/>
              <a:ext cx="340848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41640" y="2020680"/>
              <a:ext cx="184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181480" y="2549160"/>
              <a:ext cx="1349640" cy="13363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flipV="1">
              <a:off x="3992040" y="3033000"/>
              <a:ext cx="1195560" cy="8586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4851000" y="2138040"/>
              <a:ext cx="336600" cy="17539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3135240" y="2174400"/>
              <a:ext cx="1716120" cy="16995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24480" y="38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4300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23920" y="990720"/>
            <a:ext cx="4038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梦想成真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3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338" name="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219320" y="609480"/>
            <a:ext cx="3581280" cy="685800"/>
            <a:chOff x="1219320" y="609480"/>
            <a:chExt cx="3581280" cy="685800"/>
          </a:xfrm>
        </p:grpSpPr>
        <p:sp>
          <p:nvSpPr>
            <p:cNvPr id="340" name=""/>
            <p:cNvSpPr/>
            <p:nvPr/>
          </p:nvSpPr>
          <p:spPr>
            <a:xfrm>
              <a:off x="1219320" y="6570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随堂练习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0400" y="6476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2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4"/>
            <a:stretch/>
          </p:blipFill>
          <p:spPr>
            <a:xfrm>
              <a:off x="3581280" y="6094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219320" y="7617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4" name=""/>
          <p:cNvSpPr/>
          <p:nvPr/>
        </p:nvSpPr>
        <p:spPr>
          <a:xfrm>
            <a:off x="838080" y="18288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如图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一目标在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区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到期公路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铁路距离相等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离公路与铁路的交叉处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500m.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在图上标出它的位置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比例尺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:20 000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981080" y="3124080"/>
            <a:ext cx="5085000" cy="2514600"/>
            <a:chOff x="1981080" y="3124080"/>
            <a:chExt cx="5085000" cy="2514600"/>
          </a:xfrm>
        </p:grpSpPr>
        <p:sp>
          <p:nvSpPr>
            <p:cNvPr id="346" name=""/>
            <p:cNvSpPr/>
            <p:nvPr/>
          </p:nvSpPr>
          <p:spPr>
            <a:xfrm>
              <a:off x="2819520" y="4038480"/>
              <a:ext cx="99036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0" lang="zh-CN" sz="2800" spc="-1" strike="noStrike">
                  <a:solidFill>
                    <a:srgbClr val="5b5249"/>
                  </a:solidFill>
                  <a:latin typeface="Times New Roman"/>
                </a:rPr>
                <a:t>区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981080" y="4295880"/>
              <a:ext cx="5085000" cy="1342800"/>
            </a:xfrm>
            <a:prstGeom prst="line">
              <a:avLst/>
            </a:prstGeom>
            <a:ln w="12708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00400" y="3124080"/>
              <a:ext cx="3581280" cy="2514600"/>
            </a:xfrm>
            <a:prstGeom prst="line">
              <a:avLst/>
            </a:prstGeom>
            <a:ln w="13968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90760" y="151920"/>
            <a:ext cx="4724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回味无穷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579132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buClr>
                <a:srgbClr val="2a3d7a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定理 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角平分线上的点到这个角的两边距离相等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2a3d7a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∵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OC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是∠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OB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平分线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P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是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OC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上任意一点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PD⊥OA,PE⊥OB,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垂足分别是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D,E(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已知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∴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PD=PE(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角平分线上的点到这个角的两边距离相等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)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2a3d7a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逆定理 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在一个角的内部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且到角的两边距离相等的点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在这个角的平分线上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2a3d7a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∵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PA=PB, PD⊥OA,PE⊥OB,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垂足分别是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D,E(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已知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)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2a3d7a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∴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点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P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在∠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OB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平分线上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(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在一个角的内部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且到角的两边距离相等的点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在这个角的平分线上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)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2a3d7a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用尺规作角的平分线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2a3d7a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邻补角的角平分线之间的关系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2a3d7a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295280" y="0"/>
            <a:ext cx="2819160" cy="1297440"/>
            <a:chOff x="1295280" y="0"/>
            <a:chExt cx="2819160" cy="1297440"/>
          </a:xfrm>
        </p:grpSpPr>
        <p:grpSp>
          <p:nvGrpSpPr>
            <p:cNvPr id="352" name=""/>
            <p:cNvGrpSpPr/>
            <p:nvPr/>
          </p:nvGrpSpPr>
          <p:grpSpPr>
            <a:xfrm>
              <a:off x="1295280" y="0"/>
              <a:ext cx="2666520" cy="929880"/>
              <a:chOff x="1295280" y="0"/>
              <a:chExt cx="2666520" cy="929880"/>
            </a:xfrm>
          </p:grpSpPr>
          <p:sp>
            <p:nvSpPr>
              <p:cNvPr id="353" name=""/>
              <p:cNvSpPr/>
              <p:nvPr/>
            </p:nvSpPr>
            <p:spPr>
              <a:xfrm>
                <a:off x="1295280" y="101880"/>
                <a:ext cx="2605680" cy="828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25160" y="0"/>
                <a:ext cx="263664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2361960" y="228600"/>
              <a:ext cx="628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1371240" y="22860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       拓展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35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5943600" y="1905120"/>
            <a:ext cx="2971800" cy="2898000"/>
            <a:chOff x="5943600" y="1905120"/>
            <a:chExt cx="2971800" cy="2898000"/>
          </a:xfrm>
        </p:grpSpPr>
        <p:grpSp>
          <p:nvGrpSpPr>
            <p:cNvPr id="360" name=""/>
            <p:cNvGrpSpPr/>
            <p:nvPr/>
          </p:nvGrpSpPr>
          <p:grpSpPr>
            <a:xfrm>
              <a:off x="5943600" y="1905120"/>
              <a:ext cx="2971800" cy="2898000"/>
              <a:chOff x="5943600" y="1905120"/>
              <a:chExt cx="2971800" cy="2898000"/>
            </a:xfrm>
          </p:grpSpPr>
          <p:sp>
            <p:nvSpPr>
              <p:cNvPr id="361" name=""/>
              <p:cNvSpPr/>
              <p:nvPr/>
            </p:nvSpPr>
            <p:spPr>
              <a:xfrm>
                <a:off x="5943600" y="3200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458200" y="3276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772400" y="4343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858000" y="2971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761240" y="1905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400800" y="3353040"/>
                <a:ext cx="213336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924680" y="3276720"/>
                <a:ext cx="0" cy="2286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6400800" y="2362320"/>
                <a:ext cx="1589040" cy="9907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6411960" y="3352680"/>
                <a:ext cx="1589040" cy="9903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629760" y="3124440"/>
                <a:ext cx="30384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629400" y="3353040"/>
                <a:ext cx="151920" cy="39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858000" y="3276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848360" y="2971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7486200" y="2669760"/>
                <a:ext cx="438120" cy="682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18080" y="2800440"/>
                <a:ext cx="111240" cy="16848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7429320" y="2819160"/>
                <a:ext cx="209520" cy="14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7921440" y="3962160"/>
                <a:ext cx="0" cy="2286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7482960" y="3355920"/>
                <a:ext cx="438120" cy="682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7315200" y="3794040"/>
                <a:ext cx="110880" cy="168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426080" y="3813120"/>
                <a:ext cx="209520" cy="14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719748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0072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7:18:19Z</dcterms:created>
  <dc:creator> 12999数学网 www.12999.com</dc:creator>
  <dc:description> </dc:description>
  <cp:keywords/>
  <dc:language>en-US</dc:language>
  <cp:lastModifiedBy>微软用户</cp:lastModifiedBy>
  <dcterms:modified xsi:type="dcterms:W3CDTF">2012-07-15T00:10:17Z</dcterms:modified>
  <cp:revision>4</cp:revision>
  <dc:subject> 12999数学网 www.12999.com</dc:subject>
  <dc:title>12999数学网 www.12999.com</dc:title>
</cp:coreProperties>
</file>