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jpeg" ContentType="image/jpeg"/>
  <Override PartName="/ppt/media/type.wav" ContentType="audio/x-wav"/>
  <Override PartName="/ppt/media/image14.png" ContentType="image/png"/>
  <Override PartName="/ppt/media/image5.gif" ContentType="image/gif"/>
  <Override PartName="/ppt/media/image2.jpeg" ContentType="image/jpeg"/>
  <Override PartName="/ppt/media/image7.gif" ContentType="image/gif"/>
  <Override PartName="/ppt/media/image12.gif" ContentType="image/gif"/>
  <Override PartName="/ppt/media/image3.jpeg" ContentType="image/jpeg"/>
  <Override PartName="/ppt/media/image1.jpeg" ContentType="image/jpeg"/>
  <Override PartName="/ppt/media/image4.gif" ContentType="image/gif"/>
  <Override PartName="/ppt/media/chimes.wav" ContentType="audio/x-wav"/>
  <Override PartName="/ppt/media/image13.gif" ContentType="image/gif"/>
  <Override PartName="/ppt/media/image8.gif" ContentType="image/gif"/>
  <Override PartName="/ppt/media/image6.png" ContentType="image/png"/>
  <Override PartName="/ppt/media/image9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324-1EAA-4224-8EC2-99955682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7F4-BE0A-4386-81A9-952DAF57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0D03-D4C8-458F-9E11-B23716E9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BB7-1A0D-480C-9EC7-A53A55A2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080-27E9-4D1E-8192-2228D5C0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8B7-C61F-4038-9EE7-EDFA2BD3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0B4-7837-486F-B1F4-A2E1A2B2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F88-352B-46CC-995D-9673D233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4002-0FAC-42DC-AD87-04A20DD6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EFEA-E6BC-49D0-861D-5276628E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ABD-AE8A-44F3-AA86-A8CD8F01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DDC-B934-4770-B8ED-7FA88780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87A4-37D4-4D65-AD0D-A2201CFB6B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838080" y="0"/>
            <a:ext cx="9982080" cy="6769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09680" y="1523880"/>
            <a:ext cx="4419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2.1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花边有多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0920" y="27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问花边有多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如果设花边的宽为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m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65720"/>
            <a:ext cx="5545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那么地毯中央长方形图案的长为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_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          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m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,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宽为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             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m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  <a:ea typeface="宋体"/>
              </a:rPr>
              <a:t>。根据题意，可得方程</a:t>
            </a:r>
            <a:r>
              <a:rPr b="1" lang="zh-CN" sz="3000" spc="-1" strike="noStrike" u="sng">
                <a:solidFill>
                  <a:srgbClr val="ff3300"/>
                </a:solidFill>
                <a:uFillTx/>
                <a:latin typeface="Times New Roman"/>
                <a:ea typeface="宋体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797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8-2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797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5-2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5516640"/>
            <a:ext cx="4427280" cy="609480"/>
          </a:xfrm>
          <a:prstGeom prst="wedgeRoundRectCallout">
            <a:avLst>
              <a:gd name="adj1" fmla="val 4143"/>
              <a:gd name="adj2" fmla="val -11953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8-2x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）（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5-2x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3960720" cy="2491920"/>
            <a:chOff x="0" y="0"/>
            <a:chExt cx="3960720" cy="2491920"/>
          </a:xfrm>
        </p:grpSpPr>
        <p:grpSp>
          <p:nvGrpSpPr>
            <p:cNvPr id="115" name=""/>
            <p:cNvGrpSpPr/>
            <p:nvPr/>
          </p:nvGrpSpPr>
          <p:grpSpPr>
            <a:xfrm>
              <a:off x="0" y="72720"/>
              <a:ext cx="3960720" cy="2346120"/>
              <a:chOff x="0" y="72720"/>
              <a:chExt cx="3960720" cy="2346120"/>
            </a:xfrm>
          </p:grpSpPr>
          <p:sp>
            <p:nvSpPr>
              <p:cNvPr id="116" name=""/>
              <p:cNvSpPr/>
              <p:nvPr/>
            </p:nvSpPr>
            <p:spPr>
              <a:xfrm>
                <a:off x="0" y="72720"/>
                <a:ext cx="3960720" cy="2346120"/>
              </a:xfrm>
              <a:prstGeom prst="rect">
                <a:avLst/>
              </a:prstGeom>
              <a:solidFill>
                <a:srgbClr val="ff33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0240" y="586800"/>
                <a:ext cx="3062160" cy="1318320"/>
              </a:xfrm>
              <a:prstGeom prst="rect">
                <a:avLst/>
              </a:prstGeom>
              <a:solidFill>
                <a:srgbClr val="ffcc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41680" y="588240"/>
                <a:ext cx="306072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温  州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plant"/>
            <p:cNvSpPr/>
            <p:nvPr/>
          </p:nvSpPr>
          <p:spPr>
            <a:xfrm>
              <a:off x="0" y="72720"/>
              <a:ext cx="419400" cy="6591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plant"/>
            <p:cNvSpPr/>
            <p:nvPr/>
          </p:nvSpPr>
          <p:spPr>
            <a:xfrm>
              <a:off x="0" y="953640"/>
              <a:ext cx="419400" cy="6591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plant"/>
            <p:cNvSpPr/>
            <p:nvPr/>
          </p:nvSpPr>
          <p:spPr>
            <a:xfrm>
              <a:off x="659880" y="72720"/>
              <a:ext cx="419400" cy="512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lant"/>
            <p:cNvSpPr/>
            <p:nvPr/>
          </p:nvSpPr>
          <p:spPr>
            <a:xfrm>
              <a:off x="600480" y="1832760"/>
              <a:ext cx="419400" cy="6591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plant"/>
            <p:cNvSpPr/>
            <p:nvPr/>
          </p:nvSpPr>
          <p:spPr>
            <a:xfrm>
              <a:off x="1320480" y="1832760"/>
              <a:ext cx="419400" cy="586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plant"/>
            <p:cNvSpPr/>
            <p:nvPr/>
          </p:nvSpPr>
          <p:spPr>
            <a:xfrm>
              <a:off x="1320480" y="72720"/>
              <a:ext cx="419400" cy="5137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lant"/>
            <p:cNvSpPr/>
            <p:nvPr/>
          </p:nvSpPr>
          <p:spPr>
            <a:xfrm>
              <a:off x="1921320" y="72720"/>
              <a:ext cx="419400" cy="512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lant"/>
            <p:cNvSpPr/>
            <p:nvPr/>
          </p:nvSpPr>
          <p:spPr>
            <a:xfrm>
              <a:off x="2761560" y="0"/>
              <a:ext cx="419400" cy="586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lant"/>
            <p:cNvSpPr/>
            <p:nvPr/>
          </p:nvSpPr>
          <p:spPr>
            <a:xfrm>
              <a:off x="1921320" y="1905480"/>
              <a:ext cx="419400" cy="512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plant"/>
            <p:cNvSpPr/>
            <p:nvPr/>
          </p:nvSpPr>
          <p:spPr>
            <a:xfrm>
              <a:off x="2761560" y="1832760"/>
              <a:ext cx="419400" cy="6591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plant"/>
            <p:cNvSpPr/>
            <p:nvPr/>
          </p:nvSpPr>
          <p:spPr>
            <a:xfrm>
              <a:off x="2761560" y="1905480"/>
              <a:ext cx="419400" cy="586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plant"/>
            <p:cNvSpPr/>
            <p:nvPr/>
          </p:nvSpPr>
          <p:spPr>
            <a:xfrm>
              <a:off x="3481560" y="72720"/>
              <a:ext cx="419400" cy="6591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plant"/>
            <p:cNvSpPr/>
            <p:nvPr/>
          </p:nvSpPr>
          <p:spPr>
            <a:xfrm>
              <a:off x="3540960" y="953640"/>
              <a:ext cx="419400" cy="6591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plant"/>
            <p:cNvSpPr/>
            <p:nvPr/>
          </p:nvSpPr>
          <p:spPr>
            <a:xfrm>
              <a:off x="3540960" y="1905480"/>
              <a:ext cx="360000" cy="512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lant"/>
            <p:cNvSpPr/>
            <p:nvPr/>
          </p:nvSpPr>
          <p:spPr>
            <a:xfrm>
              <a:off x="0" y="1759680"/>
              <a:ext cx="419400" cy="6595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8172360" y="6453360"/>
            <a:ext cx="647640" cy="404640"/>
          </a:xfrm>
          <a:custGeom>
            <a:avLst/>
            <a:gdLst>
              <a:gd name="textAreaLeft" fmla="*/ 25920 w 647640"/>
              <a:gd name="textAreaRight" fmla="*/ 621720 w 647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4560" h="21600">
                <a:moveTo>
                  <a:pt x="0" y="0"/>
                </a:moveTo>
                <a:lnTo>
                  <a:pt x="34560" y="0"/>
                </a:lnTo>
                <a:lnTo>
                  <a:pt x="34560" y="21600"/>
                </a:lnTo>
                <a:lnTo>
                  <a:pt x="0" y="21600"/>
                </a:lnTo>
                <a:close/>
              </a:path>
              <a:path fill="lightenLess" w="34560" h="21600">
                <a:moveTo>
                  <a:pt x="0" y="0"/>
                </a:moveTo>
                <a:lnTo>
                  <a:pt x="34560" y="0"/>
                </a:lnTo>
                <a:lnTo>
                  <a:pt x="33160" y="1400"/>
                </a:lnTo>
                <a:lnTo>
                  <a:pt x="1400" y="1400"/>
                </a:lnTo>
                <a:close/>
              </a:path>
              <a:path fill="darken" w="34560" h="21600">
                <a:moveTo>
                  <a:pt x="34560" y="0"/>
                </a:moveTo>
                <a:lnTo>
                  <a:pt x="34560" y="21600"/>
                </a:lnTo>
                <a:lnTo>
                  <a:pt x="33160" y="20200"/>
                </a:lnTo>
                <a:lnTo>
                  <a:pt x="33160" y="1400"/>
                </a:lnTo>
                <a:close/>
              </a:path>
              <a:path fill="darkenLess" w="34560" h="21600">
                <a:moveTo>
                  <a:pt x="34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0" y="20200"/>
                </a:lnTo>
                <a:close/>
              </a:path>
              <a:path fill="lighten" w="34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0" h="21600">
                <a:moveTo>
                  <a:pt x="10274" y="3794"/>
                </a:moveTo>
                <a:lnTo>
                  <a:pt x="24286" y="10800"/>
                </a:lnTo>
                <a:lnTo>
                  <a:pt x="1027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37240" y="1700280"/>
            <a:ext cx="373356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21440" y="2127240"/>
            <a:ext cx="2835000" cy="1036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37240" y="3605040"/>
            <a:ext cx="3733560" cy="520560"/>
            <a:chOff x="4737240" y="3605040"/>
            <a:chExt cx="3733560" cy="520560"/>
          </a:xfrm>
        </p:grpSpPr>
        <p:sp>
          <p:nvSpPr>
            <p:cNvPr id="138" name=""/>
            <p:cNvSpPr/>
            <p:nvPr/>
          </p:nvSpPr>
          <p:spPr>
            <a:xfrm>
              <a:off x="4737240" y="3605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0800" y="36050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813200" y="3833640"/>
              <a:ext cx="114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51480" y="3833640"/>
              <a:ext cx="114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360504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4051440" y="1699920"/>
            <a:ext cx="685800" cy="1829160"/>
            <a:chOff x="4051440" y="1699920"/>
            <a:chExt cx="685800" cy="1829160"/>
          </a:xfrm>
        </p:grpSpPr>
        <p:sp>
          <p:nvSpPr>
            <p:cNvPr id="144" name=""/>
            <p:cNvSpPr/>
            <p:nvPr/>
          </p:nvSpPr>
          <p:spPr>
            <a:xfrm flipH="1">
              <a:off x="4204080" y="1700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80040" y="3529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08640" y="16999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08640" y="291960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51440" y="246240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813200" y="23097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24400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央面积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8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2421000"/>
            <a:ext cx="433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3645000"/>
            <a:ext cx="4334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128480" y="260280"/>
            <a:ext cx="4583880" cy="1434240"/>
            <a:chOff x="4128480" y="260280"/>
            <a:chExt cx="4583880" cy="1434240"/>
          </a:xfrm>
        </p:grpSpPr>
        <p:sp>
          <p:nvSpPr>
            <p:cNvPr id="154" name=""/>
            <p:cNvSpPr/>
            <p:nvPr/>
          </p:nvSpPr>
          <p:spPr>
            <a:xfrm rot="17035200">
              <a:off x="5397480" y="-417240"/>
              <a:ext cx="504720" cy="3009960"/>
            </a:xfrm>
            <a:prstGeom prst="downArrow">
              <a:avLst>
                <a:gd name="adj1" fmla="val 50000"/>
                <a:gd name="adj2" fmla="val 149091"/>
              </a:avLst>
            </a:prstGeom>
            <a:solidFill>
              <a:srgbClr val="00cc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00720" y="260280"/>
              <a:ext cx="421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cc"/>
                  </a:solidFill>
                  <a:latin typeface="Arial"/>
                  <a:ea typeface="宋体"/>
                </a:rPr>
                <a:t>实际问题抽象成数学模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808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一个长为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10m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的梯子斜靠在墙上，梯子的顶端距离地面的垂直距离为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8m,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如果梯子的顶端下滑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1m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宋体"/>
              </a:rPr>
              <a:t>，那么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梯子的底端滑动多少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99920" y="2457360"/>
            <a:ext cx="3048120" cy="2362320"/>
            <a:chOff x="799920" y="2457360"/>
            <a:chExt cx="3048120" cy="2362320"/>
          </a:xfrm>
        </p:grpSpPr>
        <p:grpSp>
          <p:nvGrpSpPr>
            <p:cNvPr id="158" name=""/>
            <p:cNvGrpSpPr/>
            <p:nvPr/>
          </p:nvGrpSpPr>
          <p:grpSpPr>
            <a:xfrm>
              <a:off x="799920" y="2457360"/>
              <a:ext cx="3048120" cy="2362320"/>
              <a:chOff x="799920" y="2457360"/>
              <a:chExt cx="3048120" cy="2362320"/>
            </a:xfrm>
          </p:grpSpPr>
          <p:sp>
            <p:nvSpPr>
              <p:cNvPr id="159" name=""/>
              <p:cNvSpPr/>
              <p:nvPr/>
            </p:nvSpPr>
            <p:spPr>
              <a:xfrm>
                <a:off x="952560" y="2457360"/>
                <a:ext cx="0" cy="213372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52560" y="4591080"/>
                <a:ext cx="2895480" cy="0"/>
              </a:xfrm>
              <a:prstGeom prst="line">
                <a:avLst/>
              </a:prstGeom>
              <a:ln w="763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799920" y="2610000"/>
                <a:ext cx="7596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799920" y="2914560"/>
                <a:ext cx="75960" cy="15264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799920" y="3238560"/>
                <a:ext cx="7596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799920" y="3543480"/>
                <a:ext cx="7596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838080" y="3714840"/>
                <a:ext cx="7632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838080" y="4019400"/>
                <a:ext cx="76320" cy="15264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838080" y="4343400"/>
                <a:ext cx="7632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838080" y="4648320"/>
                <a:ext cx="7632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1104840" y="4591080"/>
                <a:ext cx="76320" cy="2286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1733400" y="4667400"/>
                <a:ext cx="7632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1257120" y="4591080"/>
                <a:ext cx="75960" cy="2286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1447560" y="4648320"/>
                <a:ext cx="7596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000160" y="4572000"/>
                <a:ext cx="76320" cy="2286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628720" y="4648320"/>
                <a:ext cx="7596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152440" y="4572000"/>
                <a:ext cx="75960" cy="2286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342880" y="4629240"/>
                <a:ext cx="7596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857320" y="4572000"/>
                <a:ext cx="75960" cy="2286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3485880" y="4648320"/>
                <a:ext cx="7596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3009960" y="4572000"/>
                <a:ext cx="76320" cy="22860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3200400" y="4629240"/>
                <a:ext cx="76320" cy="152280"/>
              </a:xfrm>
              <a:prstGeom prst="line">
                <a:avLst/>
              </a:prstGeom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952560" y="2666880"/>
              <a:ext cx="762120" cy="19814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3200" y="2666880"/>
            <a:ext cx="914400" cy="1981440"/>
            <a:chOff x="133200" y="2666880"/>
            <a:chExt cx="914400" cy="1981440"/>
          </a:xfrm>
        </p:grpSpPr>
        <p:sp>
          <p:nvSpPr>
            <p:cNvPr id="183" name=""/>
            <p:cNvSpPr/>
            <p:nvPr/>
          </p:nvSpPr>
          <p:spPr>
            <a:xfrm flipH="1">
              <a:off x="609120" y="26668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33520" y="46292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85800" y="266688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5800" y="396252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200" y="329580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990720" y="2514240"/>
            <a:ext cx="1257120" cy="1981080"/>
            <a:chOff x="990720" y="2514240"/>
            <a:chExt cx="1257120" cy="1981080"/>
          </a:xfrm>
        </p:grpSpPr>
        <p:sp>
          <p:nvSpPr>
            <p:cNvPr id="189" name=""/>
            <p:cNvSpPr/>
            <p:nvPr/>
          </p:nvSpPr>
          <p:spPr>
            <a:xfrm flipV="1">
              <a:off x="990720" y="2514240"/>
              <a:ext cx="30456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790640" y="4343040"/>
              <a:ext cx="4572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1142640" y="2628720"/>
              <a:ext cx="3049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2480" y="388620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16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914400" y="3124080"/>
            <a:ext cx="1295280" cy="144792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33480" y="2286000"/>
            <a:ext cx="1809720" cy="838080"/>
            <a:chOff x="933480" y="2286000"/>
            <a:chExt cx="1809720" cy="838080"/>
          </a:xfrm>
        </p:grpSpPr>
        <p:sp>
          <p:nvSpPr>
            <p:cNvPr id="196" name=""/>
            <p:cNvSpPr/>
            <p:nvPr/>
          </p:nvSpPr>
          <p:spPr>
            <a:xfrm>
              <a:off x="933480" y="2743200"/>
              <a:ext cx="0" cy="38088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3880" y="2286000"/>
              <a:ext cx="1219320" cy="533520"/>
            </a:xfrm>
            <a:prstGeom prst="wedgeRoundRectCallout">
              <a:avLst>
                <a:gd name="adj1" fmla="val -91148"/>
                <a:gd name="adj2" fmla="val 73513"/>
                <a:gd name="adj3" fmla="val 1666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99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124080" y="220968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由勾股定理可知，滑动前梯子底端距墙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4572000"/>
            <a:ext cx="6858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6668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宋体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05000" y="32576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如果设梯子底端滑动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x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19320" y="4572000"/>
            <a:ext cx="990360" cy="1143000"/>
            <a:chOff x="1219320" y="4572000"/>
            <a:chExt cx="990360" cy="1143000"/>
          </a:xfrm>
        </p:grpSpPr>
        <p:sp>
          <p:nvSpPr>
            <p:cNvPr id="203" name=""/>
            <p:cNvSpPr/>
            <p:nvPr/>
          </p:nvSpPr>
          <p:spPr>
            <a:xfrm>
              <a:off x="1676520" y="4572000"/>
              <a:ext cx="533160" cy="0"/>
            </a:xfrm>
            <a:prstGeom prst="line">
              <a:avLst/>
            </a:prstGeom>
            <a:ln w="7632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5181480"/>
              <a:ext cx="914400" cy="533520"/>
            </a:xfrm>
            <a:prstGeom prst="wedgeRoundRectCallout">
              <a:avLst>
                <a:gd name="adj1" fmla="val 26041"/>
                <a:gd name="adj2" fmla="val -143152"/>
                <a:gd name="adj3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71800" y="37908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那么滑动后梯子底端距墙</a:t>
            </a:r>
            <a:r>
              <a:rPr b="1" lang="zh-CN" sz="32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m.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01040" y="369576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(x+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62520" y="42861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根据题意，可得方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76680" y="478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99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宋体"/>
              </a:rPr>
              <a:t>x+6)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  <a:ea typeface="宋体"/>
              </a:rPr>
              <a:t>2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宋体"/>
              </a:rPr>
              <a:t>+7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  <a:ea typeface="宋体"/>
              </a:rPr>
              <a:t>2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宋体"/>
              </a:rPr>
              <a:t>=10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657600" y="5334120"/>
            <a:ext cx="5029200" cy="1523880"/>
            <a:chOff x="3657600" y="5334120"/>
            <a:chExt cx="5029200" cy="1523880"/>
          </a:xfrm>
        </p:grpSpPr>
        <p:pic>
          <p:nvPicPr>
            <p:cNvPr id="210" name="" descr=""/>
            <p:cNvPicPr/>
            <p:nvPr/>
          </p:nvPicPr>
          <p:blipFill>
            <a:blip r:embed="rId1"/>
            <a:stretch/>
          </p:blipFill>
          <p:spPr>
            <a:xfrm>
              <a:off x="7467480" y="5673600"/>
              <a:ext cx="121932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657600" y="5334120"/>
              <a:ext cx="3657600" cy="990360"/>
            </a:xfrm>
            <a:prstGeom prst="cloudCallout">
              <a:avLst>
                <a:gd name="adj1" fmla="val 60458"/>
                <a:gd name="adj2" fmla="val 2323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请你把它化成一般形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-1981080" y="0"/>
            <a:ext cx="1112508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38520" y="2491560"/>
            <a:ext cx="36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本节课，你都学习了哪些知识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64920" y="3067920"/>
            <a:ext cx="491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你是通过怎样的途径或方法学习这些知识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56800" y="3717000"/>
            <a:ext cx="34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你还有什么问题没有解决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908000" y="476280"/>
            <a:ext cx="64090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你说我说大家说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7" name=""/>
          <p:cNvSpPr/>
          <p:nvPr/>
        </p:nvSpPr>
        <p:spPr>
          <a:xfrm>
            <a:off x="1643040" y="4581360"/>
            <a:ext cx="5057640" cy="1556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8-2x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）（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5-2x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=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花边到底有多宽，以你目前的知识，能解决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-1981080" y="0"/>
            <a:ext cx="1112508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1217160"/>
            <a:ext cx="835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布置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一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必做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从前有一天，一个醉汉拿者竹竿进屋，横拿竖拿都进不去，横着比门框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尺，竖着比门框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尺，另一个醉汉教他沿着门的两个对角斜着拿竿，这个醉汉一试，不多不少刚好进去了，你知道竹竿有多长吗？请根据这一问题列出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方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x+2)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=3(x-4)</a:t>
            </a:r>
            <a:r>
              <a:rPr b="1" lang="zh-CN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化成一元二次方程的一般形式，并写出它的二次项系数、一次项系数和常数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2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习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854280"/>
            <a:ext cx="867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选做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个面积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平方米的矩形苗圃，它的长比宽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，苗圃的长和宽各是多少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②一名跳水运动员进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跳台跳水训练，在正常情况下，运动员必须在距水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以前完成规定的翻腾动作，并且调整好入水姿势，否则就容易出现失误。假设运动员起跳后的运动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t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运动员距水面的高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满足关系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=10+2.5t-t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那么他最多有多长时间完成规定动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知关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方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k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1)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+2(k-1)x+2k+2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k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，它是一元二次方程，此时各项系数分别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k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，它是一元一次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-1981080" y="0"/>
            <a:ext cx="111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1763640" y="2781360"/>
          <a:ext cx="4038840" cy="14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2781360"/>
                    <a:ext cx="403884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1258920" y="692280"/>
            <a:ext cx="59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隶书"/>
                <a:ea typeface="隶书"/>
              </a:rPr>
              <a:t>让我们共同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372360" y="4941720"/>
            <a:ext cx="1779120" cy="1303560"/>
            <a:chOff x="6372360" y="4941720"/>
            <a:chExt cx="1779120" cy="1303560"/>
          </a:xfrm>
        </p:grpSpPr>
        <p:pic>
          <p:nvPicPr>
            <p:cNvPr id="227" name="" descr=""/>
            <p:cNvPicPr/>
            <p:nvPr/>
          </p:nvPicPr>
          <p:blipFill>
            <a:blip r:embed="rId4"/>
            <a:stretch/>
          </p:blipFill>
          <p:spPr>
            <a:xfrm>
              <a:off x="6372360" y="4941720"/>
              <a:ext cx="676080" cy="13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5"/>
            <a:stretch/>
          </p:blipFill>
          <p:spPr>
            <a:xfrm>
              <a:off x="7499160" y="5018040"/>
              <a:ext cx="65232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12589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13006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332000" y="0"/>
            <a:ext cx="111254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333360"/>
            <a:ext cx="482436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请欣赏下面的民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700280"/>
            <a:ext cx="705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美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个老酒鬼，名叫巴特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吃肉片和排骨，共用钱九角四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每块排骨一角一，每片肉价只七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连排骨带肉片吃了整十块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问问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吃了几块排骨几片肉，我们的巴特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981080" y="0"/>
            <a:ext cx="11125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0"/>
            <a:ext cx="5543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（中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牧童王小良，放牧一群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问他羊几只，请你仔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头数加只数，只数减头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只数乘头数，只数除头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四数连加起，正好一百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4172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请把这些民谣里所蕴涵的数学问题用方程（或方程组）表示出来（不用求解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人一组，合作交流，派代表回答。并思考，你刚才所列的方程（组）有你不认识的吗？请把它找出来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。（课堂探究活动材料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完成后，请举手示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084720" y="836640"/>
            <a:ext cx="2260440" cy="1950840"/>
            <a:chOff x="6084720" y="836640"/>
            <a:chExt cx="2260440" cy="195084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084720" y="1490760"/>
              <a:ext cx="129708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7237080" y="836640"/>
              <a:ext cx="1108080" cy="187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981080" y="0"/>
            <a:ext cx="111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620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像这样，只含有一个未知数，并且未知数的最高次数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整式方程，叫做一元二次方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2276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能判断下列等式哪些是一元二次方程，哪些不是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19280" y="4797360"/>
                <a:ext cx="3826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4211640" y="328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3x+2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4149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9x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84720" y="407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④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(x+2)=11+2(20x-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38680" y="5083920"/>
            <a:ext cx="23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⑤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3=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0040" y="3357720"/>
            <a:ext cx="19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①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2+3=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32400" y="4149720"/>
            <a:ext cx="204156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③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2x</a:t>
            </a:r>
            <a:r>
              <a:rPr b="1" lang="en-US" sz="3200" spc="-1" strike="noStrike" baseline="30000">
                <a:solidFill>
                  <a:srgbClr val="ff33cc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-9x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4076640"/>
            <a:ext cx="460872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④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x(x+2)=11+2(20x-5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3284640"/>
            <a:ext cx="2664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 ②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 baseline="30000">
                <a:solidFill>
                  <a:srgbClr val="ff33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+3x+2=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29973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其中，我们把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ax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+bx+c=0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称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元二次方程的一般形式，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其中  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ax</a:t>
            </a:r>
            <a:r>
              <a:rPr b="1" lang="zh-CN" sz="3200" spc="-1" strike="noStrike" baseline="30000">
                <a:solidFill>
                  <a:srgbClr val="ffff99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次项，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二次项系数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；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bx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一次项，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是一次项系数；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ffff99"/>
                </a:solidFill>
                <a:latin typeface="Times New Roman"/>
                <a:ea typeface="宋体"/>
              </a:rPr>
              <a:t>叫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常数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404640"/>
            <a:ext cx="842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故而，我们可以重新定义一元二次方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只含有一个未知数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，并且都可以化为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ax</a:t>
            </a:r>
            <a:r>
              <a:rPr b="1" lang="zh-CN" sz="3200" spc="-1" strike="noStrike" baseline="30000">
                <a:solidFill>
                  <a:srgbClr val="ccecff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+bx+c=0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，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为常数，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a≠0</a:t>
            </a:r>
            <a:r>
              <a:rPr b="1" lang="zh-CN" sz="3200" spc="-1" strike="noStrike">
                <a:solidFill>
                  <a:srgbClr val="ccecff"/>
                </a:solidFill>
                <a:latin typeface="Times New Roman"/>
                <a:ea typeface="宋体"/>
              </a:rPr>
              <a:t>）形式的整式方程，这样的方程叫做一元二次方程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1981080" y="0"/>
            <a:ext cx="11125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1557360"/>
          <a:ext cx="8424720" cy="4896000"/>
        </p:xfrm>
        <a:graphic>
          <a:graphicData uri="http://schemas.openxmlformats.org/drawingml/2006/table">
            <a:tbl>
              <a:tblPr/>
              <a:tblGrid>
                <a:gridCol w="2916360"/>
                <a:gridCol w="1511280"/>
                <a:gridCol w="1477800"/>
                <a:gridCol w="1440000"/>
                <a:gridCol w="1079280"/>
              </a:tblGrid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般形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次项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次项系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数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-3x=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+7x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y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=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x-7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=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(3x+2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=4(x-3)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395280" y="40464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做一做——请完成下表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（课堂探究活动材料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2715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1981080" y="0"/>
            <a:ext cx="111250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1128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请按条件构造方程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197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写出一个一元二次方程，要求二次项系数为负数，一次项系数是整数，常数项是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249228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-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+8x+    =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2916360" y="2421000"/>
                <a:ext cx="501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250920" y="342900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要求：每组合作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题目，前后小组间交换答题，完成后再交换批改，看看哪个小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同学的合作最棒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！（课堂探究活动材料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564000" y="5229360"/>
            <a:ext cx="4752720" cy="1045800"/>
            <a:chOff x="3564000" y="5229360"/>
            <a:chExt cx="4752720" cy="1045800"/>
          </a:xfrm>
        </p:grpSpPr>
        <p:sp>
          <p:nvSpPr>
            <p:cNvPr id="77" name=""/>
            <p:cNvSpPr/>
            <p:nvPr/>
          </p:nvSpPr>
          <p:spPr>
            <a:xfrm>
              <a:off x="3564000" y="5301720"/>
              <a:ext cx="3134880" cy="703440"/>
            </a:xfrm>
            <a:prstGeom prst="rect">
              <a:avLst/>
            </a:prstGeom>
            <a:gradFill rotWithShape="0">
              <a:gsLst>
                <a:gs pos="0">
                  <a:srgbClr val="ffdcb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　比一比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32400" y="5287320"/>
              <a:ext cx="3852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6698880" y="5229360"/>
              <a:ext cx="1617840" cy="104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564000" y="5461920"/>
              <a:ext cx="707760" cy="81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9900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1981080" y="0"/>
            <a:ext cx="11125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63640" y="1125360"/>
            <a:ext cx="554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想一想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中，你碰到过用一元二次方程解决问题的具体例子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250920" y="260280"/>
            <a:ext cx="4321080" cy="2376360"/>
            <a:chOff x="250920" y="260280"/>
            <a:chExt cx="4321080" cy="2376360"/>
          </a:xfrm>
        </p:grpSpPr>
        <p:grpSp>
          <p:nvGrpSpPr>
            <p:cNvPr id="84" name=""/>
            <p:cNvGrpSpPr/>
            <p:nvPr/>
          </p:nvGrpSpPr>
          <p:grpSpPr>
            <a:xfrm>
              <a:off x="250920" y="329760"/>
              <a:ext cx="4321080" cy="2237760"/>
              <a:chOff x="250920" y="329760"/>
              <a:chExt cx="4321080" cy="2237760"/>
            </a:xfrm>
          </p:grpSpPr>
          <p:sp>
            <p:nvSpPr>
              <p:cNvPr id="85" name=""/>
              <p:cNvSpPr/>
              <p:nvPr/>
            </p:nvSpPr>
            <p:spPr>
              <a:xfrm>
                <a:off x="250920" y="329760"/>
                <a:ext cx="4321080" cy="2237760"/>
              </a:xfrm>
              <a:prstGeom prst="rect">
                <a:avLst/>
              </a:prstGeom>
              <a:solidFill>
                <a:srgbClr val="ff33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75080" y="820080"/>
                <a:ext cx="3340800" cy="1257120"/>
              </a:xfrm>
              <a:prstGeom prst="rect">
                <a:avLst/>
              </a:prstGeom>
              <a:solidFill>
                <a:srgbClr val="ffcc00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69280" y="820080"/>
                <a:ext cx="33390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0" spc="-1" strike="noStrike">
                    <a:solidFill>
                      <a:srgbClr val="ffffff"/>
                    </a:solidFill>
                    <a:latin typeface="Times New Roman"/>
                    <a:ea typeface="华文彩云"/>
                  </a:rPr>
                  <a:t>温  州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plant"/>
            <p:cNvSpPr/>
            <p:nvPr/>
          </p:nvSpPr>
          <p:spPr>
            <a:xfrm>
              <a:off x="250920" y="329760"/>
              <a:ext cx="457560" cy="628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plant"/>
            <p:cNvSpPr/>
            <p:nvPr/>
          </p:nvSpPr>
          <p:spPr>
            <a:xfrm>
              <a:off x="250920" y="1169640"/>
              <a:ext cx="457560" cy="628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plant"/>
            <p:cNvSpPr/>
            <p:nvPr/>
          </p:nvSpPr>
          <p:spPr>
            <a:xfrm>
              <a:off x="970920" y="329760"/>
              <a:ext cx="457560" cy="4885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lant"/>
            <p:cNvSpPr/>
            <p:nvPr/>
          </p:nvSpPr>
          <p:spPr>
            <a:xfrm>
              <a:off x="906120" y="2008080"/>
              <a:ext cx="457560" cy="628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lant"/>
            <p:cNvSpPr/>
            <p:nvPr/>
          </p:nvSpPr>
          <p:spPr>
            <a:xfrm>
              <a:off x="1691640" y="2008080"/>
              <a:ext cx="457560" cy="559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lant"/>
            <p:cNvSpPr/>
            <p:nvPr/>
          </p:nvSpPr>
          <p:spPr>
            <a:xfrm>
              <a:off x="1691640" y="329760"/>
              <a:ext cx="457560" cy="4899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lant"/>
            <p:cNvSpPr/>
            <p:nvPr/>
          </p:nvSpPr>
          <p:spPr>
            <a:xfrm>
              <a:off x="2347200" y="329760"/>
              <a:ext cx="457560" cy="4885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plant"/>
            <p:cNvSpPr/>
            <p:nvPr/>
          </p:nvSpPr>
          <p:spPr>
            <a:xfrm>
              <a:off x="3263760" y="260280"/>
              <a:ext cx="457560" cy="559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plant"/>
            <p:cNvSpPr/>
            <p:nvPr/>
          </p:nvSpPr>
          <p:spPr>
            <a:xfrm>
              <a:off x="2347200" y="2077200"/>
              <a:ext cx="457560" cy="4885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plant"/>
            <p:cNvSpPr/>
            <p:nvPr/>
          </p:nvSpPr>
          <p:spPr>
            <a:xfrm>
              <a:off x="3263760" y="2008080"/>
              <a:ext cx="457560" cy="628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plant"/>
            <p:cNvSpPr/>
            <p:nvPr/>
          </p:nvSpPr>
          <p:spPr>
            <a:xfrm>
              <a:off x="3263760" y="2077200"/>
              <a:ext cx="457560" cy="55944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plant"/>
            <p:cNvSpPr/>
            <p:nvPr/>
          </p:nvSpPr>
          <p:spPr>
            <a:xfrm>
              <a:off x="4049280" y="329760"/>
              <a:ext cx="457560" cy="628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lant"/>
            <p:cNvSpPr/>
            <p:nvPr/>
          </p:nvSpPr>
          <p:spPr>
            <a:xfrm>
              <a:off x="4114080" y="1169640"/>
              <a:ext cx="457560" cy="628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lant"/>
            <p:cNvSpPr/>
            <p:nvPr/>
          </p:nvSpPr>
          <p:spPr>
            <a:xfrm>
              <a:off x="4114080" y="2077200"/>
              <a:ext cx="392760" cy="4885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lant"/>
            <p:cNvSpPr/>
            <p:nvPr/>
          </p:nvSpPr>
          <p:spPr>
            <a:xfrm>
              <a:off x="250920" y="1938600"/>
              <a:ext cx="457560" cy="62892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778280" y="1280880"/>
            <a:ext cx="436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温州市区某条大道上的一个长方形花坛，它的长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现要求在四周种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宽度相等的红花作为花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花坛中央黄、白两种花的长方形种植面积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米，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花坛四周的边沿建筑面积不计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28464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请在上面的句子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设计所要求的问题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使它能够通过列一元二次方程来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812000" y="609300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1640" y="83664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76500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29242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花边有多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16:29:10Z</dcterms:created>
  <dc:creator/>
  <dc:description/>
  <dc:language>en-US</dc:language>
  <cp:lastModifiedBy>微软用户</cp:lastModifiedBy>
  <dcterms:modified xsi:type="dcterms:W3CDTF">2012-07-02T05:59:11Z</dcterms:modified>
  <cp:revision>23</cp:revision>
  <dc:subject/>
  <dc:title>PowerPoint 演示文稿</dc:title>
</cp:coreProperties>
</file>