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image14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2.png" ContentType="image/png"/>
  <Override PartName="/ppt/media/image1.jpeg" ContentType="image/jpeg"/>
  <Override PartName="/ppt/media/image4.gif" ContentType="image/gif"/>
  <Override PartName="/ppt/media/chimes.wav" ContentType="audio/x-wav"/>
  <Override PartName="/ppt/media/image5.gif" ContentType="image/gif"/>
  <Override PartName="/ppt/media/image13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3174-76E3-4B43-91FA-F2A4D9A913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07C-8D5A-4A47-9146-1240B025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654-C189-4B3A-90C1-2FA725D4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753-D8EB-460A-AE4C-80FBB861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E6A-BF15-46F1-8055-AE23FF27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6864-E2B9-4465-B558-E1DCA3D4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6B43-6B7C-449C-9A83-062D7A26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FD78-8E87-466F-8B0E-BF42036B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8D18-3720-4B66-9E0C-AB4F1BC7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57B2-69C7-4A66-8384-6EB21602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7DF3-040A-42F0-8299-F1214CF8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0BED-FFC0-4186-A71A-E26B0795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1A1-D13F-49FC-B066-7D9D9834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C062-3B5A-48F0-A4C8-6FBBA0E8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BAAD-EDC3-4EED-BCAB-654B2E12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2EAE-FA82-4107-8942-F5F7C80B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327B-7821-4D5A-840A-12753EAF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8143-D475-410A-958E-F4EDDADF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860-390B-48F4-B923-267F2215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CFB-80D7-4E8E-B293-56454D1D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9EE-0BC0-46F6-9AA8-87E7B907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D95-AF13-4731-8A7B-1AEFFC72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16E-1ADD-4F5F-B166-F646A40A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202-8E0F-4B40-AA1A-3DB2FD5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438-A135-4225-884B-DDDD4A52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E609-21E6-49F2-A332-789AFCC6FEAA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BDCD-56FA-4225-95ED-B49662C42C2F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4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4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九年级数学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第二章 一元二次方程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配方法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(1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一元二次方程的解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z3-A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d4fb57"/>
                </a:solidFill>
                <a:latin typeface="Times New Roman"/>
                <a:ea typeface="隶书"/>
              </a:rPr>
              <a:t>结束寄语</a:t>
            </a:r>
            <a:endParaRPr b="0" lang="en-US" sz="51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4fb57"/>
                </a:solidFill>
                <a:latin typeface="隶书"/>
                <a:ea typeface="隶书"/>
              </a:rPr>
              <a:t>配方法是一种重要的数学方法——配方法</a:t>
            </a:r>
            <a:r>
              <a:rPr b="0" lang="zh-CN" sz="4000" spc="-1" strike="noStrike">
                <a:solidFill>
                  <a:srgbClr val="d4fb57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d4fb57"/>
                </a:solidFill>
                <a:latin typeface="隶书"/>
                <a:ea typeface="隶书"/>
              </a:rPr>
              <a:t>它可以助你到达希望的顶点</a:t>
            </a:r>
            <a:r>
              <a:rPr b="0" lang="zh-CN" sz="4000" spc="-1" strike="noStrike">
                <a:solidFill>
                  <a:srgbClr val="d4fb57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4fb57"/>
                </a:solidFill>
                <a:latin typeface="隶书"/>
                <a:ea typeface="隶书"/>
              </a:rPr>
              <a:t>一元二次方程也是刻画现实世界的有效数学模型</a:t>
            </a:r>
            <a:r>
              <a:rPr b="0" lang="zh-CN" sz="4000" spc="-1" strike="noStrike">
                <a:solidFill>
                  <a:srgbClr val="d4fb57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39840" y="0"/>
            <a:ext cx="2646360" cy="1547640"/>
            <a:chOff x="1239840" y="0"/>
            <a:chExt cx="2646360" cy="1547640"/>
          </a:xfrm>
        </p:grpSpPr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2687760" y="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7" name=""/>
            <p:cNvGrpSpPr/>
            <p:nvPr/>
          </p:nvGrpSpPr>
          <p:grpSpPr>
            <a:xfrm>
              <a:off x="1239840" y="42840"/>
              <a:ext cx="1676520" cy="1191960"/>
              <a:chOff x="1239840" y="42840"/>
              <a:chExt cx="1676520" cy="1191960"/>
            </a:xfrm>
          </p:grpSpPr>
          <p:sp>
            <p:nvSpPr>
              <p:cNvPr id="248" name=""/>
              <p:cNvSpPr/>
              <p:nvPr/>
            </p:nvSpPr>
            <p:spPr>
              <a:xfrm>
                <a:off x="1239840" y="67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58560" y="4284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392120" y="380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362320" y="4343400"/>
            <a:ext cx="5333400" cy="2133000"/>
            <a:chOff x="2362320" y="4343400"/>
            <a:chExt cx="5333400" cy="2133000"/>
          </a:xfrm>
        </p:grpSpPr>
        <p:grpSp>
          <p:nvGrpSpPr>
            <p:cNvPr id="252" name=""/>
            <p:cNvGrpSpPr/>
            <p:nvPr/>
          </p:nvGrpSpPr>
          <p:grpSpPr>
            <a:xfrm>
              <a:off x="2362320" y="4343400"/>
              <a:ext cx="5333400" cy="2133000"/>
              <a:chOff x="2362320" y="4343400"/>
              <a:chExt cx="5333400" cy="2133000"/>
            </a:xfrm>
          </p:grpSpPr>
          <p:sp>
            <p:nvSpPr>
              <p:cNvPr id="253" name=""/>
              <p:cNvSpPr/>
              <p:nvPr/>
            </p:nvSpPr>
            <p:spPr>
              <a:xfrm>
                <a:off x="2362320" y="4343400"/>
                <a:ext cx="5333400" cy="213300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eded"/>
                  </a:gs>
                </a:gsLst>
                <a:lin ang="10800000"/>
              </a:gra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5b5249"/>
                    </a:solidFill>
                    <a:latin typeface="Times New Roman"/>
                    <a:ea typeface="华文行楷"/>
                  </a:rPr>
                  <a:t>  </a:t>
                </a:r>
                <a:endParaRPr b="0" lang="en-US" sz="6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pic>
            <p:nvPicPr>
              <p:cNvPr id="2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99240" y="4871160"/>
                <a:ext cx="879120" cy="101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"/>
            <p:cNvGrpSpPr/>
            <p:nvPr/>
          </p:nvGrpSpPr>
          <p:grpSpPr>
            <a:xfrm>
              <a:off x="3048120" y="4647960"/>
              <a:ext cx="2971800" cy="1524240"/>
              <a:chOff x="3048120" y="4647960"/>
              <a:chExt cx="2971800" cy="1524240"/>
            </a:xfrm>
          </p:grpSpPr>
          <p:sp>
            <p:nvSpPr>
              <p:cNvPr id="256" name=""/>
              <p:cNvSpPr txBox="1"/>
              <p:nvPr/>
            </p:nvSpPr>
            <p:spPr>
              <a:xfrm>
                <a:off x="3048120" y="4647960"/>
                <a:ext cx="2971800" cy="1524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Right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再    见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  <p:pic>
            <p:nvPicPr>
              <p:cNvPr id="257" name="051（致敬）" descr=""/>
              <p:cNvPicPr/>
              <p:nvPr/>
            </p:nvPicPr>
            <p:blipFill>
              <a:blip r:embed="rId5"/>
              <a:stretch/>
            </p:blipFill>
            <p:spPr>
              <a:xfrm>
                <a:off x="3819600" y="4724280"/>
                <a:ext cx="676080" cy="12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052（致敬）" descr=""/>
              <p:cNvPicPr/>
              <p:nvPr/>
            </p:nvPicPr>
            <p:blipFill>
              <a:blip r:embed="rId6"/>
              <a:stretch/>
            </p:blipFill>
            <p:spPr>
              <a:xfrm>
                <a:off x="4648320" y="4800600"/>
                <a:ext cx="652320" cy="11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59" name="右开门箭头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60" name="左开门箭头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62160" y="22860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  <a:ea typeface="隶书"/>
              </a:rPr>
              <a:t>如何求一元二次方程的精确解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143000"/>
            <a:ext cx="8534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我们利用“先确定大致范围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;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再取值计算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逐步逼近”的方法求得了一元二次方程的近似解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02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Q_011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522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533520" y="533520"/>
            <a:ext cx="3581280" cy="685800"/>
            <a:chOff x="533520" y="533520"/>
            <a:chExt cx="3581280" cy="685800"/>
          </a:xfrm>
        </p:grpSpPr>
        <p:grpSp>
          <p:nvGrpSpPr>
            <p:cNvPr id="106" name=""/>
            <p:cNvGrpSpPr/>
            <p:nvPr/>
          </p:nvGrpSpPr>
          <p:grpSpPr>
            <a:xfrm>
              <a:off x="533520" y="552600"/>
              <a:ext cx="2361960" cy="520560"/>
              <a:chOff x="533520" y="552600"/>
              <a:chExt cx="2361960" cy="520560"/>
            </a:xfrm>
          </p:grpSpPr>
          <p:sp>
            <p:nvSpPr>
              <p:cNvPr id="107" name=""/>
              <p:cNvSpPr/>
              <p:nvPr/>
            </p:nvSpPr>
            <p:spPr>
              <a:xfrm>
                <a:off x="533520" y="5817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回顾与复习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414880" y="5526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1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109" name="678" descr=""/>
            <p:cNvPicPr/>
            <p:nvPr/>
          </p:nvPicPr>
          <p:blipFill>
            <a:blip r:embed="rId4"/>
            <a:stretch/>
          </p:blipFill>
          <p:spPr>
            <a:xfrm>
              <a:off x="2895480" y="5335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gif003%5B1%5D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533520" y="6858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>
            <a:off x="533520" y="2133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方程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2x</a:t>
            </a:r>
            <a:r>
              <a:rPr b="0" lang="zh-CN" sz="28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-13x+11=0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解为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x=1;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即花边宽为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1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572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隶书"/>
                <a:ea typeface="隶书"/>
              </a:rPr>
              <a:t>你能设法求出它的</a:t>
            </a: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精确解</a:t>
            </a:r>
            <a:r>
              <a:rPr b="0" lang="zh-CN" sz="3600" spc="-1" strike="noStrike">
                <a:solidFill>
                  <a:srgbClr val="5b5249"/>
                </a:solidFill>
                <a:latin typeface="隶书"/>
                <a:ea typeface="隶书"/>
              </a:rPr>
              <a:t>吗</a:t>
            </a:r>
            <a:r>
              <a:rPr b="0" lang="zh-CN" sz="36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r>
              <a:rPr b="0" lang="zh-CN" sz="3600" spc="-1" strike="noStrike">
                <a:solidFill>
                  <a:srgbClr val="5b5249"/>
                </a:solidFill>
                <a:latin typeface="隶书"/>
                <a:ea typeface="隶书"/>
              </a:rPr>
              <a:t>与同伴交流</a:t>
            </a:r>
            <a:r>
              <a:rPr b="0" lang="zh-CN" sz="36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334120"/>
            <a:ext cx="831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以前解过一元二次方程吗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86728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会解什么样的一元二次方程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666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方程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+12x-15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=0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解约为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1.2;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即梯子底端滑动的踯约为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1.2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429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方程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x</a:t>
            </a:r>
            <a:r>
              <a:rPr b="0" lang="zh-CN" sz="28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-8x-20=0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解为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x=10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或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x=-2;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即五个连续整数为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-2,-1,0,1,2;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或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10,11,12,13,14,15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05320" y="228240"/>
            <a:ext cx="533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你还认识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“老朋友”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吗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平方根的意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274320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旧意新释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解方程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1)  x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=5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410080"/>
            <a:ext cx="46116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这里是解一元二次方程的基本格式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要按要求去做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743200"/>
            <a:ext cx="4572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你还能规范解下列方程吗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解方程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x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=4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解方程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3)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x+2)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=5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解方程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4)  x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12x+36=5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解方程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5)  x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12x= -31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解方程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6)  x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12x-15=0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解方程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7)  x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8x-9=0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152280"/>
            <a:ext cx="3581280" cy="685800"/>
            <a:chOff x="152280" y="152280"/>
            <a:chExt cx="3581280" cy="685800"/>
          </a:xfrm>
        </p:grpSpPr>
        <p:grpSp>
          <p:nvGrpSpPr>
            <p:cNvPr id="126" name=""/>
            <p:cNvGrpSpPr/>
            <p:nvPr/>
          </p:nvGrpSpPr>
          <p:grpSpPr>
            <a:xfrm>
              <a:off x="152280" y="171360"/>
              <a:ext cx="2361960" cy="520560"/>
              <a:chOff x="152280" y="171360"/>
              <a:chExt cx="2361960" cy="520560"/>
            </a:xfrm>
          </p:grpSpPr>
          <p:sp>
            <p:nvSpPr>
              <p:cNvPr id="127" name=""/>
              <p:cNvSpPr/>
              <p:nvPr/>
            </p:nvSpPr>
            <p:spPr>
              <a:xfrm>
                <a:off x="152280" y="20052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回顾与复习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33640" y="171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251424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5228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1676520" y="914400"/>
            <a:ext cx="3657600" cy="479520"/>
            <a:chOff x="1676520" y="914400"/>
            <a:chExt cx="3657600" cy="479520"/>
          </a:xfrm>
        </p:grpSpPr>
        <p:sp>
          <p:nvSpPr>
            <p:cNvPr id="132" name=""/>
            <p:cNvSpPr/>
            <p:nvPr/>
          </p:nvSpPr>
          <p:spPr>
            <a:xfrm>
              <a:off x="1676520" y="91440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     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如果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r>
                <a:rPr b="0" lang="zh-CN" sz="2400" spc="-1" strike="noStrike" baseline="30000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=a,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那么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x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457880" y="914400"/>
                  <a:ext cx="79992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"/>
          <p:cNvGrpSpPr/>
          <p:nvPr/>
        </p:nvGrpSpPr>
        <p:grpSpPr>
          <a:xfrm>
            <a:off x="5334120" y="914400"/>
            <a:ext cx="3657600" cy="479520"/>
            <a:chOff x="5334120" y="914400"/>
            <a:chExt cx="3657600" cy="479520"/>
          </a:xfrm>
        </p:grpSpPr>
        <p:sp>
          <p:nvSpPr>
            <p:cNvPr id="135" name=""/>
            <p:cNvSpPr/>
            <p:nvPr/>
          </p:nvSpPr>
          <p:spPr>
            <a:xfrm>
              <a:off x="5334120" y="91440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如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如果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zh-CN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=5,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那么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x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8128080" y="914400"/>
                  <a:ext cx="77328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177920" y="3733920"/>
                <a:ext cx="17175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446120" y="4149720"/>
                <a:ext cx="1179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101600" y="4592520"/>
                <a:ext cx="1513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089000" y="4973760"/>
                <a:ext cx="1538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1523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完全平方式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式子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±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ab+b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叫完全平方式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且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±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ab+b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=(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±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b)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133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x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2x+</a:t>
            </a:r>
            <a:r>
              <a:rPr b="0" lang="zh-CN" sz="2400" spc="-1" strike="noStrike" u="sng">
                <a:solidFill>
                  <a:srgbClr val="5b5249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=(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+6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 x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4x+</a:t>
            </a:r>
            <a:r>
              <a:rPr b="0" lang="zh-CN" sz="2400" spc="-1" strike="noStrike" u="sng">
                <a:solidFill>
                  <a:srgbClr val="5b5249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=(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zh-CN" sz="2400" spc="-1" strike="noStrike" u="sng">
                <a:solidFill>
                  <a:srgbClr val="5b5249"/>
                </a:solidFill>
                <a:uFillTx/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 x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8x+</a:t>
            </a:r>
            <a:r>
              <a:rPr b="0" lang="zh-CN" sz="2400" spc="-1" strike="noStrike" u="sng">
                <a:solidFill>
                  <a:srgbClr val="5b5249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=(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zh-CN" sz="2400" spc="-1" strike="noStrike" u="sng">
                <a:solidFill>
                  <a:srgbClr val="5b5249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621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  <a:ea typeface="隶书"/>
              </a:rPr>
              <a:t>配方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7621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宋体"/>
              </a:rPr>
              <a:t>解方程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宋体"/>
              </a:rPr>
              <a:t>(7)  x</a:t>
            </a:r>
            <a:r>
              <a:rPr b="0" lang="zh-CN" sz="2800" spc="-1" strike="noStrike" baseline="30000">
                <a:solidFill>
                  <a:srgbClr val="5b5249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宋体"/>
              </a:rPr>
              <a:t>+8x-9=0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46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Q_011" descr=""/>
          <p:cNvPicPr/>
          <p:nvPr/>
        </p:nvPicPr>
        <p:blipFill>
          <a:blip r:embed="rId3"/>
          <a:stretch/>
        </p:blipFill>
        <p:spPr>
          <a:xfrm>
            <a:off x="7229520" y="219240"/>
            <a:ext cx="522360" cy="609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52680" y="19810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1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移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把常数项移到方程的左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520" y="380880"/>
            <a:ext cx="3581280" cy="838440"/>
            <a:chOff x="533520" y="380880"/>
            <a:chExt cx="3581280" cy="838440"/>
          </a:xfrm>
        </p:grpSpPr>
        <p:grpSp>
          <p:nvGrpSpPr>
            <p:cNvPr id="151" name=""/>
            <p:cNvGrpSpPr/>
            <p:nvPr/>
          </p:nvGrpSpPr>
          <p:grpSpPr>
            <a:xfrm>
              <a:off x="533520" y="380880"/>
              <a:ext cx="2480040" cy="764280"/>
              <a:chOff x="533520" y="380880"/>
              <a:chExt cx="2480040" cy="764280"/>
            </a:xfrm>
          </p:grpSpPr>
          <p:sp>
            <p:nvSpPr>
              <p:cNvPr id="152" name=""/>
              <p:cNvSpPr/>
              <p:nvPr/>
            </p:nvSpPr>
            <p:spPr>
              <a:xfrm>
                <a:off x="533520" y="580680"/>
                <a:ext cx="236160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做一做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31360" y="38088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154" name="678" descr=""/>
            <p:cNvPicPr/>
            <p:nvPr/>
          </p:nvPicPr>
          <p:blipFill>
            <a:blip r:embed="rId4"/>
            <a:stretch/>
          </p:blipFill>
          <p:spPr>
            <a:xfrm>
              <a:off x="2895480" y="5335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gif003%5B1%5D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533520" y="6858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>
            <a:off x="457200" y="5029200"/>
            <a:ext cx="2971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从这道题的解法归纳出一般的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解题步骤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吗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4724280"/>
            <a:ext cx="56386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我们通过配成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完全平方式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方法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得到了一元二次方程的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这种解一元二次方程的方法称为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配方法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solving by completing the squar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57200" y="1474920"/>
                <a:ext cx="2743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35080" y="3379680"/>
                <a:ext cx="138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123920" y="4189320"/>
                <a:ext cx="10526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360440" y="4570560"/>
                <a:ext cx="1077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028880" y="1957320"/>
                <a:ext cx="1487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42960" y="2414520"/>
                <a:ext cx="2563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77840" y="2867040"/>
                <a:ext cx="1666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914400" y="3763800"/>
                <a:ext cx="1616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±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352680" y="2362320"/>
            <a:ext cx="5410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隶书"/>
                <a:ea typeface="隶书"/>
              </a:rPr>
              <a:t>2.</a:t>
            </a: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配方</a:t>
            </a: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000" spc="-1" strike="noStrike">
                <a:solidFill>
                  <a:srgbClr val="5b5249"/>
                </a:solidFill>
                <a:latin typeface="隶书"/>
                <a:ea typeface="隶书"/>
              </a:rPr>
              <a:t>方程两边都加上一次项系数</a:t>
            </a:r>
            <a:r>
              <a:rPr b="0" lang="zh-CN" sz="2000" spc="-1" strike="noStrike">
                <a:solidFill>
                  <a:srgbClr val="0033cc"/>
                </a:solidFill>
                <a:latin typeface="隶书"/>
                <a:ea typeface="隶书"/>
              </a:rPr>
              <a:t>绝对值</a:t>
            </a:r>
            <a:r>
              <a:rPr b="0" lang="zh-CN" sz="2000" spc="-1" strike="noStrike">
                <a:solidFill>
                  <a:srgbClr val="5b5249"/>
                </a:solidFill>
                <a:latin typeface="隶书"/>
                <a:ea typeface="隶书"/>
              </a:rPr>
              <a:t>一半的平方</a:t>
            </a:r>
            <a:r>
              <a:rPr b="0" lang="zh-CN" sz="20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9718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3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变形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方程左分解因式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右边合并同类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34290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4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开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方程左分解因式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右边合并同类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3809880"/>
            <a:ext cx="5715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5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求解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解一元一次方程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43434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6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定解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写出原方程的解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24280" y="30492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你能行吗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219320"/>
            <a:ext cx="4267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解下列方程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x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– 2 = 0;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16x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– 25 = 0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(x + 1)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– 4 = 0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.12(2 - x)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 9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= 0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5.x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144=0  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 y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7=0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7.x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+5=0 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8.(x + 3)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= 2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9.(x+3)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²=6 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3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74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219320" y="533520"/>
            <a:ext cx="3581280" cy="685800"/>
            <a:chOff x="1219320" y="533520"/>
            <a:chExt cx="3581280" cy="685800"/>
          </a:xfrm>
        </p:grpSpPr>
        <p:grpSp>
          <p:nvGrpSpPr>
            <p:cNvPr id="177" name=""/>
            <p:cNvGrpSpPr/>
            <p:nvPr/>
          </p:nvGrpSpPr>
          <p:grpSpPr>
            <a:xfrm>
              <a:off x="1219320" y="552600"/>
              <a:ext cx="2361960" cy="520560"/>
              <a:chOff x="1219320" y="552600"/>
              <a:chExt cx="2361960" cy="520560"/>
            </a:xfrm>
          </p:grpSpPr>
          <p:sp>
            <p:nvSpPr>
              <p:cNvPr id="178" name=""/>
              <p:cNvSpPr/>
              <p:nvPr/>
            </p:nvSpPr>
            <p:spPr>
              <a:xfrm>
                <a:off x="1219320" y="5817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随堂练习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00680" y="5526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1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180" name="678" descr=""/>
            <p:cNvPicPr/>
            <p:nvPr/>
          </p:nvPicPr>
          <p:blipFill>
            <a:blip r:embed="rId4"/>
            <a:stretch/>
          </p:blipFill>
          <p:spPr>
            <a:xfrm>
              <a:off x="3581280" y="5335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gif003%5B1%5D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6858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4724280" y="1523880"/>
            <a:ext cx="4267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8.(x + 3)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= 2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9.(x+3)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²=6 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.16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²-49=0 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. (2x+3)²=5 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2. 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²=128</a:t>
            </a:r>
            <a:r>
              <a:rPr b="0" i="1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3. (x+1)² -12= 0 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4. x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 10x +25 = 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5. x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+6x =1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6.49x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 42x – 1 = 0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回味无穷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本节课复习了哪些旧知识呢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会见了两个“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朋友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平方根的意义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完全平方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式子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±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ab+b</a:t>
            </a:r>
            <a:r>
              <a:rPr b="0" lang="zh-CN" sz="28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叫完全平方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且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±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ab+b</a:t>
            </a:r>
            <a:r>
              <a:rPr b="0" lang="zh-CN" sz="28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=(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±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b)</a:t>
            </a:r>
            <a:r>
              <a:rPr b="0" lang="zh-CN" sz="28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本节课你又学会了哪些新知识呢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学习了用配方法解一元二次方程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移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把常数项移到方程的左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配方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方程两边都加上一次项系数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绝对值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一半的平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3.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变形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方程左分解因式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右边合并同类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4.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开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方程左分解因式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右边合并同类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5.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求解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解一元一次方程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6.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定解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写出原方程的解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想一想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有没有便捷的方法去求方程中的未知数呢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95280" y="0"/>
            <a:ext cx="2819160" cy="1297440"/>
            <a:chOff x="1295280" y="0"/>
            <a:chExt cx="2819160" cy="1297440"/>
          </a:xfrm>
        </p:grpSpPr>
        <p:grpSp>
          <p:nvGrpSpPr>
            <p:cNvPr id="186" name=""/>
            <p:cNvGrpSpPr/>
            <p:nvPr/>
          </p:nvGrpSpPr>
          <p:grpSpPr>
            <a:xfrm>
              <a:off x="1295280" y="0"/>
              <a:ext cx="2666520" cy="929880"/>
              <a:chOff x="1295280" y="0"/>
              <a:chExt cx="2666520" cy="929880"/>
            </a:xfrm>
          </p:grpSpPr>
          <p:sp>
            <p:nvSpPr>
              <p:cNvPr id="187" name=""/>
              <p:cNvSpPr/>
              <p:nvPr/>
            </p:nvSpPr>
            <p:spPr>
              <a:xfrm>
                <a:off x="1295280" y="10188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25160" y="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2361960" y="22860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371240" y="2286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9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2133720" y="1752480"/>
            <a:ext cx="3657600" cy="479520"/>
            <a:chOff x="2133720" y="1752480"/>
            <a:chExt cx="3657600" cy="479520"/>
          </a:xfrm>
        </p:grpSpPr>
        <p:sp>
          <p:nvSpPr>
            <p:cNvPr id="194" name=""/>
            <p:cNvSpPr/>
            <p:nvPr/>
          </p:nvSpPr>
          <p:spPr>
            <a:xfrm>
              <a:off x="2133720" y="1752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     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如果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r>
                <a:rPr b="0" lang="zh-CN" sz="2400" spc="-1" strike="noStrike" baseline="30000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=a,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那么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x=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4915080" y="1752480"/>
                  <a:ext cx="79992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953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知识的升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198" name="AG00029_" descr="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200" name="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62120" y="22176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1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、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P</a:t>
            </a:r>
            <a:r>
              <a:rPr b="0" lang="zh-CN" sz="4000" spc="-1" strike="noStrike" baseline="-25000">
                <a:solidFill>
                  <a:srgbClr val="5b5249"/>
                </a:solidFill>
                <a:latin typeface="Times New Roman"/>
                <a:ea typeface="隶书"/>
              </a:rPr>
              <a:t>50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习题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2.3  1,2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题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;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4" name="右开门箭头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05" name="左开门箭头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953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知识的升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208" name="AG00029_" descr="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210" name="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13" name="右开门箭头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14" name="左开门箭头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143000" y="13716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１．根据题意，列出方程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8288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如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在一块长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35m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宽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26m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矩形地面上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修建同样宽的两条互相垂直的道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剩余部分栽种花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在使剩余部分的面积为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850m</a:t>
            </a:r>
            <a:r>
              <a:rPr b="0" lang="zh-CN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道路的宽应是多少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0481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解：设道路的宽为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根据题意得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3505320"/>
            <a:ext cx="3352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35-x) (26-x)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850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86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38862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- 61x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60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27640" y="2590920"/>
            <a:ext cx="3663720" cy="2367000"/>
            <a:chOff x="5327640" y="2590920"/>
            <a:chExt cx="3663720" cy="2367000"/>
          </a:xfrm>
        </p:grpSpPr>
        <p:sp>
          <p:nvSpPr>
            <p:cNvPr id="222" name=""/>
            <p:cNvSpPr/>
            <p:nvPr/>
          </p:nvSpPr>
          <p:spPr>
            <a:xfrm>
              <a:off x="6230880" y="3233880"/>
              <a:ext cx="2754360" cy="1724040"/>
            </a:xfrm>
            <a:prstGeom prst="rect">
              <a:avLst/>
            </a:prstGeom>
            <a:solidFill>
              <a:srgbClr val="0080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29400">
              <a:off x="7500600" y="1709640"/>
              <a:ext cx="222120" cy="2743200"/>
            </a:xfrm>
            <a:custGeom>
              <a:avLst/>
              <a:gdLst>
                <a:gd name="textAreaLeft" fmla="*/ 141840 w 222120"/>
                <a:gd name="textAreaRight" fmla="*/ 222480 w 2221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08720" y="25909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35m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24600" y="3232440"/>
              <a:ext cx="217440" cy="17208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4640 h 1720800"/>
                <a:gd name="textAreaBottom" fmla="*/ 1676160 h 172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27640" y="381024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26m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3200400"/>
              <a:ext cx="152280" cy="1752840"/>
            </a:xfrm>
            <a:prstGeom prst="rect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42040" y="4114800"/>
              <a:ext cx="2749320" cy="158760"/>
            </a:xfrm>
            <a:prstGeom prst="rect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09480" y="4267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解这个方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得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472428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60(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不合题意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舍去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答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道路的宽应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953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知识的升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234" name="AG00029_" descr="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236" name="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39" name="右开门箭头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40" name="左开门箭头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066680" y="1981080"/>
            <a:ext cx="5257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解下列方程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1).x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+12x+ 25 = 0;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2).x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+4x =1 0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3).x 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–6x =11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4). x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–2x-4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= 0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12999数学网 www.12999.com</dc:creator>
  <dc:description/>
  <dc:language>en-US</dc:language>
  <cp:lastModifiedBy>微软用户</cp:lastModifiedBy>
  <dcterms:modified xsi:type="dcterms:W3CDTF">2012-07-14T23:52:16Z</dcterms:modified>
  <cp:revision>236</cp:revision>
  <dc:subject>12999数学网 www.12999.com</dc:subject>
  <dc:title>12999数学网 www.12999.com</dc:title>
</cp:coreProperties>
</file>