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DD2-D7E6-45A3-A150-1DAA7CEA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638-3B92-40D2-8A40-88C0A498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504-808C-4679-A232-BA75EBD0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35E-302E-4AC9-AC65-2C4F5DB6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275A-5F6B-45C2-A479-70551066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761D-5646-4528-94D1-D316381F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B6D8-79C1-4BC4-9602-A619309C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82CB-7223-46A7-9899-556CA62D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ADAA-617B-4316-A1BF-6252A0D7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00EE-62A1-4476-8D43-104B8B52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A5F-2C9B-40D2-BC32-2790A40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CF3-C5A1-4C81-9DEC-C0BED475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1D39-9B1C-4456-9AEE-F917601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2F2-86C3-4350-BF88-674F5A3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6A42-0670-445D-AD98-2497F27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72C3-CB8E-49CC-A79A-1948FE73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EEA3-0D7E-40A2-8A86-47821594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9E52-B94A-4CCA-991B-96A96DB0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8836-69B6-48B4-93DB-19C323FC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41E1-BD0F-4AF5-8CA7-19F03A52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1D25-8AB1-41FF-8DC2-368835A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0F23-6438-4235-B2FC-2AB22CF9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756-6E47-40A8-A0D7-8FA6828A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08EE-AA53-4368-B497-48413954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D0BF-A3A1-479E-9C75-FA5ED1A9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7A70-B992-4238-ADBD-E4EE8EF5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B1C1-AB6A-452E-AD71-137F960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C91B-C643-4F4A-8D75-ECAD5119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B563-5DCE-4287-858B-BE421B0B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9942-CF9F-4160-8435-5BE7F9D2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4EE-3696-4FDD-B700-FBCA51B0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0BC-717F-487B-88E7-21FED117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89A-19FB-47BE-B539-D1B20972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ADD-8F17-4E92-A590-D3DC7DCF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629-C023-40D0-B0FE-AD367E34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504-13F5-4200-BFDC-A35CD5B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6C2-D17E-44EC-8EC1-B36B6F8D52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01EF-6F4B-4FC4-9936-2F61AE2ED9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6DC5-CD1D-4012-8C8C-47E9BE29D2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1056600" y="112536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用分解因式法解方程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184644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分解因式法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" y="334152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(1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经过变形后可用提取公因式法分解因式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可直接将方程左边分解因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" y="1268280"/>
            <a:ext cx="86756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原方程变形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)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或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119700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930600" y="1125360"/>
            <a:ext cx="2780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用公式法解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360360" y="184644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公式法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" y="334152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用公式法解方程时应先把一元二次方程化为一般形式，再确定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148428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95280" y="148428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807120" y="1125360"/>
            <a:ext cx="2414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增长率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360360" y="1846440"/>
            <a:ext cx="86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某种电脑病毒传播非常快，如果一台电脑被感染，经过两轮感染后就会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台电脑被感染．请你用学过的知识分析，每轮感染中平均一台电脑会感染几台电脑？若病毒得不到有效控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轮感染后，被感染的电脑会不会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360360" y="407664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增长率问题在近年中考试题中频频出现，解决此类问题应掌握增长率是指增长数与基准数的比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60360" y="1052640"/>
            <a:ext cx="86756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设每轮感染中平均一台电脑会感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电脑，则经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后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被染上病毒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后就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被感染病毒，依题意，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解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0(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舍去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所以每轮感染中平均一台电脑会感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电脑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此规律，经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后，有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8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29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电脑被感染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29&gt;7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若病毒得不到有效控制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轮感染后，被感染的电脑会超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92040" y="1190520"/>
          <a:ext cx="8388360" cy="44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90520"/>
                    <a:ext cx="83883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77336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元二次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含有一个未知数的整式方程，并且都可以化为</a:t>
            </a:r>
            <a:br>
              <a:rPr sz="2400"/>
            </a:b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常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，这样的方程叫做一元二次方程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定义应注意四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含有一个未知数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未知数的最高次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项系数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整式方程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元二次方程的一般形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2851560"/>
            <a:ext cx="21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052640"/>
            <a:ext cx="8642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常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称为一元二次方程的一般形式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称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常数项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称为二次项系数和一次项系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接开平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接开平方法的理论依据是平方根的定义．直接开平方法适用于解形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b≥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一元二次方程，根据平方根的定义可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平方根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≥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没有实数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配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190480" y="155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二次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7314120" y="151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次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867280" y="4149720"/>
          <a:ext cx="1959120" cy="55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49720"/>
                    <a:ext cx="1959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052640"/>
            <a:ext cx="86421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配方法的基本思想：转化思想，把方程转化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b≥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，这样原方程的一边就转化为一个完全平方式，然后两边同时开平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配方法解一元二次方程的一般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化二次项系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含未知数的项放在一边，常数项放在另一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配方，方程两边同时加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写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，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≥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直接开平方求出方程的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5585040" y="4508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次项系数一半的平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907920"/>
            <a:ext cx="864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(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≥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求根公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公式法解一元二次方程的一般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一元二次方程化成一般形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确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≥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则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代入求根公式求出方程的根，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方程无实数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42920" y="1492200"/>
          <a:ext cx="3251160" cy="9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92200"/>
                    <a:ext cx="32511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05264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分解因式法解一元二次方程的一般步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方程变形为右边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方程左边分解因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令方程左边的每个因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转化成两个一次方程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解这两个一次方程，它们的解就是原方程的解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方程解应用题的一般步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审题：通过审题弄清已知量与未知量之间的数量关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48428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元：就是设未知数，分直接设与间接设，应根据实际需要恰当选取设元法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列方程：就是建立已知量与未知量之间的等量关系．列方程这一环节最重要，决定着能否顺利解决实际问题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方程：正确求出方程的解并注意检验其合理性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答：即写出答语，遵循问什么答什么的原则写清答语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2"/>
          <p:cNvSpPr/>
          <p:nvPr/>
        </p:nvSpPr>
        <p:spPr>
          <a:xfrm>
            <a:off x="869760" y="1700280"/>
            <a:ext cx="2902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用配方法解方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421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配方法解方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78612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用配方法解一元二次方程，关键的一步是将二次项系数已化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方程的两边加上一次项系数一半的平方，转化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n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形式，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n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，直接开平方求得方程的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280" y="1197000"/>
          <a:ext cx="8331120" cy="51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331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49:01Z</dcterms:modified>
  <cp:revision>318</cp:revision>
  <dc:subject/>
  <dc:title>幻灯片 1</dc:title>
</cp:coreProperties>
</file>